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96A-9BB1-4379-AA42-7DFB1164459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433-A76F-4423-B25C-7C223A0F876A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B1-A1: PowerPoint-Präsentation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Nachhaltige Entwicklung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1893960" cy="4730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hyperlink" Target="mailto:holger.rohn@wupperinst.org" TargetMode="External"/><Relationship Id="rId6" Type="http://schemas.openxmlformats.org/officeDocument/2006/relationships/hyperlink" Target="http://www.wupperinst.org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2057400"/>
            <a:ext cx="7162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chhaltige</a:t>
            </a:r>
            <a:r>
              <a:rPr b="1" lang="de-DE" sz="3600" spc="-1" strike="noStrike">
                <a:solidFill>
                  <a:srgbClr val="003366"/>
                </a:solidFill>
                <a:latin typeface="Verdana"/>
                <a:ea typeface="ＭＳ Ｐゴシック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wicklung</a:t>
            </a:r>
            <a:r>
              <a:rPr b="1" lang="de-DE" sz="3600" spc="-1" strike="noStrike">
                <a:solidFill>
                  <a:srgbClr val="003366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28195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10666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Nachhaltigkeit als unternehmerisches Leitbil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genda 21 und Unterneh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0080" y="2819520"/>
            <a:ext cx="777240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zentrale Rolle des Umweltmanagements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als eine der Höchsten unter-nehmerischen Prioritäten und als Schlüsseldeterminante für eine nachhaltige Entwicklung durch die Privatwirtschaft (Responsible care, Übernahme von Eigenverantwortung) soll anerkann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Preise für Waren und Dienstleistungen sollen die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ökologischen Koste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der Vorleistungen, der Produktion, der Verwendung, des Recycling und der Entsorgung widerspieg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0520" y="2009880"/>
            <a:ext cx="69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Auszug aus der Umweltpolitik. Agenda 21 des Bundesministerium für </a:t>
            </a:r>
            <a:br>
              <a:rPr sz="1600"/>
            </a:b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Umwelt, Naturschutz und Reaktorsicherheit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0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10666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Nachhaltigkeit als unternehmerisches Leitbil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genda 21 und Unterneh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514600"/>
            <a:ext cx="777240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bfallvermeidung und Minimierung der Abfallerzeugung durch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ffizientere </a:t>
            </a:r>
            <a:br>
              <a:rPr sz="1600"/>
            </a:b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roduktionsprozesse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vorbeugende Strategien, saubere Produktionstechnologien und -verfahren während des gesamten Produktionskreislaufs sind anzustr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Technologische Innovatione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technische Entwicklung und Anwendung,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echnologietransfer sollen geförder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ialog mit den Beschäftigten und der Öffentlichkeit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soll gestärk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60520" y="2009880"/>
            <a:ext cx="69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Auszug aus der Umweltpolitik. Agenda 21 des Bundesministerium für </a:t>
            </a:r>
            <a:br>
              <a:rPr sz="1600"/>
            </a:b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Umwelt, Naturschutz und Reaktorsicherheit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1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handwerk-nrw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erbert.klemisch@kni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kni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olger.rohn@wupperins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wupperins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2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1676520"/>
            <a:ext cx="70866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"Probleme lassen sich n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mit den Denkweisen lös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die zu ihnen geführt haben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2596680" y="3803400"/>
            <a:ext cx="2286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2 von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006800" cy="425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1143000"/>
            <a:ext cx="7391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»Als hätten wir vier Erden...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3480" y="608004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Arial"/>
              </a:rPr>
              <a:t>Quelle: Wuppertal Instit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3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85920"/>
            <a:ext cx="7238880" cy="496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2209680"/>
            <a:ext cx="67784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undtland Kom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haltige Entwicklung“ ist eine „Entwicklung, die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ürfnisse der Gegenwart befriedigt, ohne zu riskier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s künftige Generationen ihre eigenen Bedürfnisse 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riedigen können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erbesserung der ökonomischen und sozi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bensbedingungen aller Menschen, der heute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künftig lebenden, mit der langfristigen Sicherung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türlichen Lebensgrundlage in Einklang zu br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038480"/>
            <a:ext cx="6858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82680" y="632448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4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7640" y="129528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Das „Magische Dreieck“ der Nachhal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1814400"/>
            <a:ext cx="5181480" cy="454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734960" y="60199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5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1143000"/>
            <a:ext cx="7696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as Dreieck eines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zukunftsfähigen Wirtschaftens im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391520" cy="405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6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2160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52480" y="1676520"/>
            <a:ext cx="65534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Immer mehr Unternehmen erkennen, dass jene, di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neben der 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  <a:ea typeface="ヒラギノ角ゴ Pro W3"/>
              </a:rPr>
              <a:t>ök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</a:rPr>
              <a:t>o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nomischen auch die soziale und 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  <a:ea typeface="ヒラギノ角ゴ Pro W3"/>
              </a:rPr>
              <a:t>ök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</a:rPr>
              <a:t>o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logische Verantwortung wahrnehme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geringeren Risiken ausgesetzt s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kosteneffizienter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und Marktchancen früher erke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54080" y="632448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7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2362320"/>
            <a:ext cx="510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nehmen spielen als ökonomischer Motor eine Schlüsselrolle für ein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 ökonomische, soziale und ökologische Entwick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es Wirtschaften heißt auch, Antworten auf die Herausforderungen einer globalisierten Weltwirtschaft zu fin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keit heißt für Unternehmen, gut zu wirtschaften, mit einer realistischen Ausgewogenheit zwischen Gewinnerzielung und Sicherung der Zukunftsfähig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haltigkeit: die Rolle der 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738160" cy="203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87600" y="45720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8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1295280"/>
            <a:ext cx="7467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haltigke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ance für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ärkung d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Reput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üllung Ihr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Verantwo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genüber Natur und Gesellscha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gfristige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rterhaltung und -steig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hres Unterneh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336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Vertrauensgewin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i Kunden/-innen, Behörden und Finanzdienstleis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igung d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undenbezieh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üllung von Anforderungen zukünftig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apitalmarktentwick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traktivität fü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qualifizierte Bewerber/-in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positive Wirkung auf die Mitarbeiter/-in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654280" cy="176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08240" y="9144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9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cp:lastPrinted>2006-09-06T11:47:19Z</cp:lastPrinted>
  <dcterms:modified xsi:type="dcterms:W3CDTF">2007-11-16T12:19:57Z</dcterms:modified>
  <cp:revision>24</cp:revision>
  <dc:subject/>
  <dc:title>PowerPoint-Präsentation</dc:title>
</cp:coreProperties>
</file>