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D102-E84C-45BD-A9B0-F298DB0B2BCC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1D24-C261-4F2F-AFB4-9C2E0C32D3C0}" type="slidenum">
              <a:rPr b="0" lang="de-D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429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B1-A1: PowerPoint-Präsentation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»Nachhaltige Entwicklung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1893960" cy="4730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6"/>
          <a:stretch/>
        </p:blipFill>
        <p:spPr>
          <a:xfrm>
            <a:off x="1295280" y="228600"/>
            <a:ext cx="205740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http://www.handwerk-nrw.de/" TargetMode="External"/><Relationship Id="rId3" Type="http://schemas.openxmlformats.org/officeDocument/2006/relationships/hyperlink" Target="mailto:herbert.klemisch@kni.de" TargetMode="External"/><Relationship Id="rId4" Type="http://schemas.openxmlformats.org/officeDocument/2006/relationships/hyperlink" Target="http://www.kni.de/" TargetMode="External"/><Relationship Id="rId5" Type="http://schemas.openxmlformats.org/officeDocument/2006/relationships/hyperlink" Target="mailto:holger.rohn@wupperinst.org" TargetMode="External"/><Relationship Id="rId6" Type="http://schemas.openxmlformats.org/officeDocument/2006/relationships/hyperlink" Target="http://www.wupperinst.org/" TargetMode="External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7920" y="2057400"/>
            <a:ext cx="71625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achhaltige</a:t>
            </a:r>
            <a:r>
              <a:rPr b="1" lang="de-DE" sz="3600" spc="-1" strike="noStrike">
                <a:solidFill>
                  <a:srgbClr val="003366"/>
                </a:solidFill>
                <a:latin typeface="Verdana"/>
                <a:ea typeface="ＭＳ Ｐゴシック"/>
              </a:rPr>
              <a:t> </a:t>
            </a:r>
            <a:r>
              <a:rPr b="1" lang="de-DE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twicklung</a:t>
            </a:r>
            <a:r>
              <a:rPr b="1" lang="de-DE" sz="3600" spc="-1" strike="noStrike">
                <a:solidFill>
                  <a:srgbClr val="003366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43000" y="5486400"/>
            <a:ext cx="281952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106668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Nachhaltigkeit als unternehmerisches Leitbil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Agenda 21 und Unterneh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70080" y="2819520"/>
            <a:ext cx="7772400" cy="27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Die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zentrale Rolle des Umweltmanagements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als eine der Höchsten unter-nehmerischen Prioritäten und als Schlüsseldeterminante für eine nachhaltige Entwicklung durch die Privatwirtschaft (Responsible care, Übernahme von Eigenverantwortung) soll anerkannt we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Die Preise für Waren und Dienstleistungen sollen die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ökologischen Kosten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der Vorleistungen, der Produktion, der Verwendung, des Recycling und der Entsorgung widerspieg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60520" y="2009880"/>
            <a:ext cx="693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Auszug aus der Umweltpolitik. Agenda 21 des Bundesministerium für </a:t>
            </a:r>
            <a:br>
              <a:rPr sz="1600"/>
            </a:b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Umwelt, Naturschutz und Reaktorsicherheit, 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07560" y="6613560"/>
            <a:ext cx="106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10 von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106668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Nachhaltigkeit als unternehmerisches Leitbild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Agenda 21 und Unterneh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2514600"/>
            <a:ext cx="7772400" cy="28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Abfallvermeidung und Minimierung der Abfallerzeugung durch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effizientere </a:t>
            </a:r>
            <a:br>
              <a:rPr sz="1600"/>
            </a:b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Produktionsprozesse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vorbeugende Strategien, saubere Produktionstechnologien und -verfahren während des gesamten Produktionskreislaufs sind anzustreb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Technologische Innovationen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, technische Entwicklung und Anwendung,</a:t>
            </a:r>
            <a:br>
              <a:rPr sz="1600"/>
            </a:b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Technologietransfer sollen gefördert wer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Ein </a:t>
            </a:r>
            <a:r>
              <a:rPr b="1" lang="de-DE" sz="1600" spc="-1" strike="noStrike">
                <a:solidFill>
                  <a:srgbClr val="003366"/>
                </a:solidFill>
                <a:latin typeface="Arial"/>
              </a:rPr>
              <a:t>Dialog mit den Beschäftigten und der Öffentlichkeit</a:t>
            </a:r>
            <a:r>
              <a:rPr b="0" lang="de-DE" sz="1600" spc="-1" strike="noStrike">
                <a:solidFill>
                  <a:srgbClr val="003366"/>
                </a:solidFill>
                <a:latin typeface="Arial"/>
              </a:rPr>
              <a:t> soll gestärkt we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60520" y="2009880"/>
            <a:ext cx="693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Auszug aus der Umweltpolitik. Agenda 21 des Bundesministerium für </a:t>
            </a:r>
            <a:br>
              <a:rPr sz="1600"/>
            </a:b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Umwelt, Naturschutz und Reaktorsicherheit, 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07560" y="6613560"/>
            <a:ext cx="106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11 von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95280" y="1219320"/>
            <a:ext cx="7620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ellversuch »Entwicklung und Erprobung eines Weiterbildungskonzeptes zu nachhaltigem Wirtschaften als Zukunftschance für das Handwerk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ufzeit: 01.09.2004-31.08.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stdeutscher Handwerkskammertag e.V.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go Rauhu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11/3007-722</a:t>
            </a:r>
            <a:br>
              <a:rPr sz="1400"/>
            </a:b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ingo.rauhut@handwerk-nrw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handwerk-nrw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946240"/>
            <a:ext cx="228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laus Novy Institut e.V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r. Herbert Klemisc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21/931207-15</a:t>
            </a:r>
            <a:br>
              <a:rPr sz="1400"/>
            </a:b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erbert.klemisch@kni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kni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0800" y="2946240"/>
            <a:ext cx="27432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sprechpart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uppertal Institut für Klima, Umwelt, Energie Gmb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lger Rohn / Thomas Lemk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0202/2492-245 /-179 </a:t>
            </a: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olger.rohn@wupperins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www.wupperins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594360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105520" y="6095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80808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107560" y="6613560"/>
            <a:ext cx="106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12 von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7920" y="1676520"/>
            <a:ext cx="70866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3366"/>
                </a:solidFill>
                <a:latin typeface="Arial"/>
              </a:rPr>
              <a:t>"Probleme lassen sich nic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3366"/>
                </a:solidFill>
                <a:latin typeface="Arial"/>
              </a:rPr>
              <a:t>mit den Denkweisen lösen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3366"/>
                </a:solidFill>
                <a:latin typeface="Arial"/>
              </a:rPr>
              <a:t>die zu ihnen geführt haben.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3366"/>
                </a:solidFill>
                <a:latin typeface="Arial"/>
              </a:rPr>
              <a:t>Albert Eins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rot="5400000">
            <a:off x="2596680" y="3803400"/>
            <a:ext cx="2286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097480" y="6613560"/>
            <a:ext cx="95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2 von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4006800" cy="4251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66680" y="1143000"/>
            <a:ext cx="7391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66"/>
                </a:solidFill>
                <a:latin typeface="Arial"/>
              </a:rPr>
              <a:t>»Als hätten wir vier Erden...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3480" y="608004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808080"/>
                </a:solidFill>
                <a:latin typeface="Arial"/>
              </a:rPr>
              <a:t>Quelle: Wuppertal Instit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1036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3 von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1285920"/>
            <a:ext cx="7238880" cy="4965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76520" y="2209680"/>
            <a:ext cx="677844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rundtland Kommis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haltige Entwicklung“ ist eine „Entwicklung, die 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ürfnisse der Gegenwart befriedigt, ohne zu riskier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s künftige Generationen ihre eigenen Bedürfnisse ni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friedigen können“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Z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Verbesserung der ökonomischen und sozi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bensbedingungen aller Menschen, der heute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künftig lebenden, mit der langfristigen Sicherung 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türlichen Lebensgrundlage in Einklang zu bri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038480"/>
            <a:ext cx="6858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82680" y="632448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Quelle: Pixe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1036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4 von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907640" y="1295280"/>
            <a:ext cx="64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Das „Magische Dreieck“ der Nachhaltig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33720" y="1814400"/>
            <a:ext cx="5181480" cy="4540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734960" y="601992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Quelle: Pixe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036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5 von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19320" y="1143000"/>
            <a:ext cx="7696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Das Dreieck eines </a:t>
            </a:r>
            <a:br>
              <a:rPr sz="2400"/>
            </a:b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zukunftsfähigen Wirtschaftens im Unterne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7391520" cy="4059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1036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6 von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00200" y="1216080"/>
            <a:ext cx="6858000" cy="5105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52480" y="1676520"/>
            <a:ext cx="655344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de-DE" sz="2600" spc="-1" strike="noStrike">
                <a:solidFill>
                  <a:srgbClr val="003399"/>
                </a:solidFill>
                <a:latin typeface="Arial"/>
              </a:rPr>
              <a:t>Immer mehr Unternehmen erkennen, dass jene, die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f520a"/>
                </a:solidFill>
                <a:latin typeface="Arial"/>
              </a:rPr>
              <a:t>neben der </a:t>
            </a:r>
            <a:r>
              <a:rPr b="1" lang="en-US" sz="2600" spc="-1" strike="noStrike">
                <a:solidFill>
                  <a:srgbClr val="ff520a"/>
                </a:solidFill>
                <a:latin typeface="Arial"/>
                <a:ea typeface="ヒラギノ角ゴ Pro W3"/>
              </a:rPr>
              <a:t>ök</a:t>
            </a:r>
            <a:r>
              <a:rPr b="1" lang="en-US" sz="2600" spc="-1" strike="noStrike">
                <a:solidFill>
                  <a:srgbClr val="ff520a"/>
                </a:solidFill>
                <a:latin typeface="Arial"/>
              </a:rPr>
              <a:t>o</a:t>
            </a:r>
            <a:r>
              <a:rPr b="1" lang="de-DE" sz="2600" spc="-1" strike="noStrike">
                <a:solidFill>
                  <a:srgbClr val="ff520a"/>
                </a:solidFill>
                <a:latin typeface="Arial"/>
              </a:rPr>
              <a:t>nomischen auch die soziale und </a:t>
            </a:r>
            <a:r>
              <a:rPr b="1" lang="en-US" sz="2600" spc="-1" strike="noStrike">
                <a:solidFill>
                  <a:srgbClr val="ff520a"/>
                </a:solidFill>
                <a:latin typeface="Arial"/>
                <a:ea typeface="ヒラギノ角ゴ Pro W3"/>
              </a:rPr>
              <a:t>ök</a:t>
            </a:r>
            <a:r>
              <a:rPr b="1" lang="en-US" sz="2600" spc="-1" strike="noStrike">
                <a:solidFill>
                  <a:srgbClr val="ff520a"/>
                </a:solidFill>
                <a:latin typeface="Arial"/>
              </a:rPr>
              <a:t>o</a:t>
            </a:r>
            <a:r>
              <a:rPr b="1" lang="de-DE" sz="2600" spc="-1" strike="noStrike">
                <a:solidFill>
                  <a:srgbClr val="ff520a"/>
                </a:solidFill>
                <a:latin typeface="Arial"/>
              </a:rPr>
              <a:t>logische Verantwortung wahrnehmen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      •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geringeren Risiken ausgesetzt si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      •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kosteneffizienter arb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      • </a:t>
            </a:r>
            <a:r>
              <a:rPr b="1" lang="de-DE" sz="2400" spc="-1" strike="noStrike">
                <a:solidFill>
                  <a:srgbClr val="003399"/>
                </a:solidFill>
                <a:latin typeface="Arial"/>
              </a:rPr>
              <a:t>und Marktchancen früher erken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54080" y="632448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Quelle: Pixe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036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7 von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2362320"/>
            <a:ext cx="5105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nehmen spielen als ökonomischer Motor eine Schlüsselrolle für eine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haltig ökonomische, soziale und ökologische Entwickl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haltiges Wirtschaften heißt auch, Antworten auf die Herausforderungen einer globalisierten Weltwirtschaft zu find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haltigkeit heißt für Unternehmen, gut zu wirtschaften, mit einer realistischen Ausgewogenheit zwischen Gewinnerzielung und Sicherung der Zukunftsfähigk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5238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chhaltigkeit: die Rolle der Wirt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738160" cy="2038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887600" y="457200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Quelle: Pixe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1036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8 von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1295280"/>
            <a:ext cx="7467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chhaltigkei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hance für Unterne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ärkung der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Reputa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füllung Ihrer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Verantwort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gegenüber Natur und Gesellschaf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angfristige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Werterhaltung und -steigerung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Ihres Unternehm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003366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Vertrauensgewin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bei Kunden/-innen, Behörden und Finanzdienstleister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stigung der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Kundenbeziehu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füllung von Anforderungen zukünftiger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Kapitalmarktentwickl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ttraktivität für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qualifizierte Bewerber/-inn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und positive Wirkung auf die Mitarbeiter/-inn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943600" y="1219320"/>
            <a:ext cx="2654280" cy="1760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608240" y="91440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Quelle: Pixel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103600" y="6613560"/>
            <a:ext cx="99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olie 9 von 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go Rauhut</cp:lastModifiedBy>
  <cp:lastPrinted>2006-09-06T11:47:19Z</cp:lastPrinted>
  <dcterms:modified xsi:type="dcterms:W3CDTF">2007-11-16T12:19:57Z</dcterms:modified>
  <cp:revision>24</cp:revision>
  <dc:subject/>
  <dc:title>PowerPoint-Präsentation</dc:title>
</cp:coreProperties>
</file>