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B3A7-C9AE-4CEE-9D71-563C140B680B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0BC-FF79-4BF0-B5D9-5745FCDB572F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37240"/>
            <a:ext cx="756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B1-C4: PPP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Institutionen und Initiativen für nachhaltiges Wirtschaften im Handwerk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324480" y="228600"/>
            <a:ext cx="2438640" cy="647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18288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titutionen und Initiativen für nachhaltiges Wirtscha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1760400"/>
            <a:ext cx="761976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m Februar 2003 gegründet, und im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3 am Standort Steinhelle eröff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von Energieeinsparung, Energieeffizienz und erneuerbaren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wicklung einer zentralen Informationstelle für den Energieträger Hol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s Handwerkes und der Industrien der erneuerbaren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29400" y="4419720"/>
            <a:ext cx="198108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984240"/>
            <a:ext cx="7162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Informations- und Demonstrations-Zentrum Erneuerbare Energien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648320"/>
            <a:ext cx="5638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bau des Standortes Steinhelle zu einem Gründer- und Innovationszentrum der Technik für erneuerbare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ffentlichkeitsarbeit, Verbraucherberatung, Netzwerkmanagement, Aus- und Fort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21080" y="609588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idee-nrw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0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08040" y="103500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2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003400"/>
            <a:ext cx="777240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0 gegründet mit Sitz im Handwerkszentrum Ruhr in Oberhau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rviceangebot auf Basis eigener Untersuchungen zu aktuellen handwerkstypischen Fragen des Umweltschut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formationen zu Umweltrecht und Förder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arbeitung betriebsbezogener Lösungen im Umweltschutz sowie Branchenkonzepte (z.B. Energie, Ökologisches Bauen, Bodenschutz und Altlas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24480" y="4861080"/>
            <a:ext cx="1905120" cy="139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4876920"/>
            <a:ext cx="563868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 und Weiterbildung im Rahmen praxisbezogener Seminare und Lehrgänge zu Fragen des betrieblichen Umweltschut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126360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Umweltzentrum der Handwerkskammer Düsseldo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560" y="6248520"/>
            <a:ext cx="35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hwk-duesseldorf.de/uzh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1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1593720"/>
            <a:ext cx="77724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ündung des Handwerkskammer Bildungszentrum 1978 von der Handwerkskammer Mün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 und Beratung für alle betrieblichen Bereiche des Umweltschutzes (z.B. Energie, Gewässer-und Immissionsschutz, Abfall/Altlas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formationsveranstaltungen, Kooperationsvermittlung, Demonstrationsanlagen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sstätten für regenerative Energietechniken, Schulungs- und Umweltla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ordination von Projekten, Netzwer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sp.: Demonstrationszentrum Bau und Energie: realitätsnahe und »begreifbare« Wissensvermittlu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5321160"/>
            <a:ext cx="2666880" cy="8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477040"/>
            <a:ext cx="426744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von gewerkeübergreifendem Denken und Handeln sowie der Umsetzung von Innovation in die Pr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12520" y="1111320"/>
            <a:ext cx="48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Handwerkskammerbildungszentrum Mün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05240" y="61261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hbz-bildung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2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106668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200400"/>
            <a:ext cx="266688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200400"/>
            <a:ext cx="24386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0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200400"/>
            <a:ext cx="274320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02/2492-245 /-179</a:t>
            </a:r>
            <a:r>
              <a:rPr b="0" lang="de-DE" sz="1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1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6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08004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5334120" y="530856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62326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8"/>
          <a:stretch/>
        </p:blipFill>
        <p:spPr>
          <a:xfrm>
            <a:off x="1523880" y="55339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3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143000"/>
            <a:ext cx="716292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stitutionen und Initiativen fü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nachhaltiges Wirtschaften, di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ch als Sprachrohr für Unternehmen verst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ine Plattform für Unternehmen in der Öffentlichkeit bi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xisnahe Konzept entwicklen und umse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gionale, klein- und mittelständische Wirtschaftsstrukturen unterstü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n offenen Dialog mit Politik und Gesellschaft 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4491000"/>
            <a:ext cx="2362320" cy="198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04880" y="630864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2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1755720"/>
            <a:ext cx="7772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84 als erste überparteiliche Umweltinitiative der Wirtschaft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450 Mitglieder europaweit, Schwesterorganisationen in 26 Ländern     der W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4589640"/>
            <a:ext cx="3657600" cy="14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74840" y="579132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baumev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6480" y="1079640"/>
            <a:ext cx="63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B.A.U.M Bundesdeutscher Arbeitskreis für Umweltbewus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Management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781440"/>
            <a:ext cx="41907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breitung und Weiterentwicklung des integrierten Systems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sorgender umweltorientierter Unternehmensführ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führung von Methoden und Maßnahmen umweltbewussten Managements und nachhaltiger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971800"/>
            <a:ext cx="73562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nsibilisierung von Unternehmen, Institutionen, Politik und Bevölkerung für die Probleme und Chancen des Umweltschutzes und Fragen der Nachhaltigen Entwickl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3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525680"/>
            <a:ext cx="784872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86 in Lengerich/Westfalen gegründ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150 Mitglieder bundesw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gagement für Nachhaltiges Wirtschaften, future steht für Sustainable Excellence (bestmögliche, nachhaltige Unternehmensführun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wicklung von praxisnahen Konzepten und Instrumenten, die es ermöglichen Marktchancen zu nutzen und Wettbewerbsvorteile auszubau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wirklichung des Nachhaltigkeitsgedankens im Unternehmensall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52880" y="5029200"/>
            <a:ext cx="4114440" cy="1066320"/>
            <a:chOff x="4952880" y="5029200"/>
            <a:chExt cx="4114440" cy="10663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75974" t="28565" r="0" b="0"/>
            <a:stretch/>
          </p:blipFill>
          <p:spPr>
            <a:xfrm>
              <a:off x="4952880" y="5029200"/>
              <a:ext cx="108864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rcRect l="0" t="78587" r="34886" b="0"/>
            <a:stretch/>
          </p:blipFill>
          <p:spPr>
            <a:xfrm>
              <a:off x="6119640" y="5774400"/>
              <a:ext cx="294768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543400" y="10666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future : Umweltinitiative von Unterne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5000" y="5410080"/>
            <a:ext cx="3571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anstaltungen, Arbeitskreise, Workshops und 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809960"/>
            <a:ext cx="7620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r Unternehmen bei der Übernahme gesellschaftlicher  Verantwo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6320" y="617868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future-ev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4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51040" y="10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4240" y="1741320"/>
            <a:ext cx="74325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2 in Baden-Württemberg gegründ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300 Mitglieder bundesweit, darunter auch Handwerksbetriebe z.B. aus den Bereichen Bau, Energie oder Produk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kologische Ausrichtung und Erneuerung der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stellungen ökologischen Wirtschaftens aktiv in die politische Diskussion 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sozialer Innovationen in den Unternehmen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r regionalen, klein- und mittelbetrieblich ausgerichteten Wirtschaftsstruk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5035680"/>
            <a:ext cx="4647960" cy="111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98680" y="70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9840" y="11872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Unternehmensgrün: Bundesverband der grünen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3120" y="6019920"/>
            <a:ext cx="275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unternehmensgrue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5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073240"/>
            <a:ext cx="75438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0 auf Initiative des BDI in Berlin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30 Mitglieder (deutsche Großunternehmen)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kussion von Aufgaben und Chancen einer nachhaltigen Entwicklung innerhalb der Wirtschaft, gemeinsam mit Politik, NGOs, Wissenschaft und Zivilgesellschaft disku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arbeitung politischer Lösungsstrategien im Di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ung von Denkanstöß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einer nachhaltigen Entwicklung mit konkreten Aktivit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3280" y="84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5960" y="1247760"/>
            <a:ext cx="466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econsense: Forum Nachhaltige Entwick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der deutschen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8160" y="6278400"/>
            <a:ext cx="20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econsens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5477040"/>
            <a:ext cx="2514600" cy="84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597640"/>
            <a:ext cx="48801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kussion von Strategien, Anforderungen an Wirtschaft und Politik sowie konkreter Lösungs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6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03480" y="136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974960"/>
            <a:ext cx="784836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0 in  Wuppertal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1 mittelständische Gründungsmitglie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ukunftsfähigkeit als Unternehmensleitbild förder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nehmern ein Forum für einen offenen Dialog mit Wissenschaft und Politik bie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as Motto des Club of Wuppertal lautet:</a:t>
            </a:r>
            <a:r>
              <a:rPr b="0" lang="de-DE" sz="16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"Wir wollen den Ast nicht absägen, auf dem wir sitzen."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74800" y="1095480"/>
            <a:ext cx="71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CLUB OF WUPPERT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Forum zukunftsfähiger, mittelständischer Unterneh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572000"/>
            <a:ext cx="500688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prachrohr für Unternehmen, die zukunftsfähig 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lattform für Unternehmen, sich in der Öffentlichkeit als innovativ und richtungsweisend darzu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2560" y="601992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club-of-wuppertal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7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787400"/>
            <a:ext cx="76964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7 als Konzept »aus dem Handwerk für das Handwerk« für alle KMUs aus Handwerk, Industrie und Handel entwick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 Kooperation mit Institutionen der Bundesländer zur bundesweiten Etablierung und 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möglichung der Einführung und Zertifikation eines auf die Bedürfnisse von KMU zugeschnittenen integrierten Qualitäts- und Umweltmanagement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4362480"/>
            <a:ext cx="1981080" cy="18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79440" y="4591080"/>
            <a:ext cx="50450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rnisierung, Zukunfts- und Wettbewerbsfähigkeit förd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richtung von Workshops, Schulungen, Vor-Ort-Beratung, Netzwerktre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1187280"/>
            <a:ext cx="47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Qualitätsverbund Umweltbewusster Betrie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4720" y="6202440"/>
            <a:ext cx="18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qub-info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8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2360" y="1631880"/>
            <a:ext cx="761076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ll Hohenlohe e.V. ist eine 1991 gegründete gemeinnützige Gemeinschaft von Unternehmen mit ca. 200 Mitgliede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e auf dem Weg ist, die Ziele der nachhaltigen Entwicklung in den Betrieben zu verwirklic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kologisch aktiv, sozial engagiert und ökonomisch erfolgreich regionale Kompetenzen aufbauen und nu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n und unterstützen eines verantwortungsvollen Umgangs mit der Natur und die Schonung der natürlichen Ressour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en, Hilfe zur Selbsthilfe, Öffentlichkeits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jekte (EnergieEffizienzTische, MaterialEffizienz-NetzwerkZeroLo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14800" y="5334120"/>
            <a:ext cx="4724280" cy="102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8120" y="1111320"/>
            <a:ext cx="60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Modell Hohenlohe: Wir fördern nachhaltiges Wirtschaf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34240" y="6095880"/>
            <a:ext cx="26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modell-hohenlohe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9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cp:lastPrinted>2006-09-06T11:47:19Z</cp:lastPrinted>
  <dcterms:modified xsi:type="dcterms:W3CDTF">2007-11-16T13:17:07Z</dcterms:modified>
  <cp:revision>37</cp:revision>
  <dc:subject/>
  <dc:title>PowerPoint-Präsentation</dc:title>
</cp:coreProperties>
</file>