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002C-509B-48E0-8C78-EA2F02B1681F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7F7D-DB92-4558-8C4C-A98668C18C05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37240"/>
            <a:ext cx="756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B1-C4: PPP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Institutionen und Initiativen für nachhaltiges Wirtschaften im Handwerk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324480" y="228600"/>
            <a:ext cx="2438640" cy="647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ingo.rauhut@handwerk-nrw.de" TargetMode="External"/><Relationship Id="rId3" Type="http://schemas.openxmlformats.org/officeDocument/2006/relationships/hyperlink" Target="mailto:ingo.rauhut@handwerk-nrw.de" TargetMode="External"/><Relationship Id="rId4" Type="http://schemas.openxmlformats.org/officeDocument/2006/relationships/hyperlink" Target="mailto:ingo.rauhut@handwerk-nrw.de" TargetMode="External"/><Relationship Id="rId5" Type="http://schemas.openxmlformats.org/officeDocument/2006/relationships/hyperlink" Target="mailto:ingo.rauhut@handwerk-nrw.de" TargetMode="External"/><Relationship Id="rId6" Type="http://schemas.openxmlformats.org/officeDocument/2006/relationships/hyperlink" Target="mailto:ingo.rauhut@handwerk-nrw.de" TargetMode="External"/><Relationship Id="rId7" Type="http://schemas.openxmlformats.org/officeDocument/2006/relationships/hyperlink" Target="mailto:ingo.rauhut@handwerk-nrw.de" TargetMode="External"/><Relationship Id="rId8" Type="http://schemas.openxmlformats.org/officeDocument/2006/relationships/hyperlink" Target="mailto:ingo.rauhut@handwerk-nrw.de" TargetMode="External"/><Relationship Id="rId9" Type="http://schemas.openxmlformats.org/officeDocument/2006/relationships/hyperlink" Target="http://www.handwerk-nrw.de/" TargetMode="External"/><Relationship Id="rId10" Type="http://schemas.openxmlformats.org/officeDocument/2006/relationships/hyperlink" Target="http://www.handwerk-nrw.de/" TargetMode="External"/><Relationship Id="rId11" Type="http://schemas.openxmlformats.org/officeDocument/2006/relationships/hyperlink" Target="http://www.handwerk-nrw.de/" TargetMode="External"/><Relationship Id="rId12" Type="http://schemas.openxmlformats.org/officeDocument/2006/relationships/hyperlink" Target="http://www.handwerk-nrw.de/" TargetMode="External"/><Relationship Id="rId13" Type="http://schemas.openxmlformats.org/officeDocument/2006/relationships/hyperlink" Target="http://www.handwerk-nrw.de/" TargetMode="External"/><Relationship Id="rId14" Type="http://schemas.openxmlformats.org/officeDocument/2006/relationships/hyperlink" Target="http://www.handwerk-nrw.de/" TargetMode="External"/><Relationship Id="rId15" Type="http://schemas.openxmlformats.org/officeDocument/2006/relationships/hyperlink" Target="mailto:herbert.klemisch@kni.de" TargetMode="External"/><Relationship Id="rId16" Type="http://schemas.openxmlformats.org/officeDocument/2006/relationships/hyperlink" Target="mailto:herbert.klemisch@kni.de" TargetMode="External"/><Relationship Id="rId17" Type="http://schemas.openxmlformats.org/officeDocument/2006/relationships/hyperlink" Target="mailto:herbert.klemisch@kni.de" TargetMode="External"/><Relationship Id="rId18" Type="http://schemas.openxmlformats.org/officeDocument/2006/relationships/hyperlink" Target="mailto:herbert.klemisch@kni.de" TargetMode="External"/><Relationship Id="rId19" Type="http://schemas.openxmlformats.org/officeDocument/2006/relationships/hyperlink" Target="mailto:herbert.klemisch@kni.de" TargetMode="External"/><Relationship Id="rId20" Type="http://schemas.openxmlformats.org/officeDocument/2006/relationships/hyperlink" Target="mailto:herbert.klemisch@kni.de" TargetMode="External"/><Relationship Id="rId21" Type="http://schemas.openxmlformats.org/officeDocument/2006/relationships/hyperlink" Target="http://www.kni.de/" TargetMode="External"/><Relationship Id="rId22" Type="http://schemas.openxmlformats.org/officeDocument/2006/relationships/hyperlink" Target="http://www.kni.de/" TargetMode="External"/><Relationship Id="rId23" Type="http://schemas.openxmlformats.org/officeDocument/2006/relationships/hyperlink" Target="http://www.kni.de/" TargetMode="External"/><Relationship Id="rId24" Type="http://schemas.openxmlformats.org/officeDocument/2006/relationships/hyperlink" Target="http://www.kni.de/" TargetMode="External"/><Relationship Id="rId25" Type="http://schemas.openxmlformats.org/officeDocument/2006/relationships/hyperlink" Target="mailto:holger.rohn@wupperinst.org" TargetMode="External"/><Relationship Id="rId26" Type="http://schemas.openxmlformats.org/officeDocument/2006/relationships/hyperlink" Target="mailto:holger.rohn@wupperinst.org" TargetMode="External"/><Relationship Id="rId27" Type="http://schemas.openxmlformats.org/officeDocument/2006/relationships/hyperlink" Target="mailto:holger.rohn@wupperinst.org" TargetMode="External"/><Relationship Id="rId28" Type="http://schemas.openxmlformats.org/officeDocument/2006/relationships/hyperlink" Target="mailto:holger.rohn@wupperinst.org" TargetMode="External"/><Relationship Id="rId29" Type="http://schemas.openxmlformats.org/officeDocument/2006/relationships/hyperlink" Target="mailto:holger.rohn@wupperinst.org" TargetMode="External"/><Relationship Id="rId30" Type="http://schemas.openxmlformats.org/officeDocument/2006/relationships/hyperlink" Target="mailto:holger.rohn@wupperinst.org" TargetMode="External"/><Relationship Id="rId31" Type="http://schemas.openxmlformats.org/officeDocument/2006/relationships/hyperlink" Target="mailto:holger.rohn@wupperinst.org" TargetMode="External"/><Relationship Id="rId32" Type="http://schemas.openxmlformats.org/officeDocument/2006/relationships/hyperlink" Target="http://www.wupperinst.org/" TargetMode="External"/><Relationship Id="rId33" Type="http://schemas.openxmlformats.org/officeDocument/2006/relationships/hyperlink" Target="http://www.wupperinst.org/" TargetMode="External"/><Relationship Id="rId34" Type="http://schemas.openxmlformats.org/officeDocument/2006/relationships/hyperlink" Target="http://www.wupperinst.org/" TargetMode="External"/><Relationship Id="rId35" Type="http://schemas.openxmlformats.org/officeDocument/2006/relationships/hyperlink" Target="http://www.wupperinst.org/" TargetMode="External"/><Relationship Id="rId36" Type="http://schemas.openxmlformats.org/officeDocument/2006/relationships/hyperlink" Target="http://www.wupperinst.org/" TargetMode="External"/><Relationship Id="rId37" Type="http://schemas.openxmlformats.org/officeDocument/2006/relationships/image" Target="../media/image5.png"/><Relationship Id="rId38" Type="http://schemas.openxmlformats.org/officeDocument/2006/relationships/image" Target="../media/image6.pn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18288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titutionen und Initiativen für nachhaltiges Wirtscha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9320" y="1760400"/>
            <a:ext cx="761976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m Februar 2003 gegründet, und im Nov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3 am Standort Steinhelle eröff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von Energieeinsparung, Energieeffizienz und erneuerbaren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wicklung einer zentralen Informationstelle für den Energieträger Hol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s Handwerkes und der Industrien der erneuerbaren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629400" y="4419720"/>
            <a:ext cx="1981080" cy="170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95280" y="984240"/>
            <a:ext cx="71629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Informations- und Demonstrations-Zentrum Erneuerbare Energien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648320"/>
            <a:ext cx="5638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bau des Standortes Steinhelle zu einem Gründer- und Innovationszentrum der Technik für erneuerbare Energ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ffentlichkeitsarbeit, Verbraucherberatung, Netzwerkmanagement, Aus- und Fortbild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21080" y="6095880"/>
            <a:ext cx="19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idee-nrw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0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08040" y="103500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92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003400"/>
            <a:ext cx="777240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0 gegründet mit Sitz im Handwerkszentrum Ruhr in Oberhau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rviceangebot auf Basis eigener Untersuchungen zu aktuellen handwerkstypischen Fragen des Umweltschut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formationen zu Umweltrecht und Förder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arbeitung betriebsbezogener Lösungen im Umweltschutz sowie Branchenkonzepte (z.B. Energie, Ökologisches Bauen, Bodenschutz und Altlas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324480" y="4861080"/>
            <a:ext cx="1905120" cy="139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4876920"/>
            <a:ext cx="563868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 und Weiterbildung im Rahmen praxisbezogener Seminare und Lehrgänge zu Fragen des betrieblichen Umweltschutz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1263600"/>
            <a:ext cx="543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Umweltzentrum der Handwerkskammer Düsseldo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17560" y="6248520"/>
            <a:ext cx="35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hwk-duesseldorf.de/uzh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1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1593720"/>
            <a:ext cx="777240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ründung des Handwerkskammer Bildungszentrum 1978 von der Handwerkskammer Mün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 und Beratung für alle betrieblichen Bereiche des Umweltschutzes (z.B. Energie, Gewässer-und Immissionsschutz, Abfall/Altlast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formationsveranstaltungen, Kooperationsvermittlung, Demonstrationsanlagen 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sstätten für regenerative Energietechniken, Schulungs- und Umweltlab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Koordination von Projekten, Netzwer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Bsp.: Demonstrationszentrum Bau und Energie: realitätsnahe und »begreifbare« Wissensvermittlu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19920" y="5321160"/>
            <a:ext cx="2666880" cy="851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477040"/>
            <a:ext cx="426744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von gewerkeübergreifendem Denken und Handeln sowie der Umsetzung von Innovation in die Pr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12520" y="1111320"/>
            <a:ext cx="48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Handwerkskammerbildungszentrum Mün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05240" y="612612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hbz-bildung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2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95280" y="1066680"/>
            <a:ext cx="7620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3200400"/>
            <a:ext cx="266688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rauhu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8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9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1"/>
              </a:rPr>
              <a:t>handwerk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-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3"/>
              </a:rPr>
              <a:t>nr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3200400"/>
            <a:ext cx="243864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5"/>
              </a:rPr>
              <a:t>herber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7"/>
              </a:rPr>
              <a:t>klemisch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19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0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1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2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3"/>
              </a:rPr>
              <a:t>kni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4"/>
              </a:rPr>
              <a:t>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200400"/>
            <a:ext cx="274320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0202/2492-245 /-179</a:t>
            </a:r>
            <a:r>
              <a:rPr b="0" lang="de-DE" sz="14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5"/>
              </a:rPr>
              <a:t>holger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6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7"/>
              </a:rPr>
              <a:t>rohn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8"/>
              </a:rPr>
              <a:t>@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29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0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1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2"/>
              </a:rPr>
              <a:t>www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3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4"/>
              </a:rPr>
              <a:t>wupperinst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5"/>
              </a:rPr>
              <a:t>.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Verdana"/>
                <a:hlinkClick r:id="rId36"/>
              </a:rPr>
              <a:t>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08004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7"/>
          <a:stretch/>
        </p:blipFill>
        <p:spPr>
          <a:xfrm>
            <a:off x="5334120" y="530856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05520" y="62326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8"/>
          <a:stretch/>
        </p:blipFill>
        <p:spPr>
          <a:xfrm>
            <a:off x="1523880" y="553392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102160" y="6613560"/>
            <a:ext cx="102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13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1143000"/>
            <a:ext cx="716292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stitutionen und Initiativen fü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nachhaltiges Wirtschaften, die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ch als Sprachrohr für Unternehmen verste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ine Plattform für Unternehmen in der Öffentlichkeit bil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axisnahe Konzept entwicklen und umse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regionale, klein- und mittelständische Wirtschaftsstrukturen unterstü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en offenen Dialog mit Politik und Gesellschaft 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57600" y="4491000"/>
            <a:ext cx="2362320" cy="198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04880" y="630864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2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1755720"/>
            <a:ext cx="777240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84 als erste überparteiliche Umweltinitiative der Wirtschaft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450 Mitglieder europaweit, Schwesterorganisationen in 26 Ländern     der W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105520" y="4589640"/>
            <a:ext cx="3657600" cy="14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74840" y="5791320"/>
            <a:ext cx="183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baumev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06480" y="1079640"/>
            <a:ext cx="63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B.A.U.M Bundesdeutscher Arbeitskreis für Umweltbewuss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Management e.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781440"/>
            <a:ext cx="419076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breitung und Weiterentwicklung des integrierten Systems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sorgender umweltorientierter Unternehmensführ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inführung von Methoden und Maßnahmen umweltbewussten Managements und nachhaltiger Entwicklung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971800"/>
            <a:ext cx="7356240" cy="11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ensibilisierung von Unternehmen, Institutionen, Politik und Bevölkerung für die Probleme und Chancen des Umweltschutzes und Fragen der Nachhaltigen Entwickl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3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525680"/>
            <a:ext cx="784872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86 in Lengerich/Westfalen gegründ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150 Mitglieder bundesw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Bef>
                <a:spcPts val="400"/>
              </a:spcBef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gagement für Nachhaltiges Wirtschaften, future steht für Sustainable Excellence (bestmögliche, nachhaltige Unternehmensführung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ntwicklung von praxisnahen Konzepten und Instrumenten, die es ermöglichen Marktchancen zu nutzen und Wettbewerbsvorteile auszubau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wirklichung des Nachhaltigkeitsgedankens im Unternehmensall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52880" y="5029200"/>
            <a:ext cx="4114440" cy="1066320"/>
            <a:chOff x="4952880" y="5029200"/>
            <a:chExt cx="4114440" cy="1066320"/>
          </a:xfrm>
        </p:grpSpPr>
        <p:pic>
          <p:nvPicPr>
            <p:cNvPr id="64" name="" descr=""/>
            <p:cNvPicPr/>
            <p:nvPr/>
          </p:nvPicPr>
          <p:blipFill>
            <a:blip r:embed="rId1"/>
            <a:srcRect l="75974" t="28565" r="0" b="0"/>
            <a:stretch/>
          </p:blipFill>
          <p:spPr>
            <a:xfrm>
              <a:off x="4952880" y="5029200"/>
              <a:ext cx="108864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rcRect l="0" t="78587" r="34886" b="0"/>
            <a:stretch/>
          </p:blipFill>
          <p:spPr>
            <a:xfrm>
              <a:off x="6119640" y="5774400"/>
              <a:ext cx="2947680" cy="3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"/>
          <p:cNvSpPr/>
          <p:nvPr/>
        </p:nvSpPr>
        <p:spPr>
          <a:xfrm>
            <a:off x="2543400" y="10666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future : Umweltinitiative von Unterneh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05000" y="5410080"/>
            <a:ext cx="3571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eranstaltungen, Arbeitskreise, Workshops und Projek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79440" y="487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4809960"/>
            <a:ext cx="76201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r Unternehmen bei der Übernahme gesellschaftlicher  Verantwor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6320" y="6178680"/>
            <a:ext cx="19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future-ev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4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651040" y="103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4240" y="1741320"/>
            <a:ext cx="7432560" cy="39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2 in Baden-Württemberg gegründ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300 Mitglieder bundesweit, darunter auch Handwerksbetriebe z.B. aus den Bereichen Bau, Energie oder Produk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kologische Ausrichtung und Erneuerung der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Vorstellungen ökologischen Wirtschaftens aktiv in die politische Diskussion tr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ung sozialer Innovationen in den Unternehmen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der regionalen, klein- und mittelbetrieblich ausgerichteten Wirtschaftsstrukt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62520" y="5035680"/>
            <a:ext cx="4647960" cy="1114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98680" y="70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9840" y="1187280"/>
            <a:ext cx="619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Unternehmensgrün: Bundesverband der grünen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63120" y="6019920"/>
            <a:ext cx="275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unternehmensgrue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5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295280" y="2073240"/>
            <a:ext cx="75438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0 auf Initiative des BDI in Berlin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Ca. 30 Mitglieder (deutsche Großunternehmen)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kussion von Aufgaben und Chancen einer nachhaltigen Entwicklung innerhalb der Wirtschaft, gemeinsam mit Politik, NGOs, Wissenschaft und Zivilgesellschaft diskut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arbeitung politischer Lösungsstrategien im Di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Lieferung von Denkanstöß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stützung einer nachhaltigen Entwicklung mit konkreten Aktivit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43280" y="84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5960" y="1247760"/>
            <a:ext cx="466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econsense: Forum Nachhaltige Entwicklu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der deutschen Wirt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18160" y="6278400"/>
            <a:ext cx="20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econsense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400800" y="5477040"/>
            <a:ext cx="2514600" cy="847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597640"/>
            <a:ext cx="48801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skussion von Strategien, Anforderungen an Wirtschaft und Politik sowie konkreter Lösungsmöglich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6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03480" y="136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1974960"/>
            <a:ext cx="784836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000 in  Wuppertal gegründ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21 mittelständische Gründungsmitglie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Zukunftsfähigkeit als Unternehmensleitbild förder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Unternehmern ein Forum für einen offenen Dialog mit Wissenschaft und Politik bie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as Motto des Club of Wuppertal lautet:</a:t>
            </a:r>
            <a:r>
              <a:rPr b="0" lang="de-DE" sz="16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"Wir wollen den Ast nicht absägen, auf dem wir sitzen."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1981080" cy="1387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74800" y="1095480"/>
            <a:ext cx="714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CLUB OF WUPPERTA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Forum zukunftsfähiger, mittelständischer Unterneh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4572000"/>
            <a:ext cx="500688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prachrohr für Unternehmen, die zukunftsfähig 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lattform für Unternehmen, sich in der Öffentlichkeit als innovativ und richtungsweisend darzustel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52560" y="6019920"/>
            <a:ext cx="265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club-of-wuppertal.or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7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1787400"/>
            <a:ext cx="769644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1997 als Konzept »aus dem Handwerk für das Handwerk« für alle KMUs aus Handwerk, Industrie und Handel entwickel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in Kooperation mit Institutionen der Bundesländer zur bundesweiten Etablierung und Verbreit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Ermöglichung der Einführung und Zertifikation eines auf die Bedürfnisse von KMU zugeschnittenen integrierten Qualitäts- und Umweltmanagement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4362480"/>
            <a:ext cx="1981080" cy="188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279440" y="4591080"/>
            <a:ext cx="50450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rnisierung, Zukunfts- und Wettbewerbsfähigkeit förd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Ausrichtung von Workshops, Schulungen, Vor-Ort-Beratung, Netzwerktre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3600" y="1187280"/>
            <a:ext cx="47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Qualitätsverbund Umweltbewusster Betrie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34720" y="6202440"/>
            <a:ext cx="186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qub-info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8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52360" y="1631880"/>
            <a:ext cx="761076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Modell Hohenlohe e.V. ist eine 1991 gegründete gemeinnützige Gemeinschaft von Unternehmen mit ca. 200 Mitglieder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die auf dem Weg ist, die Ziele der nachhaltigen Entwicklung in den Betrieben zu verwirklich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1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Ziele und Aktivität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Ökologisch aktiv, sozial engagiert und ökonomisch erfolgreich regionale Kompetenzen aufbauen und nutz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fördern und unterstützen eines verantwortungsvollen Umgangs mit der Natur und die Schonung der natürlichen Ressourc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Schulungen, Hilfe zur Selbsthilfe, Öffentlichkeitsarbe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1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Projekte (EnergieEffizienzTische, MaterialEffizienz-NetzwerkZeroLo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14800" y="5334120"/>
            <a:ext cx="4724280" cy="1025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8120" y="1111320"/>
            <a:ext cx="60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ab"/>
                </a:solidFill>
                <a:latin typeface="Verdana"/>
              </a:rPr>
              <a:t>Modell Hohenlohe: Wir fördern nachhaltiges Wirtschaf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34240" y="6095880"/>
            <a:ext cx="26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http://www.modell-hohenlohe.d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lie 9 von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cp:lastPrinted>2006-09-06T11:47:19Z</cp:lastPrinted>
  <dcterms:modified xsi:type="dcterms:W3CDTF">2007-11-16T13:17:07Z</dcterms:modified>
  <cp:revision>37</cp:revision>
  <dc:subject/>
  <dc:title>PowerPoint-Präsentation</dc:title>
</cp:coreProperties>
</file>