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59C19-725C-45C1-B20C-8E4EB761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A4D5E-8640-494F-996B-F5CF1C62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6A45C-8194-44B7-B59B-1BC7A7B6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63CD8-7F5D-4645-9D48-12C0C6D1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DBC6A-6049-4A69-AC95-19E3122A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52A57-01E7-4F1E-8813-E3D38FF9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67004-F9E0-42EA-A2AF-9626B08A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36E5A-FFF0-4DEA-BD36-A9132E2B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10310-39B1-46E0-B867-861247F1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E4301-46DC-4187-A28F-54BB19B7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08C9A-8DDC-460C-A989-8DDD3B8A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AC50A-2E98-4040-9D53-04948C8B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1932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2-A1: Einführung und Grundlagen zu Selbstbewertung für Nachhaltiges Wirtschaften  (PP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7D25-8CA9-4734-AD12-F355B20F20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1729080" cy="428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1905120" y="914400"/>
            <a:ext cx="5715000" cy="54338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1295280" y="228600"/>
            <a:ext cx="2057400" cy="792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4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F38B-6764-4F9C-BC9D-A1CB0C453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http://www.handwerk-nrw.de/" TargetMode="External"/><Relationship Id="rId3" Type="http://schemas.openxmlformats.org/officeDocument/2006/relationships/hyperlink" Target="mailto:herbert.klemisch@kni.de" TargetMode="External"/><Relationship Id="rId4" Type="http://schemas.openxmlformats.org/officeDocument/2006/relationships/hyperlink" Target="http://www.kni.de/" TargetMode="External"/><Relationship Id="rId5" Type="http://schemas.openxmlformats.org/officeDocument/2006/relationships/hyperlink" Target="mailto:holger.rohn@wupperinst.org" TargetMode="External"/><Relationship Id="rId6" Type="http://schemas.openxmlformats.org/officeDocument/2006/relationships/hyperlink" Target="http://www.wupperinst.org/" TargetMode="External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24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4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inführung und Grundlagen zu Selbstbewertung für Nachhaltiges Wirtschaf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4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4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75160" y="6238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21120" y="2982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1628640"/>
            <a:ext cx="63248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s des »Selbst-Checks Handwerk«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ktiv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atus-quo-Analy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r Erstellung eines Stärken-Potenziale-Profi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r Identifikation und Planung von Maßnah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zess der Durchführung: Workshop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(und Erfahrungsaustausch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arbeiterbeteiligung: ca. 3 bis 8 Personen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Leitungseb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49920" y="2971800"/>
            <a:ext cx="2494080" cy="3276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0666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NC – Bochumer Nachhaltigkeitscheck: Anwend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34440" y="6324480"/>
            <a:ext cx="109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lle: Trifoli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5240" y="1628640"/>
            <a:ext cx="7926480" cy="42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C: &gt; 300 Unternehmen online, MNC: &gt; 500 Nutz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FE: &gt; 40 KMU bekannt; div. Unternehmen und Berater im In- und Ausland: Qualifizierungs-WS, Durchführung mit und ohne Unterstützung der Entwickler (z.B. Niederlande, Baltikum, Mittelamerika, Australi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NC und Varianten: &gt; 25 Unterneh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stainable Excellence-Ansatz: &gt; 50 Umsetzung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066680"/>
            <a:ext cx="8153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isherige Umsetzung einiger Instru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990720"/>
            <a:ext cx="815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lbst-Check Handwerk - 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7 Umsetzungsschri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822320"/>
            <a:ext cx="792504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itt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rgespräch zwischen Berater/-innen und Unternehmen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der Belegscha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itt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dung eines Projektte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itt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führung in die Methodik im Projekttea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tional vor oder gemeinsam mit Schritt 3 : Einführungs-Worksho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ualifizierungsmodul) für den Betrieb zum Thema »Nachhaltig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rtschaften im Handwerk«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itt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füllen, Einsammeln und Weiterleiten der ausgefüllt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ertungsbö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itt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r Bewertungsworksh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itt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ssuche zu den offenen Bewert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itt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r Bewertungsworkshop mit Maßnahmenplan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0 Themen der Bestandsaufnahme*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23840" y="1611360"/>
            <a:ext cx="674856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nden/-innen, Produkte und Dienstleist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ers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us- und Weiterbild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Leitbild und Strate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Organisation und Führ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Produktion und (Dienst-)Leistungserstell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Kooperation und Inno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Finanzen und Rechtssicherhe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Regionales Umfeld des Unternehm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Internationale Märkte/ Globalisier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Basis BNC-Bochumer Nachhaltigkeits-Check / Nachhaltigkeits-Selbstbewertung Wi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rifolium – Beratungsgesellschaft mbH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55520" y="60912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ussage – Antworten – Begründung/Nachweis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523880"/>
            <a:ext cx="8229600" cy="47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ussag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er Unternehmen ergreift erfolgreich Maßnahmen zur Senkung der Produktionskoste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ntworte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) Zur Aussage liegt eine planvolle, systematische Vorgehensweise vo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.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Vorgehensweise ist entsprechend umgesetz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) Die Vorgehensweise und die Umsetzung werden gemessen/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bewertet und ggf. verbesse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Begründung/Nachweis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 jeder Auss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55520" y="60912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ussage – Antworten – Begründung/Nachweis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752480"/>
            <a:ext cx="77724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egründung/Nachwei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deutung / Relevanz der Aussage wird begründ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jeder Bewertung einer Aussage sollen Begründungen/Nachweise angegeben werd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el ist das Management mittels Zahlen, Daten, Fakten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it soll eine rein subjektive Einschätzung vermieden werde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98100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ewertu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676520"/>
            <a:ext cx="7848720" cy="45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wertung erfolgt in vier Schritten auf einer Skala von 10 bis 0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Bedeutung/Relevanz der Aussage für das Unterneh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levant --- nicht relev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Zur Aussage liegt eine planvolle, systematisc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gehensweise v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rifft voll zu --- trifft überhaupt nicht z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Vorgehensweise ist entsprechend umgesetz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u 100% umgesetzt --- zu 0% umgesetz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ie Vorgehensweise und die Umsetzung werden gemessen/   bewertet und ggf. verbesse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rifft voll zu --- trifft überhaupt nicht z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Gewichtung der Bewertu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1987560"/>
            <a:ext cx="7696080" cy="40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Gewichtung in der Gesamtbewertung in 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Bewertungskategorie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Zur Aussage liegt eine planvolle, systematische Vorgehensweise v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Vorgehensweise ist entsprechend umgesetz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Die Vorgehensweise und die Umsetzung werden gemessen/bewertet und ggf. verbesse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505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419720"/>
            <a:ext cx="1676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791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rgebnisse und Nutzen der Selbstbewertu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676520"/>
            <a:ext cx="739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676520"/>
            <a:ext cx="701028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gebnisse der Selbstbewertung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lierte Status-quo-Analyse, differenziert na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zehn Tätigkeitsbereichen des Unternehmens u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rei Handlungsaspekten (Vorgehen, Umsetzung, Bewertu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ßnahmenplan, der auf der Status-quo-Analyse fuß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sche Verbesserungsmaßnahmen / Maßnahmen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zen für das Unternehm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kation von konkreten Verbesserungs- u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insparpotentia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tinuierlicher Verbesserungsproz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igerung der Wahrnehmungs- und Reflexions-, Fach-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ethoden- und Sozialkompetenzen der Beteiligt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ufwand der Selbstbewertu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05120" y="1371600"/>
          <a:ext cx="6629400" cy="4938840"/>
        </p:xfrm>
        <a:graphic>
          <a:graphicData uri="http://schemas.openxmlformats.org/drawingml/2006/table">
            <a:tbl>
              <a:tblPr/>
              <a:tblGrid>
                <a:gridCol w="2454120"/>
                <a:gridCol w="1569960"/>
                <a:gridCol w="26053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itaufwand Berater [ca. h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itaufwand Unternehmen [ca. h] [Projektleiter/Mitarbeiter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ktentwicklung und Vorbereitu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/ 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mbildung und Auftakt-Worksh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/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-quo-Analyse (Individuel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/ opt. 4 -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/ 1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se- und Konsens-Worksh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- 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/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tiale- und Maßnahmen-Worksh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- 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/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msetzung der Maßnahmen und Controll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e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e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m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- 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/ 11 - 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62000" y="1652760"/>
            <a:ext cx="5658120" cy="4595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2120" y="914400"/>
            <a:ext cx="813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(Zukünftige) Anforderungen an Unterneh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121932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lversuch »Entwicklung und Erprobung eines Weiterbildungskonzeptes zu nachhaltigem Wirtschaften als Zukunftschance für das Handwerk«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fzeit: 01.09.2004-31.08.20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stdeutscher Handwerkskammertag e.V.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go Rauhu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11/3007-722</a:t>
            </a:r>
            <a:br>
              <a:rPr sz="1400"/>
            </a:b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ingo.rauhut@handwerk-nrw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www.handwerk-nrw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94624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aus Novy Institut e.V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Herbert Klemisc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21/931207-15</a:t>
            </a:r>
            <a:br>
              <a:rPr sz="1400"/>
            </a:b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"/>
              </a:rPr>
              <a:t>herbert.klemisch@kni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4"/>
              </a:rPr>
              <a:t>www.kni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uppertal Institut für Klima, Umwelt, Energie Gmb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lger Rohn / Thomas Lemk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02/2492-245 /-179 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5"/>
              </a:rPr>
              <a:t>holger.rohn@wupperins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6"/>
              </a:rPr>
              <a:t>www.wupperins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594360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105520" y="6095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1946160"/>
            <a:ext cx="7696080" cy="422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914400"/>
            <a:ext cx="813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as Dreieck eines zukunftsfähigen Wirtschaftens 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 Unterneh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905120" y="1447920"/>
          <a:ext cx="6172200" cy="46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447920"/>
                    <a:ext cx="617220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936720" y="914400"/>
            <a:ext cx="813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Die RADAR-Methodik des Excellence-Modells der EFQ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bstbewertung ist ebenso wie Nachhaltiges Wirtschaften ein rec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u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Unternehmen/Organisation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bstbewertungsinstrumente für nachhaltiges Wirtschaften entstehen se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nde der 90er Jah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bstbewertung zielt auf Erhebung 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us qu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kontinuierliche Verbesser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ie setzt somit an originären Unternehmensthemen a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12680" y="1066680"/>
            <a:ext cx="8131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tatus quo und Vorteile der Selbstbewertung in Bezug auf Nachhaltiges Wirtschaf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6668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bstbewertung ermöglicht Unternehmen/Organisationen, a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levanten Unternehmensthem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 zu arbeiten u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etet somit gute Möglichkeiten, das Thema Nachhaltiges Wirtschaften im Unternehmen zu veranker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bstbewertungsinstrumente bie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nterschiedliche „Einstiegsnivea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und Komplexität (INC vs. EFQM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12680" y="1066680"/>
            <a:ext cx="8131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tatus quo und Vorteile der Selbstbewertung in Bezug auf Nachhaltiges Wirtschaften (Fortsetzu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981080"/>
            <a:ext cx="8572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terne (Fremd-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wertung, sonder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e (Selbst-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wertung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logische Instru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frage über Fragebö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meist subjektive Einschätzung der Sit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 Befragung, keine quantitative Befrag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5840" y="1127160"/>
            <a:ext cx="70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erkmale von Selbstbewertungsinstrumenten (Auswah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1981080"/>
            <a:ext cx="8572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statistische Auswert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wertung der Ergebnisse durch  Prozessbeteiligte i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nehmen (Geschäftsführer, Mitarbeiter im Unternehm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e Moderation empfehlenswert - aber nicht notwendi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gebnis als Profil der Stärken und Verbesserungspotenzi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ßnahmenplanung durch die Beteilig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81240" y="1127160"/>
            <a:ext cx="78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erkmale von Selbstbewertungsinstrumenten (Auswahl) (Fortsetzu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2057400"/>
            <a:ext cx="8077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nline-Selbstbewertungen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C - Initialer Nachhaltigkeitscheck, MNC-Multikultureller Nachhaltigkeits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lbstbewertungen als Teil von Innovations- und Verbesserungsprozessen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z.B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FE - Sustainability Assessment For Enterprises, fNC-future Nachhaltigkeitscheck, 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BNC - Bochumer Nachhaltigkeitschec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FABRIKregio, ÖkoBusinessPlan Wien, KURS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lbstbewertungen als Teil komplexer Managementsysteme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z.B.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FQM, be.st - benchmarking for sustainability, SusEx - Sustainable Excellence nach EFQ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lbstbewertungsinstrumente für nachhaltiges Wirtschaf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3:03:48Z</dcterms:created>
  <dc:creator>Holger Rohn</dc:creator>
  <dc:description/>
  <dc:language>en-US</dc:language>
  <cp:lastModifiedBy>Ingo Rauhut</cp:lastModifiedBy>
  <cp:lastPrinted>2006-08-22T18:20:07Z</cp:lastPrinted>
  <dcterms:modified xsi:type="dcterms:W3CDTF">2007-11-16T13:40:52Z</dcterms:modified>
  <cp:revision>305</cp:revision>
  <dc:subject/>
  <dc:title>B2-A1_Einführung Selbstbew_070502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48150567</vt:r8>
  </property>
  <property fmtid="{D5CDD505-2E9C-101B-9397-08002B2CF9AE}" pid="3" name="_AuthorEmail">
    <vt:lpwstr>manstein@chello.at</vt:lpwstr>
  </property>
  <property fmtid="{D5CDD505-2E9C-101B-9397-08002B2CF9AE}" pid="4" name="_AuthorEmailDisplayName">
    <vt:lpwstr>Dipl. Ing. Christopher Manstein</vt:lpwstr>
  </property>
  <property fmtid="{D5CDD505-2E9C-101B-9397-08002B2CF9AE}" pid="5" name="_EmailSubject">
    <vt:lpwstr>folien donnerstag</vt:lpwstr>
  </property>
  <property fmtid="{D5CDD505-2E9C-101B-9397-08002B2CF9AE}" pid="6" name="_ReviewingToolsShownOnce">
    <vt:lpwstr/>
  </property>
</Properties>
</file>