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098F8-1552-4211-AC44-4AA7BAD60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52A115-DC76-4435-B656-D2266FBE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AF873E-F321-4500-AF1B-983CAC0E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6F9B1-92AE-49E5-A911-FB5C7EE2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3B1D4-CD20-445C-BCC0-B9F0BF1C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04D60-D887-4540-8793-5E7BF83A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1A599-5951-4EBF-8919-C41BF6A2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E3A27-F2AD-4F08-8F13-792504B2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BB4CF-9EEC-4840-82F7-2590379C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6621E-F417-45B2-BF6E-067AD5C1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9192B-80B4-4A93-AD17-79CC74B24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58A65-DE70-43B9-94C8-68DA04B76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680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286240"/>
            <a:ext cx="1066680" cy="80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1219320" y="640080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2-A1: Einführung und Grundlagen zu Selbstbewertung für Nachhaltiges Wirtschaften  (PPP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6572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FB2F-E93C-410C-AC34-1B231A8CCC5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1729080" cy="4287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1905120" y="914400"/>
            <a:ext cx="5715000" cy="54338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1295280" y="228600"/>
            <a:ext cx="2057400" cy="7920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4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5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6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7374-8F9B-42B4-BFC7-11C8C36F19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ingo.rauhut@handwerk-nrw.de" TargetMode="External"/><Relationship Id="rId2" Type="http://schemas.openxmlformats.org/officeDocument/2006/relationships/hyperlink" Target="http://www.handwerk-nrw.de/" TargetMode="External"/><Relationship Id="rId3" Type="http://schemas.openxmlformats.org/officeDocument/2006/relationships/hyperlink" Target="mailto:herbert.klemisch@kni.de" TargetMode="External"/><Relationship Id="rId4" Type="http://schemas.openxmlformats.org/officeDocument/2006/relationships/hyperlink" Target="http://www.kni.de/" TargetMode="External"/><Relationship Id="rId5" Type="http://schemas.openxmlformats.org/officeDocument/2006/relationships/hyperlink" Target="mailto:holger.rohn@wupperinst.org" TargetMode="External"/><Relationship Id="rId6" Type="http://schemas.openxmlformats.org/officeDocument/2006/relationships/hyperlink" Target="http://www.wupperinst.org/" TargetMode="External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66320" y="1523520"/>
            <a:ext cx="807732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24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4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4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Einführung und Grundlagen zu Selbstbewertung für Nachhaltiges Wirtschaf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4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4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24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75160" y="62388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21120" y="298296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 Holger Rohn / DI Christopher Manstein: Workshopreihe "Nachhaltigkeits-Selbstbewertung Wien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066680" y="1628640"/>
            <a:ext cx="632484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is des »Selbst-Checks Handwerk«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u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bjektiv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tatus-quo-Analy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ur Erstellung eines Stärken-Potenziale-Profi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ur Identifikation und Planung von Maßnahm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zess der Durchführung: Workshop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(und Erfahrungsaustausch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tarbeiterbeteiligung: ca. 3 bis 8 Personen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Leitungsebe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649920" y="2971800"/>
            <a:ext cx="2494080" cy="32767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62120" y="1066680"/>
            <a:ext cx="8305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NC – Bochumer Nachhaltigkeitscheck: Anwend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34440" y="6324480"/>
            <a:ext cx="109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lle: Trifoliu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 Holger Rohn / DI Christopher Manstein: Workshopreihe "Nachhaltigkeits-Selbstbewertung Wien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065240" y="1628640"/>
            <a:ext cx="7926480" cy="42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C: &gt; 300 Unternehmen online, MNC: &gt; 500 Nutzung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AFE: &gt; 40 KMU bekannt; div. Unternehmen und Berater im In- und Ausland: Qualifizierungs-WS, Durchführung mit und ohne Unterstützung der Entwickler (z.B. Niederlande, Baltikum, Mittelamerika, Australie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NC und Varianten: &gt; 25 Unternehm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ustainable Excellence-Ansatz: &gt; 50 Umsetzunge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Times"/>
              <a:buChar char="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1066680"/>
            <a:ext cx="8153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Bisherige Umsetzung einiger Instrum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 Holger Rohn / DI Christopher Manstein: Workshopreihe "Nachhaltigkeits-Selbstbewertung Wien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09480" y="990720"/>
            <a:ext cx="8153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elbst-Check Handwerk - </a:t>
            </a:r>
            <a:br>
              <a:rPr sz="2000"/>
            </a:b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7 Umsetzungsschrit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1822320"/>
            <a:ext cx="7925040" cy="45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ritt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rgespräch zwischen Berater/-innen und Unternehmen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der Belegschaf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ritt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dung eines Projekttea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ritt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nführung in die Methodik im Projekttea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ptional vor oder gemeinsam mit Schritt 3 : Einführungs-Workshop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Qualifizierungsmodul) für den Betrieb zum Thema »Nachhaltig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irtschaften im Handwerk«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ritt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füllen, Einsammeln und Weiterleiten der ausgefüllt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wertungsbög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ritt 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ster Bewertungsworksh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ritt 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ssuche zu den offenen Bewertung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ritt 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r Bewertungsworkshop mit Maßnahmenplan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 Holger Rohn / DI Christopher Manstein: Workshopreihe "Nachhaltigkeits-Selbstbewertung Wien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68580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0 Themen der Bestandsaufnahme*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23840" y="1611360"/>
            <a:ext cx="6748560" cy="45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nden/-innen, Produkte und Dienstleistung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Pers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us- und Weiterbild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Leitbild und Strategi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Organisation und Führ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Produktion und (Dienst-)Leistungserstell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Kooperation und Inno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Finanzen und Rechtssicherhe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Regionales Umfeld des Unternehme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 Internationale Märkte/ Globalisier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Basis BNC-Bochumer Nachhaltigkeits-Check / Nachhaltigkeits-Selbstbewertung Wien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rifolium – Beratungsgesellschaft mbH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 Holger Rohn / DI Christopher Manstein: Workshopreihe "Nachhaltigkeits-Selbstbewertung Wien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55520" y="609120"/>
            <a:ext cx="763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ussage – Antworten – Begründung/Nachweise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1523880"/>
            <a:ext cx="8229600" cy="47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Aussage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ser Unternehmen ergreift erfolgreich Maßnahmen zur Senkung der Produktionskosten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Antworte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) Zur Aussage liegt eine planvolle, systematische Vorgehensweise vo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.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Vorgehensweise ist entsprechend umgesetz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) Die Vorgehensweise und die Umsetzung werden gemessen/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bewertet und ggf. verbesser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Begründung/Nachweis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 jeder Auss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 Holger Rohn / DI Christopher Manstein: Workshopreihe "Nachhaltigkeits-Selbstbewertung Wien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55520" y="609120"/>
            <a:ext cx="763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ussage – Antworten – Begründung/Nachweise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1752480"/>
            <a:ext cx="77724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Begründung/Nachweis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Bedeutung / Relevanz der Aussage wird begründ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 jeder Bewertung einer Aussage sollen Begründungen/Nachweise angegeben werde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iel ist das Management mittels Zahlen, Daten, Fakten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30000"/>
              </a:lnSpc>
              <a:spcBef>
                <a:spcPts val="12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mit soll eine rein subjektive Einschätzung vermieden werde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 Holger Rohn / DI Christopher Manstein: Workshopreihe "Nachhaltigkeits-Selbstbewertung Wien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981000"/>
            <a:ext cx="7238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ewertung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676520"/>
            <a:ext cx="7848720" cy="45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Bewertung erfolgt in vier Schritten auf einer Skala von 10 bis 0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Bedeutung/Relevanz der Aussage für das Unternehm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elevant --- nicht releva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Zur Aussage liegt eine planvolle, systematisc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rgehensweise vo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rifft voll zu --- trifft überhaupt nicht z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Vorgehensweise ist entsprechend umgesetz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zu 100% umgesetzt --- zu 0% umgesetz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Die Vorgehensweise und die Umsetzung werden gemessen/   bewertet und ggf. verbesse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rifft voll zu --- trifft überhaupt nicht z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95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 Holger Rohn / DI Christopher Manstein: Workshopreihe "Nachhaltigkeits-Selbstbewertung Wien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Gewichtung der Bewertung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1987560"/>
            <a:ext cx="7696080" cy="40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Gewichtung in der Gesamtbewertung in d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Bewertungskategorie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Zur Aussage liegt eine planvolle, systematische Vorgehensweise vo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Vorgehensweise ist entsprechend umgesetz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Die Vorgehensweise und die Umsetzung werden gemessen/bewertet und ggf. verbesser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35053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4419720"/>
            <a:ext cx="16765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579132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1/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 Holger Rohn / DI Christopher Manstein: Workshopreihe "Nachhaltigkeits-Selbstbewertung Wien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63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Ergebnisse und Nutzen der Selbstbewertung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3880" y="1676520"/>
            <a:ext cx="7391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676520"/>
            <a:ext cx="7010280" cy="44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gebnisse der Selbstbewertung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lierte Status-quo-Analyse, differenziert na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zehn Tätigkeitsbereichen des Unternehmens u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drei Handlungsaspekten (Vorgehen, Umsetzung, Bewertung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ßnahmenplan, der auf der Status-quo-Analyse fuß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atische Verbesserungsmaßnahmen / Maßnahmenp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tzen für das Unternehme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kation von konkreten Verbesserungs- u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Einsparpotentia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tinuierlicher Verbesserungsproz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igerung der Wahrnehmungs- und Reflexions-, Fach-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Methoden- und Sozialkompetenzen der Beteiligt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 Holger Rohn / DI Christopher Manstein: Workshopreihe "Nachhaltigkeits-Selbstbewertung Wien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ufwand der Selbstbewertung</a:t>
            </a: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905120" y="1371600"/>
          <a:ext cx="6629400" cy="4938840"/>
        </p:xfrm>
        <a:graphic>
          <a:graphicData uri="http://schemas.openxmlformats.org/drawingml/2006/table">
            <a:tbl>
              <a:tblPr/>
              <a:tblGrid>
                <a:gridCol w="2454120"/>
                <a:gridCol w="1569960"/>
                <a:gridCol w="2605320"/>
              </a:tblGrid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eitaufwand Berater [ca. h]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eitaufwand Unternehmen [ca. h] [Projektleiter/Mitarbeiter]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jektentwicklung und Vorbereitu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effe"/>
                        </a:gs>
                        <a:gs pos="100000">
                          <a:srgbClr val="9999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- 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effe"/>
                        </a:gs>
                        <a:gs pos="100000">
                          <a:srgbClr val="9999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/ 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effe"/>
                        </a:gs>
                        <a:gs pos="100000">
                          <a:srgbClr val="9999ff"/>
                        </a:gs>
                      </a:gsLst>
                      <a:lin ang="10800000"/>
                    </a:gra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ambildung und Auftakt-Worksho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effe"/>
                        </a:gs>
                        <a:gs pos="100000">
                          <a:srgbClr val="9999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effe"/>
                        </a:gs>
                        <a:gs pos="100000">
                          <a:srgbClr val="9999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/ 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effe"/>
                        </a:gs>
                        <a:gs pos="100000">
                          <a:srgbClr val="9999ff"/>
                        </a:gs>
                      </a:gsLst>
                      <a:lin ang="10800000"/>
                    </a:gra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-quo-Analyse (Individuell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effe"/>
                        </a:gs>
                        <a:gs pos="100000">
                          <a:srgbClr val="9999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/ opt. 4 - 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effe"/>
                        </a:gs>
                        <a:gs pos="100000">
                          <a:srgbClr val="9999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/ 1-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effe"/>
                        </a:gs>
                        <a:gs pos="100000">
                          <a:srgbClr val="9999ff"/>
                        </a:gs>
                      </a:gsLst>
                      <a:lin ang="10800000"/>
                    </a:gra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alyse- und Konsens-Worksho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effe"/>
                        </a:gs>
                        <a:gs pos="100000">
                          <a:srgbClr val="9999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- 6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effe"/>
                        </a:gs>
                        <a:gs pos="100000">
                          <a:srgbClr val="9999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/ 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effe"/>
                        </a:gs>
                        <a:gs pos="100000">
                          <a:srgbClr val="9999ff"/>
                        </a:gs>
                      </a:gsLst>
                      <a:lin ang="10800000"/>
                    </a:gra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tiale- und Maßnahmen-Worksho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effe"/>
                        </a:gs>
                        <a:gs pos="100000">
                          <a:srgbClr val="9999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- 6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effe"/>
                        </a:gs>
                        <a:gs pos="100000">
                          <a:srgbClr val="9999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/ 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effe"/>
                        </a:gs>
                        <a:gs pos="100000">
                          <a:srgbClr val="9999ff"/>
                        </a:gs>
                      </a:gsLst>
                      <a:lin ang="10800000"/>
                    </a:gra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msetzung der Maßnahmen und Controll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effe"/>
                        </a:gs>
                        <a:gs pos="100000">
                          <a:srgbClr val="9999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viduel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effe"/>
                        </a:gs>
                        <a:gs pos="100000">
                          <a:srgbClr val="9999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viduel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effe"/>
                        </a:gs>
                        <a:gs pos="100000">
                          <a:srgbClr val="9999ff"/>
                        </a:gs>
                      </a:gsLst>
                      <a:lin ang="10800000"/>
                    </a:gradFill>
                  </a:tcPr>
                </a:tc>
              </a:tr>
              <a:tr h="38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m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effe"/>
                        </a:gs>
                        <a:gs pos="100000">
                          <a:srgbClr val="9999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- 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effe"/>
                        </a:gs>
                        <a:gs pos="100000">
                          <a:srgbClr val="9999ff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/ 11 - 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feffe"/>
                        </a:gs>
                        <a:gs pos="100000">
                          <a:srgbClr val="9999ff"/>
                        </a:gs>
                      </a:gsLst>
                      <a:lin ang="10800000"/>
                    </a:gra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 Holger Rohn / DI Christopher Manstein: Workshopreihe "Nachhaltigkeits-Selbstbewertung Wien"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62000" y="1652760"/>
            <a:ext cx="5658120" cy="4595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762120" y="914400"/>
            <a:ext cx="8130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(Zukünftige) Anforderungen an Unternehm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 Holger Rohn / DI Christopher Manstein: Workshopreihe "Nachhaltigkeits-Selbstbewertung Wien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95280" y="1219320"/>
            <a:ext cx="7620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lversuch »Entwicklung und Erprobung eines Weiterbildungskonzeptes zu nachhaltigem Wirtschaften als Zukunftschance für das Handwerk«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fördert durch das Bundesinstitut für Berufsbildung mit Mitteln des Bundesministeriums für Bildung und Forschung im Rahmen des Modellversuchsschwerpunkt »Berufsbildung für eine nachhaltige Entwicklung«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ufzeit: 01.09.2004-31.08.200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57600" y="2946240"/>
            <a:ext cx="2743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sprechpartn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stdeutscher Handwerkskammertag e.V.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go Rauhut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211/3007-722</a:t>
            </a:r>
            <a:br>
              <a:rPr sz="1400"/>
            </a:b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1"/>
              </a:rPr>
              <a:t>ingo.rauhut@handwerk-nrw.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2"/>
              </a:rPr>
              <a:t>www.handwerk-nrw.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2946240"/>
            <a:ext cx="2286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sprechpartn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laus Novy Institut e.V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r. Herbert Klemisch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221/931207-15</a:t>
            </a:r>
            <a:br>
              <a:rPr sz="1400"/>
            </a:b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3"/>
              </a:rPr>
              <a:t>herbert.klemisch@kni.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4"/>
              </a:rPr>
              <a:t>www.kni.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00800" y="2946240"/>
            <a:ext cx="2743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sprechpartn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uppertal Institut für Klima, Umwelt, Energie GmbH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lger Rohn / Thomas Lemke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202/2492-245 /-179 </a:t>
            </a: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5"/>
              </a:rPr>
              <a:t>holger.rohn@wupperins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330099"/>
                </a:solidFill>
                <a:uFillTx/>
                <a:latin typeface="Arial"/>
                <a:hlinkClick r:id="rId6"/>
              </a:rPr>
              <a:t>www.wupperins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594360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bibb.de/nachhaltigkei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5334120" y="5165640"/>
            <a:ext cx="2438280" cy="9399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105520" y="6095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handwerk-agenda21plus.d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8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 Holger Rohn / DI Christopher Manstein: Workshopreihe "Nachhaltigkeits-Selbstbewertung Wien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43000" y="1946160"/>
            <a:ext cx="7696080" cy="42260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62120" y="914400"/>
            <a:ext cx="8130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Das Dreieck eines zukunftsfähigen Wirtschaftens </a:t>
            </a:r>
            <a:br>
              <a:rPr sz="2000"/>
            </a:b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in Unternehm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 Holger Rohn / DI Christopher Manstein: Workshopreihe "Nachhaltigkeits-Selbstbewertung Wien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905120" y="1447920"/>
          <a:ext cx="6172200" cy="463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447920"/>
                    <a:ext cx="6172200" cy="46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936720" y="914400"/>
            <a:ext cx="8130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99"/>
                </a:solidFill>
                <a:latin typeface="Arial"/>
              </a:rPr>
              <a:t>Die RADAR-Methodik des Excellence-Modells der EFQ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 Holger Rohn / DI Christopher Manstein: Workshopreihe "Nachhaltigkeits-Selbstbewertung Wien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66680" y="220968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bstbewertung ist ebenso wie Nachhaltiges Wirtschaften ein rech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eu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he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Unternehmen/Organisatione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bstbewertungsinstrumente für nachhaltiges Wirtschaften entstehen sei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nde der 90er Jah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bstbewertung zielt auf Erhebung d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tatus qu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kontinuierliche Verbesseru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Sie setzt somit an originären Unternehmensthemen an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12680" y="1066680"/>
            <a:ext cx="81313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tatus quo und Vorteile der Selbstbewertung in Bezug auf Nachhaltiges Wirtschaf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 Holger Rohn / DI Christopher Manstein: Workshopreihe "Nachhaltigkeits-Selbstbewertung Wien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066680" y="220968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bstbewertung ermöglicht Unternehmen/Organisationen, a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elevanten Unternehmensthem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 zu arbeiten u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etet somit gute Möglichkeiten, das Thema Nachhaltiges Wirtschaften im Unternehmen zu verankern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bstbewertungsinstrumente biet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nterschiedliche „Einstiegsnivea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 und Komplexität (INC vs. EFQM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12680" y="1066680"/>
            <a:ext cx="81313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tatus quo und Vorteile der Selbstbewertung in Bezug auf Nachhaltiges Wirtschaften (Fortsetzu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 Holger Rohn / DI Christopher Manstein: Workshopreihe "Nachhaltigkeits-Selbstbewertung Wien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981080"/>
            <a:ext cx="8572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ts val="1998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in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terne (Fremd-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wertung, sonder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ne (Selbst-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wertung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19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1998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logische Instrum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19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1998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frage über Fragebö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19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1998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meist subjektive Einschätzung der Situ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19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1998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ative Befragung, keine quantitative Befrag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19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75840" y="1127160"/>
            <a:ext cx="70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Merkmale von Selbstbewertungsinstrumenten (Auswah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 Holger Rohn / DI Christopher Manstein: Workshopreihe "Nachhaltigkeits-Selbstbewertung Wien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66680" y="1981080"/>
            <a:ext cx="8572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ts val="1998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1998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ine statistische Auswertu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19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1998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wertung der Ergebnisse durch  Prozessbeteiligte im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ternehmen (Geschäftsführer, Mitarbeiter im Unternehme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19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1998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e Moderation empfehlenswert - aber nicht notwendi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19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1998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gebnis als Profil der Stärken und Verbesserungspotenzi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19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1998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ßnahmenplanung durch die Beteilig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19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81240" y="1127160"/>
            <a:ext cx="786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Merkmale von Selbstbewertungsinstrumenten (Auswahl) (Fortsetzu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 Holger Rohn / DI Christopher Manstein: Workshopreihe "Nachhaltigkeits-Selbstbewertung Wien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066680" y="2057400"/>
            <a:ext cx="80773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nline-Selbstbewertungen,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.B.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C - Initialer Nachhaltigkeitscheck, MNC-Multikultureller Nachhaltigkeitsche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elbstbewertungen als Teil von Innovations- und Verbesserungsprozessen,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z.B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AFE - Sustainability Assessment For Enterprises, fNC-future Nachhaltigkeitscheck, </a:t>
            </a:r>
            <a:r>
              <a:rPr b="0" lang="de-DE" sz="1800" spc="-1" strike="noStrike">
                <a:solidFill>
                  <a:srgbClr val="0000ff"/>
                </a:solidFill>
                <a:latin typeface="Arial"/>
              </a:rPr>
              <a:t>BNC - Bochumer Nachhaltigkeitscheck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, FABRIKregio, ÖkoBusinessPlan Wien, KURSChe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elbstbewertungen als Teil komplexer Managementsysteme,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z.B.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FQM, be.st - benchmarking for sustainability, SusEx - Sustainable Excellence nach EFQ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91440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elbstbewertungsinstrumente für nachhaltiges Wirtschaf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 Holger Rohn / DI Christopher Manstein: Workshopreihe "Nachhaltigkeits-Selbstbewertung Wien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2T13:03:48Z</dcterms:created>
  <dc:creator>Holger Rohn</dc:creator>
  <dc:description/>
  <dc:language>en-US</dc:language>
  <cp:lastModifiedBy>Ingo Rauhut</cp:lastModifiedBy>
  <cp:lastPrinted>2006-08-22T18:20:07Z</cp:lastPrinted>
  <dcterms:modified xsi:type="dcterms:W3CDTF">2007-11-16T13:40:52Z</dcterms:modified>
  <cp:revision>305</cp:revision>
  <dc:subject/>
  <dc:title>B2-A1_Einführung Selbstbew_070502.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48150567</vt:r8>
  </property>
  <property fmtid="{D5CDD505-2E9C-101B-9397-08002B2CF9AE}" pid="3" name="_AuthorEmail">
    <vt:lpwstr>manstein@chello.at</vt:lpwstr>
  </property>
  <property fmtid="{D5CDD505-2E9C-101B-9397-08002B2CF9AE}" pid="4" name="_AuthorEmailDisplayName">
    <vt:lpwstr>Dipl. Ing. Christopher Manstein</vt:lpwstr>
  </property>
  <property fmtid="{D5CDD505-2E9C-101B-9397-08002B2CF9AE}" pid="5" name="_EmailSubject">
    <vt:lpwstr>folien donnerstag</vt:lpwstr>
  </property>
  <property fmtid="{D5CDD505-2E9C-101B-9397-08002B2CF9AE}" pid="6" name="_ReviewingToolsShownOnce">
    <vt:lpwstr/>
  </property>
</Properties>
</file>