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490-4BB9-4807-90B0-D064839C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0A47-31CC-403F-A153-CFF33DAB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D4DB-9402-4506-BDE5-27F91290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5E52-5B5A-41C7-A40A-7684F77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240-ADA0-4CDC-9285-AED79ADB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C8A-A2C4-4045-810A-966235CA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F1A4-3E44-40BF-8F32-4604F3E0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9A0-6B80-4B22-8DE4-7BB83F1B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10C-4AF4-4FB7-8F74-12C7A94A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3C5-3C74-4BEA-BD24-3F4E611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02D-AD1E-4A11-AAE2-FA0AC400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4961-D812-4E53-891A-1E071847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066680" y="6400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B1: Die Selbstbewertung – Ablauf im Betrieb (PPP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0866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0E24-3045-4B1F-AB94-8B47B50CEC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729080" cy="428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219320" y="152280"/>
            <a:ext cx="2057400" cy="7923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6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8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8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B03C-2C5B-4BB7-9C6F-D8C215EAF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76964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Selbstbewertung – Ablauf im Betrie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914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rober Ablauf im Unterneh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13640" y="1752480"/>
            <a:ext cx="1515960" cy="762120"/>
            <a:chOff x="7613640" y="1752480"/>
            <a:chExt cx="1515960" cy="762120"/>
          </a:xfrm>
        </p:grpSpPr>
        <p:sp>
          <p:nvSpPr>
            <p:cNvPr id="117" name=""/>
            <p:cNvSpPr/>
            <p:nvPr/>
          </p:nvSpPr>
          <p:spPr>
            <a:xfrm>
              <a:off x="7613640" y="1752480"/>
              <a:ext cx="304920" cy="7621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20000" y="191916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620120" y="3048120"/>
            <a:ext cx="1450440" cy="914040"/>
            <a:chOff x="7620120" y="3048120"/>
            <a:chExt cx="1450440" cy="914040"/>
          </a:xfrm>
        </p:grpSpPr>
        <p:sp>
          <p:nvSpPr>
            <p:cNvPr id="120" name=""/>
            <p:cNvSpPr/>
            <p:nvPr/>
          </p:nvSpPr>
          <p:spPr>
            <a:xfrm>
              <a:off x="7620120" y="3048120"/>
              <a:ext cx="303480" cy="91404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23760 h 914040"/>
                <a:gd name="textAreaBottom" fmla="*/ 89028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5040" y="32497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066680" y="1447920"/>
            <a:ext cx="739152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ilden Sie ein Team (wer soll beteiligt werden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reffen des Projektleiters mit dem Team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intern, ohne Berater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Ziel: Einführung in die Durchführung der Bestandsaufnah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edes Teammitglied führt die Status-quo-Bewertung individuell dur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tägiger Workshop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unter Moderation des Berat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alyse „Wo stehen wir aktuell?“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eststellung der konsensualen Bewertun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skussionsbedarf? Weitere Informationen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albtägiger Workshop </a:t>
            </a:r>
            <a:r>
              <a:rPr b="0" lang="de-DE" sz="1600" spc="-1" strike="noStrike">
                <a:solidFill>
                  <a:srgbClr val="4300ca"/>
                </a:solidFill>
                <a:latin typeface="Arial"/>
              </a:rPr>
              <a:t>(unter Moderation des Berate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ßnahmen für weitere Verbesserungen entwickel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ärung der offenen Bewertung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entifikation der Stärken und Verbesserungspotenzi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19836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aßnahmenplan und weitere Vorgehenswei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msetzung der Verbesserungs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: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fahrungsaustausch zu den Ergebnissen, Erfahrungen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ggf. bereits durchgeführten 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4191120"/>
            <a:ext cx="1450440" cy="1523520"/>
            <a:chOff x="7620120" y="4191120"/>
            <a:chExt cx="1450440" cy="1523520"/>
          </a:xfrm>
        </p:grpSpPr>
        <p:sp>
          <p:nvSpPr>
            <p:cNvPr id="124" name=""/>
            <p:cNvSpPr/>
            <p:nvPr/>
          </p:nvSpPr>
          <p:spPr>
            <a:xfrm>
              <a:off x="7620120" y="4191120"/>
              <a:ext cx="303480" cy="1523520"/>
            </a:xfrm>
            <a:custGeom>
              <a:avLst/>
              <a:gdLst>
                <a:gd name="textAreaLeft" fmla="*/ 0 w 303480"/>
                <a:gd name="textAreaRight" fmla="*/ 109440 w 303480"/>
                <a:gd name="textAreaTop" fmla="*/ 39600 h 1523520"/>
                <a:gd name="textAreaBottom" fmla="*/ 1483920 h 152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25040" y="468504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. Term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eambildung und Vorberei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1676520"/>
            <a:ext cx="708660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lden Sie ein Projektteam, mit dem Sie die Bestandsaufnahme/ Selbstbewertung  durchführen. Dieses Team kann aus einem kleinen Kreis von Führungskräften (Inhaber, Meister) oder einem existierenden Gremium bestehen. Einzelne MitarbeiterInnen können/sollten in das Team integriert oder bei Bedarf hinzugezogen werde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sollten zwischen drei und ca. acht Personen teilnehm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ieren Sie die Geschäftsführer und die betroffenen MitarbeiterInnen von Ihrem Vorhab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»Kick off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1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077920"/>
            <a:ext cx="815328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cc33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cc3300"/>
                </a:solidFill>
                <a:latin typeface="Arial"/>
              </a:rPr>
              <a:t>Intern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Kick-off-Meeting“ des Teams (ca. 1 - 1,5 h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hrung in die Bestandsaufnahme / Selbstbewe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d die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wertungsmethodik durch den Projektleiter des Unternehm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lärung offener Fra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Verteilung der Materialien zur Status-quo-Bewertung an die TeilnehmerIn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gf. Feedback und Ausblick auf den Bewertungs-Workshop (2. Termi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schließend: Ausfüllen der Bewertungsbögen durch die TeilnehmerInn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. 1 Woche vor dem 2. Termin: Rücksenden der ausgefüllten Bewertungsbög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3200" indent="-2160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s-Worksho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2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1676520"/>
            <a:ext cx="800100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btägiger, moderierter 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legen der konsensualen Bewertungen (in der Regel diejenigen, die weniger als 2 bis 3 »Noten« Abweichung enthalten) und Definition des Mittelwerts. Basis: individuelle Status-quo-Bewertungen durch die Teammitglie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ussion der nicht-konsensualen Bewertungen und Findung einer gemeinsamen Bewert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mittelung der Durchschnittswer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rkieren (falls erforderlich) derjenigen Aussagen/Bewertung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 denen noch weitere Informationen benötigt werd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tellung der Visualisieru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9960" indent="-212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edback und Ausblick auf Potenzial- und Maßnahmen-Workshop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3. Term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nwendung der Bestandsaufnahme/Selbstbewertung: 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otenzial- und Maßnahmen-Worksho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3. Termin)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1819440"/>
            <a:ext cx="7620120" cy="45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lbtägiger, moderierter 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Arial"/>
              </a:rPr>
              <a:t>ggf.</a:t>
            </a: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 Schließung von Daten- und Bewertungslück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inführung in die Potenzial- und Maßnahmenfindungsmethodi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meinsame Erhebung der Stärken und Verbesserungspotenziale aus d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Status-quo-Bewertu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iorisierung der Verbesserungspotenz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nsformation der Verbesserungspotenziale in Maßnah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ufstellen eines Maßnahmenpla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eedback und Ausblick auf den Reflexions-WS/Erfahrungsaustaus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herbert.klemisch@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holger.rohn@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</a:rPr>
              <a:t>www.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6-02-13T18:46:01Z</cp:lastPrinted>
  <dcterms:modified xsi:type="dcterms:W3CDTF">2007-11-16T13:47:40Z</dcterms:modified>
  <cp:revision>216</cp:revision>
  <dc:subject/>
  <dc:title>B2-B1_Ablauf Selbstbew_07050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8150567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folien donnerstag</vt:lpwstr>
  </property>
  <property fmtid="{D5CDD505-2E9C-101B-9397-08002B2CF9AE}" pid="6" name="_ReviewingToolsShownOnce">
    <vt:lpwstr/>
  </property>
</Properties>
</file>