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106-D447-4CBA-A108-4D10B02A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B2E-3037-4234-872F-215636BE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D54-57F4-4E55-B6C0-EE35838E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543-95B9-45DE-ABD9-42B7E358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A87-A94B-415B-A3E7-F103E937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FCE-477D-4306-B25B-DC18B0E9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C53-A13D-4636-B211-4A1E9D2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5CA-3625-45C3-B735-2624E259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20F-F9AB-4BE3-BEA2-9603CF39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DFD-8153-48C5-A9BA-9A14729E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724-3415-46BB-B58E-F7956F3D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55B-9B4D-4066-A943-A7C6B117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066680" y="6400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2-B1: Die Selbstbewertung – Ablauf im Betrieb (PPP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866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AB8C-CA84-43C0-86BE-DB680A1100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1729080" cy="428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905120" y="914400"/>
            <a:ext cx="5715000" cy="5433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219320" y="152280"/>
            <a:ext cx="2057400" cy="792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6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8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8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9C09-15FD-42DC-83C7-FBF661DB1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94920" y="1523520"/>
            <a:ext cx="76964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Selbstbewertung – Ablauf im Betri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75160" y="6238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21120" y="2982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9144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rober Ablauf im Unterneh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13640" y="1752480"/>
            <a:ext cx="1515960" cy="762120"/>
            <a:chOff x="7613640" y="1752480"/>
            <a:chExt cx="1515960" cy="762120"/>
          </a:xfrm>
        </p:grpSpPr>
        <p:sp>
          <p:nvSpPr>
            <p:cNvPr id="117" name=""/>
            <p:cNvSpPr/>
            <p:nvPr/>
          </p:nvSpPr>
          <p:spPr>
            <a:xfrm>
              <a:off x="7613640" y="175248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20000" y="191916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. Term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20120" y="3048120"/>
            <a:ext cx="1450440" cy="914040"/>
            <a:chOff x="7620120" y="3048120"/>
            <a:chExt cx="1450440" cy="914040"/>
          </a:xfrm>
        </p:grpSpPr>
        <p:sp>
          <p:nvSpPr>
            <p:cNvPr id="120" name=""/>
            <p:cNvSpPr/>
            <p:nvPr/>
          </p:nvSpPr>
          <p:spPr>
            <a:xfrm>
              <a:off x="7620120" y="3048120"/>
              <a:ext cx="303480" cy="914040"/>
            </a:xfrm>
            <a:custGeom>
              <a:avLst/>
              <a:gdLst>
                <a:gd name="textAreaLeft" fmla="*/ 0 w 303480"/>
                <a:gd name="textAreaRight" fmla="*/ 109440 w 303480"/>
                <a:gd name="textAreaTop" fmla="*/ 23760 h 914040"/>
                <a:gd name="textAreaBottom" fmla="*/ 89028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25040" y="32497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. Term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066680" y="1447920"/>
            <a:ext cx="73915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lden Sie ein Team (wer soll beteiligt werden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effen des Projektleiters mit dem Team </a:t>
            </a:r>
            <a:r>
              <a:rPr b="0" lang="de-DE" sz="1600" spc="-1" strike="noStrike">
                <a:solidFill>
                  <a:srgbClr val="4300ca"/>
                </a:solidFill>
                <a:latin typeface="Arial"/>
              </a:rPr>
              <a:t>(intern, ohne Berat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iel: Einführung in die Durchführung der Bestandsaufnah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Teammitglied führt die Status-quo-Bewertung individuell dur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btägiger Workshop </a:t>
            </a:r>
            <a:r>
              <a:rPr b="0" lang="de-DE" sz="1600" spc="-1" strike="noStrike">
                <a:solidFill>
                  <a:srgbClr val="4300ca"/>
                </a:solidFill>
                <a:latin typeface="Arial"/>
              </a:rPr>
              <a:t>(unter Moderation des Berate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„Wo stehen wir aktuell?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eststellung der konsensualen Bewertun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skussionsbedarf? Weitere Informationen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btägiger Workshop </a:t>
            </a:r>
            <a:r>
              <a:rPr b="0" lang="de-DE" sz="1600" spc="-1" strike="noStrike">
                <a:solidFill>
                  <a:srgbClr val="4300ca"/>
                </a:solidFill>
                <a:latin typeface="Arial"/>
              </a:rPr>
              <a:t>(unter Moderation des Berate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ßnahmen für weitere Verbesserungen entwickel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ärung der offenen Bewertun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entifikation der Stärken und Verbesserungspotenzi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ßnahmenplan und weitere Vorgehenswe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Verbesserungsmaßnah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ahrungsaustausch zu den Ergebnissen, Erfahrung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ggf. bereits durchgeführten Maßnah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4191120"/>
            <a:ext cx="1450440" cy="1523520"/>
            <a:chOff x="7620120" y="4191120"/>
            <a:chExt cx="1450440" cy="1523520"/>
          </a:xfrm>
        </p:grpSpPr>
        <p:sp>
          <p:nvSpPr>
            <p:cNvPr id="124" name=""/>
            <p:cNvSpPr/>
            <p:nvPr/>
          </p:nvSpPr>
          <p:spPr>
            <a:xfrm>
              <a:off x="7620120" y="4191120"/>
              <a:ext cx="303480" cy="1523520"/>
            </a:xfrm>
            <a:custGeom>
              <a:avLst/>
              <a:gdLst>
                <a:gd name="textAreaLeft" fmla="*/ 0 w 303480"/>
                <a:gd name="textAreaRight" fmla="*/ 109440 w 303480"/>
                <a:gd name="textAreaTop" fmla="*/ 39600 h 1523520"/>
                <a:gd name="textAreaBottom" fmla="*/ 1483920 h 152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25040" y="46850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. Term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eambildung und Vorberei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676520"/>
            <a:ext cx="708660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lden Sie ein Projektteam, mit dem Sie die Bestandsaufnahme/ Selbstbewertung  durchführen. Dieses Team kann aus einem kleinen Kreis von Führungskräften (Inhaber, Meister) oder einem existierenden Gremium bestehen. Einzelne MitarbeiterInnen können/sollten in das Team integriert oder bei Bedarf hinzugezogen werde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sollten zwischen drei und ca. acht Personen teilnehm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ieren Sie die Geschäftsführer und die betroffenen MitarbeiterInnen von Ihrem Vorhab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wendung der Bestandsaufnahme/Selbstbewertung: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»Kick off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1. Termi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077920"/>
            <a:ext cx="815328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cc33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cc3300"/>
                </a:solidFill>
                <a:latin typeface="Arial"/>
              </a:rPr>
              <a:t>Intern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Kick-off-Meeting“ des Teams (ca. 1 - 1,5 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hrung in die Bestandsaufnahme / Selbstbewert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ungsmethodik durch den Projektleiter des Unternehm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ärung offener Fra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erteilung der Materialien zur Status-quo-Bewertung an die TeilnehmerInn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gf. Feedback und Ausblick auf den Bewertungs-Workshop (2. Termi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: Ausfüllen der Bewertungsbögen durch die TeilnehmerInn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1 Woche vor dem 2. Termin: Rücksenden der ausgefüllten Bewertungsbög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wendung der Bestandsaufnahme/Selbstbewertung: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ungs-Worksho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2. Termi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676520"/>
            <a:ext cx="800100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lbtägiger, moderierter Works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stlegen der konsensualen Bewertungen (in der Regel diejenigen, die weniger als 2 bis 3 »Noten« Abweichung enthalten) und Definition des Mittelwerts. Basis: individuelle Status-quo-Bewertungen durch die Teammitglie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ussion der nicht-konsensualen Bewertungen und Findung einer gemeinsamen Bewer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mittelung der Durchschnittswer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ieren (falls erforderlich) derjenigen Aussagen/Bewertungen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 denen noch weitere Informationen benötigt wer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tellung der Visualisieru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edback und Ausblick auf Potenzial- und Maßnahmen-Workshop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3. Termi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wendung der Bestandsaufnahme/Selbstbewertung: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otenzial- und Maßnahmen-Worksho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3. Termi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819440"/>
            <a:ext cx="7620120" cy="45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lbtägiger, moderierter Works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ggf.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Schließung von Daten- und Bewertungslück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hrung in die Potenzial- und Maßnahmenfindungsmethodi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meinsame Erhebung der Stärken und Verbesserungspotenziale aus d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Status-quo-Bewert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orisierung der Verbesserungspoten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formation der Verbesserungspotenziale in Maßnah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stellen eines Maßnahmenpla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edback und Ausblick auf den Reflexions-WS/Erfahrungsaustaus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ingo.rauhut@handwerk-nrw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</a:rPr>
              <a:t>www.handwerk-nrw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</a:rPr>
              <a:t>herbert.klemisch@kni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</a:rPr>
              <a:t>www.kni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</a:rPr>
              <a:t>holger.rohn@wupperins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</a:rPr>
              <a:t>www.wupperins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3:03:48Z</dcterms:created>
  <dc:creator>Holger Rohn</dc:creator>
  <dc:description/>
  <dc:language>en-US</dc:language>
  <cp:lastModifiedBy>Ingo Rauhut</cp:lastModifiedBy>
  <cp:lastPrinted>2006-02-13T18:46:01Z</cp:lastPrinted>
  <dcterms:modified xsi:type="dcterms:W3CDTF">2007-11-16T13:47:40Z</dcterms:modified>
  <cp:revision>216</cp:revision>
  <dc:subject/>
  <dc:title>B2-B1_Ablauf Selbstbew_070502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48150567</vt:r8>
  </property>
  <property fmtid="{D5CDD505-2E9C-101B-9397-08002B2CF9AE}" pid="3" name="_AuthorEmail">
    <vt:lpwstr>manstein@chello.at</vt:lpwstr>
  </property>
  <property fmtid="{D5CDD505-2E9C-101B-9397-08002B2CF9AE}" pid="4" name="_AuthorEmailDisplayName">
    <vt:lpwstr>Dipl. Ing. Christopher Manstein</vt:lpwstr>
  </property>
  <property fmtid="{D5CDD505-2E9C-101B-9397-08002B2CF9AE}" pid="5" name="_EmailSubject">
    <vt:lpwstr>folien donnerstag</vt:lpwstr>
  </property>
  <property fmtid="{D5CDD505-2E9C-101B-9397-08002B2CF9AE}" pid="6" name="_ReviewingToolsShownOnce">
    <vt:lpwstr/>
  </property>
</Properties>
</file>