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6583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B31A6E-84D5-4627-B912-CE9673C1C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9FF36A-2C37-4F5E-81C8-30F7CB70E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7CB6F9-EB1E-4A58-96D6-A55D594A9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6D82EB-527B-42BA-BC58-94157940D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D97B4E-BE05-41EB-BDFB-6FDC8C6CD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08A6EC-4128-466E-99E8-0CD77D634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03571E-58F1-4E8C-B458-A0F8AC7D7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C1CE80-D8B3-4DEC-9A54-7A381C69D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EBD641-B6E7-478F-86CE-7D369D961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7FEB7F-EBBC-425E-883B-CE7FC7FA7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B97B35-5FE9-4BA7-8D5D-6C2490781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696A7A-6098-44B5-88C2-82EC48DCD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36800" cy="685944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286240"/>
            <a:ext cx="1066680" cy="809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>
          <a:xfrm>
            <a:off x="1218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>
          <a:xfrm>
            <a:off x="1066680" y="6400800"/>
            <a:ext cx="3353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2-C1: Die Selbstbewertung – der Bewertungsbogen (PPP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1457D-DA89-4144-9178-B941C915A865}" type="slidenum">
              <a:rPr b="0" lang="de-DE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4"/>
          <a:stretch/>
        </p:blipFill>
        <p:spPr>
          <a:xfrm>
            <a:off x="1905120" y="914400"/>
            <a:ext cx="5715000" cy="543384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5"/>
          <a:stretch/>
        </p:blipFill>
        <p:spPr>
          <a:xfrm>
            <a:off x="6948360" y="304920"/>
            <a:ext cx="1729080" cy="42840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6"/>
          <a:stretch/>
        </p:blipFill>
        <p:spPr>
          <a:xfrm>
            <a:off x="1143000" y="152280"/>
            <a:ext cx="2057400" cy="79236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3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4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5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6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E1075-ED9B-45CE-8275-E114055CDE7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mailto:ingo.rauhut@handwerk-nrw.de" TargetMode="External"/><Relationship Id="rId2" Type="http://schemas.openxmlformats.org/officeDocument/2006/relationships/hyperlink" Target="mailto:ingo.rauhut@handwerk-nrw.de" TargetMode="External"/><Relationship Id="rId3" Type="http://schemas.openxmlformats.org/officeDocument/2006/relationships/hyperlink" Target="mailto:ingo.rauhut@handwerk-nrw.de" TargetMode="External"/><Relationship Id="rId4" Type="http://schemas.openxmlformats.org/officeDocument/2006/relationships/hyperlink" Target="mailto:ingo.rauhut@handwerk-nrw.de" TargetMode="External"/><Relationship Id="rId5" Type="http://schemas.openxmlformats.org/officeDocument/2006/relationships/hyperlink" Target="mailto:ingo.rauhut@handwerk-nrw.de" TargetMode="External"/><Relationship Id="rId6" Type="http://schemas.openxmlformats.org/officeDocument/2006/relationships/hyperlink" Target="mailto:ingo.rauhut@handwerk-nrw.de" TargetMode="External"/><Relationship Id="rId7" Type="http://schemas.openxmlformats.org/officeDocument/2006/relationships/hyperlink" Target="mailto:ingo.rauhut@handwerk-nrw.de" TargetMode="External"/><Relationship Id="rId8" Type="http://schemas.openxmlformats.org/officeDocument/2006/relationships/hyperlink" Target="mailto:ingo.rauhut@handwerk-nrw.de" TargetMode="External"/><Relationship Id="rId9" Type="http://schemas.openxmlformats.org/officeDocument/2006/relationships/hyperlink" Target="http://www.handwerk-nrw.de/" TargetMode="External"/><Relationship Id="rId10" Type="http://schemas.openxmlformats.org/officeDocument/2006/relationships/hyperlink" Target="http://www.handwerk-nrw.de/" TargetMode="External"/><Relationship Id="rId11" Type="http://schemas.openxmlformats.org/officeDocument/2006/relationships/hyperlink" Target="http://www.handwerk-nrw.de/" TargetMode="External"/><Relationship Id="rId12" Type="http://schemas.openxmlformats.org/officeDocument/2006/relationships/hyperlink" Target="http://www.handwerk-nrw.de/" TargetMode="External"/><Relationship Id="rId13" Type="http://schemas.openxmlformats.org/officeDocument/2006/relationships/hyperlink" Target="http://www.handwerk-nrw.de/" TargetMode="External"/><Relationship Id="rId14" Type="http://schemas.openxmlformats.org/officeDocument/2006/relationships/hyperlink" Target="http://www.handwerk-nrw.de/" TargetMode="External"/><Relationship Id="rId15" Type="http://schemas.openxmlformats.org/officeDocument/2006/relationships/hyperlink" Target="mailto:herbert.klemisch@kni.de" TargetMode="External"/><Relationship Id="rId16" Type="http://schemas.openxmlformats.org/officeDocument/2006/relationships/hyperlink" Target="mailto:herbert.klemisch@kni.de" TargetMode="External"/><Relationship Id="rId17" Type="http://schemas.openxmlformats.org/officeDocument/2006/relationships/hyperlink" Target="mailto:herbert.klemisch@kni.de" TargetMode="External"/><Relationship Id="rId18" Type="http://schemas.openxmlformats.org/officeDocument/2006/relationships/hyperlink" Target="mailto:herbert.klemisch@kni.de" TargetMode="External"/><Relationship Id="rId19" Type="http://schemas.openxmlformats.org/officeDocument/2006/relationships/hyperlink" Target="mailto:herbert.klemisch@kni.de" TargetMode="External"/><Relationship Id="rId20" Type="http://schemas.openxmlformats.org/officeDocument/2006/relationships/hyperlink" Target="mailto:herbert.klemisch@kni.de" TargetMode="External"/><Relationship Id="rId21" Type="http://schemas.openxmlformats.org/officeDocument/2006/relationships/hyperlink" Target="http://www.kni.de/" TargetMode="External"/><Relationship Id="rId22" Type="http://schemas.openxmlformats.org/officeDocument/2006/relationships/hyperlink" Target="http://www.kni.de/" TargetMode="External"/><Relationship Id="rId23" Type="http://schemas.openxmlformats.org/officeDocument/2006/relationships/hyperlink" Target="http://www.kni.de/" TargetMode="External"/><Relationship Id="rId24" Type="http://schemas.openxmlformats.org/officeDocument/2006/relationships/hyperlink" Target="http://www.kni.de/" TargetMode="External"/><Relationship Id="rId25" Type="http://schemas.openxmlformats.org/officeDocument/2006/relationships/hyperlink" Target="mailto:holger.rohn@wupperinst.org" TargetMode="External"/><Relationship Id="rId26" Type="http://schemas.openxmlformats.org/officeDocument/2006/relationships/hyperlink" Target="mailto:holger.rohn@wupperinst.org" TargetMode="External"/><Relationship Id="rId27" Type="http://schemas.openxmlformats.org/officeDocument/2006/relationships/hyperlink" Target="mailto:holger.rohn@wupperinst.org" TargetMode="External"/><Relationship Id="rId28" Type="http://schemas.openxmlformats.org/officeDocument/2006/relationships/hyperlink" Target="mailto:holger.rohn@wupperinst.org" TargetMode="External"/><Relationship Id="rId29" Type="http://schemas.openxmlformats.org/officeDocument/2006/relationships/hyperlink" Target="mailto:holger.rohn@wupperinst.org" TargetMode="External"/><Relationship Id="rId30" Type="http://schemas.openxmlformats.org/officeDocument/2006/relationships/hyperlink" Target="mailto:holger.rohn@wupperinst.org" TargetMode="External"/><Relationship Id="rId31" Type="http://schemas.openxmlformats.org/officeDocument/2006/relationships/hyperlink" Target="mailto:holger.rohn@wupperinst.org" TargetMode="External"/><Relationship Id="rId32" Type="http://schemas.openxmlformats.org/officeDocument/2006/relationships/hyperlink" Target="http://www.wupperinst.org/" TargetMode="External"/><Relationship Id="rId33" Type="http://schemas.openxmlformats.org/officeDocument/2006/relationships/hyperlink" Target="http://www.wupperinst.org/" TargetMode="External"/><Relationship Id="rId34" Type="http://schemas.openxmlformats.org/officeDocument/2006/relationships/hyperlink" Target="http://www.wupperinst.org/" TargetMode="External"/><Relationship Id="rId35" Type="http://schemas.openxmlformats.org/officeDocument/2006/relationships/hyperlink" Target="http://www.wupperinst.org/" TargetMode="External"/><Relationship Id="rId36" Type="http://schemas.openxmlformats.org/officeDocument/2006/relationships/hyperlink" Target="http://www.wupperinst.org/" TargetMode="External"/><Relationship Id="rId37" Type="http://schemas.openxmlformats.org/officeDocument/2006/relationships/image" Target="../media/image5.png"/><Relationship Id="rId38" Type="http://schemas.openxmlformats.org/officeDocument/2006/relationships/image" Target="../media/image6.png"/><Relationship Id="rId3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1295280" y="1523520"/>
            <a:ext cx="7315200" cy="12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47000"/>
          </a:bodyPr>
          <a:p>
            <a:pPr marL="178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78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78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e Selbstbewertung – der Bewertungsbog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78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78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78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375160" y="623880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921120" y="298296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523880" y="5394240"/>
            <a:ext cx="3048120" cy="561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 Holger Rohn / DI Christopher Manstein: Workshopreihe "Nachhaltigkeits-Selbstbewertung Wien"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295280" y="4495680"/>
            <a:ext cx="2590920" cy="6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68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100" spc="-1" strike="noStrike">
                <a:solidFill>
                  <a:srgbClr val="003399"/>
                </a:solidFill>
                <a:latin typeface="Arial"/>
              </a:rPr>
              <a:t>10= trifft voll zu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8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100" spc="-1" strike="noStrike">
                <a:solidFill>
                  <a:srgbClr val="003399"/>
                </a:solidFill>
                <a:latin typeface="Arial"/>
              </a:rPr>
              <a:t>5= trifft halbwegs zu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8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100" spc="-1" strike="noStrike">
                <a:solidFill>
                  <a:srgbClr val="003399"/>
                </a:solidFill>
                <a:latin typeface="Arial"/>
              </a:rPr>
              <a:t>0= trifft überhaupt nicht zu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447920" y="4191120"/>
            <a:ext cx="1676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100" spc="-1" strike="noStrike">
                <a:solidFill>
                  <a:srgbClr val="003399"/>
                </a:solidFill>
                <a:latin typeface="Arial"/>
              </a:rPr>
              <a:t>Durchschnittswerte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371600" y="4267080"/>
            <a:ext cx="76320" cy="76320"/>
          </a:xfrm>
          <a:prstGeom prst="ellipse">
            <a:avLst/>
          </a:prstGeom>
          <a:solidFill>
            <a:srgbClr val="3399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666880" y="838080"/>
            <a:ext cx="4343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Ergebnisdarstellu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1146240" y="1863720"/>
            <a:ext cx="7845480" cy="39276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4873680" y="5867280"/>
            <a:ext cx="1596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elle: Wuppertal Institu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 Holger Rohn / DI Christopher Manstein: Workshopreihe "Nachhaltigkeits-Selbstbewertung Wien"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1295280" y="1219320"/>
            <a:ext cx="7620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dellversuch »Entwicklung und Erprobung eines Weiterbildungskonzeptes zu nachhaltigem Wirtschaften als Zukunftschance für das Handwerk«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fördert durch das Bundesinstitut für Berufsbildung mit Mitteln des Bundesministeriums für Bildung und Forschung im Rahmen des Modellversuchsschwerpunkt »Berufsbildung für eine nachhaltige Entwicklung«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ufzeit: 01.09.2004-31.08.2007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657600" y="2946240"/>
            <a:ext cx="274320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nsprechpartn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Westdeutscher Handwerkskammertag e.V. 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go Rauhut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0211/3007-722</a:t>
            </a:r>
            <a:br>
              <a:rPr sz="1400"/>
            </a:br>
            <a:r>
              <a:rPr b="0" lang="de-DE" sz="1400" spc="-1" strike="noStrike" u="sng">
                <a:solidFill>
                  <a:srgbClr val="330099"/>
                </a:solidFill>
                <a:uFillTx/>
                <a:latin typeface="Arial"/>
                <a:hlinkClick r:id="rId1"/>
              </a:rPr>
              <a:t>ingo</a:t>
            </a:r>
            <a:r>
              <a:rPr b="0" lang="de-DE" sz="1400" spc="-1" strike="noStrike" u="sng">
                <a:solidFill>
                  <a:srgbClr val="330099"/>
                </a:solidFill>
                <a:uFillTx/>
                <a:latin typeface="Arial"/>
                <a:hlinkClick r:id="rId2"/>
              </a:rPr>
              <a:t>.</a:t>
            </a:r>
            <a:r>
              <a:rPr b="0" lang="de-DE" sz="1400" spc="-1" strike="noStrike" u="sng">
                <a:solidFill>
                  <a:srgbClr val="330099"/>
                </a:solidFill>
                <a:uFillTx/>
                <a:latin typeface="Arial"/>
                <a:hlinkClick r:id="rId3"/>
              </a:rPr>
              <a:t>rauhut</a:t>
            </a:r>
            <a:r>
              <a:rPr b="0" lang="de-DE" sz="1400" spc="-1" strike="noStrike" u="sng">
                <a:solidFill>
                  <a:srgbClr val="330099"/>
                </a:solidFill>
                <a:uFillTx/>
                <a:latin typeface="Arial"/>
                <a:hlinkClick r:id="rId4"/>
              </a:rPr>
              <a:t>@</a:t>
            </a:r>
            <a:r>
              <a:rPr b="0" lang="de-DE" sz="1400" spc="-1" strike="noStrike" u="sng">
                <a:solidFill>
                  <a:srgbClr val="330099"/>
                </a:solidFill>
                <a:uFillTx/>
                <a:latin typeface="Arial"/>
                <a:hlinkClick r:id="rId5"/>
              </a:rPr>
              <a:t>handwerk</a:t>
            </a:r>
            <a:r>
              <a:rPr b="0" lang="de-DE" sz="1400" spc="-1" strike="noStrike" u="sng">
                <a:solidFill>
                  <a:srgbClr val="330099"/>
                </a:solidFill>
                <a:uFillTx/>
                <a:latin typeface="Arial"/>
                <a:hlinkClick r:id="rId6"/>
              </a:rPr>
              <a:t>-</a:t>
            </a:r>
            <a:r>
              <a:rPr b="0" lang="de-DE" sz="1400" spc="-1" strike="noStrike" u="sng">
                <a:solidFill>
                  <a:srgbClr val="330099"/>
                </a:solidFill>
                <a:uFillTx/>
                <a:latin typeface="Arial"/>
                <a:hlinkClick r:id="rId7"/>
              </a:rPr>
              <a:t>nrw</a:t>
            </a:r>
            <a:r>
              <a:rPr b="0" lang="de-DE" sz="1400" spc="-1" strike="noStrike" u="sng">
                <a:solidFill>
                  <a:srgbClr val="330099"/>
                </a:solidFill>
                <a:uFillTx/>
                <a:latin typeface="Arial"/>
                <a:hlinkClick r:id="rId8"/>
              </a:rPr>
              <a:t>.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 u="sng">
                <a:solidFill>
                  <a:srgbClr val="330099"/>
                </a:solidFill>
                <a:uFillTx/>
                <a:latin typeface="Arial"/>
                <a:hlinkClick r:id="rId9"/>
              </a:rPr>
              <a:t>www</a:t>
            </a:r>
            <a:r>
              <a:rPr b="0" lang="de-DE" sz="1400" spc="-1" strike="noStrike" u="sng">
                <a:solidFill>
                  <a:srgbClr val="330099"/>
                </a:solidFill>
                <a:uFillTx/>
                <a:latin typeface="Arial"/>
                <a:hlinkClick r:id="rId10"/>
              </a:rPr>
              <a:t>.</a:t>
            </a:r>
            <a:r>
              <a:rPr b="0" lang="de-DE" sz="1400" spc="-1" strike="noStrike" u="sng">
                <a:solidFill>
                  <a:srgbClr val="330099"/>
                </a:solidFill>
                <a:uFillTx/>
                <a:latin typeface="Arial"/>
                <a:hlinkClick r:id="rId11"/>
              </a:rPr>
              <a:t>handwerk</a:t>
            </a:r>
            <a:r>
              <a:rPr b="0" lang="de-DE" sz="1400" spc="-1" strike="noStrike" u="sng">
                <a:solidFill>
                  <a:srgbClr val="330099"/>
                </a:solidFill>
                <a:uFillTx/>
                <a:latin typeface="Arial"/>
                <a:hlinkClick r:id="rId12"/>
              </a:rPr>
              <a:t>-</a:t>
            </a:r>
            <a:r>
              <a:rPr b="0" lang="de-DE" sz="1400" spc="-1" strike="noStrike" u="sng">
                <a:solidFill>
                  <a:srgbClr val="330099"/>
                </a:solidFill>
                <a:uFillTx/>
                <a:latin typeface="Arial"/>
                <a:hlinkClick r:id="rId13"/>
              </a:rPr>
              <a:t>nrw</a:t>
            </a:r>
            <a:r>
              <a:rPr b="0" lang="de-DE" sz="1400" spc="-1" strike="noStrike" u="sng">
                <a:solidFill>
                  <a:srgbClr val="330099"/>
                </a:solidFill>
                <a:uFillTx/>
                <a:latin typeface="Arial"/>
                <a:hlinkClick r:id="rId14"/>
              </a:rPr>
              <a:t>.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295280" y="2946240"/>
            <a:ext cx="228600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nsprechpartn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Klaus Novy Institut e.V.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r. Herbert Klemisch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0221/931207-15</a:t>
            </a:r>
            <a:br>
              <a:rPr sz="1400"/>
            </a:br>
            <a:r>
              <a:rPr b="0" lang="de-DE" sz="1400" spc="-1" strike="noStrike" u="sng">
                <a:solidFill>
                  <a:srgbClr val="330099"/>
                </a:solidFill>
                <a:uFillTx/>
                <a:latin typeface="Arial"/>
                <a:hlinkClick r:id="rId15"/>
              </a:rPr>
              <a:t>herbert</a:t>
            </a:r>
            <a:r>
              <a:rPr b="0" lang="de-DE" sz="1400" spc="-1" strike="noStrike" u="sng">
                <a:solidFill>
                  <a:srgbClr val="330099"/>
                </a:solidFill>
                <a:uFillTx/>
                <a:latin typeface="Arial"/>
                <a:hlinkClick r:id="rId16"/>
              </a:rPr>
              <a:t>.</a:t>
            </a:r>
            <a:r>
              <a:rPr b="0" lang="de-DE" sz="1400" spc="-1" strike="noStrike" u="sng">
                <a:solidFill>
                  <a:srgbClr val="330099"/>
                </a:solidFill>
                <a:uFillTx/>
                <a:latin typeface="Arial"/>
                <a:hlinkClick r:id="rId17"/>
              </a:rPr>
              <a:t>klemisch</a:t>
            </a:r>
            <a:r>
              <a:rPr b="0" lang="de-DE" sz="1400" spc="-1" strike="noStrike" u="sng">
                <a:solidFill>
                  <a:srgbClr val="330099"/>
                </a:solidFill>
                <a:uFillTx/>
                <a:latin typeface="Arial"/>
                <a:hlinkClick r:id="rId18"/>
              </a:rPr>
              <a:t>@</a:t>
            </a:r>
            <a:r>
              <a:rPr b="0" lang="de-DE" sz="1400" spc="-1" strike="noStrike" u="sng">
                <a:solidFill>
                  <a:srgbClr val="330099"/>
                </a:solidFill>
                <a:uFillTx/>
                <a:latin typeface="Arial"/>
                <a:hlinkClick r:id="rId19"/>
              </a:rPr>
              <a:t>kni</a:t>
            </a:r>
            <a:r>
              <a:rPr b="0" lang="de-DE" sz="1400" spc="-1" strike="noStrike" u="sng">
                <a:solidFill>
                  <a:srgbClr val="330099"/>
                </a:solidFill>
                <a:uFillTx/>
                <a:latin typeface="Arial"/>
                <a:hlinkClick r:id="rId20"/>
              </a:rPr>
              <a:t>.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 u="sng">
                <a:solidFill>
                  <a:srgbClr val="330099"/>
                </a:solidFill>
                <a:uFillTx/>
                <a:latin typeface="Arial"/>
                <a:hlinkClick r:id="rId21"/>
              </a:rPr>
              <a:t>www</a:t>
            </a:r>
            <a:r>
              <a:rPr b="0" lang="de-DE" sz="1400" spc="-1" strike="noStrike" u="sng">
                <a:solidFill>
                  <a:srgbClr val="330099"/>
                </a:solidFill>
                <a:uFillTx/>
                <a:latin typeface="Arial"/>
                <a:hlinkClick r:id="rId22"/>
              </a:rPr>
              <a:t>.</a:t>
            </a:r>
            <a:r>
              <a:rPr b="0" lang="de-DE" sz="1400" spc="-1" strike="noStrike" u="sng">
                <a:solidFill>
                  <a:srgbClr val="330099"/>
                </a:solidFill>
                <a:uFillTx/>
                <a:latin typeface="Arial"/>
                <a:hlinkClick r:id="rId23"/>
              </a:rPr>
              <a:t>kni</a:t>
            </a:r>
            <a:r>
              <a:rPr b="0" lang="de-DE" sz="1400" spc="-1" strike="noStrike" u="sng">
                <a:solidFill>
                  <a:srgbClr val="330099"/>
                </a:solidFill>
                <a:uFillTx/>
                <a:latin typeface="Arial"/>
                <a:hlinkClick r:id="rId24"/>
              </a:rPr>
              <a:t>.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400800" y="2946240"/>
            <a:ext cx="274320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nsprechpartn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Wuppertal Institut für Klima, Umwelt, Energie GmbH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olger Rohn / Thomas Lemken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0202/2492-245 /-179 </a:t>
            </a:r>
            <a:r>
              <a:rPr b="0" lang="de-DE" sz="1400" spc="-1" strike="noStrike" u="sng">
                <a:solidFill>
                  <a:srgbClr val="330099"/>
                </a:solidFill>
                <a:uFillTx/>
                <a:latin typeface="Arial"/>
                <a:hlinkClick r:id="rId25"/>
              </a:rPr>
              <a:t>holger</a:t>
            </a:r>
            <a:r>
              <a:rPr b="0" lang="de-DE" sz="1400" spc="-1" strike="noStrike" u="sng">
                <a:solidFill>
                  <a:srgbClr val="330099"/>
                </a:solidFill>
                <a:uFillTx/>
                <a:latin typeface="Arial"/>
                <a:hlinkClick r:id="rId26"/>
              </a:rPr>
              <a:t>.</a:t>
            </a:r>
            <a:r>
              <a:rPr b="0" lang="de-DE" sz="1400" spc="-1" strike="noStrike" u="sng">
                <a:solidFill>
                  <a:srgbClr val="330099"/>
                </a:solidFill>
                <a:uFillTx/>
                <a:latin typeface="Arial"/>
                <a:hlinkClick r:id="rId27"/>
              </a:rPr>
              <a:t>rohn</a:t>
            </a:r>
            <a:r>
              <a:rPr b="0" lang="de-DE" sz="1400" spc="-1" strike="noStrike" u="sng">
                <a:solidFill>
                  <a:srgbClr val="330099"/>
                </a:solidFill>
                <a:uFillTx/>
                <a:latin typeface="Arial"/>
                <a:hlinkClick r:id="rId28"/>
              </a:rPr>
              <a:t>@</a:t>
            </a:r>
            <a:r>
              <a:rPr b="0" lang="de-DE" sz="1400" spc="-1" strike="noStrike" u="sng">
                <a:solidFill>
                  <a:srgbClr val="330099"/>
                </a:solidFill>
                <a:uFillTx/>
                <a:latin typeface="Arial"/>
                <a:hlinkClick r:id="rId29"/>
              </a:rPr>
              <a:t>wupperinst</a:t>
            </a:r>
            <a:r>
              <a:rPr b="0" lang="de-DE" sz="1400" spc="-1" strike="noStrike" u="sng">
                <a:solidFill>
                  <a:srgbClr val="330099"/>
                </a:solidFill>
                <a:uFillTx/>
                <a:latin typeface="Arial"/>
                <a:hlinkClick r:id="rId30"/>
              </a:rPr>
              <a:t>.</a:t>
            </a:r>
            <a:r>
              <a:rPr b="0" lang="de-DE" sz="1400" spc="-1" strike="noStrike" u="sng">
                <a:solidFill>
                  <a:srgbClr val="330099"/>
                </a:solidFill>
                <a:uFillTx/>
                <a:latin typeface="Arial"/>
                <a:hlinkClick r:id="rId31"/>
              </a:rPr>
              <a:t>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 u="sng">
                <a:solidFill>
                  <a:srgbClr val="330099"/>
                </a:solidFill>
                <a:uFillTx/>
                <a:latin typeface="Arial"/>
                <a:hlinkClick r:id="rId32"/>
              </a:rPr>
              <a:t>www</a:t>
            </a:r>
            <a:r>
              <a:rPr b="0" lang="de-DE" sz="1400" spc="-1" strike="noStrike" u="sng">
                <a:solidFill>
                  <a:srgbClr val="330099"/>
                </a:solidFill>
                <a:uFillTx/>
                <a:latin typeface="Arial"/>
                <a:hlinkClick r:id="rId33"/>
              </a:rPr>
              <a:t>.</a:t>
            </a:r>
            <a:r>
              <a:rPr b="0" lang="de-DE" sz="1400" spc="-1" strike="noStrike" u="sng">
                <a:solidFill>
                  <a:srgbClr val="330099"/>
                </a:solidFill>
                <a:uFillTx/>
                <a:latin typeface="Arial"/>
                <a:hlinkClick r:id="rId34"/>
              </a:rPr>
              <a:t>wupperinst</a:t>
            </a:r>
            <a:r>
              <a:rPr b="0" lang="de-DE" sz="1400" spc="-1" strike="noStrike" u="sng">
                <a:solidFill>
                  <a:srgbClr val="330099"/>
                </a:solidFill>
                <a:uFillTx/>
                <a:latin typeface="Arial"/>
                <a:hlinkClick r:id="rId35"/>
              </a:rPr>
              <a:t>.</a:t>
            </a:r>
            <a:r>
              <a:rPr b="0" lang="de-DE" sz="1400" spc="-1" strike="noStrike" u="sng">
                <a:solidFill>
                  <a:srgbClr val="330099"/>
                </a:solidFill>
                <a:uFillTx/>
                <a:latin typeface="Arial"/>
                <a:hlinkClick r:id="rId36"/>
              </a:rPr>
              <a:t>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52480" y="5943600"/>
            <a:ext cx="266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www.bibb.de/nachhaltigkei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37"/>
          <a:stretch/>
        </p:blipFill>
        <p:spPr>
          <a:xfrm>
            <a:off x="5334120" y="5165640"/>
            <a:ext cx="2438280" cy="93996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5105520" y="6095880"/>
            <a:ext cx="2819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www.handwerk-agenda21plus.d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38"/>
          <a:stretch/>
        </p:blipFill>
        <p:spPr>
          <a:xfrm>
            <a:off x="1523880" y="5394240"/>
            <a:ext cx="3048120" cy="561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 Holger Rohn / DI Christopher Manstein: Workshopreihe "Nachhaltigkeits-Selbstbewertung Wien"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320" y="685800"/>
            <a:ext cx="7696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10 Themen der Bestandsaufnahme*</a:t>
            </a:r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023840" y="1611360"/>
            <a:ext cx="6748560" cy="455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1.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Kunden/-innen, Produkte und Dienstleistung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2. Person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3. Aus- und Weiterbildu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4. Leitbild und Strategi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5. Organisation und Führu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6. Produktion und (Dienst-)Leistungserstellu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7. Kooperation und Innov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8. Finanzen und Rechtssicherhei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9. Regionales Umfeld des Unternehme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10. Internationale Märkte/ Globalisieru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* Basis BNC-Bochumer Nachhaltigkeits-Check / Nachhaltigkeits-Selbstbewertung Wien 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(Trifolium – Beratungsgesellschaft mbH)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 Holger Rohn / DI Christopher Manstein: Workshopreihe "Nachhaltigkeits-Selbstbewertung Wien"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26920" y="609120"/>
            <a:ext cx="763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Bewertungsmethodik</a:t>
            </a:r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066680" y="1447920"/>
            <a:ext cx="7620120" cy="55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90440" indent="-190440">
              <a:lnSpc>
                <a:spcPct val="13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wertung der Bedeutung/Relevanz der Aussage für das eigene Unternehm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90440" indent="-190440">
              <a:lnSpc>
                <a:spcPct val="13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wertung der Aussagen mittels 3-stufigem Verfahr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) Bewertung der Vorgehensweis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) Bewertung der Umsetzu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) Bewertung des Messens, Überprüfens, Verbesser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90440" indent="-190440"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&gt; je Aussage 3 Bewertungskategori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90440" indent="-190440">
              <a:lnSpc>
                <a:spcPct val="13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90440" indent="-190440"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 Holger Rohn / DI Christopher Manstein: Workshopreihe "Nachhaltigkeits-Selbstbewertung Wien"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55520" y="609120"/>
            <a:ext cx="763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Aussage – Antworten – Begründung/Nachweise</a:t>
            </a:r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219320" y="1523880"/>
            <a:ext cx="8229600" cy="473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0000ff"/>
                </a:solidFill>
                <a:uFillTx/>
                <a:latin typeface="Arial"/>
              </a:rPr>
              <a:t>Aussage: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Unser Unternehmen ergreift erfolgreich Maßnahmen zur Senkung der Produktionskosten.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0000ff"/>
                </a:solidFill>
                <a:uFillTx/>
                <a:latin typeface="Arial"/>
              </a:rPr>
              <a:t>Antworten: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.) Zur Aussage liegt eine planvolle,  systematische Vorgehensweise vor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b.)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ie Vorgehensweise ist entsprechend umgesetz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.) Die Vorgehensweise und die Umsetzung werden gemessen/  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  bewertet und ggf. verbesser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0000ff"/>
                </a:solidFill>
                <a:uFillTx/>
                <a:latin typeface="Arial"/>
              </a:rPr>
              <a:t>Begründung/Nachweise: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zu jeder Aussag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 Holger Rohn / DI Christopher Manstein: Workshopreihe "Nachhaltigkeits-Selbstbewertung Wien"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55520" y="609120"/>
            <a:ext cx="763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Aussage – Antworten – Begründung/Nachweise</a:t>
            </a:r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143000" y="1752480"/>
            <a:ext cx="7772400" cy="35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90440" indent="-190440"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Begründung/Nachweise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90440" indent="-190440">
              <a:lnSpc>
                <a:spcPct val="130000"/>
              </a:lnSpc>
              <a:spcBef>
                <a:spcPts val="125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e Bedeutung / Relevanz der Aussage wird begründe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90440" indent="-190440">
              <a:lnSpc>
                <a:spcPct val="130000"/>
              </a:lnSpc>
              <a:spcBef>
                <a:spcPts val="125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u jeder Bewertung einer Aussage sollen Begründungen/Nachweise angegeben werden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90440" indent="-190440">
              <a:lnSpc>
                <a:spcPct val="130000"/>
              </a:lnSpc>
              <a:spcBef>
                <a:spcPts val="125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iel ist das Management mittels Zahlen, Daten, Fakten!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90440" indent="-190440">
              <a:lnSpc>
                <a:spcPct val="130000"/>
              </a:lnSpc>
              <a:spcBef>
                <a:spcPts val="125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mit soll eine rein subjektive Einschätzung vermieden werden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 Holger Rohn / DI Christopher Manstein: Workshopreihe "Nachhaltigkeits-Selbstbewertung Wien"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3520" y="981000"/>
            <a:ext cx="72388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Bewertung</a:t>
            </a:r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143000" y="1676520"/>
            <a:ext cx="7848720" cy="452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ie Bewertung erfolgt in vier Schritten auf einer Skala von 10 bis 0: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1. Bedeutung / Relevanz der Aussage für das Unternehm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ff"/>
                </a:solidFill>
                <a:latin typeface="Arial"/>
              </a:rPr>
              <a:t>relevant --- nicht releva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2. Zur Aussage liegt eine planvolle, systematische Vorgehensweise vor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0" lang="de-DE" sz="2000" spc="-1" strike="noStrike">
                <a:solidFill>
                  <a:srgbClr val="0000ff"/>
                </a:solidFill>
                <a:latin typeface="Arial"/>
              </a:rPr>
              <a:t>trifft voll zu --- trifft überhaupt nicht z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3.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ie Vorgehensweise ist entsprechend umgesetzt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0" lang="de-DE" sz="2000" spc="-1" strike="noStrike">
                <a:solidFill>
                  <a:srgbClr val="0000ff"/>
                </a:solidFill>
                <a:latin typeface="Arial"/>
              </a:rPr>
              <a:t>zu 100% umgesetzt --- zu 0% umgesetz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4. Die Vorgehensweise und die Umsetzung werden gemessen/   bewertet und ggf. verbessert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0" lang="de-DE" sz="2000" spc="-1" strike="noStrike">
                <a:solidFill>
                  <a:srgbClr val="0000ff"/>
                </a:solidFill>
                <a:latin typeface="Arial"/>
              </a:rPr>
              <a:t>trifft voll zu --- trifft überhaupt nicht z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95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 Holger Rohn / DI Christopher Manstein: Workshopreihe "Nachhaltigkeits-Selbstbewertung Wien"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Gewichtung der Bewertung</a:t>
            </a:r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219320" y="1987560"/>
            <a:ext cx="7696080" cy="40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ie Gewichtung in der Gesamtbewertung in den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3 Bewertungskategorien: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1. Zur Aussage liegt eine planvolle, systematische Vorgehensweise vor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80000"/>
              </a:lnSpc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2.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ie Vorgehensweise ist entsprechend umgesetz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ff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3. Die Vorgehensweise und die Umsetzung werden gemessen / bewertet und ggf. verbesser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ff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066680" y="350532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1/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066680" y="4419720"/>
            <a:ext cx="16765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1/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143000" y="5791320"/>
            <a:ext cx="152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1/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 Holger Rohn / DI Christopher Manstein: Workshopreihe "Nachhaltigkeits-Selbstbewertung Wien"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066680" y="762120"/>
            <a:ext cx="79250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Integration in einen Bewertungsbogen (1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473880" y="6384960"/>
            <a:ext cx="1596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elle: Wuppertal Institu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2008080" y="1316160"/>
            <a:ext cx="6002280" cy="4986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 Holger Rohn / DI Christopher Manstein: Workshopreihe "Nachhaltigkeits-Selbstbewertung Wien"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685800" y="762120"/>
            <a:ext cx="79246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Integration in einen Bewertungsbogen (2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788080" y="6384960"/>
            <a:ext cx="1596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elle: Wuppertal Institu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720800" y="1341360"/>
            <a:ext cx="5826240" cy="4994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 Holger Rohn / DI Christopher Manstein: Workshopreihe "Nachhaltigkeits-Selbstbewertung Wien"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02T13:03:48Z</dcterms:created>
  <dc:creator>Holger Rohn</dc:creator>
  <dc:description/>
  <dc:language>en-US</dc:language>
  <cp:lastModifiedBy>Ingo Rauhut</cp:lastModifiedBy>
  <cp:lastPrinted>2007-05-10T15:21:30Z</cp:lastPrinted>
  <dcterms:modified xsi:type="dcterms:W3CDTF">2007-11-16T13:52:32Z</dcterms:modified>
  <cp:revision>286</cp:revision>
  <dc:subject/>
  <dc:title>B2-C1_Bewertungsbogen_070502.ppt</dc:title>
</cp:coreProperties>
</file>