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47AAE-D51A-4C8B-8D6A-93F5884B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438CD-A0DC-4CF4-B335-2A23B0F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7314-D474-4A07-94D5-6D76CE11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4B455-C920-4FE5-B844-26A18C5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8C3E-0703-40CE-95DA-7F5C535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7F8F1-CAFD-4905-BB40-C3F1EE73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888E2-4790-468D-A93F-F5716C2C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D58AA-AEB6-4A58-AE92-226AE7C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7A1B8-D0AA-4C80-BBBC-D7AD1225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7C017-0779-44EE-BE66-2A0BEB43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E6042-0146-4C3F-8C2B-F1D0256D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556E5-2623-4374-9F99-D4EC88C6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066680" y="64008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2-C1: Die Selbstbewertung – der Bewertungsbogen (PP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A90C-A3A0-4851-A51B-D5ABBFE9CE68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948360" y="304920"/>
            <a:ext cx="172908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1143000" y="152280"/>
            <a:ext cx="205740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EA1E-09DB-4C57-B3E8-2138DFFAF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Selbstbewertung – der Bewertungsb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4495680"/>
            <a:ext cx="259092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10= trifft voll z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5= trifft halbwegs z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0= trifft überhaupt nicht z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191120"/>
            <a:ext cx="167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Durchschnittswer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8380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rgebnisda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6240" y="1863720"/>
            <a:ext cx="7845480" cy="392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73680" y="5867280"/>
            <a:ext cx="159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Wuppertal Instit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0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4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1"/>
              </a:rPr>
              <a:t>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6"/>
              </a:rPr>
              <a:t>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0 Themen der Bestandsaufnahme*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23840" y="1611360"/>
            <a:ext cx="67485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/-innen, Produkte und Dienstleis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- und Weiterbild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Leitbild und Strate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Organisation und Füh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Produktion und (Dienst-)Leistungser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Kooperation und Inno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. Finanzen und Rechtssicherh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. Regionales Umfeld des Unternehm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 Internationale Märkte/ Globalisie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Basis BNC-Bochumer Nachhaltigkeits-Check / Nachhaltigkeits-Selbstbewertung Wi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Trifolium – Beratungsgesellschaft mbH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smethodik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447920"/>
            <a:ext cx="76201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rtung der Bedeutung/Relevanz der Aussage für das eigene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rtung der Aussagen mittels 3-stufigem Verfah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Bewertung der 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Bewertung der Umsetz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Bewertung des Messens, Überprüfens, Verbess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je Aussage 3 Bewertungskatego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523880"/>
            <a:ext cx="822960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</a:rPr>
              <a:t>Aussag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ser Unternehmen ergreift erfolgreich Maßnahmen zur Senkung der Produktionskosten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</a:rPr>
              <a:t>Antwort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.) Zur Aussage liegt eine planvolle,  systematische Vorgehensweise vo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.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.) Die Vorgehensweise und die Umsetzung werden gemessen/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jeder Au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752480"/>
            <a:ext cx="77724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deutung / Relevanz der Aussage wird begrün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jeder Bewertung einer Aussage sollen Begründungen/Nachweise angegeben we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l ist das Management mittels Zahlen, Daten, Fakten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it soll eine rein subjektive Einschätzung vermieden werd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8100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676520"/>
            <a:ext cx="7848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wertung erfolgt in vier Schritten auf einer Skala von 10 bis 0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Bedeutung / Relevanz der Aussage für das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relevant --- nicht relev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Zur Aussage liegt eine planvolle, systematische Vorgehensweise v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zu 100% umgesetzt --- zu 0% umgesetz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ie Vorgehensweise und die Umsetzung werden gemessen/   bewertet und ggf. verbesse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wichtung der 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987560"/>
            <a:ext cx="7696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wichtung in der Gesamtbewertung in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 Bewertungskategorien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Zur Aussage liegt eine planvolle, systematische Vorgehensweise v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Die Vorgehensweise und die Umsetzung werden gemessen / 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419720"/>
            <a:ext cx="167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791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7621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ion in einen Bewertungsbogen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3880" y="6384960"/>
            <a:ext cx="159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Wuppertal Instit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08080" y="1316160"/>
            <a:ext cx="6002280" cy="49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762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ion in einen Bewertungsbogen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88080" y="6384960"/>
            <a:ext cx="159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Wuppertal Instit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20800" y="1341360"/>
            <a:ext cx="5826240" cy="49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3:03:48Z</dcterms:created>
  <dc:creator>Holger Rohn</dc:creator>
  <dc:description/>
  <dc:language>en-US</dc:language>
  <cp:lastModifiedBy>Ingo Rauhut</cp:lastModifiedBy>
  <cp:lastPrinted>2007-05-10T15:21:30Z</cp:lastPrinted>
  <dcterms:modified xsi:type="dcterms:W3CDTF">2007-11-16T13:52:32Z</dcterms:modified>
  <cp:revision>286</cp:revision>
  <dc:subject/>
  <dc:title>B2-C1_Bewertungsbogen_070502.ppt</dc:title>
</cp:coreProperties>
</file>