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10234613" cy="14662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368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827360" y="914400"/>
            <a:ext cx="5945040" cy="56530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5286240"/>
            <a:ext cx="1066680" cy="809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2920" y="65991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S4-A1: PowerPoint-Präsentation </a:t>
            </a:r>
            <a:r>
              <a:rPr b="0" lang="en-US" sz="800" spc="-1" strike="noStrike">
                <a:solidFill>
                  <a:srgbClr val="808080"/>
                </a:solidFill>
                <a:latin typeface="Verdana"/>
              </a:rPr>
              <a:t>»Marketing-Ziele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23280" y="6643800"/>
            <a:ext cx="720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Verdana"/>
              </a:rPr>
              <a:t>Folie </a:t>
            </a:r>
            <a:fld id="{A5AE886C-040A-4682-9CB8-9197353F0458}" type="slidenum">
              <a:rPr b="0" lang="de-DE" sz="8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4068720" y="260280"/>
            <a:ext cx="2158920" cy="5176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1116000" y="333360"/>
            <a:ext cx="2532240" cy="45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7020000" y="260280"/>
            <a:ext cx="1368360" cy="525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ngo.rauhut@handwerk-nrw.de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2924280"/>
            <a:ext cx="73911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Verdana"/>
              </a:rPr>
              <a:t>MARKETING-ZI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1267920"/>
            <a:ext cx="7777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>
                <a:solidFill>
                  <a:srgbClr val="000000"/>
                </a:solidFill>
                <a:latin typeface="Verdana"/>
              </a:rPr>
              <a:t>Konzeptionelles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2349000"/>
            <a:ext cx="6840720" cy="2016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Schritt 1: Wo stehen w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Analyse der Ist-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4581360"/>
            <a:ext cx="749016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4240" indent="-12542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Mittel: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Bestandsaufnahme durch z.B. Selbstbewertung und Stärken-Schwächen-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125360"/>
            <a:ext cx="6840720" cy="2016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Schritt 2: Wo wollen wir hi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Bestimmung von Marketing-Zi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5840" y="3500280"/>
            <a:ext cx="7489800" cy="1572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Kurzfristig: 1-3 Ja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Mittelfristig: 4-5 Ja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23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Langfristig: 6-10 Jah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Kurzfristige</a:t>
            </a: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Ziele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6913440" cy="25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1-3 Jah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Eher ökonomisch orienti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Absatz, Umsatz, Gewinn, Marktante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Kurzfristige</a:t>
            </a: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Ziele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32000" y="2205000"/>
            <a:ext cx="7632720" cy="3240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»Wir wollen unseren Absatz, Umsatz, Gewinn bis 200x um xy Prozent steigern.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»Wir wollen mit unserem Angebot bis 200x einen Marktanteil von xy % Prozent erzielen.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Mittel- und langfristige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Ziele (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19280" y="2421000"/>
            <a:ext cx="6985080" cy="331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4-5 Jah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Zielen eher auf Kunden/-innen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Unternehmensimage, Bekanntheitsgrad, Kundenzufriedenhei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76360" y="2133360"/>
            <a:ext cx="7199280" cy="3816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3600" indent="-18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»Wir wollen, dass Kunden/-innen und Konkurrenten/-innen unser Unternehmen bis 200x mit einem umweltfreundlichen Image verbinden.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»Wir wollen den Bekanntheitsgrade unseres Unternehmens in 200x um xy Prozent erhöhen.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 indent="-18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»Wir wollen die Zufriedenheit unserer Kunden/-innen bis 200x um xy Prozent erhöhen.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197000"/>
            <a:ext cx="7042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Mittel- und langfristige</a:t>
            </a:r>
            <a:r>
              <a:rPr b="1" i="1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800" spc="-1" strike="noStrike">
                <a:solidFill>
                  <a:srgbClr val="000000"/>
                </a:solidFill>
                <a:latin typeface="Verdana"/>
              </a:rPr>
              <a:t>Ziele (I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Verdana"/>
              </a:rPr>
              <a:t>Was bei der Zielformulierung zu beachten is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31640" y="2133720"/>
            <a:ext cx="7507080" cy="3962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äzisierung hinsichtlich ihres Inhaltes (Was soll erreicht werden?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äzisierung hinsichtlich ihres angestrebten Ausmaßes (Wieviel soll erreicht werden?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äzisierung hinsichtlich ihres Zeithorizontes (Wann soll das Ziel erreicht werden?) sow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Verdana"/>
              </a:rPr>
              <a:t>Präzisierung hinsichtlich ihres Geltungsbereichs (Für welchen Bereich (Geschäftsfeld/Region etc.) soll das Ziel/die Ziele gelten?).</a:t>
            </a:r>
            <a:r>
              <a:rPr b="1" i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95280" y="1219320"/>
            <a:ext cx="762012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odellversuch »Entwicklung und Erprobung eines Weiterbildungskonzeptes zu nachhaltigem Wirtschaften als Zukunftschance für das Handwerk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Gefördert durch das Bundesinstitut für Berufsbildung mit Mitteln des Bundesministeriums für Bildung und Forschung im Rahmen des Modellversuchsschwerpunkt »Berufsbildung für eine nachhaltige Entwicklung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Laufzeit: 01.09.2004-31.08.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3032280"/>
            <a:ext cx="221004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stdeutscher Handwerkskammertag e.V.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Ingo Rauhu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11/3007-722</a:t>
            </a:r>
            <a:br>
              <a:rPr sz="1000"/>
            </a:br>
            <a:r>
              <a:rPr b="0" lang="de-DE" sz="1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ingo.rauhut@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nrw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3048120"/>
            <a:ext cx="1904760" cy="13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Klaus Novy Institut e.V.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r. Herbert Klemisc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21/931207-15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erbert.klemisch@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kni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592776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bibb.de/nachhaltigke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34120" y="5165640"/>
            <a:ext cx="2438280" cy="939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257800" y="608004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handwerk-agenda21plus.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523880" y="5394240"/>
            <a:ext cx="3048120" cy="561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56360" y="306864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nsprech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uppertal Institut für Klima, Umwelt, Energie GmbH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 Rohn/Thomas Lemk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0202/2492-245 – 0202/2492-17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lger.rohn@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thomas.lemken@wupperinst.org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ww.wupperins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15:48:45Z</dcterms:created>
  <dc:creator>Ingo Rauhut</dc:creator>
  <dc:description/>
  <dc:language>en-US</dc:language>
  <cp:lastModifiedBy>Ingo Rauhut</cp:lastModifiedBy>
  <cp:lastPrinted>2005-02-10T15:49:31Z</cp:lastPrinted>
  <dcterms:modified xsi:type="dcterms:W3CDTF">2007-08-27T14:52:23Z</dcterms:modified>
  <cp:revision>59</cp:revision>
  <dc:subject/>
  <dc:title>Kein Folientitel</dc:title>
</cp:coreProperties>
</file>