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4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4-A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Marketing-Ziele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48ECFC73-80DE-468B-97A8-CC985D7EFFC6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2924280"/>
            <a:ext cx="73911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MARKETING-ZI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1267920"/>
            <a:ext cx="7777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Konzeptionelles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840720" cy="2016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Schritt 1: Wo stehen w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Analyse der Ist-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4581360"/>
            <a:ext cx="749016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4240" indent="-1254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ittel: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Bestandsaufnahme durch z.B. Selbstbewertung und Stärken-Schwächen-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1125360"/>
            <a:ext cx="6840720" cy="2016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Schritt 2: Wo wollen wir h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Bestimmung von Marketing-Zi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5840" y="3500280"/>
            <a:ext cx="7489800" cy="1572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Kurzfristig: 1-3 Jah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Mittelfristig: 4-5 Jah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Langfristig: 6-10 Jah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360" y="1197000"/>
            <a:ext cx="7042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Kurzfristige</a:t>
            </a:r>
            <a:r>
              <a:rPr b="1" i="1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Ziele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9280" y="2420640"/>
            <a:ext cx="6913440" cy="2592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1-3 Jah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Eher ökonomisch orienti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Absatz, Umsatz, Gewinn, Marktante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76360" y="1197000"/>
            <a:ext cx="7042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Kurzfristige</a:t>
            </a:r>
            <a:r>
              <a:rPr b="1" i="1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Ziele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32000" y="2205000"/>
            <a:ext cx="7632720" cy="3240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»Wir wollen unseren Absatz, Umsatz, Gewinn bis 200x um xy Prozent steigern.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»Wir wollen mit unserem Angebot bis 200x einen Marktanteil von xy % Prozent erzielen.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6360" y="1197000"/>
            <a:ext cx="7042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Mittel- und langfristige</a:t>
            </a:r>
            <a:r>
              <a:rPr b="1" i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Ziele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2421000"/>
            <a:ext cx="6985080" cy="3313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4-5 Jah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Zielen eher auf Kunden/-innen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Unternehmensimage, Bekanntheitsgrad, Kundenzufriedenheit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76360" y="2133360"/>
            <a:ext cx="7199280" cy="3816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3600" indent="-18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»Wir wollen, dass Kunden/-innen und Konkurrenten/-innen unser Unternehmen bis 200x mit einem umweltfreundlichen Image verbinden.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»Wir wollen den Bekanntheitsgrade unseres Unternehmens in 200x um xy Prozent erhöhen.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»Wir wollen die Zufriedenheit unserer Kunden/-innen bis 200x um xy Prozent erhöhen.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197000"/>
            <a:ext cx="7042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Mittel- und langfristige</a:t>
            </a:r>
            <a:r>
              <a:rPr b="1" i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Ziele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Was bei der Zielformulierung zu beachten is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1640" y="2133720"/>
            <a:ext cx="7507080" cy="396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räzisierung hinsichtlich ihres Inhaltes (Was soll erreicht werden?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räzisierung hinsichtlich ihres angestrebten Ausmaßes (Wieviel soll erreicht werden?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räzisierung hinsichtlich ihres Zeithorizontes (Wann soll das Ziel erreicht werden?) sow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räzisierung hinsichtlich ihres Geltungsbereichs (Für welchen Bereich (Geschäftsfeld/Region etc.) soll das Ziel/die Ziele gelten?).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52:23Z</dcterms:modified>
  <cp:revision>59</cp:revision>
  <dc:subject/>
  <dc:title>Kein Folientitel</dc:title>
</cp:coreProperties>
</file>