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4-B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Instrumente des Marketing-Mix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AA3298D1-C0F0-4171-AC8D-EF90E2137EEE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309760"/>
            <a:ext cx="73911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INSTRUMENTE 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DES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ETING-M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(insb. Kommunikationspolitik und Absatzförder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7777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Instrumente der Kommunikationspolitik/Absatzfö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2781360"/>
            <a:ext cx="5256360" cy="2128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ublic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kaufsförd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38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ersönlicher Verka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980640"/>
            <a:ext cx="75452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Werb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Mittel- bis langfristige Absatzsteigerung, Erhöhung des Bekanntheits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Aktuelle und potenzielle 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Produkt/Dienst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Printmedien, Trikot-/Banden- und Plakatwerbung, lokale Radiowerbung, Kinowerb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ublic Re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76360" y="1916280"/>
            <a:ext cx="6851520" cy="3844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Schaffung, Konkretisierung, Verbesserung des Unternehmens-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Öffent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Pressemappen, Reden und Vorträge, Veröffentlichungen, Seminare, Spenden für wohltätige Zwecke,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Verkaufsförder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2133720"/>
            <a:ext cx="6851520" cy="3189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Kurzfristige Absatzsteig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Aktuelle Kunden/-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Produkt/Dienst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Preisausschreiben, Gewinnspiele, Zugaben und Werbegeschenke, Events, Hausmessen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981000"/>
            <a:ext cx="7545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Persönlicher Verkau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176560"/>
            <a:ext cx="6851880" cy="2503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: Überzeugung und Absatzsteig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ielgruppe: Aktuelle Kunden/-in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halte: Produkt/Dienst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ispiele: Verkaufspräsentationen, Fachmessen und –veranstaltungen, u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3:45Z</dcterms:modified>
  <cp:revision>64</cp:revision>
  <dc:subject/>
  <dc:title>Kein Folientitel</dc:title>
</cp:coreProperties>
</file>