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Instrumente des Marketing-Mix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C3CD6C7A-0FDF-4BEA-A418-B0C3436BB913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309760"/>
            <a:ext cx="73911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TRUMENT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DE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(insb. Kommunikationspolitik und Absatzförder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nstrumente der Kommunikationspolitik/Absatz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kaufs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rsönlicher Verk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5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Werb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Mittel- bis langfristige Absatzsteigerung, Erhöhung des Bekanntheits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und potenziell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intmedien, Trikot-/Banden- und Plakatwerbung, lokale Radiowerbung, Kino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Schaffung, Konkretisierung, Verbesserung des Unternehmens-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Öffen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essemappen, Reden und Vorträge, Veröffentlichungen, Seminare, Spenden für wohltätige Zwecke,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kaufsförd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Kurzfristige Absatzsteig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eisausschreiben, Gewinnspiele, Zugaben und Werbegeschenke, Events, Hausmessen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ersönlicher Verkau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Überzeugung und Absatzsteig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Verkaufspräsentationen, Fachmessen und –veranstaltungen,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3:45Z</dcterms:modified>
  <cp:revision>64</cp:revision>
  <dc:subject/>
  <dc:title>Kein Folientitel</dc:title>
</cp:coreProperties>
</file>