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4-C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arketing-Erfolgskontrolle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6C638BF0-7270-4FC0-9EEA-369D2C71C005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hyperlink" Target="mailto:herbert.klemisch@kni.de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58920" y="198900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ETING-ERFOLGSKONTR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2133720"/>
            <a:ext cx="691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Marketing-Maßnahmen müssen immer auf ihren Erfolg hin überprüft we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Umsatzkontro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gleich des tatsächlich erreichten Umsatzes mit Vorperiode und den eigenen Erwartungen (=Marketing-Zi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 negativen Abweichungen muss die Frage gestellt werden wa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satzkontrolle ist schnell und relativ kostengünstig verfügbar, da Daten in Unternehmen vorhan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Marktanteilskontro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1916280"/>
            <a:ext cx="6912000" cy="43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gleich des Marktanteils mit Vorperiode und den eigenen Erwartungen (=Marketing-Zi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 negativen Abweichungen muss die Frage gestellt werden war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orteil: Darstellung der Wettbewerbsfähigkeit durch Vergleich mit Konkurrenten/-in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achteil: Daten für den Vergleich müssen außerhalb des Unternehmens beschaff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Was ist zu beacht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1916280"/>
            <a:ext cx="6840720" cy="316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- und Branchenvergleiche zur Rate zie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setzung muss realistisch se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laufphase muss einkalkuliert we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m Vergleich nicht nur an Zahlen orientieren, sondern auch Interpretationen zulass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8120"/>
            <a:ext cx="1904760" cy="14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4:22Z</dcterms:modified>
  <cp:revision>66</cp:revision>
  <dc:subject/>
  <dc:title>Kein Folientitel</dc:title>
</cp:coreProperties>
</file>