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10234613" cy="14662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3680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827360" y="914400"/>
            <a:ext cx="5945040" cy="565308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0" y="5286240"/>
            <a:ext cx="1066680" cy="809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1042920" y="6599160"/>
            <a:ext cx="381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808080"/>
                </a:solidFill>
                <a:latin typeface="Verdana"/>
              </a:rPr>
              <a:t>S4-C1: PowerPoint-Präsentation </a:t>
            </a:r>
            <a:r>
              <a:rPr b="0" lang="en-US" sz="800" spc="-1" strike="noStrike">
                <a:solidFill>
                  <a:srgbClr val="808080"/>
                </a:solidFill>
                <a:latin typeface="Verdana"/>
              </a:rPr>
              <a:t>»Marketing-Erfolgskontrolle«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23280" y="6643800"/>
            <a:ext cx="720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808080"/>
                </a:solidFill>
                <a:latin typeface="Verdana"/>
              </a:rPr>
              <a:t>Folie </a:t>
            </a:r>
            <a:fld id="{0F7823D0-F45B-4FF4-A3B2-E3B153D82EB4}" type="slidenum">
              <a:rPr b="0" lang="de-DE" sz="8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5"/>
          <a:stretch/>
        </p:blipFill>
        <p:spPr>
          <a:xfrm>
            <a:off x="4068720" y="260280"/>
            <a:ext cx="2158920" cy="5176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6"/>
          <a:stretch/>
        </p:blipFill>
        <p:spPr>
          <a:xfrm>
            <a:off x="1116000" y="333360"/>
            <a:ext cx="2532240" cy="4507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7"/>
          <a:stretch/>
        </p:blipFill>
        <p:spPr>
          <a:xfrm>
            <a:off x="7020000" y="260280"/>
            <a:ext cx="1368360" cy="52560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ingo.rauhut@handwerk-nrw.de" TargetMode="External"/><Relationship Id="rId2" Type="http://schemas.openxmlformats.org/officeDocument/2006/relationships/hyperlink" Target="mailto:herbert.klemisch@kni.de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58920" y="1989000"/>
            <a:ext cx="7391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Verdana"/>
              </a:rPr>
              <a:t>MARKETING-ERFOLGSKONTRO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34120" y="5165640"/>
            <a:ext cx="2438280" cy="939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523880" y="5394240"/>
            <a:ext cx="304812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76360" y="2133720"/>
            <a:ext cx="691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0000"/>
                </a:solidFill>
                <a:latin typeface="Verdana"/>
              </a:rPr>
              <a:t>Marketing-Maßnahmen müssen immer auf ihren Erfolg hin überprüft werd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14400" y="981000"/>
            <a:ext cx="75452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0000"/>
                </a:solidFill>
                <a:latin typeface="Verdana"/>
              </a:rPr>
              <a:t>Umsatzkontrol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76360" y="1916280"/>
            <a:ext cx="6851520" cy="3844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Vergleich des tatsächlich erreichten Umsatzes mit Vorperiode und den eigenen Erwartungen (=Marketing-Zie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Bei negativen Abweichungen muss die Frage gestellt werden war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Umsatzkontrolle ist schnell und relativ kostengünstig verfügbar, da Daten in Unternehmen vorhan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14400" y="981000"/>
            <a:ext cx="75452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0000"/>
                </a:solidFill>
                <a:latin typeface="Verdana"/>
              </a:rPr>
              <a:t>Marktanteilskontrol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76360" y="1916280"/>
            <a:ext cx="6912000" cy="4392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Vergleich des Marktanteils mit Vorperiode und den eigenen Erwartungen (=Marketing-Zie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Bei negativen Abweichungen muss die Frage gestellt werden war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Vorteil: Darstellung der Wettbewerbsfähigkeit durch Vergleich mit Konkurrenten/-inn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Nachteil: Daten für den Vergleich müssen außerhalb des Unternehmens beschafft wer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14400" y="981000"/>
            <a:ext cx="75452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0000"/>
                </a:solidFill>
                <a:latin typeface="Verdana"/>
              </a:rPr>
              <a:t>Was ist zu beachte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76360" y="1916280"/>
            <a:ext cx="6840720" cy="316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Zeit- und Branchenvergleiche zur Rate zieh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Zielsetzung muss realistisch s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nlaufphase muss einkalkuliert wer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Beim Vergleich nicht nur an Zahlen orientieren, sondern auch Interpretationen zulass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95280" y="1219320"/>
            <a:ext cx="7620120" cy="15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Modellversuch »Entwicklung und Erprobung eines Weiterbildungskonzeptes zu nachhaltigem Wirtschaften als Zukunftschance für das Handwerk«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Gefördert durch das Bundesinstitut für Berufsbildung mit Mitteln des Bundesministeriums für Bildung und Forschung im Rahmen des Modellversuchsschwerpunkt »Berufsbildung für eine nachhaltige Entwicklung«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Laufzeit: 01.09.2004-31.08.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3032280"/>
            <a:ext cx="2210040" cy="15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nsprech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estdeutscher Handwerkskammertag e.V.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Ingo Rauhut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0211/3007-722</a:t>
            </a:r>
            <a:br>
              <a:rPr sz="1000"/>
            </a:br>
            <a:r>
              <a:rPr b="0" lang="de-DE" sz="10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ingo.rauhut@handwerk-nrw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handwerk-nrw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47920" y="3048120"/>
            <a:ext cx="1904760" cy="14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nsprech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Klaus Novy Institut e.V.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Dr. Herbert Klemisch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0221/931207-15</a:t>
            </a:r>
            <a:br>
              <a:rPr sz="1000"/>
            </a:br>
            <a:r>
              <a:rPr b="0" lang="de-DE" sz="10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erbert.klemisch@kni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kni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52480" y="592776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bibb.de/nachhaltigke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5334120" y="5165640"/>
            <a:ext cx="2438280" cy="9399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257800" y="6080040"/>
            <a:ext cx="26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handwerk-agenda21plus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1523880" y="5394240"/>
            <a:ext cx="3048120" cy="5619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156360" y="3068640"/>
            <a:ext cx="2514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nsprech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uppertal Institut für Klima, Umwelt, Energie GmbH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Holger Rohn/Thomas Lemken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0202/2492-245 – 0202/2492-179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holger.rohn@wupperins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thomas.lemken@wupperinst.org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wupperins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15:48:45Z</dcterms:created>
  <dc:creator>Ingo Rauhut</dc:creator>
  <dc:description/>
  <dc:language>en-US</dc:language>
  <cp:lastModifiedBy>Ingo Rauhut</cp:lastModifiedBy>
  <cp:lastPrinted>2005-02-10T15:49:31Z</cp:lastPrinted>
  <dcterms:modified xsi:type="dcterms:W3CDTF">2007-08-27T14:54:22Z</dcterms:modified>
  <cp:revision>66</cp:revision>
  <dc:subject/>
  <dc:title>Kein Folientitel</dc:title>
</cp:coreProperties>
</file>