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ct" ContentType="image/x-pict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9BDB-CFB4-4527-B53D-9656C17E719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BA02-57FE-448E-BF19-CB0877EED3F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package" Target="../embeddings/oleObject1.docx"/><Relationship Id="rId7" Type="http://schemas.openxmlformats.org/officeDocument/2006/relationships/image" Target="../media/image5.pct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98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S1-B1: PowerPoint-Präsentation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»Die Leitbilderstellung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1893960" cy="47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1219320" y="228600"/>
          <a:ext cx="2016000" cy="7002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228600"/>
                    <a:ext cx="20160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ingo.rauhut@handwerk-nrw.de" TargetMode="External"/><Relationship Id="rId3" Type="http://schemas.openxmlformats.org/officeDocument/2006/relationships/hyperlink" Target="mailto:ingo.rauhut@handwerk-nrw.de" TargetMode="External"/><Relationship Id="rId4" Type="http://schemas.openxmlformats.org/officeDocument/2006/relationships/hyperlink" Target="mailto:ingo.rauhut@handwerk-nrw.de" TargetMode="External"/><Relationship Id="rId5" Type="http://schemas.openxmlformats.org/officeDocument/2006/relationships/hyperlink" Target="http://www.handwerk-nrw.de/" TargetMode="External"/><Relationship Id="rId6" Type="http://schemas.openxmlformats.org/officeDocument/2006/relationships/hyperlink" Target="http://www.handwerk-nrw.de/" TargetMode="External"/><Relationship Id="rId7" Type="http://schemas.openxmlformats.org/officeDocument/2006/relationships/hyperlink" Target="http://www.handwerk-nrw.de/" TargetMode="External"/><Relationship Id="rId8" Type="http://schemas.openxmlformats.org/officeDocument/2006/relationships/hyperlink" Target="http://www.handwerk-nrw.de/" TargetMode="External"/><Relationship Id="rId9" Type="http://schemas.openxmlformats.org/officeDocument/2006/relationships/hyperlink" Target="mailto:herbert.klemisch@kni.de" TargetMode="External"/><Relationship Id="rId10" Type="http://schemas.openxmlformats.org/officeDocument/2006/relationships/hyperlink" Target="mailto:herbert.klemisch@kni.de" TargetMode="External"/><Relationship Id="rId11" Type="http://schemas.openxmlformats.org/officeDocument/2006/relationships/hyperlink" Target="mailto:herbert.klemisch@kni.de" TargetMode="External"/><Relationship Id="rId12" Type="http://schemas.openxmlformats.org/officeDocument/2006/relationships/hyperlink" Target="mailto:herbert.klemisch@kni.de" TargetMode="External"/><Relationship Id="rId13" Type="http://schemas.openxmlformats.org/officeDocument/2006/relationships/hyperlink" Target="mailto:herbert.klemisch@kni.de" TargetMode="External"/><Relationship Id="rId14" Type="http://schemas.openxmlformats.org/officeDocument/2006/relationships/hyperlink" Target="mailto:herbert.klemisch@kni.de" TargetMode="External"/><Relationship Id="rId15" Type="http://schemas.openxmlformats.org/officeDocument/2006/relationships/hyperlink" Target="http://www.kni.de/" TargetMode="External"/><Relationship Id="rId16" Type="http://schemas.openxmlformats.org/officeDocument/2006/relationships/hyperlink" Target="http://www.kni.de/" TargetMode="External"/><Relationship Id="rId17" Type="http://schemas.openxmlformats.org/officeDocument/2006/relationships/hyperlink" Target="http://www.kni.de/" TargetMode="External"/><Relationship Id="rId18" Type="http://schemas.openxmlformats.org/officeDocument/2006/relationships/hyperlink" Target="http://www.kni.de/" TargetMode="External"/><Relationship Id="rId19" Type="http://schemas.openxmlformats.org/officeDocument/2006/relationships/hyperlink" Target="mailto:holger.rohn@wupperinst.org" TargetMode="External"/><Relationship Id="rId20" Type="http://schemas.openxmlformats.org/officeDocument/2006/relationships/hyperlink" Target="mailto:holger.rohn@wupperinst.org" TargetMode="External"/><Relationship Id="rId21" Type="http://schemas.openxmlformats.org/officeDocument/2006/relationships/hyperlink" Target="mailto:holger.rohn@wupperinst.org" TargetMode="External"/><Relationship Id="rId22" Type="http://schemas.openxmlformats.org/officeDocument/2006/relationships/hyperlink" Target="mailto:holger.rohn@wupperinst.org" TargetMode="External"/><Relationship Id="rId23" Type="http://schemas.openxmlformats.org/officeDocument/2006/relationships/hyperlink" Target="mailto:holger.rohn@wupperinst.org" TargetMode="External"/><Relationship Id="rId24" Type="http://schemas.openxmlformats.org/officeDocument/2006/relationships/hyperlink" Target="mailto:holger.rohn@wupperinst.org" TargetMode="External"/><Relationship Id="rId25" Type="http://schemas.openxmlformats.org/officeDocument/2006/relationships/hyperlink" Target="mailto:holger.rohn@wupperinst.org" TargetMode="External"/><Relationship Id="rId26" Type="http://schemas.openxmlformats.org/officeDocument/2006/relationships/hyperlink" Target="http://www.wupperinst.org/" TargetMode="External"/><Relationship Id="rId27" Type="http://schemas.openxmlformats.org/officeDocument/2006/relationships/hyperlink" Target="http://www.wupperinst.org/" TargetMode="External"/><Relationship Id="rId28" Type="http://schemas.openxmlformats.org/officeDocument/2006/relationships/hyperlink" Target="http://www.wupperinst.org/" TargetMode="External"/><Relationship Id="rId29" Type="http://schemas.openxmlformats.org/officeDocument/2006/relationships/hyperlink" Target="http://www.wupperinst.org/" TargetMode="External"/><Relationship Id="rId30" Type="http://schemas.openxmlformats.org/officeDocument/2006/relationships/hyperlink" Target="http://www.wupperinst.org/" TargetMode="External"/><Relationship Id="rId31" Type="http://schemas.openxmlformats.org/officeDocument/2006/relationships/image" Target="../media/image7.png"/><Relationship Id="rId32" Type="http://schemas.openxmlformats.org/officeDocument/2006/relationships/image" Target="../media/image6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3880" y="2209680"/>
            <a:ext cx="7162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</a:rPr>
              <a:t>Di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</a:rPr>
              <a:t>Leitbilderstellung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5562720"/>
            <a:ext cx="238104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89280" y="15685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Realisierungs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91520" y="2281320"/>
            <a:ext cx="6609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n zur Umsetzung des Leitbil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wird es offiziell verabschied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werden die Mitarbeiter/-innen beteiligt/Informie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gewinnt das Leitbild handlungsleitende Kra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werden die Ziele aus dem Leitbild umgesetz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wird das Leitbild gepflegt bzw. fortgeschrieb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lche Konsequenzen sollen sich aus dem Leitbild ergeb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2800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10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96960" y="1495440"/>
            <a:ext cx="5045400" cy="35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en zur Umsetzung des Leitbil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prech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sche Berichterstat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entwick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anstal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Öffentlichkeits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2800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lie 11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95280" y="121932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lversuch »Entwicklung und Erprobung eines Weiterbildungskonzeptes zu nachhaltigem Wirtschaften als Zukunftschance für das Handwerk«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fzeit: 01.09.2004-31.08.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stdeutscher Handwerkskammertag e.V.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go Rauhu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11/3007-722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go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auhut@handwerk-nrw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andwerk-nrw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294624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aus Novy Institut e.V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Herbert Klemisc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21/931207-15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erbert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klemisch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@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kni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kni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uppertal Institut für Klima, Umwelt, Energie Gmb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lger Rohn / Thomas Lemk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02/2492-245 /-179 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olger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.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rohn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@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upperinst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.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www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.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wupperinst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.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594360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1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05520" y="6095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2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10756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12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52480" y="1523880"/>
            <a:ext cx="6553440" cy="34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Prozess der Leitbilderstellung kann in drei Phasen unterteilt 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zeptions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ierungs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2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99120" y="129528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thodisches Vorg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22096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Leitbildentwicklung ist ein Prozessorientiertes Pro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8120" y="3043080"/>
            <a:ext cx="663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chti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klarer zeitlicher Ra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antwortlichk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n flexiblen Ablauf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twendige Ressourcen (Zeit, Räume, Materialien, Finanz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3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1676520"/>
            <a:ext cx="7543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lternative 1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leichgewichtiges Bottom-up- und Top-down-Vorgehen* bei Entwicklung und Umsetzung von Philosophie und Leitlinien. Der Prozess ist insbesondere aufgrund de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isdemokratisc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hebungsphase sehr aufwendi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orteil: Breite Identifik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Nachteil: Zeitaufwänd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lternative 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ärk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 Top-down-gep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ägt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s Vorgehen bei Entwicklung und Umsetzung von Leitbild und Strategie. Der Prozess lebt s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ärk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 von den strategischen Vorstellungen und Vorgaben der Unternehmensleitu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orteil: straffer, effizienter Proz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Nachteil: Die Beschäftigten werden wenig eingeb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* Als 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op-down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(engl., etw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 oben nach unt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Bottom-up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(engl., etw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 unten nach ob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werden zwei entgegengesetzte Vorgehensweisen bezeichnet, die in verschiedenen Sinnzusammen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än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n verwendet werden. (Quelle: www.wikipedia.or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68360" y="1219320"/>
            <a:ext cx="47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gehen: Top-down oder Bottom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4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76520" y="1447920"/>
            <a:ext cx="608652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thoden (Auswah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kunfts- oder Leitbildwerkst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gruppen aus verschiedenen Arbeitsbere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 Unterneh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fragungen von von relevanten Akteuren aus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5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7480" y="2976480"/>
            <a:ext cx="293724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feld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sätze stagn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ärkte konzentrieren s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uinöser Preisk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ürok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umverweig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lo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stend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echte Stimm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1360" y="2209680"/>
            <a:ext cx="33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alyse des Ist-Zusta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8280" y="2987640"/>
            <a:ext cx="30988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 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ranken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tivation der Mitarb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e klar formuliert 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mmunizie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lis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arbeiterbesprechung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26684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. Analyse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6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71600" y="1600200"/>
            <a:ext cx="754380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ist Sinn und Zweck unseres Unternehmens? Was ist der Nut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seres Unternehm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wird gegenwärtig gearbeitet und entschie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ist unsere Kernkompeten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sind die Ziele des Unternehm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ben wir einen aussagefähigen Slog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lche Zielgruppen sprechen wir 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unser Logo aussagefähig? (falls vorhand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differenzieren wir uns vom Wettbewer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lche Grundauffassungen, welche Werte und Normen vertreten wi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gehen wir miteinander 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lches Image hat unser Unterne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70520" y="1143000"/>
            <a:ext cx="29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undsätzliche F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7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1523880"/>
            <a:ext cx="731520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. Konzeptions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arbeiten einer Prioritätenl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kt-Gruppen bilden „wer macht was bis wan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kte sinnvoll aufeinander absti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e formulieren kurzfristig -mittelfristig –langfristig re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ei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8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1752480"/>
            <a:ext cx="648000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beitsschrit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ntwurf eines Leitbildes durch eine Projektgru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ussion der Ergebnisse auf verschiedenen Eb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ierung von Änderungs- und Ergänzungsvorschlä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rbeitung eines endgültigen Entwur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chließende Diskussion und Verabschie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9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go Rauhut</cp:lastModifiedBy>
  <dcterms:modified xsi:type="dcterms:W3CDTF">2007-11-20T19:15:58Z</dcterms:modified>
  <cp:revision>12</cp:revision>
  <dc:subject/>
  <dc:title>PowerPoint-Präsentation</dc:title>
</cp:coreProperties>
</file>