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pct" ContentType="image/x-pict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EA3C-4B0A-4AE3-B9C9-768C118D679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54C-7E67-44F6-BA44-A6F94A4B4C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package" Target="../embeddings/oleObject1.docx"/><Relationship Id="rId7" Type="http://schemas.openxmlformats.org/officeDocument/2006/relationships/image" Target="../media/image5.pct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98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S1-B1: PowerPoint-Präsentation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Die Leitbilderstellung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1893960" cy="47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1219320" y="228600"/>
          <a:ext cx="2016000" cy="7002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19320" y="228600"/>
                    <a:ext cx="2016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http://www.handwerk-nrw.de/" TargetMode="External"/><Relationship Id="rId6" Type="http://schemas.openxmlformats.org/officeDocument/2006/relationships/hyperlink" Target="http://www.handwerk-nrw.de/" TargetMode="External"/><Relationship Id="rId7" Type="http://schemas.openxmlformats.org/officeDocument/2006/relationships/hyperlink" Target="http://www.handwerk-nrw.de/" TargetMode="External"/><Relationship Id="rId8" Type="http://schemas.openxmlformats.org/officeDocument/2006/relationships/hyperlink" Target="http://www.handwerk-nrw.de/" TargetMode="External"/><Relationship Id="rId9" Type="http://schemas.openxmlformats.org/officeDocument/2006/relationships/hyperlink" Target="mailto:herbert.klemisch@kni.de" TargetMode="External"/><Relationship Id="rId10" Type="http://schemas.openxmlformats.org/officeDocument/2006/relationships/hyperlink" Target="mailto:herbert.klemisch@kni.de" TargetMode="External"/><Relationship Id="rId11" Type="http://schemas.openxmlformats.org/officeDocument/2006/relationships/hyperlink" Target="mailto:herbert.klemisch@kni.de" TargetMode="External"/><Relationship Id="rId12" Type="http://schemas.openxmlformats.org/officeDocument/2006/relationships/hyperlink" Target="mailto:herbert.klemisch@kni.de" TargetMode="External"/><Relationship Id="rId13" Type="http://schemas.openxmlformats.org/officeDocument/2006/relationships/hyperlink" Target="mailto:herbert.klemisch@kni.de" TargetMode="External"/><Relationship Id="rId14" Type="http://schemas.openxmlformats.org/officeDocument/2006/relationships/hyperlink" Target="mailto:herbert.klemisch@kni.de" TargetMode="External"/><Relationship Id="rId15" Type="http://schemas.openxmlformats.org/officeDocument/2006/relationships/hyperlink" Target="http://www.kni.de/" TargetMode="External"/><Relationship Id="rId16" Type="http://schemas.openxmlformats.org/officeDocument/2006/relationships/hyperlink" Target="http://www.kni.de/" TargetMode="External"/><Relationship Id="rId17" Type="http://schemas.openxmlformats.org/officeDocument/2006/relationships/hyperlink" Target="http://www.kni.de/" TargetMode="External"/><Relationship Id="rId18" Type="http://schemas.openxmlformats.org/officeDocument/2006/relationships/hyperlink" Target="http://www.kni.de/" TargetMode="External"/><Relationship Id="rId19" Type="http://schemas.openxmlformats.org/officeDocument/2006/relationships/hyperlink" Target="mailto:holger.rohn@wupperinst.org" TargetMode="External"/><Relationship Id="rId20" Type="http://schemas.openxmlformats.org/officeDocument/2006/relationships/hyperlink" Target="mailto:holger.rohn@wupperinst.org" TargetMode="External"/><Relationship Id="rId21" Type="http://schemas.openxmlformats.org/officeDocument/2006/relationships/hyperlink" Target="mailto:holger.rohn@wupperinst.org" TargetMode="External"/><Relationship Id="rId22" Type="http://schemas.openxmlformats.org/officeDocument/2006/relationships/hyperlink" Target="mailto:holger.rohn@wupperinst.org" TargetMode="External"/><Relationship Id="rId23" Type="http://schemas.openxmlformats.org/officeDocument/2006/relationships/hyperlink" Target="mailto:holger.rohn@wupperinst.org" TargetMode="External"/><Relationship Id="rId24" Type="http://schemas.openxmlformats.org/officeDocument/2006/relationships/hyperlink" Target="mailto:holger.rohn@wupperinst.org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http://www.wupperinst.org/" TargetMode="External"/><Relationship Id="rId27" Type="http://schemas.openxmlformats.org/officeDocument/2006/relationships/hyperlink" Target="http://www.wupperinst.org/" TargetMode="External"/><Relationship Id="rId28" Type="http://schemas.openxmlformats.org/officeDocument/2006/relationships/hyperlink" Target="http://www.wupperinst.org/" TargetMode="External"/><Relationship Id="rId29" Type="http://schemas.openxmlformats.org/officeDocument/2006/relationships/hyperlink" Target="http://www.wupperinst.org/" TargetMode="External"/><Relationship Id="rId30" Type="http://schemas.openxmlformats.org/officeDocument/2006/relationships/hyperlink" Target="http://www.wupperinst.org/" TargetMode="External"/><Relationship Id="rId31" Type="http://schemas.openxmlformats.org/officeDocument/2006/relationships/image" Target="../media/image7.png"/><Relationship Id="rId32" Type="http://schemas.openxmlformats.org/officeDocument/2006/relationships/image" Target="../media/image6.pn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2209680"/>
            <a:ext cx="7162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i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Leitbilderstellung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7920" y="5562720"/>
            <a:ext cx="238104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89280" y="15685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Realisierung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91520" y="2281320"/>
            <a:ext cx="6609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agen zur Umsetzung des Leitbil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es offiziell verabschied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erden die Mitarbeiter/-innen beteiligt/Informi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winnt das Leitbild handlungsleitende Kra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erden die Ziele aus dem Leitbild umgesetz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das Leitbild gepflegt bzw. fortgeschrie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Konsequenzen sollen sich aus dem Leitbild ergeb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0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96960" y="1495440"/>
            <a:ext cx="504540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en zur Umsetzung des Leitbil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prech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sche Berichterstat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entwick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anstalt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Öffentlichkeits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lie 11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auhut@handwerk-nr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andwerk-nr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erber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klemisch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@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ni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kni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olger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rohn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@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upperins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www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wupperinst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.</a:t>
            </a:r>
            <a:r>
              <a:rPr b="0" lang="de-DE" sz="1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2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52480" y="1523880"/>
            <a:ext cx="655344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 Prozess der Leitbilderstellung kann in drei Phasen unterteil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zeptions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isierungs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2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99120" y="129528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isches Vorg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220968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eitbildentwicklung ist ein Prozessorientiertes Pro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8120" y="3043080"/>
            <a:ext cx="66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ichti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 klarer zeitlicher Ra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en flexiblen Ablauf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wendige Ressourcen (Zeit, Räume, Materialien, Finanz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3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676520"/>
            <a:ext cx="7543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lternative 1: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leichgewichtiges Bottom-up- und Top-down-Vorgehen* bei Entwicklung und Umsetzung von Philosophie und Leitlinien. Der Prozess ist insbesondere aufgrund d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isdemokratische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hebungsphase sehr aufwendi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teil: Breite Identifik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achteil: Zeitaufwänd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Alternative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rk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 Top-down-gep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gt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s Vorgehen bei Entwicklung und Umsetzung von Leitbild und Strategie. Der Prozess lebt s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ärk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 von den strategischen Vorstellungen und Vorgaben der Unternehmensleitu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teil: straffer, effizienter Proz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Nachteil: Die Beschäftigten werden wenig eingebun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* Als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Top-down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(engl., etw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 oben nach unt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und 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Bottom-up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(engl., etw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n unten nach ob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werden zwei entgegengesetzte Vorgehensweisen bezeichnet, die in verschiedenen Sinnzusammen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än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n verwendet werden. (Quelle: www.wikipedia.or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121932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gehen: Top-down oder Bottom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4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6520" y="1447920"/>
            <a:ext cx="60865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thoden (Auswah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kunfts- oder Leitbildwerkst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gruppen aus verschiedenen Arbeitsberei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 Unterneh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ussionsfo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agungen von von relevanten Akteuren aus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f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5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7480" y="2976480"/>
            <a:ext cx="293724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mfeld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msätze stag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ärkte konzentrieren s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uinöser Preisk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ürok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nsumverweig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lo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sten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lechte Stimm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1360" y="2209680"/>
            <a:ext cx="339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yse des Ist-Zust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8280" y="2987640"/>
            <a:ext cx="30988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erne 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ranken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tivation der 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e klar formuliert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mmunizi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t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lis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arbeiterbesprechu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126684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1. Analyse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6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71600" y="1600200"/>
            <a:ext cx="754380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 Sinn und Zweck unseres Unternehmens? Was ist der Nutz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seres Unternehm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wird gegenwärtig gearbeitet und entsch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ist unsere Kernkompetenz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as sind die Ziele des Unternehme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ben wir einen aussagefähigen Slog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Zielgruppen sprechen wir 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st unser Logo aussagefähig? (falls vorhand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differenzieren wir uns vom Wettbew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Grundauffassungen, welche Werte und Normen vertreten w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e gehen wir miteinander 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s Image hat unser Unterneh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0520" y="1143000"/>
            <a:ext cx="29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undsätzliche F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7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1523880"/>
            <a:ext cx="7315200" cy="31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. Konzeptions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arbeiten einer Prioritäten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-Gruppen bilden „wer macht was bis wann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jekte sinnvoll aufeinander absti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iele formulieren kurzfristig -mittelfristig –langfristig re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ei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8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1752480"/>
            <a:ext cx="648000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beitsschrit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ntwurf eines Leitbildes durch eine Projektgrup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ussion der Ergebnisse auf verschiedenen Eb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ierung von Änderungs- und Ergänzungsvorschlä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rbeitung eines endgültigen Entwur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chließende Diskussion und Verabschie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244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9 von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dcterms:modified xsi:type="dcterms:W3CDTF">2007-11-20T19:15:58Z</dcterms:modified>
  <cp:revision>12</cp:revision>
  <dc:subject/>
  <dc:title>PowerPoint-Präsentation</dc:title>
</cp:coreProperties>
</file>