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package" Target="../embeddings/oleObject1.docx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S1-C1: PowerPoint-Präsentation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»Unternehmensstrategie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219320" y="152280"/>
          <a:ext cx="2244600" cy="779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152280"/>
                    <a:ext cx="22446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6948360" y="333360"/>
            <a:ext cx="1729080" cy="428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ingo.rauhut@handwerk-nrw.de" TargetMode="External"/><Relationship Id="rId3" Type="http://schemas.openxmlformats.org/officeDocument/2006/relationships/hyperlink" Target="mailto:ingo.rauhut@handwerk-nrw.de" TargetMode="External"/><Relationship Id="rId4" Type="http://schemas.openxmlformats.org/officeDocument/2006/relationships/hyperlink" Target="mailto:ingo.rauhut@handwerk-nrw.de" TargetMode="External"/><Relationship Id="rId5" Type="http://schemas.openxmlformats.org/officeDocument/2006/relationships/hyperlink" Target="mailto:ingo.rauhut@handwerk-nrw.de" TargetMode="External"/><Relationship Id="rId6" Type="http://schemas.openxmlformats.org/officeDocument/2006/relationships/hyperlink" Target="mailto:ingo.rauhut@handwerk-nrw.de" TargetMode="External"/><Relationship Id="rId7" Type="http://schemas.openxmlformats.org/officeDocument/2006/relationships/hyperlink" Target="mailto:ingo.rauhut@handwerk-nrw.de" TargetMode="External"/><Relationship Id="rId8" Type="http://schemas.openxmlformats.org/officeDocument/2006/relationships/hyperlink" Target="mailto:ingo.rauhut@handwerk-nrw.de" TargetMode="External"/><Relationship Id="rId9" Type="http://schemas.openxmlformats.org/officeDocument/2006/relationships/hyperlink" Target="http://www.handwerk-nrw.de/" TargetMode="External"/><Relationship Id="rId10" Type="http://schemas.openxmlformats.org/officeDocument/2006/relationships/hyperlink" Target="http://www.handwerk-nrw.de/" TargetMode="External"/><Relationship Id="rId11" Type="http://schemas.openxmlformats.org/officeDocument/2006/relationships/hyperlink" Target="http://www.handwerk-nrw.de/" TargetMode="External"/><Relationship Id="rId12" Type="http://schemas.openxmlformats.org/officeDocument/2006/relationships/hyperlink" Target="http://www.handwerk-nrw.de/" TargetMode="External"/><Relationship Id="rId13" Type="http://schemas.openxmlformats.org/officeDocument/2006/relationships/hyperlink" Target="http://www.handwerk-nrw.de/" TargetMode="External"/><Relationship Id="rId14" Type="http://schemas.openxmlformats.org/officeDocument/2006/relationships/hyperlink" Target="http://www.handwerk-nrw.de/" TargetMode="External"/><Relationship Id="rId15" Type="http://schemas.openxmlformats.org/officeDocument/2006/relationships/hyperlink" Target="mailto:herbert.klemisch@kni.de" TargetMode="External"/><Relationship Id="rId16" Type="http://schemas.openxmlformats.org/officeDocument/2006/relationships/hyperlink" Target="mailto:herbert.klemisch@kni.de" TargetMode="External"/><Relationship Id="rId17" Type="http://schemas.openxmlformats.org/officeDocument/2006/relationships/hyperlink" Target="mailto:herbert.klemisch@kni.de" TargetMode="External"/><Relationship Id="rId18" Type="http://schemas.openxmlformats.org/officeDocument/2006/relationships/hyperlink" Target="mailto:herbert.klemisch@kni.de" TargetMode="External"/><Relationship Id="rId19" Type="http://schemas.openxmlformats.org/officeDocument/2006/relationships/hyperlink" Target="mailto:herbert.klemisch@kni.de" TargetMode="External"/><Relationship Id="rId20" Type="http://schemas.openxmlformats.org/officeDocument/2006/relationships/hyperlink" Target="mailto:herbert.klemisch@kni.de" TargetMode="External"/><Relationship Id="rId21" Type="http://schemas.openxmlformats.org/officeDocument/2006/relationships/hyperlink" Target="http://www.kni.de/" TargetMode="External"/><Relationship Id="rId22" Type="http://schemas.openxmlformats.org/officeDocument/2006/relationships/hyperlink" Target="http://www.kni.de/" TargetMode="External"/><Relationship Id="rId23" Type="http://schemas.openxmlformats.org/officeDocument/2006/relationships/hyperlink" Target="http://www.kni.de/" TargetMode="External"/><Relationship Id="rId24" Type="http://schemas.openxmlformats.org/officeDocument/2006/relationships/hyperlink" Target="http://www.kni.de/" TargetMode="External"/><Relationship Id="rId25" Type="http://schemas.openxmlformats.org/officeDocument/2006/relationships/hyperlink" Target="mailto:holger.rohn@wupperinst.org" TargetMode="External"/><Relationship Id="rId26" Type="http://schemas.openxmlformats.org/officeDocument/2006/relationships/hyperlink" Target="mailto:holger.rohn@wupperinst.org" TargetMode="External"/><Relationship Id="rId27" Type="http://schemas.openxmlformats.org/officeDocument/2006/relationships/hyperlink" Target="mailto:holger.rohn@wupperinst.org" TargetMode="External"/><Relationship Id="rId28" Type="http://schemas.openxmlformats.org/officeDocument/2006/relationships/hyperlink" Target="mailto:holger.rohn@wupperinst.org" TargetMode="External"/><Relationship Id="rId29" Type="http://schemas.openxmlformats.org/officeDocument/2006/relationships/hyperlink" Target="mailto:holger.rohn@wupperinst.org" TargetMode="External"/><Relationship Id="rId30" Type="http://schemas.openxmlformats.org/officeDocument/2006/relationships/hyperlink" Target="mailto:holger.rohn@wupperinst.org" TargetMode="External"/><Relationship Id="rId31" Type="http://schemas.openxmlformats.org/officeDocument/2006/relationships/hyperlink" Target="mailto:holger.rohn@wupperinst.org" TargetMode="External"/><Relationship Id="rId32" Type="http://schemas.openxmlformats.org/officeDocument/2006/relationships/hyperlink" Target="http://www.wupperinst.org/" TargetMode="External"/><Relationship Id="rId33" Type="http://schemas.openxmlformats.org/officeDocument/2006/relationships/hyperlink" Target="http://www.wupperinst.org/" TargetMode="External"/><Relationship Id="rId34" Type="http://schemas.openxmlformats.org/officeDocument/2006/relationships/hyperlink" Target="http://www.wupperinst.org/" TargetMode="External"/><Relationship Id="rId35" Type="http://schemas.openxmlformats.org/officeDocument/2006/relationships/hyperlink" Target="http://www.wupperinst.org/" TargetMode="External"/><Relationship Id="rId36" Type="http://schemas.openxmlformats.org/officeDocument/2006/relationships/hyperlink" Target="http://www.wupperinst.org/" TargetMode="External"/><Relationship Id="rId37" Type="http://schemas.openxmlformats.org/officeDocument/2006/relationships/image" Target="../media/image10.png"/><Relationship Id="rId38" Type="http://schemas.openxmlformats.org/officeDocument/2006/relationships/image" Target="../media/image6.png"/><Relationship Id="rId3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7400" y="243828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Unternehmen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5638680"/>
            <a:ext cx="28195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828800" y="3124080"/>
            <a:ext cx="3581280" cy="1524240"/>
          </a:xfrm>
          <a:prstGeom prst="rect">
            <a:avLst/>
          </a:prstGeom>
          <a:solidFill>
            <a:srgbClr val="fff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6400" y="3124080"/>
            <a:ext cx="3581280" cy="1524240"/>
          </a:xfrm>
          <a:prstGeom prst="rect">
            <a:avLst/>
          </a:prstGeom>
          <a:solidFill>
            <a:srgbClr val="fff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4800600"/>
            <a:ext cx="3581280" cy="1828800"/>
          </a:xfrm>
          <a:prstGeom prst="rect">
            <a:avLst/>
          </a:prstGeom>
          <a:solidFill>
            <a:srgbClr val="fff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800600"/>
            <a:ext cx="3581280" cy="1828800"/>
          </a:xfrm>
          <a:prstGeom prst="rect">
            <a:avLst/>
          </a:prstGeom>
          <a:solidFill>
            <a:srgbClr val="fff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WOT-Analys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ärken/Schwächen/Chancen/Ge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2590920"/>
            <a:ext cx="3200400" cy="374400"/>
          </a:xfrm>
          <a:prstGeom prst="rect">
            <a:avLst/>
          </a:prstGeom>
          <a:solidFill>
            <a:srgbClr val="8f0000"/>
          </a:solidFill>
          <a:ln w="19080">
            <a:solidFill>
              <a:srgbClr val="8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han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124080"/>
            <a:ext cx="3733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8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f0000"/>
                </a:solidFill>
                <a:latin typeface="Arial"/>
              </a:rPr>
              <a:t>Fördergelder für Solaranlagen/ neue Absatzchan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Erfahrung/Know-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4803840"/>
            <a:ext cx="373392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8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f0000"/>
                </a:solidFill>
                <a:latin typeface="Arial"/>
              </a:rPr>
              <a:t>Internationaler Charakter von Ausschreibungen (Chance auf größere Fördertöpf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Geringe Sprachkompetenz im Unter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3124080"/>
            <a:ext cx="3733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8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f0000"/>
                </a:solidFill>
                <a:latin typeface="Arial"/>
              </a:rPr>
              <a:t>Neue Alternativ-Techniken: Neue Anlagenty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Technisches Kow-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800600"/>
            <a:ext cx="3733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8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f0000"/>
                </a:solidFill>
                <a:latin typeface="Arial"/>
              </a:rPr>
              <a:t>Hoher Konkurrenzdru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Wenig Personal/begrenzte Kapaz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2590920"/>
            <a:ext cx="3429000" cy="374400"/>
          </a:xfrm>
          <a:prstGeom prst="rect">
            <a:avLst/>
          </a:prstGeom>
          <a:solidFill>
            <a:srgbClr val="8f0000"/>
          </a:solidFill>
          <a:ln w="19080">
            <a:solidFill>
              <a:srgbClr val="8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Gefah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879480" y="3775320"/>
            <a:ext cx="1371600" cy="37440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tär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758880" y="5489280"/>
            <a:ext cx="1600200" cy="37476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hwä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2057400"/>
            <a:ext cx="4267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f0000"/>
                </a:solidFill>
                <a:latin typeface="Arial"/>
              </a:rPr>
              <a:t>Externe Faktoren (fremdbestim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-938880" y="4334400"/>
            <a:ext cx="4267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Interne Faktoren (i.d.R. beeinflussb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6440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-54000" bIns="-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6248520"/>
            <a:ext cx="2454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passte Ch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6440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-54000" bIns="-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80040" y="6232680"/>
            <a:ext cx="2454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iger Um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43830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-54000" bIns="-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32680" y="4038480"/>
            <a:ext cx="2454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novation/neue Produ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43830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-54000" bIns="-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98760" y="4175280"/>
            <a:ext cx="2454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hr Um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2800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0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753160" y="6161040"/>
            <a:ext cx="37339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8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f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990720"/>
            <a:ext cx="5119200" cy="5595840"/>
            <a:chOff x="1828800" y="990720"/>
            <a:chExt cx="5119200" cy="5595840"/>
          </a:xfrm>
        </p:grpSpPr>
        <p:sp>
          <p:nvSpPr>
            <p:cNvPr id="219" name=""/>
            <p:cNvSpPr/>
            <p:nvPr/>
          </p:nvSpPr>
          <p:spPr>
            <a:xfrm rot="16200000">
              <a:off x="490680" y="3871080"/>
              <a:ext cx="333324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b2b2b2"/>
                  </a:solidFill>
                  <a:latin typeface="Arial"/>
                </a:rPr>
                <a:t>Interne Faktoren (i.d.R. beeinflussba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76640" y="2002680"/>
              <a:ext cx="1967400" cy="2249640"/>
            </a:xfrm>
            <a:prstGeom prst="rect">
              <a:avLst/>
            </a:prstGeom>
            <a:solidFill>
              <a:srgbClr val="fff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54000" bIns="54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3680" y="1585800"/>
              <a:ext cx="1967400" cy="292680"/>
            </a:xfrm>
            <a:prstGeom prst="rect">
              <a:avLst/>
            </a:prstGeom>
            <a:solidFill>
              <a:srgbClr val="8f0000"/>
            </a:solidFill>
            <a:ln w="19080">
              <a:solidFill>
                <a:srgbClr val="8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</a:rPr>
                <a:t>Chanc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76640" y="1585800"/>
              <a:ext cx="1967400" cy="292680"/>
            </a:xfrm>
            <a:prstGeom prst="rect">
              <a:avLst/>
            </a:prstGeom>
            <a:solidFill>
              <a:srgbClr val="8f0000"/>
            </a:solidFill>
            <a:ln w="19080">
              <a:solidFill>
                <a:srgbClr val="8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</a:rPr>
                <a:t>Gefa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1502280" y="2980800"/>
              <a:ext cx="2249640" cy="2926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</a:rPr>
                <a:t>Stär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1496880" y="5315040"/>
              <a:ext cx="2249640" cy="2923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"/>
                </a:rPr>
                <a:t>Schwäch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0560" y="990720"/>
              <a:ext cx="333252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54000" bIns="540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8f0000"/>
                  </a:solidFill>
                  <a:latin typeface="Arial"/>
                </a:rPr>
                <a:t>Externe Faktoren (fremdbestimm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0080" y="2002680"/>
              <a:ext cx="1967400" cy="2249640"/>
            </a:xfrm>
            <a:prstGeom prst="rect">
              <a:avLst/>
            </a:prstGeom>
            <a:solidFill>
              <a:srgbClr val="fff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54000" bIns="54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80240" y="4336920"/>
              <a:ext cx="1967760" cy="2249640"/>
            </a:xfrm>
            <a:prstGeom prst="rect">
              <a:avLst/>
            </a:prstGeom>
            <a:solidFill>
              <a:srgbClr val="fff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54000" bIns="54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93680" y="4336920"/>
              <a:ext cx="1967400" cy="2249640"/>
            </a:xfrm>
            <a:prstGeom prst="rect">
              <a:avLst/>
            </a:prstGeom>
            <a:solidFill>
              <a:srgbClr val="fff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54000" bIns="54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802800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1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923760" y="1747800"/>
            <a:ext cx="8266320" cy="4424400"/>
            <a:chOff x="923760" y="1747800"/>
            <a:chExt cx="8266320" cy="4424400"/>
          </a:xfrm>
        </p:grpSpPr>
        <p:sp>
          <p:nvSpPr>
            <p:cNvPr id="231" name=""/>
            <p:cNvSpPr/>
            <p:nvPr/>
          </p:nvSpPr>
          <p:spPr>
            <a:xfrm>
              <a:off x="1295280" y="2514600"/>
              <a:ext cx="7635960" cy="35305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8280" y="3672000"/>
              <a:ext cx="5105520" cy="121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93600" y="1747800"/>
              <a:ext cx="8196480" cy="3875040"/>
            </a:xfrm>
            <a:prstGeom prst="rect">
              <a:avLst/>
            </a:prstGeom>
            <a:noFill/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2467080"/>
              <a:ext cx="558720" cy="64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876920" y="3112920"/>
              <a:ext cx="558720" cy="6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173240" y="4264200"/>
              <a:ext cx="3075120" cy="0"/>
              <a:chOff x="1173240" y="4264200"/>
              <a:chExt cx="3075120" cy="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2666160" y="4264200"/>
                <a:ext cx="1582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73240" y="4264200"/>
                <a:ext cx="1582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 flipH="1">
              <a:off x="4419720" y="4890960"/>
              <a:ext cx="558720" cy="646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419720" y="5537160"/>
              <a:ext cx="558720" cy="6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543800" y="4052880"/>
              <a:ext cx="1371240" cy="609480"/>
              <a:chOff x="7543800" y="4052880"/>
              <a:chExt cx="1371240" cy="609480"/>
            </a:xfrm>
          </p:grpSpPr>
          <p:sp>
            <p:nvSpPr>
              <p:cNvPr id="242" name=""/>
              <p:cNvSpPr/>
              <p:nvPr/>
            </p:nvSpPr>
            <p:spPr>
              <a:xfrm>
                <a:off x="7543800" y="4052880"/>
                <a:ext cx="685800" cy="60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8229240" y="4052880"/>
                <a:ext cx="685800" cy="60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1523880" y="2681280"/>
              <a:ext cx="3724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sisstrategien/Unternehmensstrategien able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43480" y="2681280"/>
              <a:ext cx="3724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nternehmensstrategie für die Prozess-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nd Projektplanung konkretisier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nd ums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52880" y="5195880"/>
              <a:ext cx="3724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e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irksamkeit der Planung prüf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23760" y="5181480"/>
              <a:ext cx="3724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orrekturmaßnahmen ergreif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066680" y="1295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trategie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2800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2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276000" y="1066320"/>
            <a:ext cx="32922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sri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2085480"/>
            <a:ext cx="4343400" cy="134064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indent="192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chstums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2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isierungs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2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investitions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3549600"/>
            <a:ext cx="0" cy="380880"/>
          </a:xfrm>
          <a:prstGeom prst="line">
            <a:avLst/>
          </a:prstGeom>
          <a:ln w="76320">
            <a:solidFill>
              <a:srgbClr val="8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060440"/>
            <a:ext cx="4343400" cy="2268000"/>
          </a:xfrm>
          <a:prstGeom prst="rect">
            <a:avLst/>
          </a:prstGeom>
          <a:noFill/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sequenzen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2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icklung von Geschäftsfel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2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teilung von Ressourc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ersonell, materiell, finanzi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3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796400" y="1036440"/>
            <a:ext cx="6561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ppenübung: Von der Vision zur 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1711080"/>
            <a:ext cx="6629400" cy="18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ist der Status Qu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stelle ICH mir die Zukunft des Unternehmens v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ist die Sicht der ander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3581280"/>
            <a:ext cx="0" cy="381240"/>
          </a:xfrm>
          <a:prstGeom prst="line">
            <a:avLst/>
          </a:prstGeom>
          <a:ln w="76320">
            <a:solidFill>
              <a:srgbClr val="8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4171680"/>
            <a:ext cx="647676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 (heu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 Überlegungen für die Ziel-  und Strategieentwicklung haben und diskutieren kön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2800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4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ngo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auhu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andwerk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-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r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andwerk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-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nr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erber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klemisch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kni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kni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olger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rohn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wupperins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3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4"/>
              </a:rPr>
              <a:t>wupperins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5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6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7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8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10756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5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43000" y="1407960"/>
          <a:ext cx="7696080" cy="2670480"/>
        </p:xfrm>
        <a:graphic>
          <a:graphicData uri="http://schemas.openxmlformats.org/drawingml/2006/table">
            <a:tbl>
              <a:tblPr/>
              <a:tblGrid>
                <a:gridCol w="3583080"/>
                <a:gridCol w="662040"/>
                <a:gridCol w="3450960"/>
              </a:tblGrid>
              <a:tr h="781560">
                <a:tc rowSpan="5">
                  <a:txBody>
                    <a:bodyPr lIns="54000" rIns="54000" tIns="54000" bIns="54000"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ternehmensstrateg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ition und Einordn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forderun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en von Strategi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tuationsanaly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uppenüb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2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Unternehmensstrate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4191120"/>
            <a:ext cx="7772400" cy="228600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marL="482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trategie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sind Maßnahmen zur Sicherung des langfristigen Erfol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nes Unternehmens.“ (Bea/Haas 1999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ittel- bis langfristiger Pla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des Vorgeh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bgeleitet aus Visio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Leitbild/Unternehmensphilosoph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1828800" cy="151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709040" y="1219320"/>
            <a:ext cx="1206360" cy="19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371600" y="2362320"/>
            <a:ext cx="1768320" cy="1539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3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2133720"/>
            <a:ext cx="8001000" cy="47242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Unternehmen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6261120"/>
            <a:ext cx="25909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ufende Kontro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05120"/>
            <a:ext cx="6820200" cy="4190760"/>
          </a:xfrm>
          <a:prstGeom prst="triangle">
            <a:avLst>
              <a:gd name="adj" fmla="val 50000"/>
            </a:avLst>
          </a:prstGeom>
          <a:solidFill>
            <a:srgbClr val="002448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3200400"/>
            <a:ext cx="209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-54000" bIns="-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09960" y="4572000"/>
            <a:ext cx="434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-54000" bIns="-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657600"/>
            <a:ext cx="1052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590920"/>
            <a:ext cx="1295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trate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685760"/>
            <a:ext cx="2209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zesse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trategische Proje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521720"/>
            <a:ext cx="3505320" cy="917640"/>
          </a:xfrm>
          <a:prstGeom prst="wedgeRoundRectCallout">
            <a:avLst>
              <a:gd name="adj1" fmla="val 65708"/>
              <a:gd name="adj2" fmla="val 39527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4280" bIns="44280" anchor="ctr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gehen wir v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.B. Marktführerschaft, Differenz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427200"/>
            <a:ext cx="3276720" cy="1577160"/>
          </a:xfrm>
          <a:prstGeom prst="wedgeRoundRectCallout">
            <a:avLst>
              <a:gd name="adj1" fmla="val 54499"/>
              <a:gd name="adj2" fmla="val 61250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4280" bIns="44280" anchor="ctr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müssen fortlaufende Prozesse und Einzelprojekte angepasst werden damit die Ziele erreicht 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3426480"/>
            <a:ext cx="3504960" cy="687960"/>
          </a:xfrm>
          <a:prstGeom prst="wedgeRoundRectCallout">
            <a:avLst>
              <a:gd name="adj1" fmla="val -63625"/>
              <a:gd name="adj2" fmla="val 64851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4280" bIns="44280" anchor="ctr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wollen wir konk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 wan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950360"/>
            <a:ext cx="3048120" cy="984600"/>
          </a:xfrm>
          <a:prstGeom prst="wedgeRoundRectCallout">
            <a:avLst>
              <a:gd name="adj1" fmla="val -81032"/>
              <a:gd name="adj2" fmla="val 82634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4280" bIns="44280" anchor="ctr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nn sind unsere Ziele erreicht und wie erfolgreich sind wi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4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nforderun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strategie(-Pap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06640" y="2362320"/>
            <a:ext cx="6400800" cy="753840"/>
          </a:xfrm>
          <a:prstGeom prst="rect">
            <a:avLst/>
          </a:prstGeom>
          <a:solidFill>
            <a:srgbClr val="002448"/>
          </a:solidFill>
          <a:ln w="19080">
            <a:solidFill>
              <a:srgbClr val="00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marL="198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Unternehmensstrategie sollte se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746480" y="4312800"/>
            <a:ext cx="1369440" cy="42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341440" y="4584600"/>
            <a:ext cx="2072880" cy="0"/>
            <a:chOff x="2341440" y="4584600"/>
            <a:chExt cx="2072880" cy="0"/>
          </a:xfrm>
        </p:grpSpPr>
        <p:sp>
          <p:nvSpPr>
            <p:cNvPr id="73" name=""/>
            <p:cNvSpPr/>
            <p:nvPr/>
          </p:nvSpPr>
          <p:spPr>
            <a:xfrm flipH="1">
              <a:off x="3348000" y="4584600"/>
              <a:ext cx="106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41440" y="4584600"/>
              <a:ext cx="106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 flipV="1">
            <a:off x="3043440" y="4966560"/>
            <a:ext cx="303480" cy="844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470320" y="4556160"/>
            <a:ext cx="2072880" cy="0"/>
            <a:chOff x="2470320" y="4556160"/>
            <a:chExt cx="2072880" cy="0"/>
          </a:xfrm>
        </p:grpSpPr>
        <p:sp>
          <p:nvSpPr>
            <p:cNvPr id="77" name=""/>
            <p:cNvSpPr/>
            <p:nvPr/>
          </p:nvSpPr>
          <p:spPr>
            <a:xfrm flipH="1">
              <a:off x="3476880" y="4556160"/>
              <a:ext cx="106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70320" y="4556160"/>
              <a:ext cx="106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006640" y="3129120"/>
            <a:ext cx="6400800" cy="235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setzbar/realisti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llständig/umfas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tändlich/schlüssig (keine Widersprüche im Doku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el (Anpassungen bei Abweichun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rollierbar/evaluier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5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219320" y="1006560"/>
          <a:ext cx="7772400" cy="5530680"/>
        </p:xfrm>
        <a:graphic>
          <a:graphicData uri="http://schemas.openxmlformats.org/drawingml/2006/table">
            <a:tbl>
              <a:tblPr/>
              <a:tblGrid>
                <a:gridCol w="1447560"/>
                <a:gridCol w="6324840"/>
              </a:tblGrid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bene des Planungs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tegiear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78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ternehmens-eb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schäfts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reichs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ate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bene 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nktion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057280" y="1771560"/>
            <a:ext cx="1715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Unternehmens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87880" y="2735280"/>
            <a:ext cx="4118040" cy="252360"/>
          </a:xfrm>
          <a:custGeom>
            <a:avLst/>
            <a:gdLst/>
            <a:ahLst/>
            <a:rect l="l" t="t" r="r" b="b"/>
            <a:pathLst>
              <a:path w="2286" h="155">
                <a:moveTo>
                  <a:pt x="0" y="0"/>
                </a:moveTo>
                <a:lnTo>
                  <a:pt x="2286" y="0"/>
                </a:lnTo>
                <a:lnTo>
                  <a:pt x="2286" y="155"/>
                </a:lnTo>
                <a:lnTo>
                  <a:pt x="0" y="15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29000" y="2762280"/>
            <a:ext cx="173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rodukt-Markt-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87880" y="3063960"/>
            <a:ext cx="4114800" cy="304560"/>
          </a:xfrm>
          <a:custGeom>
            <a:avLst/>
            <a:gdLst/>
            <a:ahLst/>
            <a:rect l="l" t="t" r="r" b="b"/>
            <a:pathLst>
              <a:path w="2276" h="212">
                <a:moveTo>
                  <a:pt x="0" y="0"/>
                </a:moveTo>
                <a:lnTo>
                  <a:pt x="2276" y="0"/>
                </a:lnTo>
                <a:lnTo>
                  <a:pt x="2276" y="212"/>
                </a:lnTo>
                <a:lnTo>
                  <a:pt x="0" y="2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04240" y="3117960"/>
            <a:ext cx="365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lokale, nationale, internationale, globale Strateg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87880" y="3424320"/>
            <a:ext cx="4114800" cy="461880"/>
          </a:xfrm>
          <a:custGeom>
            <a:avLst/>
            <a:gdLst/>
            <a:ahLst/>
            <a:rect l="l" t="t" r="r" b="b"/>
            <a:pathLst>
              <a:path w="2296" h="196">
                <a:moveTo>
                  <a:pt x="0" y="0"/>
                </a:moveTo>
                <a:lnTo>
                  <a:pt x="2296" y="0"/>
                </a:lnTo>
                <a:lnTo>
                  <a:pt x="2296" y="196"/>
                </a:lnTo>
                <a:lnTo>
                  <a:pt x="0" y="1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3479760"/>
            <a:ext cx="388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Autonomie-, Kooperations- u. Integrationsstrateg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75040" y="2498760"/>
            <a:ext cx="1800" cy="1130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57760" y="3621240"/>
            <a:ext cx="3301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75040" y="3301920"/>
            <a:ext cx="3301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5040" y="2859120"/>
            <a:ext cx="297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7120" y="203832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48400" y="2038320"/>
            <a:ext cx="144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02480" y="2038320"/>
            <a:ext cx="1800" cy="95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67120" y="2038320"/>
            <a:ext cx="3735360" cy="1440"/>
          </a:xfrm>
          <a:custGeom>
            <a:avLst/>
            <a:gdLst/>
            <a:ahLst/>
            <a:rect l="l" t="t" r="r" b="b"/>
            <a:pathLst>
              <a:path w="2353" h="0">
                <a:moveTo>
                  <a:pt x="0" y="0"/>
                </a:moveTo>
                <a:lnTo>
                  <a:pt x="1122" y="0"/>
                </a:lnTo>
                <a:lnTo>
                  <a:pt x="1231" y="0"/>
                </a:lnTo>
                <a:lnTo>
                  <a:pt x="2353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2149560"/>
            <a:ext cx="1434960" cy="469800"/>
          </a:xfrm>
          <a:custGeom>
            <a:avLst/>
            <a:gdLst/>
            <a:ahLst/>
            <a:rect l="l" t="t" r="r" b="b"/>
            <a:pathLst>
              <a:path w="904" h="222">
                <a:moveTo>
                  <a:pt x="0" y="0"/>
                </a:moveTo>
                <a:lnTo>
                  <a:pt x="904" y="0"/>
                </a:lnTo>
                <a:lnTo>
                  <a:pt x="904" y="222"/>
                </a:lnTo>
                <a:lnTo>
                  <a:pt x="0" y="2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81480" y="2149560"/>
            <a:ext cx="111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Wachstums-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67120" y="2136600"/>
            <a:ext cx="1731960" cy="470160"/>
          </a:xfrm>
          <a:custGeom>
            <a:avLst/>
            <a:gdLst/>
            <a:ahLst/>
            <a:rect l="l" t="t" r="r" b="b"/>
            <a:pathLst>
              <a:path w="1091" h="222">
                <a:moveTo>
                  <a:pt x="0" y="0"/>
                </a:moveTo>
                <a:lnTo>
                  <a:pt x="1091" y="0"/>
                </a:lnTo>
                <a:lnTo>
                  <a:pt x="1091" y="222"/>
                </a:lnTo>
                <a:lnTo>
                  <a:pt x="0" y="2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65680" y="2179800"/>
            <a:ext cx="186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tabilisier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-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2149560"/>
            <a:ext cx="1731960" cy="469800"/>
          </a:xfrm>
          <a:custGeom>
            <a:avLst/>
            <a:gdLst/>
            <a:ahLst/>
            <a:rect l="l" t="t" r="r" b="b"/>
            <a:pathLst>
              <a:path w="1091" h="222">
                <a:moveTo>
                  <a:pt x="0" y="0"/>
                </a:moveTo>
                <a:lnTo>
                  <a:pt x="1091" y="0"/>
                </a:lnTo>
                <a:lnTo>
                  <a:pt x="1091" y="222"/>
                </a:lnTo>
                <a:lnTo>
                  <a:pt x="0" y="2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47040" y="2179800"/>
            <a:ext cx="158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Desinvestitions-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8440" y="4014720"/>
            <a:ext cx="194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Gesch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äf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tsbereichs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17880" y="4260960"/>
            <a:ext cx="1800" cy="98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5800" y="4260960"/>
            <a:ext cx="1440" cy="98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00960" y="4260960"/>
            <a:ext cx="1440" cy="98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7880" y="4260960"/>
            <a:ext cx="3583080" cy="1440"/>
          </a:xfrm>
          <a:custGeom>
            <a:avLst/>
            <a:gdLst/>
            <a:ahLst/>
            <a:rect l="l" t="t" r="r" b="b"/>
            <a:pathLst>
              <a:path w="2257" h="0">
                <a:moveTo>
                  <a:pt x="0" y="0"/>
                </a:moveTo>
                <a:lnTo>
                  <a:pt x="1082" y="0"/>
                </a:lnTo>
                <a:lnTo>
                  <a:pt x="1175" y="0"/>
                </a:lnTo>
                <a:lnTo>
                  <a:pt x="2257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30640" y="4362480"/>
            <a:ext cx="1390680" cy="512640"/>
          </a:xfrm>
          <a:custGeom>
            <a:avLst/>
            <a:gdLst/>
            <a:ahLst/>
            <a:rect l="l" t="t" r="r" b="b"/>
            <a:pathLst>
              <a:path w="876" h="323">
                <a:moveTo>
                  <a:pt x="0" y="0"/>
                </a:moveTo>
                <a:lnTo>
                  <a:pt x="876" y="0"/>
                </a:lnTo>
                <a:lnTo>
                  <a:pt x="876" y="323"/>
                </a:lnTo>
                <a:lnTo>
                  <a:pt x="0" y="32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93800" y="440676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ostenführe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68760" y="455292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22720" y="4359240"/>
            <a:ext cx="1392120" cy="5126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359240"/>
            <a:ext cx="1687680" cy="512640"/>
          </a:xfrm>
          <a:custGeom>
            <a:avLst/>
            <a:gdLst/>
            <a:ahLst/>
            <a:rect l="l" t="t" r="r" b="b"/>
            <a:pathLst>
              <a:path w="1063" h="323">
                <a:moveTo>
                  <a:pt x="0" y="0"/>
                </a:moveTo>
                <a:lnTo>
                  <a:pt x="1063" y="0"/>
                </a:lnTo>
                <a:lnTo>
                  <a:pt x="1063" y="323"/>
                </a:lnTo>
                <a:lnTo>
                  <a:pt x="0" y="32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2440" y="4365720"/>
            <a:ext cx="62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87520" y="4511520"/>
            <a:ext cx="1232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differenzierung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86320" y="46562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64320" y="4362480"/>
            <a:ext cx="1687680" cy="512640"/>
          </a:xfrm>
          <a:custGeom>
            <a:avLst/>
            <a:gdLst/>
            <a:ahLst/>
            <a:rect l="l" t="t" r="r" b="b"/>
            <a:pathLst>
              <a:path w="1063" h="323">
                <a:moveTo>
                  <a:pt x="0" y="0"/>
                </a:moveTo>
                <a:lnTo>
                  <a:pt x="1063" y="0"/>
                </a:lnTo>
                <a:lnTo>
                  <a:pt x="1063" y="323"/>
                </a:lnTo>
                <a:lnTo>
                  <a:pt x="0" y="32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56520" y="440676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Nisch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64440" y="45878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89880" y="512136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Funktionsbereichs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30640" y="5378400"/>
            <a:ext cx="1440" cy="150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72120" y="5378400"/>
            <a:ext cx="1440" cy="150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08560" y="5378400"/>
            <a:ext cx="1800" cy="150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50040" y="5378400"/>
            <a:ext cx="1440" cy="150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86480" y="5378400"/>
            <a:ext cx="1800" cy="150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27960" y="5378400"/>
            <a:ext cx="1800" cy="150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30640" y="5378400"/>
            <a:ext cx="5197320" cy="1800"/>
          </a:xfrm>
          <a:custGeom>
            <a:avLst/>
            <a:gdLst/>
            <a:ahLst/>
            <a:rect l="l" t="t" r="r" b="b"/>
            <a:pathLst>
              <a:path w="3274" h="0">
                <a:moveTo>
                  <a:pt x="0" y="0"/>
                </a:moveTo>
                <a:lnTo>
                  <a:pt x="656" y="0"/>
                </a:lnTo>
                <a:lnTo>
                  <a:pt x="1309" y="0"/>
                </a:lnTo>
                <a:lnTo>
                  <a:pt x="1635" y="0"/>
                </a:lnTo>
                <a:lnTo>
                  <a:pt x="1965" y="0"/>
                </a:lnTo>
                <a:lnTo>
                  <a:pt x="2618" y="0"/>
                </a:lnTo>
                <a:lnTo>
                  <a:pt x="327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17640" y="5529240"/>
            <a:ext cx="949320" cy="793800"/>
          </a:xfrm>
          <a:custGeom>
            <a:avLst/>
            <a:gdLst/>
            <a:ahLst/>
            <a:rect l="l" t="t" r="r" b="b"/>
            <a:pathLst>
              <a:path w="598" h="500">
                <a:moveTo>
                  <a:pt x="0" y="0"/>
                </a:moveTo>
                <a:lnTo>
                  <a:pt x="598" y="0"/>
                </a:lnTo>
                <a:lnTo>
                  <a:pt x="598" y="500"/>
                </a:lnTo>
                <a:lnTo>
                  <a:pt x="0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06840" y="5594400"/>
            <a:ext cx="9698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Besch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af-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fungs-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94040" y="5529240"/>
            <a:ext cx="951120" cy="795240"/>
          </a:xfrm>
          <a:custGeom>
            <a:avLst/>
            <a:gdLst/>
            <a:ahLst/>
            <a:rect l="l" t="t" r="r" b="b"/>
            <a:pathLst>
              <a:path w="599" h="500">
                <a:moveTo>
                  <a:pt x="0" y="0"/>
                </a:moveTo>
                <a:lnTo>
                  <a:pt x="599" y="0"/>
                </a:lnTo>
                <a:lnTo>
                  <a:pt x="599" y="500"/>
                </a:lnTo>
                <a:lnTo>
                  <a:pt x="0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9760" y="5594400"/>
            <a:ext cx="92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roduktion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87720" y="581832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94040" y="5529240"/>
            <a:ext cx="951120" cy="79380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35520" y="5529240"/>
            <a:ext cx="950760" cy="793800"/>
          </a:xfrm>
          <a:custGeom>
            <a:avLst/>
            <a:gdLst/>
            <a:ahLst/>
            <a:rect l="l" t="t" r="r" b="b"/>
            <a:pathLst>
              <a:path w="599" h="500">
                <a:moveTo>
                  <a:pt x="0" y="0"/>
                </a:moveTo>
                <a:lnTo>
                  <a:pt x="599" y="0"/>
                </a:lnTo>
                <a:lnTo>
                  <a:pt x="599" y="500"/>
                </a:lnTo>
                <a:lnTo>
                  <a:pt x="0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12640" y="559440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Absatz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4520" y="581832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35520" y="5529240"/>
            <a:ext cx="950760" cy="79380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72320" y="5529240"/>
            <a:ext cx="950760" cy="793800"/>
          </a:xfrm>
          <a:custGeom>
            <a:avLst/>
            <a:gdLst/>
            <a:ahLst/>
            <a:rect l="l" t="t" r="r" b="b"/>
            <a:pathLst>
              <a:path w="599" h="500">
                <a:moveTo>
                  <a:pt x="0" y="0"/>
                </a:moveTo>
                <a:lnTo>
                  <a:pt x="599" y="0"/>
                </a:lnTo>
                <a:lnTo>
                  <a:pt x="599" y="500"/>
                </a:lnTo>
                <a:lnTo>
                  <a:pt x="0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7480" y="5594400"/>
            <a:ext cx="51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Finanz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66000" y="581832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72320" y="5529240"/>
            <a:ext cx="950760" cy="79380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13440" y="5529240"/>
            <a:ext cx="944640" cy="793800"/>
          </a:xfrm>
          <a:custGeom>
            <a:avLst/>
            <a:gdLst/>
            <a:ahLst/>
            <a:rect l="l" t="t" r="r" b="b"/>
            <a:pathLst>
              <a:path w="595" h="500">
                <a:moveTo>
                  <a:pt x="0" y="0"/>
                </a:moveTo>
                <a:lnTo>
                  <a:pt x="595" y="0"/>
                </a:lnTo>
                <a:lnTo>
                  <a:pt x="595" y="500"/>
                </a:lnTo>
                <a:lnTo>
                  <a:pt x="0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2640" y="5594400"/>
            <a:ext cx="67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Person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02440" y="581832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13440" y="5529240"/>
            <a:ext cx="944640" cy="79380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50240" y="5529240"/>
            <a:ext cx="949320" cy="793800"/>
          </a:xfrm>
          <a:custGeom>
            <a:avLst/>
            <a:gdLst/>
            <a:ahLst/>
            <a:rect l="l" t="t" r="r" b="b"/>
            <a:pathLst>
              <a:path w="598" h="500">
                <a:moveTo>
                  <a:pt x="0" y="0"/>
                </a:moveTo>
                <a:lnTo>
                  <a:pt x="598" y="0"/>
                </a:lnTo>
                <a:lnTo>
                  <a:pt x="598" y="500"/>
                </a:lnTo>
                <a:lnTo>
                  <a:pt x="0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91800" y="5594400"/>
            <a:ext cx="5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Techn.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43920" y="581832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strat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50240" y="5529240"/>
            <a:ext cx="949320" cy="79380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75248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6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19320" y="175248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63920" y="1447920"/>
            <a:ext cx="639252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Hinweis zur Folie: Strategiea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Der Begriff „Strategie“ wird in der Literatur vielfältig verwend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Ziel der Folie „Strategiearten“ ist es, z.B. im Rahmen eines Kurzvort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ine Einordnung zu den verschiedenen Ebenen zu ermöglichen und genau z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rklären, von welcher Ebene im Folgenden gesprochen wi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Eine genaue Beschreibung zu jeder der Aufgeführten Strategieformen geb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a, F.X.; Haas, J. (2001): Strategisches Management. 3. Aufl. Stuttgart: Lucius und Luc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7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87520" y="1719360"/>
            <a:ext cx="2133720" cy="753840"/>
          </a:xfrm>
          <a:prstGeom prst="rect">
            <a:avLst/>
          </a:prstGeom>
          <a:solidFill>
            <a:srgbClr val="002448"/>
          </a:solidFill>
          <a:ln w="19080">
            <a:solidFill>
              <a:srgbClr val="00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marL="198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andlungsfel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87520" y="2481120"/>
            <a:ext cx="2133720" cy="3020760"/>
          </a:xfrm>
          <a:prstGeom prst="rect">
            <a:avLst/>
          </a:prstGeom>
          <a:noFill/>
          <a:ln w="19080">
            <a:solidFill>
              <a:srgbClr val="00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ting/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64240" y="1719360"/>
            <a:ext cx="2590920" cy="753840"/>
          </a:xfrm>
          <a:prstGeom prst="rect">
            <a:avLst/>
          </a:prstGeom>
          <a:solidFill>
            <a:srgbClr val="002448"/>
          </a:solidFill>
          <a:ln w="19080">
            <a:solidFill>
              <a:srgbClr val="00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marL="1969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ielkatego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64240" y="2481120"/>
            <a:ext cx="2590920" cy="2963520"/>
          </a:xfrm>
          <a:prstGeom prst="rect">
            <a:avLst/>
          </a:prstGeom>
          <a:noFill/>
          <a:ln w="19080">
            <a:solidFill>
              <a:srgbClr val="00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tstellungs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ntabilitäts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anzielle 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ziale 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t- und Prestige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weltschutz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434240" y="3662280"/>
            <a:ext cx="1295640" cy="304920"/>
          </a:xfrm>
          <a:prstGeom prst="triangle">
            <a:avLst>
              <a:gd name="adj" fmla="val 50000"/>
            </a:avLst>
          </a:prstGeom>
          <a:solidFill>
            <a:srgbClr val="002448"/>
          </a:solidFill>
          <a:ln w="19080">
            <a:solidFill>
              <a:srgbClr val="00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7520" bIns="4752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635000" y="3585960"/>
            <a:ext cx="1295280" cy="304920"/>
          </a:xfrm>
          <a:prstGeom prst="triangle">
            <a:avLst>
              <a:gd name="adj" fmla="val 50000"/>
            </a:avLst>
          </a:prstGeom>
          <a:solidFill>
            <a:srgbClr val="002448"/>
          </a:solidFill>
          <a:ln w="19080">
            <a:solidFill>
              <a:srgbClr val="00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7520" bIns="4752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97160" y="3624120"/>
            <a:ext cx="685800" cy="457200"/>
          </a:xfrm>
          <a:prstGeom prst="parallelogram">
            <a:avLst>
              <a:gd name="adj" fmla="val 37500"/>
            </a:avLst>
          </a:prstGeom>
          <a:solidFill>
            <a:srgbClr val="002448"/>
          </a:solidFill>
          <a:ln w="19080">
            <a:solidFill>
              <a:srgbClr val="00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97560" y="3548160"/>
            <a:ext cx="685800" cy="457200"/>
          </a:xfrm>
          <a:prstGeom prst="parallelogram">
            <a:avLst>
              <a:gd name="adj" fmla="val 37500"/>
            </a:avLst>
          </a:prstGeom>
          <a:solidFill>
            <a:srgbClr val="002448"/>
          </a:solidFill>
          <a:ln w="19080">
            <a:solidFill>
              <a:srgbClr val="00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65640" y="5756400"/>
            <a:ext cx="20473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flussmöglich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72080" y="5755680"/>
            <a:ext cx="2757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konkretisier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abgeleitet aus der Vi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8380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Handlungsfeld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ür funktionale Strateg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8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ituationsanalys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s Input für die Strategie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1906560"/>
            <a:ext cx="2666880" cy="37476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arkt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2286000"/>
            <a:ext cx="26668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ncen / Gefa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1905120"/>
            <a:ext cx="2895840" cy="37440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Unternehmens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2279520"/>
            <a:ext cx="28958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ärken / Schwä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3200400"/>
            <a:ext cx="3047760" cy="609480"/>
          </a:xfrm>
          <a:prstGeom prst="rect">
            <a:avLst/>
          </a:prstGeom>
          <a:solidFill>
            <a:srgbClr val="8f0000"/>
          </a:solidFill>
          <a:ln w="19080">
            <a:solidFill>
              <a:srgbClr val="8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Unternehmens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Kern- oder Basis-Strategi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3932280"/>
            <a:ext cx="2666880" cy="69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markt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ttbewerbsplaz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4876920"/>
            <a:ext cx="2666880" cy="69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eting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ru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5867280"/>
            <a:ext cx="61722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-54000" bIns="-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6218280"/>
            <a:ext cx="12189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243480"/>
            <a:ext cx="12193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6248520"/>
            <a:ext cx="13716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rb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6253200"/>
            <a:ext cx="12193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2971800"/>
            <a:ext cx="0" cy="22860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867280"/>
            <a:ext cx="0" cy="22860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5867280"/>
            <a:ext cx="0" cy="22860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5867280"/>
            <a:ext cx="0" cy="22860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1880" y="5867280"/>
            <a:ext cx="0" cy="22860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2971800"/>
            <a:ext cx="48006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-54000" bIns="-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743200" y="2666520"/>
            <a:ext cx="0" cy="3049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43800" y="2666520"/>
            <a:ext cx="0" cy="3049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638680"/>
            <a:ext cx="0" cy="228600"/>
          </a:xfrm>
          <a:prstGeom prst="line">
            <a:avLst/>
          </a:prstGeom>
          <a:ln w="19080">
            <a:solidFill>
              <a:srgbClr val="8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5638680"/>
            <a:ext cx="0" cy="22860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648320"/>
            <a:ext cx="0" cy="22860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809880"/>
            <a:ext cx="0" cy="15264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4952880"/>
            <a:ext cx="2362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Schaltegger (1999): Folien zur „Einführung in das Umweltmanagement“. Universität Lüne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9 von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go Rauhut</cp:lastModifiedBy>
  <dcterms:modified xsi:type="dcterms:W3CDTF">2007-11-16T14:40:29Z</dcterms:modified>
  <cp:revision>38</cp:revision>
  <dc:subject/>
  <dc:title>PowerPoint-Präsentation</dc:title>
</cp:coreProperties>
</file>