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1F3B-C80E-4C13-A822-63B96EF347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spanische Sprichwort soll den Teilnehmer/-innen des Seminars verdeutlichen, dass es darum geht, sich in die Rolle der Kunden/-innen zu versetzen. Erst dann kann man sich über Ansatzpunkte Gedanken machen, den eigenen Betrieb und die betrieblichen Abläufe unter dem Aspekt Kundenorientierung zu verbess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eile hat dabei jede(r) Teilnehmer/-in deswegen, weil jeder Mensch nicht nur Produkte und/oder Dienstleistungen anbietet, sondern gleichzeitig auch Kundin oder Kunde für andere Produkte und/oder Dienstleistungen 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29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undenanalyse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EEAE9B81-5730-4B30-91E7-BFE49D705DAF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989000"/>
            <a:ext cx="73915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de-DE" sz="4400" spc="-1" strike="noStrike">
                <a:solidFill>
                  <a:srgbClr val="000000"/>
                </a:solidFill>
                <a:latin typeface="Verdana"/>
              </a:rPr>
              <a:t>KUNDENANALY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236052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m Stierkämpfer zu werden, muss man erst lernen, Stier zu se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anisches Sprich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546440" cy="5649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5589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Eine Landkarte unserer Kunden/-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032280"/>
            <a:ext cx="221004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10T14:18:13Z</dcterms:modified>
  <cp:revision>17</cp:revision>
  <dc:subject/>
  <dc:title>Kein Folientitel</dc:title>
</cp:coreProperties>
</file>