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4670-1A91-43B8-82CF-5778D5023D8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ses spanische Sprichwort soll den Teilnehmer/-innen des Seminars verdeutlichen, dass es darum geht, sich in die Rolle der Kunden/-innen zu versetzen. Erst dann kann man sich über Ansatzpunkte Gedanken machen, den eigenen Betrieb und die betrieblichen Abläufe unter dem Aspekt Kundenorientierung zu verbesse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rteile hat dabei jede(r) Teilnehmer/-in deswegen, weil jeder Mensch nicht nur Produkte und/oder Dienstleistungen anbietet, sondern gleichzeitig auch Kundin oder Kunde für andere Produkte und/oder Dienstleistungen 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29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2-A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Kundenanalyse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22B70BBF-E6B6-44B5-A81D-B280B8004BAE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http://www.handwerk-nrw.de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1989000"/>
            <a:ext cx="739152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de-DE" sz="4400" spc="-1" strike="noStrike">
                <a:solidFill>
                  <a:srgbClr val="000000"/>
                </a:solidFill>
                <a:latin typeface="Verdana"/>
              </a:rPr>
              <a:t>KUNDENANALY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2360520"/>
            <a:ext cx="7696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Um Stierkämpfer zu werden, muss man erst lernen, Stier zu se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panisches Sprichw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4546440" cy="5649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87280" y="558972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Eine Landkarte unserer Kunden/-i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032280"/>
            <a:ext cx="2210040" cy="15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9-10T14:18:13Z</dcterms:modified>
  <cp:revision>17</cp:revision>
  <dc:subject/>
  <dc:title>Kein Folientitel</dc:title>
</cp:coreProperties>
</file>