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B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undenzufriedenheit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1BE23B3B-A148-488A-A210-6134A094286B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hyperlink" Target="mailto:herbert.klemisch@kni.de" TargetMode="External"/><Relationship Id="rId4" Type="http://schemas.openxmlformats.org/officeDocument/2006/relationships/hyperlink" Target="http://www.kni.de/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9.png"/><Relationship Id="rId7" Type="http://schemas.openxmlformats.org/officeDocument/2006/relationships/hyperlink" Target="mailto:holger.rohn@wupperinst.org" TargetMode="External"/><Relationship Id="rId8" Type="http://schemas.openxmlformats.org/officeDocument/2006/relationships/hyperlink" Target="mailto:thomas.lemken@wupperinst.org" TargetMode="External"/><Relationship Id="rId9" Type="http://schemas.openxmlformats.org/officeDocument/2006/relationships/hyperlink" Target="http://www.wupperinst.org/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752480"/>
            <a:ext cx="79930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de-DE" sz="4000" spc="-1" strike="noStrike">
                <a:solidFill>
                  <a:srgbClr val="000000"/>
                </a:solidFill>
                <a:latin typeface="Verdana"/>
              </a:rPr>
              <a:t>KUNDENZUFRIEDENHE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4: Kaufentschei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756144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n/-innen entscheiden sich für oder gegen den Kauf eines Produktes/einer Dienstleistung, die ihr (neu entstandenes bzw. vorhandenes) Bedürfnis befriedigen k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einflussungen können noch entstehen durch: Einstellung anderer Personen, unvorhergesehene situative Faktoren (z.B. plötzlicher Arbeitsplatzverlus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5: Verhalten nach dem K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565360"/>
            <a:ext cx="7561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uftreten des sogenannten „Kundenkaters“ (Produkt/Dienstleistung erfüllt Erwartungen nicht 100%, eigenes Bedürfnis wird im Nachhinein angezweifelt, neue Informationen treten auf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undenbindung fängt hier an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32000" y="1197000"/>
            <a:ext cx="69818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Erwartungen der Kunden/-innen erfüllen…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2133720"/>
            <a:ext cx="6765840" cy="31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inden Sie die Wünsche und Bedürfniss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hrer Kunden/-innen heraus und verstehen Sie si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als Problemlös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ellen Sie den Nutzen Ihrer Leistungen klar hera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eien Sie zuverlässiger Partner der Kunden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onsequente Kundenorientierung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all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Beschäftig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bessern Sie Ihre Leistungen kontinuierli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28584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892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Erwartungen der Kund/-innen übertreffen, z.B. durch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2637000"/>
            <a:ext cx="770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Leistungen, die nicht selbstverständlich si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ositiv stimmende Aufmerksamkeiten für die Kunden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ondere Leistungsangebote für Stammkunden/-in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ofessionelles Beschwerdemanag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3032280"/>
            <a:ext cx="221004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3048120"/>
            <a:ext cx="1904760" cy="14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56360" y="3068640"/>
            <a:ext cx="2514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thomas.lemken@wupperinst.org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32000" y="1052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Wie entsteht Kundenzufriedenhe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587700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rozessmodell der DIN EN ISO 9001: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2342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280" y="1052640"/>
            <a:ext cx="7993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Grund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6000" y="2204640"/>
            <a:ext cx="74883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macht Kunden/-innen zufrieden?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führt zu Kundenbindu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begeistert Kunden/-inn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veranlasst Kunden/-innen zu Wiederkäuf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Was veranlasst Kunden/-innen zu positiver Mundpropagan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284720" y="2193840"/>
            <a:ext cx="3333600" cy="1697040"/>
            <a:chOff x="4284720" y="2193840"/>
            <a:chExt cx="3333600" cy="1697040"/>
          </a:xfrm>
        </p:grpSpPr>
        <p:sp>
          <p:nvSpPr>
            <p:cNvPr id="53" name=""/>
            <p:cNvSpPr/>
            <p:nvPr/>
          </p:nvSpPr>
          <p:spPr>
            <a:xfrm>
              <a:off x="4284720" y="24984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3560" y="2193840"/>
              <a:ext cx="1904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0000"/>
                  </a:solidFill>
                  <a:latin typeface="Arial Unicode MS"/>
                  <a:ea typeface="Times New Roman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23000" y="249840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6840" y="3046320"/>
              <a:ext cx="20574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geisterte Kunden/-in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250040" y="1660680"/>
            <a:ext cx="1752840" cy="2021400"/>
            <a:chOff x="7250040" y="1660680"/>
            <a:chExt cx="1752840" cy="2021400"/>
          </a:xfrm>
        </p:grpSpPr>
        <p:sp>
          <p:nvSpPr>
            <p:cNvPr id="58" name=""/>
            <p:cNvSpPr/>
            <p:nvPr/>
          </p:nvSpPr>
          <p:spPr>
            <a:xfrm>
              <a:off x="7250040" y="1660680"/>
              <a:ext cx="1752840" cy="15238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50040" y="1660680"/>
              <a:ext cx="1752840" cy="20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ktives positives Verhalt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satzkäufe,                                                      Wiederwah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itive Mundpropag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035680" y="4829040"/>
            <a:ext cx="2200320" cy="1603080"/>
            <a:chOff x="5035680" y="4829040"/>
            <a:chExt cx="2200320" cy="1603080"/>
          </a:xfrm>
        </p:grpSpPr>
        <p:sp>
          <p:nvSpPr>
            <p:cNvPr id="61" name=""/>
            <p:cNvSpPr/>
            <p:nvPr/>
          </p:nvSpPr>
          <p:spPr>
            <a:xfrm>
              <a:off x="5035680" y="50893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02400" y="4829040"/>
              <a:ext cx="990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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02480" y="5089320"/>
              <a:ext cx="533520" cy="533520"/>
            </a:xfrm>
            <a:prstGeom prst="righ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78600" y="569880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zufriedene, enttäuschte Kunden/-in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250040" y="4708440"/>
            <a:ext cx="1981440" cy="1600200"/>
            <a:chOff x="7250040" y="4708440"/>
            <a:chExt cx="1981440" cy="1600200"/>
          </a:xfrm>
        </p:grpSpPr>
        <p:sp>
          <p:nvSpPr>
            <p:cNvPr id="66" name=""/>
            <p:cNvSpPr/>
            <p:nvPr/>
          </p:nvSpPr>
          <p:spPr>
            <a:xfrm>
              <a:off x="7250040" y="4708440"/>
              <a:ext cx="1752840" cy="1600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250040" y="4708440"/>
              <a:ext cx="1981440" cy="15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ktives negatives Verhalt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ktive Abwande-     rungsabsic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gative Mund-propag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32480" y="3489480"/>
            <a:ext cx="2675880" cy="1571040"/>
            <a:chOff x="4632480" y="3489480"/>
            <a:chExt cx="2675880" cy="1571040"/>
          </a:xfrm>
        </p:grpSpPr>
        <p:grpSp>
          <p:nvGrpSpPr>
            <p:cNvPr id="69" name=""/>
            <p:cNvGrpSpPr/>
            <p:nvPr/>
          </p:nvGrpSpPr>
          <p:grpSpPr>
            <a:xfrm>
              <a:off x="4632480" y="3489480"/>
              <a:ext cx="2599560" cy="1099440"/>
              <a:chOff x="4632480" y="3489480"/>
              <a:chExt cx="2599560" cy="1099440"/>
            </a:xfrm>
          </p:grpSpPr>
          <p:sp>
            <p:nvSpPr>
              <p:cNvPr id="70" name=""/>
              <p:cNvSpPr/>
              <p:nvPr/>
            </p:nvSpPr>
            <p:spPr>
              <a:xfrm>
                <a:off x="4632480" y="3794040"/>
                <a:ext cx="533160" cy="532800"/>
              </a:xfrm>
              <a:prstGeom prst="rightArrow">
                <a:avLst>
                  <a:gd name="adj1" fmla="val 50000"/>
                  <a:gd name="adj2" fmla="val 2501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89440" y="3489480"/>
                <a:ext cx="10663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66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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698880" y="3794040"/>
                <a:ext cx="533160" cy="532800"/>
              </a:xfrm>
              <a:prstGeom prst="rightArrow">
                <a:avLst>
                  <a:gd name="adj1" fmla="val 50000"/>
                  <a:gd name="adj2" fmla="val 2501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946400" y="4327200"/>
              <a:ext cx="236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ufriedengestellte, aber indifferente Kunden/-inn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250040" y="3260880"/>
            <a:ext cx="1905120" cy="1382040"/>
            <a:chOff x="7250040" y="3260880"/>
            <a:chExt cx="1905120" cy="1382040"/>
          </a:xfrm>
        </p:grpSpPr>
        <p:sp>
          <p:nvSpPr>
            <p:cNvPr id="75" name=""/>
            <p:cNvSpPr/>
            <p:nvPr/>
          </p:nvSpPr>
          <p:spPr>
            <a:xfrm>
              <a:off x="7250040" y="3260880"/>
              <a:ext cx="190512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ives Verhalt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ffen für Abwerbe-bemüh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assive Mundpropag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250040" y="3260880"/>
              <a:ext cx="175284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87280" y="1628640"/>
            <a:ext cx="4176360" cy="4576680"/>
            <a:chOff x="1187280" y="1628640"/>
            <a:chExt cx="4176360" cy="4576680"/>
          </a:xfrm>
        </p:grpSpPr>
        <p:sp>
          <p:nvSpPr>
            <p:cNvPr id="78" name=""/>
            <p:cNvSpPr/>
            <p:nvPr/>
          </p:nvSpPr>
          <p:spPr>
            <a:xfrm>
              <a:off x="1551600" y="2391480"/>
              <a:ext cx="116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unden-bind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87280" y="3610440"/>
              <a:ext cx="875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eine Kunden- bindu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05280" y="1628640"/>
              <a:ext cx="4158360" cy="4576680"/>
            </a:xfrm>
            <a:prstGeom prst="triangle">
              <a:avLst>
                <a:gd name="adj" fmla="val 50000"/>
              </a:avLst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332720" y="1790640"/>
              <a:ext cx="3866760" cy="4121640"/>
              <a:chOff x="1332720" y="1790640"/>
              <a:chExt cx="3866760" cy="4121640"/>
            </a:xfrm>
          </p:grpSpPr>
          <p:sp>
            <p:nvSpPr>
              <p:cNvPr id="82" name=""/>
              <p:cNvSpPr/>
              <p:nvPr/>
            </p:nvSpPr>
            <p:spPr>
              <a:xfrm>
                <a:off x="2499840" y="1790640"/>
                <a:ext cx="1604880" cy="14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rwartung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übertroff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43200" y="3306600"/>
                <a:ext cx="2918160" cy="115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rwartung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 etwa erfüll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332720" y="4831920"/>
                <a:ext cx="3866760" cy="10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Kundenerwartunge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icht erfüll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843200" y="3382560"/>
                <a:ext cx="2918160" cy="1449000"/>
                <a:chOff x="1843200" y="3382560"/>
                <a:chExt cx="2918160" cy="1449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472480" y="3382560"/>
                  <a:ext cx="1604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843200" y="4831560"/>
                  <a:ext cx="291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8" name=""/>
          <p:cNvSpPr/>
          <p:nvPr/>
        </p:nvSpPr>
        <p:spPr>
          <a:xfrm>
            <a:off x="1187280" y="907920"/>
            <a:ext cx="72597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Pyramide der Kundenzufriedenheit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87280" y="6400800"/>
            <a:ext cx="756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Nach Lippe/Kintzel (2005) : Handwerksmarketing der Zukun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907560"/>
            <a:ext cx="7643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Vorteil Kundenzufriedenhei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76360" y="1989000"/>
            <a:ext cx="71280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zufriedene Kunden/-innen geben ihre schlechten Erfahrungen ca. 11 mal häufiger weiter als ihre positiven mit einem Unter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Zufriedene, begeisterte Kunden/-innen werden Stammkund/-innen. Ziel ist es also, das Stammkundenpotenzial zu erhö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s ist ca. 5-6 mal teurer Neukunden/-innen zu gewinnen, als Stammkunden/-innen zu hal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chte Kundenbindung bedarf aber mehr als gute bis sehr gute handwerkliche Leistu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chte Kundenbindung heißt, etwas zu bieten, was nicht selbstverständlich i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0920" y="2637000"/>
            <a:ext cx="871380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187280" y="12682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Annäherung über die Phasen des Kaufproz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3573360"/>
            <a:ext cx="662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Verdana"/>
              </a:rPr>
              <a:t>Aus Kotler/Bliemel (1992): Marketing-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1: Problemerken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547280" y="2204640"/>
            <a:ext cx="663588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er Konsument oder die Konsumentin erkennt ein Problem oder ein Bedürfn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skrepanz zwischen tatsächlichen Zustand und dem Wunschzust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ntweder normales menschliches Bedürfnis oder externer Stimul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ufmotive spielen eine zunehmende Rol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87280" y="2349360"/>
            <a:ext cx="756144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eschaffung zusätzlicher Informationen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(erhöhte Wachsamkeit oder aktive Informationssuch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formationsquellen der Konsumenten/-innen (persönliche, kommerzielle, öffentliche, Erfahrungsquell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oblem: Überfluss an Informationen überfordert die Konsumenten/-innen – sie reagieren mit Informationsselektion und –reduk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2: Informationss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1268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hase 3: Bewertung der Alternat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2565360"/>
            <a:ext cx="741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aufmotive spielen eine Rolle bei der Bewertung von Alternativ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sychologische Anreizfaktoren für menschliches Verhalten müssen berücksichtigt werden. („Faktor Bauch“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04:39Z</dcterms:modified>
  <cp:revision>17</cp:revision>
  <dc:subject/>
  <dc:title>Kein Folientitel</dc:title>
</cp:coreProperties>
</file>