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8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zufriedenheit mess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1177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E57A7413-D3F2-4CCB-876B-01D7C72E2C9A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52480"/>
            <a:ext cx="7993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UNDENZUFRIEDENHEIT</a:t>
            </a:r>
            <a:br>
              <a:rPr sz="3600"/>
            </a:b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ES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Momentaufna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fachste und kostengünstigste Form der Kundenbefra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icht sinnvoll bei überwiegender Laufkundsch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Endabnahme der Leistung bitten Sie den Kunden/die Kundin um seine/ihre Meinung über Ablauf, die Erfüllung seiner Erwartungen, die Freundlichkeit der Mitarbeiter/-inn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gebnis ist aber immer kritisch zu hinterfragen. Besonderheiten des Auftrages, Kunden, etc. sollten auf dem Fragebogen notier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ftliche Bef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e zwei Jahre umfassende schriftliche Befra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kennen von Entwicklungen, neuen Kundenbedürfnissen, etc. =&gt; Anpassung von Unternehmenszie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istens anonym durch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agebogen muss erarbeitet werden =&gt; Was wollen Sie von Ihrem Kunden/Ihrer Kundin wissen? Was kann er Ihnen sagen (wollen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chten Sie bei Fragebogenerstellung auf geringen Umfang und Verständlichk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cheiden Sie zwischen quantitativen und qualitativen F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ftliche Bef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leichtern Sie die Antworten durch die Vorgabe einer Auswahl von Antwor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sten Sie den Frageb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warten Sie keine zu hohe Rücklaufquote. 20-30 % können bereits ein Erfolg sei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s Telefon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überschaubarem Kundenkr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agebogen muss vorhan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lefoninterview ist die zeitintensivste und teuerste Form der Befragung. Nutzen ist daher genau abzuwä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fessionelle Call-Center bieten solche Befragungen als Service an (www.call-center.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13:02Z</dcterms:modified>
  <cp:revision>17</cp:revision>
  <dc:subject/>
  <dc:title>Kein Folientitel</dc:title>
</cp:coreProperties>
</file>