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68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827360" y="914400"/>
            <a:ext cx="5945040" cy="56530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5286240"/>
            <a:ext cx="1066680" cy="809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042920" y="6599160"/>
            <a:ext cx="482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S2-C1: PowerPoint-Präsentation </a:t>
            </a:r>
            <a:r>
              <a:rPr b="0" lang="en-US" sz="800" spc="-1" strike="noStrike">
                <a:solidFill>
                  <a:srgbClr val="808080"/>
                </a:solidFill>
                <a:latin typeface="Verdana"/>
              </a:rPr>
              <a:t>»Kundenzufriedenheit messen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23280" y="6643800"/>
            <a:ext cx="1177920" cy="2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Folie </a:t>
            </a:r>
            <a:fld id="{9AD7E1A4-F47D-4824-B2AF-DBEED6E51735}" type="slidenum">
              <a:rPr b="0" lang="de-DE" sz="8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4068720" y="260280"/>
            <a:ext cx="2158920" cy="5176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1116000" y="333360"/>
            <a:ext cx="2532240" cy="45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7"/>
          <a:stretch/>
        </p:blipFill>
        <p:spPr>
          <a:xfrm>
            <a:off x="7020000" y="260280"/>
            <a:ext cx="1368360" cy="5256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ingo.rauhut@handwerk-nrw.de" TargetMode="External"/><Relationship Id="rId2" Type="http://schemas.openxmlformats.org/officeDocument/2006/relationships/hyperlink" Target="http://www.handwerk-nrw.de/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42920" y="1752480"/>
            <a:ext cx="79930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KUNDENZUFRIEDENHEIT</a:t>
            </a:r>
            <a:br>
              <a:rPr sz="3600"/>
            </a:b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MESS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76360" y="1197000"/>
            <a:ext cx="59752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ie Momentaufnah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47640" y="1916280"/>
            <a:ext cx="6562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infachste und kostengünstigste Form der Kundenbefragu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Nicht sinnvoll bei überwiegender Laufkundscha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ei Endabnahme der Leistung bitten Sie den Kunden/die Kundin um seine/ihre Meinung über Ablauf, die Erfüllung seiner Erwartungen, die Freundlichkeit der Mitarbeiter/-innen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rgebnis ist aber immer kritisch zu hinterfragen. Besonderheiten des Auftrages, Kunden, etc. sollten auf dem Fragebogen notiert wer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6360" y="1197000"/>
            <a:ext cx="5975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chriftliche Befra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47640" y="1916280"/>
            <a:ext cx="65628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lle zwei Jahre umfassende schriftliche Befragu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rkennen von Entwicklungen, neuen Kundenbedürfnissen, etc. =&gt; Anpassung von Unternehmensziel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Meistens anonym durchgefüh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ragebogen muss erarbeitet werden =&gt; Was wollen Sie von Ihrem Kunden/Ihrer Kundin wissen? Was kann er Ihnen sagen (wollen)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chten Sie bei Fragebogenerstellung auf geringen Umfang und Verständlichke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Unterscheiden Sie zwischen quantitativen und qualitativen Frag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476360" y="1197000"/>
            <a:ext cx="5975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chriftliche Befrag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47640" y="1916280"/>
            <a:ext cx="65628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rleichtern Sie die Antworten durch die Vorgabe einer Auswahl von Antwor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Testen Sie den Fragebog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rwarten Sie keine zu hohe Rücklaufquote. 20-30 % können bereits ein Erfolg sein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76360" y="1197000"/>
            <a:ext cx="5975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as Telefonint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47640" y="1916280"/>
            <a:ext cx="65628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ei überschaubarem Kundenkre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ragebogen muss vorhanden se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Telefoninterview ist die zeitintensivste und teuerste Form der Befragung. Nutzen ist daher genau abzuwäg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rofessionelle Call-Center bieten solche Befragungen als Service an (www.call-center.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95280" y="1219320"/>
            <a:ext cx="762012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odellversuch »Entwicklung und Erprobung eines Weiterbildungskonzeptes zu nachhaltigem Wirtschaften als Zukunftschance für das Handwerk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Gefördert durch das Bundesinstitut für Berufsbildung mit Mitteln des Bundesministeriums für Bildung und Forschung im Rahmen des Modellversuchsschwerpunkt »Berufsbildung für eine nachhaltige Entwicklung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Laufzeit: 01.09.2004-31.08.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3032280"/>
            <a:ext cx="2210040" cy="15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estdeutscher Handwerkskammertag e.V.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Ingo Rauhu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11/3007-722</a:t>
            </a:r>
            <a:br>
              <a:rPr sz="1000"/>
            </a:b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ingo.rauhut@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www.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3048120"/>
            <a:ext cx="1904760" cy="13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Klaus Novy Institut e.V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r. Herbert Klemisc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21/931207-15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erbert.klemisch@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52480" y="592776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bibb.de/nachhaltigke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257800" y="608004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agenda21plus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156360" y="3068640"/>
            <a:ext cx="2514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uppertal Institut für Klima, Umwelt, Energie Gmb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 Rohn/Thomas Lemk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02/2492-245 – 0202/2492-179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.rohn@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thomas.lemken@wupperinst.org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5:48:45Z</dcterms:created>
  <dc:creator>Ingo Rauhut</dc:creator>
  <dc:description/>
  <dc:language>en-US</dc:language>
  <cp:lastModifiedBy>Ingo Rauhut</cp:lastModifiedBy>
  <cp:lastPrinted>2005-02-10T15:49:31Z</cp:lastPrinted>
  <dcterms:modified xsi:type="dcterms:W3CDTF">2007-08-27T14:13:02Z</dcterms:modified>
  <cp:revision>17</cp:revision>
  <dc:subject/>
  <dc:title>Kein Folientitel</dc:title>
</cp:coreProperties>
</file>