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4480"/>
            <a:ext cx="59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2-D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Umgang mit Reklamationen und Beschwerden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3876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D8E4D040-AB81-4DF9-AFA0-F40FB500C0EE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50920" y="162864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UMGANG MIT </a:t>
            </a:r>
            <a:br>
              <a:rPr sz="3200"/>
            </a:b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REKLAMATIONEN UND BESCHWE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60360" y="1484280"/>
            <a:ext cx="763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6 Verhaltensregeln zum Umgang mit Beschwerden/Reklam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2536920"/>
            <a:ext cx="6562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Jede Art von Reklamation erfordert Ruhe und Diszipl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ien Sie ehrlich. „Ehrlich währt am längsten.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uen Sie Beschwerdehemmnisse 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ulen Sie Ihre Mitarbeiter/-in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ten Sie die Beschwerden regelmäßig in Mitarbeiterbesprechungen au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orbeugen ist besser als strei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27082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Vom Glück einen Kunden/eine Kundin zu haben, der/die sich beschwert!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27480" y="2863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9560" y="1746360"/>
            <a:ext cx="597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e Beschwerde bedeut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81200" y="2465280"/>
            <a:ext cx="6562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e Kundin/ein Kunde hat ein Problem mit einem von Ihnen angebotenen Produkt/Dienstleis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e Kundin/ein Kunde gibt Ihnen die Gelegenheit, ihn durch ein überzeugendes Bearbeiten seiner Beschwerde (noch) stärker an sich zu bin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e Kundin/ein Kunde gibt Ihnen die Chance etwas zu lernen und zur Unternehmensverbesserung beizut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03280" y="234936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Jede Art von Reklamation erfordert Ruhe und Diszip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87280" y="2708280"/>
            <a:ext cx="76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Seien Sie ehrlich. </a:t>
            </a:r>
            <a:br>
              <a:rPr sz="2400"/>
            </a:b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„Ehrlich währt am längsten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67200" y="3284640"/>
            <a:ext cx="55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auen Sie Beschwerdehemmnisse 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58440" y="3141720"/>
            <a:ext cx="53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Schulen Sie Ihre Mitarbeiter/-i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47640" y="29242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Werten Sie die Beschwerden regelmäßig in Mitarbeiterbesprechungen a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62480" y="2852640"/>
            <a:ext cx="453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Besser vorbeugen als strei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22:26Z</dcterms:modified>
  <cp:revision>19</cp:revision>
  <dc:subject/>
  <dc:title>Kein Folientitel</dc:title>
</cp:coreProperties>
</file>