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3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Der Seniorenmarkt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476F52E3-35E1-4FDA-BBF6-750D1D02E039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hyperlink" Target="http://www.kni.de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4869000"/>
            <a:ext cx="2438280" cy="93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509760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62864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er Seniorenmar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59500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* Mit freundlicher Unterstützung des Zentrums für Umwelt und Energie der Handwerkskammer Düsseldorf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143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niorenmarkt – Menschen in Za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24160"/>
            <a:ext cx="73152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mographische Entwick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00 war jeder Fünfte über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10 wird jeder Vierte über 60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30 wird jeder Dritte über 60 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chte: Die Erbengeneration ist selbst al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Thes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ein beträchtliches und wachs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fragepotenzial von älteren Men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Bevölkerungspyramide 1950 für Deutschland "/>
          <p:cNvPicPr/>
          <p:nvPr/>
        </p:nvPicPr>
        <p:blipFill>
          <a:blip r:embed="rId1"/>
          <a:stretch/>
        </p:blipFill>
        <p:spPr>
          <a:xfrm>
            <a:off x="7620120" y="1828800"/>
            <a:ext cx="1366560" cy="1447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2" name="" descr="Bevölkerungspyramide 2050 für Deutschland "/>
          <p:cNvPicPr/>
          <p:nvPr/>
        </p:nvPicPr>
        <p:blipFill>
          <a:blip r:embed="rId2"/>
          <a:stretch/>
        </p:blipFill>
        <p:spPr>
          <a:xfrm>
            <a:off x="7620120" y="4114800"/>
            <a:ext cx="1353960" cy="1447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7543800" y="3306600"/>
            <a:ext cx="20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tersaufbau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5592600"/>
            <a:ext cx="20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tersaufbau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2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97164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7164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114300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Der Senior – das unbekannte We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8229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orurte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ierig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ssivität und Ein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zureichende finanziel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ioren leben im 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ummuffel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 Innovationsberei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990720"/>
            <a:ext cx="8762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Der Senior – das unbekannte We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90512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ealitä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svolle und zuverlässi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takt, Lebenslust und Gesell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durchschnittliche Kaufk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5 % leben zu Hause und fa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Hälfe im Eige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 endlich etwas gönnen woll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nehmend aktiv und offen für N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Kaufbereitschaft und Konsumfre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32416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habe es mir verdient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ch einmal an mich zu denk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ein Geld für mich auszugeb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sagen 56 % der 70 bis 75-jäh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Quelle: GfK-Stud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24480" y="3936960"/>
            <a:ext cx="24386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9144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niorenmarkt – Kaufkraft oder Sozialfäl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52720" cy="171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752480"/>
            <a:ext cx="83818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hmenbeding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80% der über 50-jähri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guten bis sehr gu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kommensverhält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i verfügbares Einkommen 1.492 EUR/Mo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Studien NRW 2003, Institut für Arbeit und Technik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chnittliches Vermö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 - 65 Jahre: 90.000 Eur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5 - 75 Jahre: 73.000 Euro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Einkommens- und Verbrauchsstichprobe, Stat. Bundesam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Angebote des Handwerks für Seni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05 Schlagwörter in 12 Katego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ioren- und behindertengerechtes Bau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gem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zung/Klima/Lüf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ü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nster und Tü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ndschutz-/ Sicherheits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kationsanl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ktro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rbe und Raumausstat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dengest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048120"/>
            <a:ext cx="190476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2:35Z</dcterms:modified>
  <cp:revision>21</cp:revision>
  <dc:subject/>
  <dc:title>Kein Folientitel</dc:title>
</cp:coreProperties>
</file>