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4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3-A4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Gesundheit/Wellness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7B190859-0868-4AF3-AF55-448CA86E5B88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herbert.klemisch@kni.de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1628640"/>
            <a:ext cx="748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GESELLSCHAFTLICHE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Gesundheit/Well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622476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* Mit freundlicher Unterstützung des Zentrums für Umwelt und Energie der Handwerkskammer Düsseldorf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12193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Wellness und Gesundheit: </a:t>
            </a:r>
            <a:br>
              <a:rPr sz="2800"/>
            </a:b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Ein Trend für Jung und A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67280" y="279396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00200" y="2666880"/>
            <a:ext cx="7010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üsselbegriff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ürlich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 auch: Wellness, um die Herausforderungen des Alltags bestehen zu kö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7920" y="11430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Was bedeutet Bal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2133720"/>
            <a:ext cx="74678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das ausgeglichene Wohlfü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Um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er eigenen Wo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er Beklei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Erscheinungsb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7920" y="1371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Wellness und Gesundheit: Eine Chance für das Hand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362320"/>
            <a:ext cx="67053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esse zieht sich durch al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völkerungsgru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alität statt Patentre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n Geist des natürlichen Materials i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um fest verankern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nstleistung am Men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99"/>
                </a:solidFill>
                <a:latin typeface="Arial"/>
              </a:rPr>
              <a:t>Wellness Plus: </a:t>
            </a:r>
            <a:r>
              <a:rPr b="1" lang="de-DE" sz="2800" spc="-1" strike="noStrike">
                <a:solidFill>
                  <a:srgbClr val="cc3300"/>
                </a:solidFill>
                <a:latin typeface="Arial"/>
              </a:rPr>
              <a:t>Das gesunde L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Material-Wellnes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hm- und Bioputz, Holzbau ohne Holzschutz-mittel, immisionsarmes Baue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Wohn-Wel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wertung von Bad und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Food-Wel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o-Produkte, Wellness-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Ideen-Wel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ng-Shui, Farbwellness, akustisches W., Elektro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048120"/>
            <a:ext cx="190476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43:46Z</dcterms:modified>
  <cp:revision>23</cp:revision>
  <dc:subject/>
  <dc:title>Kein Folientitel</dc:title>
</cp:coreProperties>
</file>