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A5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Ressourcenverknappung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6FCB6298-E9C7-411D-936F-5E0A84AEFF09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58768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GESELLSCHAFTLICH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Ressourcenverknapp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2421000"/>
            <a:ext cx="6409080" cy="2288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eissteigerungsraten 2005/199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Leichtes Heizöl: + 133,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Erdgas: + 48,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Strom: + 17,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Kraftstoffe: + 60,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Summe: 37,1 % Preissteiger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268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Hochrechnung der Energiekosten vo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515772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Verdana"/>
              </a:rPr>
              <a:t>Quelle: Kornhardt (2006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237960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ä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leisch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ll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inwerkmecha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ll- und Glockengieß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hälter- und Apparate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llbildn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aveu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odell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älteanlagen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chdrucker/-in, Schriftsetzer/-in, Dru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125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andwerkszweige des Verarbeitenden Gewerbes mit relativ hohem Energieverbra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306520"/>
            <a:ext cx="36352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iebdru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lexograf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lektrotech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lektromaschinen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ischl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ahntech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hirugiemecha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rthopädietech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rthopädieschuhmach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i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b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gelmach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attl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77708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85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Weltmarktpreise für Rohstoff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5516640"/>
            <a:ext cx="56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Verdana"/>
              </a:rPr>
              <a:t>Quelle: BMWi Monatsbericht 09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3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cen des Hand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920" y="2781360"/>
            <a:ext cx="7416720" cy="1512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ergiesparendes und ökologisches Bau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ergetische Gebäudesanieru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zentrale Energieversorgungssyst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667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777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47:32Z</dcterms:modified>
  <cp:revision>41</cp:revision>
  <dc:subject/>
  <dc:title>Kein Folientitel</dc:title>
</cp:coreProperties>
</file>