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3-A5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Ressourcenverknappung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EA45D7E4-71AB-443C-BC7A-4A018D8DE510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2587680"/>
            <a:ext cx="748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GESELLSCHAFTLICHE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Ressourcenverknapp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47640" y="2421000"/>
            <a:ext cx="6409080" cy="22885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reissteigerungsraten 2005/199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Leichtes Heizöl: + 133,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Erdgas: + 48,6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Strom: + 17,7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- Kraftstoffe: + 60,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Summe: 37,1 % Preissteigeru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58920" y="1268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Hochrechnung der Energiekosten von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515772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Verdana"/>
              </a:rPr>
              <a:t>Quelle: Kornhardt (2006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2379600"/>
            <a:ext cx="42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äc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leisch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tallbau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einwerkmechani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tall- und Glockengieß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hälter- und Apparatebau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tallbildn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Graveu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odellbau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älteanlagenbau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chdrucker/-in, Schriftsetzer/-in, Druc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112536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Handwerkszweige des Verarbeitenden Gewerbes mit relativ hohem Energieverbrau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2306520"/>
            <a:ext cx="36352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iebdruc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lexograf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lektrotechni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lektromaschinenbau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ischl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ahntechni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Chirugiemechani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rthopädietechni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Orthopädieschuhmach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ick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b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egelmach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•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attler/-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777080" cy="3095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85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Weltmarktpreise für Rohstoff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5516640"/>
            <a:ext cx="56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Verdana"/>
              </a:rPr>
              <a:t>Quelle: BMWi Monatsbericht 09/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125360"/>
            <a:ext cx="73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hancen des Handwe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920" y="2781360"/>
            <a:ext cx="7416720" cy="1512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ergiesparendes und ökologisches Bau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ergetische Gebäudesanieru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zentrale Energieversorgungssyste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76676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7777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47:32Z</dcterms:modified>
  <cp:revision>41</cp:revision>
  <dc:subject/>
  <dc:title>Kein Folientitel</dc:title>
</cp:coreProperties>
</file>