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4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3-C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Marktfähigkeit beurteilen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77D23523-A75F-4970-BFD3-8560C13F408A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herbert.klemisch@kni.de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2365200"/>
            <a:ext cx="739116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MARKTFÄHIGKEIT VON PRODUKTEN/DIENSTLEISTUNGEN BEURTEI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03280" y="1268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Wege zur Beurteilung von Marktfäh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916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Checklis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ABC-Analys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Portfolio-Techn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7128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Portfolio-Techn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92000" y="1988640"/>
            <a:ext cx="677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Methode von Unternehmensberatungen entwicke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Ziel: Auswahl zwischen mehreren Alternativen erleicht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Hinweise und Empfehlungen für Unternehmensstrategien lief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5256360" cy="4546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835280" y="6093000"/>
            <a:ext cx="63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Verdana"/>
              </a:rPr>
              <a:t>Allgemeines Grundschema eines Portfol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5280" y="6116760"/>
            <a:ext cx="63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Verdana"/>
              </a:rPr>
              <a:t>Beispiel: Marktattraktivität-Wettbewerbsvorte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36720" y="1052640"/>
            <a:ext cx="6480360" cy="4952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933720"/>
            <a:ext cx="1074600" cy="1131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292720" y="2708280"/>
            <a:ext cx="9874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048120"/>
            <a:ext cx="190476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50:38Z</dcterms:modified>
  <cp:revision>53</cp:revision>
  <dc:subject/>
  <dc:title>Kein Folientitel</dc:title>
</cp:coreProperties>
</file>