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F28-A5B1-43C4-B9F1-AF22493A1C11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A22F-12B9-4A61-A206-C904E851343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887640" y="936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8764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1480"/>
                <a:tab algn="l" pos="1542960"/>
                <a:tab algn="l" pos="2314440"/>
                <a:tab algn="l" pos="3086280"/>
                <a:tab algn="l" pos="3857760"/>
                <a:tab algn="l" pos="4629240"/>
                <a:tab algn="l" pos="5400720"/>
                <a:tab algn="l" pos="6172200"/>
                <a:tab algn="l" pos="6943680"/>
                <a:tab algn="l" pos="7715160"/>
                <a:tab algn="l" pos="8486640"/>
                <a:tab algn="l" pos="9258480"/>
                <a:tab algn="l" pos="10029960"/>
                <a:tab algn="l" pos="1080144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-1440" y="8705880"/>
            <a:ext cx="296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-1440" y="9360"/>
            <a:ext cx="2968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2400" cy="319716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0800" y="4357800"/>
            <a:ext cx="503244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09AF-1183-4E2D-A2DC-83DC6679EEA4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87640" y="9360"/>
            <a:ext cx="29703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88764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-1440" y="8705880"/>
            <a:ext cx="2968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-1440" y="9360"/>
            <a:ext cx="296856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2960" y="4359240"/>
            <a:ext cx="5029200" cy="386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ED8-86F4-4BE9-A5D3-C1625AFB1398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0666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08080"/>
                </a:solidFill>
                <a:latin typeface="Arial"/>
              </a:rPr>
              <a:t>S5-A1: Einführung in das Prozessmanagement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46A9-0894-413E-8541-CF9BE52E2B54}" type="slidenum">
              <a:rPr b="0" lang="de-DE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948360" y="304920"/>
            <a:ext cx="172908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3880" y="213372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Einführung in das Prozess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9840" indent="-159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327320" y="2666880"/>
            <a:ext cx="194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eigner;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3200400"/>
            <a:ext cx="3340080" cy="146196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eferanten / Nahtstellen (bzgl. Input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on:  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alitätsmanagement: Prüfun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trieb/Verkauf: Kundenvorgaben, 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3600" indent="-9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02320" y="2387520"/>
            <a:ext cx="89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nde/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3720" y="4724280"/>
            <a:ext cx="3335040" cy="1600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mpfänger / Nahtstellen (bzgl. Ergebnis / Output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duktion: Fertigungs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gistik: Versand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b1093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3200400"/>
            <a:ext cx="4245120" cy="312408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urzbeschreibung / Zweck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stenoptimale Erfüllung des Kundenwunsches laut Kunden-, oder Fertigungsauftr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ziel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inhaltung des Liefertermins zu 9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duktion der Auftragskosten um 3% jährl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nkung der Reklamationsquote unter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zeugung von Zusatzverkäufen bei 10% der Auftragsku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zesskenngröß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lation Liefertermin laut Auftrag und tatsächlicher Lieferter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sbezogene Kosten / Kostenstellen: Material, Personal, Neben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zahl Reklamationen; Kundenzufriedenheitsqu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ftrags-/Verkaufswerte der Zusatzverkäuf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124080" y="2286000"/>
            <a:ext cx="5854680" cy="349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32000" y="2743200"/>
            <a:ext cx="5846760" cy="34920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43520" y="22860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xterner Ku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9360" y="274320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err Mü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79520" y="1058760"/>
            <a:ext cx="5492880" cy="99864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998640"/>
              <a:gd name="textAreaBottom" fmla="*/ 998640 h 99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lnTo>
                  <a:pt x="1980" y="10800"/>
                </a:lnTo>
                <a:close/>
              </a:path>
            </a:pathLst>
          </a:custGeom>
          <a:gradFill rotWithShape="0">
            <a:gsLst>
              <a:gs pos="0">
                <a:srgbClr val="ffd831"/>
              </a:gs>
              <a:gs pos="100000">
                <a:srgbClr val="ffec9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ern-Prozess (Unternehmen; Version; Datu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uftragsab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31160" y="1066680"/>
            <a:ext cx="1060560" cy="10591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geliefe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zah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4280" y="990720"/>
            <a:ext cx="1148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494000" y="2708280"/>
            <a:ext cx="4373280" cy="350532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ätigkeiten: Hauptaufgaben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tgegennahme des Kundenauft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en eines Fertigungsauftrags; Einplanung in die Produk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Überwachung“ des Produktions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ung der Versandunterl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stellen der Rechnung; Überprüfung des Zahlungseinga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Parallele Aufgab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rsonalbedarf planen; neue Mitarbeiter auswählen, beurteilen u. integrier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tarbeiterurlaube planen, steuern u. reg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rmitteln des Weiterbildungsbedarfs u. Bewerten der Maßnah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Eigenständige Sub-Prozes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e nach Größe des Unternehm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6440" y="2711520"/>
            <a:ext cx="2776680" cy="164448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ktuelle Störgrößen / Verbesserungspotenziale / Verbesserungsmaßnahm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tretungsregeln nicht gereg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nittstellen nicht eindeutig defin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bsprache mit Prozess Produktion nicht organisi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86440" y="4456080"/>
            <a:ext cx="2776680" cy="1757520"/>
          </a:xfrm>
          <a:prstGeom prst="rect">
            <a:avLst/>
          </a:prstGeom>
          <a:gradFill rotWithShape="0">
            <a:gsLst>
              <a:gs pos="0">
                <a:srgbClr val="becce4"/>
              </a:gs>
              <a:gs pos="100000">
                <a:srgbClr val="d7e0ee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nforderungen / Ressourc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DV-Program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79520" y="1058760"/>
            <a:ext cx="5492880" cy="1047960"/>
          </a:xfrm>
          <a:custGeom>
            <a:avLst/>
            <a:gdLst>
              <a:gd name="textAreaLeft" fmla="*/ 0 w 5492880"/>
              <a:gd name="textAreaRight" fmla="*/ 5493240 w 5492880"/>
              <a:gd name="textAreaTop" fmla="*/ 0 h 1047960"/>
              <a:gd name="textAreaBottom" fmla="*/ 1047960 h 10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20" y="0"/>
                </a:lnTo>
                <a:lnTo>
                  <a:pt x="21600" y="10800"/>
                </a:lnTo>
                <a:lnTo>
                  <a:pt x="19620" y="21600"/>
                </a:lnTo>
                <a:lnTo>
                  <a:pt x="0" y="21600"/>
                </a:lnTo>
                <a:lnTo>
                  <a:pt x="1980" y="10800"/>
                </a:lnTo>
                <a:close/>
              </a:path>
            </a:pathLst>
          </a:custGeom>
          <a:gradFill rotWithShape="0">
            <a:gsLst>
              <a:gs pos="0">
                <a:srgbClr val="ffd831"/>
              </a:gs>
              <a:gs pos="100000">
                <a:srgbClr val="ffec9d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ern-Prozess (Unternehmen; Version; Datum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Auftragsabwick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931160" y="1066680"/>
            <a:ext cx="1060560" cy="10591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geliefe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chn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zah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4280" y="990720"/>
            <a:ext cx="1148040" cy="11430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n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gennah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ndenauftr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kau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6765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Darstellung des Prozessablauf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219320" y="1981080"/>
            <a:ext cx="7848360" cy="4419360"/>
            <a:chOff x="1219320" y="1981080"/>
            <a:chExt cx="7848360" cy="4419360"/>
          </a:xfrm>
        </p:grpSpPr>
        <p:sp>
          <p:nvSpPr>
            <p:cNvPr id="465" name=""/>
            <p:cNvSpPr/>
            <p:nvPr/>
          </p:nvSpPr>
          <p:spPr>
            <a:xfrm>
              <a:off x="1219320" y="1981080"/>
              <a:ext cx="7848360" cy="441936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8240" bIns="48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600200" y="3862440"/>
              <a:ext cx="762120" cy="4017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7920" y="2221920"/>
              <a:ext cx="1066680" cy="6426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74000" y="2221920"/>
              <a:ext cx="1523880" cy="6426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Verantwortli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00400" y="2221920"/>
              <a:ext cx="1676520" cy="642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62720" y="2221920"/>
              <a:ext cx="1066680" cy="64260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600200" y="4391640"/>
              <a:ext cx="762120" cy="4014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4953960"/>
              <a:ext cx="762120" cy="4017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72240" y="3862440"/>
              <a:ext cx="761760" cy="4017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72240" y="4391640"/>
              <a:ext cx="761760" cy="40140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72240" y="4953960"/>
              <a:ext cx="761760" cy="4017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38480" y="3541320"/>
              <a:ext cx="0" cy="2330280"/>
            </a:xfrm>
            <a:prstGeom prst="line">
              <a:avLst/>
            </a:prstGeom>
            <a:ln w="2844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14600" y="41036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46328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14600" y="519516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76920" y="41036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76920" y="463284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76920" y="5195160"/>
              <a:ext cx="685800" cy="0"/>
            </a:xfrm>
            <a:prstGeom prst="line">
              <a:avLst/>
            </a:prstGeom>
            <a:ln w="9360">
              <a:solidFill>
                <a:srgbClr val="001e6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4000" y="386244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eamleiter 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074000" y="443844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bt.leiter 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086600" y="5001120"/>
              <a:ext cx="1523880" cy="337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err Hu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4471920"/>
              <a:ext cx="1219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429000" y="5034600"/>
              <a:ext cx="121932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29000" y="3862440"/>
              <a:ext cx="121932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429000" y="3025440"/>
              <a:ext cx="1219320" cy="595800"/>
            </a:xfrm>
            <a:prstGeom prst="flowChartAlternateProcess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finierter 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5677200"/>
              <a:ext cx="1219320" cy="595800"/>
            </a:xfrm>
            <a:prstGeom prst="flowChartAlternateProcess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efiniertes E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4723560" y="3460680"/>
              <a:ext cx="762120" cy="562320"/>
            </a:xfrm>
            <a:prstGeom prst="lightningBol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Prozessaufnahme an der Pinnwan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932120" y="1523880"/>
            <a:ext cx="637380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827360" y="2519280"/>
            <a:ext cx="67402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art- und Endpunkt bestimmen, bevor die einzelnen Prozessschritte beschrieben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beteiligte in die Prozessaufnahme mit einbinden. Sie haben die besten Kenntnisse über die tatsächlichen Abläufe und mögliche Verbesserun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f die Erfüllung der Kundenanforderungen fokussie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icht in die Erstellung der perfekten Flussdiagramme verzetteln, in denen jede Tätigkeit bis ins kleinste beschrieben 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beschreibungen nicht „überfracht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52480" y="143640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Empfehlungen für die Prozessaufnah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Wann ist Prozessaufnahme sinnvoll?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22520" y="1716120"/>
            <a:ext cx="5908680" cy="4532400"/>
          </a:xfrm>
          <a:prstGeom prst="rect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48240" y="3171960"/>
            <a:ext cx="3868560" cy="788760"/>
          </a:xfrm>
          <a:custGeom>
            <a:avLst/>
            <a:gdLst/>
            <a:ahLst/>
            <a:rect l="l" t="t" r="r" b="b"/>
            <a:pathLst>
              <a:path w="1811" h="454">
                <a:moveTo>
                  <a:pt x="1811" y="0"/>
                </a:moveTo>
                <a:lnTo>
                  <a:pt x="0" y="454"/>
                </a:lnTo>
                <a:lnTo>
                  <a:pt x="1811" y="454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48240" y="3960720"/>
            <a:ext cx="3868560" cy="808200"/>
          </a:xfrm>
          <a:custGeom>
            <a:avLst/>
            <a:gdLst/>
            <a:ahLst/>
            <a:rect l="l" t="t" r="r" b="b"/>
            <a:pathLst>
              <a:path w="1811" h="463">
                <a:moveTo>
                  <a:pt x="1811" y="0"/>
                </a:moveTo>
                <a:lnTo>
                  <a:pt x="0" y="463"/>
                </a:lnTo>
                <a:lnTo>
                  <a:pt x="1811" y="463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48240" y="4753080"/>
            <a:ext cx="3868560" cy="792000"/>
          </a:xfrm>
          <a:custGeom>
            <a:avLst/>
            <a:gdLst/>
            <a:ahLst/>
            <a:rect l="l" t="t" r="r" b="b"/>
            <a:pathLst>
              <a:path w="1811" h="455">
                <a:moveTo>
                  <a:pt x="1811" y="0"/>
                </a:moveTo>
                <a:lnTo>
                  <a:pt x="0" y="455"/>
                </a:lnTo>
                <a:lnTo>
                  <a:pt x="1811" y="455"/>
                </a:lnTo>
                <a:lnTo>
                  <a:pt x="1811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48240" y="2397240"/>
            <a:ext cx="3911400" cy="787320"/>
          </a:xfrm>
          <a:custGeom>
            <a:avLst/>
            <a:gdLst/>
            <a:ahLst/>
            <a:rect l="l" t="t" r="r" b="b"/>
            <a:pathLst>
              <a:path w="2464" h="496">
                <a:moveTo>
                  <a:pt x="2442" y="495"/>
                </a:moveTo>
                <a:lnTo>
                  <a:pt x="2464" y="0"/>
                </a:lnTo>
                <a:lnTo>
                  <a:pt x="0" y="496"/>
                </a:lnTo>
                <a:lnTo>
                  <a:pt x="2442" y="495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48240" y="2392200"/>
            <a:ext cx="3868560" cy="792360"/>
          </a:xfrm>
          <a:custGeom>
            <a:avLst/>
            <a:gdLst/>
            <a:ahLst/>
            <a:rect l="l" t="t" r="r" b="b"/>
            <a:pathLst>
              <a:path w="1811" h="455">
                <a:moveTo>
                  <a:pt x="0" y="0"/>
                </a:moveTo>
                <a:lnTo>
                  <a:pt x="1811" y="455"/>
                </a:lnTo>
                <a:lnTo>
                  <a:pt x="0" y="45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22520" y="2392200"/>
            <a:ext cx="5908320" cy="3154320"/>
            <a:chOff x="2522520" y="2392200"/>
            <a:chExt cx="5908320" cy="3154320"/>
          </a:xfrm>
        </p:grpSpPr>
        <p:sp>
          <p:nvSpPr>
            <p:cNvPr id="504" name=""/>
            <p:cNvSpPr/>
            <p:nvPr/>
          </p:nvSpPr>
          <p:spPr>
            <a:xfrm>
              <a:off x="2522520" y="239220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22520" y="318420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22520" y="396072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22520" y="476676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22520" y="5545080"/>
              <a:ext cx="5908320" cy="1440"/>
            </a:xfrm>
            <a:prstGeom prst="line">
              <a:avLst/>
            </a:prstGeom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454824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519880" y="1600200"/>
            <a:ext cx="144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9116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462800" y="1600200"/>
            <a:ext cx="0" cy="47242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88080" y="49766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25440" y="518472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60360" y="50734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03280" y="506088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750440" y="49482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751160" y="51577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29240" y="4059360"/>
            <a:ext cx="8510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selt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32080" y="426708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70800" y="411480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79440" y="432432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744600" y="412920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äufig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03280" y="43369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769520" y="403236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894440" y="4032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92840" y="424008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äufi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590240" y="444960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888080" y="33368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825440" y="354492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60360" y="341964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03280" y="343548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0440" y="333684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751160" y="35449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88080" y="258588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93400" y="279576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823720" y="26686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ied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38120" y="268272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50440" y="257328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h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46120" y="278136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600320" y="177624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Routine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0876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723720" y="177624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Regel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6124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696640" y="1776240"/>
            <a:ext cx="659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rojekt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8168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96280" y="1776240"/>
            <a:ext cx="57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inzel-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46760" y="19591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77920" y="2573280"/>
            <a:ext cx="1107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Einfachhei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er Aufgab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51560" y="3473280"/>
            <a:ext cx="1381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Strukturierbarke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60280" y="4257720"/>
            <a:ext cx="114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Gleichartigke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92160" y="5052960"/>
            <a:ext cx="1546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Wiederholungsgr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672320" y="5692680"/>
            <a:ext cx="480960" cy="47304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724800" y="5692680"/>
            <a:ext cx="479160" cy="4730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746680" y="5692680"/>
            <a:ext cx="479520" cy="47304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808520" y="5692680"/>
            <a:ext cx="482760" cy="47304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22760" y="5638680"/>
            <a:ext cx="140904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Nutzen einer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detaillierten </a:t>
            </a:r>
            <a:br>
              <a:rPr sz="1300"/>
            </a:br>
            <a:r>
              <a:rPr b="1" lang="de-DE" sz="1300" spc="-1" strike="noStrike">
                <a:solidFill>
                  <a:srgbClr val="000000"/>
                </a:solidFill>
                <a:latin typeface="Arial"/>
              </a:rPr>
              <a:t>Prozessaufnah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1981080" y="2472840"/>
            <a:ext cx="69343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-Optim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orauf können sich </a:t>
            </a:r>
            <a:br>
              <a:rPr sz="3400"/>
            </a:b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Ziele beziehe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600200" y="2133720"/>
            <a:ext cx="7041960" cy="4217400"/>
            <a:chOff x="1600200" y="2133720"/>
            <a:chExt cx="7041960" cy="4217400"/>
          </a:xfrm>
        </p:grpSpPr>
        <p:sp>
          <p:nvSpPr>
            <p:cNvPr id="561" name=""/>
            <p:cNvSpPr/>
            <p:nvPr/>
          </p:nvSpPr>
          <p:spPr>
            <a:xfrm>
              <a:off x="1600200" y="2133720"/>
              <a:ext cx="220932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Effektivität 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16880" y="2133720"/>
              <a:ext cx="220824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Effizienz 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00200" y="5280120"/>
              <a:ext cx="220932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ie gewünschten Ergebni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erden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16880" y="5280120"/>
              <a:ext cx="220824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er erforderliche Proz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ird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00200" y="3873960"/>
              <a:ext cx="220932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as Ergebnis des Prozesses </a:t>
              </a:r>
              <a:br>
                <a:rPr sz="1400"/>
              </a:b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16880" y="3873960"/>
              <a:ext cx="220824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 der Proz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zur Erbringung des Ergebni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00200" y="2802960"/>
              <a:ext cx="220932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richtigen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nge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s Prozessergebnis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16880" y="2802960"/>
              <a:ext cx="220824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Dinge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richtig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r Prozessdurchführ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2304000" y="4878360"/>
              <a:ext cx="80136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719600" y="4878360"/>
              <a:ext cx="80352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2840" y="2133720"/>
              <a:ext cx="2209320" cy="535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Stabilität</a:t>
              </a:r>
              <a:br>
                <a:rPr sz="1600"/>
              </a:br>
              <a:r>
                <a:rPr b="1" lang="de-DE" sz="1600" spc="-1" strike="noStrike">
                  <a:solidFill>
                    <a:srgbClr val="000066"/>
                  </a:solidFill>
                  <a:latin typeface="Arial"/>
                </a:rPr>
                <a:t> 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432840" y="5280120"/>
              <a:ext cx="2209320" cy="1071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Arial"/>
                </a:rPr>
                <a:t>die erlaubten Abweichun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werden klar definie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32840" y="3873960"/>
              <a:ext cx="2209320" cy="1071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spricht die 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bei der Durchführung des Prozes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en gestellten Anforderunge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32840" y="2802960"/>
              <a:ext cx="2209320" cy="10706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ie Dinge </a:t>
              </a:r>
              <a:br>
                <a:rPr sz="1800"/>
              </a:b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immer richtig t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66"/>
                  </a:solidFill>
                  <a:latin typeface="Arial"/>
                </a:rPr>
                <a:t>Güte der Prozessqualitä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136640" y="4878360"/>
              <a:ext cx="801360" cy="334800"/>
            </a:xfrm>
            <a:prstGeom prst="upArrow">
              <a:avLst>
                <a:gd name="adj1" fmla="val 55991"/>
                <a:gd name="adj2" fmla="val 38333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9448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Ableitung von Zielen </a:t>
            </a:r>
            <a:br>
              <a:rPr sz="3400"/>
            </a:b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für den Sollproz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447920" y="1905120"/>
            <a:ext cx="7314840" cy="4495680"/>
            <a:chOff x="1447920" y="1905120"/>
            <a:chExt cx="7314840" cy="4495680"/>
          </a:xfrm>
        </p:grpSpPr>
        <p:sp>
          <p:nvSpPr>
            <p:cNvPr id="578" name=""/>
            <p:cNvSpPr/>
            <p:nvPr/>
          </p:nvSpPr>
          <p:spPr>
            <a:xfrm>
              <a:off x="5958720" y="1905120"/>
              <a:ext cx="88524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35960" y="1905120"/>
              <a:ext cx="22680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28200" y="3903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300840" y="1905120"/>
              <a:ext cx="88524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186440" y="4340160"/>
              <a:ext cx="177228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43960" y="3903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86440" y="3403440"/>
              <a:ext cx="2576880" cy="99900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Wechselwirk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der Kategor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66"/>
                  </a:solidFill>
                  <a:latin typeface="Arial"/>
                </a:rPr>
                <a:t>bei Zielablei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86440" y="5900760"/>
              <a:ext cx="4430160" cy="499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28200" y="5900760"/>
              <a:ext cx="1772640" cy="499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28200" y="1905120"/>
              <a:ext cx="443016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43960" y="1905120"/>
              <a:ext cx="1772640" cy="4993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86440" y="2466720"/>
              <a:ext cx="177228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rodukt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rojekt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okumenten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Toolvielfal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86440" y="5339160"/>
              <a:ext cx="177228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Kun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itarbe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artn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Beschwerdehäufigk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843960" y="4902120"/>
              <a:ext cx="177264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rbeitsunfä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Schwachstell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atenverlu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Verfügbark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843960" y="2903760"/>
              <a:ext cx="177264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last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Maschin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Pers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28200" y="2903760"/>
              <a:ext cx="1772640" cy="9990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Entwicklungs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Durchlauf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twortz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Termintre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28200" y="4902120"/>
              <a:ext cx="1772640" cy="998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82440" bIns="82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be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usschu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zahl Retour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1200" spc="-1" strike="noStrike">
                  <a:solidFill>
                    <a:srgbClr val="3333cc"/>
                  </a:solidFill>
                  <a:latin typeface="Arial"/>
                </a:rPr>
                <a:t>Anzahl Änderung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47920" y="440244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43960" y="2404440"/>
              <a:ext cx="17726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86440" y="196740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447920" y="240444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43960" y="4402440"/>
              <a:ext cx="177264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86440" y="4839480"/>
              <a:ext cx="1772280" cy="49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43960" y="2404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Kos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86440" y="1967400"/>
              <a:ext cx="177228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Einfach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28200" y="2404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Z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528200" y="4402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Qual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86440" y="4839480"/>
              <a:ext cx="177228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Zufrieden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843960" y="4402440"/>
              <a:ext cx="1772640" cy="4993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Sicherhe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 rot="5400000">
              <a:off x="4943160" y="3543840"/>
              <a:ext cx="2997000" cy="966240"/>
            </a:xfrm>
            <a:custGeom>
              <a:avLst/>
              <a:gdLst>
                <a:gd name="textAreaLeft" fmla="*/ 594000 w 2997000"/>
                <a:gd name="textAreaRight" fmla="*/ 2102400 w 2997000"/>
                <a:gd name="textAreaTop" fmla="*/ 129240 h 966240"/>
                <a:gd name="textAreaBottom" fmla="*/ 837000 h 9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-2897840"/>
                  <a:lnTo>
                    <a:pt x="21110" y="7200"/>
                  </a:lnTo>
                  <a:lnTo>
                    <a:pt x="18291" y="0"/>
                  </a:lnTo>
                  <a:lnTo>
                    <a:pt x="14491" y="7200"/>
                  </a:lnTo>
                  <a:lnTo>
                    <a:pt x="16651" y="7200"/>
                  </a:lnTo>
                  <a:arcTo wR="8571" hR="21600" stAng="2502160" swAng="2713400"/>
                  <a:lnTo>
                    <a:pt x="9720" y="21405"/>
                  </a:lnTo>
                  <a:arcTo wR="8571" hR="21600" stAng="5584440" swAng="5215560"/>
                  <a:close/>
                </a:path>
                <a:path fill="darkenLess"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184440"/>
                  <a:lnTo>
                    <a:pt x="9720" y="21405"/>
                  </a:lnTo>
                  <a:arcTo wR="8571" hR="21600" stAng="5584440" swAng="5215560"/>
                  <a:close/>
                </a:path>
              </a:pathLst>
            </a:cu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5400000">
              <a:off x="2204640" y="3794040"/>
              <a:ext cx="2997000" cy="966240"/>
            </a:xfrm>
            <a:custGeom>
              <a:avLst/>
              <a:gdLst>
                <a:gd name="textAreaLeft" fmla="*/ 594360 w 2997000"/>
                <a:gd name="textAreaRight" fmla="*/ 2102760 w 2997000"/>
                <a:gd name="textAreaTop" fmla="*/ 129240 h 966240"/>
                <a:gd name="textAreaBottom" fmla="*/ 837000 h 96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-2897840"/>
                  <a:lnTo>
                    <a:pt x="21110" y="7200"/>
                  </a:lnTo>
                  <a:lnTo>
                    <a:pt x="18291" y="0"/>
                  </a:lnTo>
                  <a:lnTo>
                    <a:pt x="14491" y="7200"/>
                  </a:lnTo>
                  <a:lnTo>
                    <a:pt x="16651" y="7200"/>
                  </a:lnTo>
                  <a:arcTo wR="8571" hR="21600" stAng="2502160" swAng="2713400"/>
                  <a:lnTo>
                    <a:pt x="9720" y="21405"/>
                  </a:lnTo>
                  <a:arcTo wR="8571" hR="21600" stAng="5584440" swAng="5215560"/>
                  <a:close/>
                </a:path>
                <a:path fill="darkenLess" w="21600" h="21600">
                  <a:moveTo>
                    <a:pt x="0" y="0"/>
                  </a:moveTo>
                  <a:arcTo wR="8571" hR="21600" stAng="10800000" swAng="-5400000"/>
                  <a:lnTo>
                    <a:pt x="10870" y="21600"/>
                  </a:lnTo>
                  <a:arcTo wR="8571" hR="21600" stAng="5400000" swAng="184440"/>
                  <a:lnTo>
                    <a:pt x="9720" y="21405"/>
                  </a:lnTo>
                  <a:arcTo wR="8571" hR="21600" stAng="5584440" swAng="5215560"/>
                  <a:close/>
                </a:path>
              </a:pathLst>
            </a:cu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47920" y="1905120"/>
              <a:ext cx="80280" cy="44956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4242600" y="3694320"/>
              <a:ext cx="1069560" cy="1207080"/>
              <a:chOff x="4242600" y="3694320"/>
              <a:chExt cx="1069560" cy="1207080"/>
            </a:xfrm>
          </p:grpSpPr>
          <p:sp>
            <p:nvSpPr>
              <p:cNvPr id="611" name=""/>
              <p:cNvSpPr/>
              <p:nvPr/>
            </p:nvSpPr>
            <p:spPr>
              <a:xfrm>
                <a:off x="4644000" y="4096440"/>
                <a:ext cx="276840" cy="425160"/>
              </a:xfrm>
              <a:custGeom>
                <a:avLst/>
                <a:gdLst/>
                <a:ahLst/>
                <a:rect l="l" t="t" r="r" b="b"/>
                <a:pathLst>
                  <a:path w="331" h="654">
                    <a:moveTo>
                      <a:pt x="78" y="52"/>
                    </a:moveTo>
                    <a:lnTo>
                      <a:pt x="113" y="14"/>
                    </a:lnTo>
                    <a:lnTo>
                      <a:pt x="182" y="0"/>
                    </a:lnTo>
                    <a:lnTo>
                      <a:pt x="240" y="14"/>
                    </a:lnTo>
                    <a:lnTo>
                      <a:pt x="272" y="35"/>
                    </a:lnTo>
                    <a:lnTo>
                      <a:pt x="298" y="78"/>
                    </a:lnTo>
                    <a:lnTo>
                      <a:pt x="321" y="154"/>
                    </a:lnTo>
                    <a:lnTo>
                      <a:pt x="331" y="235"/>
                    </a:lnTo>
                    <a:lnTo>
                      <a:pt x="331" y="384"/>
                    </a:lnTo>
                    <a:lnTo>
                      <a:pt x="298" y="512"/>
                    </a:lnTo>
                    <a:lnTo>
                      <a:pt x="250" y="584"/>
                    </a:lnTo>
                    <a:lnTo>
                      <a:pt x="201" y="625"/>
                    </a:lnTo>
                    <a:lnTo>
                      <a:pt x="145" y="654"/>
                    </a:lnTo>
                    <a:lnTo>
                      <a:pt x="67" y="651"/>
                    </a:lnTo>
                    <a:lnTo>
                      <a:pt x="6" y="608"/>
                    </a:lnTo>
                    <a:lnTo>
                      <a:pt x="0" y="555"/>
                    </a:lnTo>
                    <a:lnTo>
                      <a:pt x="29" y="477"/>
                    </a:lnTo>
                    <a:lnTo>
                      <a:pt x="55" y="390"/>
                    </a:lnTo>
                    <a:lnTo>
                      <a:pt x="64" y="276"/>
                    </a:lnTo>
                    <a:lnTo>
                      <a:pt x="49" y="180"/>
                    </a:lnTo>
                    <a:lnTo>
                      <a:pt x="49" y="110"/>
                    </a:lnTo>
                    <a:lnTo>
                      <a:pt x="78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747680" y="4474800"/>
                <a:ext cx="318960" cy="420120"/>
              </a:xfrm>
              <a:custGeom>
                <a:avLst/>
                <a:gdLst/>
                <a:ahLst/>
                <a:rect l="l" t="t" r="r" b="b"/>
                <a:pathLst>
                  <a:path w="379" h="647">
                    <a:moveTo>
                      <a:pt x="127" y="27"/>
                    </a:moveTo>
                    <a:lnTo>
                      <a:pt x="81" y="0"/>
                    </a:lnTo>
                    <a:lnTo>
                      <a:pt x="23" y="0"/>
                    </a:lnTo>
                    <a:lnTo>
                      <a:pt x="0" y="35"/>
                    </a:lnTo>
                    <a:lnTo>
                      <a:pt x="9" y="87"/>
                    </a:lnTo>
                    <a:lnTo>
                      <a:pt x="61" y="139"/>
                    </a:lnTo>
                    <a:lnTo>
                      <a:pt x="168" y="186"/>
                    </a:lnTo>
                    <a:lnTo>
                      <a:pt x="292" y="287"/>
                    </a:lnTo>
                    <a:lnTo>
                      <a:pt x="312" y="331"/>
                    </a:lnTo>
                    <a:lnTo>
                      <a:pt x="301" y="352"/>
                    </a:lnTo>
                    <a:lnTo>
                      <a:pt x="208" y="419"/>
                    </a:lnTo>
                    <a:lnTo>
                      <a:pt x="97" y="497"/>
                    </a:lnTo>
                    <a:lnTo>
                      <a:pt x="71" y="532"/>
                    </a:lnTo>
                    <a:lnTo>
                      <a:pt x="71" y="566"/>
                    </a:lnTo>
                    <a:lnTo>
                      <a:pt x="156" y="604"/>
                    </a:lnTo>
                    <a:lnTo>
                      <a:pt x="286" y="647"/>
                    </a:lnTo>
                    <a:lnTo>
                      <a:pt x="331" y="647"/>
                    </a:lnTo>
                    <a:lnTo>
                      <a:pt x="379" y="618"/>
                    </a:lnTo>
                    <a:lnTo>
                      <a:pt x="379" y="595"/>
                    </a:lnTo>
                    <a:lnTo>
                      <a:pt x="344" y="584"/>
                    </a:lnTo>
                    <a:lnTo>
                      <a:pt x="179" y="566"/>
                    </a:lnTo>
                    <a:lnTo>
                      <a:pt x="116" y="552"/>
                    </a:lnTo>
                    <a:lnTo>
                      <a:pt x="110" y="526"/>
                    </a:lnTo>
                    <a:lnTo>
                      <a:pt x="217" y="453"/>
                    </a:lnTo>
                    <a:lnTo>
                      <a:pt x="334" y="384"/>
                    </a:lnTo>
                    <a:lnTo>
                      <a:pt x="360" y="358"/>
                    </a:lnTo>
                    <a:lnTo>
                      <a:pt x="370" y="322"/>
                    </a:lnTo>
                    <a:lnTo>
                      <a:pt x="360" y="273"/>
                    </a:lnTo>
                    <a:lnTo>
                      <a:pt x="324" y="235"/>
                    </a:lnTo>
                    <a:lnTo>
                      <a:pt x="208" y="108"/>
                    </a:lnTo>
                    <a:lnTo>
                      <a:pt x="12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331520" y="4453920"/>
                <a:ext cx="396000" cy="447480"/>
              </a:xfrm>
              <a:custGeom>
                <a:avLst/>
                <a:gdLst/>
                <a:ahLst/>
                <a:rect l="l" t="t" r="r" b="b"/>
                <a:pathLst>
                  <a:path w="473" h="688">
                    <a:moveTo>
                      <a:pt x="257" y="93"/>
                    </a:moveTo>
                    <a:lnTo>
                      <a:pt x="332" y="35"/>
                    </a:lnTo>
                    <a:lnTo>
                      <a:pt x="404" y="0"/>
                    </a:lnTo>
                    <a:lnTo>
                      <a:pt x="450" y="6"/>
                    </a:lnTo>
                    <a:lnTo>
                      <a:pt x="473" y="35"/>
                    </a:lnTo>
                    <a:lnTo>
                      <a:pt x="473" y="67"/>
                    </a:lnTo>
                    <a:lnTo>
                      <a:pt x="459" y="101"/>
                    </a:lnTo>
                    <a:lnTo>
                      <a:pt x="410" y="122"/>
                    </a:lnTo>
                    <a:lnTo>
                      <a:pt x="312" y="171"/>
                    </a:lnTo>
                    <a:lnTo>
                      <a:pt x="254" y="232"/>
                    </a:lnTo>
                    <a:lnTo>
                      <a:pt x="215" y="304"/>
                    </a:lnTo>
                    <a:lnTo>
                      <a:pt x="205" y="348"/>
                    </a:lnTo>
                    <a:lnTo>
                      <a:pt x="257" y="401"/>
                    </a:lnTo>
                    <a:lnTo>
                      <a:pt x="312" y="476"/>
                    </a:lnTo>
                    <a:lnTo>
                      <a:pt x="352" y="546"/>
                    </a:lnTo>
                    <a:lnTo>
                      <a:pt x="361" y="589"/>
                    </a:lnTo>
                    <a:lnTo>
                      <a:pt x="361" y="615"/>
                    </a:lnTo>
                    <a:lnTo>
                      <a:pt x="335" y="633"/>
                    </a:lnTo>
                    <a:lnTo>
                      <a:pt x="254" y="636"/>
                    </a:lnTo>
                    <a:lnTo>
                      <a:pt x="130" y="662"/>
                    </a:lnTo>
                    <a:lnTo>
                      <a:pt x="107" y="685"/>
                    </a:lnTo>
                    <a:lnTo>
                      <a:pt x="88" y="688"/>
                    </a:lnTo>
                    <a:lnTo>
                      <a:pt x="0" y="662"/>
                    </a:lnTo>
                    <a:lnTo>
                      <a:pt x="0" y="636"/>
                    </a:lnTo>
                    <a:lnTo>
                      <a:pt x="39" y="615"/>
                    </a:lnTo>
                    <a:lnTo>
                      <a:pt x="195" y="589"/>
                    </a:lnTo>
                    <a:lnTo>
                      <a:pt x="277" y="598"/>
                    </a:lnTo>
                    <a:lnTo>
                      <a:pt x="315" y="598"/>
                    </a:lnTo>
                    <a:lnTo>
                      <a:pt x="326" y="584"/>
                    </a:lnTo>
                    <a:lnTo>
                      <a:pt x="293" y="520"/>
                    </a:lnTo>
                    <a:lnTo>
                      <a:pt x="225" y="436"/>
                    </a:lnTo>
                    <a:lnTo>
                      <a:pt x="176" y="374"/>
                    </a:lnTo>
                    <a:lnTo>
                      <a:pt x="156" y="339"/>
                    </a:lnTo>
                    <a:lnTo>
                      <a:pt x="156" y="287"/>
                    </a:lnTo>
                    <a:lnTo>
                      <a:pt x="188" y="200"/>
                    </a:lnTo>
                    <a:lnTo>
                      <a:pt x="218" y="145"/>
                    </a:lnTo>
                    <a:lnTo>
                      <a:pt x="257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42600" y="3918240"/>
                <a:ext cx="416520" cy="416160"/>
              </a:xfrm>
              <a:custGeom>
                <a:avLst/>
                <a:gdLst/>
                <a:ahLst/>
                <a:rect l="l" t="t" r="r" b="b"/>
                <a:pathLst>
                  <a:path w="496" h="640">
                    <a:moveTo>
                      <a:pt x="61" y="621"/>
                    </a:moveTo>
                    <a:lnTo>
                      <a:pt x="97" y="640"/>
                    </a:lnTo>
                    <a:lnTo>
                      <a:pt x="123" y="621"/>
                    </a:lnTo>
                    <a:lnTo>
                      <a:pt x="189" y="540"/>
                    </a:lnTo>
                    <a:lnTo>
                      <a:pt x="306" y="470"/>
                    </a:lnTo>
                    <a:lnTo>
                      <a:pt x="387" y="456"/>
                    </a:lnTo>
                    <a:lnTo>
                      <a:pt x="480" y="447"/>
                    </a:lnTo>
                    <a:lnTo>
                      <a:pt x="496" y="409"/>
                    </a:lnTo>
                    <a:lnTo>
                      <a:pt x="473" y="368"/>
                    </a:lnTo>
                    <a:lnTo>
                      <a:pt x="415" y="357"/>
                    </a:lnTo>
                    <a:lnTo>
                      <a:pt x="333" y="374"/>
                    </a:lnTo>
                    <a:lnTo>
                      <a:pt x="216" y="452"/>
                    </a:lnTo>
                    <a:lnTo>
                      <a:pt x="144" y="522"/>
                    </a:lnTo>
                    <a:lnTo>
                      <a:pt x="100" y="557"/>
                    </a:lnTo>
                    <a:lnTo>
                      <a:pt x="73" y="517"/>
                    </a:lnTo>
                    <a:lnTo>
                      <a:pt x="77" y="418"/>
                    </a:lnTo>
                    <a:lnTo>
                      <a:pt x="108" y="296"/>
                    </a:lnTo>
                    <a:lnTo>
                      <a:pt x="144" y="256"/>
                    </a:lnTo>
                    <a:lnTo>
                      <a:pt x="194" y="220"/>
                    </a:lnTo>
                    <a:lnTo>
                      <a:pt x="225" y="191"/>
                    </a:lnTo>
                    <a:lnTo>
                      <a:pt x="138" y="134"/>
                    </a:lnTo>
                    <a:lnTo>
                      <a:pt x="61" y="64"/>
                    </a:lnTo>
                    <a:lnTo>
                      <a:pt x="46" y="0"/>
                    </a:lnTo>
                    <a:lnTo>
                      <a:pt x="11" y="3"/>
                    </a:lnTo>
                    <a:lnTo>
                      <a:pt x="0" y="87"/>
                    </a:lnTo>
                    <a:lnTo>
                      <a:pt x="65" y="139"/>
                    </a:lnTo>
                    <a:lnTo>
                      <a:pt x="135" y="195"/>
                    </a:lnTo>
                    <a:lnTo>
                      <a:pt x="100" y="252"/>
                    </a:lnTo>
                    <a:lnTo>
                      <a:pt x="65" y="322"/>
                    </a:lnTo>
                    <a:lnTo>
                      <a:pt x="42" y="412"/>
                    </a:lnTo>
                    <a:lnTo>
                      <a:pt x="26" y="504"/>
                    </a:lnTo>
                    <a:lnTo>
                      <a:pt x="42" y="584"/>
                    </a:lnTo>
                    <a:lnTo>
                      <a:pt x="61" y="6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19400" y="3694320"/>
                <a:ext cx="392760" cy="451440"/>
              </a:xfrm>
              <a:custGeom>
                <a:avLst/>
                <a:gdLst/>
                <a:ahLst/>
                <a:rect l="l" t="t" r="r" b="b"/>
                <a:pathLst>
                  <a:path w="468" h="694">
                    <a:moveTo>
                      <a:pt x="0" y="688"/>
                    </a:moveTo>
                    <a:lnTo>
                      <a:pt x="0" y="642"/>
                    </a:lnTo>
                    <a:lnTo>
                      <a:pt x="29" y="607"/>
                    </a:lnTo>
                    <a:lnTo>
                      <a:pt x="156" y="566"/>
                    </a:lnTo>
                    <a:lnTo>
                      <a:pt x="312" y="532"/>
                    </a:lnTo>
                    <a:lnTo>
                      <a:pt x="403" y="511"/>
                    </a:lnTo>
                    <a:lnTo>
                      <a:pt x="413" y="494"/>
                    </a:lnTo>
                    <a:lnTo>
                      <a:pt x="370" y="442"/>
                    </a:lnTo>
                    <a:lnTo>
                      <a:pt x="286" y="366"/>
                    </a:lnTo>
                    <a:lnTo>
                      <a:pt x="198" y="302"/>
                    </a:lnTo>
                    <a:lnTo>
                      <a:pt x="130" y="267"/>
                    </a:lnTo>
                    <a:lnTo>
                      <a:pt x="91" y="232"/>
                    </a:lnTo>
                    <a:lnTo>
                      <a:pt x="87" y="206"/>
                    </a:lnTo>
                    <a:lnTo>
                      <a:pt x="110" y="183"/>
                    </a:lnTo>
                    <a:lnTo>
                      <a:pt x="165" y="171"/>
                    </a:lnTo>
                    <a:lnTo>
                      <a:pt x="234" y="128"/>
                    </a:lnTo>
                    <a:lnTo>
                      <a:pt x="243" y="84"/>
                    </a:lnTo>
                    <a:lnTo>
                      <a:pt x="243" y="23"/>
                    </a:lnTo>
                    <a:lnTo>
                      <a:pt x="237" y="0"/>
                    </a:lnTo>
                    <a:lnTo>
                      <a:pt x="263" y="6"/>
                    </a:lnTo>
                    <a:lnTo>
                      <a:pt x="299" y="58"/>
                    </a:lnTo>
                    <a:lnTo>
                      <a:pt x="312" y="113"/>
                    </a:lnTo>
                    <a:lnTo>
                      <a:pt x="273" y="154"/>
                    </a:lnTo>
                    <a:lnTo>
                      <a:pt x="237" y="165"/>
                    </a:lnTo>
                    <a:lnTo>
                      <a:pt x="169" y="197"/>
                    </a:lnTo>
                    <a:lnTo>
                      <a:pt x="156" y="215"/>
                    </a:lnTo>
                    <a:lnTo>
                      <a:pt x="165" y="232"/>
                    </a:lnTo>
                    <a:lnTo>
                      <a:pt x="228" y="278"/>
                    </a:lnTo>
                    <a:lnTo>
                      <a:pt x="292" y="304"/>
                    </a:lnTo>
                    <a:lnTo>
                      <a:pt x="381" y="372"/>
                    </a:lnTo>
                    <a:lnTo>
                      <a:pt x="439" y="450"/>
                    </a:lnTo>
                    <a:lnTo>
                      <a:pt x="468" y="511"/>
                    </a:lnTo>
                    <a:lnTo>
                      <a:pt x="459" y="532"/>
                    </a:lnTo>
                    <a:lnTo>
                      <a:pt x="439" y="546"/>
                    </a:lnTo>
                    <a:lnTo>
                      <a:pt x="364" y="572"/>
                    </a:lnTo>
                    <a:lnTo>
                      <a:pt x="214" y="616"/>
                    </a:lnTo>
                    <a:lnTo>
                      <a:pt x="120" y="653"/>
                    </a:lnTo>
                    <a:lnTo>
                      <a:pt x="58" y="685"/>
                    </a:lnTo>
                    <a:lnTo>
                      <a:pt x="19" y="694"/>
                    </a:lnTo>
                    <a:lnTo>
                      <a:pt x="0" y="6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30960" y="3761640"/>
                <a:ext cx="309240" cy="321480"/>
              </a:xfrm>
              <a:custGeom>
                <a:avLst/>
                <a:gdLst/>
                <a:ahLst/>
                <a:rect l="l" t="t" r="r" b="b"/>
                <a:pathLst>
                  <a:path w="369" h="495">
                    <a:moveTo>
                      <a:pt x="75" y="402"/>
                    </a:moveTo>
                    <a:lnTo>
                      <a:pt x="118" y="446"/>
                    </a:lnTo>
                    <a:lnTo>
                      <a:pt x="187" y="486"/>
                    </a:lnTo>
                    <a:lnTo>
                      <a:pt x="245" y="495"/>
                    </a:lnTo>
                    <a:lnTo>
                      <a:pt x="290" y="486"/>
                    </a:lnTo>
                    <a:lnTo>
                      <a:pt x="343" y="452"/>
                    </a:lnTo>
                    <a:lnTo>
                      <a:pt x="362" y="382"/>
                    </a:lnTo>
                    <a:lnTo>
                      <a:pt x="369" y="330"/>
                    </a:lnTo>
                    <a:lnTo>
                      <a:pt x="352" y="280"/>
                    </a:lnTo>
                    <a:lnTo>
                      <a:pt x="322" y="219"/>
                    </a:lnTo>
                    <a:lnTo>
                      <a:pt x="294" y="165"/>
                    </a:lnTo>
                    <a:lnTo>
                      <a:pt x="290" y="154"/>
                    </a:lnTo>
                    <a:lnTo>
                      <a:pt x="303" y="93"/>
                    </a:lnTo>
                    <a:lnTo>
                      <a:pt x="343" y="32"/>
                    </a:lnTo>
                    <a:lnTo>
                      <a:pt x="349" y="14"/>
                    </a:lnTo>
                    <a:lnTo>
                      <a:pt x="328" y="0"/>
                    </a:lnTo>
                    <a:lnTo>
                      <a:pt x="303" y="0"/>
                    </a:lnTo>
                    <a:lnTo>
                      <a:pt x="274" y="79"/>
                    </a:lnTo>
                    <a:lnTo>
                      <a:pt x="262" y="131"/>
                    </a:lnTo>
                    <a:lnTo>
                      <a:pt x="225" y="96"/>
                    </a:lnTo>
                    <a:lnTo>
                      <a:pt x="196" y="70"/>
                    </a:lnTo>
                    <a:lnTo>
                      <a:pt x="134" y="49"/>
                    </a:lnTo>
                    <a:lnTo>
                      <a:pt x="89" y="49"/>
                    </a:lnTo>
                    <a:lnTo>
                      <a:pt x="20" y="79"/>
                    </a:lnTo>
                    <a:lnTo>
                      <a:pt x="0" y="163"/>
                    </a:lnTo>
                    <a:lnTo>
                      <a:pt x="17" y="271"/>
                    </a:lnTo>
                    <a:lnTo>
                      <a:pt x="46" y="373"/>
                    </a:lnTo>
                    <a:lnTo>
                      <a:pt x="75" y="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071960" y="3350880"/>
              <a:ext cx="1013040" cy="597240"/>
              <a:chOff x="4071960" y="3350880"/>
              <a:chExt cx="1013040" cy="597240"/>
            </a:xfrm>
          </p:grpSpPr>
          <p:sp>
            <p:nvSpPr>
              <p:cNvPr id="618" name=""/>
              <p:cNvSpPr/>
              <p:nvPr/>
            </p:nvSpPr>
            <p:spPr>
              <a:xfrm>
                <a:off x="4929120" y="3582360"/>
                <a:ext cx="155880" cy="10800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707360" y="3389760"/>
                <a:ext cx="157680" cy="1090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422600" y="3350880"/>
                <a:ext cx="155880" cy="10908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152600" y="3406680"/>
                <a:ext cx="157320" cy="10944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071960" y="3635640"/>
                <a:ext cx="157680" cy="10800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103640" y="3838680"/>
                <a:ext cx="157320" cy="109440"/>
              </a:xfrm>
              <a:prstGeom prst="ellips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599840" y="1066680"/>
            <a:ext cx="7010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ie formuliere ich Ziel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752480" y="2076480"/>
            <a:ext cx="6838560" cy="3657600"/>
            <a:chOff x="1752480" y="2076480"/>
            <a:chExt cx="6838560" cy="3657600"/>
          </a:xfrm>
        </p:grpSpPr>
        <p:sp>
          <p:nvSpPr>
            <p:cNvPr id="626" name=""/>
            <p:cNvSpPr/>
            <p:nvPr/>
          </p:nvSpPr>
          <p:spPr>
            <a:xfrm>
              <a:off x="4032000" y="3295800"/>
              <a:ext cx="455904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Erreichung der formulierten Ziele und Vorga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ist messbar, d.h. es gibt geeignete Kenngröß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032000" y="2686320"/>
              <a:ext cx="455904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Ziele sind klar definiert und </a:t>
              </a:r>
              <a:br>
                <a:rPr sz="1400"/>
              </a:b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verständlich beschrieb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032000" y="4515120"/>
              <a:ext cx="455904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as Ziel ist mit den bereitgestellten </a:t>
              </a:r>
              <a:br>
                <a:rPr sz="1400"/>
              </a:b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Kompetenzen und Ressourcen erreichb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32000" y="3905280"/>
              <a:ext cx="455904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die Ziele sind mit übergeordneten Zielen abgestim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32000" y="5124600"/>
              <a:ext cx="455904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333cc"/>
                  </a:solidFill>
                  <a:latin typeface="Arial"/>
                </a:rPr>
                <a:t>es ist ein Termin für die Zielerreichung  festgele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12080" y="2076480"/>
              <a:ext cx="607896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SMARTe  Zie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512080" y="268632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Spezif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512080" y="329580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Messbar</a:t>
              </a: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12080" y="3905280"/>
              <a:ext cx="151956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bgestimm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512080" y="512460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Termini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2080" y="4515120"/>
              <a:ext cx="1519560" cy="60948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Realistis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52480" y="5124600"/>
              <a:ext cx="75960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52480" y="3905280"/>
              <a:ext cx="75960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52480" y="3295800"/>
              <a:ext cx="75960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52480" y="2686320"/>
              <a:ext cx="75960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52480" y="4515120"/>
              <a:ext cx="75960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66"/>
                  </a:solidFill>
                  <a:latin typeface="Arial Narrow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52480" y="2076480"/>
              <a:ext cx="759600" cy="609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66680" y="1407960"/>
          <a:ext cx="7620120" cy="3486240"/>
        </p:xfrm>
        <a:graphic>
          <a:graphicData uri="http://schemas.openxmlformats.org/drawingml/2006/table">
            <a:tbl>
              <a:tblPr/>
              <a:tblGrid>
                <a:gridCol w="3531240"/>
                <a:gridCol w="144000"/>
                <a:gridCol w="3944880"/>
              </a:tblGrid>
              <a:tr h="474120">
                <a:tc rowSpan="4">
                  <a:txBody>
                    <a:bodyPr lIns="54000" rIns="54000" tIns="54000" bIns="540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führung in das</a:t>
                      </a:r>
                      <a:br>
                        <a:rPr sz="2200"/>
                      </a:b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manage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undlagen verst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-Steckbrief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Aufnahme, -Ziele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nnzah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optimie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zesse vernet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54000" rIns="54000" tIns="54000" bIns="54000" anchor="t">
                      <a:noAutofit/>
                    </a:bodyPr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85760" indent="-18576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54000" bIns="54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99840" y="125532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Stufen von Verbesserungsansätzen</a:t>
            </a: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74720" y="2443320"/>
            <a:ext cx="674064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nalyse der Durchlaufzei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dentifikation und Reduktion von Transport- und Lieferzei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zessorientierte Wertanaly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ernaktivitäten; Unterstützende Aktivitäten; Steuernde Aktivitäten; Korrigierende Aktivitä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blauforganisatorische Maßnahm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Reihenfolge ändern; Zusammenfassen; Parallelisieren; Automatisieren; Wahrnehmung und Wechsel der Verantwor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undenbedürfnis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Erwartungen und Bedürfnisse richtig verstanden und umgesetzt?; die richtigen Ziele gesetz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8640" indent="-278640">
              <a:lnSpc>
                <a:spcPct val="100000"/>
              </a:lnSpc>
              <a:spcBef>
                <a:spcPts val="300"/>
              </a:spcBef>
              <a:spcAft>
                <a:spcPts val="201"/>
              </a:spcAft>
              <a:buClr>
                <a:srgbClr val="000000"/>
              </a:buClr>
              <a:buFont typeface="Verdana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Qualität; Kos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09880">
              <a:lnSpc>
                <a:spcPct val="100000"/>
              </a:lnSpc>
              <a:spcBef>
                <a:spcPts val="264"/>
              </a:spcBef>
              <a:spcAft>
                <a:spcPts val="176"/>
              </a:spcAft>
              <a:buClr>
                <a:srgbClr val="000000"/>
              </a:buClr>
              <a:buFont typeface="Verdana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Qualitätsrelevante Erfolgsfaktoren identifizieren; Qualitätskosten aufzeigen; Einsparmöglichkeiten identifizie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rozessorientierte Wertanalyse</a:t>
            </a:r>
            <a:r>
              <a:rPr b="0" lang="de-DE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9246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04760" y="101880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as sind die richtigen Ziele?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Das Unternehmen und seine Interessengrupp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014920" y="2094840"/>
            <a:ext cx="6975360" cy="4015080"/>
            <a:chOff x="2014920" y="2094840"/>
            <a:chExt cx="6975360" cy="4015080"/>
          </a:xfrm>
        </p:grpSpPr>
        <p:sp>
          <p:nvSpPr>
            <p:cNvPr id="649" name=""/>
            <p:cNvSpPr/>
            <p:nvPr/>
          </p:nvSpPr>
          <p:spPr>
            <a:xfrm>
              <a:off x="3908880" y="3683160"/>
              <a:ext cx="3634560" cy="606240"/>
            </a:xfrm>
            <a:prstGeom prst="ellipse">
              <a:avLst/>
            </a:prstGeom>
            <a:solidFill>
              <a:srgbClr val="f0ab23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Arial"/>
                </a:rPr>
                <a:t>Das Unternehm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014920" y="2841120"/>
              <a:ext cx="355896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artnerunternehm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43080" y="5546160"/>
              <a:ext cx="23346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Öffentlichke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63040" y="3647880"/>
              <a:ext cx="205668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Lieferan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61360" y="2328480"/>
              <a:ext cx="2295720" cy="99468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Kunden und </a:t>
              </a:r>
              <a:br>
                <a:rPr sz="2000"/>
              </a:b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erbrauc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52040" y="3647880"/>
              <a:ext cx="1938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vesto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60280" y="3131280"/>
              <a:ext cx="2856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itarbeiterInn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482080" y="4299840"/>
              <a:ext cx="286056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Gewerkschaft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78520" y="4396680"/>
              <a:ext cx="18176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Verbä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76920" y="5005440"/>
              <a:ext cx="18176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Behörd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765240" y="2095920"/>
              <a:ext cx="38174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künftige Gene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11440" y="4914360"/>
              <a:ext cx="14364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Medi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31640" y="2094840"/>
              <a:ext cx="19602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etzwerk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0160" y="5488560"/>
              <a:ext cx="357624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Politik / Regierun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66120" y="4299840"/>
              <a:ext cx="125748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74120" y="4911840"/>
              <a:ext cx="2759400" cy="563760"/>
            </a:xfrm>
            <a:prstGeom prst="ellipse">
              <a:avLst/>
            </a:prstGeom>
            <a:solidFill>
              <a:srgbClr val="bdcbe7"/>
            </a:soli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ktionsgrupp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685800" y="2715840"/>
            <a:ext cx="77724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e vernet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Einteilung von Geschäftsprozess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539720" y="1660680"/>
            <a:ext cx="7146720" cy="4289040"/>
            <a:chOff x="1539720" y="1660680"/>
            <a:chExt cx="7146720" cy="4289040"/>
          </a:xfrm>
        </p:grpSpPr>
        <p:sp>
          <p:nvSpPr>
            <p:cNvPr id="669" name=""/>
            <p:cNvSpPr/>
            <p:nvPr/>
          </p:nvSpPr>
          <p:spPr>
            <a:xfrm>
              <a:off x="1680120" y="1808280"/>
              <a:ext cx="7006320" cy="41414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39720" y="1660680"/>
              <a:ext cx="6940440" cy="36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lvl="1" marL="760320" indent="-2854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MT Extra"/>
                <a:buChar char="&gt;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43440" y="2252160"/>
              <a:ext cx="23896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ührungsprozes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.B. Zielsetzung oder 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ent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2060280" y="2400120"/>
              <a:ext cx="3264480" cy="517320"/>
              <a:chOff x="2060280" y="2400120"/>
              <a:chExt cx="3264480" cy="517320"/>
            </a:xfrm>
          </p:grpSpPr>
          <p:sp>
            <p:nvSpPr>
              <p:cNvPr id="673" name=""/>
              <p:cNvSpPr/>
              <p:nvPr/>
            </p:nvSpPr>
            <p:spPr>
              <a:xfrm>
                <a:off x="3953520" y="2594520"/>
                <a:ext cx="33444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256280" y="2468520"/>
                <a:ext cx="758520" cy="338760"/>
              </a:xfrm>
              <a:custGeom>
                <a:avLst/>
                <a:gdLst/>
                <a:ahLst/>
                <a:rect l="l" t="t" r="r" b="b"/>
                <a:pathLst>
                  <a:path w="539" h="243">
                    <a:moveTo>
                      <a:pt x="206" y="0"/>
                    </a:moveTo>
                    <a:lnTo>
                      <a:pt x="404" y="8"/>
                    </a:lnTo>
                    <a:lnTo>
                      <a:pt x="538" y="141"/>
                    </a:lnTo>
                    <a:lnTo>
                      <a:pt x="487" y="174"/>
                    </a:lnTo>
                    <a:lnTo>
                      <a:pt x="397" y="242"/>
                    </a:lnTo>
                    <a:lnTo>
                      <a:pt x="0" y="223"/>
                    </a:lnTo>
                    <a:lnTo>
                      <a:pt x="2" y="25"/>
                    </a:lnTo>
                    <a:lnTo>
                      <a:pt x="17" y="19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30000" y="2511720"/>
                <a:ext cx="725400" cy="346680"/>
              </a:xfrm>
              <a:custGeom>
                <a:avLst/>
                <a:gdLst/>
                <a:ahLst/>
                <a:rect l="l" t="t" r="r" b="b"/>
                <a:pathLst>
                  <a:path w="516" h="249">
                    <a:moveTo>
                      <a:pt x="515" y="86"/>
                    </a:moveTo>
                    <a:lnTo>
                      <a:pt x="409" y="0"/>
                    </a:lnTo>
                    <a:lnTo>
                      <a:pt x="9" y="10"/>
                    </a:lnTo>
                    <a:lnTo>
                      <a:pt x="0" y="248"/>
                    </a:lnTo>
                    <a:lnTo>
                      <a:pt x="209" y="233"/>
                    </a:lnTo>
                    <a:lnTo>
                      <a:pt x="403" y="233"/>
                    </a:lnTo>
                    <a:lnTo>
                      <a:pt x="515" y="86"/>
                    </a:lnTo>
                  </a:path>
                </a:pathLst>
              </a:custGeom>
              <a:solidFill>
                <a:srgbClr val="ffe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271760" y="2451960"/>
                <a:ext cx="513360" cy="75960"/>
              </a:xfrm>
              <a:custGeom>
                <a:avLst/>
                <a:gdLst/>
                <a:ahLst/>
                <a:rect l="l" t="t" r="r" b="b"/>
                <a:pathLst>
                  <a:path w="366" h="55">
                    <a:moveTo>
                      <a:pt x="362" y="10"/>
                    </a:moveTo>
                    <a:lnTo>
                      <a:pt x="206" y="0"/>
                    </a:lnTo>
                    <a:lnTo>
                      <a:pt x="100" y="0"/>
                    </a:lnTo>
                    <a:lnTo>
                      <a:pt x="0" y="26"/>
                    </a:lnTo>
                    <a:lnTo>
                      <a:pt x="13" y="54"/>
                    </a:lnTo>
                    <a:lnTo>
                      <a:pt x="182" y="21"/>
                    </a:lnTo>
                    <a:lnTo>
                      <a:pt x="272" y="21"/>
                    </a:lnTo>
                    <a:lnTo>
                      <a:pt x="365" y="28"/>
                    </a:lnTo>
                    <a:lnTo>
                      <a:pt x="362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239720" y="2496600"/>
                <a:ext cx="767160" cy="345600"/>
              </a:xfrm>
              <a:custGeom>
                <a:avLst/>
                <a:gdLst/>
                <a:ahLst/>
                <a:rect l="l" t="t" r="r" b="b"/>
                <a:pathLst>
                  <a:path w="545" h="248">
                    <a:moveTo>
                      <a:pt x="309" y="189"/>
                    </a:moveTo>
                    <a:lnTo>
                      <a:pt x="406" y="210"/>
                    </a:lnTo>
                    <a:lnTo>
                      <a:pt x="451" y="165"/>
                    </a:lnTo>
                    <a:lnTo>
                      <a:pt x="506" y="136"/>
                    </a:lnTo>
                    <a:lnTo>
                      <a:pt x="544" y="126"/>
                    </a:lnTo>
                    <a:lnTo>
                      <a:pt x="406" y="239"/>
                    </a:lnTo>
                    <a:lnTo>
                      <a:pt x="297" y="223"/>
                    </a:lnTo>
                    <a:lnTo>
                      <a:pt x="194" y="221"/>
                    </a:lnTo>
                    <a:lnTo>
                      <a:pt x="108" y="228"/>
                    </a:lnTo>
                    <a:lnTo>
                      <a:pt x="17" y="245"/>
                    </a:lnTo>
                    <a:lnTo>
                      <a:pt x="0" y="247"/>
                    </a:lnTo>
                    <a:lnTo>
                      <a:pt x="9" y="0"/>
                    </a:lnTo>
                    <a:lnTo>
                      <a:pt x="20" y="32"/>
                    </a:lnTo>
                    <a:lnTo>
                      <a:pt x="19" y="210"/>
                    </a:lnTo>
                    <a:lnTo>
                      <a:pt x="165" y="186"/>
                    </a:lnTo>
                    <a:lnTo>
                      <a:pt x="309" y="1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815720" y="2475720"/>
                <a:ext cx="189720" cy="182520"/>
              </a:xfrm>
              <a:custGeom>
                <a:avLst/>
                <a:gdLst/>
                <a:ahLst/>
                <a:rect l="l" t="t" r="r" b="b"/>
                <a:pathLst>
                  <a:path w="135" h="131">
                    <a:moveTo>
                      <a:pt x="0" y="0"/>
                    </a:moveTo>
                    <a:lnTo>
                      <a:pt x="134" y="130"/>
                    </a:lnTo>
                    <a:lnTo>
                      <a:pt x="90" y="63"/>
                    </a:lnTo>
                    <a:lnTo>
                      <a:pt x="43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412720" y="2414160"/>
                <a:ext cx="699480" cy="474840"/>
              </a:xfrm>
              <a:custGeom>
                <a:avLst/>
                <a:gdLst/>
                <a:ahLst/>
                <a:rect l="l" t="t" r="r" b="b"/>
                <a:pathLst>
                  <a:path w="497" h="341">
                    <a:moveTo>
                      <a:pt x="0" y="41"/>
                    </a:moveTo>
                    <a:lnTo>
                      <a:pt x="12" y="340"/>
                    </a:lnTo>
                    <a:lnTo>
                      <a:pt x="140" y="243"/>
                    </a:lnTo>
                    <a:lnTo>
                      <a:pt x="496" y="99"/>
                    </a:lnTo>
                    <a:lnTo>
                      <a:pt x="440" y="58"/>
                    </a:lnTo>
                    <a:lnTo>
                      <a:pt x="349" y="8"/>
                    </a:lnTo>
                    <a:lnTo>
                      <a:pt x="154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36120" y="2468520"/>
                <a:ext cx="664920" cy="404280"/>
              </a:xfrm>
              <a:custGeom>
                <a:avLst/>
                <a:gdLst/>
                <a:ahLst/>
                <a:rect l="l" t="t" r="r" b="b"/>
                <a:pathLst>
                  <a:path w="472" h="290">
                    <a:moveTo>
                      <a:pt x="0" y="45"/>
                    </a:moveTo>
                    <a:lnTo>
                      <a:pt x="19" y="289"/>
                    </a:lnTo>
                    <a:lnTo>
                      <a:pt x="216" y="227"/>
                    </a:lnTo>
                    <a:lnTo>
                      <a:pt x="375" y="207"/>
                    </a:lnTo>
                    <a:lnTo>
                      <a:pt x="471" y="95"/>
                    </a:lnTo>
                    <a:lnTo>
                      <a:pt x="337" y="12"/>
                    </a:lnTo>
                    <a:lnTo>
                      <a:pt x="164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ffe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446920" y="2400120"/>
                <a:ext cx="633240" cy="142200"/>
              </a:xfrm>
              <a:custGeom>
                <a:avLst/>
                <a:gdLst/>
                <a:ahLst/>
                <a:rect l="l" t="t" r="r" b="b"/>
                <a:pathLst>
                  <a:path w="451" h="102">
                    <a:moveTo>
                      <a:pt x="0" y="49"/>
                    </a:moveTo>
                    <a:lnTo>
                      <a:pt x="143" y="32"/>
                    </a:lnTo>
                    <a:lnTo>
                      <a:pt x="232" y="32"/>
                    </a:lnTo>
                    <a:lnTo>
                      <a:pt x="339" y="41"/>
                    </a:lnTo>
                    <a:lnTo>
                      <a:pt x="450" y="101"/>
                    </a:lnTo>
                    <a:lnTo>
                      <a:pt x="340" y="8"/>
                    </a:lnTo>
                    <a:lnTo>
                      <a:pt x="189" y="0"/>
                    </a:lnTo>
                    <a:lnTo>
                      <a:pt x="110" y="13"/>
                    </a:lnTo>
                    <a:lnTo>
                      <a:pt x="45" y="32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12720" y="2514240"/>
                <a:ext cx="702000" cy="403200"/>
              </a:xfrm>
              <a:custGeom>
                <a:avLst/>
                <a:gdLst/>
                <a:ahLst/>
                <a:rect l="l" t="t" r="r" b="b"/>
                <a:pathLst>
                  <a:path w="499" h="289">
                    <a:moveTo>
                      <a:pt x="14" y="245"/>
                    </a:moveTo>
                    <a:lnTo>
                      <a:pt x="113" y="178"/>
                    </a:lnTo>
                    <a:lnTo>
                      <a:pt x="207" y="141"/>
                    </a:lnTo>
                    <a:lnTo>
                      <a:pt x="312" y="121"/>
                    </a:lnTo>
                    <a:lnTo>
                      <a:pt x="372" y="128"/>
                    </a:lnTo>
                    <a:lnTo>
                      <a:pt x="475" y="15"/>
                    </a:lnTo>
                    <a:lnTo>
                      <a:pt x="498" y="32"/>
                    </a:lnTo>
                    <a:lnTo>
                      <a:pt x="448" y="78"/>
                    </a:lnTo>
                    <a:lnTo>
                      <a:pt x="404" y="134"/>
                    </a:lnTo>
                    <a:lnTo>
                      <a:pt x="384" y="162"/>
                    </a:lnTo>
                    <a:lnTo>
                      <a:pt x="289" y="167"/>
                    </a:lnTo>
                    <a:lnTo>
                      <a:pt x="207" y="173"/>
                    </a:lnTo>
                    <a:lnTo>
                      <a:pt x="144" y="201"/>
                    </a:lnTo>
                    <a:lnTo>
                      <a:pt x="82" y="230"/>
                    </a:lnTo>
                    <a:lnTo>
                      <a:pt x="9" y="288"/>
                    </a:lnTo>
                    <a:lnTo>
                      <a:pt x="0" y="0"/>
                    </a:lnTo>
                    <a:lnTo>
                      <a:pt x="14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03768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4" name=""/>
              <p:cNvGrpSpPr/>
              <p:nvPr/>
            </p:nvGrpSpPr>
            <p:grpSpPr>
              <a:xfrm>
                <a:off x="3295080" y="2410920"/>
                <a:ext cx="677160" cy="447480"/>
                <a:chOff x="3295080" y="2410920"/>
                <a:chExt cx="677160" cy="44748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301920" y="2410920"/>
                  <a:ext cx="670320" cy="373680"/>
                </a:xfrm>
                <a:custGeom>
                  <a:avLst/>
                  <a:gdLst/>
                  <a:ahLst/>
                  <a:rect l="l" t="t" r="r" b="b"/>
                  <a:pathLst>
                    <a:path w="476" h="268">
                      <a:moveTo>
                        <a:pt x="354" y="0"/>
                      </a:moveTo>
                      <a:lnTo>
                        <a:pt x="475" y="145"/>
                      </a:lnTo>
                      <a:lnTo>
                        <a:pt x="333" y="254"/>
                      </a:lnTo>
                      <a:lnTo>
                        <a:pt x="60" y="267"/>
                      </a:lnTo>
                      <a:lnTo>
                        <a:pt x="0" y="108"/>
                      </a:lnTo>
                      <a:lnTo>
                        <a:pt x="2" y="74"/>
                      </a:lnTo>
                      <a:lnTo>
                        <a:pt x="216" y="8"/>
                      </a:lnTo>
                      <a:lnTo>
                        <a:pt x="35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295080" y="2458080"/>
                  <a:ext cx="656280" cy="398880"/>
                </a:xfrm>
                <a:custGeom>
                  <a:avLst/>
                  <a:gdLst/>
                  <a:ahLst/>
                  <a:rect l="l" t="t" r="r" b="b"/>
                  <a:pathLst>
                    <a:path w="466" h="286">
                      <a:moveTo>
                        <a:pt x="351" y="0"/>
                      </a:moveTo>
                      <a:lnTo>
                        <a:pt x="434" y="103"/>
                      </a:lnTo>
                      <a:lnTo>
                        <a:pt x="465" y="164"/>
                      </a:lnTo>
                      <a:lnTo>
                        <a:pt x="368" y="272"/>
                      </a:lnTo>
                      <a:lnTo>
                        <a:pt x="45" y="285"/>
                      </a:lnTo>
                      <a:lnTo>
                        <a:pt x="0" y="136"/>
                      </a:lnTo>
                      <a:lnTo>
                        <a:pt x="160" y="36"/>
                      </a:lnTo>
                      <a:lnTo>
                        <a:pt x="271" y="2"/>
                      </a:lnTo>
                      <a:lnTo>
                        <a:pt x="351" y="0"/>
                      </a:lnTo>
                    </a:path>
                  </a:pathLst>
                </a:custGeom>
                <a:solidFill>
                  <a:srgbClr val="ffe0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809160" y="2420640"/>
                  <a:ext cx="144720" cy="172800"/>
                </a:xfrm>
                <a:custGeom>
                  <a:avLst/>
                  <a:gdLst/>
                  <a:ahLst/>
                  <a:rect l="l" t="t" r="r" b="b"/>
                  <a:pathLst>
                    <a:path w="103" h="124">
                      <a:moveTo>
                        <a:pt x="4" y="15"/>
                      </a:moveTo>
                      <a:lnTo>
                        <a:pt x="55" y="86"/>
                      </a:lnTo>
                      <a:lnTo>
                        <a:pt x="102" y="123"/>
                      </a:lnTo>
                      <a:lnTo>
                        <a:pt x="56" y="56"/>
                      </a:lnTo>
                      <a:lnTo>
                        <a:pt x="0" y="0"/>
                      </a:lnTo>
                      <a:lnTo>
                        <a:pt x="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385080" y="2611440"/>
                  <a:ext cx="583200" cy="246960"/>
                </a:xfrm>
                <a:custGeom>
                  <a:avLst/>
                  <a:gdLst/>
                  <a:ahLst/>
                  <a:rect l="l" t="t" r="r" b="b"/>
                  <a:pathLst>
                    <a:path w="414" h="177">
                      <a:moveTo>
                        <a:pt x="411" y="0"/>
                      </a:moveTo>
                      <a:lnTo>
                        <a:pt x="351" y="38"/>
                      </a:lnTo>
                      <a:lnTo>
                        <a:pt x="298" y="86"/>
                      </a:lnTo>
                      <a:lnTo>
                        <a:pt x="281" y="109"/>
                      </a:lnTo>
                      <a:lnTo>
                        <a:pt x="229" y="97"/>
                      </a:lnTo>
                      <a:lnTo>
                        <a:pt x="155" y="92"/>
                      </a:lnTo>
                      <a:lnTo>
                        <a:pt x="63" y="103"/>
                      </a:lnTo>
                      <a:lnTo>
                        <a:pt x="3" y="122"/>
                      </a:lnTo>
                      <a:lnTo>
                        <a:pt x="0" y="176"/>
                      </a:lnTo>
                      <a:lnTo>
                        <a:pt x="74" y="150"/>
                      </a:lnTo>
                      <a:lnTo>
                        <a:pt x="138" y="135"/>
                      </a:lnTo>
                      <a:lnTo>
                        <a:pt x="196" y="129"/>
                      </a:lnTo>
                      <a:lnTo>
                        <a:pt x="228" y="129"/>
                      </a:lnTo>
                      <a:lnTo>
                        <a:pt x="270" y="135"/>
                      </a:lnTo>
                      <a:lnTo>
                        <a:pt x="293" y="148"/>
                      </a:lnTo>
                      <a:lnTo>
                        <a:pt x="318" y="109"/>
                      </a:lnTo>
                      <a:lnTo>
                        <a:pt x="359" y="71"/>
                      </a:lnTo>
                      <a:lnTo>
                        <a:pt x="396" y="43"/>
                      </a:lnTo>
                      <a:lnTo>
                        <a:pt x="413" y="25"/>
                      </a:lnTo>
                      <a:lnTo>
                        <a:pt x="41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301920" y="2539080"/>
                  <a:ext cx="90000" cy="319320"/>
                </a:xfrm>
                <a:custGeom>
                  <a:avLst/>
                  <a:gdLst/>
                  <a:ahLst/>
                  <a:rect l="l" t="t" r="r" b="b"/>
                  <a:pathLst>
                    <a:path w="64" h="229">
                      <a:moveTo>
                        <a:pt x="0" y="0"/>
                      </a:moveTo>
                      <a:lnTo>
                        <a:pt x="63" y="174"/>
                      </a:lnTo>
                      <a:lnTo>
                        <a:pt x="58" y="228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3303720" y="2409480"/>
                <a:ext cx="498240" cy="153000"/>
              </a:xfrm>
              <a:custGeom>
                <a:avLst/>
                <a:gdLst/>
                <a:ahLst/>
                <a:rect l="l" t="t" r="r" b="b"/>
                <a:pathLst>
                  <a:path w="354" h="110">
                    <a:moveTo>
                      <a:pt x="350" y="0"/>
                    </a:moveTo>
                    <a:lnTo>
                      <a:pt x="224" y="4"/>
                    </a:lnTo>
                    <a:lnTo>
                      <a:pt x="73" y="36"/>
                    </a:lnTo>
                    <a:lnTo>
                      <a:pt x="0" y="77"/>
                    </a:lnTo>
                    <a:lnTo>
                      <a:pt x="14" y="109"/>
                    </a:lnTo>
                    <a:lnTo>
                      <a:pt x="97" y="58"/>
                    </a:lnTo>
                    <a:lnTo>
                      <a:pt x="234" y="19"/>
                    </a:lnTo>
                    <a:lnTo>
                      <a:pt x="329" y="15"/>
                    </a:lnTo>
                    <a:lnTo>
                      <a:pt x="353" y="17"/>
                    </a:lnTo>
                    <a:lnTo>
                      <a:pt x="35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06028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91760" y="2594520"/>
                <a:ext cx="333000" cy="80280"/>
              </a:xfrm>
              <a:custGeom>
                <a:avLst/>
                <a:gdLst/>
                <a:ahLst/>
                <a:rect l="l" t="t" r="r" b="b"/>
                <a:pathLst>
                  <a:path w="237" h="58">
                    <a:moveTo>
                      <a:pt x="0" y="6"/>
                    </a:moveTo>
                    <a:lnTo>
                      <a:pt x="152" y="6"/>
                    </a:lnTo>
                    <a:lnTo>
                      <a:pt x="236" y="0"/>
                    </a:lnTo>
                    <a:lnTo>
                      <a:pt x="236" y="47"/>
                    </a:lnTo>
                    <a:lnTo>
                      <a:pt x="117" y="57"/>
                    </a:lnTo>
                    <a:lnTo>
                      <a:pt x="7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2548440" y="2922480"/>
              <a:ext cx="2566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Managementproz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43440" y="3581640"/>
              <a:ext cx="28699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ertschöpfende Prozess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z.B. Produktherstel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oder Autolackie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1746000" y="3600360"/>
              <a:ext cx="3790800" cy="732960"/>
              <a:chOff x="1746000" y="3600360"/>
              <a:chExt cx="3790800" cy="732960"/>
            </a:xfrm>
          </p:grpSpPr>
          <p:sp>
            <p:nvSpPr>
              <p:cNvPr id="696" name=""/>
              <p:cNvSpPr/>
              <p:nvPr/>
            </p:nvSpPr>
            <p:spPr>
              <a:xfrm>
                <a:off x="3944520" y="3874320"/>
                <a:ext cx="38736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295880" y="3697200"/>
                <a:ext cx="881640" cy="480240"/>
              </a:xfrm>
              <a:custGeom>
                <a:avLst/>
                <a:gdLst/>
                <a:ahLst/>
                <a:rect l="l" t="t" r="r" b="b"/>
                <a:pathLst>
                  <a:path w="670" h="243">
                    <a:moveTo>
                      <a:pt x="256" y="0"/>
                    </a:moveTo>
                    <a:lnTo>
                      <a:pt x="502" y="8"/>
                    </a:lnTo>
                    <a:lnTo>
                      <a:pt x="669" y="141"/>
                    </a:lnTo>
                    <a:lnTo>
                      <a:pt x="605" y="174"/>
                    </a:lnTo>
                    <a:lnTo>
                      <a:pt x="493" y="242"/>
                    </a:lnTo>
                    <a:lnTo>
                      <a:pt x="0" y="223"/>
                    </a:lnTo>
                    <a:lnTo>
                      <a:pt x="3" y="25"/>
                    </a:lnTo>
                    <a:lnTo>
                      <a:pt x="21" y="19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263840" y="3757320"/>
                <a:ext cx="845640" cy="492840"/>
              </a:xfrm>
              <a:custGeom>
                <a:avLst/>
                <a:gdLst/>
                <a:ahLst/>
                <a:rect l="l" t="t" r="r" b="b"/>
                <a:pathLst>
                  <a:path w="642" h="249">
                    <a:moveTo>
                      <a:pt x="641" y="86"/>
                    </a:moveTo>
                    <a:lnTo>
                      <a:pt x="509" y="0"/>
                    </a:lnTo>
                    <a:lnTo>
                      <a:pt x="12" y="10"/>
                    </a:lnTo>
                    <a:lnTo>
                      <a:pt x="0" y="248"/>
                    </a:lnTo>
                    <a:lnTo>
                      <a:pt x="260" y="233"/>
                    </a:lnTo>
                    <a:lnTo>
                      <a:pt x="502" y="233"/>
                    </a:lnTo>
                    <a:lnTo>
                      <a:pt x="641" y="86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312800" y="3672360"/>
                <a:ext cx="597240" cy="109080"/>
              </a:xfrm>
              <a:custGeom>
                <a:avLst/>
                <a:gdLst/>
                <a:ahLst/>
                <a:rect l="l" t="t" r="r" b="b"/>
                <a:pathLst>
                  <a:path w="454" h="55">
                    <a:moveTo>
                      <a:pt x="448" y="10"/>
                    </a:moveTo>
                    <a:lnTo>
                      <a:pt x="255" y="0"/>
                    </a:lnTo>
                    <a:lnTo>
                      <a:pt x="124" y="0"/>
                    </a:lnTo>
                    <a:lnTo>
                      <a:pt x="0" y="26"/>
                    </a:lnTo>
                    <a:lnTo>
                      <a:pt x="16" y="54"/>
                    </a:lnTo>
                    <a:lnTo>
                      <a:pt x="226" y="21"/>
                    </a:lnTo>
                    <a:lnTo>
                      <a:pt x="337" y="21"/>
                    </a:lnTo>
                    <a:lnTo>
                      <a:pt x="453" y="28"/>
                    </a:lnTo>
                    <a:lnTo>
                      <a:pt x="448" y="1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276800" y="3735720"/>
                <a:ext cx="892080" cy="491400"/>
              </a:xfrm>
              <a:custGeom>
                <a:avLst/>
                <a:gdLst/>
                <a:ahLst/>
                <a:rect l="l" t="t" r="r" b="b"/>
                <a:pathLst>
                  <a:path w="677" h="248">
                    <a:moveTo>
                      <a:pt x="384" y="189"/>
                    </a:moveTo>
                    <a:lnTo>
                      <a:pt x="505" y="210"/>
                    </a:lnTo>
                    <a:lnTo>
                      <a:pt x="560" y="165"/>
                    </a:lnTo>
                    <a:lnTo>
                      <a:pt x="629" y="136"/>
                    </a:lnTo>
                    <a:lnTo>
                      <a:pt x="676" y="126"/>
                    </a:lnTo>
                    <a:lnTo>
                      <a:pt x="505" y="239"/>
                    </a:lnTo>
                    <a:lnTo>
                      <a:pt x="368" y="223"/>
                    </a:lnTo>
                    <a:lnTo>
                      <a:pt x="241" y="221"/>
                    </a:lnTo>
                    <a:lnTo>
                      <a:pt x="134" y="228"/>
                    </a:lnTo>
                    <a:lnTo>
                      <a:pt x="21" y="245"/>
                    </a:lnTo>
                    <a:lnTo>
                      <a:pt x="0" y="247"/>
                    </a:lnTo>
                    <a:lnTo>
                      <a:pt x="12" y="0"/>
                    </a:lnTo>
                    <a:lnTo>
                      <a:pt x="26" y="32"/>
                    </a:lnTo>
                    <a:lnTo>
                      <a:pt x="24" y="210"/>
                    </a:lnTo>
                    <a:lnTo>
                      <a:pt x="205" y="186"/>
                    </a:lnTo>
                    <a:lnTo>
                      <a:pt x="384" y="18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944960" y="3706560"/>
                <a:ext cx="222480" cy="258840"/>
              </a:xfrm>
              <a:custGeom>
                <a:avLst/>
                <a:gdLst/>
                <a:ahLst/>
                <a:rect l="l" t="t" r="r" b="b"/>
                <a:pathLst>
                  <a:path w="169" h="131">
                    <a:moveTo>
                      <a:pt x="0" y="0"/>
                    </a:moveTo>
                    <a:lnTo>
                      <a:pt x="168" y="130"/>
                    </a:lnTo>
                    <a:lnTo>
                      <a:pt x="112" y="63"/>
                    </a:lnTo>
                    <a:lnTo>
                      <a:pt x="54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153880" y="3618720"/>
                <a:ext cx="813240" cy="676080"/>
              </a:xfrm>
              <a:custGeom>
                <a:avLst/>
                <a:gdLst/>
                <a:ahLst/>
                <a:rect l="l" t="t" r="r" b="b"/>
                <a:pathLst>
                  <a:path w="618" h="341">
                    <a:moveTo>
                      <a:pt x="0" y="41"/>
                    </a:moveTo>
                    <a:lnTo>
                      <a:pt x="15" y="340"/>
                    </a:lnTo>
                    <a:lnTo>
                      <a:pt x="174" y="243"/>
                    </a:lnTo>
                    <a:lnTo>
                      <a:pt x="617" y="99"/>
                    </a:lnTo>
                    <a:lnTo>
                      <a:pt x="547" y="58"/>
                    </a:lnTo>
                    <a:lnTo>
                      <a:pt x="434" y="8"/>
                    </a:lnTo>
                    <a:lnTo>
                      <a:pt x="192" y="0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180880" y="3697200"/>
                <a:ext cx="773640" cy="572760"/>
              </a:xfrm>
              <a:custGeom>
                <a:avLst/>
                <a:gdLst/>
                <a:ahLst/>
                <a:rect l="l" t="t" r="r" b="b"/>
                <a:pathLst>
                  <a:path w="587" h="290">
                    <a:moveTo>
                      <a:pt x="0" y="45"/>
                    </a:moveTo>
                    <a:lnTo>
                      <a:pt x="24" y="289"/>
                    </a:lnTo>
                    <a:lnTo>
                      <a:pt x="268" y="227"/>
                    </a:lnTo>
                    <a:lnTo>
                      <a:pt x="467" y="207"/>
                    </a:lnTo>
                    <a:lnTo>
                      <a:pt x="586" y="95"/>
                    </a:lnTo>
                    <a:lnTo>
                      <a:pt x="420" y="12"/>
                    </a:lnTo>
                    <a:lnTo>
                      <a:pt x="204" y="0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93840" y="3600360"/>
                <a:ext cx="736560" cy="201600"/>
              </a:xfrm>
              <a:custGeom>
                <a:avLst/>
                <a:gdLst/>
                <a:ahLst/>
                <a:rect l="l" t="t" r="r" b="b"/>
                <a:pathLst>
                  <a:path w="560" h="102">
                    <a:moveTo>
                      <a:pt x="0" y="49"/>
                    </a:moveTo>
                    <a:lnTo>
                      <a:pt x="177" y="32"/>
                    </a:lnTo>
                    <a:lnTo>
                      <a:pt x="288" y="32"/>
                    </a:lnTo>
                    <a:lnTo>
                      <a:pt x="421" y="41"/>
                    </a:lnTo>
                    <a:lnTo>
                      <a:pt x="559" y="101"/>
                    </a:lnTo>
                    <a:lnTo>
                      <a:pt x="422" y="8"/>
                    </a:lnTo>
                    <a:lnTo>
                      <a:pt x="235" y="0"/>
                    </a:lnTo>
                    <a:lnTo>
                      <a:pt x="136" y="13"/>
                    </a:lnTo>
                    <a:lnTo>
                      <a:pt x="56" y="32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153880" y="3762000"/>
                <a:ext cx="815760" cy="571320"/>
              </a:xfrm>
              <a:custGeom>
                <a:avLst/>
                <a:gdLst/>
                <a:ahLst/>
                <a:rect l="l" t="t" r="r" b="b"/>
                <a:pathLst>
                  <a:path w="620" h="289">
                    <a:moveTo>
                      <a:pt x="18" y="245"/>
                    </a:moveTo>
                    <a:lnTo>
                      <a:pt x="140" y="178"/>
                    </a:lnTo>
                    <a:lnTo>
                      <a:pt x="257" y="141"/>
                    </a:lnTo>
                    <a:lnTo>
                      <a:pt x="387" y="121"/>
                    </a:lnTo>
                    <a:lnTo>
                      <a:pt x="462" y="128"/>
                    </a:lnTo>
                    <a:lnTo>
                      <a:pt x="590" y="15"/>
                    </a:lnTo>
                    <a:lnTo>
                      <a:pt x="619" y="32"/>
                    </a:lnTo>
                    <a:lnTo>
                      <a:pt x="556" y="78"/>
                    </a:lnTo>
                    <a:lnTo>
                      <a:pt x="501" y="134"/>
                    </a:lnTo>
                    <a:lnTo>
                      <a:pt x="477" y="162"/>
                    </a:lnTo>
                    <a:lnTo>
                      <a:pt x="360" y="167"/>
                    </a:lnTo>
                    <a:lnTo>
                      <a:pt x="257" y="173"/>
                    </a:lnTo>
                    <a:lnTo>
                      <a:pt x="180" y="201"/>
                    </a:lnTo>
                    <a:lnTo>
                      <a:pt x="102" y="230"/>
                    </a:lnTo>
                    <a:lnTo>
                      <a:pt x="12" y="288"/>
                    </a:lnTo>
                    <a:lnTo>
                      <a:pt x="0" y="0"/>
                    </a:lnTo>
                    <a:lnTo>
                      <a:pt x="18" y="24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880000" y="3874320"/>
                <a:ext cx="387360" cy="115560"/>
              </a:xfrm>
              <a:custGeom>
                <a:avLst/>
                <a:gdLst/>
                <a:ahLst/>
                <a:rect l="l" t="t" r="r" b="b"/>
                <a:pathLst>
                  <a:path w="294" h="58">
                    <a:moveTo>
                      <a:pt x="0" y="6"/>
                    </a:moveTo>
                    <a:lnTo>
                      <a:pt x="188" y="6"/>
                    </a:lnTo>
                    <a:lnTo>
                      <a:pt x="293" y="0"/>
                    </a:lnTo>
                    <a:lnTo>
                      <a:pt x="293" y="47"/>
                    </a:lnTo>
                    <a:lnTo>
                      <a:pt x="145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187800" y="3615480"/>
                <a:ext cx="778320" cy="529920"/>
              </a:xfrm>
              <a:custGeom>
                <a:avLst/>
                <a:gdLst/>
                <a:ahLst/>
                <a:rect l="l" t="t" r="r" b="b"/>
                <a:pathLst>
                  <a:path w="592" h="268">
                    <a:moveTo>
                      <a:pt x="440" y="0"/>
                    </a:moveTo>
                    <a:lnTo>
                      <a:pt x="591" y="145"/>
                    </a:lnTo>
                    <a:lnTo>
                      <a:pt x="414" y="254"/>
                    </a:lnTo>
                    <a:lnTo>
                      <a:pt x="74" y="267"/>
                    </a:lnTo>
                    <a:lnTo>
                      <a:pt x="0" y="108"/>
                    </a:lnTo>
                    <a:lnTo>
                      <a:pt x="3" y="74"/>
                    </a:lnTo>
                    <a:lnTo>
                      <a:pt x="268" y="8"/>
                    </a:lnTo>
                    <a:lnTo>
                      <a:pt x="44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179880" y="3683160"/>
                <a:ext cx="762120" cy="565200"/>
              </a:xfrm>
              <a:custGeom>
                <a:avLst/>
                <a:gdLst/>
                <a:ahLst/>
                <a:rect l="l" t="t" r="r" b="b"/>
                <a:pathLst>
                  <a:path w="579" h="286">
                    <a:moveTo>
                      <a:pt x="436" y="0"/>
                    </a:moveTo>
                    <a:lnTo>
                      <a:pt x="540" y="103"/>
                    </a:lnTo>
                    <a:lnTo>
                      <a:pt x="578" y="164"/>
                    </a:lnTo>
                    <a:lnTo>
                      <a:pt x="457" y="272"/>
                    </a:lnTo>
                    <a:lnTo>
                      <a:pt x="56" y="285"/>
                    </a:lnTo>
                    <a:lnTo>
                      <a:pt x="0" y="136"/>
                    </a:lnTo>
                    <a:lnTo>
                      <a:pt x="198" y="36"/>
                    </a:lnTo>
                    <a:lnTo>
                      <a:pt x="336" y="2"/>
                    </a:lnTo>
                    <a:lnTo>
                      <a:pt x="436" y="0"/>
                    </a:lnTo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76040" y="3629520"/>
                <a:ext cx="168120" cy="244800"/>
              </a:xfrm>
              <a:custGeom>
                <a:avLst/>
                <a:gdLst/>
                <a:ahLst/>
                <a:rect l="l" t="t" r="r" b="b"/>
                <a:pathLst>
                  <a:path w="128" h="124">
                    <a:moveTo>
                      <a:pt x="6" y="15"/>
                    </a:moveTo>
                    <a:lnTo>
                      <a:pt x="69" y="86"/>
                    </a:lnTo>
                    <a:lnTo>
                      <a:pt x="127" y="123"/>
                    </a:lnTo>
                    <a:lnTo>
                      <a:pt x="70" y="56"/>
                    </a:lnTo>
                    <a:lnTo>
                      <a:pt x="0" y="0"/>
                    </a:lnTo>
                    <a:lnTo>
                      <a:pt x="6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282840" y="3900600"/>
                <a:ext cx="678240" cy="349560"/>
              </a:xfrm>
              <a:custGeom>
                <a:avLst/>
                <a:gdLst/>
                <a:ahLst/>
                <a:rect l="l" t="t" r="r" b="b"/>
                <a:pathLst>
                  <a:path w="515" h="177">
                    <a:moveTo>
                      <a:pt x="511" y="0"/>
                    </a:moveTo>
                    <a:lnTo>
                      <a:pt x="436" y="38"/>
                    </a:lnTo>
                    <a:lnTo>
                      <a:pt x="370" y="86"/>
                    </a:lnTo>
                    <a:lnTo>
                      <a:pt x="349" y="109"/>
                    </a:lnTo>
                    <a:lnTo>
                      <a:pt x="285" y="97"/>
                    </a:lnTo>
                    <a:lnTo>
                      <a:pt x="193" y="92"/>
                    </a:lnTo>
                    <a:lnTo>
                      <a:pt x="79" y="103"/>
                    </a:lnTo>
                    <a:lnTo>
                      <a:pt x="4" y="122"/>
                    </a:lnTo>
                    <a:lnTo>
                      <a:pt x="0" y="176"/>
                    </a:lnTo>
                    <a:lnTo>
                      <a:pt x="93" y="150"/>
                    </a:lnTo>
                    <a:lnTo>
                      <a:pt x="172" y="135"/>
                    </a:lnTo>
                    <a:lnTo>
                      <a:pt x="244" y="129"/>
                    </a:lnTo>
                    <a:lnTo>
                      <a:pt x="283" y="129"/>
                    </a:lnTo>
                    <a:lnTo>
                      <a:pt x="335" y="135"/>
                    </a:lnTo>
                    <a:lnTo>
                      <a:pt x="364" y="148"/>
                    </a:lnTo>
                    <a:lnTo>
                      <a:pt x="395" y="109"/>
                    </a:lnTo>
                    <a:lnTo>
                      <a:pt x="447" y="71"/>
                    </a:lnTo>
                    <a:lnTo>
                      <a:pt x="493" y="43"/>
                    </a:lnTo>
                    <a:lnTo>
                      <a:pt x="514" y="25"/>
                    </a:lnTo>
                    <a:lnTo>
                      <a:pt x="51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187800" y="3797280"/>
                <a:ext cx="104040" cy="452880"/>
              </a:xfrm>
              <a:custGeom>
                <a:avLst/>
                <a:gdLst/>
                <a:ahLst/>
                <a:rect l="l" t="t" r="r" b="b"/>
                <a:pathLst>
                  <a:path w="80" h="229">
                    <a:moveTo>
                      <a:pt x="0" y="0"/>
                    </a:moveTo>
                    <a:lnTo>
                      <a:pt x="79" y="174"/>
                    </a:lnTo>
                    <a:lnTo>
                      <a:pt x="73" y="228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9960" y="3614040"/>
                <a:ext cx="579240" cy="216720"/>
              </a:xfrm>
              <a:custGeom>
                <a:avLst/>
                <a:gdLst/>
                <a:ahLst/>
                <a:rect l="l" t="t" r="r" b="b"/>
                <a:pathLst>
                  <a:path w="440" h="110">
                    <a:moveTo>
                      <a:pt x="434" y="0"/>
                    </a:moveTo>
                    <a:lnTo>
                      <a:pt x="279" y="4"/>
                    </a:lnTo>
                    <a:lnTo>
                      <a:pt x="91" y="36"/>
                    </a:lnTo>
                    <a:lnTo>
                      <a:pt x="0" y="77"/>
                    </a:lnTo>
                    <a:lnTo>
                      <a:pt x="18" y="109"/>
                    </a:lnTo>
                    <a:lnTo>
                      <a:pt x="120" y="58"/>
                    </a:lnTo>
                    <a:lnTo>
                      <a:pt x="291" y="19"/>
                    </a:lnTo>
                    <a:lnTo>
                      <a:pt x="408" y="15"/>
                    </a:lnTo>
                    <a:lnTo>
                      <a:pt x="439" y="17"/>
                    </a:lnTo>
                    <a:lnTo>
                      <a:pt x="43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746000" y="3874320"/>
                <a:ext cx="38844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148360" y="3874320"/>
                <a:ext cx="388440" cy="115560"/>
              </a:xfrm>
              <a:custGeom>
                <a:avLst/>
                <a:gdLst/>
                <a:ahLst/>
                <a:rect l="l" t="t" r="r" b="b"/>
                <a:pathLst>
                  <a:path w="295" h="58">
                    <a:moveTo>
                      <a:pt x="0" y="6"/>
                    </a:moveTo>
                    <a:lnTo>
                      <a:pt x="189" y="6"/>
                    </a:lnTo>
                    <a:lnTo>
                      <a:pt x="294" y="0"/>
                    </a:lnTo>
                    <a:lnTo>
                      <a:pt x="294" y="47"/>
                    </a:lnTo>
                    <a:lnTo>
                      <a:pt x="146" y="57"/>
                    </a:lnTo>
                    <a:lnTo>
                      <a:pt x="9" y="55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"/>
            <p:cNvSpPr/>
            <p:nvPr/>
          </p:nvSpPr>
          <p:spPr>
            <a:xfrm>
              <a:off x="2749320" y="4221000"/>
              <a:ext cx="169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Kernproze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1754280" y="4817520"/>
              <a:ext cx="6668280" cy="911880"/>
              <a:chOff x="1754280" y="4817520"/>
              <a:chExt cx="6668280" cy="911880"/>
            </a:xfrm>
          </p:grpSpPr>
          <p:sp>
            <p:nvSpPr>
              <p:cNvPr id="717" name=""/>
              <p:cNvSpPr/>
              <p:nvPr/>
            </p:nvSpPr>
            <p:spPr>
              <a:xfrm>
                <a:off x="3551400" y="4916160"/>
                <a:ext cx="420840" cy="51480"/>
              </a:xfrm>
              <a:custGeom>
                <a:avLst/>
                <a:gdLst/>
                <a:ahLst/>
                <a:rect l="l" t="t" r="r" b="b"/>
                <a:pathLst>
                  <a:path w="299" h="26">
                    <a:moveTo>
                      <a:pt x="295" y="5"/>
                    </a:moveTo>
                    <a:lnTo>
                      <a:pt x="168" y="0"/>
                    </a:lnTo>
                    <a:lnTo>
                      <a:pt x="82" y="0"/>
                    </a:lnTo>
                    <a:lnTo>
                      <a:pt x="0" y="12"/>
                    </a:lnTo>
                    <a:lnTo>
                      <a:pt x="11" y="25"/>
                    </a:lnTo>
                    <a:lnTo>
                      <a:pt x="149" y="10"/>
                    </a:lnTo>
                    <a:lnTo>
                      <a:pt x="222" y="10"/>
                    </a:lnTo>
                    <a:lnTo>
                      <a:pt x="298" y="13"/>
                    </a:lnTo>
                    <a:lnTo>
                      <a:pt x="295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066760" y="4882320"/>
                <a:ext cx="519480" cy="95040"/>
              </a:xfrm>
              <a:custGeom>
                <a:avLst/>
                <a:gdLst/>
                <a:ahLst/>
                <a:rect l="l" t="t" r="r" b="b"/>
                <a:pathLst>
                  <a:path w="369" h="48">
                    <a:moveTo>
                      <a:pt x="0" y="23"/>
                    </a:moveTo>
                    <a:lnTo>
                      <a:pt x="117" y="15"/>
                    </a:lnTo>
                    <a:lnTo>
                      <a:pt x="190" y="15"/>
                    </a:lnTo>
                    <a:lnTo>
                      <a:pt x="277" y="19"/>
                    </a:lnTo>
                    <a:lnTo>
                      <a:pt x="368" y="47"/>
                    </a:lnTo>
                    <a:lnTo>
                      <a:pt x="278" y="4"/>
                    </a:lnTo>
                    <a:lnTo>
                      <a:pt x="155" y="0"/>
                    </a:lnTo>
                    <a:lnTo>
                      <a:pt x="90" y="6"/>
                    </a:lnTo>
                    <a:lnTo>
                      <a:pt x="37" y="1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176640" y="4896360"/>
                <a:ext cx="118080" cy="114840"/>
              </a:xfrm>
              <a:custGeom>
                <a:avLst/>
                <a:gdLst/>
                <a:ahLst/>
                <a:rect l="l" t="t" r="r" b="b"/>
                <a:pathLst>
                  <a:path w="84" h="58">
                    <a:moveTo>
                      <a:pt x="4" y="7"/>
                    </a:moveTo>
                    <a:lnTo>
                      <a:pt x="45" y="40"/>
                    </a:lnTo>
                    <a:lnTo>
                      <a:pt x="83" y="57"/>
                    </a:lnTo>
                    <a:lnTo>
                      <a:pt x="46" y="26"/>
                    </a:lnTo>
                    <a:lnTo>
                      <a:pt x="0" y="0"/>
                    </a:lnTo>
                    <a:lnTo>
                      <a:pt x="4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765520" y="4888800"/>
                <a:ext cx="406800" cy="102600"/>
              </a:xfrm>
              <a:custGeom>
                <a:avLst/>
                <a:gdLst/>
                <a:ahLst/>
                <a:rect l="l" t="t" r="r" b="b"/>
                <a:pathLst>
                  <a:path w="289" h="52">
                    <a:moveTo>
                      <a:pt x="285" y="0"/>
                    </a:moveTo>
                    <a:lnTo>
                      <a:pt x="183" y="2"/>
                    </a:lnTo>
                    <a:lnTo>
                      <a:pt x="60" y="17"/>
                    </a:lnTo>
                    <a:lnTo>
                      <a:pt x="0" y="36"/>
                    </a:lnTo>
                    <a:lnTo>
                      <a:pt x="12" y="51"/>
                    </a:lnTo>
                    <a:lnTo>
                      <a:pt x="79" y="27"/>
                    </a:lnTo>
                    <a:lnTo>
                      <a:pt x="191" y="9"/>
                    </a:lnTo>
                    <a:lnTo>
                      <a:pt x="268" y="7"/>
                    </a:lnTo>
                    <a:lnTo>
                      <a:pt x="288" y="8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94960" y="4882320"/>
                <a:ext cx="519480" cy="95040"/>
              </a:xfrm>
              <a:custGeom>
                <a:avLst/>
                <a:gdLst/>
                <a:ahLst/>
                <a:rect l="l" t="t" r="r" b="b"/>
                <a:pathLst>
                  <a:path w="369" h="48">
                    <a:moveTo>
                      <a:pt x="0" y="23"/>
                    </a:moveTo>
                    <a:lnTo>
                      <a:pt x="117" y="15"/>
                    </a:lnTo>
                    <a:lnTo>
                      <a:pt x="190" y="15"/>
                    </a:lnTo>
                    <a:lnTo>
                      <a:pt x="277" y="19"/>
                    </a:lnTo>
                    <a:lnTo>
                      <a:pt x="368" y="47"/>
                    </a:lnTo>
                    <a:lnTo>
                      <a:pt x="278" y="4"/>
                    </a:lnTo>
                    <a:lnTo>
                      <a:pt x="155" y="0"/>
                    </a:lnTo>
                    <a:lnTo>
                      <a:pt x="90" y="6"/>
                    </a:lnTo>
                    <a:lnTo>
                      <a:pt x="37" y="15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743440" y="4817520"/>
                <a:ext cx="2679120" cy="91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wertsichernde Prozesse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z.B. Abfallmanagemen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800" spc="-1" strike="noStrike">
                    <a:solidFill>
                      <a:srgbClr val="000000"/>
                    </a:solidFill>
                    <a:latin typeface="Arial"/>
                  </a:rPr>
                  <a:t>oder Instandhaltu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29364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39880" y="4925880"/>
                <a:ext cx="618120" cy="225720"/>
              </a:xfrm>
              <a:custGeom>
                <a:avLst/>
                <a:gdLst/>
                <a:ahLst/>
                <a:rect l="l" t="t" r="r" b="b"/>
                <a:pathLst>
                  <a:path w="439" h="114">
                    <a:moveTo>
                      <a:pt x="168" y="0"/>
                    </a:moveTo>
                    <a:lnTo>
                      <a:pt x="329" y="4"/>
                    </a:lnTo>
                    <a:lnTo>
                      <a:pt x="438" y="66"/>
                    </a:lnTo>
                    <a:lnTo>
                      <a:pt x="396" y="81"/>
                    </a:lnTo>
                    <a:lnTo>
                      <a:pt x="323" y="113"/>
                    </a:lnTo>
                    <a:lnTo>
                      <a:pt x="0" y="104"/>
                    </a:lnTo>
                    <a:lnTo>
                      <a:pt x="2" y="12"/>
                    </a:lnTo>
                    <a:lnTo>
                      <a:pt x="14" y="9"/>
                    </a:lnTo>
                    <a:lnTo>
                      <a:pt x="16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518640" y="4955760"/>
                <a:ext cx="591480" cy="229680"/>
              </a:xfrm>
              <a:custGeom>
                <a:avLst/>
                <a:gdLst/>
                <a:ahLst/>
                <a:rect l="l" t="t" r="r" b="b"/>
                <a:pathLst>
                  <a:path w="420" h="116">
                    <a:moveTo>
                      <a:pt x="419" y="40"/>
                    </a:moveTo>
                    <a:lnTo>
                      <a:pt x="333" y="0"/>
                    </a:lnTo>
                    <a:lnTo>
                      <a:pt x="8" y="5"/>
                    </a:lnTo>
                    <a:lnTo>
                      <a:pt x="0" y="115"/>
                    </a:lnTo>
                    <a:lnTo>
                      <a:pt x="170" y="108"/>
                    </a:lnTo>
                    <a:lnTo>
                      <a:pt x="328" y="108"/>
                    </a:lnTo>
                    <a:lnTo>
                      <a:pt x="419" y="4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527280" y="4945680"/>
                <a:ext cx="623520" cy="227880"/>
              </a:xfrm>
              <a:custGeom>
                <a:avLst/>
                <a:gdLst/>
                <a:ahLst/>
                <a:rect l="l" t="t" r="r" b="b"/>
                <a:pathLst>
                  <a:path w="443" h="115">
                    <a:moveTo>
                      <a:pt x="251" y="87"/>
                    </a:moveTo>
                    <a:lnTo>
                      <a:pt x="330" y="97"/>
                    </a:lnTo>
                    <a:lnTo>
                      <a:pt x="366" y="76"/>
                    </a:lnTo>
                    <a:lnTo>
                      <a:pt x="411" y="63"/>
                    </a:lnTo>
                    <a:lnTo>
                      <a:pt x="442" y="58"/>
                    </a:lnTo>
                    <a:lnTo>
                      <a:pt x="330" y="110"/>
                    </a:lnTo>
                    <a:lnTo>
                      <a:pt x="241" y="103"/>
                    </a:lnTo>
                    <a:lnTo>
                      <a:pt x="158" y="102"/>
                    </a:lnTo>
                    <a:lnTo>
                      <a:pt x="88" y="105"/>
                    </a:lnTo>
                    <a:lnTo>
                      <a:pt x="14" y="113"/>
                    </a:lnTo>
                    <a:lnTo>
                      <a:pt x="0" y="114"/>
                    </a:lnTo>
                    <a:lnTo>
                      <a:pt x="8" y="0"/>
                    </a:lnTo>
                    <a:lnTo>
                      <a:pt x="17" y="15"/>
                    </a:lnTo>
                    <a:lnTo>
                      <a:pt x="16" y="97"/>
                    </a:lnTo>
                    <a:lnTo>
                      <a:pt x="134" y="86"/>
                    </a:lnTo>
                    <a:lnTo>
                      <a:pt x="251" y="8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94920" y="4932360"/>
                <a:ext cx="154800" cy="120600"/>
              </a:xfrm>
              <a:custGeom>
                <a:avLst/>
                <a:gdLst/>
                <a:ahLst/>
                <a:rect l="l" t="t" r="r" b="b"/>
                <a:pathLst>
                  <a:path w="110" h="61">
                    <a:moveTo>
                      <a:pt x="0" y="0"/>
                    </a:moveTo>
                    <a:lnTo>
                      <a:pt x="109" y="60"/>
                    </a:lnTo>
                    <a:lnTo>
                      <a:pt x="73" y="29"/>
                    </a:lnTo>
                    <a:lnTo>
                      <a:pt x="35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40120" y="4892400"/>
                <a:ext cx="570240" cy="312840"/>
              </a:xfrm>
              <a:custGeom>
                <a:avLst/>
                <a:gdLst/>
                <a:ahLst/>
                <a:rect l="l" t="t" r="r" b="b"/>
                <a:pathLst>
                  <a:path w="405" h="158">
                    <a:moveTo>
                      <a:pt x="0" y="19"/>
                    </a:moveTo>
                    <a:lnTo>
                      <a:pt x="10" y="157"/>
                    </a:lnTo>
                    <a:lnTo>
                      <a:pt x="114" y="112"/>
                    </a:lnTo>
                    <a:lnTo>
                      <a:pt x="404" y="46"/>
                    </a:lnTo>
                    <a:lnTo>
                      <a:pt x="358" y="27"/>
                    </a:lnTo>
                    <a:lnTo>
                      <a:pt x="284" y="4"/>
                    </a:lnTo>
                    <a:lnTo>
                      <a:pt x="126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059920" y="4925880"/>
                <a:ext cx="541800" cy="267480"/>
              </a:xfrm>
              <a:custGeom>
                <a:avLst/>
                <a:gdLst/>
                <a:ahLst/>
                <a:rect l="l" t="t" r="r" b="b"/>
                <a:pathLst>
                  <a:path w="385" h="135">
                    <a:moveTo>
                      <a:pt x="0" y="21"/>
                    </a:moveTo>
                    <a:lnTo>
                      <a:pt x="16" y="134"/>
                    </a:lnTo>
                    <a:lnTo>
                      <a:pt x="176" y="105"/>
                    </a:lnTo>
                    <a:lnTo>
                      <a:pt x="306" y="96"/>
                    </a:lnTo>
                    <a:lnTo>
                      <a:pt x="384" y="44"/>
                    </a:lnTo>
                    <a:lnTo>
                      <a:pt x="275" y="6"/>
                    </a:lnTo>
                    <a:lnTo>
                      <a:pt x="13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40120" y="4957920"/>
                <a:ext cx="573120" cy="265320"/>
              </a:xfrm>
              <a:custGeom>
                <a:avLst/>
                <a:gdLst/>
                <a:ahLst/>
                <a:rect l="l" t="t" r="r" b="b"/>
                <a:pathLst>
                  <a:path w="407" h="134">
                    <a:moveTo>
                      <a:pt x="12" y="113"/>
                    </a:moveTo>
                    <a:lnTo>
                      <a:pt x="92" y="82"/>
                    </a:lnTo>
                    <a:lnTo>
                      <a:pt x="169" y="65"/>
                    </a:lnTo>
                    <a:lnTo>
                      <a:pt x="254" y="56"/>
                    </a:lnTo>
                    <a:lnTo>
                      <a:pt x="303" y="59"/>
                    </a:lnTo>
                    <a:lnTo>
                      <a:pt x="387" y="7"/>
                    </a:lnTo>
                    <a:lnTo>
                      <a:pt x="406" y="15"/>
                    </a:lnTo>
                    <a:lnTo>
                      <a:pt x="365" y="36"/>
                    </a:lnTo>
                    <a:lnTo>
                      <a:pt x="329" y="62"/>
                    </a:lnTo>
                    <a:lnTo>
                      <a:pt x="313" y="75"/>
                    </a:lnTo>
                    <a:lnTo>
                      <a:pt x="236" y="77"/>
                    </a:lnTo>
                    <a:lnTo>
                      <a:pt x="169" y="80"/>
                    </a:lnTo>
                    <a:lnTo>
                      <a:pt x="118" y="93"/>
                    </a:lnTo>
                    <a:lnTo>
                      <a:pt x="67" y="106"/>
                    </a:lnTo>
                    <a:lnTo>
                      <a:pt x="8" y="133"/>
                    </a:lnTo>
                    <a:lnTo>
                      <a:pt x="0" y="0"/>
                    </a:lnTo>
                    <a:lnTo>
                      <a:pt x="12" y="1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54844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764080" y="4890600"/>
                <a:ext cx="546480" cy="245520"/>
              </a:xfrm>
              <a:custGeom>
                <a:avLst/>
                <a:gdLst/>
                <a:ahLst/>
                <a:rect l="l" t="t" r="r" b="b"/>
                <a:pathLst>
                  <a:path w="388" h="124">
                    <a:moveTo>
                      <a:pt x="288" y="0"/>
                    </a:moveTo>
                    <a:lnTo>
                      <a:pt x="387" y="67"/>
                    </a:lnTo>
                    <a:lnTo>
                      <a:pt x="271" y="117"/>
                    </a:lnTo>
                    <a:lnTo>
                      <a:pt x="49" y="123"/>
                    </a:lnTo>
                    <a:lnTo>
                      <a:pt x="0" y="50"/>
                    </a:lnTo>
                    <a:lnTo>
                      <a:pt x="2" y="34"/>
                    </a:lnTo>
                    <a:lnTo>
                      <a:pt x="176" y="4"/>
                    </a:lnTo>
                    <a:lnTo>
                      <a:pt x="28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758320" y="4920120"/>
                <a:ext cx="533520" cy="263520"/>
              </a:xfrm>
              <a:custGeom>
                <a:avLst/>
                <a:gdLst/>
                <a:ahLst/>
                <a:rect l="l" t="t" r="r" b="b"/>
                <a:pathLst>
                  <a:path w="379" h="133">
                    <a:moveTo>
                      <a:pt x="285" y="0"/>
                    </a:moveTo>
                    <a:lnTo>
                      <a:pt x="353" y="48"/>
                    </a:lnTo>
                    <a:lnTo>
                      <a:pt x="378" y="76"/>
                    </a:lnTo>
                    <a:lnTo>
                      <a:pt x="299" y="126"/>
                    </a:lnTo>
                    <a:lnTo>
                      <a:pt x="37" y="132"/>
                    </a:lnTo>
                    <a:lnTo>
                      <a:pt x="0" y="63"/>
                    </a:lnTo>
                    <a:lnTo>
                      <a:pt x="130" y="17"/>
                    </a:lnTo>
                    <a:lnTo>
                      <a:pt x="220" y="1"/>
                    </a:lnTo>
                    <a:lnTo>
                      <a:pt x="285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831400" y="5021280"/>
                <a:ext cx="475920" cy="164160"/>
              </a:xfrm>
              <a:custGeom>
                <a:avLst/>
                <a:gdLst/>
                <a:ahLst/>
                <a:rect l="l" t="t" r="r" b="b"/>
                <a:pathLst>
                  <a:path w="338" h="83">
                    <a:moveTo>
                      <a:pt x="335" y="0"/>
                    </a:moveTo>
                    <a:lnTo>
                      <a:pt x="286" y="18"/>
                    </a:lnTo>
                    <a:lnTo>
                      <a:pt x="243" y="40"/>
                    </a:lnTo>
                    <a:lnTo>
                      <a:pt x="229" y="51"/>
                    </a:lnTo>
                    <a:lnTo>
                      <a:pt x="187" y="45"/>
                    </a:lnTo>
                    <a:lnTo>
                      <a:pt x="127" y="43"/>
                    </a:lnTo>
                    <a:lnTo>
                      <a:pt x="52" y="48"/>
                    </a:lnTo>
                    <a:lnTo>
                      <a:pt x="3" y="57"/>
                    </a:lnTo>
                    <a:lnTo>
                      <a:pt x="0" y="82"/>
                    </a:lnTo>
                    <a:lnTo>
                      <a:pt x="61" y="70"/>
                    </a:lnTo>
                    <a:lnTo>
                      <a:pt x="113" y="63"/>
                    </a:lnTo>
                    <a:lnTo>
                      <a:pt x="160" y="60"/>
                    </a:lnTo>
                    <a:lnTo>
                      <a:pt x="186" y="60"/>
                    </a:lnTo>
                    <a:lnTo>
                      <a:pt x="220" y="63"/>
                    </a:lnTo>
                    <a:lnTo>
                      <a:pt x="239" y="69"/>
                    </a:lnTo>
                    <a:lnTo>
                      <a:pt x="259" y="51"/>
                    </a:lnTo>
                    <a:lnTo>
                      <a:pt x="293" y="33"/>
                    </a:lnTo>
                    <a:lnTo>
                      <a:pt x="323" y="20"/>
                    </a:lnTo>
                    <a:lnTo>
                      <a:pt x="337" y="12"/>
                    </a:lnTo>
                    <a:lnTo>
                      <a:pt x="3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64080" y="4973760"/>
                <a:ext cx="74160" cy="211680"/>
              </a:xfrm>
              <a:custGeom>
                <a:avLst/>
                <a:gdLst/>
                <a:ahLst/>
                <a:rect l="l" t="t" r="r" b="b"/>
                <a:pathLst>
                  <a:path w="53" h="107">
                    <a:moveTo>
                      <a:pt x="0" y="0"/>
                    </a:moveTo>
                    <a:lnTo>
                      <a:pt x="52" y="81"/>
                    </a:lnTo>
                    <a:lnTo>
                      <a:pt x="48" y="106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54280" y="5009040"/>
                <a:ext cx="27288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13712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67960" y="4892400"/>
                <a:ext cx="570240" cy="312840"/>
              </a:xfrm>
              <a:custGeom>
                <a:avLst/>
                <a:gdLst/>
                <a:ahLst/>
                <a:rect l="l" t="t" r="r" b="b"/>
                <a:pathLst>
                  <a:path w="405" h="158">
                    <a:moveTo>
                      <a:pt x="0" y="19"/>
                    </a:moveTo>
                    <a:lnTo>
                      <a:pt x="10" y="157"/>
                    </a:lnTo>
                    <a:lnTo>
                      <a:pt x="114" y="112"/>
                    </a:lnTo>
                    <a:lnTo>
                      <a:pt x="404" y="46"/>
                    </a:lnTo>
                    <a:lnTo>
                      <a:pt x="358" y="27"/>
                    </a:lnTo>
                    <a:lnTo>
                      <a:pt x="284" y="4"/>
                    </a:lnTo>
                    <a:lnTo>
                      <a:pt x="126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487760" y="4925880"/>
                <a:ext cx="542160" cy="267480"/>
              </a:xfrm>
              <a:custGeom>
                <a:avLst/>
                <a:gdLst/>
                <a:ahLst/>
                <a:rect l="l" t="t" r="r" b="b"/>
                <a:pathLst>
                  <a:path w="385" h="135">
                    <a:moveTo>
                      <a:pt x="0" y="21"/>
                    </a:moveTo>
                    <a:lnTo>
                      <a:pt x="16" y="134"/>
                    </a:lnTo>
                    <a:lnTo>
                      <a:pt x="176" y="105"/>
                    </a:lnTo>
                    <a:lnTo>
                      <a:pt x="306" y="96"/>
                    </a:lnTo>
                    <a:lnTo>
                      <a:pt x="384" y="44"/>
                    </a:lnTo>
                    <a:lnTo>
                      <a:pt x="275" y="6"/>
                    </a:lnTo>
                    <a:lnTo>
                      <a:pt x="134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467960" y="4957920"/>
                <a:ext cx="573120" cy="265320"/>
              </a:xfrm>
              <a:custGeom>
                <a:avLst/>
                <a:gdLst/>
                <a:ahLst/>
                <a:rect l="l" t="t" r="r" b="b"/>
                <a:pathLst>
                  <a:path w="407" h="134">
                    <a:moveTo>
                      <a:pt x="12" y="113"/>
                    </a:moveTo>
                    <a:lnTo>
                      <a:pt x="92" y="82"/>
                    </a:lnTo>
                    <a:lnTo>
                      <a:pt x="169" y="65"/>
                    </a:lnTo>
                    <a:lnTo>
                      <a:pt x="254" y="56"/>
                    </a:lnTo>
                    <a:lnTo>
                      <a:pt x="303" y="59"/>
                    </a:lnTo>
                    <a:lnTo>
                      <a:pt x="387" y="7"/>
                    </a:lnTo>
                    <a:lnTo>
                      <a:pt x="406" y="15"/>
                    </a:lnTo>
                    <a:lnTo>
                      <a:pt x="365" y="36"/>
                    </a:lnTo>
                    <a:lnTo>
                      <a:pt x="329" y="62"/>
                    </a:lnTo>
                    <a:lnTo>
                      <a:pt x="313" y="75"/>
                    </a:lnTo>
                    <a:lnTo>
                      <a:pt x="236" y="77"/>
                    </a:lnTo>
                    <a:lnTo>
                      <a:pt x="169" y="80"/>
                    </a:lnTo>
                    <a:lnTo>
                      <a:pt x="118" y="93"/>
                    </a:lnTo>
                    <a:lnTo>
                      <a:pt x="67" y="106"/>
                    </a:lnTo>
                    <a:lnTo>
                      <a:pt x="8" y="133"/>
                    </a:lnTo>
                    <a:lnTo>
                      <a:pt x="0" y="0"/>
                    </a:lnTo>
                    <a:lnTo>
                      <a:pt x="12" y="1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7664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182120" y="5009040"/>
                <a:ext cx="273240" cy="55440"/>
              </a:xfrm>
              <a:custGeom>
                <a:avLst/>
                <a:gdLst/>
                <a:ahLst/>
                <a:rect l="l" t="t" r="r" b="b"/>
                <a:pathLst>
                  <a:path w="194" h="28">
                    <a:moveTo>
                      <a:pt x="0" y="3"/>
                    </a:moveTo>
                    <a:lnTo>
                      <a:pt x="124" y="3"/>
                    </a:lnTo>
                    <a:lnTo>
                      <a:pt x="193" y="0"/>
                    </a:lnTo>
                    <a:lnTo>
                      <a:pt x="193" y="22"/>
                    </a:lnTo>
                    <a:lnTo>
                      <a:pt x="96" y="27"/>
                    </a:lnTo>
                    <a:lnTo>
                      <a:pt x="6" y="26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73760" y="5219280"/>
                <a:ext cx="2846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Unterstützungsprozes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658800" y="76320"/>
            <a:ext cx="7265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920" y="55627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1295280" y="1415880"/>
            <a:ext cx="7277400" cy="4864320"/>
            <a:chOff x="1295280" y="1415880"/>
            <a:chExt cx="7277400" cy="4864320"/>
          </a:xfrm>
        </p:grpSpPr>
        <p:sp>
          <p:nvSpPr>
            <p:cNvPr id="747" name=""/>
            <p:cNvSpPr/>
            <p:nvPr/>
          </p:nvSpPr>
          <p:spPr>
            <a:xfrm>
              <a:off x="1295280" y="1539720"/>
              <a:ext cx="6400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95280" y="1539720"/>
              <a:ext cx="6400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017800" y="1468440"/>
              <a:ext cx="434340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06520" y="2606760"/>
              <a:ext cx="7166160" cy="2519280"/>
            </a:xfrm>
            <a:custGeom>
              <a:avLst/>
              <a:gdLst>
                <a:gd name="textAreaLeft" fmla="*/ 0 w 7166160"/>
                <a:gd name="textAreaRight" fmla="*/ 7166520 w 7166160"/>
                <a:gd name="textAreaTop" fmla="*/ 0 h 2519280"/>
                <a:gd name="textAreaBottom" fmla="*/ 2519640 h 25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677" y="0"/>
                  </a:lnTo>
                  <a:lnTo>
                    <a:pt x="21600" y="10800"/>
                  </a:lnTo>
                  <a:lnTo>
                    <a:pt x="1867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017800" y="1415880"/>
              <a:ext cx="518148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Führungsprozes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itarbeiterentwicklung, Finanzen, Unternehmensplanung- u. steuerung, Krisen- u. Risikomanagement,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2004120" y="5272200"/>
              <a:ext cx="5277600" cy="1008000"/>
              <a:chOff x="2004120" y="5272200"/>
              <a:chExt cx="5277600" cy="1008000"/>
            </a:xfrm>
          </p:grpSpPr>
          <p:sp>
            <p:nvSpPr>
              <p:cNvPr id="753" name=""/>
              <p:cNvSpPr/>
              <p:nvPr/>
            </p:nvSpPr>
            <p:spPr>
              <a:xfrm>
                <a:off x="2017440" y="5278680"/>
                <a:ext cx="4495320" cy="27612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011320" y="5272200"/>
                <a:ext cx="5270400" cy="1008000"/>
              </a:xfrm>
              <a:custGeom>
                <a:avLst/>
                <a:gdLst>
                  <a:gd name="textAreaLeft" fmla="*/ 0 w 5270400"/>
                  <a:gd name="textAreaRight" fmla="*/ 5270760 w 52704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91" y="0"/>
                    </a:lnTo>
                    <a:lnTo>
                      <a:pt x="21600" y="10800"/>
                    </a:lnTo>
                    <a:lnTo>
                      <a:pt x="20091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004120" y="5278680"/>
                <a:ext cx="4625280" cy="94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Unterstützungsprozes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inkauf/Beschaffung, Logistik, Wartung/Instandhaltung, </a:t>
                </a:r>
                <a:br>
                  <a:rPr sz="1400"/>
                </a:b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EDV / IT, Reklamationsbearbeitung, Marketing und P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2016000" y="1457280"/>
              <a:ext cx="5185080" cy="996840"/>
            </a:xfrm>
            <a:custGeom>
              <a:avLst/>
              <a:gdLst>
                <a:gd name="textAreaLeft" fmla="*/ 0 w 5185080"/>
                <a:gd name="textAreaRight" fmla="*/ 5185080 w 518508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091" y="0"/>
                  </a:lnTo>
                  <a:lnTo>
                    <a:pt x="21600" y="10800"/>
                  </a:lnTo>
                  <a:lnTo>
                    <a:pt x="2009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27040" y="2620800"/>
              <a:ext cx="4179960" cy="274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712880" y="2606760"/>
              <a:ext cx="528624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ernprozesse (wertschöpfende Prozess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kau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nnovation und Produktent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oduk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66688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uftragsabwicklu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Schnittstelle zum externen Kund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582560" y="2286000"/>
            <a:ext cx="7103880" cy="4065480"/>
            <a:chOff x="1582560" y="2286000"/>
            <a:chExt cx="7103880" cy="4065480"/>
          </a:xfrm>
        </p:grpSpPr>
        <p:sp>
          <p:nvSpPr>
            <p:cNvPr id="761" name=""/>
            <p:cNvSpPr/>
            <p:nvPr/>
          </p:nvSpPr>
          <p:spPr>
            <a:xfrm>
              <a:off x="1658880" y="2286000"/>
              <a:ext cx="1090800" cy="4065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595640" y="2305080"/>
              <a:ext cx="1090800" cy="40431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31840" y="2305080"/>
              <a:ext cx="4482000" cy="4043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97840" y="3156480"/>
              <a:ext cx="0" cy="49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3480" y="3353040"/>
              <a:ext cx="8910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5400" indent="-95400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Strategie, Zie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663360" y="4059360"/>
              <a:ext cx="0" cy="156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4188240" y="4059000"/>
              <a:ext cx="0" cy="1560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13480" y="4335840"/>
              <a:ext cx="5158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m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94640" y="4059360"/>
              <a:ext cx="0" cy="56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15000" y="5899320"/>
              <a:ext cx="8100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ionsda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10040" y="5640480"/>
              <a:ext cx="61956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dat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960520" y="5052240"/>
              <a:ext cx="0" cy="567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39120" y="5194440"/>
              <a:ext cx="4590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ertigungs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uftra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682320" y="5052240"/>
              <a:ext cx="0" cy="586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27320" y="5181480"/>
              <a:ext cx="60552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e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Termin-war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49120" y="3227040"/>
              <a:ext cx="0" cy="42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714920" y="3290760"/>
              <a:ext cx="9306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95400" indent="-95400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läne, Updates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&amp; Review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11040" y="5099760"/>
              <a:ext cx="540000" cy="23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mation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410160" y="4078440"/>
              <a:ext cx="9360" cy="1541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50320" y="4267800"/>
              <a:ext cx="3402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Termin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war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43280" y="2441520"/>
              <a:ext cx="552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u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878880" y="4839480"/>
              <a:ext cx="918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21360" y="4551480"/>
              <a:ext cx="56160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Liefersche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3720" y="3988440"/>
              <a:ext cx="984240" cy="702000"/>
            </a:xfrm>
            <a:custGeom>
              <a:avLst/>
              <a:gdLst/>
              <a:ahLst/>
              <a:rect l="l" t="t" r="r" b="b"/>
              <a:pathLst>
                <a:path w="720" h="475">
                  <a:moveTo>
                    <a:pt x="720" y="2"/>
                  </a:moveTo>
                  <a:lnTo>
                    <a:pt x="522" y="0"/>
                  </a:lnTo>
                  <a:lnTo>
                    <a:pt x="525" y="475"/>
                  </a:lnTo>
                  <a:lnTo>
                    <a:pt x="0" y="47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813720" y="4981680"/>
              <a:ext cx="984240" cy="780120"/>
            </a:xfrm>
            <a:custGeom>
              <a:avLst/>
              <a:gdLst/>
              <a:ahLst/>
              <a:rect l="l" t="t" r="r" b="b"/>
              <a:pathLst>
                <a:path w="628" h="379">
                  <a:moveTo>
                    <a:pt x="628" y="377"/>
                  </a:moveTo>
                  <a:lnTo>
                    <a:pt x="468" y="379"/>
                  </a:lnTo>
                  <a:lnTo>
                    <a:pt x="468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4720" y="5047920"/>
              <a:ext cx="307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Wa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78880" y="3846600"/>
              <a:ext cx="9187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39000" y="2441520"/>
              <a:ext cx="552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Ku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2240" y="2441520"/>
              <a:ext cx="1146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Unterneh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680080" y="5605200"/>
              <a:ext cx="1170360" cy="404640"/>
            </a:xfrm>
            <a:custGeom>
              <a:avLst/>
              <a:gdLst>
                <a:gd name="textAreaLeft" fmla="*/ 0 w 1170360"/>
                <a:gd name="textAreaRight" fmla="*/ 1170720 w 11703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55" y="0"/>
                  </a:lnTo>
                  <a:lnTo>
                    <a:pt x="21600" y="10800"/>
                  </a:lnTo>
                  <a:lnTo>
                    <a:pt x="19855" y="21600"/>
                  </a:lnTo>
                  <a:lnTo>
                    <a:pt x="0" y="21600"/>
                  </a:lnTo>
                  <a:lnTo>
                    <a:pt x="1745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ukt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ertig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9880" y="2801520"/>
              <a:ext cx="3519000" cy="403200"/>
            </a:xfrm>
            <a:custGeom>
              <a:avLst/>
              <a:gdLst>
                <a:gd name="textAreaLeft" fmla="*/ 0 w 3519000"/>
                <a:gd name="textAreaRight" fmla="*/ 3519360 w 351900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086" y="0"/>
                  </a:lnTo>
                  <a:lnTo>
                    <a:pt x="21600" y="10800"/>
                  </a:lnTo>
                  <a:lnTo>
                    <a:pt x="21086" y="21600"/>
                  </a:lnTo>
                  <a:lnTo>
                    <a:pt x="0" y="21600"/>
                  </a:lnTo>
                  <a:lnTo>
                    <a:pt x="51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Führungsprozes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40520" y="5600520"/>
              <a:ext cx="1328760" cy="40320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55" y="0"/>
                  </a:lnTo>
                  <a:lnTo>
                    <a:pt x="21600" y="10800"/>
                  </a:lnTo>
                  <a:lnTo>
                    <a:pt x="19855" y="21600"/>
                  </a:lnTo>
                  <a:lnTo>
                    <a:pt x="0" y="21600"/>
                  </a:lnTo>
                  <a:lnTo>
                    <a:pt x="1745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nt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516560" y="4632840"/>
              <a:ext cx="2362320" cy="40464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936" y="0"/>
                  </a:lnTo>
                  <a:lnTo>
                    <a:pt x="21600" y="10800"/>
                  </a:lnTo>
                  <a:lnTo>
                    <a:pt x="20936" y="21600"/>
                  </a:lnTo>
                  <a:lnTo>
                    <a:pt x="0" y="21600"/>
                  </a:lnTo>
                  <a:lnTo>
                    <a:pt x="66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uftragsabwickl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53040" y="3652920"/>
              <a:ext cx="3525840" cy="403200"/>
            </a:xfrm>
            <a:custGeom>
              <a:avLst/>
              <a:gdLst>
                <a:gd name="textAreaLeft" fmla="*/ 0 w 3525840"/>
                <a:gd name="textAreaRight" fmla="*/ 3526200 w 352584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086" y="0"/>
                  </a:lnTo>
                  <a:lnTo>
                    <a:pt x="21600" y="10800"/>
                  </a:lnTo>
                  <a:lnTo>
                    <a:pt x="21086" y="21600"/>
                  </a:lnTo>
                  <a:lnTo>
                    <a:pt x="0" y="21600"/>
                  </a:lnTo>
                  <a:lnTo>
                    <a:pt x="51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rketing / Vertrieb / Kunden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1761480" y="4541400"/>
              <a:ext cx="870840" cy="582120"/>
              <a:chOff x="1761480" y="4541400"/>
              <a:chExt cx="870840" cy="582120"/>
            </a:xfrm>
          </p:grpSpPr>
          <p:sp>
            <p:nvSpPr>
              <p:cNvPr id="796" name=""/>
              <p:cNvSpPr/>
              <p:nvPr/>
            </p:nvSpPr>
            <p:spPr>
              <a:xfrm>
                <a:off x="1761480" y="4541400"/>
                <a:ext cx="870840" cy="582120"/>
              </a:xfrm>
              <a:custGeom>
                <a:avLst/>
                <a:gdLst>
                  <a:gd name="textAreaLeft" fmla="*/ 0 w 870840"/>
                  <a:gd name="textAreaRight" fmla="*/ 871200 w 8708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96" y="0"/>
                    </a:lnTo>
                    <a:lnTo>
                      <a:pt x="21600" y="10800"/>
                    </a:lnTo>
                    <a:lnTo>
                      <a:pt x="19096" y="21600"/>
                    </a:lnTo>
                    <a:lnTo>
                      <a:pt x="0" y="21600"/>
                    </a:lnTo>
                    <a:lnTo>
                      <a:pt x="250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847520" y="4603680"/>
                <a:ext cx="726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Beschaffungs-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prozess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Kun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1582560" y="3562560"/>
              <a:ext cx="1258920" cy="582120"/>
              <a:chOff x="1582560" y="3562560"/>
              <a:chExt cx="1258920" cy="582120"/>
            </a:xfrm>
          </p:grpSpPr>
          <p:sp>
            <p:nvSpPr>
              <p:cNvPr id="799" name=""/>
              <p:cNvSpPr/>
              <p:nvPr/>
            </p:nvSpPr>
            <p:spPr>
              <a:xfrm>
                <a:off x="1762560" y="3562560"/>
                <a:ext cx="869400" cy="582120"/>
              </a:xfrm>
              <a:custGeom>
                <a:avLst/>
                <a:gdLst>
                  <a:gd name="textAreaLeft" fmla="*/ 0 w 869400"/>
                  <a:gd name="textAreaRight" fmla="*/ 869760 w 86940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96" y="0"/>
                    </a:lnTo>
                    <a:lnTo>
                      <a:pt x="21600" y="10800"/>
                    </a:lnTo>
                    <a:lnTo>
                      <a:pt x="19096" y="21600"/>
                    </a:lnTo>
                    <a:lnTo>
                      <a:pt x="0" y="21600"/>
                    </a:lnTo>
                    <a:lnTo>
                      <a:pt x="2504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82560" y="3625560"/>
                <a:ext cx="125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Produkt-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management 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Arial Narrow"/>
                  </a:rPr>
                  <a:t>Kund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1761480" y="551952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56880" y="5573880"/>
              <a:ext cx="707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Entwicklungs-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726680" y="354780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726680" y="454140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26680" y="5463360"/>
              <a:ext cx="870840" cy="582120"/>
            </a:xfrm>
            <a:custGeom>
              <a:avLst/>
              <a:gdLst>
                <a:gd name="textAreaLeft" fmla="*/ 0 w 870840"/>
                <a:gd name="textAreaRight" fmla="*/ 871200 w 870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96" y="0"/>
                  </a:lnTo>
                  <a:lnTo>
                    <a:pt x="21600" y="10800"/>
                  </a:lnTo>
                  <a:lnTo>
                    <a:pt x="19096" y="21600"/>
                  </a:lnTo>
                  <a:lnTo>
                    <a:pt x="0" y="21600"/>
                  </a:lnTo>
                  <a:lnTo>
                    <a:pt x="2504" y="1080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812360" y="3625920"/>
              <a:ext cx="726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Beschaffungs-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</a:t>
              </a:r>
              <a:br>
                <a:rPr sz="1000"/>
              </a:b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811280" y="4603680"/>
              <a:ext cx="732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Buchhaltung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851240" y="5533920"/>
              <a:ext cx="643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duktion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proze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1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 Narrow"/>
                </a:rPr>
                <a:t>Kun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9" name=""/>
            <p:cNvCxnSpPr>
              <a:stCxn id="799" idx="0"/>
              <a:endCxn id="794" idx="0"/>
            </p:cNvCxnSpPr>
            <p:nvPr/>
          </p:nvCxnSpPr>
          <p:spPr>
            <a:xfrm>
              <a:off x="2632320" y="3853440"/>
              <a:ext cx="80460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0" name=""/>
            <p:cNvCxnSpPr>
              <a:stCxn id="796" idx="0"/>
              <a:endCxn id="793" idx="0"/>
            </p:cNvCxnSpPr>
            <p:nvPr/>
          </p:nvCxnSpPr>
          <p:spPr>
            <a:xfrm>
              <a:off x="2632680" y="4832280"/>
              <a:ext cx="195696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1" name=""/>
            <p:cNvCxnSpPr>
              <a:stCxn id="801" idx="0"/>
              <a:endCxn id="792" idx="0"/>
            </p:cNvCxnSpPr>
            <p:nvPr/>
          </p:nvCxnSpPr>
          <p:spPr>
            <a:xfrm flipV="1">
              <a:off x="2632680" y="5802840"/>
              <a:ext cx="916560" cy="7920"/>
            </a:xfrm>
            <a:prstGeom prst="bentConnector3">
              <a:avLst>
                <a:gd name="adj1" fmla="val 44007"/>
              </a:avLst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</p:cxnSp>
        <p:sp>
          <p:nvSpPr>
            <p:cNvPr id="812" name=""/>
            <p:cNvSpPr/>
            <p:nvPr/>
          </p:nvSpPr>
          <p:spPr>
            <a:xfrm>
              <a:off x="5933160" y="3207960"/>
              <a:ext cx="0" cy="460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036120" y="3346560"/>
              <a:ext cx="4060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oreca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77000" y="3207960"/>
              <a:ext cx="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792" idx="1"/>
              <a:endCxn id="790" idx="0"/>
            </p:cNvCxnSpPr>
            <p:nvPr/>
          </p:nvCxnSpPr>
          <p:spPr>
            <a:xfrm>
              <a:off x="4768920" y="5802840"/>
              <a:ext cx="100548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6" name=""/>
            <p:cNvSpPr/>
            <p:nvPr/>
          </p:nvSpPr>
          <p:spPr>
            <a:xfrm>
              <a:off x="3353040" y="4201200"/>
              <a:ext cx="621720" cy="47268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rodukt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planung, 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Kunden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nforder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44760" y="4733280"/>
              <a:ext cx="470160" cy="2127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Rechnu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60640" y="3751920"/>
              <a:ext cx="37440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Anfor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derung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941200" y="4718520"/>
              <a:ext cx="393480" cy="236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Nach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f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965280" y="3669120"/>
              <a:ext cx="390960" cy="354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Support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infor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mation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41840" y="5659920"/>
              <a:ext cx="640800" cy="253800"/>
            </a:xfrm>
            <a:prstGeom prst="rect">
              <a:avLst/>
            </a:prstGeom>
            <a:solidFill>
              <a:srgbClr val="ccccff"/>
            </a:solidFill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twicklungs-</a:t>
              </a:r>
              <a:br>
                <a:rPr sz="10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koope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936720" y="958680"/>
            <a:ext cx="8055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on den Zielen zu den Ergebniss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1827360" y="1628640"/>
            <a:ext cx="6173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676160" y="1066680"/>
            <a:ext cx="68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erwendete Quelle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676520" y="2209320"/>
            <a:ext cx="6781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QM/DGQ (Hrsg.) (2003): Das EFQM-Modell für Excellence. Version für Unternehmen. EFQM Brussels Representative Office, Deutsche Gesellschaft für Qualität e.V. (DGQ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uture e.V. (Hrsg.) (2005): Auf be.stem Weg. Prozessorientiert – nachhaltig – excellent. Kalender für das Jahr 2006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stermann, U.; Merten, T.; Baur, A. (2003): Nachhaltige Prozessbewertung mittels des Sustainable Excellence Ansatzes. In: Linne, G.; Schwarz, M. (Hrsg.) (2003): Handbuch Nachhaltige Entwicklung. Wie ist nachhaltiges Wirtschaften machbar? Leske + Budrich: Opla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Arbeitsmaterialien aus dem be.st-Projek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ww.sustainable-benchmarking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spcAft>
                <a:spcPts val="7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6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3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81080" y="2472840"/>
            <a:ext cx="693432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rundlagen verst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Was ist ein Geschäftsprozes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041560" y="2565360"/>
            <a:ext cx="6850800" cy="2421720"/>
            <a:chOff x="2041560" y="2565360"/>
            <a:chExt cx="6850800" cy="2421720"/>
          </a:xfrm>
        </p:grpSpPr>
        <p:grpSp>
          <p:nvGrpSpPr>
            <p:cNvPr id="61" name=""/>
            <p:cNvGrpSpPr/>
            <p:nvPr/>
          </p:nvGrpSpPr>
          <p:grpSpPr>
            <a:xfrm>
              <a:off x="3738240" y="3062160"/>
              <a:ext cx="3783960" cy="993600"/>
              <a:chOff x="3738240" y="3062160"/>
              <a:chExt cx="3783960" cy="993600"/>
            </a:xfrm>
          </p:grpSpPr>
          <p:sp>
            <p:nvSpPr>
              <p:cNvPr id="62" name=""/>
              <p:cNvSpPr/>
              <p:nvPr/>
            </p:nvSpPr>
            <p:spPr>
              <a:xfrm>
                <a:off x="6608880" y="3062160"/>
                <a:ext cx="913320" cy="99360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993600"/>
                  <a:gd name="textAreaBottom" fmla="*/ 99360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100" y="0"/>
                    </a:lnTo>
                    <a:lnTo>
                      <a:pt x="21600" y="10800"/>
                    </a:lnTo>
                    <a:lnTo>
                      <a:pt x="171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ecc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1e64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738240" y="3062160"/>
                <a:ext cx="913320" cy="993600"/>
              </a:xfrm>
              <a:custGeom>
                <a:avLst/>
                <a:gdLst>
                  <a:gd name="textAreaLeft" fmla="*/ 0 w 913320"/>
                  <a:gd name="textAreaRight" fmla="*/ 913680 w 913320"/>
                  <a:gd name="textAreaTop" fmla="*/ 0 h 993600"/>
                  <a:gd name="textAreaBottom" fmla="*/ 99360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100" y="0"/>
                    </a:lnTo>
                    <a:lnTo>
                      <a:pt x="21600" y="10800"/>
                    </a:lnTo>
                    <a:lnTo>
                      <a:pt x="171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becc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800" spc="-1" strike="noStrike">
                    <a:solidFill>
                      <a:srgbClr val="001e64"/>
                    </a:solidFill>
                    <a:latin typeface="Arial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738240" y="3062160"/>
              <a:ext cx="978480" cy="99360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360756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173560" y="3062160"/>
              <a:ext cx="913680" cy="993600"/>
            </a:xfrm>
            <a:custGeom>
              <a:avLst/>
              <a:gdLst>
                <a:gd name="textAreaLeft" fmla="*/ 0 w 913680"/>
                <a:gd name="textAreaRight" fmla="*/ 914040 w 9136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971" y="0"/>
                  </a:lnTo>
                  <a:lnTo>
                    <a:pt x="21600" y="10800"/>
                  </a:lnTo>
                  <a:lnTo>
                    <a:pt x="16971" y="21600"/>
                  </a:lnTo>
                  <a:lnTo>
                    <a:pt x="0" y="21600"/>
                  </a:lnTo>
                  <a:lnTo>
                    <a:pt x="4629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0924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36" y="0"/>
                  </a:lnTo>
                  <a:lnTo>
                    <a:pt x="21600" y="10800"/>
                  </a:lnTo>
                  <a:lnTo>
                    <a:pt x="17036" y="21600"/>
                  </a:lnTo>
                  <a:lnTo>
                    <a:pt x="0" y="21600"/>
                  </a:lnTo>
                  <a:lnTo>
                    <a:pt x="4564" y="10800"/>
                  </a:lnTo>
                  <a:close/>
                </a:path>
              </a:pathLst>
            </a:cu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3040" y="3186000"/>
              <a:ext cx="8262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3186000"/>
              <a:ext cx="8280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58200" y="3186000"/>
              <a:ext cx="827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Aktiv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328520" y="3062160"/>
              <a:ext cx="1433880" cy="993600"/>
            </a:xfrm>
            <a:custGeom>
              <a:avLst/>
              <a:gdLst>
                <a:gd name="textAreaLeft" fmla="*/ 0 w 1433880"/>
                <a:gd name="textAreaRight" fmla="*/ 1434240 w 143388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34" y="0"/>
                  </a:lnTo>
                  <a:lnTo>
                    <a:pt x="21600" y="10800"/>
                  </a:lnTo>
                  <a:lnTo>
                    <a:pt x="18734" y="21600"/>
                  </a:lnTo>
                  <a:lnTo>
                    <a:pt x="0" y="21600"/>
                  </a:lnTo>
                  <a:lnTo>
                    <a:pt x="2866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5572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8" y="0"/>
                  </a:lnTo>
                  <a:lnTo>
                    <a:pt x="21600" y="10800"/>
                  </a:lnTo>
                  <a:lnTo>
                    <a:pt x="17068" y="21600"/>
                  </a:lnTo>
                  <a:lnTo>
                    <a:pt x="0" y="21600"/>
                  </a:lnTo>
                  <a:lnTo>
                    <a:pt x="4532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02560" y="3062160"/>
              <a:ext cx="1696320" cy="99360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329" y="0"/>
                  </a:lnTo>
                  <a:lnTo>
                    <a:pt x="21600" y="10800"/>
                  </a:lnTo>
                  <a:lnTo>
                    <a:pt x="18329" y="21600"/>
                  </a:lnTo>
                  <a:lnTo>
                    <a:pt x="0" y="21600"/>
                  </a:lnTo>
                  <a:lnTo>
                    <a:pt x="3271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983480" y="3602880"/>
              <a:ext cx="1096560" cy="576720"/>
              <a:chOff x="4983480" y="3602880"/>
              <a:chExt cx="1096560" cy="576720"/>
            </a:xfrm>
          </p:grpSpPr>
          <p:sp>
            <p:nvSpPr>
              <p:cNvPr id="75" name=""/>
              <p:cNvSpPr/>
              <p:nvPr/>
            </p:nvSpPr>
            <p:spPr>
              <a:xfrm>
                <a:off x="4983480" y="363096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8" h="1112">
                    <a:moveTo>
                      <a:pt x="19" y="1085"/>
                    </a:moveTo>
                    <a:lnTo>
                      <a:pt x="0" y="416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5" y="21"/>
                    </a:lnTo>
                    <a:lnTo>
                      <a:pt x="23" y="173"/>
                    </a:lnTo>
                    <a:lnTo>
                      <a:pt x="27" y="330"/>
                    </a:lnTo>
                    <a:lnTo>
                      <a:pt x="39" y="524"/>
                    </a:lnTo>
                    <a:lnTo>
                      <a:pt x="46" y="761"/>
                    </a:lnTo>
                    <a:lnTo>
                      <a:pt x="46" y="983"/>
                    </a:lnTo>
                    <a:lnTo>
                      <a:pt x="58" y="1091"/>
                    </a:lnTo>
                    <a:lnTo>
                      <a:pt x="35" y="1112"/>
                    </a:lnTo>
                    <a:lnTo>
                      <a:pt x="19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45120" y="362484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7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5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8" y="523"/>
                    </a:lnTo>
                    <a:lnTo>
                      <a:pt x="46" y="762"/>
                    </a:lnTo>
                    <a:lnTo>
                      <a:pt x="46" y="984"/>
                    </a:lnTo>
                    <a:lnTo>
                      <a:pt x="57" y="1092"/>
                    </a:lnTo>
                    <a:lnTo>
                      <a:pt x="35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303520" y="361008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5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4" y="762"/>
                    </a:lnTo>
                    <a:lnTo>
                      <a:pt x="44" y="984"/>
                    </a:lnTo>
                    <a:lnTo>
                      <a:pt x="55" y="1092"/>
                    </a:lnTo>
                    <a:lnTo>
                      <a:pt x="33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62280" y="360288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8" y="1086"/>
                    </a:moveTo>
                    <a:lnTo>
                      <a:pt x="0" y="416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3"/>
                    </a:lnTo>
                    <a:lnTo>
                      <a:pt x="26" y="330"/>
                    </a:lnTo>
                    <a:lnTo>
                      <a:pt x="37" y="524"/>
                    </a:lnTo>
                    <a:lnTo>
                      <a:pt x="44" y="762"/>
                    </a:lnTo>
                    <a:lnTo>
                      <a:pt x="44" y="984"/>
                    </a:lnTo>
                    <a:lnTo>
                      <a:pt x="56" y="1092"/>
                    </a:lnTo>
                    <a:lnTo>
                      <a:pt x="33" y="1113"/>
                    </a:lnTo>
                    <a:lnTo>
                      <a:pt x="18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609520" y="361728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5" h="1113">
                    <a:moveTo>
                      <a:pt x="18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4" y="761"/>
                    </a:lnTo>
                    <a:lnTo>
                      <a:pt x="44" y="984"/>
                    </a:lnTo>
                    <a:lnTo>
                      <a:pt x="55" y="1092"/>
                    </a:lnTo>
                    <a:lnTo>
                      <a:pt x="33" y="1113"/>
                    </a:lnTo>
                    <a:lnTo>
                      <a:pt x="18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43800" y="3620520"/>
                <a:ext cx="2736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6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21"/>
                    </a:lnTo>
                    <a:lnTo>
                      <a:pt x="23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4" y="1113"/>
                    </a:lnTo>
                    <a:lnTo>
                      <a:pt x="19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85280" y="362052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6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3" y="0"/>
                    </a:lnTo>
                    <a:lnTo>
                      <a:pt x="34" y="21"/>
                    </a:lnTo>
                    <a:lnTo>
                      <a:pt x="23" y="172"/>
                    </a:lnTo>
                    <a:lnTo>
                      <a:pt x="27" y="330"/>
                    </a:lnTo>
                    <a:lnTo>
                      <a:pt x="38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4" y="1113"/>
                    </a:lnTo>
                    <a:lnTo>
                      <a:pt x="19" y="1086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054120" y="3632040"/>
                <a:ext cx="25920" cy="547560"/>
              </a:xfrm>
              <a:custGeom>
                <a:avLst/>
                <a:gdLst/>
                <a:ahLst/>
                <a:rect l="l" t="t" r="r" b="b"/>
                <a:pathLst>
                  <a:path w="56" h="1113">
                    <a:moveTo>
                      <a:pt x="19" y="1085"/>
                    </a:moveTo>
                    <a:lnTo>
                      <a:pt x="0" y="415"/>
                    </a:lnTo>
                    <a:lnTo>
                      <a:pt x="0" y="0"/>
                    </a:lnTo>
                    <a:lnTo>
                      <a:pt x="22" y="0"/>
                    </a:lnTo>
                    <a:lnTo>
                      <a:pt x="33" y="21"/>
                    </a:lnTo>
                    <a:lnTo>
                      <a:pt x="22" y="172"/>
                    </a:lnTo>
                    <a:lnTo>
                      <a:pt x="26" y="330"/>
                    </a:lnTo>
                    <a:lnTo>
                      <a:pt x="37" y="523"/>
                    </a:lnTo>
                    <a:lnTo>
                      <a:pt x="45" y="762"/>
                    </a:lnTo>
                    <a:lnTo>
                      <a:pt x="45" y="984"/>
                    </a:lnTo>
                    <a:lnTo>
                      <a:pt x="56" y="1092"/>
                    </a:lnTo>
                    <a:lnTo>
                      <a:pt x="33" y="1113"/>
                    </a:lnTo>
                    <a:lnTo>
                      <a:pt x="19" y="1085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5891400" y="3062160"/>
              <a:ext cx="913320" cy="993600"/>
            </a:xfrm>
            <a:custGeom>
              <a:avLst/>
              <a:gdLst>
                <a:gd name="textAreaLeft" fmla="*/ 0 w 913320"/>
                <a:gd name="textAreaRight" fmla="*/ 913680 w 913320"/>
                <a:gd name="textAreaTop" fmla="*/ 0 h 993600"/>
                <a:gd name="textAreaBottom" fmla="*/ 99360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68" y="0"/>
                  </a:lnTo>
                  <a:lnTo>
                    <a:pt x="21600" y="10800"/>
                  </a:lnTo>
                  <a:lnTo>
                    <a:pt x="17068" y="21600"/>
                  </a:lnTo>
                  <a:lnTo>
                    <a:pt x="0" y="21600"/>
                  </a:lnTo>
                  <a:lnTo>
                    <a:pt x="4532" y="10800"/>
                  </a:lnTo>
                  <a:close/>
                </a:path>
              </a:pathLst>
            </a:cu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1e64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411360" y="2941560"/>
              <a:ext cx="391320" cy="243720"/>
              <a:chOff x="3411360" y="2941560"/>
              <a:chExt cx="391320" cy="24372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411360" y="2951640"/>
                <a:ext cx="391320" cy="233640"/>
                <a:chOff x="3411360" y="2951640"/>
                <a:chExt cx="391320" cy="233640"/>
              </a:xfrm>
            </p:grpSpPr>
            <p:sp>
              <p:nvSpPr>
                <p:cNvPr id="86" name=""/>
                <p:cNvSpPr/>
                <p:nvPr/>
              </p:nvSpPr>
              <p:spPr>
                <a:xfrm flipH="1">
                  <a:off x="3413880" y="3024000"/>
                  <a:ext cx="382680" cy="16128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3433320" y="300960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H="1">
                  <a:off x="3431520" y="299664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3419640" y="2982600"/>
                  <a:ext cx="382680" cy="16272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3435840" y="2972160"/>
                  <a:ext cx="363240" cy="15624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3411000" y="2951640"/>
                  <a:ext cx="382680" cy="16308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423600" y="2941560"/>
                <a:ext cx="364320" cy="157680"/>
                <a:chOff x="3423600" y="2941560"/>
                <a:chExt cx="364320" cy="157680"/>
              </a:xfrm>
            </p:grpSpPr>
            <p:sp>
              <p:nvSpPr>
                <p:cNvPr id="93" name=""/>
                <p:cNvSpPr/>
                <p:nvPr/>
              </p:nvSpPr>
              <p:spPr>
                <a:xfrm flipH="1">
                  <a:off x="3423600" y="294156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3634200" y="3007440"/>
                  <a:ext cx="66600" cy="669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3528360" y="2957040"/>
                  <a:ext cx="65880" cy="669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47440" y="2976480"/>
                <a:ext cx="122400" cy="135360"/>
                <a:chOff x="3547440" y="2976480"/>
                <a:chExt cx="122400" cy="135360"/>
              </a:xfrm>
            </p:grpSpPr>
            <p:sp>
              <p:nvSpPr>
                <p:cNvPr id="97" name=""/>
                <p:cNvSpPr/>
                <p:nvPr/>
              </p:nvSpPr>
              <p:spPr>
                <a:xfrm flipH="1">
                  <a:off x="3550320" y="2976480"/>
                  <a:ext cx="119520" cy="7236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3547440" y="3031560"/>
                  <a:ext cx="29520" cy="802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3013200" y="2904840"/>
              <a:ext cx="472680" cy="254160"/>
              <a:chOff x="3013200" y="2904840"/>
              <a:chExt cx="472680" cy="25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013200" y="2910960"/>
                <a:ext cx="472680" cy="248040"/>
                <a:chOff x="3013200" y="2910960"/>
                <a:chExt cx="472680" cy="248040"/>
              </a:xfrm>
            </p:grpSpPr>
            <p:sp>
              <p:nvSpPr>
                <p:cNvPr id="101" name=""/>
                <p:cNvSpPr/>
                <p:nvPr/>
              </p:nvSpPr>
              <p:spPr>
                <a:xfrm rot="564000">
                  <a:off x="3021480" y="3000240"/>
                  <a:ext cx="44496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64000">
                  <a:off x="3022560" y="298764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rot="564000">
                  <a:off x="3026160" y="297828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rot="564000">
                  <a:off x="3020040" y="29678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564000">
                  <a:off x="3025440" y="2959200"/>
                  <a:ext cx="42300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564000">
                  <a:off x="3033360" y="2946240"/>
                  <a:ext cx="44532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035520" y="2904840"/>
                <a:ext cx="437760" cy="187560"/>
                <a:chOff x="3035520" y="2904840"/>
                <a:chExt cx="437760" cy="187560"/>
              </a:xfrm>
            </p:grpSpPr>
            <p:sp>
              <p:nvSpPr>
                <p:cNvPr id="108" name=""/>
                <p:cNvSpPr/>
                <p:nvPr/>
              </p:nvSpPr>
              <p:spPr>
                <a:xfrm rot="564000">
                  <a:off x="3042000" y="2938320"/>
                  <a:ext cx="42408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rot="564000">
                  <a:off x="314172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64000">
                  <a:off x="3270240" y="2958840"/>
                  <a:ext cx="7668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177000" y="2953080"/>
                <a:ext cx="146520" cy="124920"/>
                <a:chOff x="3177000" y="2953080"/>
                <a:chExt cx="146520" cy="124920"/>
              </a:xfrm>
            </p:grpSpPr>
            <p:sp>
              <p:nvSpPr>
                <p:cNvPr id="112" name=""/>
                <p:cNvSpPr/>
                <p:nvPr/>
              </p:nvSpPr>
              <p:spPr>
                <a:xfrm rot="564000">
                  <a:off x="318024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64000">
                  <a:off x="328032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2564280" y="316044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90600" y="318600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2041560" y="3854160"/>
              <a:ext cx="6850800" cy="1132920"/>
              <a:chOff x="2041560" y="3854160"/>
              <a:chExt cx="6850800" cy="11329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847640" y="3993840"/>
                <a:ext cx="457920" cy="682920"/>
                <a:chOff x="7847640" y="3993840"/>
                <a:chExt cx="457920" cy="6829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879320" y="4176360"/>
                  <a:ext cx="70920" cy="467280"/>
                </a:xfrm>
                <a:custGeom>
                  <a:avLst/>
                  <a:gdLst/>
                  <a:ahLst/>
                  <a:rect l="l" t="t" r="r" b="b"/>
                  <a:pathLst>
                    <a:path w="273" h="1783">
                      <a:moveTo>
                        <a:pt x="146" y="0"/>
                      </a:moveTo>
                      <a:lnTo>
                        <a:pt x="153" y="400"/>
                      </a:lnTo>
                      <a:lnTo>
                        <a:pt x="111" y="931"/>
                      </a:lnTo>
                      <a:lnTo>
                        <a:pt x="55" y="1370"/>
                      </a:lnTo>
                      <a:lnTo>
                        <a:pt x="0" y="1730"/>
                      </a:lnTo>
                      <a:lnTo>
                        <a:pt x="49" y="1763"/>
                      </a:lnTo>
                      <a:lnTo>
                        <a:pt x="146" y="1783"/>
                      </a:lnTo>
                      <a:lnTo>
                        <a:pt x="196" y="1749"/>
                      </a:lnTo>
                      <a:lnTo>
                        <a:pt x="188" y="1357"/>
                      </a:lnTo>
                      <a:lnTo>
                        <a:pt x="209" y="924"/>
                      </a:lnTo>
                      <a:lnTo>
                        <a:pt x="244" y="551"/>
                      </a:lnTo>
                      <a:lnTo>
                        <a:pt x="273" y="433"/>
                      </a:lnTo>
                      <a:lnTo>
                        <a:pt x="238" y="289"/>
                      </a:lnTo>
                      <a:lnTo>
                        <a:pt x="188" y="708"/>
                      </a:lnTo>
                      <a:lnTo>
                        <a:pt x="161" y="1029"/>
                      </a:lnTo>
                      <a:lnTo>
                        <a:pt x="146" y="1416"/>
                      </a:lnTo>
                      <a:lnTo>
                        <a:pt x="161" y="1730"/>
                      </a:lnTo>
                      <a:lnTo>
                        <a:pt x="132" y="1749"/>
                      </a:lnTo>
                      <a:lnTo>
                        <a:pt x="84" y="1743"/>
                      </a:lnTo>
                      <a:lnTo>
                        <a:pt x="42" y="1704"/>
                      </a:lnTo>
                      <a:lnTo>
                        <a:pt x="76" y="1449"/>
                      </a:lnTo>
                      <a:lnTo>
                        <a:pt x="119" y="1134"/>
                      </a:lnTo>
                      <a:lnTo>
                        <a:pt x="139" y="924"/>
                      </a:lnTo>
                      <a:lnTo>
                        <a:pt x="161" y="649"/>
                      </a:lnTo>
                      <a:lnTo>
                        <a:pt x="188" y="388"/>
                      </a:lnTo>
                      <a:lnTo>
                        <a:pt x="188" y="171"/>
                      </a:lnTo>
                      <a:lnTo>
                        <a:pt x="146" y="27"/>
                      </a:lnTo>
                      <a:lnTo>
                        <a:pt x="1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847640" y="3993840"/>
                  <a:ext cx="457920" cy="682920"/>
                </a:xfrm>
                <a:custGeom>
                  <a:avLst/>
                  <a:gdLst/>
                  <a:ahLst/>
                  <a:rect l="l" t="t" r="r" b="b"/>
                  <a:pathLst>
                    <a:path w="1736" h="2606">
                      <a:moveTo>
                        <a:pt x="92" y="137"/>
                      </a:moveTo>
                      <a:lnTo>
                        <a:pt x="379" y="118"/>
                      </a:lnTo>
                      <a:lnTo>
                        <a:pt x="639" y="78"/>
                      </a:lnTo>
                      <a:lnTo>
                        <a:pt x="928" y="26"/>
                      </a:lnTo>
                      <a:lnTo>
                        <a:pt x="1047" y="0"/>
                      </a:lnTo>
                      <a:lnTo>
                        <a:pt x="1139" y="392"/>
                      </a:lnTo>
                      <a:lnTo>
                        <a:pt x="1259" y="838"/>
                      </a:lnTo>
                      <a:lnTo>
                        <a:pt x="1371" y="1198"/>
                      </a:lnTo>
                      <a:lnTo>
                        <a:pt x="1539" y="1793"/>
                      </a:lnTo>
                      <a:lnTo>
                        <a:pt x="1715" y="2324"/>
                      </a:lnTo>
                      <a:lnTo>
                        <a:pt x="1736" y="2390"/>
                      </a:lnTo>
                      <a:lnTo>
                        <a:pt x="1708" y="2410"/>
                      </a:lnTo>
                      <a:lnTo>
                        <a:pt x="1561" y="2416"/>
                      </a:lnTo>
                      <a:lnTo>
                        <a:pt x="1329" y="2461"/>
                      </a:lnTo>
                      <a:lnTo>
                        <a:pt x="1104" y="2540"/>
                      </a:lnTo>
                      <a:lnTo>
                        <a:pt x="878" y="2606"/>
                      </a:lnTo>
                      <a:lnTo>
                        <a:pt x="808" y="2599"/>
                      </a:lnTo>
                      <a:lnTo>
                        <a:pt x="780" y="2540"/>
                      </a:lnTo>
                      <a:lnTo>
                        <a:pt x="646" y="2069"/>
                      </a:lnTo>
                      <a:lnTo>
                        <a:pt x="499" y="1604"/>
                      </a:lnTo>
                      <a:lnTo>
                        <a:pt x="394" y="1217"/>
                      </a:lnTo>
                      <a:lnTo>
                        <a:pt x="295" y="864"/>
                      </a:lnTo>
                      <a:lnTo>
                        <a:pt x="175" y="550"/>
                      </a:lnTo>
                      <a:lnTo>
                        <a:pt x="92" y="341"/>
                      </a:lnTo>
                      <a:lnTo>
                        <a:pt x="0" y="145"/>
                      </a:lnTo>
                      <a:lnTo>
                        <a:pt x="92" y="145"/>
                      </a:lnTo>
                      <a:lnTo>
                        <a:pt x="147" y="347"/>
                      </a:lnTo>
                      <a:lnTo>
                        <a:pt x="239" y="596"/>
                      </a:lnTo>
                      <a:lnTo>
                        <a:pt x="344" y="870"/>
                      </a:lnTo>
                      <a:lnTo>
                        <a:pt x="486" y="1388"/>
                      </a:lnTo>
                      <a:lnTo>
                        <a:pt x="611" y="1807"/>
                      </a:lnTo>
                      <a:lnTo>
                        <a:pt x="696" y="2049"/>
                      </a:lnTo>
                      <a:lnTo>
                        <a:pt x="745" y="2220"/>
                      </a:lnTo>
                      <a:lnTo>
                        <a:pt x="823" y="2429"/>
                      </a:lnTo>
                      <a:lnTo>
                        <a:pt x="878" y="2540"/>
                      </a:lnTo>
                      <a:lnTo>
                        <a:pt x="907" y="2547"/>
                      </a:lnTo>
                      <a:lnTo>
                        <a:pt x="1040" y="2534"/>
                      </a:lnTo>
                      <a:lnTo>
                        <a:pt x="1251" y="2449"/>
                      </a:lnTo>
                      <a:lnTo>
                        <a:pt x="1469" y="2383"/>
                      </a:lnTo>
                      <a:lnTo>
                        <a:pt x="1631" y="2338"/>
                      </a:lnTo>
                      <a:lnTo>
                        <a:pt x="1645" y="2305"/>
                      </a:lnTo>
                      <a:lnTo>
                        <a:pt x="1603" y="2141"/>
                      </a:lnTo>
                      <a:lnTo>
                        <a:pt x="1497" y="1801"/>
                      </a:lnTo>
                      <a:lnTo>
                        <a:pt x="1384" y="1427"/>
                      </a:lnTo>
                      <a:lnTo>
                        <a:pt x="1272" y="1041"/>
                      </a:lnTo>
                      <a:lnTo>
                        <a:pt x="1188" y="746"/>
                      </a:lnTo>
                      <a:lnTo>
                        <a:pt x="1139" y="537"/>
                      </a:lnTo>
                      <a:lnTo>
                        <a:pt x="1040" y="184"/>
                      </a:lnTo>
                      <a:lnTo>
                        <a:pt x="1012" y="98"/>
                      </a:lnTo>
                      <a:lnTo>
                        <a:pt x="956" y="92"/>
                      </a:lnTo>
                      <a:lnTo>
                        <a:pt x="843" y="92"/>
                      </a:lnTo>
                      <a:lnTo>
                        <a:pt x="675" y="112"/>
                      </a:lnTo>
                      <a:lnTo>
                        <a:pt x="436" y="145"/>
                      </a:lnTo>
                      <a:lnTo>
                        <a:pt x="254" y="170"/>
                      </a:lnTo>
                      <a:lnTo>
                        <a:pt x="112" y="184"/>
                      </a:lnTo>
                      <a:lnTo>
                        <a:pt x="92" y="1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96600" y="4042440"/>
                  <a:ext cx="363960" cy="605520"/>
                </a:xfrm>
                <a:custGeom>
                  <a:avLst/>
                  <a:gdLst/>
                  <a:ahLst/>
                  <a:rect l="l" t="t" r="r" b="b"/>
                  <a:pathLst>
                    <a:path w="1376" h="2310">
                      <a:moveTo>
                        <a:pt x="67" y="68"/>
                      </a:moveTo>
                      <a:lnTo>
                        <a:pt x="277" y="39"/>
                      </a:lnTo>
                      <a:lnTo>
                        <a:pt x="474" y="20"/>
                      </a:lnTo>
                      <a:lnTo>
                        <a:pt x="693" y="6"/>
                      </a:lnTo>
                      <a:lnTo>
                        <a:pt x="784" y="0"/>
                      </a:lnTo>
                      <a:lnTo>
                        <a:pt x="854" y="271"/>
                      </a:lnTo>
                      <a:lnTo>
                        <a:pt x="968" y="686"/>
                      </a:lnTo>
                      <a:lnTo>
                        <a:pt x="1069" y="1021"/>
                      </a:lnTo>
                      <a:lnTo>
                        <a:pt x="1228" y="1577"/>
                      </a:lnTo>
                      <a:lnTo>
                        <a:pt x="1368" y="2016"/>
                      </a:lnTo>
                      <a:lnTo>
                        <a:pt x="1376" y="2094"/>
                      </a:lnTo>
                      <a:lnTo>
                        <a:pt x="1340" y="2126"/>
                      </a:lnTo>
                      <a:lnTo>
                        <a:pt x="1270" y="2146"/>
                      </a:lnTo>
                      <a:lnTo>
                        <a:pt x="1073" y="2185"/>
                      </a:lnTo>
                      <a:lnTo>
                        <a:pt x="933" y="2251"/>
                      </a:lnTo>
                      <a:lnTo>
                        <a:pt x="813" y="2310"/>
                      </a:lnTo>
                      <a:lnTo>
                        <a:pt x="763" y="2310"/>
                      </a:lnTo>
                      <a:lnTo>
                        <a:pt x="721" y="2290"/>
                      </a:lnTo>
                      <a:lnTo>
                        <a:pt x="581" y="1868"/>
                      </a:lnTo>
                      <a:lnTo>
                        <a:pt x="447" y="1436"/>
                      </a:lnTo>
                      <a:lnTo>
                        <a:pt x="347" y="1077"/>
                      </a:lnTo>
                      <a:lnTo>
                        <a:pt x="257" y="745"/>
                      </a:lnTo>
                      <a:lnTo>
                        <a:pt x="150" y="454"/>
                      </a:lnTo>
                      <a:lnTo>
                        <a:pt x="77" y="258"/>
                      </a:lnTo>
                      <a:lnTo>
                        <a:pt x="0" y="78"/>
                      </a:lnTo>
                      <a:lnTo>
                        <a:pt x="67" y="74"/>
                      </a:lnTo>
                      <a:lnTo>
                        <a:pt x="119" y="261"/>
                      </a:lnTo>
                      <a:lnTo>
                        <a:pt x="200" y="493"/>
                      </a:lnTo>
                      <a:lnTo>
                        <a:pt x="292" y="749"/>
                      </a:lnTo>
                      <a:lnTo>
                        <a:pt x="425" y="1233"/>
                      </a:lnTo>
                      <a:lnTo>
                        <a:pt x="541" y="1623"/>
                      </a:lnTo>
                      <a:lnTo>
                        <a:pt x="616" y="1849"/>
                      </a:lnTo>
                      <a:lnTo>
                        <a:pt x="661" y="2009"/>
                      </a:lnTo>
                      <a:lnTo>
                        <a:pt x="728" y="2202"/>
                      </a:lnTo>
                      <a:lnTo>
                        <a:pt x="749" y="2257"/>
                      </a:lnTo>
                      <a:lnTo>
                        <a:pt x="813" y="2265"/>
                      </a:lnTo>
                      <a:lnTo>
                        <a:pt x="876" y="2251"/>
                      </a:lnTo>
                      <a:lnTo>
                        <a:pt x="939" y="2206"/>
                      </a:lnTo>
                      <a:lnTo>
                        <a:pt x="1066" y="2146"/>
                      </a:lnTo>
                      <a:lnTo>
                        <a:pt x="1200" y="2120"/>
                      </a:lnTo>
                      <a:lnTo>
                        <a:pt x="1323" y="2087"/>
                      </a:lnTo>
                      <a:lnTo>
                        <a:pt x="1333" y="2055"/>
                      </a:lnTo>
                      <a:lnTo>
                        <a:pt x="1291" y="1901"/>
                      </a:lnTo>
                      <a:lnTo>
                        <a:pt x="1196" y="1583"/>
                      </a:lnTo>
                      <a:lnTo>
                        <a:pt x="1094" y="1237"/>
                      </a:lnTo>
                      <a:lnTo>
                        <a:pt x="988" y="876"/>
                      </a:lnTo>
                      <a:lnTo>
                        <a:pt x="911" y="602"/>
                      </a:lnTo>
                      <a:lnTo>
                        <a:pt x="861" y="406"/>
                      </a:lnTo>
                      <a:lnTo>
                        <a:pt x="771" y="74"/>
                      </a:lnTo>
                      <a:lnTo>
                        <a:pt x="657" y="59"/>
                      </a:lnTo>
                      <a:lnTo>
                        <a:pt x="482" y="65"/>
                      </a:lnTo>
                      <a:lnTo>
                        <a:pt x="327" y="78"/>
                      </a:lnTo>
                      <a:lnTo>
                        <a:pt x="186" y="91"/>
                      </a:lnTo>
                      <a:lnTo>
                        <a:pt x="84" y="110"/>
                      </a:lnTo>
                      <a:lnTo>
                        <a:pt x="67" y="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986960" y="4105800"/>
                  <a:ext cx="96480" cy="92520"/>
                </a:xfrm>
                <a:custGeom>
                  <a:avLst/>
                  <a:gdLst/>
                  <a:ahLst/>
                  <a:rect l="l" t="t" r="r" b="b"/>
                  <a:pathLst>
                    <a:path w="365" h="357">
                      <a:moveTo>
                        <a:pt x="365" y="330"/>
                      </a:moveTo>
                      <a:lnTo>
                        <a:pt x="169" y="138"/>
                      </a:lnTo>
                      <a:lnTo>
                        <a:pt x="36" y="0"/>
                      </a:lnTo>
                      <a:lnTo>
                        <a:pt x="0" y="6"/>
                      </a:lnTo>
                      <a:lnTo>
                        <a:pt x="0" y="33"/>
                      </a:lnTo>
                      <a:lnTo>
                        <a:pt x="169" y="185"/>
                      </a:lnTo>
                      <a:lnTo>
                        <a:pt x="316" y="357"/>
                      </a:lnTo>
                      <a:lnTo>
                        <a:pt x="36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998120" y="4152960"/>
                  <a:ext cx="85320" cy="77040"/>
                </a:xfrm>
                <a:custGeom>
                  <a:avLst/>
                  <a:gdLst/>
                  <a:ahLst/>
                  <a:rect l="l" t="t" r="r" b="b"/>
                  <a:pathLst>
                    <a:path w="324" h="294">
                      <a:moveTo>
                        <a:pt x="324" y="294"/>
                      </a:moveTo>
                      <a:lnTo>
                        <a:pt x="50" y="0"/>
                      </a:lnTo>
                      <a:lnTo>
                        <a:pt x="7" y="0"/>
                      </a:lnTo>
                      <a:lnTo>
                        <a:pt x="0" y="40"/>
                      </a:lnTo>
                      <a:lnTo>
                        <a:pt x="148" y="157"/>
                      </a:lnTo>
                      <a:lnTo>
                        <a:pt x="324" y="2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085240" y="4426560"/>
                  <a:ext cx="102600" cy="103680"/>
                </a:xfrm>
                <a:custGeom>
                  <a:avLst/>
                  <a:gdLst/>
                  <a:ahLst/>
                  <a:rect l="l" t="t" r="r" b="b"/>
                  <a:pathLst>
                    <a:path w="394" h="400">
                      <a:moveTo>
                        <a:pt x="28" y="0"/>
                      </a:moveTo>
                      <a:lnTo>
                        <a:pt x="337" y="283"/>
                      </a:lnTo>
                      <a:lnTo>
                        <a:pt x="394" y="367"/>
                      </a:lnTo>
                      <a:lnTo>
                        <a:pt x="365" y="400"/>
                      </a:lnTo>
                      <a:lnTo>
                        <a:pt x="323" y="381"/>
                      </a:lnTo>
                      <a:lnTo>
                        <a:pt x="133" y="158"/>
                      </a:lnTo>
                      <a:lnTo>
                        <a:pt x="0" y="7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8086680" y="4479840"/>
                  <a:ext cx="77400" cy="87840"/>
                </a:xfrm>
                <a:custGeom>
                  <a:avLst/>
                  <a:gdLst/>
                  <a:ahLst/>
                  <a:rect l="l" t="t" r="r" b="b"/>
                  <a:pathLst>
                    <a:path w="294" h="338">
                      <a:moveTo>
                        <a:pt x="266" y="246"/>
                      </a:moveTo>
                      <a:lnTo>
                        <a:pt x="154" y="109"/>
                      </a:lnTo>
                      <a:lnTo>
                        <a:pt x="35" y="0"/>
                      </a:lnTo>
                      <a:lnTo>
                        <a:pt x="0" y="12"/>
                      </a:lnTo>
                      <a:lnTo>
                        <a:pt x="21" y="70"/>
                      </a:lnTo>
                      <a:lnTo>
                        <a:pt x="160" y="181"/>
                      </a:lnTo>
                      <a:lnTo>
                        <a:pt x="272" y="338"/>
                      </a:lnTo>
                      <a:lnTo>
                        <a:pt x="294" y="305"/>
                      </a:lnTo>
                      <a:lnTo>
                        <a:pt x="266" y="2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8386200" y="4017240"/>
                <a:ext cx="506160" cy="690480"/>
                <a:chOff x="8386200" y="4017240"/>
                <a:chExt cx="506160" cy="69048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8385840" y="4407840"/>
                  <a:ext cx="158760" cy="299880"/>
                </a:xfrm>
                <a:custGeom>
                  <a:avLst/>
                  <a:gdLst/>
                  <a:ahLst/>
                  <a:rect l="l" t="t" r="r" b="b"/>
                  <a:pathLst>
                    <a:path w="350" h="695">
                      <a:moveTo>
                        <a:pt x="35" y="4"/>
                      </a:moveTo>
                      <a:lnTo>
                        <a:pt x="76" y="30"/>
                      </a:lnTo>
                      <a:lnTo>
                        <a:pt x="117" y="71"/>
                      </a:lnTo>
                      <a:lnTo>
                        <a:pt x="161" y="128"/>
                      </a:lnTo>
                      <a:lnTo>
                        <a:pt x="202" y="194"/>
                      </a:lnTo>
                      <a:lnTo>
                        <a:pt x="223" y="250"/>
                      </a:lnTo>
                      <a:lnTo>
                        <a:pt x="231" y="288"/>
                      </a:lnTo>
                      <a:lnTo>
                        <a:pt x="228" y="325"/>
                      </a:lnTo>
                      <a:lnTo>
                        <a:pt x="220" y="362"/>
                      </a:lnTo>
                      <a:lnTo>
                        <a:pt x="208" y="403"/>
                      </a:lnTo>
                      <a:lnTo>
                        <a:pt x="189" y="459"/>
                      </a:lnTo>
                      <a:lnTo>
                        <a:pt x="169" y="517"/>
                      </a:lnTo>
                      <a:lnTo>
                        <a:pt x="162" y="551"/>
                      </a:lnTo>
                      <a:lnTo>
                        <a:pt x="162" y="575"/>
                      </a:lnTo>
                      <a:lnTo>
                        <a:pt x="173" y="595"/>
                      </a:lnTo>
                      <a:lnTo>
                        <a:pt x="198" y="604"/>
                      </a:lnTo>
                      <a:lnTo>
                        <a:pt x="232" y="615"/>
                      </a:lnTo>
                      <a:lnTo>
                        <a:pt x="282" y="621"/>
                      </a:lnTo>
                      <a:lnTo>
                        <a:pt x="336" y="633"/>
                      </a:lnTo>
                      <a:lnTo>
                        <a:pt x="350" y="649"/>
                      </a:lnTo>
                      <a:lnTo>
                        <a:pt x="348" y="665"/>
                      </a:lnTo>
                      <a:lnTo>
                        <a:pt x="333" y="678"/>
                      </a:lnTo>
                      <a:lnTo>
                        <a:pt x="302" y="685"/>
                      </a:lnTo>
                      <a:lnTo>
                        <a:pt x="274" y="695"/>
                      </a:lnTo>
                      <a:lnTo>
                        <a:pt x="255" y="689"/>
                      </a:lnTo>
                      <a:lnTo>
                        <a:pt x="239" y="669"/>
                      </a:lnTo>
                      <a:lnTo>
                        <a:pt x="206" y="646"/>
                      </a:lnTo>
                      <a:lnTo>
                        <a:pt x="165" y="634"/>
                      </a:lnTo>
                      <a:lnTo>
                        <a:pt x="129" y="631"/>
                      </a:lnTo>
                      <a:lnTo>
                        <a:pt x="109" y="619"/>
                      </a:lnTo>
                      <a:lnTo>
                        <a:pt x="101" y="600"/>
                      </a:lnTo>
                      <a:lnTo>
                        <a:pt x="108" y="575"/>
                      </a:lnTo>
                      <a:lnTo>
                        <a:pt x="116" y="553"/>
                      </a:lnTo>
                      <a:lnTo>
                        <a:pt x="130" y="522"/>
                      </a:lnTo>
                      <a:lnTo>
                        <a:pt x="140" y="478"/>
                      </a:lnTo>
                      <a:lnTo>
                        <a:pt x="146" y="420"/>
                      </a:lnTo>
                      <a:lnTo>
                        <a:pt x="148" y="382"/>
                      </a:lnTo>
                      <a:lnTo>
                        <a:pt x="157" y="342"/>
                      </a:lnTo>
                      <a:lnTo>
                        <a:pt x="169" y="315"/>
                      </a:lnTo>
                      <a:lnTo>
                        <a:pt x="169" y="295"/>
                      </a:lnTo>
                      <a:lnTo>
                        <a:pt x="130" y="227"/>
                      </a:lnTo>
                      <a:lnTo>
                        <a:pt x="85" y="172"/>
                      </a:lnTo>
                      <a:lnTo>
                        <a:pt x="46" y="137"/>
                      </a:lnTo>
                      <a:lnTo>
                        <a:pt x="15" y="110"/>
                      </a:lnTo>
                      <a:lnTo>
                        <a:pt x="4" y="71"/>
                      </a:lnTo>
                      <a:lnTo>
                        <a:pt x="0" y="38"/>
                      </a:lnTo>
                      <a:lnTo>
                        <a:pt x="4" y="12"/>
                      </a:lnTo>
                      <a:lnTo>
                        <a:pt x="15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8530920" y="4407840"/>
                  <a:ext cx="101880" cy="299880"/>
                </a:xfrm>
                <a:custGeom>
                  <a:avLst/>
                  <a:gdLst/>
                  <a:ahLst/>
                  <a:rect l="l" t="t" r="r" b="b"/>
                  <a:pathLst>
                    <a:path w="227" h="694">
                      <a:moveTo>
                        <a:pt x="98" y="102"/>
                      </a:moveTo>
                      <a:lnTo>
                        <a:pt x="122" y="30"/>
                      </a:lnTo>
                      <a:lnTo>
                        <a:pt x="149" y="0"/>
                      </a:lnTo>
                      <a:lnTo>
                        <a:pt x="171" y="4"/>
                      </a:lnTo>
                      <a:lnTo>
                        <a:pt x="184" y="40"/>
                      </a:lnTo>
                      <a:lnTo>
                        <a:pt x="190" y="92"/>
                      </a:lnTo>
                      <a:lnTo>
                        <a:pt x="186" y="124"/>
                      </a:lnTo>
                      <a:lnTo>
                        <a:pt x="155" y="172"/>
                      </a:lnTo>
                      <a:lnTo>
                        <a:pt x="134" y="230"/>
                      </a:lnTo>
                      <a:lnTo>
                        <a:pt x="120" y="275"/>
                      </a:lnTo>
                      <a:lnTo>
                        <a:pt x="110" y="319"/>
                      </a:lnTo>
                      <a:lnTo>
                        <a:pt x="106" y="354"/>
                      </a:lnTo>
                      <a:lnTo>
                        <a:pt x="118" y="374"/>
                      </a:lnTo>
                      <a:lnTo>
                        <a:pt x="141" y="399"/>
                      </a:lnTo>
                      <a:lnTo>
                        <a:pt x="164" y="428"/>
                      </a:lnTo>
                      <a:lnTo>
                        <a:pt x="180" y="467"/>
                      </a:lnTo>
                      <a:lnTo>
                        <a:pt x="180" y="472"/>
                      </a:lnTo>
                      <a:lnTo>
                        <a:pt x="192" y="510"/>
                      </a:lnTo>
                      <a:lnTo>
                        <a:pt x="200" y="550"/>
                      </a:lnTo>
                      <a:lnTo>
                        <a:pt x="208" y="572"/>
                      </a:lnTo>
                      <a:lnTo>
                        <a:pt x="222" y="595"/>
                      </a:lnTo>
                      <a:lnTo>
                        <a:pt x="227" y="612"/>
                      </a:lnTo>
                      <a:lnTo>
                        <a:pt x="222" y="631"/>
                      </a:lnTo>
                      <a:lnTo>
                        <a:pt x="208" y="638"/>
                      </a:lnTo>
                      <a:lnTo>
                        <a:pt x="190" y="640"/>
                      </a:lnTo>
                      <a:lnTo>
                        <a:pt x="156" y="634"/>
                      </a:lnTo>
                      <a:lnTo>
                        <a:pt x="116" y="634"/>
                      </a:lnTo>
                      <a:lnTo>
                        <a:pt x="90" y="640"/>
                      </a:lnTo>
                      <a:lnTo>
                        <a:pt x="71" y="661"/>
                      </a:lnTo>
                      <a:lnTo>
                        <a:pt x="70" y="685"/>
                      </a:lnTo>
                      <a:lnTo>
                        <a:pt x="52" y="694"/>
                      </a:lnTo>
                      <a:lnTo>
                        <a:pt x="15" y="673"/>
                      </a:lnTo>
                      <a:lnTo>
                        <a:pt x="0" y="650"/>
                      </a:lnTo>
                      <a:lnTo>
                        <a:pt x="4" y="632"/>
                      </a:lnTo>
                      <a:lnTo>
                        <a:pt x="27" y="607"/>
                      </a:lnTo>
                      <a:lnTo>
                        <a:pt x="67" y="591"/>
                      </a:lnTo>
                      <a:lnTo>
                        <a:pt x="116" y="587"/>
                      </a:lnTo>
                      <a:lnTo>
                        <a:pt x="159" y="584"/>
                      </a:lnTo>
                      <a:lnTo>
                        <a:pt x="171" y="579"/>
                      </a:lnTo>
                      <a:lnTo>
                        <a:pt x="168" y="562"/>
                      </a:lnTo>
                      <a:lnTo>
                        <a:pt x="156" y="526"/>
                      </a:lnTo>
                      <a:lnTo>
                        <a:pt x="122" y="460"/>
                      </a:lnTo>
                      <a:lnTo>
                        <a:pt x="85" y="408"/>
                      </a:lnTo>
                      <a:lnTo>
                        <a:pt x="64" y="381"/>
                      </a:lnTo>
                      <a:lnTo>
                        <a:pt x="52" y="357"/>
                      </a:lnTo>
                      <a:lnTo>
                        <a:pt x="48" y="329"/>
                      </a:lnTo>
                      <a:lnTo>
                        <a:pt x="56" y="280"/>
                      </a:lnTo>
                      <a:lnTo>
                        <a:pt x="70" y="222"/>
                      </a:lnTo>
                      <a:lnTo>
                        <a:pt x="82" y="155"/>
                      </a:lnTo>
                      <a:lnTo>
                        <a:pt x="98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8473320" y="4238280"/>
                  <a:ext cx="128880" cy="219960"/>
                </a:xfrm>
                <a:custGeom>
                  <a:avLst/>
                  <a:gdLst/>
                  <a:ahLst/>
                  <a:rect l="l" t="t" r="r" b="b"/>
                  <a:pathLst>
                    <a:path w="285" h="510">
                      <a:moveTo>
                        <a:pt x="32" y="15"/>
                      </a:moveTo>
                      <a:lnTo>
                        <a:pt x="65" y="0"/>
                      </a:lnTo>
                      <a:lnTo>
                        <a:pt x="99" y="0"/>
                      </a:lnTo>
                      <a:lnTo>
                        <a:pt x="135" y="8"/>
                      </a:lnTo>
                      <a:lnTo>
                        <a:pt x="169" y="26"/>
                      </a:lnTo>
                      <a:lnTo>
                        <a:pt x="200" y="56"/>
                      </a:lnTo>
                      <a:lnTo>
                        <a:pt x="233" y="104"/>
                      </a:lnTo>
                      <a:lnTo>
                        <a:pt x="259" y="154"/>
                      </a:lnTo>
                      <a:lnTo>
                        <a:pt x="276" y="203"/>
                      </a:lnTo>
                      <a:lnTo>
                        <a:pt x="285" y="238"/>
                      </a:lnTo>
                      <a:lnTo>
                        <a:pt x="285" y="284"/>
                      </a:lnTo>
                      <a:lnTo>
                        <a:pt x="283" y="331"/>
                      </a:lnTo>
                      <a:lnTo>
                        <a:pt x="279" y="363"/>
                      </a:lnTo>
                      <a:lnTo>
                        <a:pt x="268" y="398"/>
                      </a:lnTo>
                      <a:lnTo>
                        <a:pt x="252" y="433"/>
                      </a:lnTo>
                      <a:lnTo>
                        <a:pt x="233" y="460"/>
                      </a:lnTo>
                      <a:lnTo>
                        <a:pt x="208" y="482"/>
                      </a:lnTo>
                      <a:lnTo>
                        <a:pt x="171" y="499"/>
                      </a:lnTo>
                      <a:lnTo>
                        <a:pt x="135" y="510"/>
                      </a:lnTo>
                      <a:lnTo>
                        <a:pt x="99" y="510"/>
                      </a:lnTo>
                      <a:lnTo>
                        <a:pt x="60" y="491"/>
                      </a:lnTo>
                      <a:lnTo>
                        <a:pt x="36" y="474"/>
                      </a:lnTo>
                      <a:lnTo>
                        <a:pt x="21" y="448"/>
                      </a:lnTo>
                      <a:lnTo>
                        <a:pt x="20" y="412"/>
                      </a:lnTo>
                      <a:lnTo>
                        <a:pt x="25" y="382"/>
                      </a:lnTo>
                      <a:lnTo>
                        <a:pt x="41" y="354"/>
                      </a:lnTo>
                      <a:lnTo>
                        <a:pt x="57" y="327"/>
                      </a:lnTo>
                      <a:lnTo>
                        <a:pt x="64" y="306"/>
                      </a:lnTo>
                      <a:lnTo>
                        <a:pt x="64" y="277"/>
                      </a:lnTo>
                      <a:lnTo>
                        <a:pt x="52" y="248"/>
                      </a:lnTo>
                      <a:lnTo>
                        <a:pt x="36" y="218"/>
                      </a:lnTo>
                      <a:lnTo>
                        <a:pt x="16" y="183"/>
                      </a:lnTo>
                      <a:lnTo>
                        <a:pt x="5" y="148"/>
                      </a:lnTo>
                      <a:lnTo>
                        <a:pt x="0" y="108"/>
                      </a:lnTo>
                      <a:lnTo>
                        <a:pt x="0" y="76"/>
                      </a:lnTo>
                      <a:lnTo>
                        <a:pt x="8" y="45"/>
                      </a:lnTo>
                      <a:lnTo>
                        <a:pt x="20" y="31"/>
                      </a:lnTo>
                      <a:lnTo>
                        <a:pt x="3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559720" y="4229280"/>
                  <a:ext cx="332280" cy="115200"/>
                </a:xfrm>
                <a:custGeom>
                  <a:avLst/>
                  <a:gdLst/>
                  <a:ahLst/>
                  <a:rect l="l" t="t" r="r" b="b"/>
                  <a:pathLst>
                    <a:path w="734" h="267">
                      <a:moveTo>
                        <a:pt x="601" y="132"/>
                      </a:moveTo>
                      <a:lnTo>
                        <a:pt x="635" y="85"/>
                      </a:lnTo>
                      <a:lnTo>
                        <a:pt x="661" y="54"/>
                      </a:lnTo>
                      <a:lnTo>
                        <a:pt x="699" y="45"/>
                      </a:lnTo>
                      <a:lnTo>
                        <a:pt x="693" y="45"/>
                      </a:lnTo>
                      <a:lnTo>
                        <a:pt x="728" y="62"/>
                      </a:lnTo>
                      <a:lnTo>
                        <a:pt x="734" y="98"/>
                      </a:lnTo>
                      <a:lnTo>
                        <a:pt x="723" y="147"/>
                      </a:lnTo>
                      <a:lnTo>
                        <a:pt x="716" y="151"/>
                      </a:lnTo>
                      <a:lnTo>
                        <a:pt x="677" y="177"/>
                      </a:lnTo>
                      <a:lnTo>
                        <a:pt x="611" y="222"/>
                      </a:lnTo>
                      <a:lnTo>
                        <a:pt x="547" y="259"/>
                      </a:lnTo>
                      <a:lnTo>
                        <a:pt x="541" y="261"/>
                      </a:lnTo>
                      <a:lnTo>
                        <a:pt x="512" y="265"/>
                      </a:lnTo>
                      <a:lnTo>
                        <a:pt x="505" y="267"/>
                      </a:lnTo>
                      <a:lnTo>
                        <a:pt x="471" y="255"/>
                      </a:lnTo>
                      <a:lnTo>
                        <a:pt x="427" y="237"/>
                      </a:lnTo>
                      <a:lnTo>
                        <a:pt x="389" y="202"/>
                      </a:lnTo>
                      <a:lnTo>
                        <a:pt x="349" y="173"/>
                      </a:lnTo>
                      <a:lnTo>
                        <a:pt x="313" y="159"/>
                      </a:lnTo>
                      <a:lnTo>
                        <a:pt x="263" y="143"/>
                      </a:lnTo>
                      <a:lnTo>
                        <a:pt x="225" y="132"/>
                      </a:lnTo>
                      <a:lnTo>
                        <a:pt x="208" y="127"/>
                      </a:lnTo>
                      <a:lnTo>
                        <a:pt x="176" y="124"/>
                      </a:lnTo>
                      <a:lnTo>
                        <a:pt x="143" y="132"/>
                      </a:lnTo>
                      <a:lnTo>
                        <a:pt x="111" y="155"/>
                      </a:lnTo>
                      <a:lnTo>
                        <a:pt x="86" y="194"/>
                      </a:lnTo>
                      <a:lnTo>
                        <a:pt x="60" y="205"/>
                      </a:lnTo>
                      <a:lnTo>
                        <a:pt x="37" y="193"/>
                      </a:lnTo>
                      <a:lnTo>
                        <a:pt x="40" y="175"/>
                      </a:lnTo>
                      <a:lnTo>
                        <a:pt x="60" y="155"/>
                      </a:lnTo>
                      <a:lnTo>
                        <a:pt x="88" y="139"/>
                      </a:lnTo>
                      <a:lnTo>
                        <a:pt x="103" y="127"/>
                      </a:lnTo>
                      <a:lnTo>
                        <a:pt x="106" y="116"/>
                      </a:lnTo>
                      <a:lnTo>
                        <a:pt x="92" y="109"/>
                      </a:lnTo>
                      <a:lnTo>
                        <a:pt x="52" y="124"/>
                      </a:lnTo>
                      <a:lnTo>
                        <a:pt x="24" y="132"/>
                      </a:lnTo>
                      <a:lnTo>
                        <a:pt x="18" y="132"/>
                      </a:lnTo>
                      <a:lnTo>
                        <a:pt x="2" y="120"/>
                      </a:lnTo>
                      <a:lnTo>
                        <a:pt x="0" y="107"/>
                      </a:lnTo>
                      <a:lnTo>
                        <a:pt x="8" y="93"/>
                      </a:lnTo>
                      <a:lnTo>
                        <a:pt x="29" y="82"/>
                      </a:lnTo>
                      <a:lnTo>
                        <a:pt x="65" y="81"/>
                      </a:lnTo>
                      <a:lnTo>
                        <a:pt x="111" y="82"/>
                      </a:lnTo>
                      <a:lnTo>
                        <a:pt x="135" y="81"/>
                      </a:lnTo>
                      <a:lnTo>
                        <a:pt x="131" y="70"/>
                      </a:lnTo>
                      <a:lnTo>
                        <a:pt x="123" y="53"/>
                      </a:lnTo>
                      <a:lnTo>
                        <a:pt x="122" y="24"/>
                      </a:lnTo>
                      <a:lnTo>
                        <a:pt x="135" y="3"/>
                      </a:lnTo>
                      <a:lnTo>
                        <a:pt x="151" y="0"/>
                      </a:lnTo>
                      <a:lnTo>
                        <a:pt x="168" y="11"/>
                      </a:lnTo>
                      <a:lnTo>
                        <a:pt x="172" y="28"/>
                      </a:lnTo>
                      <a:lnTo>
                        <a:pt x="168" y="50"/>
                      </a:lnTo>
                      <a:lnTo>
                        <a:pt x="169" y="77"/>
                      </a:lnTo>
                      <a:lnTo>
                        <a:pt x="180" y="90"/>
                      </a:lnTo>
                      <a:lnTo>
                        <a:pt x="209" y="98"/>
                      </a:lnTo>
                      <a:lnTo>
                        <a:pt x="251" y="101"/>
                      </a:lnTo>
                      <a:lnTo>
                        <a:pt x="310" y="109"/>
                      </a:lnTo>
                      <a:lnTo>
                        <a:pt x="349" y="123"/>
                      </a:lnTo>
                      <a:lnTo>
                        <a:pt x="393" y="147"/>
                      </a:lnTo>
                      <a:lnTo>
                        <a:pt x="427" y="169"/>
                      </a:lnTo>
                      <a:lnTo>
                        <a:pt x="451" y="187"/>
                      </a:lnTo>
                      <a:lnTo>
                        <a:pt x="481" y="209"/>
                      </a:lnTo>
                      <a:lnTo>
                        <a:pt x="501" y="213"/>
                      </a:lnTo>
                      <a:lnTo>
                        <a:pt x="525" y="210"/>
                      </a:lnTo>
                      <a:lnTo>
                        <a:pt x="553" y="198"/>
                      </a:lnTo>
                      <a:lnTo>
                        <a:pt x="579" y="169"/>
                      </a:lnTo>
                      <a:lnTo>
                        <a:pt x="601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8511120" y="4107600"/>
                  <a:ext cx="154800" cy="118800"/>
                </a:xfrm>
                <a:custGeom>
                  <a:avLst/>
                  <a:gdLst/>
                  <a:ahLst/>
                  <a:rect l="l" t="t" r="r" b="b"/>
                  <a:pathLst>
                    <a:path w="342" h="278">
                      <a:moveTo>
                        <a:pt x="217" y="83"/>
                      </a:moveTo>
                      <a:lnTo>
                        <a:pt x="192" y="49"/>
                      </a:lnTo>
                      <a:lnTo>
                        <a:pt x="164" y="28"/>
                      </a:lnTo>
                      <a:lnTo>
                        <a:pt x="140" y="13"/>
                      </a:lnTo>
                      <a:lnTo>
                        <a:pt x="110" y="1"/>
                      </a:lnTo>
                      <a:lnTo>
                        <a:pt x="78" y="0"/>
                      </a:lnTo>
                      <a:lnTo>
                        <a:pt x="50" y="9"/>
                      </a:lnTo>
                      <a:lnTo>
                        <a:pt x="26" y="24"/>
                      </a:lnTo>
                      <a:lnTo>
                        <a:pt x="8" y="47"/>
                      </a:lnTo>
                      <a:lnTo>
                        <a:pt x="0" y="77"/>
                      </a:lnTo>
                      <a:lnTo>
                        <a:pt x="0" y="111"/>
                      </a:lnTo>
                      <a:lnTo>
                        <a:pt x="11" y="153"/>
                      </a:lnTo>
                      <a:lnTo>
                        <a:pt x="28" y="192"/>
                      </a:lnTo>
                      <a:lnTo>
                        <a:pt x="52" y="221"/>
                      </a:lnTo>
                      <a:lnTo>
                        <a:pt x="85" y="251"/>
                      </a:lnTo>
                      <a:lnTo>
                        <a:pt x="110" y="271"/>
                      </a:lnTo>
                      <a:lnTo>
                        <a:pt x="143" y="276"/>
                      </a:lnTo>
                      <a:lnTo>
                        <a:pt x="172" y="278"/>
                      </a:lnTo>
                      <a:lnTo>
                        <a:pt x="202" y="268"/>
                      </a:lnTo>
                      <a:lnTo>
                        <a:pt x="221" y="255"/>
                      </a:lnTo>
                      <a:lnTo>
                        <a:pt x="237" y="233"/>
                      </a:lnTo>
                      <a:lnTo>
                        <a:pt x="246" y="201"/>
                      </a:lnTo>
                      <a:lnTo>
                        <a:pt x="244" y="161"/>
                      </a:lnTo>
                      <a:lnTo>
                        <a:pt x="237" y="135"/>
                      </a:lnTo>
                      <a:lnTo>
                        <a:pt x="238" y="110"/>
                      </a:lnTo>
                      <a:lnTo>
                        <a:pt x="246" y="98"/>
                      </a:lnTo>
                      <a:lnTo>
                        <a:pt x="280" y="81"/>
                      </a:lnTo>
                      <a:lnTo>
                        <a:pt x="316" y="67"/>
                      </a:lnTo>
                      <a:lnTo>
                        <a:pt x="334" y="55"/>
                      </a:lnTo>
                      <a:lnTo>
                        <a:pt x="342" y="36"/>
                      </a:lnTo>
                      <a:lnTo>
                        <a:pt x="336" y="20"/>
                      </a:lnTo>
                      <a:lnTo>
                        <a:pt x="320" y="16"/>
                      </a:lnTo>
                      <a:lnTo>
                        <a:pt x="288" y="25"/>
                      </a:lnTo>
                      <a:lnTo>
                        <a:pt x="272" y="45"/>
                      </a:lnTo>
                      <a:lnTo>
                        <a:pt x="250" y="59"/>
                      </a:lnTo>
                      <a:lnTo>
                        <a:pt x="226" y="75"/>
                      </a:lnTo>
                      <a:lnTo>
                        <a:pt x="217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8388720" y="4017240"/>
                  <a:ext cx="177840" cy="257400"/>
                </a:xfrm>
                <a:custGeom>
                  <a:avLst/>
                  <a:gdLst/>
                  <a:ahLst/>
                  <a:rect l="l" t="t" r="r" b="b"/>
                  <a:pathLst>
                    <a:path w="394" h="598">
                      <a:moveTo>
                        <a:pt x="143" y="527"/>
                      </a:moveTo>
                      <a:lnTo>
                        <a:pt x="73" y="516"/>
                      </a:lnTo>
                      <a:lnTo>
                        <a:pt x="32" y="516"/>
                      </a:lnTo>
                      <a:lnTo>
                        <a:pt x="1" y="529"/>
                      </a:lnTo>
                      <a:lnTo>
                        <a:pt x="0" y="561"/>
                      </a:lnTo>
                      <a:lnTo>
                        <a:pt x="1" y="567"/>
                      </a:lnTo>
                      <a:lnTo>
                        <a:pt x="29" y="592"/>
                      </a:lnTo>
                      <a:lnTo>
                        <a:pt x="79" y="596"/>
                      </a:lnTo>
                      <a:lnTo>
                        <a:pt x="87" y="598"/>
                      </a:lnTo>
                      <a:lnTo>
                        <a:pt x="139" y="588"/>
                      </a:lnTo>
                      <a:lnTo>
                        <a:pt x="214" y="588"/>
                      </a:lnTo>
                      <a:lnTo>
                        <a:pt x="268" y="587"/>
                      </a:lnTo>
                      <a:lnTo>
                        <a:pt x="281" y="579"/>
                      </a:lnTo>
                      <a:lnTo>
                        <a:pt x="296" y="561"/>
                      </a:lnTo>
                      <a:lnTo>
                        <a:pt x="296" y="555"/>
                      </a:lnTo>
                      <a:lnTo>
                        <a:pt x="300" y="525"/>
                      </a:lnTo>
                      <a:lnTo>
                        <a:pt x="289" y="463"/>
                      </a:lnTo>
                      <a:lnTo>
                        <a:pt x="284" y="407"/>
                      </a:lnTo>
                      <a:lnTo>
                        <a:pt x="277" y="344"/>
                      </a:lnTo>
                      <a:lnTo>
                        <a:pt x="274" y="247"/>
                      </a:lnTo>
                      <a:lnTo>
                        <a:pt x="276" y="189"/>
                      </a:lnTo>
                      <a:lnTo>
                        <a:pt x="289" y="157"/>
                      </a:lnTo>
                      <a:lnTo>
                        <a:pt x="312" y="137"/>
                      </a:lnTo>
                      <a:lnTo>
                        <a:pt x="342" y="118"/>
                      </a:lnTo>
                      <a:lnTo>
                        <a:pt x="374" y="98"/>
                      </a:lnTo>
                      <a:lnTo>
                        <a:pt x="390" y="71"/>
                      </a:lnTo>
                      <a:lnTo>
                        <a:pt x="394" y="44"/>
                      </a:lnTo>
                      <a:lnTo>
                        <a:pt x="387" y="16"/>
                      </a:lnTo>
                      <a:lnTo>
                        <a:pt x="374" y="0"/>
                      </a:lnTo>
                      <a:lnTo>
                        <a:pt x="354" y="1"/>
                      </a:lnTo>
                      <a:lnTo>
                        <a:pt x="344" y="20"/>
                      </a:lnTo>
                      <a:lnTo>
                        <a:pt x="351" y="44"/>
                      </a:lnTo>
                      <a:lnTo>
                        <a:pt x="340" y="69"/>
                      </a:lnTo>
                      <a:lnTo>
                        <a:pt x="313" y="85"/>
                      </a:lnTo>
                      <a:lnTo>
                        <a:pt x="289" y="95"/>
                      </a:lnTo>
                      <a:lnTo>
                        <a:pt x="268" y="91"/>
                      </a:lnTo>
                      <a:lnTo>
                        <a:pt x="256" y="69"/>
                      </a:lnTo>
                      <a:lnTo>
                        <a:pt x="237" y="61"/>
                      </a:lnTo>
                      <a:lnTo>
                        <a:pt x="222" y="77"/>
                      </a:lnTo>
                      <a:lnTo>
                        <a:pt x="223" y="102"/>
                      </a:lnTo>
                      <a:lnTo>
                        <a:pt x="254" y="130"/>
                      </a:lnTo>
                      <a:lnTo>
                        <a:pt x="252" y="159"/>
                      </a:lnTo>
                      <a:lnTo>
                        <a:pt x="240" y="208"/>
                      </a:lnTo>
                      <a:lnTo>
                        <a:pt x="242" y="262"/>
                      </a:lnTo>
                      <a:lnTo>
                        <a:pt x="242" y="267"/>
                      </a:lnTo>
                      <a:lnTo>
                        <a:pt x="237" y="337"/>
                      </a:lnTo>
                      <a:lnTo>
                        <a:pt x="237" y="341"/>
                      </a:lnTo>
                      <a:lnTo>
                        <a:pt x="238" y="463"/>
                      </a:lnTo>
                      <a:lnTo>
                        <a:pt x="237" y="516"/>
                      </a:lnTo>
                      <a:lnTo>
                        <a:pt x="235" y="521"/>
                      </a:lnTo>
                      <a:lnTo>
                        <a:pt x="222" y="533"/>
                      </a:lnTo>
                      <a:lnTo>
                        <a:pt x="197" y="537"/>
                      </a:lnTo>
                      <a:lnTo>
                        <a:pt x="143" y="5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 flipH="1">
                <a:off x="8363520" y="4033800"/>
                <a:ext cx="52920" cy="14724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94" y="342"/>
                    </a:moveTo>
                    <a:lnTo>
                      <a:pt x="31" y="178"/>
                    </a:lnTo>
                    <a:lnTo>
                      <a:pt x="8" y="105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78" y="35"/>
                    </a:lnTo>
                    <a:lnTo>
                      <a:pt x="98" y="84"/>
                    </a:lnTo>
                    <a:lnTo>
                      <a:pt x="117" y="164"/>
                    </a:lnTo>
                    <a:lnTo>
                      <a:pt x="113" y="268"/>
                    </a:lnTo>
                    <a:lnTo>
                      <a:pt x="94" y="342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8294040" y="4029840"/>
                <a:ext cx="149400" cy="372240"/>
              </a:xfrm>
              <a:custGeom>
                <a:avLst/>
                <a:gdLst/>
                <a:ahLst/>
                <a:rect l="l" t="t" r="r" b="b"/>
                <a:pathLst>
                  <a:path w="331" h="865">
                    <a:moveTo>
                      <a:pt x="85" y="15"/>
                    </a:moveTo>
                    <a:lnTo>
                      <a:pt x="96" y="16"/>
                    </a:lnTo>
                    <a:lnTo>
                      <a:pt x="52" y="0"/>
                    </a:lnTo>
                    <a:lnTo>
                      <a:pt x="34" y="3"/>
                    </a:lnTo>
                    <a:lnTo>
                      <a:pt x="14" y="15"/>
                    </a:lnTo>
                    <a:lnTo>
                      <a:pt x="4" y="50"/>
                    </a:lnTo>
                    <a:lnTo>
                      <a:pt x="0" y="90"/>
                    </a:lnTo>
                    <a:lnTo>
                      <a:pt x="14" y="171"/>
                    </a:lnTo>
                    <a:lnTo>
                      <a:pt x="27" y="234"/>
                    </a:lnTo>
                    <a:lnTo>
                      <a:pt x="44" y="335"/>
                    </a:lnTo>
                    <a:lnTo>
                      <a:pt x="64" y="460"/>
                    </a:lnTo>
                    <a:lnTo>
                      <a:pt x="80" y="558"/>
                    </a:lnTo>
                    <a:lnTo>
                      <a:pt x="96" y="647"/>
                    </a:lnTo>
                    <a:lnTo>
                      <a:pt x="112" y="732"/>
                    </a:lnTo>
                    <a:lnTo>
                      <a:pt x="126" y="803"/>
                    </a:lnTo>
                    <a:lnTo>
                      <a:pt x="290" y="865"/>
                    </a:lnTo>
                    <a:lnTo>
                      <a:pt x="310" y="773"/>
                    </a:lnTo>
                    <a:lnTo>
                      <a:pt x="331" y="698"/>
                    </a:lnTo>
                    <a:lnTo>
                      <a:pt x="268" y="628"/>
                    </a:lnTo>
                    <a:lnTo>
                      <a:pt x="214" y="524"/>
                    </a:lnTo>
                    <a:lnTo>
                      <a:pt x="154" y="372"/>
                    </a:lnTo>
                    <a:lnTo>
                      <a:pt x="104" y="235"/>
                    </a:lnTo>
                    <a:lnTo>
                      <a:pt x="72" y="134"/>
                    </a:lnTo>
                    <a:lnTo>
                      <a:pt x="62" y="81"/>
                    </a:lnTo>
                    <a:lnTo>
                      <a:pt x="74" y="40"/>
                    </a:lnTo>
                    <a:lnTo>
                      <a:pt x="100" y="15"/>
                    </a:lnTo>
                    <a:lnTo>
                      <a:pt x="85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8287920" y="4023720"/>
                <a:ext cx="158760" cy="386640"/>
                <a:chOff x="8287920" y="4023720"/>
                <a:chExt cx="158760" cy="386640"/>
              </a:xfrm>
            </p:grpSpPr>
            <p:sp>
              <p:nvSpPr>
                <p:cNvPr id="135" name=""/>
                <p:cNvSpPr/>
                <p:nvPr/>
              </p:nvSpPr>
              <p:spPr>
                <a:xfrm flipH="1">
                  <a:off x="8287560" y="4023720"/>
                  <a:ext cx="158760" cy="386640"/>
                </a:xfrm>
                <a:custGeom>
                  <a:avLst/>
                  <a:gdLst/>
                  <a:ahLst/>
                  <a:rect l="l" t="t" r="r" b="b"/>
                  <a:pathLst>
                    <a:path w="350" h="896">
                      <a:moveTo>
                        <a:pt x="82" y="5"/>
                      </a:moveTo>
                      <a:lnTo>
                        <a:pt x="49" y="0"/>
                      </a:lnTo>
                      <a:lnTo>
                        <a:pt x="27" y="11"/>
                      </a:lnTo>
                      <a:lnTo>
                        <a:pt x="3" y="35"/>
                      </a:lnTo>
                      <a:lnTo>
                        <a:pt x="0" y="85"/>
                      </a:lnTo>
                      <a:lnTo>
                        <a:pt x="3" y="150"/>
                      </a:lnTo>
                      <a:lnTo>
                        <a:pt x="27" y="249"/>
                      </a:lnTo>
                      <a:lnTo>
                        <a:pt x="45" y="375"/>
                      </a:lnTo>
                      <a:lnTo>
                        <a:pt x="58" y="474"/>
                      </a:lnTo>
                      <a:lnTo>
                        <a:pt x="77" y="581"/>
                      </a:lnTo>
                      <a:lnTo>
                        <a:pt x="97" y="696"/>
                      </a:lnTo>
                      <a:lnTo>
                        <a:pt x="117" y="786"/>
                      </a:lnTo>
                      <a:lnTo>
                        <a:pt x="124" y="821"/>
                      </a:lnTo>
                      <a:lnTo>
                        <a:pt x="305" y="896"/>
                      </a:lnTo>
                      <a:lnTo>
                        <a:pt x="323" y="790"/>
                      </a:lnTo>
                      <a:lnTo>
                        <a:pt x="335" y="745"/>
                      </a:lnTo>
                      <a:lnTo>
                        <a:pt x="350" y="711"/>
                      </a:lnTo>
                      <a:lnTo>
                        <a:pt x="344" y="700"/>
                      </a:lnTo>
                      <a:lnTo>
                        <a:pt x="307" y="667"/>
                      </a:lnTo>
                      <a:lnTo>
                        <a:pt x="278" y="621"/>
                      </a:lnTo>
                      <a:lnTo>
                        <a:pt x="241" y="556"/>
                      </a:lnTo>
                      <a:lnTo>
                        <a:pt x="210" y="485"/>
                      </a:lnTo>
                      <a:lnTo>
                        <a:pt x="180" y="396"/>
                      </a:lnTo>
                      <a:lnTo>
                        <a:pt x="139" y="289"/>
                      </a:lnTo>
                      <a:lnTo>
                        <a:pt x="98" y="179"/>
                      </a:lnTo>
                      <a:lnTo>
                        <a:pt x="81" y="121"/>
                      </a:lnTo>
                      <a:lnTo>
                        <a:pt x="77" y="63"/>
                      </a:lnTo>
                      <a:lnTo>
                        <a:pt x="58" y="87"/>
                      </a:lnTo>
                      <a:lnTo>
                        <a:pt x="69" y="158"/>
                      </a:lnTo>
                      <a:lnTo>
                        <a:pt x="85" y="204"/>
                      </a:lnTo>
                      <a:lnTo>
                        <a:pt x="109" y="271"/>
                      </a:lnTo>
                      <a:lnTo>
                        <a:pt x="136" y="345"/>
                      </a:lnTo>
                      <a:lnTo>
                        <a:pt x="167" y="431"/>
                      </a:lnTo>
                      <a:lnTo>
                        <a:pt x="194" y="495"/>
                      </a:lnTo>
                      <a:lnTo>
                        <a:pt x="221" y="556"/>
                      </a:lnTo>
                      <a:lnTo>
                        <a:pt x="246" y="614"/>
                      </a:lnTo>
                      <a:lnTo>
                        <a:pt x="274" y="659"/>
                      </a:lnTo>
                      <a:lnTo>
                        <a:pt x="304" y="688"/>
                      </a:lnTo>
                      <a:lnTo>
                        <a:pt x="323" y="715"/>
                      </a:lnTo>
                      <a:lnTo>
                        <a:pt x="307" y="777"/>
                      </a:lnTo>
                      <a:lnTo>
                        <a:pt x="296" y="828"/>
                      </a:lnTo>
                      <a:lnTo>
                        <a:pt x="290" y="863"/>
                      </a:lnTo>
                      <a:lnTo>
                        <a:pt x="139" y="802"/>
                      </a:lnTo>
                      <a:lnTo>
                        <a:pt x="114" y="675"/>
                      </a:lnTo>
                      <a:lnTo>
                        <a:pt x="93" y="556"/>
                      </a:lnTo>
                      <a:lnTo>
                        <a:pt x="74" y="445"/>
                      </a:lnTo>
                      <a:lnTo>
                        <a:pt x="53" y="326"/>
                      </a:lnTo>
                      <a:lnTo>
                        <a:pt x="43" y="240"/>
                      </a:lnTo>
                      <a:lnTo>
                        <a:pt x="27" y="169"/>
                      </a:lnTo>
                      <a:lnTo>
                        <a:pt x="23" y="163"/>
                      </a:lnTo>
                      <a:lnTo>
                        <a:pt x="16" y="105"/>
                      </a:lnTo>
                      <a:lnTo>
                        <a:pt x="20" y="63"/>
                      </a:lnTo>
                      <a:lnTo>
                        <a:pt x="31" y="29"/>
                      </a:lnTo>
                      <a:lnTo>
                        <a:pt x="47" y="17"/>
                      </a:lnTo>
                      <a:lnTo>
                        <a:pt x="73" y="25"/>
                      </a:lnTo>
                      <a:lnTo>
                        <a:pt x="90" y="35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8360280" y="4036320"/>
                  <a:ext cx="40320" cy="153720"/>
                </a:xfrm>
                <a:custGeom>
                  <a:avLst/>
                  <a:gdLst/>
                  <a:ahLst/>
                  <a:rect l="l" t="t" r="r" b="b"/>
                  <a:pathLst>
                    <a:path w="90" h="357">
                      <a:moveTo>
                        <a:pt x="18" y="0"/>
                      </a:moveTo>
                      <a:lnTo>
                        <a:pt x="55" y="38"/>
                      </a:lnTo>
                      <a:lnTo>
                        <a:pt x="78" y="102"/>
                      </a:lnTo>
                      <a:lnTo>
                        <a:pt x="90" y="190"/>
                      </a:lnTo>
                      <a:lnTo>
                        <a:pt x="86" y="282"/>
                      </a:lnTo>
                      <a:lnTo>
                        <a:pt x="71" y="357"/>
                      </a:lnTo>
                      <a:lnTo>
                        <a:pt x="55" y="332"/>
                      </a:lnTo>
                      <a:lnTo>
                        <a:pt x="74" y="252"/>
                      </a:lnTo>
                      <a:lnTo>
                        <a:pt x="74" y="182"/>
                      </a:lnTo>
                      <a:lnTo>
                        <a:pt x="66" y="120"/>
                      </a:lnTo>
                      <a:lnTo>
                        <a:pt x="48" y="59"/>
                      </a:lnTo>
                      <a:lnTo>
                        <a:pt x="30" y="34"/>
                      </a:lnTo>
                      <a:lnTo>
                        <a:pt x="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8296200" y="4134600"/>
                <a:ext cx="121680" cy="246960"/>
                <a:chOff x="8296200" y="4134600"/>
                <a:chExt cx="121680" cy="246960"/>
              </a:xfrm>
            </p:grpSpPr>
            <p:sp>
              <p:nvSpPr>
                <p:cNvPr id="138" name=""/>
                <p:cNvSpPr/>
                <p:nvPr/>
              </p:nvSpPr>
              <p:spPr>
                <a:xfrm flipH="1">
                  <a:off x="8393400" y="4134600"/>
                  <a:ext cx="24120" cy="24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52" y="1"/>
                      </a:moveTo>
                      <a:lnTo>
                        <a:pt x="44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4" y="8"/>
                      </a:lnTo>
                      <a:lnTo>
                        <a:pt x="22" y="13"/>
                      </a:lnTo>
                      <a:lnTo>
                        <a:pt x="22" y="19"/>
                      </a:lnTo>
                      <a:lnTo>
                        <a:pt x="24" y="25"/>
                      </a:lnTo>
                      <a:lnTo>
                        <a:pt x="24" y="31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43"/>
                      </a:lnTo>
                      <a:lnTo>
                        <a:pt x="6" y="45"/>
                      </a:lnTo>
                      <a:lnTo>
                        <a:pt x="12" y="45"/>
                      </a:lnTo>
                      <a:lnTo>
                        <a:pt x="20" y="49"/>
                      </a:lnTo>
                      <a:lnTo>
                        <a:pt x="24" y="55"/>
                      </a:lnTo>
                      <a:lnTo>
                        <a:pt x="29" y="55"/>
                      </a:lnTo>
                      <a:lnTo>
                        <a:pt x="36" y="51"/>
                      </a:lnTo>
                      <a:lnTo>
                        <a:pt x="36" y="45"/>
                      </a:lnTo>
                      <a:lnTo>
                        <a:pt x="36" y="39"/>
                      </a:lnTo>
                      <a:lnTo>
                        <a:pt x="36" y="33"/>
                      </a:lnTo>
                      <a:lnTo>
                        <a:pt x="33" y="27"/>
                      </a:lnTo>
                      <a:lnTo>
                        <a:pt x="33" y="21"/>
                      </a:lnTo>
                      <a:lnTo>
                        <a:pt x="40" y="19"/>
                      </a:lnTo>
                      <a:lnTo>
                        <a:pt x="45" y="19"/>
                      </a:lnTo>
                      <a:lnTo>
                        <a:pt x="52" y="19"/>
                      </a:lnTo>
                      <a:lnTo>
                        <a:pt x="56" y="19"/>
                      </a:lnTo>
                      <a:lnTo>
                        <a:pt x="56" y="13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8379000" y="4164480"/>
                  <a:ext cx="36720" cy="24120"/>
                </a:xfrm>
                <a:custGeom>
                  <a:avLst/>
                  <a:gdLst/>
                  <a:ahLst/>
                  <a:rect l="l" t="t" r="r" b="b"/>
                  <a:pathLst>
                    <a:path w="80" h="58">
                      <a:moveTo>
                        <a:pt x="68" y="3"/>
                      </a:moveTo>
                      <a:lnTo>
                        <a:pt x="60" y="0"/>
                      </a:lnTo>
                      <a:lnTo>
                        <a:pt x="53" y="3"/>
                      </a:lnTo>
                      <a:lnTo>
                        <a:pt x="48" y="4"/>
                      </a:lnTo>
                      <a:lnTo>
                        <a:pt x="44" y="11"/>
                      </a:lnTo>
                      <a:lnTo>
                        <a:pt x="41" y="16"/>
                      </a:lnTo>
                      <a:lnTo>
                        <a:pt x="40" y="23"/>
                      </a:lnTo>
                      <a:lnTo>
                        <a:pt x="40" y="28"/>
                      </a:lnTo>
                      <a:lnTo>
                        <a:pt x="37" y="36"/>
                      </a:lnTo>
                      <a:lnTo>
                        <a:pt x="32" y="36"/>
                      </a:lnTo>
                      <a:lnTo>
                        <a:pt x="25" y="36"/>
                      </a:lnTo>
                      <a:lnTo>
                        <a:pt x="20" y="32"/>
                      </a:lnTo>
                      <a:lnTo>
                        <a:pt x="14" y="32"/>
                      </a:lnTo>
                      <a:lnTo>
                        <a:pt x="8" y="34"/>
                      </a:lnTo>
                      <a:lnTo>
                        <a:pt x="4" y="40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52"/>
                      </a:lnTo>
                      <a:lnTo>
                        <a:pt x="6" y="50"/>
                      </a:lnTo>
                      <a:lnTo>
                        <a:pt x="12" y="48"/>
                      </a:lnTo>
                      <a:lnTo>
                        <a:pt x="17" y="52"/>
                      </a:lnTo>
                      <a:lnTo>
                        <a:pt x="24" y="56"/>
                      </a:lnTo>
                      <a:lnTo>
                        <a:pt x="29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8" y="54"/>
                      </a:lnTo>
                      <a:lnTo>
                        <a:pt x="49" y="48"/>
                      </a:lnTo>
                      <a:lnTo>
                        <a:pt x="49" y="42"/>
                      </a:lnTo>
                      <a:lnTo>
                        <a:pt x="49" y="36"/>
                      </a:lnTo>
                      <a:lnTo>
                        <a:pt x="52" y="30"/>
                      </a:lnTo>
                      <a:lnTo>
                        <a:pt x="57" y="28"/>
                      </a:lnTo>
                      <a:lnTo>
                        <a:pt x="64" y="28"/>
                      </a:lnTo>
                      <a:lnTo>
                        <a:pt x="69" y="28"/>
                      </a:lnTo>
                      <a:lnTo>
                        <a:pt x="76" y="28"/>
                      </a:lnTo>
                      <a:lnTo>
                        <a:pt x="80" y="28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8368200" y="4195440"/>
                  <a:ext cx="43200" cy="3960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91" y="2"/>
                      </a:move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69" y="0"/>
                      </a:lnTo>
                      <a:lnTo>
                        <a:pt x="64" y="2"/>
                      </a:lnTo>
                      <a:lnTo>
                        <a:pt x="56" y="4"/>
                      </a:lnTo>
                      <a:lnTo>
                        <a:pt x="56" y="12"/>
                      </a:lnTo>
                      <a:lnTo>
                        <a:pt x="56" y="18"/>
                      </a:lnTo>
                      <a:lnTo>
                        <a:pt x="56" y="26"/>
                      </a:lnTo>
                      <a:lnTo>
                        <a:pt x="56" y="32"/>
                      </a:lnTo>
                      <a:lnTo>
                        <a:pt x="56" y="38"/>
                      </a:lnTo>
                      <a:lnTo>
                        <a:pt x="52" y="43"/>
                      </a:lnTo>
                      <a:lnTo>
                        <a:pt x="45" y="50"/>
                      </a:lnTo>
                      <a:lnTo>
                        <a:pt x="40" y="54"/>
                      </a:lnTo>
                      <a:lnTo>
                        <a:pt x="33" y="54"/>
                      </a:lnTo>
                      <a:lnTo>
                        <a:pt x="28" y="54"/>
                      </a:lnTo>
                      <a:lnTo>
                        <a:pt x="20" y="51"/>
                      </a:lnTo>
                      <a:lnTo>
                        <a:pt x="13" y="50"/>
                      </a:lnTo>
                      <a:lnTo>
                        <a:pt x="8" y="51"/>
                      </a:lnTo>
                      <a:lnTo>
                        <a:pt x="4" y="58"/>
                      </a:lnTo>
                      <a:lnTo>
                        <a:pt x="2" y="66"/>
                      </a:lnTo>
                      <a:lnTo>
                        <a:pt x="0" y="71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0" y="90"/>
                      </a:lnTo>
                      <a:lnTo>
                        <a:pt x="0" y="94"/>
                      </a:lnTo>
                      <a:lnTo>
                        <a:pt x="0" y="87"/>
                      </a:lnTo>
                      <a:lnTo>
                        <a:pt x="4" y="82"/>
                      </a:lnTo>
                      <a:lnTo>
                        <a:pt x="6" y="75"/>
                      </a:lnTo>
                      <a:lnTo>
                        <a:pt x="12" y="71"/>
                      </a:lnTo>
                      <a:lnTo>
                        <a:pt x="20" y="67"/>
                      </a:lnTo>
                      <a:lnTo>
                        <a:pt x="25" y="67"/>
                      </a:lnTo>
                      <a:lnTo>
                        <a:pt x="32" y="67"/>
                      </a:lnTo>
                      <a:lnTo>
                        <a:pt x="37" y="67"/>
                      </a:lnTo>
                      <a:lnTo>
                        <a:pt x="44" y="67"/>
                      </a:lnTo>
                      <a:lnTo>
                        <a:pt x="49" y="67"/>
                      </a:lnTo>
                      <a:lnTo>
                        <a:pt x="56" y="66"/>
                      </a:lnTo>
                      <a:lnTo>
                        <a:pt x="61" y="59"/>
                      </a:lnTo>
                      <a:lnTo>
                        <a:pt x="64" y="54"/>
                      </a:lnTo>
                      <a:lnTo>
                        <a:pt x="65" y="47"/>
                      </a:lnTo>
                      <a:lnTo>
                        <a:pt x="68" y="42"/>
                      </a:lnTo>
                      <a:lnTo>
                        <a:pt x="68" y="35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73" y="22"/>
                      </a:lnTo>
                      <a:lnTo>
                        <a:pt x="79" y="22"/>
                      </a:lnTo>
                      <a:lnTo>
                        <a:pt x="85" y="22"/>
                      </a:lnTo>
                      <a:lnTo>
                        <a:pt x="91" y="22"/>
                      </a:lnTo>
                      <a:lnTo>
                        <a:pt x="95" y="22"/>
                      </a:lnTo>
                      <a:lnTo>
                        <a:pt x="91" y="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8355960" y="422496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87" y="1"/>
                      </a:moveTo>
                      <a:lnTo>
                        <a:pt x="79" y="0"/>
                      </a:lnTo>
                      <a:lnTo>
                        <a:pt x="74" y="0"/>
                      </a:lnTo>
                      <a:lnTo>
                        <a:pt x="67" y="0"/>
                      </a:lnTo>
                      <a:lnTo>
                        <a:pt x="62" y="5"/>
                      </a:lnTo>
                      <a:lnTo>
                        <a:pt x="59" y="11"/>
                      </a:lnTo>
                      <a:lnTo>
                        <a:pt x="58" y="17"/>
                      </a:lnTo>
                      <a:lnTo>
                        <a:pt x="58" y="23"/>
                      </a:lnTo>
                      <a:lnTo>
                        <a:pt x="58" y="29"/>
                      </a:lnTo>
                      <a:lnTo>
                        <a:pt x="58" y="35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35" y="47"/>
                      </a:lnTo>
                      <a:lnTo>
                        <a:pt x="30" y="43"/>
                      </a:lnTo>
                      <a:lnTo>
                        <a:pt x="23" y="39"/>
                      </a:lnTo>
                      <a:lnTo>
                        <a:pt x="18" y="39"/>
                      </a:lnTo>
                      <a:lnTo>
                        <a:pt x="12" y="41"/>
                      </a:lnTo>
                      <a:lnTo>
                        <a:pt x="8" y="47"/>
                      </a:lnTo>
                      <a:lnTo>
                        <a:pt x="6" y="52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0" y="71"/>
                      </a:lnTo>
                      <a:lnTo>
                        <a:pt x="0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6"/>
                      </a:lnTo>
                      <a:lnTo>
                        <a:pt x="6" y="71"/>
                      </a:lnTo>
                      <a:lnTo>
                        <a:pt x="10" y="64"/>
                      </a:lnTo>
                      <a:lnTo>
                        <a:pt x="16" y="63"/>
                      </a:lnTo>
                      <a:lnTo>
                        <a:pt x="22" y="63"/>
                      </a:lnTo>
                      <a:lnTo>
                        <a:pt x="27" y="67"/>
                      </a:lnTo>
                      <a:lnTo>
                        <a:pt x="34" y="71"/>
                      </a:lnTo>
                      <a:lnTo>
                        <a:pt x="39" y="75"/>
                      </a:lnTo>
                      <a:lnTo>
                        <a:pt x="46" y="79"/>
                      </a:lnTo>
                      <a:lnTo>
                        <a:pt x="51" y="76"/>
                      </a:lnTo>
                      <a:lnTo>
                        <a:pt x="54" y="71"/>
                      </a:lnTo>
                      <a:lnTo>
                        <a:pt x="59" y="67"/>
                      </a:lnTo>
                      <a:lnTo>
                        <a:pt x="59" y="60"/>
                      </a:lnTo>
                      <a:lnTo>
                        <a:pt x="59" y="55"/>
                      </a:lnTo>
                      <a:lnTo>
                        <a:pt x="62" y="48"/>
                      </a:lnTo>
                      <a:lnTo>
                        <a:pt x="63" y="43"/>
                      </a:lnTo>
                      <a:lnTo>
                        <a:pt x="66" y="37"/>
                      </a:lnTo>
                      <a:lnTo>
                        <a:pt x="67" y="31"/>
                      </a:lnTo>
                      <a:lnTo>
                        <a:pt x="74" y="27"/>
                      </a:lnTo>
                      <a:lnTo>
                        <a:pt x="79" y="23"/>
                      </a:lnTo>
                      <a:lnTo>
                        <a:pt x="86" y="23"/>
                      </a:lnTo>
                      <a:lnTo>
                        <a:pt x="93" y="23"/>
                      </a:lnTo>
                      <a:lnTo>
                        <a:pt x="99" y="29"/>
                      </a:lnTo>
                      <a:lnTo>
                        <a:pt x="87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8340840" y="4254840"/>
                  <a:ext cx="56880" cy="39960"/>
                </a:xfrm>
                <a:custGeom>
                  <a:avLst/>
                  <a:gdLst/>
                  <a:ahLst/>
                  <a:rect l="l" t="t" r="r" b="b"/>
                  <a:pathLst>
                    <a:path w="124" h="93">
                      <a:moveTo>
                        <a:pt x="105" y="0"/>
                      </a:moveTo>
                      <a:lnTo>
                        <a:pt x="96" y="0"/>
                      </a:lnTo>
                      <a:lnTo>
                        <a:pt x="91" y="0"/>
                      </a:lnTo>
                      <a:lnTo>
                        <a:pt x="85" y="0"/>
                      </a:lnTo>
                      <a:lnTo>
                        <a:pt x="82" y="5"/>
                      </a:lnTo>
                      <a:lnTo>
                        <a:pt x="79" y="12"/>
                      </a:lnTo>
                      <a:lnTo>
                        <a:pt x="78" y="17"/>
                      </a:lnTo>
                      <a:lnTo>
                        <a:pt x="78" y="23"/>
                      </a:lnTo>
                      <a:lnTo>
                        <a:pt x="79" y="29"/>
                      </a:lnTo>
                      <a:lnTo>
                        <a:pt x="79" y="35"/>
                      </a:lnTo>
                      <a:lnTo>
                        <a:pt x="78" y="41"/>
                      </a:lnTo>
                      <a:lnTo>
                        <a:pt x="71" y="47"/>
                      </a:lnTo>
                      <a:lnTo>
                        <a:pt x="66" y="49"/>
                      </a:lnTo>
                      <a:lnTo>
                        <a:pt x="59" y="49"/>
                      </a:lnTo>
                      <a:lnTo>
                        <a:pt x="51" y="49"/>
                      </a:lnTo>
                      <a:lnTo>
                        <a:pt x="46" y="47"/>
                      </a:lnTo>
                      <a:lnTo>
                        <a:pt x="38" y="41"/>
                      </a:lnTo>
                      <a:lnTo>
                        <a:pt x="31" y="35"/>
                      </a:lnTo>
                      <a:lnTo>
                        <a:pt x="27" y="35"/>
                      </a:lnTo>
                      <a:lnTo>
                        <a:pt x="21" y="35"/>
                      </a:lnTo>
                      <a:lnTo>
                        <a:pt x="15" y="37"/>
                      </a:lnTo>
                      <a:lnTo>
                        <a:pt x="13" y="43"/>
                      </a:lnTo>
                      <a:lnTo>
                        <a:pt x="11" y="49"/>
                      </a:lnTo>
                      <a:lnTo>
                        <a:pt x="8" y="56"/>
                      </a:lnTo>
                      <a:lnTo>
                        <a:pt x="4" y="64"/>
                      </a:lnTo>
                      <a:lnTo>
                        <a:pt x="4" y="71"/>
                      </a:lnTo>
                      <a:lnTo>
                        <a:pt x="1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1" y="88"/>
                      </a:lnTo>
                      <a:lnTo>
                        <a:pt x="4" y="83"/>
                      </a:lnTo>
                      <a:lnTo>
                        <a:pt x="8" y="76"/>
                      </a:lnTo>
                      <a:lnTo>
                        <a:pt x="11" y="71"/>
                      </a:lnTo>
                      <a:lnTo>
                        <a:pt x="15" y="64"/>
                      </a:lnTo>
                      <a:lnTo>
                        <a:pt x="19" y="59"/>
                      </a:lnTo>
                      <a:lnTo>
                        <a:pt x="25" y="59"/>
                      </a:lnTo>
                      <a:lnTo>
                        <a:pt x="31" y="59"/>
                      </a:lnTo>
                      <a:lnTo>
                        <a:pt x="35" y="63"/>
                      </a:lnTo>
                      <a:lnTo>
                        <a:pt x="42" y="67"/>
                      </a:lnTo>
                      <a:lnTo>
                        <a:pt x="50" y="71"/>
                      </a:lnTo>
                      <a:lnTo>
                        <a:pt x="55" y="72"/>
                      </a:lnTo>
                      <a:lnTo>
                        <a:pt x="62" y="75"/>
                      </a:lnTo>
                      <a:lnTo>
                        <a:pt x="67" y="76"/>
                      </a:lnTo>
                      <a:lnTo>
                        <a:pt x="74" y="76"/>
                      </a:lnTo>
                      <a:lnTo>
                        <a:pt x="79" y="72"/>
                      </a:lnTo>
                      <a:lnTo>
                        <a:pt x="83" y="67"/>
                      </a:lnTo>
                      <a:lnTo>
                        <a:pt x="85" y="59"/>
                      </a:lnTo>
                      <a:lnTo>
                        <a:pt x="85" y="52"/>
                      </a:lnTo>
                      <a:lnTo>
                        <a:pt x="85" y="47"/>
                      </a:lnTo>
                      <a:lnTo>
                        <a:pt x="87" y="41"/>
                      </a:lnTo>
                      <a:lnTo>
                        <a:pt x="89" y="35"/>
                      </a:lnTo>
                      <a:lnTo>
                        <a:pt x="89" y="29"/>
                      </a:lnTo>
                      <a:lnTo>
                        <a:pt x="91" y="23"/>
                      </a:lnTo>
                      <a:lnTo>
                        <a:pt x="96" y="19"/>
                      </a:lnTo>
                      <a:lnTo>
                        <a:pt x="101" y="19"/>
                      </a:lnTo>
                      <a:lnTo>
                        <a:pt x="108" y="19"/>
                      </a:lnTo>
                      <a:lnTo>
                        <a:pt x="112" y="25"/>
                      </a:lnTo>
                      <a:lnTo>
                        <a:pt x="117" y="27"/>
                      </a:lnTo>
                      <a:lnTo>
                        <a:pt x="124" y="31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>
                  <a:off x="8320680" y="4291200"/>
                  <a:ext cx="74160" cy="54000"/>
                </a:xfrm>
                <a:custGeom>
                  <a:avLst/>
                  <a:gdLst/>
                  <a:ahLst/>
                  <a:rect l="l" t="t" r="r" b="b"/>
                  <a:pathLst>
                    <a:path w="166" h="127">
                      <a:moveTo>
                        <a:pt x="139" y="0"/>
                      </a:moveTo>
                      <a:lnTo>
                        <a:pt x="131" y="0"/>
                      </a:lnTo>
                      <a:lnTo>
                        <a:pt x="124" y="5"/>
                      </a:lnTo>
                      <a:lnTo>
                        <a:pt x="116" y="9"/>
                      </a:lnTo>
                      <a:lnTo>
                        <a:pt x="114" y="16"/>
                      </a:lnTo>
                      <a:lnTo>
                        <a:pt x="112" y="25"/>
                      </a:lnTo>
                      <a:lnTo>
                        <a:pt x="112" y="32"/>
                      </a:lnTo>
                      <a:lnTo>
                        <a:pt x="112" y="37"/>
                      </a:lnTo>
                      <a:lnTo>
                        <a:pt x="112" y="45"/>
                      </a:lnTo>
                      <a:lnTo>
                        <a:pt x="112" y="53"/>
                      </a:lnTo>
                      <a:lnTo>
                        <a:pt x="110" y="59"/>
                      </a:lnTo>
                      <a:lnTo>
                        <a:pt x="108" y="65"/>
                      </a:lnTo>
                      <a:lnTo>
                        <a:pt x="102" y="67"/>
                      </a:lnTo>
                      <a:lnTo>
                        <a:pt x="96" y="69"/>
                      </a:lnTo>
                      <a:lnTo>
                        <a:pt x="90" y="69"/>
                      </a:lnTo>
                      <a:lnTo>
                        <a:pt x="82" y="69"/>
                      </a:lnTo>
                      <a:lnTo>
                        <a:pt x="78" y="63"/>
                      </a:lnTo>
                      <a:lnTo>
                        <a:pt x="70" y="59"/>
                      </a:lnTo>
                      <a:lnTo>
                        <a:pt x="66" y="53"/>
                      </a:lnTo>
                      <a:lnTo>
                        <a:pt x="61" y="53"/>
                      </a:lnTo>
                      <a:lnTo>
                        <a:pt x="54" y="49"/>
                      </a:lnTo>
                      <a:lnTo>
                        <a:pt x="46" y="47"/>
                      </a:lnTo>
                      <a:lnTo>
                        <a:pt x="42" y="47"/>
                      </a:lnTo>
                      <a:lnTo>
                        <a:pt x="36" y="47"/>
                      </a:lnTo>
                      <a:lnTo>
                        <a:pt x="30" y="49"/>
                      </a:lnTo>
                      <a:lnTo>
                        <a:pt x="24" y="55"/>
                      </a:lnTo>
                      <a:lnTo>
                        <a:pt x="18" y="57"/>
                      </a:lnTo>
                      <a:lnTo>
                        <a:pt x="14" y="63"/>
                      </a:lnTo>
                      <a:lnTo>
                        <a:pt x="10" y="69"/>
                      </a:lnTo>
                      <a:lnTo>
                        <a:pt x="6" y="75"/>
                      </a:lnTo>
                      <a:lnTo>
                        <a:pt x="4" y="83"/>
                      </a:lnTo>
                      <a:lnTo>
                        <a:pt x="3" y="88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3" y="123"/>
                      </a:lnTo>
                      <a:lnTo>
                        <a:pt x="4" y="127"/>
                      </a:lnTo>
                      <a:lnTo>
                        <a:pt x="4" y="123"/>
                      </a:lnTo>
                      <a:lnTo>
                        <a:pt x="4" y="116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6" y="96"/>
                      </a:lnTo>
                      <a:lnTo>
                        <a:pt x="10" y="91"/>
                      </a:lnTo>
                      <a:lnTo>
                        <a:pt x="14" y="85"/>
                      </a:lnTo>
                      <a:lnTo>
                        <a:pt x="18" y="79"/>
                      </a:lnTo>
                      <a:lnTo>
                        <a:pt x="24" y="75"/>
                      </a:lnTo>
                      <a:lnTo>
                        <a:pt x="30" y="73"/>
                      </a:lnTo>
                      <a:lnTo>
                        <a:pt x="36" y="73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3" y="77"/>
                      </a:lnTo>
                      <a:lnTo>
                        <a:pt x="57" y="83"/>
                      </a:lnTo>
                      <a:lnTo>
                        <a:pt x="62" y="85"/>
                      </a:lnTo>
                      <a:lnTo>
                        <a:pt x="69" y="88"/>
                      </a:lnTo>
                      <a:lnTo>
                        <a:pt x="74" y="88"/>
                      </a:lnTo>
                      <a:lnTo>
                        <a:pt x="80" y="91"/>
                      </a:lnTo>
                      <a:lnTo>
                        <a:pt x="86" y="92"/>
                      </a:lnTo>
                      <a:lnTo>
                        <a:pt x="92" y="91"/>
                      </a:lnTo>
                      <a:lnTo>
                        <a:pt x="98" y="88"/>
                      </a:lnTo>
                      <a:lnTo>
                        <a:pt x="104" y="85"/>
                      </a:lnTo>
                      <a:lnTo>
                        <a:pt x="110" y="79"/>
                      </a:lnTo>
                      <a:lnTo>
                        <a:pt x="112" y="73"/>
                      </a:lnTo>
                      <a:lnTo>
                        <a:pt x="116" y="67"/>
                      </a:lnTo>
                      <a:lnTo>
                        <a:pt x="117" y="61"/>
                      </a:lnTo>
                      <a:lnTo>
                        <a:pt x="117" y="55"/>
                      </a:lnTo>
                      <a:lnTo>
                        <a:pt x="117" y="49"/>
                      </a:lnTo>
                      <a:lnTo>
                        <a:pt x="120" y="41"/>
                      </a:lnTo>
                      <a:lnTo>
                        <a:pt x="120" y="36"/>
                      </a:lnTo>
                      <a:lnTo>
                        <a:pt x="125" y="32"/>
                      </a:lnTo>
                      <a:lnTo>
                        <a:pt x="131" y="29"/>
                      </a:lnTo>
                      <a:lnTo>
                        <a:pt x="136" y="28"/>
                      </a:lnTo>
                      <a:lnTo>
                        <a:pt x="143" y="28"/>
                      </a:lnTo>
                      <a:lnTo>
                        <a:pt x="150" y="29"/>
                      </a:lnTo>
                      <a:lnTo>
                        <a:pt x="160" y="32"/>
                      </a:lnTo>
                      <a:lnTo>
                        <a:pt x="166" y="36"/>
                      </a:lnTo>
                      <a:lnTo>
                        <a:pt x="139" y="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>
                  <a:off x="8295840" y="4327200"/>
                  <a:ext cx="74520" cy="54360"/>
                </a:xfrm>
                <a:custGeom>
                  <a:avLst/>
                  <a:gdLst/>
                  <a:ahLst/>
                  <a:rect l="l" t="t" r="r" b="b"/>
                  <a:pathLst>
                    <a:path w="164" h="127">
                      <a:moveTo>
                        <a:pt x="152" y="0"/>
                      </a:moveTo>
                      <a:lnTo>
                        <a:pt x="141" y="0"/>
                      </a:lnTo>
                      <a:lnTo>
                        <a:pt x="136" y="0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7"/>
                      </a:lnTo>
                      <a:lnTo>
                        <a:pt x="111" y="11"/>
                      </a:lnTo>
                      <a:lnTo>
                        <a:pt x="106" y="15"/>
                      </a:lnTo>
                      <a:lnTo>
                        <a:pt x="103" y="20"/>
                      </a:lnTo>
                      <a:lnTo>
                        <a:pt x="102" y="27"/>
                      </a:lnTo>
                      <a:lnTo>
                        <a:pt x="99" y="32"/>
                      </a:lnTo>
                      <a:lnTo>
                        <a:pt x="99" y="39"/>
                      </a:lnTo>
                      <a:lnTo>
                        <a:pt x="99" y="46"/>
                      </a:lnTo>
                      <a:lnTo>
                        <a:pt x="99" y="53"/>
                      </a:lnTo>
                      <a:lnTo>
                        <a:pt x="99" y="58"/>
                      </a:lnTo>
                      <a:lnTo>
                        <a:pt x="98" y="65"/>
                      </a:lnTo>
                      <a:lnTo>
                        <a:pt x="95" y="70"/>
                      </a:lnTo>
                      <a:lnTo>
                        <a:pt x="90" y="77"/>
                      </a:lnTo>
                      <a:lnTo>
                        <a:pt x="83" y="82"/>
                      </a:lnTo>
                      <a:lnTo>
                        <a:pt x="78" y="85"/>
                      </a:lnTo>
                      <a:lnTo>
                        <a:pt x="71" y="85"/>
                      </a:lnTo>
                      <a:lnTo>
                        <a:pt x="66" y="82"/>
                      </a:lnTo>
                      <a:lnTo>
                        <a:pt x="60" y="81"/>
                      </a:lnTo>
                      <a:lnTo>
                        <a:pt x="54" y="74"/>
                      </a:lnTo>
                      <a:lnTo>
                        <a:pt x="48" y="70"/>
                      </a:lnTo>
                      <a:lnTo>
                        <a:pt x="42" y="69"/>
                      </a:lnTo>
                      <a:lnTo>
                        <a:pt x="37" y="69"/>
                      </a:lnTo>
                      <a:lnTo>
                        <a:pt x="32" y="70"/>
                      </a:lnTo>
                      <a:lnTo>
                        <a:pt x="24" y="73"/>
                      </a:lnTo>
                      <a:lnTo>
                        <a:pt x="17" y="77"/>
                      </a:lnTo>
                      <a:lnTo>
                        <a:pt x="16" y="82"/>
                      </a:lnTo>
                      <a:lnTo>
                        <a:pt x="12" y="89"/>
                      </a:lnTo>
                      <a:lnTo>
                        <a:pt x="5" y="93"/>
                      </a:lnTo>
                      <a:lnTo>
                        <a:pt x="4" y="99"/>
                      </a:lnTo>
                      <a:lnTo>
                        <a:pt x="1" y="105"/>
                      </a:lnTo>
                      <a:lnTo>
                        <a:pt x="0" y="111"/>
                      </a:lnTo>
                      <a:lnTo>
                        <a:pt x="0" y="117"/>
                      </a:lnTo>
                      <a:lnTo>
                        <a:pt x="0" y="111"/>
                      </a:lnTo>
                      <a:lnTo>
                        <a:pt x="5" y="107"/>
                      </a:lnTo>
                      <a:lnTo>
                        <a:pt x="4" y="113"/>
                      </a:lnTo>
                      <a:lnTo>
                        <a:pt x="1" y="119"/>
                      </a:lnTo>
                      <a:lnTo>
                        <a:pt x="8" y="123"/>
                      </a:lnTo>
                      <a:lnTo>
                        <a:pt x="13" y="127"/>
                      </a:lnTo>
                      <a:lnTo>
                        <a:pt x="12" y="119"/>
                      </a:lnTo>
                      <a:lnTo>
                        <a:pt x="12" y="113"/>
                      </a:lnTo>
                      <a:lnTo>
                        <a:pt x="12" y="107"/>
                      </a:lnTo>
                      <a:lnTo>
                        <a:pt x="13" y="101"/>
                      </a:lnTo>
                      <a:lnTo>
                        <a:pt x="16" y="94"/>
                      </a:lnTo>
                      <a:lnTo>
                        <a:pt x="20" y="89"/>
                      </a:lnTo>
                      <a:lnTo>
                        <a:pt x="25" y="86"/>
                      </a:lnTo>
                      <a:lnTo>
                        <a:pt x="32" y="85"/>
                      </a:lnTo>
                      <a:lnTo>
                        <a:pt x="40" y="82"/>
                      </a:lnTo>
                      <a:lnTo>
                        <a:pt x="44" y="86"/>
                      </a:lnTo>
                      <a:lnTo>
                        <a:pt x="52" y="90"/>
                      </a:lnTo>
                      <a:lnTo>
                        <a:pt x="56" y="95"/>
                      </a:lnTo>
                      <a:lnTo>
                        <a:pt x="63" y="101"/>
                      </a:lnTo>
                      <a:lnTo>
                        <a:pt x="70" y="103"/>
                      </a:lnTo>
                      <a:lnTo>
                        <a:pt x="75" y="103"/>
                      </a:lnTo>
                      <a:lnTo>
                        <a:pt x="82" y="103"/>
                      </a:lnTo>
                      <a:lnTo>
                        <a:pt x="90" y="103"/>
                      </a:lnTo>
                      <a:lnTo>
                        <a:pt x="95" y="99"/>
                      </a:lnTo>
                      <a:lnTo>
                        <a:pt x="102" y="94"/>
                      </a:lnTo>
                      <a:lnTo>
                        <a:pt x="106" y="86"/>
                      </a:lnTo>
                      <a:lnTo>
                        <a:pt x="107" y="81"/>
                      </a:lnTo>
                      <a:lnTo>
                        <a:pt x="107" y="74"/>
                      </a:lnTo>
                      <a:lnTo>
                        <a:pt x="110" y="69"/>
                      </a:lnTo>
                      <a:lnTo>
                        <a:pt x="110" y="62"/>
                      </a:lnTo>
                      <a:lnTo>
                        <a:pt x="110" y="57"/>
                      </a:lnTo>
                      <a:lnTo>
                        <a:pt x="110" y="50"/>
                      </a:lnTo>
                      <a:lnTo>
                        <a:pt x="114" y="45"/>
                      </a:lnTo>
                      <a:lnTo>
                        <a:pt x="118" y="39"/>
                      </a:lnTo>
                      <a:lnTo>
                        <a:pt x="123" y="35"/>
                      </a:lnTo>
                      <a:lnTo>
                        <a:pt x="126" y="31"/>
                      </a:lnTo>
                      <a:lnTo>
                        <a:pt x="132" y="28"/>
                      </a:lnTo>
                      <a:lnTo>
                        <a:pt x="137" y="24"/>
                      </a:lnTo>
                      <a:lnTo>
                        <a:pt x="145" y="23"/>
                      </a:lnTo>
                      <a:lnTo>
                        <a:pt x="152" y="23"/>
                      </a:lnTo>
                      <a:lnTo>
                        <a:pt x="157" y="23"/>
                      </a:lnTo>
                      <a:lnTo>
                        <a:pt x="164" y="23"/>
                      </a:lnTo>
                      <a:lnTo>
                        <a:pt x="160" y="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8011440" y="4679640"/>
                <a:ext cx="400320" cy="245520"/>
                <a:chOff x="8011440" y="4679640"/>
                <a:chExt cx="400320" cy="245520"/>
              </a:xfrm>
            </p:grpSpPr>
            <p:sp>
              <p:nvSpPr>
                <p:cNvPr id="146" name=""/>
                <p:cNvSpPr/>
                <p:nvPr/>
              </p:nvSpPr>
              <p:spPr>
                <a:xfrm flipH="1">
                  <a:off x="8014680" y="4683240"/>
                  <a:ext cx="345240" cy="207720"/>
                </a:xfrm>
                <a:custGeom>
                  <a:avLst/>
                  <a:gdLst/>
                  <a:ahLst/>
                  <a:rect l="l" t="t" r="r" b="b"/>
                  <a:pathLst>
                    <a:path w="762" h="483">
                      <a:moveTo>
                        <a:pt x="17" y="45"/>
                      </a:moveTo>
                      <a:lnTo>
                        <a:pt x="213" y="0"/>
                      </a:lnTo>
                      <a:lnTo>
                        <a:pt x="331" y="113"/>
                      </a:lnTo>
                      <a:lnTo>
                        <a:pt x="594" y="110"/>
                      </a:lnTo>
                      <a:lnTo>
                        <a:pt x="744" y="118"/>
                      </a:lnTo>
                      <a:lnTo>
                        <a:pt x="762" y="287"/>
                      </a:lnTo>
                      <a:lnTo>
                        <a:pt x="610" y="291"/>
                      </a:lnTo>
                      <a:lnTo>
                        <a:pt x="516" y="300"/>
                      </a:lnTo>
                      <a:lnTo>
                        <a:pt x="638" y="432"/>
                      </a:lnTo>
                      <a:lnTo>
                        <a:pt x="617" y="440"/>
                      </a:lnTo>
                      <a:lnTo>
                        <a:pt x="432" y="483"/>
                      </a:lnTo>
                      <a:lnTo>
                        <a:pt x="338" y="386"/>
                      </a:lnTo>
                      <a:lnTo>
                        <a:pt x="182" y="225"/>
                      </a:lnTo>
                      <a:lnTo>
                        <a:pt x="21" y="73"/>
                      </a:lnTo>
                      <a:lnTo>
                        <a:pt x="0" y="61"/>
                      </a:lnTo>
                      <a:lnTo>
                        <a:pt x="17" y="4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8016120" y="4804920"/>
                  <a:ext cx="109800" cy="24120"/>
                </a:xfrm>
                <a:custGeom>
                  <a:avLst/>
                  <a:gdLst/>
                  <a:ahLst/>
                  <a:rect l="l" t="t" r="r" b="b"/>
                  <a:pathLst>
                    <a:path w="243" h="55">
                      <a:moveTo>
                        <a:pt x="243" y="7"/>
                      </a:moveTo>
                      <a:lnTo>
                        <a:pt x="208" y="52"/>
                      </a:lnTo>
                      <a:lnTo>
                        <a:pt x="37" y="55"/>
                      </a:lnTo>
                      <a:lnTo>
                        <a:pt x="0" y="16"/>
                      </a:lnTo>
                      <a:lnTo>
                        <a:pt x="243" y="0"/>
                      </a:lnTo>
                      <a:lnTo>
                        <a:pt x="243" y="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8069400" y="4702680"/>
                  <a:ext cx="294840" cy="217080"/>
                </a:xfrm>
                <a:custGeom>
                  <a:avLst/>
                  <a:gdLst/>
                  <a:ahLst/>
                  <a:rect l="l" t="t" r="r" b="b"/>
                  <a:pathLst>
                    <a:path w="650" h="503">
                      <a:moveTo>
                        <a:pt x="17" y="0"/>
                      </a:moveTo>
                      <a:lnTo>
                        <a:pt x="0" y="43"/>
                      </a:lnTo>
                      <a:lnTo>
                        <a:pt x="4" y="81"/>
                      </a:lnTo>
                      <a:lnTo>
                        <a:pt x="137" y="221"/>
                      </a:lnTo>
                      <a:lnTo>
                        <a:pt x="144" y="223"/>
                      </a:lnTo>
                      <a:lnTo>
                        <a:pt x="281" y="372"/>
                      </a:lnTo>
                      <a:lnTo>
                        <a:pt x="417" y="503"/>
                      </a:lnTo>
                      <a:lnTo>
                        <a:pt x="447" y="500"/>
                      </a:lnTo>
                      <a:lnTo>
                        <a:pt x="529" y="483"/>
                      </a:lnTo>
                      <a:lnTo>
                        <a:pt x="635" y="467"/>
                      </a:lnTo>
                      <a:lnTo>
                        <a:pt x="643" y="457"/>
                      </a:lnTo>
                      <a:lnTo>
                        <a:pt x="650" y="389"/>
                      </a:lnTo>
                      <a:lnTo>
                        <a:pt x="442" y="429"/>
                      </a:lnTo>
                      <a:lnTo>
                        <a:pt x="257" y="246"/>
                      </a:lnTo>
                      <a:lnTo>
                        <a:pt x="107" y="94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8011440" y="4679640"/>
                  <a:ext cx="354240" cy="245520"/>
                  <a:chOff x="8011440" y="4679640"/>
                  <a:chExt cx="354240" cy="2455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>
                    <a:off x="8065440" y="4679640"/>
                    <a:ext cx="2998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3" h="570">
                        <a:moveTo>
                          <a:pt x="19" y="50"/>
                        </a:moveTo>
                        <a:lnTo>
                          <a:pt x="189" y="6"/>
                        </a:lnTo>
                        <a:lnTo>
                          <a:pt x="229" y="0"/>
                        </a:lnTo>
                        <a:lnTo>
                          <a:pt x="235" y="0"/>
                        </a:lnTo>
                        <a:lnTo>
                          <a:pt x="247" y="10"/>
                        </a:lnTo>
                        <a:lnTo>
                          <a:pt x="446" y="210"/>
                        </a:lnTo>
                        <a:lnTo>
                          <a:pt x="619" y="390"/>
                        </a:lnTo>
                        <a:lnTo>
                          <a:pt x="661" y="436"/>
                        </a:lnTo>
                        <a:lnTo>
                          <a:pt x="663" y="469"/>
                        </a:lnTo>
                        <a:lnTo>
                          <a:pt x="651" y="526"/>
                        </a:lnTo>
                        <a:lnTo>
                          <a:pt x="635" y="530"/>
                        </a:lnTo>
                        <a:lnTo>
                          <a:pt x="503" y="550"/>
                        </a:lnTo>
                        <a:lnTo>
                          <a:pt x="425" y="570"/>
                        </a:lnTo>
                        <a:lnTo>
                          <a:pt x="421" y="563"/>
                        </a:lnTo>
                        <a:lnTo>
                          <a:pt x="403" y="559"/>
                        </a:lnTo>
                        <a:lnTo>
                          <a:pt x="200" y="348"/>
                        </a:lnTo>
                        <a:lnTo>
                          <a:pt x="58" y="196"/>
                        </a:lnTo>
                        <a:lnTo>
                          <a:pt x="0" y="137"/>
                        </a:lnTo>
                        <a:lnTo>
                          <a:pt x="0" y="114"/>
                        </a:lnTo>
                        <a:lnTo>
                          <a:pt x="12" y="110"/>
                        </a:lnTo>
                        <a:lnTo>
                          <a:pt x="42" y="157"/>
                        </a:lnTo>
                        <a:lnTo>
                          <a:pt x="167" y="285"/>
                        </a:lnTo>
                        <a:lnTo>
                          <a:pt x="323" y="449"/>
                        </a:lnTo>
                        <a:lnTo>
                          <a:pt x="422" y="538"/>
                        </a:lnTo>
                        <a:lnTo>
                          <a:pt x="426" y="506"/>
                        </a:lnTo>
                        <a:lnTo>
                          <a:pt x="429" y="485"/>
                        </a:lnTo>
                        <a:lnTo>
                          <a:pt x="249" y="309"/>
                        </a:lnTo>
                        <a:lnTo>
                          <a:pt x="101" y="152"/>
                        </a:lnTo>
                        <a:lnTo>
                          <a:pt x="93" y="145"/>
                        </a:lnTo>
                        <a:lnTo>
                          <a:pt x="27" y="81"/>
                        </a:lnTo>
                        <a:lnTo>
                          <a:pt x="46" y="66"/>
                        </a:lnTo>
                        <a:lnTo>
                          <a:pt x="58" y="79"/>
                        </a:lnTo>
                        <a:lnTo>
                          <a:pt x="296" y="321"/>
                        </a:lnTo>
                        <a:lnTo>
                          <a:pt x="446" y="472"/>
                        </a:lnTo>
                        <a:lnTo>
                          <a:pt x="459" y="481"/>
                        </a:lnTo>
                        <a:lnTo>
                          <a:pt x="445" y="542"/>
                        </a:lnTo>
                        <a:lnTo>
                          <a:pt x="523" y="526"/>
                        </a:lnTo>
                        <a:lnTo>
                          <a:pt x="635" y="512"/>
                        </a:lnTo>
                        <a:lnTo>
                          <a:pt x="643" y="457"/>
                        </a:lnTo>
                        <a:lnTo>
                          <a:pt x="467" y="490"/>
                        </a:lnTo>
                        <a:lnTo>
                          <a:pt x="474" y="476"/>
                        </a:lnTo>
                        <a:lnTo>
                          <a:pt x="491" y="468"/>
                        </a:lnTo>
                        <a:lnTo>
                          <a:pt x="627" y="440"/>
                        </a:lnTo>
                        <a:lnTo>
                          <a:pt x="617" y="418"/>
                        </a:lnTo>
                        <a:lnTo>
                          <a:pt x="539" y="328"/>
                        </a:lnTo>
                        <a:lnTo>
                          <a:pt x="449" y="239"/>
                        </a:lnTo>
                        <a:lnTo>
                          <a:pt x="442" y="238"/>
                        </a:lnTo>
                        <a:lnTo>
                          <a:pt x="325" y="116"/>
                        </a:lnTo>
                        <a:lnTo>
                          <a:pt x="223" y="18"/>
                        </a:lnTo>
                        <a:lnTo>
                          <a:pt x="66" y="55"/>
                        </a:lnTo>
                        <a:lnTo>
                          <a:pt x="25" y="67"/>
                        </a:lnTo>
                        <a:lnTo>
                          <a:pt x="13" y="100"/>
                        </a:lnTo>
                        <a:lnTo>
                          <a:pt x="0" y="108"/>
                        </a:lnTo>
                        <a:lnTo>
                          <a:pt x="9" y="62"/>
                        </a:lnTo>
                        <a:lnTo>
                          <a:pt x="19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>
                    <a:off x="8011440" y="4726080"/>
                    <a:ext cx="2008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43">
                        <a:moveTo>
                          <a:pt x="0" y="1"/>
                        </a:moveTo>
                        <a:lnTo>
                          <a:pt x="291" y="0"/>
                        </a:lnTo>
                        <a:lnTo>
                          <a:pt x="423" y="9"/>
                        </a:lnTo>
                        <a:lnTo>
                          <a:pt x="431" y="93"/>
                        </a:lnTo>
                        <a:lnTo>
                          <a:pt x="443" y="171"/>
                        </a:lnTo>
                        <a:lnTo>
                          <a:pt x="443" y="193"/>
                        </a:lnTo>
                        <a:lnTo>
                          <a:pt x="407" y="243"/>
                        </a:lnTo>
                        <a:lnTo>
                          <a:pt x="229" y="243"/>
                        </a:lnTo>
                        <a:lnTo>
                          <a:pt x="216" y="228"/>
                        </a:lnTo>
                        <a:lnTo>
                          <a:pt x="393" y="224"/>
                        </a:lnTo>
                        <a:lnTo>
                          <a:pt x="423" y="193"/>
                        </a:lnTo>
                        <a:lnTo>
                          <a:pt x="197" y="203"/>
                        </a:lnTo>
                        <a:lnTo>
                          <a:pt x="183" y="193"/>
                        </a:lnTo>
                        <a:lnTo>
                          <a:pt x="419" y="175"/>
                        </a:lnTo>
                        <a:lnTo>
                          <a:pt x="423" y="158"/>
                        </a:lnTo>
                        <a:lnTo>
                          <a:pt x="406" y="25"/>
                        </a:lnTo>
                        <a:lnTo>
                          <a:pt x="298" y="21"/>
                        </a:lnTo>
                        <a:lnTo>
                          <a:pt x="158" y="17"/>
                        </a:lnTo>
                        <a:lnTo>
                          <a:pt x="150" y="19"/>
                        </a:lnTo>
                        <a:lnTo>
                          <a:pt x="11" y="1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8232840" y="4727160"/>
                  <a:ext cx="178920" cy="129240"/>
                  <a:chOff x="8232840" y="4727160"/>
                  <a:chExt cx="178920" cy="129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>
                    <a:off x="8232480" y="4727160"/>
                    <a:ext cx="1724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99">
                        <a:moveTo>
                          <a:pt x="93" y="81"/>
                        </a:moveTo>
                        <a:lnTo>
                          <a:pt x="89" y="72"/>
                        </a:lnTo>
                        <a:lnTo>
                          <a:pt x="89" y="65"/>
                        </a:lnTo>
                        <a:lnTo>
                          <a:pt x="89" y="60"/>
                        </a:lnTo>
                        <a:lnTo>
                          <a:pt x="93" y="53"/>
                        </a:lnTo>
                        <a:lnTo>
                          <a:pt x="98" y="45"/>
                        </a:lnTo>
                        <a:lnTo>
                          <a:pt x="106" y="44"/>
                        </a:lnTo>
                        <a:lnTo>
                          <a:pt x="112" y="41"/>
                        </a:lnTo>
                        <a:lnTo>
                          <a:pt x="120" y="41"/>
                        </a:lnTo>
                        <a:lnTo>
                          <a:pt x="126" y="41"/>
                        </a:lnTo>
                        <a:lnTo>
                          <a:pt x="132" y="44"/>
                        </a:lnTo>
                        <a:lnTo>
                          <a:pt x="140" y="45"/>
                        </a:lnTo>
                        <a:lnTo>
                          <a:pt x="143" y="52"/>
                        </a:lnTo>
                        <a:lnTo>
                          <a:pt x="144" y="57"/>
                        </a:lnTo>
                        <a:lnTo>
                          <a:pt x="151" y="64"/>
                        </a:lnTo>
                        <a:lnTo>
                          <a:pt x="155" y="72"/>
                        </a:lnTo>
                        <a:lnTo>
                          <a:pt x="160" y="76"/>
                        </a:lnTo>
                        <a:lnTo>
                          <a:pt x="168" y="76"/>
                        </a:lnTo>
                        <a:lnTo>
                          <a:pt x="176" y="68"/>
                        </a:lnTo>
                        <a:lnTo>
                          <a:pt x="182" y="61"/>
                        </a:lnTo>
                        <a:lnTo>
                          <a:pt x="186" y="56"/>
                        </a:lnTo>
                        <a:lnTo>
                          <a:pt x="194" y="45"/>
                        </a:lnTo>
                        <a:lnTo>
                          <a:pt x="202" y="41"/>
                        </a:lnTo>
                        <a:lnTo>
                          <a:pt x="214" y="40"/>
                        </a:lnTo>
                        <a:lnTo>
                          <a:pt x="219" y="40"/>
                        </a:lnTo>
                        <a:lnTo>
                          <a:pt x="226" y="41"/>
                        </a:lnTo>
                        <a:lnTo>
                          <a:pt x="234" y="44"/>
                        </a:lnTo>
                        <a:lnTo>
                          <a:pt x="238" y="44"/>
                        </a:lnTo>
                        <a:lnTo>
                          <a:pt x="242" y="37"/>
                        </a:lnTo>
                        <a:lnTo>
                          <a:pt x="248" y="29"/>
                        </a:lnTo>
                        <a:lnTo>
                          <a:pt x="258" y="24"/>
                        </a:lnTo>
                        <a:lnTo>
                          <a:pt x="262" y="17"/>
                        </a:lnTo>
                        <a:lnTo>
                          <a:pt x="270" y="16"/>
                        </a:lnTo>
                        <a:lnTo>
                          <a:pt x="278" y="12"/>
                        </a:lnTo>
                        <a:lnTo>
                          <a:pt x="292" y="6"/>
                        </a:lnTo>
                        <a:lnTo>
                          <a:pt x="301" y="4"/>
                        </a:lnTo>
                        <a:lnTo>
                          <a:pt x="309" y="2"/>
                        </a:lnTo>
                        <a:lnTo>
                          <a:pt x="324" y="0"/>
                        </a:lnTo>
                        <a:lnTo>
                          <a:pt x="332" y="2"/>
                        </a:lnTo>
                        <a:lnTo>
                          <a:pt x="338" y="4"/>
                        </a:lnTo>
                        <a:lnTo>
                          <a:pt x="348" y="6"/>
                        </a:lnTo>
                        <a:lnTo>
                          <a:pt x="355" y="10"/>
                        </a:lnTo>
                        <a:lnTo>
                          <a:pt x="362" y="12"/>
                        </a:lnTo>
                        <a:lnTo>
                          <a:pt x="363" y="17"/>
                        </a:lnTo>
                        <a:lnTo>
                          <a:pt x="363" y="24"/>
                        </a:lnTo>
                        <a:lnTo>
                          <a:pt x="362" y="29"/>
                        </a:lnTo>
                        <a:lnTo>
                          <a:pt x="358" y="37"/>
                        </a:lnTo>
                        <a:lnTo>
                          <a:pt x="354" y="44"/>
                        </a:lnTo>
                        <a:lnTo>
                          <a:pt x="350" y="49"/>
                        </a:lnTo>
                        <a:lnTo>
                          <a:pt x="342" y="53"/>
                        </a:lnTo>
                        <a:lnTo>
                          <a:pt x="334" y="56"/>
                        </a:lnTo>
                        <a:lnTo>
                          <a:pt x="328" y="57"/>
                        </a:lnTo>
                        <a:lnTo>
                          <a:pt x="320" y="61"/>
                        </a:lnTo>
                        <a:lnTo>
                          <a:pt x="313" y="68"/>
                        </a:lnTo>
                        <a:lnTo>
                          <a:pt x="312" y="73"/>
                        </a:lnTo>
                        <a:lnTo>
                          <a:pt x="313" y="80"/>
                        </a:lnTo>
                        <a:lnTo>
                          <a:pt x="320" y="85"/>
                        </a:lnTo>
                        <a:lnTo>
                          <a:pt x="328" y="89"/>
                        </a:lnTo>
                        <a:lnTo>
                          <a:pt x="332" y="95"/>
                        </a:lnTo>
                        <a:lnTo>
                          <a:pt x="338" y="97"/>
                        </a:lnTo>
                        <a:lnTo>
                          <a:pt x="346" y="99"/>
                        </a:lnTo>
                        <a:lnTo>
                          <a:pt x="354" y="106"/>
                        </a:lnTo>
                        <a:lnTo>
                          <a:pt x="362" y="111"/>
                        </a:lnTo>
                        <a:lnTo>
                          <a:pt x="367" y="118"/>
                        </a:lnTo>
                        <a:lnTo>
                          <a:pt x="374" y="127"/>
                        </a:lnTo>
                        <a:lnTo>
                          <a:pt x="378" y="134"/>
                        </a:lnTo>
                        <a:lnTo>
                          <a:pt x="379" y="146"/>
                        </a:lnTo>
                        <a:lnTo>
                          <a:pt x="379" y="154"/>
                        </a:lnTo>
                        <a:lnTo>
                          <a:pt x="379" y="163"/>
                        </a:lnTo>
                        <a:lnTo>
                          <a:pt x="375" y="175"/>
                        </a:lnTo>
                        <a:lnTo>
                          <a:pt x="370" y="179"/>
                        </a:lnTo>
                        <a:lnTo>
                          <a:pt x="359" y="183"/>
                        </a:lnTo>
                        <a:lnTo>
                          <a:pt x="350" y="181"/>
                        </a:lnTo>
                        <a:lnTo>
                          <a:pt x="342" y="181"/>
                        </a:lnTo>
                        <a:lnTo>
                          <a:pt x="334" y="175"/>
                        </a:lnTo>
                        <a:lnTo>
                          <a:pt x="321" y="173"/>
                        </a:lnTo>
                        <a:lnTo>
                          <a:pt x="312" y="171"/>
                        </a:lnTo>
                        <a:lnTo>
                          <a:pt x="305" y="169"/>
                        </a:lnTo>
                        <a:lnTo>
                          <a:pt x="300" y="169"/>
                        </a:lnTo>
                        <a:lnTo>
                          <a:pt x="288" y="171"/>
                        </a:lnTo>
                        <a:lnTo>
                          <a:pt x="280" y="177"/>
                        </a:lnTo>
                        <a:lnTo>
                          <a:pt x="276" y="183"/>
                        </a:lnTo>
                        <a:lnTo>
                          <a:pt x="272" y="191"/>
                        </a:lnTo>
                        <a:lnTo>
                          <a:pt x="274" y="199"/>
                        </a:lnTo>
                        <a:lnTo>
                          <a:pt x="274" y="204"/>
                        </a:lnTo>
                        <a:lnTo>
                          <a:pt x="278" y="209"/>
                        </a:lnTo>
                        <a:lnTo>
                          <a:pt x="280" y="216"/>
                        </a:lnTo>
                        <a:lnTo>
                          <a:pt x="284" y="224"/>
                        </a:lnTo>
                        <a:lnTo>
                          <a:pt x="284" y="233"/>
                        </a:lnTo>
                        <a:lnTo>
                          <a:pt x="276" y="244"/>
                        </a:lnTo>
                        <a:lnTo>
                          <a:pt x="266" y="247"/>
                        </a:lnTo>
                        <a:lnTo>
                          <a:pt x="256" y="247"/>
                        </a:lnTo>
                        <a:lnTo>
                          <a:pt x="242" y="249"/>
                        </a:lnTo>
                        <a:lnTo>
                          <a:pt x="237" y="251"/>
                        </a:lnTo>
                        <a:lnTo>
                          <a:pt x="230" y="253"/>
                        </a:lnTo>
                        <a:lnTo>
                          <a:pt x="219" y="255"/>
                        </a:lnTo>
                        <a:lnTo>
                          <a:pt x="214" y="255"/>
                        </a:lnTo>
                        <a:lnTo>
                          <a:pt x="214" y="261"/>
                        </a:lnTo>
                        <a:lnTo>
                          <a:pt x="211" y="267"/>
                        </a:lnTo>
                        <a:lnTo>
                          <a:pt x="206" y="277"/>
                        </a:lnTo>
                        <a:lnTo>
                          <a:pt x="206" y="284"/>
                        </a:lnTo>
                        <a:lnTo>
                          <a:pt x="206" y="295"/>
                        </a:lnTo>
                        <a:lnTo>
                          <a:pt x="198" y="299"/>
                        </a:lnTo>
                        <a:lnTo>
                          <a:pt x="192" y="299"/>
                        </a:lnTo>
                        <a:lnTo>
                          <a:pt x="184" y="299"/>
                        </a:lnTo>
                        <a:lnTo>
                          <a:pt x="174" y="299"/>
                        </a:lnTo>
                        <a:lnTo>
                          <a:pt x="163" y="295"/>
                        </a:lnTo>
                        <a:lnTo>
                          <a:pt x="155" y="291"/>
                        </a:lnTo>
                        <a:lnTo>
                          <a:pt x="143" y="281"/>
                        </a:lnTo>
                        <a:lnTo>
                          <a:pt x="141" y="275"/>
                        </a:lnTo>
                        <a:lnTo>
                          <a:pt x="141" y="269"/>
                        </a:lnTo>
                        <a:lnTo>
                          <a:pt x="141" y="263"/>
                        </a:lnTo>
                        <a:lnTo>
                          <a:pt x="140" y="257"/>
                        </a:lnTo>
                        <a:lnTo>
                          <a:pt x="140" y="251"/>
                        </a:lnTo>
                        <a:lnTo>
                          <a:pt x="137" y="245"/>
                        </a:lnTo>
                        <a:lnTo>
                          <a:pt x="137" y="237"/>
                        </a:lnTo>
                        <a:lnTo>
                          <a:pt x="137" y="229"/>
                        </a:lnTo>
                        <a:lnTo>
                          <a:pt x="137" y="224"/>
                        </a:lnTo>
                        <a:lnTo>
                          <a:pt x="136" y="217"/>
                        </a:lnTo>
                        <a:lnTo>
                          <a:pt x="134" y="209"/>
                        </a:lnTo>
                        <a:lnTo>
                          <a:pt x="124" y="205"/>
                        </a:lnTo>
                        <a:lnTo>
                          <a:pt x="118" y="205"/>
                        </a:lnTo>
                        <a:lnTo>
                          <a:pt x="106" y="205"/>
                        </a:lnTo>
                        <a:lnTo>
                          <a:pt x="100" y="209"/>
                        </a:lnTo>
                        <a:lnTo>
                          <a:pt x="90" y="212"/>
                        </a:lnTo>
                        <a:lnTo>
                          <a:pt x="82" y="213"/>
                        </a:lnTo>
                        <a:lnTo>
                          <a:pt x="73" y="217"/>
                        </a:lnTo>
                        <a:lnTo>
                          <a:pt x="66" y="217"/>
                        </a:lnTo>
                        <a:lnTo>
                          <a:pt x="57" y="217"/>
                        </a:lnTo>
                        <a:lnTo>
                          <a:pt x="44" y="217"/>
                        </a:lnTo>
                        <a:lnTo>
                          <a:pt x="38" y="217"/>
                        </a:lnTo>
                        <a:lnTo>
                          <a:pt x="30" y="217"/>
                        </a:lnTo>
                        <a:lnTo>
                          <a:pt x="20" y="212"/>
                        </a:lnTo>
                        <a:lnTo>
                          <a:pt x="15" y="209"/>
                        </a:lnTo>
                        <a:lnTo>
                          <a:pt x="11" y="204"/>
                        </a:lnTo>
                        <a:lnTo>
                          <a:pt x="7" y="197"/>
                        </a:lnTo>
                        <a:lnTo>
                          <a:pt x="4" y="185"/>
                        </a:lnTo>
                        <a:lnTo>
                          <a:pt x="8" y="177"/>
                        </a:lnTo>
                        <a:lnTo>
                          <a:pt x="15" y="173"/>
                        </a:lnTo>
                        <a:lnTo>
                          <a:pt x="23" y="167"/>
                        </a:lnTo>
                        <a:lnTo>
                          <a:pt x="32" y="163"/>
                        </a:lnTo>
                        <a:lnTo>
                          <a:pt x="38" y="162"/>
                        </a:lnTo>
                        <a:lnTo>
                          <a:pt x="42" y="155"/>
                        </a:lnTo>
                        <a:lnTo>
                          <a:pt x="36" y="150"/>
                        </a:lnTo>
                        <a:lnTo>
                          <a:pt x="28" y="147"/>
                        </a:lnTo>
                        <a:lnTo>
                          <a:pt x="23" y="143"/>
                        </a:lnTo>
                        <a:lnTo>
                          <a:pt x="15" y="139"/>
                        </a:lnTo>
                        <a:lnTo>
                          <a:pt x="7" y="134"/>
                        </a:lnTo>
                        <a:lnTo>
                          <a:pt x="0" y="122"/>
                        </a:lnTo>
                        <a:lnTo>
                          <a:pt x="0" y="107"/>
                        </a:lnTo>
                        <a:lnTo>
                          <a:pt x="0" y="99"/>
                        </a:lnTo>
                        <a:lnTo>
                          <a:pt x="3" y="89"/>
                        </a:lnTo>
                        <a:lnTo>
                          <a:pt x="4" y="84"/>
                        </a:lnTo>
                        <a:lnTo>
                          <a:pt x="12" y="77"/>
                        </a:lnTo>
                        <a:lnTo>
                          <a:pt x="19" y="76"/>
                        </a:lnTo>
                        <a:lnTo>
                          <a:pt x="26" y="73"/>
                        </a:lnTo>
                        <a:lnTo>
                          <a:pt x="34" y="73"/>
                        </a:lnTo>
                        <a:lnTo>
                          <a:pt x="44" y="76"/>
                        </a:lnTo>
                        <a:lnTo>
                          <a:pt x="49" y="80"/>
                        </a:lnTo>
                        <a:lnTo>
                          <a:pt x="54" y="81"/>
                        </a:lnTo>
                        <a:lnTo>
                          <a:pt x="61" y="85"/>
                        </a:lnTo>
                        <a:lnTo>
                          <a:pt x="65" y="91"/>
                        </a:lnTo>
                        <a:lnTo>
                          <a:pt x="73" y="99"/>
                        </a:lnTo>
                        <a:lnTo>
                          <a:pt x="77" y="106"/>
                        </a:lnTo>
                        <a:lnTo>
                          <a:pt x="85" y="114"/>
                        </a:lnTo>
                        <a:lnTo>
                          <a:pt x="90" y="119"/>
                        </a:lnTo>
                        <a:lnTo>
                          <a:pt x="97" y="119"/>
                        </a:lnTo>
                        <a:lnTo>
                          <a:pt x="98" y="114"/>
                        </a:lnTo>
                        <a:lnTo>
                          <a:pt x="102" y="106"/>
                        </a:lnTo>
                        <a:lnTo>
                          <a:pt x="104" y="99"/>
                        </a:lnTo>
                        <a:lnTo>
                          <a:pt x="104" y="93"/>
                        </a:lnTo>
                        <a:lnTo>
                          <a:pt x="100" y="88"/>
                        </a:lnTo>
                        <a:lnTo>
                          <a:pt x="93" y="81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8235360" y="4734720"/>
                    <a:ext cx="1764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280">
                        <a:moveTo>
                          <a:pt x="134" y="86"/>
                        </a:moveTo>
                        <a:lnTo>
                          <a:pt x="128" y="78"/>
                        </a:lnTo>
                        <a:lnTo>
                          <a:pt x="124" y="70"/>
                        </a:lnTo>
                        <a:lnTo>
                          <a:pt x="124" y="62"/>
                        </a:lnTo>
                        <a:lnTo>
                          <a:pt x="124" y="57"/>
                        </a:lnTo>
                        <a:lnTo>
                          <a:pt x="124" y="49"/>
                        </a:lnTo>
                        <a:lnTo>
                          <a:pt x="124" y="42"/>
                        </a:lnTo>
                        <a:lnTo>
                          <a:pt x="130" y="35"/>
                        </a:lnTo>
                        <a:lnTo>
                          <a:pt x="136" y="34"/>
                        </a:lnTo>
                        <a:lnTo>
                          <a:pt x="142" y="34"/>
                        </a:lnTo>
                        <a:lnTo>
                          <a:pt x="148" y="35"/>
                        </a:lnTo>
                        <a:lnTo>
                          <a:pt x="153" y="41"/>
                        </a:lnTo>
                        <a:lnTo>
                          <a:pt x="156" y="46"/>
                        </a:lnTo>
                        <a:lnTo>
                          <a:pt x="159" y="53"/>
                        </a:lnTo>
                        <a:lnTo>
                          <a:pt x="159" y="58"/>
                        </a:lnTo>
                        <a:lnTo>
                          <a:pt x="160" y="66"/>
                        </a:lnTo>
                        <a:lnTo>
                          <a:pt x="167" y="72"/>
                        </a:lnTo>
                        <a:lnTo>
                          <a:pt x="171" y="78"/>
                        </a:lnTo>
                        <a:lnTo>
                          <a:pt x="176" y="82"/>
                        </a:lnTo>
                        <a:lnTo>
                          <a:pt x="183" y="82"/>
                        </a:lnTo>
                        <a:lnTo>
                          <a:pt x="186" y="76"/>
                        </a:lnTo>
                        <a:lnTo>
                          <a:pt x="192" y="72"/>
                        </a:lnTo>
                        <a:lnTo>
                          <a:pt x="198" y="69"/>
                        </a:lnTo>
                        <a:lnTo>
                          <a:pt x="202" y="62"/>
                        </a:lnTo>
                        <a:lnTo>
                          <a:pt x="206" y="53"/>
                        </a:lnTo>
                        <a:lnTo>
                          <a:pt x="208" y="46"/>
                        </a:lnTo>
                        <a:lnTo>
                          <a:pt x="212" y="38"/>
                        </a:lnTo>
                        <a:lnTo>
                          <a:pt x="216" y="31"/>
                        </a:lnTo>
                        <a:lnTo>
                          <a:pt x="220" y="26"/>
                        </a:lnTo>
                        <a:lnTo>
                          <a:pt x="227" y="22"/>
                        </a:lnTo>
                        <a:lnTo>
                          <a:pt x="237" y="22"/>
                        </a:lnTo>
                        <a:lnTo>
                          <a:pt x="249" y="22"/>
                        </a:lnTo>
                        <a:lnTo>
                          <a:pt x="258" y="24"/>
                        </a:lnTo>
                        <a:lnTo>
                          <a:pt x="264" y="26"/>
                        </a:lnTo>
                        <a:lnTo>
                          <a:pt x="268" y="31"/>
                        </a:lnTo>
                        <a:lnTo>
                          <a:pt x="270" y="38"/>
                        </a:lnTo>
                        <a:lnTo>
                          <a:pt x="272" y="45"/>
                        </a:lnTo>
                        <a:lnTo>
                          <a:pt x="276" y="50"/>
                        </a:lnTo>
                        <a:lnTo>
                          <a:pt x="282" y="49"/>
                        </a:lnTo>
                        <a:lnTo>
                          <a:pt x="288" y="42"/>
                        </a:lnTo>
                        <a:lnTo>
                          <a:pt x="292" y="37"/>
                        </a:lnTo>
                        <a:lnTo>
                          <a:pt x="296" y="31"/>
                        </a:lnTo>
                        <a:lnTo>
                          <a:pt x="301" y="26"/>
                        </a:lnTo>
                        <a:lnTo>
                          <a:pt x="312" y="20"/>
                        </a:lnTo>
                        <a:lnTo>
                          <a:pt x="319" y="12"/>
                        </a:lnTo>
                        <a:lnTo>
                          <a:pt x="327" y="6"/>
                        </a:lnTo>
                        <a:lnTo>
                          <a:pt x="334" y="2"/>
                        </a:lnTo>
                        <a:lnTo>
                          <a:pt x="340" y="0"/>
                        </a:lnTo>
                        <a:lnTo>
                          <a:pt x="346" y="0"/>
                        </a:lnTo>
                        <a:lnTo>
                          <a:pt x="354" y="0"/>
                        </a:lnTo>
                        <a:lnTo>
                          <a:pt x="364" y="2"/>
                        </a:lnTo>
                        <a:lnTo>
                          <a:pt x="370" y="4"/>
                        </a:lnTo>
                        <a:lnTo>
                          <a:pt x="379" y="8"/>
                        </a:lnTo>
                        <a:lnTo>
                          <a:pt x="386" y="14"/>
                        </a:lnTo>
                        <a:lnTo>
                          <a:pt x="390" y="20"/>
                        </a:lnTo>
                        <a:lnTo>
                          <a:pt x="390" y="26"/>
                        </a:lnTo>
                        <a:lnTo>
                          <a:pt x="390" y="31"/>
                        </a:lnTo>
                        <a:lnTo>
                          <a:pt x="386" y="38"/>
                        </a:lnTo>
                        <a:lnTo>
                          <a:pt x="379" y="45"/>
                        </a:lnTo>
                        <a:lnTo>
                          <a:pt x="374" y="49"/>
                        </a:lnTo>
                        <a:lnTo>
                          <a:pt x="367" y="54"/>
                        </a:lnTo>
                        <a:lnTo>
                          <a:pt x="362" y="58"/>
                        </a:lnTo>
                        <a:lnTo>
                          <a:pt x="354" y="61"/>
                        </a:lnTo>
                        <a:lnTo>
                          <a:pt x="346" y="62"/>
                        </a:lnTo>
                        <a:lnTo>
                          <a:pt x="340" y="62"/>
                        </a:lnTo>
                        <a:lnTo>
                          <a:pt x="334" y="66"/>
                        </a:lnTo>
                        <a:lnTo>
                          <a:pt x="327" y="70"/>
                        </a:lnTo>
                        <a:lnTo>
                          <a:pt x="319" y="72"/>
                        </a:lnTo>
                        <a:lnTo>
                          <a:pt x="312" y="76"/>
                        </a:lnTo>
                        <a:lnTo>
                          <a:pt x="308" y="80"/>
                        </a:lnTo>
                        <a:lnTo>
                          <a:pt x="308" y="86"/>
                        </a:lnTo>
                        <a:lnTo>
                          <a:pt x="312" y="90"/>
                        </a:lnTo>
                        <a:lnTo>
                          <a:pt x="320" y="92"/>
                        </a:lnTo>
                        <a:lnTo>
                          <a:pt x="328" y="94"/>
                        </a:lnTo>
                        <a:lnTo>
                          <a:pt x="336" y="96"/>
                        </a:lnTo>
                        <a:lnTo>
                          <a:pt x="346" y="96"/>
                        </a:lnTo>
                        <a:lnTo>
                          <a:pt x="358" y="96"/>
                        </a:lnTo>
                        <a:lnTo>
                          <a:pt x="364" y="98"/>
                        </a:lnTo>
                        <a:lnTo>
                          <a:pt x="370" y="102"/>
                        </a:lnTo>
                        <a:lnTo>
                          <a:pt x="379" y="106"/>
                        </a:lnTo>
                        <a:lnTo>
                          <a:pt x="387" y="111"/>
                        </a:lnTo>
                        <a:lnTo>
                          <a:pt x="390" y="119"/>
                        </a:lnTo>
                        <a:lnTo>
                          <a:pt x="387" y="131"/>
                        </a:lnTo>
                        <a:lnTo>
                          <a:pt x="382" y="135"/>
                        </a:lnTo>
                        <a:lnTo>
                          <a:pt x="374" y="140"/>
                        </a:lnTo>
                        <a:lnTo>
                          <a:pt x="366" y="143"/>
                        </a:lnTo>
                        <a:lnTo>
                          <a:pt x="358" y="143"/>
                        </a:lnTo>
                        <a:lnTo>
                          <a:pt x="352" y="143"/>
                        </a:lnTo>
                        <a:lnTo>
                          <a:pt x="346" y="140"/>
                        </a:lnTo>
                        <a:lnTo>
                          <a:pt x="334" y="139"/>
                        </a:lnTo>
                        <a:lnTo>
                          <a:pt x="328" y="136"/>
                        </a:lnTo>
                        <a:lnTo>
                          <a:pt x="320" y="132"/>
                        </a:lnTo>
                        <a:lnTo>
                          <a:pt x="309" y="128"/>
                        </a:lnTo>
                        <a:lnTo>
                          <a:pt x="300" y="124"/>
                        </a:lnTo>
                        <a:lnTo>
                          <a:pt x="288" y="123"/>
                        </a:lnTo>
                        <a:lnTo>
                          <a:pt x="282" y="123"/>
                        </a:lnTo>
                        <a:lnTo>
                          <a:pt x="274" y="120"/>
                        </a:lnTo>
                        <a:lnTo>
                          <a:pt x="268" y="120"/>
                        </a:lnTo>
                        <a:lnTo>
                          <a:pt x="260" y="123"/>
                        </a:lnTo>
                        <a:lnTo>
                          <a:pt x="258" y="128"/>
                        </a:lnTo>
                        <a:lnTo>
                          <a:pt x="258" y="136"/>
                        </a:lnTo>
                        <a:lnTo>
                          <a:pt x="264" y="140"/>
                        </a:lnTo>
                        <a:lnTo>
                          <a:pt x="272" y="147"/>
                        </a:lnTo>
                        <a:lnTo>
                          <a:pt x="280" y="154"/>
                        </a:lnTo>
                        <a:lnTo>
                          <a:pt x="282" y="160"/>
                        </a:lnTo>
                        <a:lnTo>
                          <a:pt x="288" y="168"/>
                        </a:lnTo>
                        <a:lnTo>
                          <a:pt x="290" y="174"/>
                        </a:lnTo>
                        <a:lnTo>
                          <a:pt x="292" y="178"/>
                        </a:lnTo>
                        <a:lnTo>
                          <a:pt x="294" y="190"/>
                        </a:lnTo>
                        <a:lnTo>
                          <a:pt x="292" y="198"/>
                        </a:lnTo>
                        <a:lnTo>
                          <a:pt x="288" y="209"/>
                        </a:lnTo>
                        <a:lnTo>
                          <a:pt x="284" y="214"/>
                        </a:lnTo>
                        <a:lnTo>
                          <a:pt x="276" y="221"/>
                        </a:lnTo>
                        <a:lnTo>
                          <a:pt x="268" y="225"/>
                        </a:lnTo>
                        <a:lnTo>
                          <a:pt x="258" y="226"/>
                        </a:lnTo>
                        <a:lnTo>
                          <a:pt x="253" y="226"/>
                        </a:lnTo>
                        <a:lnTo>
                          <a:pt x="245" y="222"/>
                        </a:lnTo>
                        <a:lnTo>
                          <a:pt x="238" y="217"/>
                        </a:lnTo>
                        <a:lnTo>
                          <a:pt x="234" y="213"/>
                        </a:lnTo>
                        <a:lnTo>
                          <a:pt x="226" y="213"/>
                        </a:lnTo>
                        <a:lnTo>
                          <a:pt x="218" y="218"/>
                        </a:lnTo>
                        <a:lnTo>
                          <a:pt x="212" y="226"/>
                        </a:lnTo>
                        <a:lnTo>
                          <a:pt x="206" y="234"/>
                        </a:lnTo>
                        <a:lnTo>
                          <a:pt x="206" y="240"/>
                        </a:lnTo>
                        <a:lnTo>
                          <a:pt x="206" y="247"/>
                        </a:lnTo>
                        <a:lnTo>
                          <a:pt x="208" y="256"/>
                        </a:lnTo>
                        <a:lnTo>
                          <a:pt x="208" y="263"/>
                        </a:lnTo>
                        <a:lnTo>
                          <a:pt x="208" y="268"/>
                        </a:lnTo>
                        <a:lnTo>
                          <a:pt x="206" y="275"/>
                        </a:lnTo>
                        <a:lnTo>
                          <a:pt x="196" y="279"/>
                        </a:lnTo>
                        <a:lnTo>
                          <a:pt x="186" y="280"/>
                        </a:lnTo>
                        <a:lnTo>
                          <a:pt x="179" y="279"/>
                        </a:lnTo>
                        <a:lnTo>
                          <a:pt x="171" y="276"/>
                        </a:lnTo>
                        <a:lnTo>
                          <a:pt x="163" y="268"/>
                        </a:lnTo>
                        <a:lnTo>
                          <a:pt x="159" y="260"/>
                        </a:lnTo>
                        <a:lnTo>
                          <a:pt x="159" y="251"/>
                        </a:lnTo>
                        <a:lnTo>
                          <a:pt x="159" y="244"/>
                        </a:lnTo>
                        <a:lnTo>
                          <a:pt x="159" y="236"/>
                        </a:lnTo>
                        <a:lnTo>
                          <a:pt x="159" y="228"/>
                        </a:lnTo>
                        <a:lnTo>
                          <a:pt x="159" y="221"/>
                        </a:lnTo>
                        <a:lnTo>
                          <a:pt x="159" y="214"/>
                        </a:lnTo>
                        <a:lnTo>
                          <a:pt x="156" y="205"/>
                        </a:lnTo>
                        <a:lnTo>
                          <a:pt x="156" y="197"/>
                        </a:lnTo>
                        <a:lnTo>
                          <a:pt x="153" y="190"/>
                        </a:lnTo>
                        <a:lnTo>
                          <a:pt x="148" y="182"/>
                        </a:lnTo>
                        <a:lnTo>
                          <a:pt x="140" y="178"/>
                        </a:lnTo>
                        <a:lnTo>
                          <a:pt x="132" y="178"/>
                        </a:lnTo>
                        <a:lnTo>
                          <a:pt x="126" y="178"/>
                        </a:lnTo>
                        <a:lnTo>
                          <a:pt x="120" y="181"/>
                        </a:lnTo>
                        <a:lnTo>
                          <a:pt x="114" y="182"/>
                        </a:lnTo>
                        <a:lnTo>
                          <a:pt x="105" y="185"/>
                        </a:lnTo>
                        <a:lnTo>
                          <a:pt x="97" y="186"/>
                        </a:lnTo>
                        <a:lnTo>
                          <a:pt x="89" y="189"/>
                        </a:lnTo>
                        <a:lnTo>
                          <a:pt x="81" y="190"/>
                        </a:lnTo>
                        <a:lnTo>
                          <a:pt x="70" y="193"/>
                        </a:lnTo>
                        <a:lnTo>
                          <a:pt x="64" y="193"/>
                        </a:lnTo>
                        <a:lnTo>
                          <a:pt x="54" y="193"/>
                        </a:lnTo>
                        <a:lnTo>
                          <a:pt x="46" y="193"/>
                        </a:lnTo>
                        <a:lnTo>
                          <a:pt x="39" y="190"/>
                        </a:lnTo>
                        <a:lnTo>
                          <a:pt x="31" y="186"/>
                        </a:lnTo>
                        <a:lnTo>
                          <a:pt x="24" y="185"/>
                        </a:lnTo>
                        <a:lnTo>
                          <a:pt x="19" y="182"/>
                        </a:lnTo>
                        <a:lnTo>
                          <a:pt x="19" y="176"/>
                        </a:lnTo>
                        <a:lnTo>
                          <a:pt x="15" y="170"/>
                        </a:lnTo>
                        <a:lnTo>
                          <a:pt x="15" y="162"/>
                        </a:lnTo>
                        <a:lnTo>
                          <a:pt x="19" y="156"/>
                        </a:lnTo>
                        <a:lnTo>
                          <a:pt x="23" y="150"/>
                        </a:lnTo>
                        <a:lnTo>
                          <a:pt x="31" y="147"/>
                        </a:lnTo>
                        <a:lnTo>
                          <a:pt x="36" y="144"/>
                        </a:lnTo>
                        <a:lnTo>
                          <a:pt x="44" y="140"/>
                        </a:lnTo>
                        <a:lnTo>
                          <a:pt x="52" y="139"/>
                        </a:lnTo>
                        <a:lnTo>
                          <a:pt x="60" y="139"/>
                        </a:lnTo>
                        <a:lnTo>
                          <a:pt x="66" y="139"/>
                        </a:lnTo>
                        <a:lnTo>
                          <a:pt x="72" y="139"/>
                        </a:lnTo>
                        <a:lnTo>
                          <a:pt x="76" y="132"/>
                        </a:lnTo>
                        <a:lnTo>
                          <a:pt x="74" y="127"/>
                        </a:lnTo>
                        <a:lnTo>
                          <a:pt x="66" y="123"/>
                        </a:lnTo>
                        <a:lnTo>
                          <a:pt x="60" y="120"/>
                        </a:lnTo>
                        <a:lnTo>
                          <a:pt x="54" y="119"/>
                        </a:lnTo>
                        <a:lnTo>
                          <a:pt x="44" y="115"/>
                        </a:lnTo>
                        <a:lnTo>
                          <a:pt x="39" y="108"/>
                        </a:lnTo>
                        <a:lnTo>
                          <a:pt x="31" y="107"/>
                        </a:lnTo>
                        <a:lnTo>
                          <a:pt x="19" y="102"/>
                        </a:lnTo>
                        <a:lnTo>
                          <a:pt x="12" y="96"/>
                        </a:lnTo>
                        <a:lnTo>
                          <a:pt x="7" y="94"/>
                        </a:lnTo>
                        <a:lnTo>
                          <a:pt x="0" y="86"/>
                        </a:lnTo>
                        <a:lnTo>
                          <a:pt x="0" y="78"/>
                        </a:lnTo>
                        <a:lnTo>
                          <a:pt x="0" y="72"/>
                        </a:lnTo>
                        <a:lnTo>
                          <a:pt x="0" y="66"/>
                        </a:lnTo>
                        <a:lnTo>
                          <a:pt x="3" y="58"/>
                        </a:lnTo>
                        <a:lnTo>
                          <a:pt x="8" y="53"/>
                        </a:lnTo>
                        <a:lnTo>
                          <a:pt x="15" y="49"/>
                        </a:lnTo>
                        <a:lnTo>
                          <a:pt x="27" y="42"/>
                        </a:lnTo>
                        <a:lnTo>
                          <a:pt x="32" y="38"/>
                        </a:lnTo>
                        <a:lnTo>
                          <a:pt x="42" y="35"/>
                        </a:lnTo>
                        <a:lnTo>
                          <a:pt x="50" y="35"/>
                        </a:lnTo>
                        <a:lnTo>
                          <a:pt x="62" y="35"/>
                        </a:lnTo>
                        <a:lnTo>
                          <a:pt x="70" y="37"/>
                        </a:lnTo>
                        <a:lnTo>
                          <a:pt x="78" y="41"/>
                        </a:lnTo>
                        <a:lnTo>
                          <a:pt x="82" y="42"/>
                        </a:lnTo>
                        <a:lnTo>
                          <a:pt x="90" y="50"/>
                        </a:lnTo>
                        <a:lnTo>
                          <a:pt x="97" y="58"/>
                        </a:lnTo>
                        <a:lnTo>
                          <a:pt x="98" y="65"/>
                        </a:lnTo>
                        <a:lnTo>
                          <a:pt x="101" y="70"/>
                        </a:lnTo>
                        <a:lnTo>
                          <a:pt x="105" y="76"/>
                        </a:lnTo>
                        <a:lnTo>
                          <a:pt x="109" y="86"/>
                        </a:lnTo>
                        <a:lnTo>
                          <a:pt x="113" y="94"/>
                        </a:lnTo>
                        <a:lnTo>
                          <a:pt x="120" y="98"/>
                        </a:lnTo>
                        <a:lnTo>
                          <a:pt x="126" y="100"/>
                        </a:lnTo>
                        <a:lnTo>
                          <a:pt x="132" y="106"/>
                        </a:lnTo>
                        <a:lnTo>
                          <a:pt x="134" y="111"/>
                        </a:lnTo>
                        <a:lnTo>
                          <a:pt x="128" y="115"/>
                        </a:lnTo>
                        <a:lnTo>
                          <a:pt x="122" y="116"/>
                        </a:lnTo>
                        <a:lnTo>
                          <a:pt x="116" y="116"/>
                        </a:lnTo>
                        <a:lnTo>
                          <a:pt x="110" y="111"/>
                        </a:lnTo>
                        <a:lnTo>
                          <a:pt x="105" y="106"/>
                        </a:lnTo>
                        <a:lnTo>
                          <a:pt x="98" y="102"/>
                        </a:lnTo>
                        <a:lnTo>
                          <a:pt x="94" y="96"/>
                        </a:lnTo>
                        <a:lnTo>
                          <a:pt x="89" y="90"/>
                        </a:lnTo>
                        <a:lnTo>
                          <a:pt x="89" y="84"/>
                        </a:lnTo>
                        <a:lnTo>
                          <a:pt x="89" y="78"/>
                        </a:lnTo>
                        <a:lnTo>
                          <a:pt x="85" y="70"/>
                        </a:lnTo>
                        <a:lnTo>
                          <a:pt x="78" y="65"/>
                        </a:lnTo>
                        <a:lnTo>
                          <a:pt x="78" y="58"/>
                        </a:lnTo>
                        <a:lnTo>
                          <a:pt x="70" y="53"/>
                        </a:lnTo>
                        <a:lnTo>
                          <a:pt x="64" y="49"/>
                        </a:lnTo>
                        <a:lnTo>
                          <a:pt x="58" y="46"/>
                        </a:lnTo>
                        <a:lnTo>
                          <a:pt x="48" y="46"/>
                        </a:lnTo>
                        <a:lnTo>
                          <a:pt x="42" y="46"/>
                        </a:lnTo>
                        <a:lnTo>
                          <a:pt x="35" y="46"/>
                        </a:lnTo>
                        <a:lnTo>
                          <a:pt x="28" y="50"/>
                        </a:lnTo>
                        <a:lnTo>
                          <a:pt x="23" y="53"/>
                        </a:lnTo>
                        <a:lnTo>
                          <a:pt x="20" y="58"/>
                        </a:lnTo>
                        <a:lnTo>
                          <a:pt x="19" y="65"/>
                        </a:lnTo>
                        <a:lnTo>
                          <a:pt x="16" y="70"/>
                        </a:lnTo>
                        <a:lnTo>
                          <a:pt x="16" y="76"/>
                        </a:lnTo>
                        <a:lnTo>
                          <a:pt x="19" y="82"/>
                        </a:lnTo>
                        <a:lnTo>
                          <a:pt x="23" y="88"/>
                        </a:lnTo>
                        <a:lnTo>
                          <a:pt x="28" y="92"/>
                        </a:lnTo>
                        <a:lnTo>
                          <a:pt x="36" y="96"/>
                        </a:lnTo>
                        <a:lnTo>
                          <a:pt x="42" y="96"/>
                        </a:lnTo>
                        <a:lnTo>
                          <a:pt x="48" y="96"/>
                        </a:lnTo>
                        <a:lnTo>
                          <a:pt x="54" y="98"/>
                        </a:lnTo>
                        <a:lnTo>
                          <a:pt x="60" y="100"/>
                        </a:lnTo>
                        <a:lnTo>
                          <a:pt x="66" y="102"/>
                        </a:lnTo>
                        <a:lnTo>
                          <a:pt x="74" y="104"/>
                        </a:lnTo>
                        <a:lnTo>
                          <a:pt x="81" y="111"/>
                        </a:lnTo>
                        <a:lnTo>
                          <a:pt x="86" y="112"/>
                        </a:lnTo>
                        <a:lnTo>
                          <a:pt x="93" y="119"/>
                        </a:lnTo>
                        <a:lnTo>
                          <a:pt x="94" y="124"/>
                        </a:lnTo>
                        <a:lnTo>
                          <a:pt x="94" y="131"/>
                        </a:lnTo>
                        <a:lnTo>
                          <a:pt x="94" y="136"/>
                        </a:lnTo>
                        <a:lnTo>
                          <a:pt x="93" y="143"/>
                        </a:lnTo>
                        <a:lnTo>
                          <a:pt x="86" y="147"/>
                        </a:lnTo>
                        <a:lnTo>
                          <a:pt x="81" y="148"/>
                        </a:lnTo>
                        <a:lnTo>
                          <a:pt x="76" y="152"/>
                        </a:lnTo>
                        <a:lnTo>
                          <a:pt x="66" y="154"/>
                        </a:lnTo>
                        <a:lnTo>
                          <a:pt x="58" y="156"/>
                        </a:lnTo>
                        <a:lnTo>
                          <a:pt x="50" y="160"/>
                        </a:lnTo>
                        <a:lnTo>
                          <a:pt x="46" y="166"/>
                        </a:lnTo>
                        <a:lnTo>
                          <a:pt x="44" y="174"/>
                        </a:lnTo>
                        <a:lnTo>
                          <a:pt x="54" y="177"/>
                        </a:lnTo>
                        <a:lnTo>
                          <a:pt x="60" y="178"/>
                        </a:lnTo>
                        <a:lnTo>
                          <a:pt x="68" y="181"/>
                        </a:lnTo>
                        <a:lnTo>
                          <a:pt x="74" y="181"/>
                        </a:lnTo>
                        <a:lnTo>
                          <a:pt x="82" y="174"/>
                        </a:lnTo>
                        <a:lnTo>
                          <a:pt x="89" y="174"/>
                        </a:lnTo>
                        <a:lnTo>
                          <a:pt x="97" y="170"/>
                        </a:lnTo>
                        <a:lnTo>
                          <a:pt x="105" y="168"/>
                        </a:lnTo>
                        <a:lnTo>
                          <a:pt x="113" y="166"/>
                        </a:lnTo>
                        <a:lnTo>
                          <a:pt x="118" y="162"/>
                        </a:lnTo>
                        <a:lnTo>
                          <a:pt x="124" y="158"/>
                        </a:lnTo>
                        <a:lnTo>
                          <a:pt x="130" y="156"/>
                        </a:lnTo>
                        <a:lnTo>
                          <a:pt x="136" y="156"/>
                        </a:lnTo>
                        <a:lnTo>
                          <a:pt x="142" y="154"/>
                        </a:lnTo>
                        <a:lnTo>
                          <a:pt x="148" y="154"/>
                        </a:lnTo>
                        <a:lnTo>
                          <a:pt x="156" y="156"/>
                        </a:lnTo>
                        <a:lnTo>
                          <a:pt x="160" y="162"/>
                        </a:lnTo>
                        <a:lnTo>
                          <a:pt x="164" y="170"/>
                        </a:lnTo>
                        <a:lnTo>
                          <a:pt x="164" y="176"/>
                        </a:lnTo>
                        <a:lnTo>
                          <a:pt x="163" y="181"/>
                        </a:lnTo>
                        <a:lnTo>
                          <a:pt x="163" y="186"/>
                        </a:lnTo>
                        <a:lnTo>
                          <a:pt x="163" y="193"/>
                        </a:lnTo>
                        <a:lnTo>
                          <a:pt x="164" y="198"/>
                        </a:lnTo>
                        <a:lnTo>
                          <a:pt x="167" y="206"/>
                        </a:lnTo>
                        <a:lnTo>
                          <a:pt x="167" y="213"/>
                        </a:lnTo>
                        <a:lnTo>
                          <a:pt x="168" y="221"/>
                        </a:lnTo>
                        <a:lnTo>
                          <a:pt x="171" y="228"/>
                        </a:lnTo>
                        <a:lnTo>
                          <a:pt x="172" y="236"/>
                        </a:lnTo>
                        <a:lnTo>
                          <a:pt x="175" y="244"/>
                        </a:lnTo>
                        <a:lnTo>
                          <a:pt x="179" y="248"/>
                        </a:lnTo>
                        <a:lnTo>
                          <a:pt x="183" y="256"/>
                        </a:lnTo>
                        <a:lnTo>
                          <a:pt x="186" y="263"/>
                        </a:lnTo>
                        <a:lnTo>
                          <a:pt x="192" y="267"/>
                        </a:lnTo>
                        <a:lnTo>
                          <a:pt x="198" y="267"/>
                        </a:lnTo>
                        <a:lnTo>
                          <a:pt x="202" y="259"/>
                        </a:lnTo>
                        <a:lnTo>
                          <a:pt x="202" y="252"/>
                        </a:lnTo>
                        <a:lnTo>
                          <a:pt x="202" y="246"/>
                        </a:lnTo>
                        <a:lnTo>
                          <a:pt x="198" y="240"/>
                        </a:lnTo>
                        <a:lnTo>
                          <a:pt x="194" y="234"/>
                        </a:lnTo>
                        <a:lnTo>
                          <a:pt x="188" y="226"/>
                        </a:lnTo>
                        <a:lnTo>
                          <a:pt x="186" y="218"/>
                        </a:lnTo>
                        <a:lnTo>
                          <a:pt x="183" y="210"/>
                        </a:lnTo>
                        <a:lnTo>
                          <a:pt x="186" y="202"/>
                        </a:lnTo>
                        <a:lnTo>
                          <a:pt x="192" y="198"/>
                        </a:lnTo>
                        <a:lnTo>
                          <a:pt x="198" y="194"/>
                        </a:lnTo>
                        <a:lnTo>
                          <a:pt x="206" y="194"/>
                        </a:lnTo>
                        <a:lnTo>
                          <a:pt x="212" y="194"/>
                        </a:lnTo>
                        <a:lnTo>
                          <a:pt x="218" y="194"/>
                        </a:lnTo>
                        <a:lnTo>
                          <a:pt x="226" y="198"/>
                        </a:lnTo>
                        <a:lnTo>
                          <a:pt x="231" y="201"/>
                        </a:lnTo>
                        <a:lnTo>
                          <a:pt x="237" y="206"/>
                        </a:lnTo>
                        <a:lnTo>
                          <a:pt x="242" y="209"/>
                        </a:lnTo>
                        <a:lnTo>
                          <a:pt x="249" y="210"/>
                        </a:lnTo>
                        <a:lnTo>
                          <a:pt x="254" y="210"/>
                        </a:lnTo>
                        <a:lnTo>
                          <a:pt x="264" y="209"/>
                        </a:lnTo>
                        <a:lnTo>
                          <a:pt x="270" y="209"/>
                        </a:lnTo>
                        <a:lnTo>
                          <a:pt x="276" y="201"/>
                        </a:lnTo>
                        <a:lnTo>
                          <a:pt x="276" y="194"/>
                        </a:lnTo>
                        <a:lnTo>
                          <a:pt x="276" y="189"/>
                        </a:lnTo>
                        <a:lnTo>
                          <a:pt x="274" y="182"/>
                        </a:lnTo>
                        <a:lnTo>
                          <a:pt x="270" y="177"/>
                        </a:lnTo>
                        <a:lnTo>
                          <a:pt x="264" y="174"/>
                        </a:lnTo>
                        <a:lnTo>
                          <a:pt x="260" y="168"/>
                        </a:lnTo>
                        <a:lnTo>
                          <a:pt x="254" y="166"/>
                        </a:lnTo>
                        <a:lnTo>
                          <a:pt x="249" y="160"/>
                        </a:lnTo>
                        <a:lnTo>
                          <a:pt x="241" y="158"/>
                        </a:lnTo>
                        <a:lnTo>
                          <a:pt x="234" y="154"/>
                        </a:lnTo>
                        <a:lnTo>
                          <a:pt x="223" y="148"/>
                        </a:lnTo>
                        <a:lnTo>
                          <a:pt x="218" y="140"/>
                        </a:lnTo>
                        <a:lnTo>
                          <a:pt x="214" y="132"/>
                        </a:lnTo>
                        <a:lnTo>
                          <a:pt x="214" y="123"/>
                        </a:lnTo>
                        <a:lnTo>
                          <a:pt x="218" y="115"/>
                        </a:lnTo>
                        <a:lnTo>
                          <a:pt x="223" y="111"/>
                        </a:lnTo>
                        <a:lnTo>
                          <a:pt x="230" y="107"/>
                        </a:lnTo>
                        <a:lnTo>
                          <a:pt x="237" y="106"/>
                        </a:lnTo>
                        <a:lnTo>
                          <a:pt x="245" y="104"/>
                        </a:lnTo>
                        <a:lnTo>
                          <a:pt x="253" y="102"/>
                        </a:lnTo>
                        <a:lnTo>
                          <a:pt x="260" y="102"/>
                        </a:lnTo>
                        <a:lnTo>
                          <a:pt x="268" y="104"/>
                        </a:lnTo>
                        <a:lnTo>
                          <a:pt x="276" y="106"/>
                        </a:lnTo>
                        <a:lnTo>
                          <a:pt x="282" y="107"/>
                        </a:lnTo>
                        <a:lnTo>
                          <a:pt x="290" y="111"/>
                        </a:lnTo>
                        <a:lnTo>
                          <a:pt x="296" y="115"/>
                        </a:lnTo>
                        <a:lnTo>
                          <a:pt x="304" y="119"/>
                        </a:lnTo>
                        <a:lnTo>
                          <a:pt x="309" y="119"/>
                        </a:lnTo>
                        <a:lnTo>
                          <a:pt x="315" y="120"/>
                        </a:lnTo>
                        <a:lnTo>
                          <a:pt x="323" y="123"/>
                        </a:lnTo>
                        <a:lnTo>
                          <a:pt x="330" y="124"/>
                        </a:lnTo>
                        <a:lnTo>
                          <a:pt x="336" y="127"/>
                        </a:lnTo>
                        <a:lnTo>
                          <a:pt x="342" y="128"/>
                        </a:lnTo>
                        <a:lnTo>
                          <a:pt x="352" y="128"/>
                        </a:lnTo>
                        <a:lnTo>
                          <a:pt x="358" y="131"/>
                        </a:lnTo>
                        <a:lnTo>
                          <a:pt x="364" y="128"/>
                        </a:lnTo>
                        <a:lnTo>
                          <a:pt x="367" y="123"/>
                        </a:lnTo>
                        <a:lnTo>
                          <a:pt x="366" y="116"/>
                        </a:lnTo>
                        <a:lnTo>
                          <a:pt x="358" y="111"/>
                        </a:lnTo>
                        <a:lnTo>
                          <a:pt x="352" y="108"/>
                        </a:lnTo>
                        <a:lnTo>
                          <a:pt x="346" y="107"/>
                        </a:lnTo>
                        <a:lnTo>
                          <a:pt x="336" y="104"/>
                        </a:lnTo>
                        <a:lnTo>
                          <a:pt x="330" y="104"/>
                        </a:lnTo>
                        <a:lnTo>
                          <a:pt x="323" y="104"/>
                        </a:lnTo>
                        <a:lnTo>
                          <a:pt x="312" y="100"/>
                        </a:lnTo>
                        <a:lnTo>
                          <a:pt x="308" y="100"/>
                        </a:lnTo>
                        <a:lnTo>
                          <a:pt x="300" y="98"/>
                        </a:lnTo>
                        <a:lnTo>
                          <a:pt x="294" y="98"/>
                        </a:lnTo>
                        <a:lnTo>
                          <a:pt x="286" y="96"/>
                        </a:lnTo>
                        <a:lnTo>
                          <a:pt x="278" y="92"/>
                        </a:lnTo>
                        <a:lnTo>
                          <a:pt x="278" y="86"/>
                        </a:lnTo>
                        <a:lnTo>
                          <a:pt x="286" y="84"/>
                        </a:lnTo>
                        <a:lnTo>
                          <a:pt x="292" y="80"/>
                        </a:lnTo>
                        <a:lnTo>
                          <a:pt x="300" y="74"/>
                        </a:lnTo>
                        <a:lnTo>
                          <a:pt x="308" y="70"/>
                        </a:lnTo>
                        <a:lnTo>
                          <a:pt x="312" y="65"/>
                        </a:lnTo>
                        <a:lnTo>
                          <a:pt x="320" y="61"/>
                        </a:lnTo>
                        <a:lnTo>
                          <a:pt x="330" y="57"/>
                        </a:lnTo>
                        <a:lnTo>
                          <a:pt x="340" y="54"/>
                        </a:lnTo>
                        <a:lnTo>
                          <a:pt x="346" y="53"/>
                        </a:lnTo>
                        <a:lnTo>
                          <a:pt x="354" y="50"/>
                        </a:lnTo>
                        <a:lnTo>
                          <a:pt x="360" y="46"/>
                        </a:lnTo>
                        <a:lnTo>
                          <a:pt x="366" y="41"/>
                        </a:lnTo>
                        <a:lnTo>
                          <a:pt x="370" y="35"/>
                        </a:lnTo>
                        <a:lnTo>
                          <a:pt x="370" y="30"/>
                        </a:lnTo>
                        <a:lnTo>
                          <a:pt x="370" y="22"/>
                        </a:lnTo>
                        <a:lnTo>
                          <a:pt x="364" y="16"/>
                        </a:lnTo>
                        <a:lnTo>
                          <a:pt x="360" y="10"/>
                        </a:lnTo>
                        <a:lnTo>
                          <a:pt x="354" y="10"/>
                        </a:lnTo>
                        <a:lnTo>
                          <a:pt x="348" y="8"/>
                        </a:lnTo>
                        <a:lnTo>
                          <a:pt x="340" y="8"/>
                        </a:lnTo>
                        <a:lnTo>
                          <a:pt x="332" y="10"/>
                        </a:lnTo>
                        <a:lnTo>
                          <a:pt x="327" y="14"/>
                        </a:lnTo>
                        <a:lnTo>
                          <a:pt x="319" y="18"/>
                        </a:lnTo>
                        <a:lnTo>
                          <a:pt x="315" y="24"/>
                        </a:lnTo>
                        <a:lnTo>
                          <a:pt x="312" y="31"/>
                        </a:lnTo>
                        <a:lnTo>
                          <a:pt x="301" y="38"/>
                        </a:lnTo>
                        <a:lnTo>
                          <a:pt x="294" y="46"/>
                        </a:lnTo>
                        <a:lnTo>
                          <a:pt x="288" y="53"/>
                        </a:lnTo>
                        <a:lnTo>
                          <a:pt x="282" y="58"/>
                        </a:lnTo>
                        <a:lnTo>
                          <a:pt x="274" y="61"/>
                        </a:lnTo>
                        <a:lnTo>
                          <a:pt x="268" y="66"/>
                        </a:lnTo>
                        <a:lnTo>
                          <a:pt x="262" y="70"/>
                        </a:lnTo>
                        <a:lnTo>
                          <a:pt x="257" y="70"/>
                        </a:lnTo>
                        <a:lnTo>
                          <a:pt x="250" y="70"/>
                        </a:lnTo>
                        <a:lnTo>
                          <a:pt x="245" y="66"/>
                        </a:lnTo>
                        <a:lnTo>
                          <a:pt x="241" y="61"/>
                        </a:lnTo>
                        <a:lnTo>
                          <a:pt x="241" y="53"/>
                        </a:lnTo>
                        <a:lnTo>
                          <a:pt x="238" y="45"/>
                        </a:lnTo>
                        <a:lnTo>
                          <a:pt x="234" y="38"/>
                        </a:lnTo>
                        <a:lnTo>
                          <a:pt x="230" y="38"/>
                        </a:lnTo>
                        <a:lnTo>
                          <a:pt x="223" y="42"/>
                        </a:lnTo>
                        <a:lnTo>
                          <a:pt x="218" y="45"/>
                        </a:lnTo>
                        <a:lnTo>
                          <a:pt x="218" y="50"/>
                        </a:lnTo>
                        <a:lnTo>
                          <a:pt x="216" y="58"/>
                        </a:lnTo>
                        <a:lnTo>
                          <a:pt x="216" y="66"/>
                        </a:lnTo>
                        <a:lnTo>
                          <a:pt x="216" y="74"/>
                        </a:lnTo>
                        <a:lnTo>
                          <a:pt x="214" y="80"/>
                        </a:lnTo>
                        <a:lnTo>
                          <a:pt x="208" y="88"/>
                        </a:lnTo>
                        <a:lnTo>
                          <a:pt x="204" y="94"/>
                        </a:lnTo>
                        <a:lnTo>
                          <a:pt x="198" y="98"/>
                        </a:lnTo>
                        <a:lnTo>
                          <a:pt x="192" y="102"/>
                        </a:lnTo>
                        <a:lnTo>
                          <a:pt x="183" y="104"/>
                        </a:lnTo>
                        <a:lnTo>
                          <a:pt x="176" y="104"/>
                        </a:lnTo>
                        <a:lnTo>
                          <a:pt x="171" y="104"/>
                        </a:lnTo>
                        <a:lnTo>
                          <a:pt x="163" y="100"/>
                        </a:lnTo>
                        <a:lnTo>
                          <a:pt x="156" y="94"/>
                        </a:lnTo>
                        <a:lnTo>
                          <a:pt x="156" y="86"/>
                        </a:lnTo>
                        <a:lnTo>
                          <a:pt x="152" y="80"/>
                        </a:lnTo>
                        <a:lnTo>
                          <a:pt x="146" y="76"/>
                        </a:lnTo>
                        <a:lnTo>
                          <a:pt x="140" y="74"/>
                        </a:lnTo>
                        <a:lnTo>
                          <a:pt x="134" y="76"/>
                        </a:lnTo>
                        <a:lnTo>
                          <a:pt x="134" y="8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" name=""/>
              <p:cNvGrpSpPr/>
              <p:nvPr/>
            </p:nvGrpSpPr>
            <p:grpSpPr>
              <a:xfrm>
                <a:off x="3020040" y="4269240"/>
                <a:ext cx="276120" cy="280440"/>
                <a:chOff x="3020040" y="4269240"/>
                <a:chExt cx="276120" cy="2804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024000" y="4272840"/>
                  <a:ext cx="266040" cy="275040"/>
                </a:xfrm>
                <a:custGeom>
                  <a:avLst/>
                  <a:gdLst/>
                  <a:ahLst/>
                  <a:rect l="l" t="t" r="r" b="b"/>
                  <a:pathLst>
                    <a:path w="588" h="638">
                      <a:moveTo>
                        <a:pt x="11" y="70"/>
                      </a:moveTo>
                      <a:lnTo>
                        <a:pt x="185" y="0"/>
                      </a:lnTo>
                      <a:lnTo>
                        <a:pt x="287" y="97"/>
                      </a:lnTo>
                      <a:lnTo>
                        <a:pt x="431" y="259"/>
                      </a:lnTo>
                      <a:lnTo>
                        <a:pt x="584" y="449"/>
                      </a:lnTo>
                      <a:lnTo>
                        <a:pt x="588" y="546"/>
                      </a:lnTo>
                      <a:lnTo>
                        <a:pt x="394" y="638"/>
                      </a:lnTo>
                      <a:lnTo>
                        <a:pt x="311" y="538"/>
                      </a:lnTo>
                      <a:lnTo>
                        <a:pt x="193" y="382"/>
                      </a:lnTo>
                      <a:lnTo>
                        <a:pt x="37" y="195"/>
                      </a:lnTo>
                      <a:lnTo>
                        <a:pt x="0" y="152"/>
                      </a:lnTo>
                      <a:lnTo>
                        <a:pt x="11" y="7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20040" y="4269240"/>
                  <a:ext cx="276120" cy="280440"/>
                </a:xfrm>
                <a:custGeom>
                  <a:avLst/>
                  <a:gdLst/>
                  <a:ahLst/>
                  <a:rect l="l" t="t" r="r" b="b"/>
                  <a:pathLst>
                    <a:path w="607" h="651">
                      <a:moveTo>
                        <a:pt x="0" y="71"/>
                      </a:moveTo>
                      <a:lnTo>
                        <a:pt x="195" y="0"/>
                      </a:lnTo>
                      <a:lnTo>
                        <a:pt x="210" y="8"/>
                      </a:lnTo>
                      <a:lnTo>
                        <a:pt x="390" y="189"/>
                      </a:lnTo>
                      <a:lnTo>
                        <a:pt x="607" y="456"/>
                      </a:lnTo>
                      <a:lnTo>
                        <a:pt x="604" y="503"/>
                      </a:lnTo>
                      <a:lnTo>
                        <a:pt x="604" y="551"/>
                      </a:lnTo>
                      <a:lnTo>
                        <a:pt x="592" y="565"/>
                      </a:lnTo>
                      <a:lnTo>
                        <a:pt x="414" y="651"/>
                      </a:lnTo>
                      <a:lnTo>
                        <a:pt x="397" y="646"/>
                      </a:lnTo>
                      <a:lnTo>
                        <a:pt x="406" y="626"/>
                      </a:lnTo>
                      <a:lnTo>
                        <a:pt x="428" y="620"/>
                      </a:lnTo>
                      <a:lnTo>
                        <a:pt x="587" y="550"/>
                      </a:lnTo>
                      <a:lnTo>
                        <a:pt x="588" y="528"/>
                      </a:lnTo>
                      <a:lnTo>
                        <a:pt x="587" y="484"/>
                      </a:lnTo>
                      <a:lnTo>
                        <a:pt x="410" y="575"/>
                      </a:lnTo>
                      <a:lnTo>
                        <a:pt x="398" y="571"/>
                      </a:lnTo>
                      <a:lnTo>
                        <a:pt x="19" y="97"/>
                      </a:lnTo>
                      <a:lnTo>
                        <a:pt x="28" y="82"/>
                      </a:lnTo>
                      <a:lnTo>
                        <a:pt x="43" y="86"/>
                      </a:lnTo>
                      <a:lnTo>
                        <a:pt x="210" y="297"/>
                      </a:lnTo>
                      <a:lnTo>
                        <a:pt x="275" y="387"/>
                      </a:lnTo>
                      <a:lnTo>
                        <a:pt x="276" y="394"/>
                      </a:lnTo>
                      <a:lnTo>
                        <a:pt x="409" y="547"/>
                      </a:lnTo>
                      <a:lnTo>
                        <a:pt x="420" y="539"/>
                      </a:lnTo>
                      <a:lnTo>
                        <a:pt x="580" y="461"/>
                      </a:lnTo>
                      <a:lnTo>
                        <a:pt x="579" y="447"/>
                      </a:lnTo>
                      <a:lnTo>
                        <a:pt x="475" y="328"/>
                      </a:lnTo>
                      <a:lnTo>
                        <a:pt x="354" y="183"/>
                      </a:lnTo>
                      <a:lnTo>
                        <a:pt x="225" y="46"/>
                      </a:lnTo>
                      <a:lnTo>
                        <a:pt x="191" y="19"/>
                      </a:lnTo>
                      <a:lnTo>
                        <a:pt x="20" y="87"/>
                      </a:lnTo>
                      <a:lnTo>
                        <a:pt x="23" y="115"/>
                      </a:lnTo>
                      <a:lnTo>
                        <a:pt x="27" y="169"/>
                      </a:lnTo>
                      <a:lnTo>
                        <a:pt x="117" y="273"/>
                      </a:lnTo>
                      <a:lnTo>
                        <a:pt x="237" y="419"/>
                      </a:lnTo>
                      <a:lnTo>
                        <a:pt x="320" y="531"/>
                      </a:lnTo>
                      <a:lnTo>
                        <a:pt x="397" y="620"/>
                      </a:lnTo>
                      <a:lnTo>
                        <a:pt x="394" y="638"/>
                      </a:lnTo>
                      <a:lnTo>
                        <a:pt x="299" y="530"/>
                      </a:lnTo>
                      <a:lnTo>
                        <a:pt x="202" y="403"/>
                      </a:lnTo>
                      <a:lnTo>
                        <a:pt x="97" y="277"/>
                      </a:lnTo>
                      <a:lnTo>
                        <a:pt x="19" y="181"/>
                      </a:lnTo>
                      <a:lnTo>
                        <a:pt x="4" y="164"/>
                      </a:lnTo>
                      <a:lnTo>
                        <a:pt x="12" y="121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058200" y="4288320"/>
                  <a:ext cx="196920" cy="240120"/>
                </a:xfrm>
                <a:custGeom>
                  <a:avLst/>
                  <a:gdLst/>
                  <a:ahLst/>
                  <a:rect l="l" t="t" r="r" b="b"/>
                  <a:pathLst>
                    <a:path w="436" h="558">
                      <a:moveTo>
                        <a:pt x="20" y="0"/>
                      </a:moveTo>
                      <a:lnTo>
                        <a:pt x="222" y="212"/>
                      </a:lnTo>
                      <a:lnTo>
                        <a:pt x="303" y="164"/>
                      </a:lnTo>
                      <a:lnTo>
                        <a:pt x="316" y="175"/>
                      </a:lnTo>
                      <a:lnTo>
                        <a:pt x="238" y="224"/>
                      </a:lnTo>
                      <a:lnTo>
                        <a:pt x="432" y="465"/>
                      </a:lnTo>
                      <a:lnTo>
                        <a:pt x="436" y="540"/>
                      </a:lnTo>
                      <a:lnTo>
                        <a:pt x="416" y="558"/>
                      </a:lnTo>
                      <a:lnTo>
                        <a:pt x="412" y="470"/>
                      </a:lnTo>
                      <a:lnTo>
                        <a:pt x="226" y="242"/>
                      </a:lnTo>
                      <a:lnTo>
                        <a:pt x="229" y="247"/>
                      </a:lnTo>
                      <a:lnTo>
                        <a:pt x="230" y="253"/>
                      </a:lnTo>
                      <a:lnTo>
                        <a:pt x="233" y="261"/>
                      </a:lnTo>
                      <a:lnTo>
                        <a:pt x="234" y="269"/>
                      </a:lnTo>
                      <a:lnTo>
                        <a:pt x="234" y="275"/>
                      </a:lnTo>
                      <a:lnTo>
                        <a:pt x="234" y="281"/>
                      </a:lnTo>
                      <a:lnTo>
                        <a:pt x="234" y="289"/>
                      </a:lnTo>
                      <a:lnTo>
                        <a:pt x="230" y="298"/>
                      </a:lnTo>
                      <a:lnTo>
                        <a:pt x="226" y="306"/>
                      </a:lnTo>
                      <a:lnTo>
                        <a:pt x="221" y="310"/>
                      </a:lnTo>
                      <a:lnTo>
                        <a:pt x="214" y="313"/>
                      </a:lnTo>
                      <a:lnTo>
                        <a:pt x="209" y="313"/>
                      </a:lnTo>
                      <a:lnTo>
                        <a:pt x="202" y="313"/>
                      </a:lnTo>
                      <a:lnTo>
                        <a:pt x="197" y="310"/>
                      </a:lnTo>
                      <a:lnTo>
                        <a:pt x="197" y="305"/>
                      </a:lnTo>
                      <a:lnTo>
                        <a:pt x="197" y="298"/>
                      </a:lnTo>
                      <a:lnTo>
                        <a:pt x="197" y="293"/>
                      </a:lnTo>
                      <a:lnTo>
                        <a:pt x="197" y="286"/>
                      </a:lnTo>
                      <a:lnTo>
                        <a:pt x="198" y="281"/>
                      </a:lnTo>
                      <a:lnTo>
                        <a:pt x="201" y="275"/>
                      </a:lnTo>
                      <a:lnTo>
                        <a:pt x="205" y="269"/>
                      </a:lnTo>
                      <a:lnTo>
                        <a:pt x="206" y="263"/>
                      </a:lnTo>
                      <a:lnTo>
                        <a:pt x="206" y="257"/>
                      </a:lnTo>
                      <a:lnTo>
                        <a:pt x="206" y="251"/>
                      </a:lnTo>
                      <a:lnTo>
                        <a:pt x="213" y="247"/>
                      </a:lnTo>
                      <a:lnTo>
                        <a:pt x="214" y="253"/>
                      </a:lnTo>
                      <a:lnTo>
                        <a:pt x="217" y="259"/>
                      </a:lnTo>
                      <a:lnTo>
                        <a:pt x="217" y="267"/>
                      </a:lnTo>
                      <a:lnTo>
                        <a:pt x="214" y="273"/>
                      </a:lnTo>
                      <a:lnTo>
                        <a:pt x="213" y="279"/>
                      </a:lnTo>
                      <a:lnTo>
                        <a:pt x="213" y="285"/>
                      </a:lnTo>
                      <a:lnTo>
                        <a:pt x="210" y="290"/>
                      </a:lnTo>
                      <a:lnTo>
                        <a:pt x="209" y="301"/>
                      </a:lnTo>
                      <a:lnTo>
                        <a:pt x="210" y="306"/>
                      </a:lnTo>
                      <a:lnTo>
                        <a:pt x="213" y="301"/>
                      </a:lnTo>
                      <a:lnTo>
                        <a:pt x="214" y="294"/>
                      </a:lnTo>
                      <a:lnTo>
                        <a:pt x="218" y="289"/>
                      </a:lnTo>
                      <a:lnTo>
                        <a:pt x="221" y="283"/>
                      </a:lnTo>
                      <a:lnTo>
                        <a:pt x="222" y="277"/>
                      </a:lnTo>
                      <a:lnTo>
                        <a:pt x="222" y="271"/>
                      </a:lnTo>
                      <a:lnTo>
                        <a:pt x="222" y="265"/>
                      </a:lnTo>
                      <a:lnTo>
                        <a:pt x="222" y="259"/>
                      </a:lnTo>
                      <a:lnTo>
                        <a:pt x="218" y="253"/>
                      </a:lnTo>
                      <a:lnTo>
                        <a:pt x="218" y="247"/>
                      </a:lnTo>
                      <a:lnTo>
                        <a:pt x="218" y="242"/>
                      </a:lnTo>
                      <a:lnTo>
                        <a:pt x="221" y="236"/>
                      </a:lnTo>
                      <a:lnTo>
                        <a:pt x="135" y="286"/>
                      </a:lnTo>
                      <a:lnTo>
                        <a:pt x="140" y="363"/>
                      </a:lnTo>
                      <a:lnTo>
                        <a:pt x="120" y="345"/>
                      </a:lnTo>
                      <a:lnTo>
                        <a:pt x="127" y="269"/>
                      </a:lnTo>
                      <a:lnTo>
                        <a:pt x="209" y="231"/>
                      </a:lnTo>
                      <a:lnTo>
                        <a:pt x="202" y="232"/>
                      </a:lnTo>
                      <a:lnTo>
                        <a:pt x="194" y="235"/>
                      </a:lnTo>
                      <a:lnTo>
                        <a:pt x="185" y="235"/>
                      </a:lnTo>
                      <a:lnTo>
                        <a:pt x="180" y="235"/>
                      </a:lnTo>
                      <a:lnTo>
                        <a:pt x="171" y="235"/>
                      </a:lnTo>
                      <a:lnTo>
                        <a:pt x="163" y="236"/>
                      </a:lnTo>
                      <a:lnTo>
                        <a:pt x="155" y="239"/>
                      </a:lnTo>
                      <a:lnTo>
                        <a:pt x="148" y="242"/>
                      </a:lnTo>
                      <a:lnTo>
                        <a:pt x="140" y="242"/>
                      </a:lnTo>
                      <a:lnTo>
                        <a:pt x="132" y="242"/>
                      </a:lnTo>
                      <a:lnTo>
                        <a:pt x="127" y="236"/>
                      </a:lnTo>
                      <a:lnTo>
                        <a:pt x="124" y="228"/>
                      </a:lnTo>
                      <a:lnTo>
                        <a:pt x="124" y="219"/>
                      </a:lnTo>
                      <a:lnTo>
                        <a:pt x="128" y="212"/>
                      </a:lnTo>
                      <a:lnTo>
                        <a:pt x="135" y="211"/>
                      </a:lnTo>
                      <a:lnTo>
                        <a:pt x="144" y="207"/>
                      </a:lnTo>
                      <a:lnTo>
                        <a:pt x="152" y="207"/>
                      </a:lnTo>
                      <a:lnTo>
                        <a:pt x="160" y="205"/>
                      </a:lnTo>
                      <a:lnTo>
                        <a:pt x="167" y="205"/>
                      </a:lnTo>
                      <a:lnTo>
                        <a:pt x="175" y="208"/>
                      </a:lnTo>
                      <a:lnTo>
                        <a:pt x="180" y="211"/>
                      </a:lnTo>
                      <a:lnTo>
                        <a:pt x="187" y="212"/>
                      </a:lnTo>
                      <a:lnTo>
                        <a:pt x="183" y="216"/>
                      </a:lnTo>
                      <a:lnTo>
                        <a:pt x="176" y="216"/>
                      </a:lnTo>
                      <a:lnTo>
                        <a:pt x="171" y="216"/>
                      </a:lnTo>
                      <a:lnTo>
                        <a:pt x="164" y="215"/>
                      </a:lnTo>
                      <a:lnTo>
                        <a:pt x="156" y="215"/>
                      </a:lnTo>
                      <a:lnTo>
                        <a:pt x="148" y="215"/>
                      </a:lnTo>
                      <a:lnTo>
                        <a:pt x="140" y="216"/>
                      </a:lnTo>
                      <a:lnTo>
                        <a:pt x="139" y="223"/>
                      </a:lnTo>
                      <a:lnTo>
                        <a:pt x="135" y="228"/>
                      </a:lnTo>
                      <a:lnTo>
                        <a:pt x="143" y="231"/>
                      </a:lnTo>
                      <a:lnTo>
                        <a:pt x="148" y="231"/>
                      </a:lnTo>
                      <a:lnTo>
                        <a:pt x="156" y="228"/>
                      </a:lnTo>
                      <a:lnTo>
                        <a:pt x="163" y="227"/>
                      </a:lnTo>
                      <a:lnTo>
                        <a:pt x="168" y="227"/>
                      </a:lnTo>
                      <a:lnTo>
                        <a:pt x="175" y="224"/>
                      </a:lnTo>
                      <a:lnTo>
                        <a:pt x="180" y="224"/>
                      </a:lnTo>
                      <a:lnTo>
                        <a:pt x="185" y="223"/>
                      </a:lnTo>
                      <a:lnTo>
                        <a:pt x="190" y="220"/>
                      </a:lnTo>
                      <a:lnTo>
                        <a:pt x="197" y="220"/>
                      </a:lnTo>
                      <a:lnTo>
                        <a:pt x="202" y="220"/>
                      </a:lnTo>
                      <a:lnTo>
                        <a:pt x="0" y="4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97600" y="4017240"/>
                <a:ext cx="506520" cy="690480"/>
                <a:chOff x="2397600" y="4017240"/>
                <a:chExt cx="506520" cy="6904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745360" y="4407840"/>
                  <a:ext cx="158760" cy="299880"/>
                </a:xfrm>
                <a:custGeom>
                  <a:avLst/>
                  <a:gdLst/>
                  <a:ahLst/>
                  <a:rect l="l" t="t" r="r" b="b"/>
                  <a:pathLst>
                    <a:path w="350" h="695">
                      <a:moveTo>
                        <a:pt x="35" y="4"/>
                      </a:moveTo>
                      <a:lnTo>
                        <a:pt x="76" y="30"/>
                      </a:lnTo>
                      <a:lnTo>
                        <a:pt x="117" y="71"/>
                      </a:lnTo>
                      <a:lnTo>
                        <a:pt x="161" y="128"/>
                      </a:lnTo>
                      <a:lnTo>
                        <a:pt x="202" y="194"/>
                      </a:lnTo>
                      <a:lnTo>
                        <a:pt x="223" y="250"/>
                      </a:lnTo>
                      <a:lnTo>
                        <a:pt x="231" y="288"/>
                      </a:lnTo>
                      <a:lnTo>
                        <a:pt x="228" y="325"/>
                      </a:lnTo>
                      <a:lnTo>
                        <a:pt x="220" y="362"/>
                      </a:lnTo>
                      <a:lnTo>
                        <a:pt x="208" y="403"/>
                      </a:lnTo>
                      <a:lnTo>
                        <a:pt x="189" y="459"/>
                      </a:lnTo>
                      <a:lnTo>
                        <a:pt x="169" y="517"/>
                      </a:lnTo>
                      <a:lnTo>
                        <a:pt x="162" y="551"/>
                      </a:lnTo>
                      <a:lnTo>
                        <a:pt x="162" y="575"/>
                      </a:lnTo>
                      <a:lnTo>
                        <a:pt x="173" y="595"/>
                      </a:lnTo>
                      <a:lnTo>
                        <a:pt x="198" y="604"/>
                      </a:lnTo>
                      <a:lnTo>
                        <a:pt x="232" y="615"/>
                      </a:lnTo>
                      <a:lnTo>
                        <a:pt x="282" y="621"/>
                      </a:lnTo>
                      <a:lnTo>
                        <a:pt x="336" y="633"/>
                      </a:lnTo>
                      <a:lnTo>
                        <a:pt x="350" y="649"/>
                      </a:lnTo>
                      <a:lnTo>
                        <a:pt x="348" y="665"/>
                      </a:lnTo>
                      <a:lnTo>
                        <a:pt x="333" y="678"/>
                      </a:lnTo>
                      <a:lnTo>
                        <a:pt x="302" y="685"/>
                      </a:lnTo>
                      <a:lnTo>
                        <a:pt x="274" y="695"/>
                      </a:lnTo>
                      <a:lnTo>
                        <a:pt x="255" y="689"/>
                      </a:lnTo>
                      <a:lnTo>
                        <a:pt x="239" y="669"/>
                      </a:lnTo>
                      <a:lnTo>
                        <a:pt x="206" y="646"/>
                      </a:lnTo>
                      <a:lnTo>
                        <a:pt x="165" y="634"/>
                      </a:lnTo>
                      <a:lnTo>
                        <a:pt x="129" y="631"/>
                      </a:lnTo>
                      <a:lnTo>
                        <a:pt x="109" y="619"/>
                      </a:lnTo>
                      <a:lnTo>
                        <a:pt x="101" y="600"/>
                      </a:lnTo>
                      <a:lnTo>
                        <a:pt x="108" y="575"/>
                      </a:lnTo>
                      <a:lnTo>
                        <a:pt x="116" y="553"/>
                      </a:lnTo>
                      <a:lnTo>
                        <a:pt x="130" y="522"/>
                      </a:lnTo>
                      <a:lnTo>
                        <a:pt x="140" y="478"/>
                      </a:lnTo>
                      <a:lnTo>
                        <a:pt x="146" y="420"/>
                      </a:lnTo>
                      <a:lnTo>
                        <a:pt x="148" y="382"/>
                      </a:lnTo>
                      <a:lnTo>
                        <a:pt x="157" y="342"/>
                      </a:lnTo>
                      <a:lnTo>
                        <a:pt x="169" y="315"/>
                      </a:lnTo>
                      <a:lnTo>
                        <a:pt x="169" y="295"/>
                      </a:lnTo>
                      <a:lnTo>
                        <a:pt x="130" y="227"/>
                      </a:lnTo>
                      <a:lnTo>
                        <a:pt x="85" y="172"/>
                      </a:lnTo>
                      <a:lnTo>
                        <a:pt x="46" y="137"/>
                      </a:lnTo>
                      <a:lnTo>
                        <a:pt x="15" y="110"/>
                      </a:lnTo>
                      <a:lnTo>
                        <a:pt x="4" y="71"/>
                      </a:lnTo>
                      <a:lnTo>
                        <a:pt x="0" y="38"/>
                      </a:lnTo>
                      <a:lnTo>
                        <a:pt x="4" y="12"/>
                      </a:lnTo>
                      <a:lnTo>
                        <a:pt x="15" y="0"/>
                      </a:lnTo>
                      <a:lnTo>
                        <a:pt x="3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656800" y="4407840"/>
                  <a:ext cx="101880" cy="299880"/>
                </a:xfrm>
                <a:custGeom>
                  <a:avLst/>
                  <a:gdLst/>
                  <a:ahLst/>
                  <a:rect l="l" t="t" r="r" b="b"/>
                  <a:pathLst>
                    <a:path w="227" h="694">
                      <a:moveTo>
                        <a:pt x="98" y="102"/>
                      </a:moveTo>
                      <a:lnTo>
                        <a:pt x="122" y="30"/>
                      </a:lnTo>
                      <a:lnTo>
                        <a:pt x="149" y="0"/>
                      </a:lnTo>
                      <a:lnTo>
                        <a:pt x="171" y="4"/>
                      </a:lnTo>
                      <a:lnTo>
                        <a:pt x="184" y="40"/>
                      </a:lnTo>
                      <a:lnTo>
                        <a:pt x="190" y="92"/>
                      </a:lnTo>
                      <a:lnTo>
                        <a:pt x="186" y="124"/>
                      </a:lnTo>
                      <a:lnTo>
                        <a:pt x="155" y="172"/>
                      </a:lnTo>
                      <a:lnTo>
                        <a:pt x="134" y="230"/>
                      </a:lnTo>
                      <a:lnTo>
                        <a:pt x="120" y="275"/>
                      </a:lnTo>
                      <a:lnTo>
                        <a:pt x="110" y="319"/>
                      </a:lnTo>
                      <a:lnTo>
                        <a:pt x="106" y="354"/>
                      </a:lnTo>
                      <a:lnTo>
                        <a:pt x="118" y="374"/>
                      </a:lnTo>
                      <a:lnTo>
                        <a:pt x="141" y="399"/>
                      </a:lnTo>
                      <a:lnTo>
                        <a:pt x="164" y="428"/>
                      </a:lnTo>
                      <a:lnTo>
                        <a:pt x="180" y="467"/>
                      </a:lnTo>
                      <a:lnTo>
                        <a:pt x="180" y="472"/>
                      </a:lnTo>
                      <a:lnTo>
                        <a:pt x="192" y="510"/>
                      </a:lnTo>
                      <a:lnTo>
                        <a:pt x="200" y="550"/>
                      </a:lnTo>
                      <a:lnTo>
                        <a:pt x="208" y="572"/>
                      </a:lnTo>
                      <a:lnTo>
                        <a:pt x="222" y="595"/>
                      </a:lnTo>
                      <a:lnTo>
                        <a:pt x="227" y="612"/>
                      </a:lnTo>
                      <a:lnTo>
                        <a:pt x="222" y="631"/>
                      </a:lnTo>
                      <a:lnTo>
                        <a:pt x="208" y="638"/>
                      </a:lnTo>
                      <a:lnTo>
                        <a:pt x="190" y="640"/>
                      </a:lnTo>
                      <a:lnTo>
                        <a:pt x="156" y="634"/>
                      </a:lnTo>
                      <a:lnTo>
                        <a:pt x="116" y="634"/>
                      </a:lnTo>
                      <a:lnTo>
                        <a:pt x="90" y="640"/>
                      </a:lnTo>
                      <a:lnTo>
                        <a:pt x="71" y="661"/>
                      </a:lnTo>
                      <a:lnTo>
                        <a:pt x="70" y="685"/>
                      </a:lnTo>
                      <a:lnTo>
                        <a:pt x="52" y="694"/>
                      </a:lnTo>
                      <a:lnTo>
                        <a:pt x="15" y="673"/>
                      </a:lnTo>
                      <a:lnTo>
                        <a:pt x="0" y="650"/>
                      </a:lnTo>
                      <a:lnTo>
                        <a:pt x="4" y="632"/>
                      </a:lnTo>
                      <a:lnTo>
                        <a:pt x="27" y="607"/>
                      </a:lnTo>
                      <a:lnTo>
                        <a:pt x="67" y="591"/>
                      </a:lnTo>
                      <a:lnTo>
                        <a:pt x="116" y="587"/>
                      </a:lnTo>
                      <a:lnTo>
                        <a:pt x="159" y="584"/>
                      </a:lnTo>
                      <a:lnTo>
                        <a:pt x="171" y="579"/>
                      </a:lnTo>
                      <a:lnTo>
                        <a:pt x="168" y="562"/>
                      </a:lnTo>
                      <a:lnTo>
                        <a:pt x="156" y="526"/>
                      </a:lnTo>
                      <a:lnTo>
                        <a:pt x="122" y="460"/>
                      </a:lnTo>
                      <a:lnTo>
                        <a:pt x="85" y="408"/>
                      </a:lnTo>
                      <a:lnTo>
                        <a:pt x="64" y="381"/>
                      </a:lnTo>
                      <a:lnTo>
                        <a:pt x="52" y="357"/>
                      </a:lnTo>
                      <a:lnTo>
                        <a:pt x="48" y="329"/>
                      </a:lnTo>
                      <a:lnTo>
                        <a:pt x="56" y="280"/>
                      </a:lnTo>
                      <a:lnTo>
                        <a:pt x="70" y="222"/>
                      </a:lnTo>
                      <a:lnTo>
                        <a:pt x="82" y="155"/>
                      </a:lnTo>
                      <a:lnTo>
                        <a:pt x="98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688120" y="4238280"/>
                  <a:ext cx="128880" cy="219960"/>
                </a:xfrm>
                <a:custGeom>
                  <a:avLst/>
                  <a:gdLst/>
                  <a:ahLst/>
                  <a:rect l="l" t="t" r="r" b="b"/>
                  <a:pathLst>
                    <a:path w="285" h="510">
                      <a:moveTo>
                        <a:pt x="32" y="15"/>
                      </a:moveTo>
                      <a:lnTo>
                        <a:pt x="65" y="0"/>
                      </a:lnTo>
                      <a:lnTo>
                        <a:pt x="99" y="0"/>
                      </a:lnTo>
                      <a:lnTo>
                        <a:pt x="135" y="8"/>
                      </a:lnTo>
                      <a:lnTo>
                        <a:pt x="169" y="26"/>
                      </a:lnTo>
                      <a:lnTo>
                        <a:pt x="200" y="56"/>
                      </a:lnTo>
                      <a:lnTo>
                        <a:pt x="233" y="104"/>
                      </a:lnTo>
                      <a:lnTo>
                        <a:pt x="259" y="154"/>
                      </a:lnTo>
                      <a:lnTo>
                        <a:pt x="276" y="203"/>
                      </a:lnTo>
                      <a:lnTo>
                        <a:pt x="285" y="238"/>
                      </a:lnTo>
                      <a:lnTo>
                        <a:pt x="285" y="284"/>
                      </a:lnTo>
                      <a:lnTo>
                        <a:pt x="283" y="331"/>
                      </a:lnTo>
                      <a:lnTo>
                        <a:pt x="279" y="363"/>
                      </a:lnTo>
                      <a:lnTo>
                        <a:pt x="268" y="398"/>
                      </a:lnTo>
                      <a:lnTo>
                        <a:pt x="252" y="433"/>
                      </a:lnTo>
                      <a:lnTo>
                        <a:pt x="233" y="460"/>
                      </a:lnTo>
                      <a:lnTo>
                        <a:pt x="208" y="482"/>
                      </a:lnTo>
                      <a:lnTo>
                        <a:pt x="171" y="499"/>
                      </a:lnTo>
                      <a:lnTo>
                        <a:pt x="135" y="510"/>
                      </a:lnTo>
                      <a:lnTo>
                        <a:pt x="99" y="510"/>
                      </a:lnTo>
                      <a:lnTo>
                        <a:pt x="60" y="491"/>
                      </a:lnTo>
                      <a:lnTo>
                        <a:pt x="36" y="474"/>
                      </a:lnTo>
                      <a:lnTo>
                        <a:pt x="21" y="448"/>
                      </a:lnTo>
                      <a:lnTo>
                        <a:pt x="20" y="412"/>
                      </a:lnTo>
                      <a:lnTo>
                        <a:pt x="25" y="382"/>
                      </a:lnTo>
                      <a:lnTo>
                        <a:pt x="41" y="354"/>
                      </a:lnTo>
                      <a:lnTo>
                        <a:pt x="57" y="327"/>
                      </a:lnTo>
                      <a:lnTo>
                        <a:pt x="64" y="306"/>
                      </a:lnTo>
                      <a:lnTo>
                        <a:pt x="64" y="277"/>
                      </a:lnTo>
                      <a:lnTo>
                        <a:pt x="52" y="248"/>
                      </a:lnTo>
                      <a:lnTo>
                        <a:pt x="36" y="218"/>
                      </a:lnTo>
                      <a:lnTo>
                        <a:pt x="16" y="183"/>
                      </a:lnTo>
                      <a:lnTo>
                        <a:pt x="5" y="148"/>
                      </a:lnTo>
                      <a:lnTo>
                        <a:pt x="0" y="108"/>
                      </a:lnTo>
                      <a:lnTo>
                        <a:pt x="0" y="76"/>
                      </a:lnTo>
                      <a:lnTo>
                        <a:pt x="8" y="45"/>
                      </a:lnTo>
                      <a:lnTo>
                        <a:pt x="20" y="31"/>
                      </a:lnTo>
                      <a:lnTo>
                        <a:pt x="3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397600" y="4229280"/>
                  <a:ext cx="332640" cy="115200"/>
                </a:xfrm>
                <a:custGeom>
                  <a:avLst/>
                  <a:gdLst/>
                  <a:ahLst/>
                  <a:rect l="l" t="t" r="r" b="b"/>
                  <a:pathLst>
                    <a:path w="734" h="267">
                      <a:moveTo>
                        <a:pt x="601" y="132"/>
                      </a:moveTo>
                      <a:lnTo>
                        <a:pt x="635" y="85"/>
                      </a:lnTo>
                      <a:lnTo>
                        <a:pt x="661" y="54"/>
                      </a:lnTo>
                      <a:lnTo>
                        <a:pt x="699" y="45"/>
                      </a:lnTo>
                      <a:lnTo>
                        <a:pt x="693" y="45"/>
                      </a:lnTo>
                      <a:lnTo>
                        <a:pt x="728" y="62"/>
                      </a:lnTo>
                      <a:lnTo>
                        <a:pt x="734" y="98"/>
                      </a:lnTo>
                      <a:lnTo>
                        <a:pt x="723" y="147"/>
                      </a:lnTo>
                      <a:lnTo>
                        <a:pt x="716" y="151"/>
                      </a:lnTo>
                      <a:lnTo>
                        <a:pt x="677" y="177"/>
                      </a:lnTo>
                      <a:lnTo>
                        <a:pt x="611" y="222"/>
                      </a:lnTo>
                      <a:lnTo>
                        <a:pt x="547" y="259"/>
                      </a:lnTo>
                      <a:lnTo>
                        <a:pt x="541" y="261"/>
                      </a:lnTo>
                      <a:lnTo>
                        <a:pt x="512" y="265"/>
                      </a:lnTo>
                      <a:lnTo>
                        <a:pt x="505" y="267"/>
                      </a:lnTo>
                      <a:lnTo>
                        <a:pt x="471" y="255"/>
                      </a:lnTo>
                      <a:lnTo>
                        <a:pt x="427" y="237"/>
                      </a:lnTo>
                      <a:lnTo>
                        <a:pt x="389" y="202"/>
                      </a:lnTo>
                      <a:lnTo>
                        <a:pt x="349" y="173"/>
                      </a:lnTo>
                      <a:lnTo>
                        <a:pt x="313" y="159"/>
                      </a:lnTo>
                      <a:lnTo>
                        <a:pt x="263" y="143"/>
                      </a:lnTo>
                      <a:lnTo>
                        <a:pt x="225" y="132"/>
                      </a:lnTo>
                      <a:lnTo>
                        <a:pt x="208" y="127"/>
                      </a:lnTo>
                      <a:lnTo>
                        <a:pt x="176" y="124"/>
                      </a:lnTo>
                      <a:lnTo>
                        <a:pt x="143" y="132"/>
                      </a:lnTo>
                      <a:lnTo>
                        <a:pt x="111" y="155"/>
                      </a:lnTo>
                      <a:lnTo>
                        <a:pt x="86" y="194"/>
                      </a:lnTo>
                      <a:lnTo>
                        <a:pt x="60" y="205"/>
                      </a:lnTo>
                      <a:lnTo>
                        <a:pt x="37" y="193"/>
                      </a:lnTo>
                      <a:lnTo>
                        <a:pt x="40" y="175"/>
                      </a:lnTo>
                      <a:lnTo>
                        <a:pt x="60" y="155"/>
                      </a:lnTo>
                      <a:lnTo>
                        <a:pt x="88" y="139"/>
                      </a:lnTo>
                      <a:lnTo>
                        <a:pt x="103" y="127"/>
                      </a:lnTo>
                      <a:lnTo>
                        <a:pt x="106" y="116"/>
                      </a:lnTo>
                      <a:lnTo>
                        <a:pt x="92" y="109"/>
                      </a:lnTo>
                      <a:lnTo>
                        <a:pt x="52" y="124"/>
                      </a:lnTo>
                      <a:lnTo>
                        <a:pt x="24" y="132"/>
                      </a:lnTo>
                      <a:lnTo>
                        <a:pt x="18" y="132"/>
                      </a:lnTo>
                      <a:lnTo>
                        <a:pt x="2" y="120"/>
                      </a:lnTo>
                      <a:lnTo>
                        <a:pt x="0" y="107"/>
                      </a:lnTo>
                      <a:lnTo>
                        <a:pt x="8" y="93"/>
                      </a:lnTo>
                      <a:lnTo>
                        <a:pt x="29" y="82"/>
                      </a:lnTo>
                      <a:lnTo>
                        <a:pt x="65" y="81"/>
                      </a:lnTo>
                      <a:lnTo>
                        <a:pt x="111" y="82"/>
                      </a:lnTo>
                      <a:lnTo>
                        <a:pt x="135" y="81"/>
                      </a:lnTo>
                      <a:lnTo>
                        <a:pt x="131" y="70"/>
                      </a:lnTo>
                      <a:lnTo>
                        <a:pt x="123" y="53"/>
                      </a:lnTo>
                      <a:lnTo>
                        <a:pt x="122" y="24"/>
                      </a:lnTo>
                      <a:lnTo>
                        <a:pt x="135" y="3"/>
                      </a:lnTo>
                      <a:lnTo>
                        <a:pt x="151" y="0"/>
                      </a:lnTo>
                      <a:lnTo>
                        <a:pt x="168" y="11"/>
                      </a:lnTo>
                      <a:lnTo>
                        <a:pt x="172" y="28"/>
                      </a:lnTo>
                      <a:lnTo>
                        <a:pt x="168" y="50"/>
                      </a:lnTo>
                      <a:lnTo>
                        <a:pt x="169" y="77"/>
                      </a:lnTo>
                      <a:lnTo>
                        <a:pt x="180" y="90"/>
                      </a:lnTo>
                      <a:lnTo>
                        <a:pt x="209" y="98"/>
                      </a:lnTo>
                      <a:lnTo>
                        <a:pt x="251" y="101"/>
                      </a:lnTo>
                      <a:lnTo>
                        <a:pt x="310" y="109"/>
                      </a:lnTo>
                      <a:lnTo>
                        <a:pt x="349" y="123"/>
                      </a:lnTo>
                      <a:lnTo>
                        <a:pt x="393" y="147"/>
                      </a:lnTo>
                      <a:lnTo>
                        <a:pt x="427" y="169"/>
                      </a:lnTo>
                      <a:lnTo>
                        <a:pt x="451" y="187"/>
                      </a:lnTo>
                      <a:lnTo>
                        <a:pt x="481" y="209"/>
                      </a:lnTo>
                      <a:lnTo>
                        <a:pt x="501" y="213"/>
                      </a:lnTo>
                      <a:lnTo>
                        <a:pt x="525" y="210"/>
                      </a:lnTo>
                      <a:lnTo>
                        <a:pt x="553" y="198"/>
                      </a:lnTo>
                      <a:lnTo>
                        <a:pt x="579" y="169"/>
                      </a:lnTo>
                      <a:lnTo>
                        <a:pt x="601" y="1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624400" y="4107600"/>
                  <a:ext cx="154800" cy="118800"/>
                </a:xfrm>
                <a:custGeom>
                  <a:avLst/>
                  <a:gdLst/>
                  <a:ahLst/>
                  <a:rect l="l" t="t" r="r" b="b"/>
                  <a:pathLst>
                    <a:path w="342" h="278">
                      <a:moveTo>
                        <a:pt x="217" y="83"/>
                      </a:moveTo>
                      <a:lnTo>
                        <a:pt x="192" y="49"/>
                      </a:lnTo>
                      <a:lnTo>
                        <a:pt x="164" y="28"/>
                      </a:lnTo>
                      <a:lnTo>
                        <a:pt x="140" y="13"/>
                      </a:lnTo>
                      <a:lnTo>
                        <a:pt x="110" y="1"/>
                      </a:lnTo>
                      <a:lnTo>
                        <a:pt x="78" y="0"/>
                      </a:lnTo>
                      <a:lnTo>
                        <a:pt x="50" y="9"/>
                      </a:lnTo>
                      <a:lnTo>
                        <a:pt x="26" y="24"/>
                      </a:lnTo>
                      <a:lnTo>
                        <a:pt x="8" y="47"/>
                      </a:lnTo>
                      <a:lnTo>
                        <a:pt x="0" y="77"/>
                      </a:lnTo>
                      <a:lnTo>
                        <a:pt x="0" y="111"/>
                      </a:lnTo>
                      <a:lnTo>
                        <a:pt x="11" y="153"/>
                      </a:lnTo>
                      <a:lnTo>
                        <a:pt x="28" y="192"/>
                      </a:lnTo>
                      <a:lnTo>
                        <a:pt x="52" y="221"/>
                      </a:lnTo>
                      <a:lnTo>
                        <a:pt x="85" y="251"/>
                      </a:lnTo>
                      <a:lnTo>
                        <a:pt x="110" y="271"/>
                      </a:lnTo>
                      <a:lnTo>
                        <a:pt x="143" y="276"/>
                      </a:lnTo>
                      <a:lnTo>
                        <a:pt x="172" y="278"/>
                      </a:lnTo>
                      <a:lnTo>
                        <a:pt x="202" y="268"/>
                      </a:lnTo>
                      <a:lnTo>
                        <a:pt x="221" y="255"/>
                      </a:lnTo>
                      <a:lnTo>
                        <a:pt x="237" y="233"/>
                      </a:lnTo>
                      <a:lnTo>
                        <a:pt x="246" y="201"/>
                      </a:lnTo>
                      <a:lnTo>
                        <a:pt x="244" y="161"/>
                      </a:lnTo>
                      <a:lnTo>
                        <a:pt x="237" y="135"/>
                      </a:lnTo>
                      <a:lnTo>
                        <a:pt x="238" y="110"/>
                      </a:lnTo>
                      <a:lnTo>
                        <a:pt x="246" y="98"/>
                      </a:lnTo>
                      <a:lnTo>
                        <a:pt x="280" y="81"/>
                      </a:lnTo>
                      <a:lnTo>
                        <a:pt x="316" y="67"/>
                      </a:lnTo>
                      <a:lnTo>
                        <a:pt x="334" y="55"/>
                      </a:lnTo>
                      <a:lnTo>
                        <a:pt x="342" y="36"/>
                      </a:lnTo>
                      <a:lnTo>
                        <a:pt x="336" y="20"/>
                      </a:lnTo>
                      <a:lnTo>
                        <a:pt x="320" y="16"/>
                      </a:lnTo>
                      <a:lnTo>
                        <a:pt x="288" y="25"/>
                      </a:lnTo>
                      <a:lnTo>
                        <a:pt x="272" y="45"/>
                      </a:lnTo>
                      <a:lnTo>
                        <a:pt x="250" y="59"/>
                      </a:lnTo>
                      <a:lnTo>
                        <a:pt x="226" y="75"/>
                      </a:lnTo>
                      <a:lnTo>
                        <a:pt x="217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23400" y="4017240"/>
                  <a:ext cx="177840" cy="257400"/>
                </a:xfrm>
                <a:custGeom>
                  <a:avLst/>
                  <a:gdLst/>
                  <a:ahLst/>
                  <a:rect l="l" t="t" r="r" b="b"/>
                  <a:pathLst>
                    <a:path w="394" h="598">
                      <a:moveTo>
                        <a:pt x="143" y="527"/>
                      </a:moveTo>
                      <a:lnTo>
                        <a:pt x="73" y="516"/>
                      </a:lnTo>
                      <a:lnTo>
                        <a:pt x="32" y="516"/>
                      </a:lnTo>
                      <a:lnTo>
                        <a:pt x="1" y="529"/>
                      </a:lnTo>
                      <a:lnTo>
                        <a:pt x="0" y="561"/>
                      </a:lnTo>
                      <a:lnTo>
                        <a:pt x="1" y="567"/>
                      </a:lnTo>
                      <a:lnTo>
                        <a:pt x="29" y="592"/>
                      </a:lnTo>
                      <a:lnTo>
                        <a:pt x="79" y="596"/>
                      </a:lnTo>
                      <a:lnTo>
                        <a:pt x="87" y="598"/>
                      </a:lnTo>
                      <a:lnTo>
                        <a:pt x="139" y="588"/>
                      </a:lnTo>
                      <a:lnTo>
                        <a:pt x="214" y="588"/>
                      </a:lnTo>
                      <a:lnTo>
                        <a:pt x="268" y="587"/>
                      </a:lnTo>
                      <a:lnTo>
                        <a:pt x="281" y="579"/>
                      </a:lnTo>
                      <a:lnTo>
                        <a:pt x="296" y="561"/>
                      </a:lnTo>
                      <a:lnTo>
                        <a:pt x="296" y="555"/>
                      </a:lnTo>
                      <a:lnTo>
                        <a:pt x="300" y="525"/>
                      </a:lnTo>
                      <a:lnTo>
                        <a:pt x="289" y="463"/>
                      </a:lnTo>
                      <a:lnTo>
                        <a:pt x="284" y="407"/>
                      </a:lnTo>
                      <a:lnTo>
                        <a:pt x="277" y="344"/>
                      </a:lnTo>
                      <a:lnTo>
                        <a:pt x="274" y="247"/>
                      </a:lnTo>
                      <a:lnTo>
                        <a:pt x="276" y="189"/>
                      </a:lnTo>
                      <a:lnTo>
                        <a:pt x="289" y="157"/>
                      </a:lnTo>
                      <a:lnTo>
                        <a:pt x="312" y="137"/>
                      </a:lnTo>
                      <a:lnTo>
                        <a:pt x="342" y="118"/>
                      </a:lnTo>
                      <a:lnTo>
                        <a:pt x="374" y="98"/>
                      </a:lnTo>
                      <a:lnTo>
                        <a:pt x="390" y="71"/>
                      </a:lnTo>
                      <a:lnTo>
                        <a:pt x="394" y="44"/>
                      </a:lnTo>
                      <a:lnTo>
                        <a:pt x="387" y="16"/>
                      </a:lnTo>
                      <a:lnTo>
                        <a:pt x="374" y="0"/>
                      </a:lnTo>
                      <a:lnTo>
                        <a:pt x="354" y="1"/>
                      </a:lnTo>
                      <a:lnTo>
                        <a:pt x="344" y="20"/>
                      </a:lnTo>
                      <a:lnTo>
                        <a:pt x="351" y="44"/>
                      </a:lnTo>
                      <a:lnTo>
                        <a:pt x="340" y="69"/>
                      </a:lnTo>
                      <a:lnTo>
                        <a:pt x="313" y="85"/>
                      </a:lnTo>
                      <a:lnTo>
                        <a:pt x="289" y="95"/>
                      </a:lnTo>
                      <a:lnTo>
                        <a:pt x="268" y="91"/>
                      </a:lnTo>
                      <a:lnTo>
                        <a:pt x="256" y="69"/>
                      </a:lnTo>
                      <a:lnTo>
                        <a:pt x="237" y="61"/>
                      </a:lnTo>
                      <a:lnTo>
                        <a:pt x="222" y="77"/>
                      </a:lnTo>
                      <a:lnTo>
                        <a:pt x="223" y="102"/>
                      </a:lnTo>
                      <a:lnTo>
                        <a:pt x="254" y="130"/>
                      </a:lnTo>
                      <a:lnTo>
                        <a:pt x="252" y="159"/>
                      </a:lnTo>
                      <a:lnTo>
                        <a:pt x="240" y="208"/>
                      </a:lnTo>
                      <a:lnTo>
                        <a:pt x="242" y="262"/>
                      </a:lnTo>
                      <a:lnTo>
                        <a:pt x="242" y="267"/>
                      </a:lnTo>
                      <a:lnTo>
                        <a:pt x="237" y="337"/>
                      </a:lnTo>
                      <a:lnTo>
                        <a:pt x="237" y="341"/>
                      </a:lnTo>
                      <a:lnTo>
                        <a:pt x="238" y="463"/>
                      </a:lnTo>
                      <a:lnTo>
                        <a:pt x="237" y="516"/>
                      </a:lnTo>
                      <a:lnTo>
                        <a:pt x="235" y="521"/>
                      </a:lnTo>
                      <a:lnTo>
                        <a:pt x="222" y="533"/>
                      </a:lnTo>
                      <a:lnTo>
                        <a:pt x="197" y="537"/>
                      </a:lnTo>
                      <a:lnTo>
                        <a:pt x="143" y="5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873520" y="4033800"/>
                <a:ext cx="52920" cy="147240"/>
              </a:xfrm>
              <a:custGeom>
                <a:avLst/>
                <a:gdLst/>
                <a:ahLst/>
                <a:rect l="l" t="t" r="r" b="b"/>
                <a:pathLst>
                  <a:path w="117" h="342">
                    <a:moveTo>
                      <a:pt x="94" y="342"/>
                    </a:moveTo>
                    <a:lnTo>
                      <a:pt x="31" y="178"/>
                    </a:lnTo>
                    <a:lnTo>
                      <a:pt x="8" y="105"/>
                    </a:lnTo>
                    <a:lnTo>
                      <a:pt x="0" y="42"/>
                    </a:lnTo>
                    <a:lnTo>
                      <a:pt x="32" y="0"/>
                    </a:lnTo>
                    <a:lnTo>
                      <a:pt x="78" y="35"/>
                    </a:lnTo>
                    <a:lnTo>
                      <a:pt x="98" y="84"/>
                    </a:lnTo>
                    <a:lnTo>
                      <a:pt x="117" y="164"/>
                    </a:lnTo>
                    <a:lnTo>
                      <a:pt x="113" y="268"/>
                    </a:lnTo>
                    <a:lnTo>
                      <a:pt x="94" y="342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6160" y="4029840"/>
                <a:ext cx="149400" cy="372240"/>
              </a:xfrm>
              <a:custGeom>
                <a:avLst/>
                <a:gdLst/>
                <a:ahLst/>
                <a:rect l="l" t="t" r="r" b="b"/>
                <a:pathLst>
                  <a:path w="331" h="865">
                    <a:moveTo>
                      <a:pt x="85" y="15"/>
                    </a:moveTo>
                    <a:lnTo>
                      <a:pt x="96" y="16"/>
                    </a:lnTo>
                    <a:lnTo>
                      <a:pt x="52" y="0"/>
                    </a:lnTo>
                    <a:lnTo>
                      <a:pt x="34" y="3"/>
                    </a:lnTo>
                    <a:lnTo>
                      <a:pt x="14" y="15"/>
                    </a:lnTo>
                    <a:lnTo>
                      <a:pt x="4" y="50"/>
                    </a:lnTo>
                    <a:lnTo>
                      <a:pt x="0" y="90"/>
                    </a:lnTo>
                    <a:lnTo>
                      <a:pt x="14" y="171"/>
                    </a:lnTo>
                    <a:lnTo>
                      <a:pt x="27" y="234"/>
                    </a:lnTo>
                    <a:lnTo>
                      <a:pt x="44" y="335"/>
                    </a:lnTo>
                    <a:lnTo>
                      <a:pt x="64" y="460"/>
                    </a:lnTo>
                    <a:lnTo>
                      <a:pt x="80" y="558"/>
                    </a:lnTo>
                    <a:lnTo>
                      <a:pt x="96" y="647"/>
                    </a:lnTo>
                    <a:lnTo>
                      <a:pt x="112" y="732"/>
                    </a:lnTo>
                    <a:lnTo>
                      <a:pt x="126" y="803"/>
                    </a:lnTo>
                    <a:lnTo>
                      <a:pt x="290" y="865"/>
                    </a:lnTo>
                    <a:lnTo>
                      <a:pt x="310" y="773"/>
                    </a:lnTo>
                    <a:lnTo>
                      <a:pt x="331" y="698"/>
                    </a:lnTo>
                    <a:lnTo>
                      <a:pt x="268" y="628"/>
                    </a:lnTo>
                    <a:lnTo>
                      <a:pt x="214" y="524"/>
                    </a:lnTo>
                    <a:lnTo>
                      <a:pt x="154" y="372"/>
                    </a:lnTo>
                    <a:lnTo>
                      <a:pt x="104" y="235"/>
                    </a:lnTo>
                    <a:lnTo>
                      <a:pt x="72" y="134"/>
                    </a:lnTo>
                    <a:lnTo>
                      <a:pt x="62" y="81"/>
                    </a:lnTo>
                    <a:lnTo>
                      <a:pt x="74" y="40"/>
                    </a:lnTo>
                    <a:lnTo>
                      <a:pt x="100" y="15"/>
                    </a:lnTo>
                    <a:lnTo>
                      <a:pt x="85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366280" y="4256640"/>
                <a:ext cx="161640" cy="377280"/>
              </a:xfrm>
              <a:custGeom>
                <a:avLst/>
                <a:gdLst/>
                <a:ahLst/>
                <a:rect l="l" t="t" r="r" b="b"/>
                <a:pathLst>
                  <a:path w="358" h="878">
                    <a:moveTo>
                      <a:pt x="40" y="572"/>
                    </a:moveTo>
                    <a:lnTo>
                      <a:pt x="50" y="531"/>
                    </a:lnTo>
                    <a:lnTo>
                      <a:pt x="45" y="468"/>
                    </a:lnTo>
                    <a:lnTo>
                      <a:pt x="50" y="420"/>
                    </a:lnTo>
                    <a:lnTo>
                      <a:pt x="65" y="387"/>
                    </a:lnTo>
                    <a:lnTo>
                      <a:pt x="62" y="332"/>
                    </a:lnTo>
                    <a:lnTo>
                      <a:pt x="85" y="272"/>
                    </a:lnTo>
                    <a:lnTo>
                      <a:pt x="78" y="250"/>
                    </a:lnTo>
                    <a:lnTo>
                      <a:pt x="58" y="192"/>
                    </a:lnTo>
                    <a:lnTo>
                      <a:pt x="61" y="172"/>
                    </a:lnTo>
                    <a:lnTo>
                      <a:pt x="77" y="137"/>
                    </a:lnTo>
                    <a:lnTo>
                      <a:pt x="104" y="82"/>
                    </a:lnTo>
                    <a:lnTo>
                      <a:pt x="128" y="132"/>
                    </a:lnTo>
                    <a:lnTo>
                      <a:pt x="155" y="210"/>
                    </a:lnTo>
                    <a:lnTo>
                      <a:pt x="160" y="326"/>
                    </a:lnTo>
                    <a:lnTo>
                      <a:pt x="166" y="430"/>
                    </a:lnTo>
                    <a:lnTo>
                      <a:pt x="163" y="502"/>
                    </a:lnTo>
                    <a:lnTo>
                      <a:pt x="155" y="576"/>
                    </a:lnTo>
                    <a:lnTo>
                      <a:pt x="143" y="666"/>
                    </a:lnTo>
                    <a:lnTo>
                      <a:pt x="133" y="736"/>
                    </a:lnTo>
                    <a:lnTo>
                      <a:pt x="144" y="752"/>
                    </a:lnTo>
                    <a:lnTo>
                      <a:pt x="151" y="756"/>
                    </a:lnTo>
                    <a:lnTo>
                      <a:pt x="274" y="878"/>
                    </a:lnTo>
                    <a:lnTo>
                      <a:pt x="358" y="743"/>
                    </a:lnTo>
                    <a:lnTo>
                      <a:pt x="318" y="616"/>
                    </a:lnTo>
                    <a:lnTo>
                      <a:pt x="285" y="452"/>
                    </a:lnTo>
                    <a:lnTo>
                      <a:pt x="248" y="264"/>
                    </a:lnTo>
                    <a:lnTo>
                      <a:pt x="207" y="96"/>
                    </a:lnTo>
                    <a:lnTo>
                      <a:pt x="186" y="28"/>
                    </a:lnTo>
                    <a:lnTo>
                      <a:pt x="166" y="3"/>
                    </a:lnTo>
                    <a:lnTo>
                      <a:pt x="132" y="0"/>
                    </a:lnTo>
                    <a:lnTo>
                      <a:pt x="100" y="11"/>
                    </a:lnTo>
                    <a:lnTo>
                      <a:pt x="90" y="46"/>
                    </a:lnTo>
                    <a:lnTo>
                      <a:pt x="77" y="67"/>
                    </a:lnTo>
                    <a:lnTo>
                      <a:pt x="53" y="108"/>
                    </a:lnTo>
                    <a:lnTo>
                      <a:pt x="42" y="136"/>
                    </a:lnTo>
                    <a:lnTo>
                      <a:pt x="45" y="192"/>
                    </a:lnTo>
                    <a:lnTo>
                      <a:pt x="53" y="242"/>
                    </a:lnTo>
                    <a:lnTo>
                      <a:pt x="50" y="264"/>
                    </a:lnTo>
                    <a:lnTo>
                      <a:pt x="42" y="289"/>
                    </a:lnTo>
                    <a:lnTo>
                      <a:pt x="38" y="313"/>
                    </a:lnTo>
                    <a:lnTo>
                      <a:pt x="57" y="360"/>
                    </a:lnTo>
                    <a:lnTo>
                      <a:pt x="61" y="382"/>
                    </a:lnTo>
                    <a:lnTo>
                      <a:pt x="42" y="404"/>
                    </a:lnTo>
                    <a:lnTo>
                      <a:pt x="12" y="440"/>
                    </a:lnTo>
                    <a:lnTo>
                      <a:pt x="4" y="473"/>
                    </a:lnTo>
                    <a:lnTo>
                      <a:pt x="0" y="512"/>
                    </a:lnTo>
                    <a:lnTo>
                      <a:pt x="19" y="546"/>
                    </a:lnTo>
                    <a:lnTo>
                      <a:pt x="40" y="572"/>
                    </a:lnTo>
                    <a:close/>
                  </a:path>
                </a:pathLst>
              </a:cu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142440" y="4183920"/>
                <a:ext cx="334080" cy="475920"/>
                <a:chOff x="3142440" y="4183920"/>
                <a:chExt cx="334080" cy="4759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78960" y="4424400"/>
                  <a:ext cx="97560" cy="235440"/>
                </a:xfrm>
                <a:custGeom>
                  <a:avLst/>
                  <a:gdLst/>
                  <a:ahLst/>
                  <a:rect l="l" t="t" r="r" b="b"/>
                  <a:pathLst>
                    <a:path w="216" h="546">
                      <a:moveTo>
                        <a:pt x="40" y="4"/>
                      </a:moveTo>
                      <a:lnTo>
                        <a:pt x="68" y="24"/>
                      </a:lnTo>
                      <a:lnTo>
                        <a:pt x="86" y="50"/>
                      </a:lnTo>
                      <a:lnTo>
                        <a:pt x="102" y="98"/>
                      </a:lnTo>
                      <a:lnTo>
                        <a:pt x="114" y="152"/>
                      </a:lnTo>
                      <a:lnTo>
                        <a:pt x="118" y="206"/>
                      </a:lnTo>
                      <a:lnTo>
                        <a:pt x="114" y="259"/>
                      </a:lnTo>
                      <a:lnTo>
                        <a:pt x="106" y="322"/>
                      </a:lnTo>
                      <a:lnTo>
                        <a:pt x="98" y="381"/>
                      </a:lnTo>
                      <a:lnTo>
                        <a:pt x="98" y="411"/>
                      </a:lnTo>
                      <a:lnTo>
                        <a:pt x="102" y="431"/>
                      </a:lnTo>
                      <a:lnTo>
                        <a:pt x="105" y="437"/>
                      </a:lnTo>
                      <a:lnTo>
                        <a:pt x="134" y="460"/>
                      </a:lnTo>
                      <a:lnTo>
                        <a:pt x="195" y="499"/>
                      </a:lnTo>
                      <a:lnTo>
                        <a:pt x="212" y="513"/>
                      </a:lnTo>
                      <a:lnTo>
                        <a:pt x="216" y="526"/>
                      </a:lnTo>
                      <a:lnTo>
                        <a:pt x="202" y="538"/>
                      </a:lnTo>
                      <a:lnTo>
                        <a:pt x="148" y="546"/>
                      </a:lnTo>
                      <a:lnTo>
                        <a:pt x="134" y="533"/>
                      </a:lnTo>
                      <a:lnTo>
                        <a:pt x="126" y="513"/>
                      </a:lnTo>
                      <a:lnTo>
                        <a:pt x="102" y="484"/>
                      </a:lnTo>
                      <a:lnTo>
                        <a:pt x="77" y="468"/>
                      </a:lnTo>
                      <a:lnTo>
                        <a:pt x="64" y="456"/>
                      </a:lnTo>
                      <a:lnTo>
                        <a:pt x="60" y="435"/>
                      </a:lnTo>
                      <a:lnTo>
                        <a:pt x="62" y="413"/>
                      </a:lnTo>
                      <a:lnTo>
                        <a:pt x="68" y="390"/>
                      </a:lnTo>
                      <a:lnTo>
                        <a:pt x="73" y="351"/>
                      </a:lnTo>
                      <a:lnTo>
                        <a:pt x="66" y="303"/>
                      </a:lnTo>
                      <a:lnTo>
                        <a:pt x="64" y="267"/>
                      </a:lnTo>
                      <a:lnTo>
                        <a:pt x="66" y="230"/>
                      </a:lnTo>
                      <a:lnTo>
                        <a:pt x="60" y="187"/>
                      </a:lnTo>
                      <a:lnTo>
                        <a:pt x="48" y="136"/>
                      </a:lnTo>
                      <a:lnTo>
                        <a:pt x="28" y="97"/>
                      </a:lnTo>
                      <a:lnTo>
                        <a:pt x="8" y="69"/>
                      </a:lnTo>
                      <a:lnTo>
                        <a:pt x="0" y="44"/>
                      </a:lnTo>
                      <a:lnTo>
                        <a:pt x="0" y="20"/>
                      </a:lnTo>
                      <a:lnTo>
                        <a:pt x="12" y="0"/>
                      </a:lnTo>
                      <a:lnTo>
                        <a:pt x="32" y="0"/>
                      </a:lnTo>
                      <a:lnTo>
                        <a:pt x="4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82120" y="4426920"/>
                  <a:ext cx="91080" cy="228600"/>
                </a:xfrm>
                <a:custGeom>
                  <a:avLst/>
                  <a:gdLst/>
                  <a:ahLst/>
                  <a:rect l="l" t="t" r="r" b="b"/>
                  <a:pathLst>
                    <a:path w="201" h="529">
                      <a:moveTo>
                        <a:pt x="111" y="100"/>
                      </a:moveTo>
                      <a:lnTo>
                        <a:pt x="122" y="36"/>
                      </a:lnTo>
                      <a:lnTo>
                        <a:pt x="143" y="4"/>
                      </a:lnTo>
                      <a:lnTo>
                        <a:pt x="169" y="0"/>
                      </a:lnTo>
                      <a:lnTo>
                        <a:pt x="193" y="20"/>
                      </a:lnTo>
                      <a:lnTo>
                        <a:pt x="201" y="50"/>
                      </a:lnTo>
                      <a:lnTo>
                        <a:pt x="197" y="86"/>
                      </a:lnTo>
                      <a:lnTo>
                        <a:pt x="168" y="128"/>
                      </a:lnTo>
                      <a:lnTo>
                        <a:pt x="151" y="168"/>
                      </a:lnTo>
                      <a:lnTo>
                        <a:pt x="141" y="215"/>
                      </a:lnTo>
                      <a:lnTo>
                        <a:pt x="137" y="248"/>
                      </a:lnTo>
                      <a:lnTo>
                        <a:pt x="149" y="287"/>
                      </a:lnTo>
                      <a:lnTo>
                        <a:pt x="168" y="329"/>
                      </a:lnTo>
                      <a:lnTo>
                        <a:pt x="176" y="373"/>
                      </a:lnTo>
                      <a:lnTo>
                        <a:pt x="176" y="423"/>
                      </a:lnTo>
                      <a:lnTo>
                        <a:pt x="165" y="455"/>
                      </a:lnTo>
                      <a:lnTo>
                        <a:pt x="151" y="465"/>
                      </a:lnTo>
                      <a:lnTo>
                        <a:pt x="125" y="471"/>
                      </a:lnTo>
                      <a:lnTo>
                        <a:pt x="95" y="486"/>
                      </a:lnTo>
                      <a:lnTo>
                        <a:pt x="70" y="517"/>
                      </a:lnTo>
                      <a:lnTo>
                        <a:pt x="55" y="529"/>
                      </a:lnTo>
                      <a:lnTo>
                        <a:pt x="33" y="529"/>
                      </a:lnTo>
                      <a:lnTo>
                        <a:pt x="1" y="505"/>
                      </a:lnTo>
                      <a:lnTo>
                        <a:pt x="0" y="489"/>
                      </a:lnTo>
                      <a:lnTo>
                        <a:pt x="9" y="474"/>
                      </a:lnTo>
                      <a:lnTo>
                        <a:pt x="49" y="459"/>
                      </a:lnTo>
                      <a:lnTo>
                        <a:pt x="99" y="440"/>
                      </a:lnTo>
                      <a:lnTo>
                        <a:pt x="125" y="428"/>
                      </a:lnTo>
                      <a:lnTo>
                        <a:pt x="141" y="408"/>
                      </a:lnTo>
                      <a:lnTo>
                        <a:pt x="149" y="395"/>
                      </a:lnTo>
                      <a:lnTo>
                        <a:pt x="143" y="358"/>
                      </a:lnTo>
                      <a:lnTo>
                        <a:pt x="127" y="318"/>
                      </a:lnTo>
                      <a:lnTo>
                        <a:pt x="106" y="275"/>
                      </a:lnTo>
                      <a:lnTo>
                        <a:pt x="94" y="235"/>
                      </a:lnTo>
                      <a:lnTo>
                        <a:pt x="94" y="202"/>
                      </a:lnTo>
                      <a:lnTo>
                        <a:pt x="102" y="152"/>
                      </a:lnTo>
                      <a:lnTo>
                        <a:pt x="106" y="120"/>
                      </a:lnTo>
                      <a:lnTo>
                        <a:pt x="111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290400" y="4293720"/>
                  <a:ext cx="130320" cy="174240"/>
                </a:xfrm>
                <a:custGeom>
                  <a:avLst/>
                  <a:gdLst/>
                  <a:ahLst/>
                  <a:rect l="l" t="t" r="r" b="b"/>
                  <a:pathLst>
                    <a:path w="288" h="405">
                      <a:moveTo>
                        <a:pt x="50" y="13"/>
                      </a:moveTo>
                      <a:lnTo>
                        <a:pt x="74" y="1"/>
                      </a:lnTo>
                      <a:lnTo>
                        <a:pt x="102" y="0"/>
                      </a:lnTo>
                      <a:lnTo>
                        <a:pt x="131" y="3"/>
                      </a:lnTo>
                      <a:lnTo>
                        <a:pt x="160" y="13"/>
                      </a:lnTo>
                      <a:lnTo>
                        <a:pt x="178" y="31"/>
                      </a:lnTo>
                      <a:lnTo>
                        <a:pt x="182" y="52"/>
                      </a:lnTo>
                      <a:lnTo>
                        <a:pt x="180" y="79"/>
                      </a:lnTo>
                      <a:lnTo>
                        <a:pt x="171" y="109"/>
                      </a:lnTo>
                      <a:lnTo>
                        <a:pt x="167" y="138"/>
                      </a:lnTo>
                      <a:lnTo>
                        <a:pt x="168" y="163"/>
                      </a:lnTo>
                      <a:lnTo>
                        <a:pt x="175" y="183"/>
                      </a:lnTo>
                      <a:lnTo>
                        <a:pt x="186" y="203"/>
                      </a:lnTo>
                      <a:lnTo>
                        <a:pt x="213" y="220"/>
                      </a:lnTo>
                      <a:lnTo>
                        <a:pt x="242" y="232"/>
                      </a:lnTo>
                      <a:lnTo>
                        <a:pt x="264" y="247"/>
                      </a:lnTo>
                      <a:lnTo>
                        <a:pt x="279" y="267"/>
                      </a:lnTo>
                      <a:lnTo>
                        <a:pt x="287" y="297"/>
                      </a:lnTo>
                      <a:lnTo>
                        <a:pt x="288" y="325"/>
                      </a:lnTo>
                      <a:lnTo>
                        <a:pt x="283" y="355"/>
                      </a:lnTo>
                      <a:lnTo>
                        <a:pt x="268" y="372"/>
                      </a:lnTo>
                      <a:lnTo>
                        <a:pt x="246" y="392"/>
                      </a:lnTo>
                      <a:lnTo>
                        <a:pt x="221" y="400"/>
                      </a:lnTo>
                      <a:lnTo>
                        <a:pt x="190" y="405"/>
                      </a:lnTo>
                      <a:lnTo>
                        <a:pt x="148" y="404"/>
                      </a:lnTo>
                      <a:lnTo>
                        <a:pt x="108" y="388"/>
                      </a:lnTo>
                      <a:lnTo>
                        <a:pt x="81" y="372"/>
                      </a:lnTo>
                      <a:lnTo>
                        <a:pt x="49" y="349"/>
                      </a:lnTo>
                      <a:lnTo>
                        <a:pt x="24" y="310"/>
                      </a:lnTo>
                      <a:lnTo>
                        <a:pt x="12" y="267"/>
                      </a:lnTo>
                      <a:lnTo>
                        <a:pt x="0" y="223"/>
                      </a:lnTo>
                      <a:lnTo>
                        <a:pt x="0" y="175"/>
                      </a:lnTo>
                      <a:lnTo>
                        <a:pt x="3" y="130"/>
                      </a:lnTo>
                      <a:lnTo>
                        <a:pt x="12" y="79"/>
                      </a:lnTo>
                      <a:lnTo>
                        <a:pt x="28" y="39"/>
                      </a:lnTo>
                      <a:lnTo>
                        <a:pt x="5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278160" y="4183920"/>
                  <a:ext cx="139680" cy="100800"/>
                </a:xfrm>
                <a:custGeom>
                  <a:avLst/>
                  <a:gdLst/>
                  <a:ahLst/>
                  <a:rect l="l" t="t" r="r" b="b"/>
                  <a:pathLst>
                    <a:path w="308" h="235">
                      <a:moveTo>
                        <a:pt x="113" y="78"/>
                      </a:moveTo>
                      <a:lnTo>
                        <a:pt x="148" y="41"/>
                      </a:lnTo>
                      <a:lnTo>
                        <a:pt x="187" y="12"/>
                      </a:lnTo>
                      <a:lnTo>
                        <a:pt x="222" y="0"/>
                      </a:lnTo>
                      <a:lnTo>
                        <a:pt x="256" y="1"/>
                      </a:lnTo>
                      <a:lnTo>
                        <a:pt x="276" y="8"/>
                      </a:lnTo>
                      <a:lnTo>
                        <a:pt x="300" y="25"/>
                      </a:lnTo>
                      <a:lnTo>
                        <a:pt x="308" y="52"/>
                      </a:lnTo>
                      <a:lnTo>
                        <a:pt x="308" y="86"/>
                      </a:lnTo>
                      <a:lnTo>
                        <a:pt x="304" y="122"/>
                      </a:lnTo>
                      <a:lnTo>
                        <a:pt x="290" y="153"/>
                      </a:lnTo>
                      <a:lnTo>
                        <a:pt x="265" y="189"/>
                      </a:lnTo>
                      <a:lnTo>
                        <a:pt x="240" y="213"/>
                      </a:lnTo>
                      <a:lnTo>
                        <a:pt x="214" y="227"/>
                      </a:lnTo>
                      <a:lnTo>
                        <a:pt x="186" y="235"/>
                      </a:lnTo>
                      <a:lnTo>
                        <a:pt x="158" y="235"/>
                      </a:lnTo>
                      <a:lnTo>
                        <a:pt x="132" y="229"/>
                      </a:lnTo>
                      <a:lnTo>
                        <a:pt x="116" y="219"/>
                      </a:lnTo>
                      <a:lnTo>
                        <a:pt x="105" y="196"/>
                      </a:lnTo>
                      <a:lnTo>
                        <a:pt x="104" y="172"/>
                      </a:lnTo>
                      <a:lnTo>
                        <a:pt x="101" y="149"/>
                      </a:lnTo>
                      <a:lnTo>
                        <a:pt x="108" y="122"/>
                      </a:lnTo>
                      <a:lnTo>
                        <a:pt x="109" y="110"/>
                      </a:lnTo>
                      <a:lnTo>
                        <a:pt x="70" y="119"/>
                      </a:lnTo>
                      <a:lnTo>
                        <a:pt x="38" y="127"/>
                      </a:lnTo>
                      <a:lnTo>
                        <a:pt x="8" y="126"/>
                      </a:lnTo>
                      <a:lnTo>
                        <a:pt x="0" y="114"/>
                      </a:lnTo>
                      <a:lnTo>
                        <a:pt x="4" y="99"/>
                      </a:lnTo>
                      <a:lnTo>
                        <a:pt x="12" y="90"/>
                      </a:lnTo>
                      <a:lnTo>
                        <a:pt x="26" y="82"/>
                      </a:lnTo>
                      <a:lnTo>
                        <a:pt x="50" y="79"/>
                      </a:lnTo>
                      <a:lnTo>
                        <a:pt x="78" y="79"/>
                      </a:lnTo>
                      <a:lnTo>
                        <a:pt x="104" y="79"/>
                      </a:lnTo>
                      <a:lnTo>
                        <a:pt x="113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142440" y="4296240"/>
                  <a:ext cx="195480" cy="97920"/>
                </a:xfrm>
                <a:custGeom>
                  <a:avLst/>
                  <a:gdLst/>
                  <a:ahLst/>
                  <a:rect l="l" t="t" r="r" b="b"/>
                  <a:pathLst>
                    <a:path w="433" h="229">
                      <a:moveTo>
                        <a:pt x="328" y="24"/>
                      </a:moveTo>
                      <a:lnTo>
                        <a:pt x="379" y="8"/>
                      </a:lnTo>
                      <a:lnTo>
                        <a:pt x="414" y="0"/>
                      </a:lnTo>
                      <a:lnTo>
                        <a:pt x="433" y="20"/>
                      </a:lnTo>
                      <a:lnTo>
                        <a:pt x="426" y="43"/>
                      </a:lnTo>
                      <a:lnTo>
                        <a:pt x="425" y="50"/>
                      </a:lnTo>
                      <a:lnTo>
                        <a:pt x="389" y="71"/>
                      </a:lnTo>
                      <a:lnTo>
                        <a:pt x="351" y="82"/>
                      </a:lnTo>
                      <a:lnTo>
                        <a:pt x="303" y="82"/>
                      </a:lnTo>
                      <a:lnTo>
                        <a:pt x="249" y="86"/>
                      </a:lnTo>
                      <a:lnTo>
                        <a:pt x="243" y="86"/>
                      </a:lnTo>
                      <a:lnTo>
                        <a:pt x="203" y="100"/>
                      </a:lnTo>
                      <a:lnTo>
                        <a:pt x="175" y="121"/>
                      </a:lnTo>
                      <a:lnTo>
                        <a:pt x="159" y="148"/>
                      </a:lnTo>
                      <a:lnTo>
                        <a:pt x="159" y="174"/>
                      </a:lnTo>
                      <a:lnTo>
                        <a:pt x="174" y="199"/>
                      </a:lnTo>
                      <a:lnTo>
                        <a:pt x="174" y="218"/>
                      </a:lnTo>
                      <a:lnTo>
                        <a:pt x="153" y="229"/>
                      </a:lnTo>
                      <a:lnTo>
                        <a:pt x="133" y="211"/>
                      </a:lnTo>
                      <a:lnTo>
                        <a:pt x="125" y="176"/>
                      </a:lnTo>
                      <a:lnTo>
                        <a:pt x="117" y="153"/>
                      </a:lnTo>
                      <a:lnTo>
                        <a:pt x="88" y="141"/>
                      </a:lnTo>
                      <a:lnTo>
                        <a:pt x="51" y="140"/>
                      </a:lnTo>
                      <a:lnTo>
                        <a:pt x="19" y="137"/>
                      </a:lnTo>
                      <a:lnTo>
                        <a:pt x="0" y="120"/>
                      </a:lnTo>
                      <a:lnTo>
                        <a:pt x="7" y="100"/>
                      </a:lnTo>
                      <a:lnTo>
                        <a:pt x="38" y="94"/>
                      </a:lnTo>
                      <a:lnTo>
                        <a:pt x="83" y="102"/>
                      </a:lnTo>
                      <a:lnTo>
                        <a:pt x="120" y="112"/>
                      </a:lnTo>
                      <a:lnTo>
                        <a:pt x="159" y="102"/>
                      </a:lnTo>
                      <a:lnTo>
                        <a:pt x="203" y="74"/>
                      </a:lnTo>
                      <a:lnTo>
                        <a:pt x="241" y="54"/>
                      </a:lnTo>
                      <a:lnTo>
                        <a:pt x="284" y="42"/>
                      </a:lnTo>
                      <a:lnTo>
                        <a:pt x="315" y="32"/>
                      </a:lnTo>
                      <a:lnTo>
                        <a:pt x="336" y="24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204720" y="4311720"/>
                  <a:ext cx="171360" cy="142200"/>
                </a:xfrm>
                <a:custGeom>
                  <a:avLst/>
                  <a:gdLst/>
                  <a:ahLst/>
                  <a:rect l="l" t="t" r="r" b="b"/>
                  <a:pathLst>
                    <a:path w="380" h="330">
                      <a:moveTo>
                        <a:pt x="273" y="110"/>
                      </a:moveTo>
                      <a:lnTo>
                        <a:pt x="300" y="59"/>
                      </a:lnTo>
                      <a:lnTo>
                        <a:pt x="320" y="12"/>
                      </a:lnTo>
                      <a:lnTo>
                        <a:pt x="350" y="0"/>
                      </a:lnTo>
                      <a:lnTo>
                        <a:pt x="378" y="8"/>
                      </a:lnTo>
                      <a:lnTo>
                        <a:pt x="380" y="43"/>
                      </a:lnTo>
                      <a:lnTo>
                        <a:pt x="371" y="76"/>
                      </a:lnTo>
                      <a:lnTo>
                        <a:pt x="343" y="116"/>
                      </a:lnTo>
                      <a:lnTo>
                        <a:pt x="296" y="164"/>
                      </a:lnTo>
                      <a:lnTo>
                        <a:pt x="238" y="201"/>
                      </a:lnTo>
                      <a:lnTo>
                        <a:pt x="187" y="220"/>
                      </a:lnTo>
                      <a:lnTo>
                        <a:pt x="145" y="242"/>
                      </a:lnTo>
                      <a:lnTo>
                        <a:pt x="120" y="254"/>
                      </a:lnTo>
                      <a:lnTo>
                        <a:pt x="117" y="260"/>
                      </a:lnTo>
                      <a:lnTo>
                        <a:pt x="114" y="279"/>
                      </a:lnTo>
                      <a:lnTo>
                        <a:pt x="133" y="302"/>
                      </a:lnTo>
                      <a:lnTo>
                        <a:pt x="133" y="324"/>
                      </a:lnTo>
                      <a:lnTo>
                        <a:pt x="112" y="330"/>
                      </a:lnTo>
                      <a:lnTo>
                        <a:pt x="84" y="305"/>
                      </a:lnTo>
                      <a:lnTo>
                        <a:pt x="78" y="275"/>
                      </a:lnTo>
                      <a:lnTo>
                        <a:pt x="80" y="262"/>
                      </a:lnTo>
                      <a:lnTo>
                        <a:pt x="55" y="256"/>
                      </a:lnTo>
                      <a:lnTo>
                        <a:pt x="20" y="272"/>
                      </a:lnTo>
                      <a:lnTo>
                        <a:pt x="0" y="256"/>
                      </a:lnTo>
                      <a:lnTo>
                        <a:pt x="10" y="231"/>
                      </a:lnTo>
                      <a:lnTo>
                        <a:pt x="47" y="223"/>
                      </a:lnTo>
                      <a:lnTo>
                        <a:pt x="92" y="220"/>
                      </a:lnTo>
                      <a:lnTo>
                        <a:pt x="144" y="208"/>
                      </a:lnTo>
                      <a:lnTo>
                        <a:pt x="191" y="188"/>
                      </a:lnTo>
                      <a:lnTo>
                        <a:pt x="234" y="160"/>
                      </a:lnTo>
                      <a:lnTo>
                        <a:pt x="261" y="130"/>
                      </a:lnTo>
                      <a:lnTo>
                        <a:pt x="273" y="1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362320" y="4253760"/>
                <a:ext cx="172440" cy="388800"/>
                <a:chOff x="2362320" y="4253760"/>
                <a:chExt cx="172440" cy="38880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2400480" y="4253760"/>
                  <a:ext cx="134280" cy="388800"/>
                  <a:chOff x="2400480" y="4253760"/>
                  <a:chExt cx="134280" cy="3888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2400480" y="4253760"/>
                    <a:ext cx="134280" cy="38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7" h="901">
                        <a:moveTo>
                          <a:pt x="12" y="35"/>
                        </a:moveTo>
                        <a:lnTo>
                          <a:pt x="21" y="12"/>
                        </a:lnTo>
                        <a:lnTo>
                          <a:pt x="39" y="4"/>
                        </a:lnTo>
                        <a:lnTo>
                          <a:pt x="70" y="0"/>
                        </a:lnTo>
                        <a:lnTo>
                          <a:pt x="107" y="9"/>
                        </a:lnTo>
                        <a:lnTo>
                          <a:pt x="128" y="33"/>
                        </a:lnTo>
                        <a:lnTo>
                          <a:pt x="160" y="164"/>
                        </a:lnTo>
                        <a:lnTo>
                          <a:pt x="198" y="337"/>
                        </a:lnTo>
                        <a:lnTo>
                          <a:pt x="223" y="477"/>
                        </a:lnTo>
                        <a:lnTo>
                          <a:pt x="251" y="618"/>
                        </a:lnTo>
                        <a:lnTo>
                          <a:pt x="272" y="690"/>
                        </a:lnTo>
                        <a:lnTo>
                          <a:pt x="297" y="761"/>
                        </a:lnTo>
                        <a:lnTo>
                          <a:pt x="203" y="901"/>
                        </a:lnTo>
                        <a:lnTo>
                          <a:pt x="186" y="859"/>
                        </a:lnTo>
                        <a:lnTo>
                          <a:pt x="264" y="748"/>
                        </a:lnTo>
                        <a:lnTo>
                          <a:pt x="231" y="632"/>
                        </a:lnTo>
                        <a:lnTo>
                          <a:pt x="214" y="539"/>
                        </a:lnTo>
                        <a:lnTo>
                          <a:pt x="190" y="421"/>
                        </a:lnTo>
                        <a:lnTo>
                          <a:pt x="160" y="265"/>
                        </a:lnTo>
                        <a:lnTo>
                          <a:pt x="140" y="164"/>
                        </a:lnTo>
                        <a:lnTo>
                          <a:pt x="116" y="82"/>
                        </a:lnTo>
                        <a:lnTo>
                          <a:pt x="103" y="37"/>
                        </a:lnTo>
                        <a:lnTo>
                          <a:pt x="78" y="17"/>
                        </a:lnTo>
                        <a:lnTo>
                          <a:pt x="42" y="19"/>
                        </a:lnTo>
                        <a:lnTo>
                          <a:pt x="23" y="43"/>
                        </a:lnTo>
                        <a:lnTo>
                          <a:pt x="16" y="64"/>
                        </a:lnTo>
                        <a:lnTo>
                          <a:pt x="0" y="53"/>
                        </a:lnTo>
                        <a:lnTo>
                          <a:pt x="12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2404440" y="4262760"/>
                    <a:ext cx="108720" cy="3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1" h="881">
                        <a:moveTo>
                          <a:pt x="11" y="0"/>
                        </a:moveTo>
                        <a:lnTo>
                          <a:pt x="2" y="28"/>
                        </a:lnTo>
                        <a:lnTo>
                          <a:pt x="0" y="56"/>
                        </a:lnTo>
                        <a:lnTo>
                          <a:pt x="26" y="105"/>
                        </a:lnTo>
                        <a:lnTo>
                          <a:pt x="50" y="164"/>
                        </a:lnTo>
                        <a:lnTo>
                          <a:pt x="62" y="226"/>
                        </a:lnTo>
                        <a:lnTo>
                          <a:pt x="71" y="309"/>
                        </a:lnTo>
                        <a:lnTo>
                          <a:pt x="75" y="426"/>
                        </a:lnTo>
                        <a:lnTo>
                          <a:pt x="71" y="524"/>
                        </a:lnTo>
                        <a:lnTo>
                          <a:pt x="54" y="627"/>
                        </a:lnTo>
                        <a:lnTo>
                          <a:pt x="39" y="735"/>
                        </a:lnTo>
                        <a:lnTo>
                          <a:pt x="141" y="837"/>
                        </a:lnTo>
                        <a:lnTo>
                          <a:pt x="194" y="881"/>
                        </a:lnTo>
                        <a:lnTo>
                          <a:pt x="202" y="837"/>
                        </a:lnTo>
                        <a:lnTo>
                          <a:pt x="187" y="837"/>
                        </a:lnTo>
                        <a:lnTo>
                          <a:pt x="182" y="838"/>
                        </a:lnTo>
                        <a:lnTo>
                          <a:pt x="132" y="792"/>
                        </a:lnTo>
                        <a:lnTo>
                          <a:pt x="241" y="655"/>
                        </a:lnTo>
                        <a:lnTo>
                          <a:pt x="229" y="624"/>
                        </a:lnTo>
                        <a:lnTo>
                          <a:pt x="113" y="772"/>
                        </a:lnTo>
                        <a:lnTo>
                          <a:pt x="63" y="723"/>
                        </a:lnTo>
                        <a:lnTo>
                          <a:pt x="219" y="561"/>
                        </a:lnTo>
                        <a:lnTo>
                          <a:pt x="214" y="530"/>
                        </a:lnTo>
                        <a:lnTo>
                          <a:pt x="63" y="686"/>
                        </a:lnTo>
                        <a:lnTo>
                          <a:pt x="88" y="546"/>
                        </a:lnTo>
                        <a:lnTo>
                          <a:pt x="194" y="436"/>
                        </a:lnTo>
                        <a:lnTo>
                          <a:pt x="187" y="399"/>
                        </a:lnTo>
                        <a:lnTo>
                          <a:pt x="84" y="512"/>
                        </a:lnTo>
                        <a:lnTo>
                          <a:pt x="93" y="422"/>
                        </a:lnTo>
                        <a:lnTo>
                          <a:pt x="170" y="324"/>
                        </a:lnTo>
                        <a:lnTo>
                          <a:pt x="170" y="331"/>
                        </a:lnTo>
                        <a:lnTo>
                          <a:pt x="166" y="300"/>
                        </a:lnTo>
                        <a:lnTo>
                          <a:pt x="92" y="382"/>
                        </a:lnTo>
                        <a:lnTo>
                          <a:pt x="84" y="280"/>
                        </a:lnTo>
                        <a:lnTo>
                          <a:pt x="153" y="224"/>
                        </a:lnTo>
                        <a:lnTo>
                          <a:pt x="148" y="190"/>
                        </a:lnTo>
                        <a:lnTo>
                          <a:pt x="84" y="250"/>
                        </a:lnTo>
                        <a:lnTo>
                          <a:pt x="74" y="175"/>
                        </a:lnTo>
                        <a:lnTo>
                          <a:pt x="132" y="126"/>
                        </a:lnTo>
                        <a:lnTo>
                          <a:pt x="128" y="97"/>
                        </a:lnTo>
                        <a:lnTo>
                          <a:pt x="67" y="157"/>
                        </a:lnTo>
                        <a:lnTo>
                          <a:pt x="46" y="105"/>
                        </a:lnTo>
                        <a:lnTo>
                          <a:pt x="108" y="34"/>
                        </a:lnTo>
                        <a:lnTo>
                          <a:pt x="97" y="12"/>
                        </a:lnTo>
                        <a:lnTo>
                          <a:pt x="38" y="79"/>
                        </a:lnTo>
                        <a:lnTo>
                          <a:pt x="19" y="44"/>
                        </a:lnTo>
                        <a:lnTo>
                          <a:pt x="19" y="16"/>
                        </a:lnTo>
                        <a:lnTo>
                          <a:pt x="14" y="19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2362320" y="4274280"/>
                  <a:ext cx="44640" cy="237600"/>
                </a:xfrm>
                <a:custGeom>
                  <a:avLst/>
                  <a:gdLst/>
                  <a:ahLst/>
                  <a:rect l="l" t="t" r="r" b="b"/>
                  <a:pathLst>
                    <a:path w="99" h="551">
                      <a:moveTo>
                        <a:pt x="87" y="0"/>
                      </a:moveTo>
                      <a:lnTo>
                        <a:pt x="87" y="10"/>
                      </a:lnTo>
                      <a:lnTo>
                        <a:pt x="85" y="15"/>
                      </a:lnTo>
                      <a:lnTo>
                        <a:pt x="79" y="23"/>
                      </a:lnTo>
                      <a:lnTo>
                        <a:pt x="74" y="31"/>
                      </a:lnTo>
                      <a:lnTo>
                        <a:pt x="70" y="38"/>
                      </a:lnTo>
                      <a:lnTo>
                        <a:pt x="66" y="45"/>
                      </a:lnTo>
                      <a:lnTo>
                        <a:pt x="62" y="50"/>
                      </a:lnTo>
                      <a:lnTo>
                        <a:pt x="57" y="56"/>
                      </a:lnTo>
                      <a:lnTo>
                        <a:pt x="54" y="62"/>
                      </a:lnTo>
                      <a:lnTo>
                        <a:pt x="53" y="68"/>
                      </a:lnTo>
                      <a:lnTo>
                        <a:pt x="49" y="76"/>
                      </a:lnTo>
                      <a:lnTo>
                        <a:pt x="46" y="82"/>
                      </a:lnTo>
                      <a:lnTo>
                        <a:pt x="46" y="88"/>
                      </a:lnTo>
                      <a:lnTo>
                        <a:pt x="45" y="93"/>
                      </a:lnTo>
                      <a:lnTo>
                        <a:pt x="45" y="101"/>
                      </a:lnTo>
                      <a:lnTo>
                        <a:pt x="42" y="109"/>
                      </a:lnTo>
                      <a:lnTo>
                        <a:pt x="42" y="117"/>
                      </a:lnTo>
                      <a:lnTo>
                        <a:pt x="42" y="125"/>
                      </a:lnTo>
                      <a:lnTo>
                        <a:pt x="42" y="132"/>
                      </a:lnTo>
                      <a:lnTo>
                        <a:pt x="42" y="137"/>
                      </a:lnTo>
                      <a:lnTo>
                        <a:pt x="42" y="142"/>
                      </a:lnTo>
                      <a:lnTo>
                        <a:pt x="45" y="148"/>
                      </a:lnTo>
                      <a:lnTo>
                        <a:pt x="45" y="156"/>
                      </a:lnTo>
                      <a:lnTo>
                        <a:pt x="45" y="163"/>
                      </a:lnTo>
                      <a:lnTo>
                        <a:pt x="46" y="171"/>
                      </a:lnTo>
                      <a:lnTo>
                        <a:pt x="46" y="179"/>
                      </a:lnTo>
                      <a:lnTo>
                        <a:pt x="46" y="187"/>
                      </a:lnTo>
                      <a:lnTo>
                        <a:pt x="46" y="194"/>
                      </a:lnTo>
                      <a:lnTo>
                        <a:pt x="46" y="199"/>
                      </a:lnTo>
                      <a:lnTo>
                        <a:pt x="46" y="206"/>
                      </a:lnTo>
                      <a:lnTo>
                        <a:pt x="49" y="211"/>
                      </a:lnTo>
                      <a:lnTo>
                        <a:pt x="49" y="219"/>
                      </a:lnTo>
                      <a:lnTo>
                        <a:pt x="49" y="226"/>
                      </a:lnTo>
                      <a:lnTo>
                        <a:pt x="46" y="230"/>
                      </a:lnTo>
                      <a:lnTo>
                        <a:pt x="41" y="238"/>
                      </a:lnTo>
                      <a:lnTo>
                        <a:pt x="38" y="244"/>
                      </a:lnTo>
                      <a:lnTo>
                        <a:pt x="38" y="252"/>
                      </a:lnTo>
                      <a:lnTo>
                        <a:pt x="38" y="260"/>
                      </a:lnTo>
                      <a:lnTo>
                        <a:pt x="37" y="268"/>
                      </a:lnTo>
                      <a:lnTo>
                        <a:pt x="37" y="276"/>
                      </a:lnTo>
                      <a:lnTo>
                        <a:pt x="37" y="284"/>
                      </a:lnTo>
                      <a:lnTo>
                        <a:pt x="42" y="292"/>
                      </a:lnTo>
                      <a:lnTo>
                        <a:pt x="45" y="297"/>
                      </a:lnTo>
                      <a:lnTo>
                        <a:pt x="46" y="304"/>
                      </a:lnTo>
                      <a:lnTo>
                        <a:pt x="50" y="309"/>
                      </a:lnTo>
                      <a:lnTo>
                        <a:pt x="53" y="317"/>
                      </a:lnTo>
                      <a:lnTo>
                        <a:pt x="57" y="323"/>
                      </a:lnTo>
                      <a:lnTo>
                        <a:pt x="57" y="330"/>
                      </a:lnTo>
                      <a:lnTo>
                        <a:pt x="58" y="335"/>
                      </a:lnTo>
                      <a:lnTo>
                        <a:pt x="57" y="342"/>
                      </a:lnTo>
                      <a:lnTo>
                        <a:pt x="53" y="347"/>
                      </a:lnTo>
                      <a:lnTo>
                        <a:pt x="46" y="351"/>
                      </a:lnTo>
                      <a:lnTo>
                        <a:pt x="41" y="354"/>
                      </a:lnTo>
                      <a:lnTo>
                        <a:pt x="34" y="355"/>
                      </a:lnTo>
                      <a:lnTo>
                        <a:pt x="29" y="359"/>
                      </a:lnTo>
                      <a:lnTo>
                        <a:pt x="25" y="366"/>
                      </a:lnTo>
                      <a:lnTo>
                        <a:pt x="19" y="374"/>
                      </a:lnTo>
                      <a:lnTo>
                        <a:pt x="15" y="379"/>
                      </a:lnTo>
                      <a:lnTo>
                        <a:pt x="11" y="387"/>
                      </a:lnTo>
                      <a:lnTo>
                        <a:pt x="8" y="395"/>
                      </a:lnTo>
                      <a:lnTo>
                        <a:pt x="7" y="401"/>
                      </a:lnTo>
                      <a:lnTo>
                        <a:pt x="4" y="407"/>
                      </a:lnTo>
                      <a:lnTo>
                        <a:pt x="4" y="412"/>
                      </a:lnTo>
                      <a:lnTo>
                        <a:pt x="4" y="417"/>
                      </a:lnTo>
                      <a:lnTo>
                        <a:pt x="4" y="428"/>
                      </a:lnTo>
                      <a:lnTo>
                        <a:pt x="4" y="436"/>
                      </a:lnTo>
                      <a:lnTo>
                        <a:pt x="4" y="441"/>
                      </a:lnTo>
                      <a:lnTo>
                        <a:pt x="3" y="448"/>
                      </a:lnTo>
                      <a:lnTo>
                        <a:pt x="0" y="456"/>
                      </a:lnTo>
                      <a:lnTo>
                        <a:pt x="0" y="464"/>
                      </a:lnTo>
                      <a:lnTo>
                        <a:pt x="0" y="469"/>
                      </a:lnTo>
                      <a:lnTo>
                        <a:pt x="3" y="479"/>
                      </a:lnTo>
                      <a:lnTo>
                        <a:pt x="7" y="487"/>
                      </a:lnTo>
                      <a:lnTo>
                        <a:pt x="7" y="495"/>
                      </a:lnTo>
                      <a:lnTo>
                        <a:pt x="11" y="505"/>
                      </a:lnTo>
                      <a:lnTo>
                        <a:pt x="15" y="510"/>
                      </a:lnTo>
                      <a:lnTo>
                        <a:pt x="19" y="519"/>
                      </a:lnTo>
                      <a:lnTo>
                        <a:pt x="25" y="527"/>
                      </a:lnTo>
                      <a:lnTo>
                        <a:pt x="30" y="534"/>
                      </a:lnTo>
                      <a:lnTo>
                        <a:pt x="34" y="539"/>
                      </a:lnTo>
                      <a:lnTo>
                        <a:pt x="41" y="543"/>
                      </a:lnTo>
                      <a:lnTo>
                        <a:pt x="45" y="550"/>
                      </a:lnTo>
                      <a:lnTo>
                        <a:pt x="50" y="551"/>
                      </a:lnTo>
                      <a:lnTo>
                        <a:pt x="58" y="551"/>
                      </a:lnTo>
                      <a:lnTo>
                        <a:pt x="65" y="551"/>
                      </a:lnTo>
                      <a:lnTo>
                        <a:pt x="69" y="546"/>
                      </a:lnTo>
                      <a:lnTo>
                        <a:pt x="69" y="539"/>
                      </a:lnTo>
                      <a:lnTo>
                        <a:pt x="69" y="534"/>
                      </a:lnTo>
                      <a:lnTo>
                        <a:pt x="65" y="527"/>
                      </a:lnTo>
                      <a:lnTo>
                        <a:pt x="57" y="522"/>
                      </a:lnTo>
                      <a:lnTo>
                        <a:pt x="53" y="515"/>
                      </a:lnTo>
                      <a:lnTo>
                        <a:pt x="49" y="510"/>
                      </a:lnTo>
                      <a:lnTo>
                        <a:pt x="42" y="506"/>
                      </a:lnTo>
                      <a:lnTo>
                        <a:pt x="34" y="501"/>
                      </a:lnTo>
                      <a:lnTo>
                        <a:pt x="30" y="495"/>
                      </a:lnTo>
                      <a:lnTo>
                        <a:pt x="29" y="489"/>
                      </a:lnTo>
                      <a:lnTo>
                        <a:pt x="25" y="483"/>
                      </a:lnTo>
                      <a:lnTo>
                        <a:pt x="24" y="477"/>
                      </a:lnTo>
                      <a:lnTo>
                        <a:pt x="23" y="472"/>
                      </a:lnTo>
                      <a:lnTo>
                        <a:pt x="19" y="464"/>
                      </a:lnTo>
                      <a:lnTo>
                        <a:pt x="19" y="456"/>
                      </a:lnTo>
                      <a:lnTo>
                        <a:pt x="19" y="448"/>
                      </a:lnTo>
                      <a:lnTo>
                        <a:pt x="19" y="441"/>
                      </a:lnTo>
                      <a:lnTo>
                        <a:pt x="20" y="436"/>
                      </a:lnTo>
                      <a:lnTo>
                        <a:pt x="25" y="428"/>
                      </a:lnTo>
                      <a:lnTo>
                        <a:pt x="25" y="421"/>
                      </a:lnTo>
                      <a:lnTo>
                        <a:pt x="29" y="416"/>
                      </a:lnTo>
                      <a:lnTo>
                        <a:pt x="33" y="411"/>
                      </a:lnTo>
                      <a:lnTo>
                        <a:pt x="34" y="403"/>
                      </a:lnTo>
                      <a:lnTo>
                        <a:pt x="37" y="397"/>
                      </a:lnTo>
                      <a:lnTo>
                        <a:pt x="38" y="391"/>
                      </a:lnTo>
                      <a:lnTo>
                        <a:pt x="42" y="383"/>
                      </a:lnTo>
                      <a:lnTo>
                        <a:pt x="49" y="379"/>
                      </a:lnTo>
                      <a:lnTo>
                        <a:pt x="54" y="371"/>
                      </a:lnTo>
                      <a:lnTo>
                        <a:pt x="58" y="366"/>
                      </a:lnTo>
                      <a:lnTo>
                        <a:pt x="65" y="359"/>
                      </a:lnTo>
                      <a:lnTo>
                        <a:pt x="66" y="354"/>
                      </a:lnTo>
                      <a:lnTo>
                        <a:pt x="69" y="347"/>
                      </a:lnTo>
                      <a:lnTo>
                        <a:pt x="73" y="342"/>
                      </a:lnTo>
                      <a:lnTo>
                        <a:pt x="74" y="335"/>
                      </a:lnTo>
                      <a:lnTo>
                        <a:pt x="74" y="330"/>
                      </a:lnTo>
                      <a:lnTo>
                        <a:pt x="74" y="322"/>
                      </a:lnTo>
                      <a:lnTo>
                        <a:pt x="73" y="317"/>
                      </a:lnTo>
                      <a:lnTo>
                        <a:pt x="73" y="312"/>
                      </a:lnTo>
                      <a:lnTo>
                        <a:pt x="73" y="305"/>
                      </a:lnTo>
                      <a:lnTo>
                        <a:pt x="70" y="300"/>
                      </a:lnTo>
                      <a:lnTo>
                        <a:pt x="69" y="293"/>
                      </a:lnTo>
                      <a:lnTo>
                        <a:pt x="66" y="288"/>
                      </a:lnTo>
                      <a:lnTo>
                        <a:pt x="65" y="280"/>
                      </a:lnTo>
                      <a:lnTo>
                        <a:pt x="61" y="273"/>
                      </a:lnTo>
                      <a:lnTo>
                        <a:pt x="61" y="265"/>
                      </a:lnTo>
                      <a:lnTo>
                        <a:pt x="58" y="260"/>
                      </a:lnTo>
                      <a:lnTo>
                        <a:pt x="61" y="252"/>
                      </a:lnTo>
                      <a:lnTo>
                        <a:pt x="65" y="245"/>
                      </a:lnTo>
                      <a:lnTo>
                        <a:pt x="65" y="240"/>
                      </a:lnTo>
                      <a:lnTo>
                        <a:pt x="69" y="234"/>
                      </a:lnTo>
                      <a:lnTo>
                        <a:pt x="70" y="227"/>
                      </a:lnTo>
                      <a:lnTo>
                        <a:pt x="73" y="219"/>
                      </a:lnTo>
                      <a:lnTo>
                        <a:pt x="73" y="211"/>
                      </a:lnTo>
                      <a:lnTo>
                        <a:pt x="73" y="206"/>
                      </a:lnTo>
                      <a:lnTo>
                        <a:pt x="73" y="199"/>
                      </a:lnTo>
                      <a:lnTo>
                        <a:pt x="70" y="194"/>
                      </a:lnTo>
                      <a:lnTo>
                        <a:pt x="69" y="183"/>
                      </a:lnTo>
                      <a:lnTo>
                        <a:pt x="69" y="174"/>
                      </a:lnTo>
                      <a:lnTo>
                        <a:pt x="69" y="166"/>
                      </a:lnTo>
                      <a:lnTo>
                        <a:pt x="66" y="160"/>
                      </a:lnTo>
                      <a:lnTo>
                        <a:pt x="62" y="154"/>
                      </a:lnTo>
                      <a:lnTo>
                        <a:pt x="61" y="148"/>
                      </a:lnTo>
                      <a:lnTo>
                        <a:pt x="61" y="142"/>
                      </a:lnTo>
                      <a:lnTo>
                        <a:pt x="57" y="137"/>
                      </a:lnTo>
                      <a:lnTo>
                        <a:pt x="57" y="132"/>
                      </a:lnTo>
                      <a:lnTo>
                        <a:pt x="57" y="125"/>
                      </a:lnTo>
                      <a:lnTo>
                        <a:pt x="57" y="120"/>
                      </a:lnTo>
                      <a:lnTo>
                        <a:pt x="57" y="112"/>
                      </a:lnTo>
                      <a:lnTo>
                        <a:pt x="57" y="105"/>
                      </a:lnTo>
                      <a:lnTo>
                        <a:pt x="57" y="100"/>
                      </a:lnTo>
                      <a:lnTo>
                        <a:pt x="57" y="93"/>
                      </a:lnTo>
                      <a:lnTo>
                        <a:pt x="61" y="88"/>
                      </a:lnTo>
                      <a:lnTo>
                        <a:pt x="61" y="82"/>
                      </a:lnTo>
                      <a:lnTo>
                        <a:pt x="65" y="74"/>
                      </a:lnTo>
                      <a:lnTo>
                        <a:pt x="66" y="68"/>
                      </a:lnTo>
                      <a:lnTo>
                        <a:pt x="73" y="62"/>
                      </a:lnTo>
                      <a:lnTo>
                        <a:pt x="74" y="56"/>
                      </a:lnTo>
                      <a:lnTo>
                        <a:pt x="77" y="50"/>
                      </a:lnTo>
                      <a:lnTo>
                        <a:pt x="81" y="45"/>
                      </a:lnTo>
                      <a:lnTo>
                        <a:pt x="83" y="39"/>
                      </a:lnTo>
                      <a:lnTo>
                        <a:pt x="87" y="34"/>
                      </a:lnTo>
                      <a:lnTo>
                        <a:pt x="93" y="31"/>
                      </a:lnTo>
                      <a:lnTo>
                        <a:pt x="99" y="26"/>
                      </a:lnTo>
                      <a:lnTo>
                        <a:pt x="99" y="19"/>
                      </a:lnTo>
                      <a:lnTo>
                        <a:pt x="95" y="14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379600" y="4283280"/>
                  <a:ext cx="31320" cy="225000"/>
                </a:xfrm>
                <a:custGeom>
                  <a:avLst/>
                  <a:gdLst/>
                  <a:ahLst/>
                  <a:rect l="l" t="t" r="r" b="b"/>
                  <a:pathLst>
                    <a:path w="67" h="524">
                      <a:moveTo>
                        <a:pt x="63" y="12"/>
                      </a:moveTo>
                      <a:lnTo>
                        <a:pt x="63" y="20"/>
                      </a:lnTo>
                      <a:lnTo>
                        <a:pt x="64" y="31"/>
                      </a:lnTo>
                      <a:lnTo>
                        <a:pt x="67" y="36"/>
                      </a:lnTo>
                      <a:lnTo>
                        <a:pt x="67" y="43"/>
                      </a:lnTo>
                      <a:lnTo>
                        <a:pt x="67" y="51"/>
                      </a:lnTo>
                      <a:lnTo>
                        <a:pt x="63" y="56"/>
                      </a:lnTo>
                      <a:lnTo>
                        <a:pt x="59" y="63"/>
                      </a:lnTo>
                      <a:lnTo>
                        <a:pt x="55" y="68"/>
                      </a:lnTo>
                      <a:lnTo>
                        <a:pt x="51" y="74"/>
                      </a:lnTo>
                      <a:lnTo>
                        <a:pt x="51" y="81"/>
                      </a:lnTo>
                      <a:lnTo>
                        <a:pt x="49" y="86"/>
                      </a:lnTo>
                      <a:lnTo>
                        <a:pt x="45" y="93"/>
                      </a:lnTo>
                      <a:lnTo>
                        <a:pt x="41" y="98"/>
                      </a:lnTo>
                      <a:lnTo>
                        <a:pt x="38" y="105"/>
                      </a:lnTo>
                      <a:lnTo>
                        <a:pt x="37" y="110"/>
                      </a:lnTo>
                      <a:lnTo>
                        <a:pt x="37" y="117"/>
                      </a:lnTo>
                      <a:lnTo>
                        <a:pt x="34" y="125"/>
                      </a:lnTo>
                      <a:lnTo>
                        <a:pt x="34" y="130"/>
                      </a:lnTo>
                      <a:lnTo>
                        <a:pt x="37" y="138"/>
                      </a:lnTo>
                      <a:lnTo>
                        <a:pt x="38" y="144"/>
                      </a:lnTo>
                      <a:lnTo>
                        <a:pt x="38" y="150"/>
                      </a:lnTo>
                      <a:lnTo>
                        <a:pt x="41" y="155"/>
                      </a:lnTo>
                      <a:lnTo>
                        <a:pt x="42" y="160"/>
                      </a:lnTo>
                      <a:lnTo>
                        <a:pt x="46" y="168"/>
                      </a:lnTo>
                      <a:lnTo>
                        <a:pt x="50" y="179"/>
                      </a:lnTo>
                      <a:lnTo>
                        <a:pt x="51" y="187"/>
                      </a:lnTo>
                      <a:lnTo>
                        <a:pt x="53" y="192"/>
                      </a:lnTo>
                      <a:lnTo>
                        <a:pt x="55" y="200"/>
                      </a:lnTo>
                      <a:lnTo>
                        <a:pt x="55" y="208"/>
                      </a:lnTo>
                      <a:lnTo>
                        <a:pt x="55" y="215"/>
                      </a:lnTo>
                      <a:lnTo>
                        <a:pt x="55" y="222"/>
                      </a:lnTo>
                      <a:lnTo>
                        <a:pt x="53" y="226"/>
                      </a:lnTo>
                      <a:lnTo>
                        <a:pt x="53" y="233"/>
                      </a:lnTo>
                      <a:lnTo>
                        <a:pt x="51" y="238"/>
                      </a:lnTo>
                      <a:lnTo>
                        <a:pt x="50" y="245"/>
                      </a:lnTo>
                      <a:lnTo>
                        <a:pt x="46" y="250"/>
                      </a:lnTo>
                      <a:lnTo>
                        <a:pt x="45" y="258"/>
                      </a:lnTo>
                      <a:lnTo>
                        <a:pt x="45" y="266"/>
                      </a:lnTo>
                      <a:lnTo>
                        <a:pt x="42" y="273"/>
                      </a:lnTo>
                      <a:lnTo>
                        <a:pt x="38" y="281"/>
                      </a:lnTo>
                      <a:lnTo>
                        <a:pt x="38" y="286"/>
                      </a:lnTo>
                      <a:lnTo>
                        <a:pt x="38" y="293"/>
                      </a:lnTo>
                      <a:lnTo>
                        <a:pt x="41" y="298"/>
                      </a:lnTo>
                      <a:lnTo>
                        <a:pt x="41" y="303"/>
                      </a:lnTo>
                      <a:lnTo>
                        <a:pt x="45" y="311"/>
                      </a:lnTo>
                      <a:lnTo>
                        <a:pt x="45" y="316"/>
                      </a:lnTo>
                      <a:lnTo>
                        <a:pt x="45" y="323"/>
                      </a:lnTo>
                      <a:lnTo>
                        <a:pt x="45" y="328"/>
                      </a:lnTo>
                      <a:lnTo>
                        <a:pt x="45" y="335"/>
                      </a:lnTo>
                      <a:lnTo>
                        <a:pt x="45" y="340"/>
                      </a:lnTo>
                      <a:lnTo>
                        <a:pt x="41" y="347"/>
                      </a:lnTo>
                      <a:lnTo>
                        <a:pt x="38" y="352"/>
                      </a:lnTo>
                      <a:lnTo>
                        <a:pt x="37" y="359"/>
                      </a:lnTo>
                      <a:lnTo>
                        <a:pt x="33" y="364"/>
                      </a:lnTo>
                      <a:lnTo>
                        <a:pt x="29" y="372"/>
                      </a:lnTo>
                      <a:lnTo>
                        <a:pt x="29" y="377"/>
                      </a:lnTo>
                      <a:lnTo>
                        <a:pt x="22" y="381"/>
                      </a:lnTo>
                      <a:lnTo>
                        <a:pt x="22" y="386"/>
                      </a:lnTo>
                      <a:lnTo>
                        <a:pt x="21" y="393"/>
                      </a:lnTo>
                      <a:lnTo>
                        <a:pt x="21" y="398"/>
                      </a:lnTo>
                      <a:lnTo>
                        <a:pt x="21" y="406"/>
                      </a:lnTo>
                      <a:lnTo>
                        <a:pt x="21" y="413"/>
                      </a:lnTo>
                      <a:lnTo>
                        <a:pt x="21" y="421"/>
                      </a:lnTo>
                      <a:lnTo>
                        <a:pt x="21" y="430"/>
                      </a:lnTo>
                      <a:lnTo>
                        <a:pt x="21" y="437"/>
                      </a:lnTo>
                      <a:lnTo>
                        <a:pt x="22" y="442"/>
                      </a:lnTo>
                      <a:lnTo>
                        <a:pt x="25" y="449"/>
                      </a:lnTo>
                      <a:lnTo>
                        <a:pt x="26" y="455"/>
                      </a:lnTo>
                      <a:lnTo>
                        <a:pt x="26" y="460"/>
                      </a:lnTo>
                      <a:lnTo>
                        <a:pt x="30" y="467"/>
                      </a:lnTo>
                      <a:lnTo>
                        <a:pt x="30" y="472"/>
                      </a:lnTo>
                      <a:lnTo>
                        <a:pt x="30" y="480"/>
                      </a:lnTo>
                      <a:lnTo>
                        <a:pt x="26" y="488"/>
                      </a:lnTo>
                      <a:lnTo>
                        <a:pt x="25" y="495"/>
                      </a:lnTo>
                      <a:lnTo>
                        <a:pt x="25" y="500"/>
                      </a:lnTo>
                      <a:lnTo>
                        <a:pt x="21" y="507"/>
                      </a:lnTo>
                      <a:lnTo>
                        <a:pt x="21" y="515"/>
                      </a:lnTo>
                      <a:lnTo>
                        <a:pt x="16" y="520"/>
                      </a:lnTo>
                      <a:lnTo>
                        <a:pt x="10" y="524"/>
                      </a:lnTo>
                      <a:lnTo>
                        <a:pt x="4" y="519"/>
                      </a:lnTo>
                      <a:lnTo>
                        <a:pt x="2" y="512"/>
                      </a:lnTo>
                      <a:lnTo>
                        <a:pt x="0" y="507"/>
                      </a:lnTo>
                      <a:lnTo>
                        <a:pt x="2" y="500"/>
                      </a:lnTo>
                      <a:lnTo>
                        <a:pt x="6" y="495"/>
                      </a:lnTo>
                      <a:lnTo>
                        <a:pt x="6" y="488"/>
                      </a:lnTo>
                      <a:lnTo>
                        <a:pt x="10" y="483"/>
                      </a:lnTo>
                      <a:lnTo>
                        <a:pt x="14" y="476"/>
                      </a:lnTo>
                      <a:lnTo>
                        <a:pt x="14" y="471"/>
                      </a:lnTo>
                      <a:lnTo>
                        <a:pt x="14" y="464"/>
                      </a:lnTo>
                      <a:lnTo>
                        <a:pt x="14" y="459"/>
                      </a:lnTo>
                      <a:lnTo>
                        <a:pt x="14" y="451"/>
                      </a:lnTo>
                      <a:lnTo>
                        <a:pt x="10" y="446"/>
                      </a:lnTo>
                      <a:lnTo>
                        <a:pt x="10" y="441"/>
                      </a:lnTo>
                      <a:lnTo>
                        <a:pt x="10" y="434"/>
                      </a:lnTo>
                      <a:lnTo>
                        <a:pt x="6" y="426"/>
                      </a:lnTo>
                      <a:lnTo>
                        <a:pt x="6" y="418"/>
                      </a:lnTo>
                      <a:lnTo>
                        <a:pt x="6" y="413"/>
                      </a:lnTo>
                      <a:lnTo>
                        <a:pt x="6" y="405"/>
                      </a:lnTo>
                      <a:lnTo>
                        <a:pt x="6" y="397"/>
                      </a:lnTo>
                      <a:lnTo>
                        <a:pt x="6" y="390"/>
                      </a:lnTo>
                      <a:lnTo>
                        <a:pt x="8" y="385"/>
                      </a:lnTo>
                      <a:lnTo>
                        <a:pt x="8" y="378"/>
                      </a:lnTo>
                      <a:lnTo>
                        <a:pt x="8" y="375"/>
                      </a:lnTo>
                      <a:lnTo>
                        <a:pt x="10" y="368"/>
                      </a:lnTo>
                      <a:lnTo>
                        <a:pt x="10" y="363"/>
                      </a:lnTo>
                      <a:lnTo>
                        <a:pt x="14" y="356"/>
                      </a:lnTo>
                      <a:lnTo>
                        <a:pt x="14" y="351"/>
                      </a:lnTo>
                      <a:lnTo>
                        <a:pt x="17" y="344"/>
                      </a:lnTo>
                      <a:lnTo>
                        <a:pt x="21" y="339"/>
                      </a:lnTo>
                      <a:lnTo>
                        <a:pt x="22" y="332"/>
                      </a:lnTo>
                      <a:lnTo>
                        <a:pt x="26" y="327"/>
                      </a:lnTo>
                      <a:lnTo>
                        <a:pt x="30" y="320"/>
                      </a:lnTo>
                      <a:lnTo>
                        <a:pt x="30" y="315"/>
                      </a:lnTo>
                      <a:lnTo>
                        <a:pt x="29" y="308"/>
                      </a:lnTo>
                      <a:lnTo>
                        <a:pt x="25" y="303"/>
                      </a:lnTo>
                      <a:lnTo>
                        <a:pt x="22" y="298"/>
                      </a:lnTo>
                      <a:lnTo>
                        <a:pt x="21" y="293"/>
                      </a:lnTo>
                      <a:lnTo>
                        <a:pt x="18" y="286"/>
                      </a:lnTo>
                      <a:lnTo>
                        <a:pt x="18" y="281"/>
                      </a:lnTo>
                      <a:lnTo>
                        <a:pt x="18" y="274"/>
                      </a:lnTo>
                      <a:lnTo>
                        <a:pt x="18" y="269"/>
                      </a:lnTo>
                      <a:lnTo>
                        <a:pt x="21" y="261"/>
                      </a:lnTo>
                      <a:lnTo>
                        <a:pt x="25" y="254"/>
                      </a:lnTo>
                      <a:lnTo>
                        <a:pt x="30" y="249"/>
                      </a:lnTo>
                      <a:lnTo>
                        <a:pt x="33" y="242"/>
                      </a:lnTo>
                      <a:lnTo>
                        <a:pt x="37" y="233"/>
                      </a:lnTo>
                      <a:lnTo>
                        <a:pt x="38" y="226"/>
                      </a:lnTo>
                      <a:lnTo>
                        <a:pt x="41" y="222"/>
                      </a:lnTo>
                      <a:lnTo>
                        <a:pt x="41" y="216"/>
                      </a:lnTo>
                      <a:lnTo>
                        <a:pt x="41" y="211"/>
                      </a:lnTo>
                      <a:lnTo>
                        <a:pt x="42" y="204"/>
                      </a:lnTo>
                      <a:lnTo>
                        <a:pt x="42" y="199"/>
                      </a:lnTo>
                      <a:lnTo>
                        <a:pt x="42" y="192"/>
                      </a:lnTo>
                      <a:lnTo>
                        <a:pt x="41" y="187"/>
                      </a:lnTo>
                      <a:lnTo>
                        <a:pt x="37" y="180"/>
                      </a:lnTo>
                      <a:lnTo>
                        <a:pt x="34" y="175"/>
                      </a:lnTo>
                      <a:lnTo>
                        <a:pt x="33" y="168"/>
                      </a:lnTo>
                      <a:lnTo>
                        <a:pt x="30" y="163"/>
                      </a:lnTo>
                      <a:lnTo>
                        <a:pt x="26" y="156"/>
                      </a:lnTo>
                      <a:lnTo>
                        <a:pt x="25" y="150"/>
                      </a:lnTo>
                      <a:lnTo>
                        <a:pt x="21" y="144"/>
                      </a:lnTo>
                      <a:lnTo>
                        <a:pt x="21" y="138"/>
                      </a:lnTo>
                      <a:lnTo>
                        <a:pt x="21" y="133"/>
                      </a:lnTo>
                      <a:lnTo>
                        <a:pt x="21" y="126"/>
                      </a:lnTo>
                      <a:lnTo>
                        <a:pt x="21" y="121"/>
                      </a:lnTo>
                      <a:lnTo>
                        <a:pt x="21" y="114"/>
                      </a:lnTo>
                      <a:lnTo>
                        <a:pt x="25" y="109"/>
                      </a:lnTo>
                      <a:lnTo>
                        <a:pt x="26" y="102"/>
                      </a:lnTo>
                      <a:lnTo>
                        <a:pt x="30" y="94"/>
                      </a:lnTo>
                      <a:lnTo>
                        <a:pt x="33" y="89"/>
                      </a:lnTo>
                      <a:lnTo>
                        <a:pt x="34" y="82"/>
                      </a:lnTo>
                      <a:lnTo>
                        <a:pt x="37" y="76"/>
                      </a:lnTo>
                      <a:lnTo>
                        <a:pt x="38" y="70"/>
                      </a:lnTo>
                      <a:lnTo>
                        <a:pt x="41" y="64"/>
                      </a:lnTo>
                      <a:lnTo>
                        <a:pt x="45" y="59"/>
                      </a:lnTo>
                      <a:lnTo>
                        <a:pt x="45" y="52"/>
                      </a:lnTo>
                      <a:lnTo>
                        <a:pt x="49" y="47"/>
                      </a:lnTo>
                      <a:lnTo>
                        <a:pt x="50" y="40"/>
                      </a:lnTo>
                      <a:lnTo>
                        <a:pt x="50" y="35"/>
                      </a:lnTo>
                      <a:lnTo>
                        <a:pt x="51" y="28"/>
                      </a:lnTo>
                      <a:lnTo>
                        <a:pt x="51" y="23"/>
                      </a:lnTo>
                      <a:lnTo>
                        <a:pt x="51" y="16"/>
                      </a:lnTo>
                      <a:lnTo>
                        <a:pt x="51" y="11"/>
                      </a:lnTo>
                      <a:lnTo>
                        <a:pt x="51" y="4"/>
                      </a:lnTo>
                      <a:lnTo>
                        <a:pt x="57" y="0"/>
                      </a:lnTo>
                      <a:lnTo>
                        <a:pt x="63" y="3"/>
                      </a:lnTo>
                      <a:lnTo>
                        <a:pt x="63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2843640" y="4023720"/>
                <a:ext cx="158760" cy="386640"/>
                <a:chOff x="2843640" y="4023720"/>
                <a:chExt cx="158760" cy="386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843640" y="4023720"/>
                  <a:ext cx="158760" cy="386640"/>
                </a:xfrm>
                <a:custGeom>
                  <a:avLst/>
                  <a:gdLst/>
                  <a:ahLst/>
                  <a:rect l="l" t="t" r="r" b="b"/>
                  <a:pathLst>
                    <a:path w="350" h="896">
                      <a:moveTo>
                        <a:pt x="82" y="5"/>
                      </a:moveTo>
                      <a:lnTo>
                        <a:pt x="49" y="0"/>
                      </a:lnTo>
                      <a:lnTo>
                        <a:pt x="27" y="11"/>
                      </a:lnTo>
                      <a:lnTo>
                        <a:pt x="3" y="35"/>
                      </a:lnTo>
                      <a:lnTo>
                        <a:pt x="0" y="85"/>
                      </a:lnTo>
                      <a:lnTo>
                        <a:pt x="3" y="150"/>
                      </a:lnTo>
                      <a:lnTo>
                        <a:pt x="27" y="249"/>
                      </a:lnTo>
                      <a:lnTo>
                        <a:pt x="45" y="375"/>
                      </a:lnTo>
                      <a:lnTo>
                        <a:pt x="58" y="474"/>
                      </a:lnTo>
                      <a:lnTo>
                        <a:pt x="77" y="581"/>
                      </a:lnTo>
                      <a:lnTo>
                        <a:pt x="97" y="696"/>
                      </a:lnTo>
                      <a:lnTo>
                        <a:pt x="117" y="786"/>
                      </a:lnTo>
                      <a:lnTo>
                        <a:pt x="124" y="821"/>
                      </a:lnTo>
                      <a:lnTo>
                        <a:pt x="305" y="896"/>
                      </a:lnTo>
                      <a:lnTo>
                        <a:pt x="323" y="790"/>
                      </a:lnTo>
                      <a:lnTo>
                        <a:pt x="335" y="745"/>
                      </a:lnTo>
                      <a:lnTo>
                        <a:pt x="350" y="711"/>
                      </a:lnTo>
                      <a:lnTo>
                        <a:pt x="344" y="700"/>
                      </a:lnTo>
                      <a:lnTo>
                        <a:pt x="307" y="667"/>
                      </a:lnTo>
                      <a:lnTo>
                        <a:pt x="278" y="621"/>
                      </a:lnTo>
                      <a:lnTo>
                        <a:pt x="241" y="556"/>
                      </a:lnTo>
                      <a:lnTo>
                        <a:pt x="210" y="485"/>
                      </a:lnTo>
                      <a:lnTo>
                        <a:pt x="180" y="396"/>
                      </a:lnTo>
                      <a:lnTo>
                        <a:pt x="139" y="289"/>
                      </a:lnTo>
                      <a:lnTo>
                        <a:pt x="98" y="179"/>
                      </a:lnTo>
                      <a:lnTo>
                        <a:pt x="81" y="121"/>
                      </a:lnTo>
                      <a:lnTo>
                        <a:pt x="77" y="63"/>
                      </a:lnTo>
                      <a:lnTo>
                        <a:pt x="58" y="87"/>
                      </a:lnTo>
                      <a:lnTo>
                        <a:pt x="69" y="158"/>
                      </a:lnTo>
                      <a:lnTo>
                        <a:pt x="85" y="204"/>
                      </a:lnTo>
                      <a:lnTo>
                        <a:pt x="109" y="271"/>
                      </a:lnTo>
                      <a:lnTo>
                        <a:pt x="136" y="345"/>
                      </a:lnTo>
                      <a:lnTo>
                        <a:pt x="167" y="431"/>
                      </a:lnTo>
                      <a:lnTo>
                        <a:pt x="194" y="495"/>
                      </a:lnTo>
                      <a:lnTo>
                        <a:pt x="221" y="556"/>
                      </a:lnTo>
                      <a:lnTo>
                        <a:pt x="246" y="614"/>
                      </a:lnTo>
                      <a:lnTo>
                        <a:pt x="274" y="659"/>
                      </a:lnTo>
                      <a:lnTo>
                        <a:pt x="304" y="688"/>
                      </a:lnTo>
                      <a:lnTo>
                        <a:pt x="323" y="715"/>
                      </a:lnTo>
                      <a:lnTo>
                        <a:pt x="307" y="777"/>
                      </a:lnTo>
                      <a:lnTo>
                        <a:pt x="296" y="828"/>
                      </a:lnTo>
                      <a:lnTo>
                        <a:pt x="290" y="863"/>
                      </a:lnTo>
                      <a:lnTo>
                        <a:pt x="139" y="802"/>
                      </a:lnTo>
                      <a:lnTo>
                        <a:pt x="114" y="675"/>
                      </a:lnTo>
                      <a:lnTo>
                        <a:pt x="93" y="556"/>
                      </a:lnTo>
                      <a:lnTo>
                        <a:pt x="74" y="445"/>
                      </a:lnTo>
                      <a:lnTo>
                        <a:pt x="53" y="326"/>
                      </a:lnTo>
                      <a:lnTo>
                        <a:pt x="43" y="240"/>
                      </a:lnTo>
                      <a:lnTo>
                        <a:pt x="27" y="169"/>
                      </a:lnTo>
                      <a:lnTo>
                        <a:pt x="23" y="163"/>
                      </a:lnTo>
                      <a:lnTo>
                        <a:pt x="16" y="105"/>
                      </a:lnTo>
                      <a:lnTo>
                        <a:pt x="20" y="63"/>
                      </a:lnTo>
                      <a:lnTo>
                        <a:pt x="31" y="29"/>
                      </a:lnTo>
                      <a:lnTo>
                        <a:pt x="47" y="17"/>
                      </a:lnTo>
                      <a:lnTo>
                        <a:pt x="73" y="25"/>
                      </a:lnTo>
                      <a:lnTo>
                        <a:pt x="90" y="35"/>
                      </a:lnTo>
                      <a:lnTo>
                        <a:pt x="8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89720" y="4036320"/>
                  <a:ext cx="40320" cy="153720"/>
                </a:xfrm>
                <a:custGeom>
                  <a:avLst/>
                  <a:gdLst/>
                  <a:ahLst/>
                  <a:rect l="l" t="t" r="r" b="b"/>
                  <a:pathLst>
                    <a:path w="90" h="357">
                      <a:moveTo>
                        <a:pt x="18" y="0"/>
                      </a:moveTo>
                      <a:lnTo>
                        <a:pt x="55" y="38"/>
                      </a:lnTo>
                      <a:lnTo>
                        <a:pt x="78" y="102"/>
                      </a:lnTo>
                      <a:lnTo>
                        <a:pt x="90" y="190"/>
                      </a:lnTo>
                      <a:lnTo>
                        <a:pt x="86" y="282"/>
                      </a:lnTo>
                      <a:lnTo>
                        <a:pt x="71" y="357"/>
                      </a:lnTo>
                      <a:lnTo>
                        <a:pt x="55" y="332"/>
                      </a:lnTo>
                      <a:lnTo>
                        <a:pt x="74" y="252"/>
                      </a:lnTo>
                      <a:lnTo>
                        <a:pt x="74" y="182"/>
                      </a:lnTo>
                      <a:lnTo>
                        <a:pt x="66" y="120"/>
                      </a:lnTo>
                      <a:lnTo>
                        <a:pt x="48" y="59"/>
                      </a:lnTo>
                      <a:lnTo>
                        <a:pt x="30" y="34"/>
                      </a:lnTo>
                      <a:lnTo>
                        <a:pt x="0" y="2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872080" y="4134600"/>
                <a:ext cx="121680" cy="246960"/>
                <a:chOff x="2872080" y="4134600"/>
                <a:chExt cx="121680" cy="2469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72080" y="4134600"/>
                  <a:ext cx="24120" cy="24480"/>
                </a:xfrm>
                <a:custGeom>
                  <a:avLst/>
                  <a:gdLst/>
                  <a:ahLst/>
                  <a:rect l="l" t="t" r="r" b="b"/>
                  <a:pathLst>
                    <a:path w="56" h="55">
                      <a:moveTo>
                        <a:pt x="52" y="1"/>
                      </a:moveTo>
                      <a:lnTo>
                        <a:pt x="44" y="0"/>
                      </a:lnTo>
                      <a:lnTo>
                        <a:pt x="36" y="0"/>
                      </a:lnTo>
                      <a:lnTo>
                        <a:pt x="28" y="1"/>
                      </a:lnTo>
                      <a:lnTo>
                        <a:pt x="24" y="8"/>
                      </a:lnTo>
                      <a:lnTo>
                        <a:pt x="22" y="13"/>
                      </a:lnTo>
                      <a:lnTo>
                        <a:pt x="22" y="19"/>
                      </a:lnTo>
                      <a:lnTo>
                        <a:pt x="24" y="25"/>
                      </a:lnTo>
                      <a:lnTo>
                        <a:pt x="24" y="31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6" y="37"/>
                      </a:lnTo>
                      <a:lnTo>
                        <a:pt x="0" y="43"/>
                      </a:lnTo>
                      <a:lnTo>
                        <a:pt x="6" y="45"/>
                      </a:lnTo>
                      <a:lnTo>
                        <a:pt x="12" y="45"/>
                      </a:lnTo>
                      <a:lnTo>
                        <a:pt x="20" y="49"/>
                      </a:lnTo>
                      <a:lnTo>
                        <a:pt x="24" y="55"/>
                      </a:lnTo>
                      <a:lnTo>
                        <a:pt x="29" y="55"/>
                      </a:lnTo>
                      <a:lnTo>
                        <a:pt x="36" y="51"/>
                      </a:lnTo>
                      <a:lnTo>
                        <a:pt x="36" y="45"/>
                      </a:lnTo>
                      <a:lnTo>
                        <a:pt x="36" y="39"/>
                      </a:lnTo>
                      <a:lnTo>
                        <a:pt x="36" y="33"/>
                      </a:lnTo>
                      <a:lnTo>
                        <a:pt x="33" y="27"/>
                      </a:lnTo>
                      <a:lnTo>
                        <a:pt x="33" y="21"/>
                      </a:lnTo>
                      <a:lnTo>
                        <a:pt x="40" y="19"/>
                      </a:lnTo>
                      <a:lnTo>
                        <a:pt x="45" y="19"/>
                      </a:lnTo>
                      <a:lnTo>
                        <a:pt x="52" y="19"/>
                      </a:lnTo>
                      <a:lnTo>
                        <a:pt x="56" y="19"/>
                      </a:lnTo>
                      <a:lnTo>
                        <a:pt x="56" y="13"/>
                      </a:lnTo>
                      <a:lnTo>
                        <a:pt x="52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74240" y="4164480"/>
                  <a:ext cx="36720" cy="24480"/>
                </a:xfrm>
                <a:custGeom>
                  <a:avLst/>
                  <a:gdLst/>
                  <a:ahLst/>
                  <a:rect l="l" t="t" r="r" b="b"/>
                  <a:pathLst>
                    <a:path w="80" h="58">
                      <a:moveTo>
                        <a:pt x="68" y="3"/>
                      </a:moveTo>
                      <a:lnTo>
                        <a:pt x="60" y="0"/>
                      </a:lnTo>
                      <a:lnTo>
                        <a:pt x="53" y="3"/>
                      </a:lnTo>
                      <a:lnTo>
                        <a:pt x="48" y="4"/>
                      </a:lnTo>
                      <a:lnTo>
                        <a:pt x="44" y="11"/>
                      </a:lnTo>
                      <a:lnTo>
                        <a:pt x="41" y="16"/>
                      </a:lnTo>
                      <a:lnTo>
                        <a:pt x="40" y="23"/>
                      </a:lnTo>
                      <a:lnTo>
                        <a:pt x="40" y="28"/>
                      </a:lnTo>
                      <a:lnTo>
                        <a:pt x="37" y="36"/>
                      </a:lnTo>
                      <a:lnTo>
                        <a:pt x="32" y="36"/>
                      </a:lnTo>
                      <a:lnTo>
                        <a:pt x="25" y="36"/>
                      </a:lnTo>
                      <a:lnTo>
                        <a:pt x="20" y="32"/>
                      </a:lnTo>
                      <a:lnTo>
                        <a:pt x="14" y="32"/>
                      </a:lnTo>
                      <a:lnTo>
                        <a:pt x="8" y="34"/>
                      </a:lnTo>
                      <a:lnTo>
                        <a:pt x="4" y="40"/>
                      </a:lnTo>
                      <a:lnTo>
                        <a:pt x="0" y="46"/>
                      </a:lnTo>
                      <a:lnTo>
                        <a:pt x="0" y="52"/>
                      </a:lnTo>
                      <a:lnTo>
                        <a:pt x="0" y="58"/>
                      </a:lnTo>
                      <a:lnTo>
                        <a:pt x="0" y="52"/>
                      </a:lnTo>
                      <a:lnTo>
                        <a:pt x="6" y="50"/>
                      </a:lnTo>
                      <a:lnTo>
                        <a:pt x="12" y="48"/>
                      </a:lnTo>
                      <a:lnTo>
                        <a:pt x="17" y="52"/>
                      </a:lnTo>
                      <a:lnTo>
                        <a:pt x="24" y="56"/>
                      </a:lnTo>
                      <a:lnTo>
                        <a:pt x="29" y="58"/>
                      </a:lnTo>
                      <a:lnTo>
                        <a:pt x="36" y="58"/>
                      </a:lnTo>
                      <a:lnTo>
                        <a:pt x="41" y="58"/>
                      </a:lnTo>
                      <a:lnTo>
                        <a:pt x="48" y="54"/>
                      </a:lnTo>
                      <a:lnTo>
                        <a:pt x="49" y="48"/>
                      </a:lnTo>
                      <a:lnTo>
                        <a:pt x="49" y="42"/>
                      </a:lnTo>
                      <a:lnTo>
                        <a:pt x="49" y="36"/>
                      </a:lnTo>
                      <a:lnTo>
                        <a:pt x="52" y="30"/>
                      </a:lnTo>
                      <a:lnTo>
                        <a:pt x="57" y="28"/>
                      </a:lnTo>
                      <a:lnTo>
                        <a:pt x="64" y="28"/>
                      </a:lnTo>
                      <a:lnTo>
                        <a:pt x="69" y="28"/>
                      </a:lnTo>
                      <a:lnTo>
                        <a:pt x="76" y="28"/>
                      </a:lnTo>
                      <a:lnTo>
                        <a:pt x="80" y="28"/>
                      </a:lnTo>
                      <a:lnTo>
                        <a:pt x="68" y="3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78560" y="4195440"/>
                  <a:ext cx="43200" cy="39600"/>
                </a:xfrm>
                <a:custGeom>
                  <a:avLst/>
                  <a:gdLst/>
                  <a:ahLst/>
                  <a:rect l="l" t="t" r="r" b="b"/>
                  <a:pathLst>
                    <a:path w="95" h="94">
                      <a:moveTo>
                        <a:pt x="91" y="2"/>
                      </a:moveTo>
                      <a:lnTo>
                        <a:pt x="83" y="2"/>
                      </a:lnTo>
                      <a:lnTo>
                        <a:pt x="76" y="0"/>
                      </a:lnTo>
                      <a:lnTo>
                        <a:pt x="69" y="0"/>
                      </a:lnTo>
                      <a:lnTo>
                        <a:pt x="64" y="2"/>
                      </a:lnTo>
                      <a:lnTo>
                        <a:pt x="56" y="4"/>
                      </a:lnTo>
                      <a:lnTo>
                        <a:pt x="56" y="12"/>
                      </a:lnTo>
                      <a:lnTo>
                        <a:pt x="56" y="18"/>
                      </a:lnTo>
                      <a:lnTo>
                        <a:pt x="56" y="26"/>
                      </a:lnTo>
                      <a:lnTo>
                        <a:pt x="56" y="32"/>
                      </a:lnTo>
                      <a:lnTo>
                        <a:pt x="56" y="38"/>
                      </a:lnTo>
                      <a:lnTo>
                        <a:pt x="52" y="43"/>
                      </a:lnTo>
                      <a:lnTo>
                        <a:pt x="45" y="50"/>
                      </a:lnTo>
                      <a:lnTo>
                        <a:pt x="40" y="54"/>
                      </a:lnTo>
                      <a:lnTo>
                        <a:pt x="33" y="54"/>
                      </a:lnTo>
                      <a:lnTo>
                        <a:pt x="28" y="54"/>
                      </a:lnTo>
                      <a:lnTo>
                        <a:pt x="20" y="51"/>
                      </a:lnTo>
                      <a:lnTo>
                        <a:pt x="13" y="50"/>
                      </a:lnTo>
                      <a:lnTo>
                        <a:pt x="8" y="51"/>
                      </a:lnTo>
                      <a:lnTo>
                        <a:pt x="4" y="58"/>
                      </a:lnTo>
                      <a:lnTo>
                        <a:pt x="2" y="66"/>
                      </a:lnTo>
                      <a:lnTo>
                        <a:pt x="0" y="71"/>
                      </a:lnTo>
                      <a:lnTo>
                        <a:pt x="0" y="78"/>
                      </a:lnTo>
                      <a:lnTo>
                        <a:pt x="0" y="83"/>
                      </a:lnTo>
                      <a:lnTo>
                        <a:pt x="0" y="90"/>
                      </a:lnTo>
                      <a:lnTo>
                        <a:pt x="0" y="94"/>
                      </a:lnTo>
                      <a:lnTo>
                        <a:pt x="0" y="87"/>
                      </a:lnTo>
                      <a:lnTo>
                        <a:pt x="4" y="82"/>
                      </a:lnTo>
                      <a:lnTo>
                        <a:pt x="6" y="75"/>
                      </a:lnTo>
                      <a:lnTo>
                        <a:pt x="12" y="71"/>
                      </a:lnTo>
                      <a:lnTo>
                        <a:pt x="20" y="67"/>
                      </a:lnTo>
                      <a:lnTo>
                        <a:pt x="25" y="67"/>
                      </a:lnTo>
                      <a:lnTo>
                        <a:pt x="32" y="67"/>
                      </a:lnTo>
                      <a:lnTo>
                        <a:pt x="37" y="67"/>
                      </a:lnTo>
                      <a:lnTo>
                        <a:pt x="44" y="67"/>
                      </a:lnTo>
                      <a:lnTo>
                        <a:pt x="49" y="67"/>
                      </a:lnTo>
                      <a:lnTo>
                        <a:pt x="56" y="66"/>
                      </a:lnTo>
                      <a:lnTo>
                        <a:pt x="61" y="59"/>
                      </a:lnTo>
                      <a:lnTo>
                        <a:pt x="64" y="54"/>
                      </a:lnTo>
                      <a:lnTo>
                        <a:pt x="65" y="47"/>
                      </a:lnTo>
                      <a:lnTo>
                        <a:pt x="68" y="42"/>
                      </a:lnTo>
                      <a:lnTo>
                        <a:pt x="68" y="35"/>
                      </a:lnTo>
                      <a:lnTo>
                        <a:pt x="68" y="30"/>
                      </a:lnTo>
                      <a:lnTo>
                        <a:pt x="68" y="24"/>
                      </a:lnTo>
                      <a:lnTo>
                        <a:pt x="73" y="22"/>
                      </a:lnTo>
                      <a:lnTo>
                        <a:pt x="79" y="22"/>
                      </a:lnTo>
                      <a:lnTo>
                        <a:pt x="85" y="22"/>
                      </a:lnTo>
                      <a:lnTo>
                        <a:pt x="91" y="22"/>
                      </a:lnTo>
                      <a:lnTo>
                        <a:pt x="95" y="22"/>
                      </a:lnTo>
                      <a:lnTo>
                        <a:pt x="91" y="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89360" y="4224960"/>
                  <a:ext cx="44640" cy="39960"/>
                </a:xfrm>
                <a:custGeom>
                  <a:avLst/>
                  <a:gdLst/>
                  <a:ahLst/>
                  <a:rect l="l" t="t" r="r" b="b"/>
                  <a:pathLst>
                    <a:path w="99" h="93">
                      <a:moveTo>
                        <a:pt x="87" y="1"/>
                      </a:moveTo>
                      <a:lnTo>
                        <a:pt x="79" y="0"/>
                      </a:lnTo>
                      <a:lnTo>
                        <a:pt x="74" y="0"/>
                      </a:lnTo>
                      <a:lnTo>
                        <a:pt x="67" y="0"/>
                      </a:lnTo>
                      <a:lnTo>
                        <a:pt x="62" y="5"/>
                      </a:lnTo>
                      <a:lnTo>
                        <a:pt x="59" y="11"/>
                      </a:lnTo>
                      <a:lnTo>
                        <a:pt x="58" y="17"/>
                      </a:lnTo>
                      <a:lnTo>
                        <a:pt x="58" y="23"/>
                      </a:lnTo>
                      <a:lnTo>
                        <a:pt x="58" y="29"/>
                      </a:lnTo>
                      <a:lnTo>
                        <a:pt x="58" y="35"/>
                      </a:lnTo>
                      <a:lnTo>
                        <a:pt x="54" y="44"/>
                      </a:lnTo>
                      <a:lnTo>
                        <a:pt x="46" y="48"/>
                      </a:lnTo>
                      <a:lnTo>
                        <a:pt x="35" y="47"/>
                      </a:lnTo>
                      <a:lnTo>
                        <a:pt x="30" y="43"/>
                      </a:lnTo>
                      <a:lnTo>
                        <a:pt x="23" y="39"/>
                      </a:lnTo>
                      <a:lnTo>
                        <a:pt x="18" y="39"/>
                      </a:lnTo>
                      <a:lnTo>
                        <a:pt x="12" y="41"/>
                      </a:lnTo>
                      <a:lnTo>
                        <a:pt x="8" y="47"/>
                      </a:lnTo>
                      <a:lnTo>
                        <a:pt x="6" y="52"/>
                      </a:lnTo>
                      <a:lnTo>
                        <a:pt x="2" y="59"/>
                      </a:lnTo>
                      <a:lnTo>
                        <a:pt x="2" y="64"/>
                      </a:lnTo>
                      <a:lnTo>
                        <a:pt x="0" y="71"/>
                      </a:lnTo>
                      <a:lnTo>
                        <a:pt x="0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3"/>
                      </a:lnTo>
                      <a:lnTo>
                        <a:pt x="2" y="76"/>
                      </a:lnTo>
                      <a:lnTo>
                        <a:pt x="6" y="71"/>
                      </a:lnTo>
                      <a:lnTo>
                        <a:pt x="10" y="64"/>
                      </a:lnTo>
                      <a:lnTo>
                        <a:pt x="16" y="63"/>
                      </a:lnTo>
                      <a:lnTo>
                        <a:pt x="22" y="63"/>
                      </a:lnTo>
                      <a:lnTo>
                        <a:pt x="27" y="67"/>
                      </a:lnTo>
                      <a:lnTo>
                        <a:pt x="34" y="71"/>
                      </a:lnTo>
                      <a:lnTo>
                        <a:pt x="39" y="75"/>
                      </a:lnTo>
                      <a:lnTo>
                        <a:pt x="46" y="79"/>
                      </a:lnTo>
                      <a:lnTo>
                        <a:pt x="51" y="76"/>
                      </a:lnTo>
                      <a:lnTo>
                        <a:pt x="54" y="71"/>
                      </a:lnTo>
                      <a:lnTo>
                        <a:pt x="59" y="67"/>
                      </a:lnTo>
                      <a:lnTo>
                        <a:pt x="59" y="60"/>
                      </a:lnTo>
                      <a:lnTo>
                        <a:pt x="59" y="55"/>
                      </a:lnTo>
                      <a:lnTo>
                        <a:pt x="62" y="48"/>
                      </a:lnTo>
                      <a:lnTo>
                        <a:pt x="63" y="43"/>
                      </a:lnTo>
                      <a:lnTo>
                        <a:pt x="66" y="37"/>
                      </a:lnTo>
                      <a:lnTo>
                        <a:pt x="67" y="31"/>
                      </a:lnTo>
                      <a:lnTo>
                        <a:pt x="74" y="27"/>
                      </a:lnTo>
                      <a:lnTo>
                        <a:pt x="79" y="23"/>
                      </a:lnTo>
                      <a:lnTo>
                        <a:pt x="86" y="23"/>
                      </a:lnTo>
                      <a:lnTo>
                        <a:pt x="93" y="23"/>
                      </a:lnTo>
                      <a:lnTo>
                        <a:pt x="99" y="29"/>
                      </a:lnTo>
                      <a:lnTo>
                        <a:pt x="87" y="1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92240" y="4254840"/>
                  <a:ext cx="56880" cy="39960"/>
                </a:xfrm>
                <a:custGeom>
                  <a:avLst/>
                  <a:gdLst/>
                  <a:ahLst/>
                  <a:rect l="l" t="t" r="r" b="b"/>
                  <a:pathLst>
                    <a:path w="124" h="93">
                      <a:moveTo>
                        <a:pt x="105" y="0"/>
                      </a:moveTo>
                      <a:lnTo>
                        <a:pt x="96" y="0"/>
                      </a:lnTo>
                      <a:lnTo>
                        <a:pt x="91" y="0"/>
                      </a:lnTo>
                      <a:lnTo>
                        <a:pt x="85" y="0"/>
                      </a:lnTo>
                      <a:lnTo>
                        <a:pt x="82" y="5"/>
                      </a:lnTo>
                      <a:lnTo>
                        <a:pt x="79" y="12"/>
                      </a:lnTo>
                      <a:lnTo>
                        <a:pt x="78" y="17"/>
                      </a:lnTo>
                      <a:lnTo>
                        <a:pt x="78" y="23"/>
                      </a:lnTo>
                      <a:lnTo>
                        <a:pt x="79" y="29"/>
                      </a:lnTo>
                      <a:lnTo>
                        <a:pt x="79" y="35"/>
                      </a:lnTo>
                      <a:lnTo>
                        <a:pt x="78" y="41"/>
                      </a:lnTo>
                      <a:lnTo>
                        <a:pt x="71" y="47"/>
                      </a:lnTo>
                      <a:lnTo>
                        <a:pt x="66" y="49"/>
                      </a:lnTo>
                      <a:lnTo>
                        <a:pt x="59" y="49"/>
                      </a:lnTo>
                      <a:lnTo>
                        <a:pt x="51" y="49"/>
                      </a:lnTo>
                      <a:lnTo>
                        <a:pt x="46" y="47"/>
                      </a:lnTo>
                      <a:lnTo>
                        <a:pt x="38" y="41"/>
                      </a:lnTo>
                      <a:lnTo>
                        <a:pt x="31" y="35"/>
                      </a:lnTo>
                      <a:lnTo>
                        <a:pt x="27" y="35"/>
                      </a:lnTo>
                      <a:lnTo>
                        <a:pt x="21" y="35"/>
                      </a:lnTo>
                      <a:lnTo>
                        <a:pt x="15" y="37"/>
                      </a:lnTo>
                      <a:lnTo>
                        <a:pt x="13" y="43"/>
                      </a:lnTo>
                      <a:lnTo>
                        <a:pt x="11" y="49"/>
                      </a:lnTo>
                      <a:lnTo>
                        <a:pt x="8" y="56"/>
                      </a:lnTo>
                      <a:lnTo>
                        <a:pt x="4" y="64"/>
                      </a:lnTo>
                      <a:lnTo>
                        <a:pt x="4" y="71"/>
                      </a:lnTo>
                      <a:lnTo>
                        <a:pt x="1" y="76"/>
                      </a:lnTo>
                      <a:lnTo>
                        <a:pt x="0" y="83"/>
                      </a:lnTo>
                      <a:lnTo>
                        <a:pt x="0" y="88"/>
                      </a:lnTo>
                      <a:lnTo>
                        <a:pt x="0" y="93"/>
                      </a:lnTo>
                      <a:lnTo>
                        <a:pt x="1" y="88"/>
                      </a:lnTo>
                      <a:lnTo>
                        <a:pt x="4" y="83"/>
                      </a:lnTo>
                      <a:lnTo>
                        <a:pt x="8" y="76"/>
                      </a:lnTo>
                      <a:lnTo>
                        <a:pt x="11" y="71"/>
                      </a:lnTo>
                      <a:lnTo>
                        <a:pt x="15" y="64"/>
                      </a:lnTo>
                      <a:lnTo>
                        <a:pt x="19" y="59"/>
                      </a:lnTo>
                      <a:lnTo>
                        <a:pt x="25" y="59"/>
                      </a:lnTo>
                      <a:lnTo>
                        <a:pt x="31" y="59"/>
                      </a:lnTo>
                      <a:lnTo>
                        <a:pt x="35" y="63"/>
                      </a:lnTo>
                      <a:lnTo>
                        <a:pt x="42" y="67"/>
                      </a:lnTo>
                      <a:lnTo>
                        <a:pt x="50" y="71"/>
                      </a:lnTo>
                      <a:lnTo>
                        <a:pt x="55" y="72"/>
                      </a:lnTo>
                      <a:lnTo>
                        <a:pt x="62" y="75"/>
                      </a:lnTo>
                      <a:lnTo>
                        <a:pt x="67" y="76"/>
                      </a:lnTo>
                      <a:lnTo>
                        <a:pt x="74" y="76"/>
                      </a:lnTo>
                      <a:lnTo>
                        <a:pt x="79" y="72"/>
                      </a:lnTo>
                      <a:lnTo>
                        <a:pt x="83" y="67"/>
                      </a:lnTo>
                      <a:lnTo>
                        <a:pt x="85" y="59"/>
                      </a:lnTo>
                      <a:lnTo>
                        <a:pt x="85" y="52"/>
                      </a:lnTo>
                      <a:lnTo>
                        <a:pt x="85" y="47"/>
                      </a:lnTo>
                      <a:lnTo>
                        <a:pt x="87" y="41"/>
                      </a:lnTo>
                      <a:lnTo>
                        <a:pt x="89" y="35"/>
                      </a:lnTo>
                      <a:lnTo>
                        <a:pt x="89" y="29"/>
                      </a:lnTo>
                      <a:lnTo>
                        <a:pt x="91" y="23"/>
                      </a:lnTo>
                      <a:lnTo>
                        <a:pt x="96" y="19"/>
                      </a:lnTo>
                      <a:lnTo>
                        <a:pt x="101" y="19"/>
                      </a:lnTo>
                      <a:lnTo>
                        <a:pt x="108" y="19"/>
                      </a:lnTo>
                      <a:lnTo>
                        <a:pt x="112" y="25"/>
                      </a:lnTo>
                      <a:lnTo>
                        <a:pt x="117" y="27"/>
                      </a:lnTo>
                      <a:lnTo>
                        <a:pt x="124" y="31"/>
                      </a:lnTo>
                      <a:lnTo>
                        <a:pt x="105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895120" y="4291200"/>
                  <a:ext cx="74160" cy="54000"/>
                </a:xfrm>
                <a:custGeom>
                  <a:avLst/>
                  <a:gdLst/>
                  <a:ahLst/>
                  <a:rect l="l" t="t" r="r" b="b"/>
                  <a:pathLst>
                    <a:path w="166" h="127">
                      <a:moveTo>
                        <a:pt x="139" y="0"/>
                      </a:moveTo>
                      <a:lnTo>
                        <a:pt x="131" y="0"/>
                      </a:lnTo>
                      <a:lnTo>
                        <a:pt x="124" y="5"/>
                      </a:lnTo>
                      <a:lnTo>
                        <a:pt x="116" y="9"/>
                      </a:lnTo>
                      <a:lnTo>
                        <a:pt x="114" y="16"/>
                      </a:lnTo>
                      <a:lnTo>
                        <a:pt x="112" y="25"/>
                      </a:lnTo>
                      <a:lnTo>
                        <a:pt x="112" y="32"/>
                      </a:lnTo>
                      <a:lnTo>
                        <a:pt x="112" y="37"/>
                      </a:lnTo>
                      <a:lnTo>
                        <a:pt x="112" y="45"/>
                      </a:lnTo>
                      <a:lnTo>
                        <a:pt x="112" y="53"/>
                      </a:lnTo>
                      <a:lnTo>
                        <a:pt x="110" y="59"/>
                      </a:lnTo>
                      <a:lnTo>
                        <a:pt x="108" y="65"/>
                      </a:lnTo>
                      <a:lnTo>
                        <a:pt x="102" y="67"/>
                      </a:lnTo>
                      <a:lnTo>
                        <a:pt x="96" y="69"/>
                      </a:lnTo>
                      <a:lnTo>
                        <a:pt x="90" y="69"/>
                      </a:lnTo>
                      <a:lnTo>
                        <a:pt x="82" y="69"/>
                      </a:lnTo>
                      <a:lnTo>
                        <a:pt x="78" y="63"/>
                      </a:lnTo>
                      <a:lnTo>
                        <a:pt x="70" y="59"/>
                      </a:lnTo>
                      <a:lnTo>
                        <a:pt x="66" y="53"/>
                      </a:lnTo>
                      <a:lnTo>
                        <a:pt x="61" y="53"/>
                      </a:lnTo>
                      <a:lnTo>
                        <a:pt x="54" y="49"/>
                      </a:lnTo>
                      <a:lnTo>
                        <a:pt x="46" y="47"/>
                      </a:lnTo>
                      <a:lnTo>
                        <a:pt x="42" y="47"/>
                      </a:lnTo>
                      <a:lnTo>
                        <a:pt x="36" y="47"/>
                      </a:lnTo>
                      <a:lnTo>
                        <a:pt x="30" y="49"/>
                      </a:lnTo>
                      <a:lnTo>
                        <a:pt x="24" y="55"/>
                      </a:lnTo>
                      <a:lnTo>
                        <a:pt x="18" y="57"/>
                      </a:lnTo>
                      <a:lnTo>
                        <a:pt x="14" y="63"/>
                      </a:lnTo>
                      <a:lnTo>
                        <a:pt x="10" y="69"/>
                      </a:lnTo>
                      <a:lnTo>
                        <a:pt x="6" y="75"/>
                      </a:lnTo>
                      <a:lnTo>
                        <a:pt x="4" y="83"/>
                      </a:lnTo>
                      <a:lnTo>
                        <a:pt x="3" y="88"/>
                      </a:lnTo>
                      <a:lnTo>
                        <a:pt x="0" y="95"/>
                      </a:lnTo>
                      <a:lnTo>
                        <a:pt x="0" y="100"/>
                      </a:lnTo>
                      <a:lnTo>
                        <a:pt x="0" y="107"/>
                      </a:lnTo>
                      <a:lnTo>
                        <a:pt x="0" y="115"/>
                      </a:lnTo>
                      <a:lnTo>
                        <a:pt x="3" y="123"/>
                      </a:lnTo>
                      <a:lnTo>
                        <a:pt x="4" y="127"/>
                      </a:lnTo>
                      <a:lnTo>
                        <a:pt x="4" y="123"/>
                      </a:lnTo>
                      <a:lnTo>
                        <a:pt x="4" y="116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6" y="96"/>
                      </a:lnTo>
                      <a:lnTo>
                        <a:pt x="10" y="91"/>
                      </a:lnTo>
                      <a:lnTo>
                        <a:pt x="14" y="85"/>
                      </a:lnTo>
                      <a:lnTo>
                        <a:pt x="18" y="79"/>
                      </a:lnTo>
                      <a:lnTo>
                        <a:pt x="24" y="75"/>
                      </a:lnTo>
                      <a:lnTo>
                        <a:pt x="30" y="73"/>
                      </a:lnTo>
                      <a:lnTo>
                        <a:pt x="36" y="73"/>
                      </a:lnTo>
                      <a:lnTo>
                        <a:pt x="42" y="73"/>
                      </a:lnTo>
                      <a:lnTo>
                        <a:pt x="46" y="75"/>
                      </a:lnTo>
                      <a:lnTo>
                        <a:pt x="53" y="77"/>
                      </a:lnTo>
                      <a:lnTo>
                        <a:pt x="57" y="83"/>
                      </a:lnTo>
                      <a:lnTo>
                        <a:pt x="62" y="85"/>
                      </a:lnTo>
                      <a:lnTo>
                        <a:pt x="69" y="88"/>
                      </a:lnTo>
                      <a:lnTo>
                        <a:pt x="74" y="88"/>
                      </a:lnTo>
                      <a:lnTo>
                        <a:pt x="80" y="91"/>
                      </a:lnTo>
                      <a:lnTo>
                        <a:pt x="86" y="92"/>
                      </a:lnTo>
                      <a:lnTo>
                        <a:pt x="92" y="91"/>
                      </a:lnTo>
                      <a:lnTo>
                        <a:pt x="98" y="88"/>
                      </a:lnTo>
                      <a:lnTo>
                        <a:pt x="104" y="85"/>
                      </a:lnTo>
                      <a:lnTo>
                        <a:pt x="110" y="79"/>
                      </a:lnTo>
                      <a:lnTo>
                        <a:pt x="112" y="73"/>
                      </a:lnTo>
                      <a:lnTo>
                        <a:pt x="116" y="67"/>
                      </a:lnTo>
                      <a:lnTo>
                        <a:pt x="117" y="61"/>
                      </a:lnTo>
                      <a:lnTo>
                        <a:pt x="117" y="55"/>
                      </a:lnTo>
                      <a:lnTo>
                        <a:pt x="117" y="49"/>
                      </a:lnTo>
                      <a:lnTo>
                        <a:pt x="120" y="41"/>
                      </a:lnTo>
                      <a:lnTo>
                        <a:pt x="120" y="36"/>
                      </a:lnTo>
                      <a:lnTo>
                        <a:pt x="125" y="32"/>
                      </a:lnTo>
                      <a:lnTo>
                        <a:pt x="131" y="29"/>
                      </a:lnTo>
                      <a:lnTo>
                        <a:pt x="136" y="28"/>
                      </a:lnTo>
                      <a:lnTo>
                        <a:pt x="143" y="28"/>
                      </a:lnTo>
                      <a:lnTo>
                        <a:pt x="150" y="29"/>
                      </a:lnTo>
                      <a:lnTo>
                        <a:pt x="160" y="32"/>
                      </a:lnTo>
                      <a:lnTo>
                        <a:pt x="166" y="36"/>
                      </a:lnTo>
                      <a:lnTo>
                        <a:pt x="139" y="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919240" y="4327200"/>
                  <a:ext cx="74520" cy="54360"/>
                </a:xfrm>
                <a:custGeom>
                  <a:avLst/>
                  <a:gdLst/>
                  <a:ahLst/>
                  <a:rect l="l" t="t" r="r" b="b"/>
                  <a:pathLst>
                    <a:path w="164" h="127">
                      <a:moveTo>
                        <a:pt x="152" y="0"/>
                      </a:moveTo>
                      <a:lnTo>
                        <a:pt x="141" y="0"/>
                      </a:lnTo>
                      <a:lnTo>
                        <a:pt x="136" y="0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7"/>
                      </a:lnTo>
                      <a:lnTo>
                        <a:pt x="111" y="11"/>
                      </a:lnTo>
                      <a:lnTo>
                        <a:pt x="106" y="15"/>
                      </a:lnTo>
                      <a:lnTo>
                        <a:pt x="103" y="20"/>
                      </a:lnTo>
                      <a:lnTo>
                        <a:pt x="102" y="27"/>
                      </a:lnTo>
                      <a:lnTo>
                        <a:pt x="99" y="32"/>
                      </a:lnTo>
                      <a:lnTo>
                        <a:pt x="99" y="39"/>
                      </a:lnTo>
                      <a:lnTo>
                        <a:pt x="99" y="46"/>
                      </a:lnTo>
                      <a:lnTo>
                        <a:pt x="99" y="53"/>
                      </a:lnTo>
                      <a:lnTo>
                        <a:pt x="99" y="58"/>
                      </a:lnTo>
                      <a:lnTo>
                        <a:pt x="98" y="65"/>
                      </a:lnTo>
                      <a:lnTo>
                        <a:pt x="95" y="70"/>
                      </a:lnTo>
                      <a:lnTo>
                        <a:pt x="90" y="77"/>
                      </a:lnTo>
                      <a:lnTo>
                        <a:pt x="83" y="82"/>
                      </a:lnTo>
                      <a:lnTo>
                        <a:pt x="78" y="85"/>
                      </a:lnTo>
                      <a:lnTo>
                        <a:pt x="71" y="85"/>
                      </a:lnTo>
                      <a:lnTo>
                        <a:pt x="66" y="82"/>
                      </a:lnTo>
                      <a:lnTo>
                        <a:pt x="60" y="81"/>
                      </a:lnTo>
                      <a:lnTo>
                        <a:pt x="54" y="74"/>
                      </a:lnTo>
                      <a:lnTo>
                        <a:pt x="48" y="70"/>
                      </a:lnTo>
                      <a:lnTo>
                        <a:pt x="42" y="69"/>
                      </a:lnTo>
                      <a:lnTo>
                        <a:pt x="37" y="69"/>
                      </a:lnTo>
                      <a:lnTo>
                        <a:pt x="32" y="70"/>
                      </a:lnTo>
                      <a:lnTo>
                        <a:pt x="24" y="73"/>
                      </a:lnTo>
                      <a:lnTo>
                        <a:pt x="17" y="77"/>
                      </a:lnTo>
                      <a:lnTo>
                        <a:pt x="16" y="82"/>
                      </a:lnTo>
                      <a:lnTo>
                        <a:pt x="12" y="89"/>
                      </a:lnTo>
                      <a:lnTo>
                        <a:pt x="5" y="93"/>
                      </a:lnTo>
                      <a:lnTo>
                        <a:pt x="4" y="99"/>
                      </a:lnTo>
                      <a:lnTo>
                        <a:pt x="1" y="105"/>
                      </a:lnTo>
                      <a:lnTo>
                        <a:pt x="0" y="111"/>
                      </a:lnTo>
                      <a:lnTo>
                        <a:pt x="0" y="117"/>
                      </a:lnTo>
                      <a:lnTo>
                        <a:pt x="0" y="111"/>
                      </a:lnTo>
                      <a:lnTo>
                        <a:pt x="5" y="107"/>
                      </a:lnTo>
                      <a:lnTo>
                        <a:pt x="4" y="113"/>
                      </a:lnTo>
                      <a:lnTo>
                        <a:pt x="1" y="119"/>
                      </a:lnTo>
                      <a:lnTo>
                        <a:pt x="8" y="123"/>
                      </a:lnTo>
                      <a:lnTo>
                        <a:pt x="13" y="127"/>
                      </a:lnTo>
                      <a:lnTo>
                        <a:pt x="12" y="119"/>
                      </a:lnTo>
                      <a:lnTo>
                        <a:pt x="12" y="113"/>
                      </a:lnTo>
                      <a:lnTo>
                        <a:pt x="12" y="107"/>
                      </a:lnTo>
                      <a:lnTo>
                        <a:pt x="13" y="101"/>
                      </a:lnTo>
                      <a:lnTo>
                        <a:pt x="16" y="94"/>
                      </a:lnTo>
                      <a:lnTo>
                        <a:pt x="20" y="89"/>
                      </a:lnTo>
                      <a:lnTo>
                        <a:pt x="25" y="86"/>
                      </a:lnTo>
                      <a:lnTo>
                        <a:pt x="32" y="85"/>
                      </a:lnTo>
                      <a:lnTo>
                        <a:pt x="40" y="82"/>
                      </a:lnTo>
                      <a:lnTo>
                        <a:pt x="44" y="86"/>
                      </a:lnTo>
                      <a:lnTo>
                        <a:pt x="52" y="90"/>
                      </a:lnTo>
                      <a:lnTo>
                        <a:pt x="56" y="95"/>
                      </a:lnTo>
                      <a:lnTo>
                        <a:pt x="63" y="101"/>
                      </a:lnTo>
                      <a:lnTo>
                        <a:pt x="70" y="103"/>
                      </a:lnTo>
                      <a:lnTo>
                        <a:pt x="75" y="103"/>
                      </a:lnTo>
                      <a:lnTo>
                        <a:pt x="82" y="103"/>
                      </a:lnTo>
                      <a:lnTo>
                        <a:pt x="90" y="103"/>
                      </a:lnTo>
                      <a:lnTo>
                        <a:pt x="95" y="99"/>
                      </a:lnTo>
                      <a:lnTo>
                        <a:pt x="102" y="94"/>
                      </a:lnTo>
                      <a:lnTo>
                        <a:pt x="106" y="86"/>
                      </a:lnTo>
                      <a:lnTo>
                        <a:pt x="107" y="81"/>
                      </a:lnTo>
                      <a:lnTo>
                        <a:pt x="107" y="74"/>
                      </a:lnTo>
                      <a:lnTo>
                        <a:pt x="110" y="69"/>
                      </a:lnTo>
                      <a:lnTo>
                        <a:pt x="110" y="62"/>
                      </a:lnTo>
                      <a:lnTo>
                        <a:pt x="110" y="57"/>
                      </a:lnTo>
                      <a:lnTo>
                        <a:pt x="110" y="50"/>
                      </a:lnTo>
                      <a:lnTo>
                        <a:pt x="114" y="45"/>
                      </a:lnTo>
                      <a:lnTo>
                        <a:pt x="118" y="39"/>
                      </a:lnTo>
                      <a:lnTo>
                        <a:pt x="123" y="35"/>
                      </a:lnTo>
                      <a:lnTo>
                        <a:pt x="126" y="31"/>
                      </a:lnTo>
                      <a:lnTo>
                        <a:pt x="132" y="28"/>
                      </a:lnTo>
                      <a:lnTo>
                        <a:pt x="137" y="24"/>
                      </a:lnTo>
                      <a:lnTo>
                        <a:pt x="145" y="23"/>
                      </a:lnTo>
                      <a:lnTo>
                        <a:pt x="152" y="23"/>
                      </a:lnTo>
                      <a:lnTo>
                        <a:pt x="157" y="23"/>
                      </a:lnTo>
                      <a:lnTo>
                        <a:pt x="164" y="23"/>
                      </a:lnTo>
                      <a:lnTo>
                        <a:pt x="160" y="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2041560" y="4533480"/>
                <a:ext cx="372600" cy="184320"/>
                <a:chOff x="2041560" y="4533480"/>
                <a:chExt cx="372600" cy="1843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061720" y="4595040"/>
                  <a:ext cx="345240" cy="94320"/>
                </a:xfrm>
                <a:custGeom>
                  <a:avLst/>
                  <a:gdLst/>
                  <a:ahLst/>
                  <a:rect l="l" t="t" r="r" b="b"/>
                  <a:pathLst>
                    <a:path w="760" h="219">
                      <a:moveTo>
                        <a:pt x="0" y="0"/>
                      </a:moveTo>
                      <a:lnTo>
                        <a:pt x="78" y="1"/>
                      </a:lnTo>
                      <a:lnTo>
                        <a:pt x="296" y="12"/>
                      </a:lnTo>
                      <a:lnTo>
                        <a:pt x="498" y="20"/>
                      </a:lnTo>
                      <a:lnTo>
                        <a:pt x="692" y="29"/>
                      </a:lnTo>
                      <a:lnTo>
                        <a:pt x="702" y="90"/>
                      </a:lnTo>
                      <a:lnTo>
                        <a:pt x="720" y="139"/>
                      </a:lnTo>
                      <a:lnTo>
                        <a:pt x="760" y="219"/>
                      </a:lnTo>
                      <a:lnTo>
                        <a:pt x="663" y="209"/>
                      </a:lnTo>
                      <a:lnTo>
                        <a:pt x="414" y="199"/>
                      </a:lnTo>
                      <a:lnTo>
                        <a:pt x="188" y="196"/>
                      </a:lnTo>
                      <a:lnTo>
                        <a:pt x="86" y="189"/>
                      </a:lnTo>
                      <a:lnTo>
                        <a:pt x="74" y="173"/>
                      </a:lnTo>
                      <a:lnTo>
                        <a:pt x="24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43000" y="4601520"/>
                  <a:ext cx="366480" cy="112320"/>
                </a:xfrm>
                <a:custGeom>
                  <a:avLst/>
                  <a:gdLst/>
                  <a:ahLst/>
                  <a:rect l="l" t="t" r="r" b="b"/>
                  <a:pathLst>
                    <a:path w="808" h="262">
                      <a:moveTo>
                        <a:pt x="40" y="0"/>
                      </a:moveTo>
                      <a:lnTo>
                        <a:pt x="13" y="50"/>
                      </a:lnTo>
                      <a:lnTo>
                        <a:pt x="5" y="90"/>
                      </a:lnTo>
                      <a:lnTo>
                        <a:pt x="0" y="90"/>
                      </a:lnTo>
                      <a:lnTo>
                        <a:pt x="111" y="255"/>
                      </a:lnTo>
                      <a:lnTo>
                        <a:pt x="413" y="247"/>
                      </a:lnTo>
                      <a:lnTo>
                        <a:pt x="627" y="247"/>
                      </a:lnTo>
                      <a:lnTo>
                        <a:pt x="723" y="258"/>
                      </a:lnTo>
                      <a:lnTo>
                        <a:pt x="775" y="262"/>
                      </a:lnTo>
                      <a:lnTo>
                        <a:pt x="808" y="196"/>
                      </a:lnTo>
                      <a:lnTo>
                        <a:pt x="707" y="192"/>
                      </a:lnTo>
                      <a:lnTo>
                        <a:pt x="483" y="186"/>
                      </a:lnTo>
                      <a:lnTo>
                        <a:pt x="477" y="188"/>
                      </a:lnTo>
                      <a:lnTo>
                        <a:pt x="243" y="184"/>
                      </a:lnTo>
                      <a:lnTo>
                        <a:pt x="128" y="180"/>
                      </a:lnTo>
                      <a:lnTo>
                        <a:pt x="114" y="165"/>
                      </a:lnTo>
                      <a:lnTo>
                        <a:pt x="50" y="20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041560" y="4591440"/>
                  <a:ext cx="372600" cy="126360"/>
                </a:xfrm>
                <a:custGeom>
                  <a:avLst/>
                  <a:gdLst/>
                  <a:ahLst/>
                  <a:rect l="l" t="t" r="r" b="b"/>
                  <a:pathLst>
                    <a:path w="823" h="294">
                      <a:moveTo>
                        <a:pt x="39" y="8"/>
                      </a:moveTo>
                      <a:lnTo>
                        <a:pt x="12" y="68"/>
                      </a:lnTo>
                      <a:lnTo>
                        <a:pt x="0" y="117"/>
                      </a:lnTo>
                      <a:lnTo>
                        <a:pt x="64" y="216"/>
                      </a:lnTo>
                      <a:lnTo>
                        <a:pt x="101" y="285"/>
                      </a:lnTo>
                      <a:lnTo>
                        <a:pt x="137" y="292"/>
                      </a:lnTo>
                      <a:lnTo>
                        <a:pt x="425" y="278"/>
                      </a:lnTo>
                      <a:lnTo>
                        <a:pt x="651" y="281"/>
                      </a:lnTo>
                      <a:lnTo>
                        <a:pt x="780" y="294"/>
                      </a:lnTo>
                      <a:lnTo>
                        <a:pt x="823" y="226"/>
                      </a:lnTo>
                      <a:lnTo>
                        <a:pt x="819" y="207"/>
                      </a:lnTo>
                      <a:lnTo>
                        <a:pt x="788" y="164"/>
                      </a:lnTo>
                      <a:lnTo>
                        <a:pt x="763" y="114"/>
                      </a:lnTo>
                      <a:lnTo>
                        <a:pt x="749" y="32"/>
                      </a:lnTo>
                      <a:lnTo>
                        <a:pt x="730" y="25"/>
                      </a:lnTo>
                      <a:lnTo>
                        <a:pt x="352" y="17"/>
                      </a:lnTo>
                      <a:lnTo>
                        <a:pt x="163" y="8"/>
                      </a:lnTo>
                      <a:lnTo>
                        <a:pt x="93" y="0"/>
                      </a:lnTo>
                      <a:lnTo>
                        <a:pt x="87" y="10"/>
                      </a:lnTo>
                      <a:lnTo>
                        <a:pt x="105" y="24"/>
                      </a:lnTo>
                      <a:lnTo>
                        <a:pt x="133" y="24"/>
                      </a:lnTo>
                      <a:lnTo>
                        <a:pt x="355" y="37"/>
                      </a:lnTo>
                      <a:lnTo>
                        <a:pt x="499" y="39"/>
                      </a:lnTo>
                      <a:lnTo>
                        <a:pt x="652" y="44"/>
                      </a:lnTo>
                      <a:lnTo>
                        <a:pt x="733" y="48"/>
                      </a:lnTo>
                      <a:lnTo>
                        <a:pt x="737" y="95"/>
                      </a:lnTo>
                      <a:lnTo>
                        <a:pt x="751" y="136"/>
                      </a:lnTo>
                      <a:lnTo>
                        <a:pt x="773" y="176"/>
                      </a:lnTo>
                      <a:lnTo>
                        <a:pt x="795" y="220"/>
                      </a:lnTo>
                      <a:lnTo>
                        <a:pt x="765" y="273"/>
                      </a:lnTo>
                      <a:lnTo>
                        <a:pt x="668" y="262"/>
                      </a:lnTo>
                      <a:lnTo>
                        <a:pt x="508" y="258"/>
                      </a:lnTo>
                      <a:lnTo>
                        <a:pt x="351" y="261"/>
                      </a:lnTo>
                      <a:lnTo>
                        <a:pt x="344" y="262"/>
                      </a:lnTo>
                      <a:lnTo>
                        <a:pt x="234" y="265"/>
                      </a:lnTo>
                      <a:lnTo>
                        <a:pt x="226" y="266"/>
                      </a:lnTo>
                      <a:lnTo>
                        <a:pt x="123" y="265"/>
                      </a:lnTo>
                      <a:lnTo>
                        <a:pt x="133" y="216"/>
                      </a:lnTo>
                      <a:lnTo>
                        <a:pt x="93" y="230"/>
                      </a:lnTo>
                      <a:lnTo>
                        <a:pt x="21" y="110"/>
                      </a:lnTo>
                      <a:lnTo>
                        <a:pt x="31" y="68"/>
                      </a:lnTo>
                      <a:lnTo>
                        <a:pt x="43" y="47"/>
                      </a:lnTo>
                      <a:lnTo>
                        <a:pt x="123" y="204"/>
                      </a:lnTo>
                      <a:lnTo>
                        <a:pt x="138" y="216"/>
                      </a:lnTo>
                      <a:lnTo>
                        <a:pt x="475" y="222"/>
                      </a:lnTo>
                      <a:lnTo>
                        <a:pt x="737" y="232"/>
                      </a:lnTo>
                      <a:lnTo>
                        <a:pt x="773" y="228"/>
                      </a:lnTo>
                      <a:lnTo>
                        <a:pt x="773" y="214"/>
                      </a:lnTo>
                      <a:lnTo>
                        <a:pt x="749" y="210"/>
                      </a:lnTo>
                      <a:lnTo>
                        <a:pt x="553" y="204"/>
                      </a:lnTo>
                      <a:lnTo>
                        <a:pt x="297" y="199"/>
                      </a:lnTo>
                      <a:lnTo>
                        <a:pt x="290" y="200"/>
                      </a:lnTo>
                      <a:lnTo>
                        <a:pt x="138" y="192"/>
                      </a:lnTo>
                      <a:lnTo>
                        <a:pt x="133" y="191"/>
                      </a:lnTo>
                      <a:lnTo>
                        <a:pt x="82" y="80"/>
                      </a:lnTo>
                      <a:lnTo>
                        <a:pt x="63" y="20"/>
                      </a:lnTo>
                      <a:lnTo>
                        <a:pt x="51" y="6"/>
                      </a:lnTo>
                      <a:lnTo>
                        <a:pt x="39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072880" y="4533480"/>
                  <a:ext cx="267480" cy="110880"/>
                  <a:chOff x="2072880" y="4533480"/>
                  <a:chExt cx="267480" cy="11088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072880" y="4537080"/>
                    <a:ext cx="26748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246">
                        <a:moveTo>
                          <a:pt x="149" y="145"/>
                        </a:moveTo>
                        <a:lnTo>
                          <a:pt x="139" y="144"/>
                        </a:lnTo>
                        <a:lnTo>
                          <a:pt x="129" y="140"/>
                        </a:lnTo>
                        <a:lnTo>
                          <a:pt x="122" y="134"/>
                        </a:lnTo>
                        <a:lnTo>
                          <a:pt x="114" y="132"/>
                        </a:lnTo>
                        <a:lnTo>
                          <a:pt x="106" y="128"/>
                        </a:lnTo>
                        <a:lnTo>
                          <a:pt x="95" y="124"/>
                        </a:lnTo>
                        <a:lnTo>
                          <a:pt x="90" y="120"/>
                        </a:lnTo>
                        <a:lnTo>
                          <a:pt x="85" y="116"/>
                        </a:lnTo>
                        <a:lnTo>
                          <a:pt x="77" y="114"/>
                        </a:lnTo>
                        <a:lnTo>
                          <a:pt x="69" y="108"/>
                        </a:lnTo>
                        <a:lnTo>
                          <a:pt x="61" y="106"/>
                        </a:lnTo>
                        <a:lnTo>
                          <a:pt x="52" y="97"/>
                        </a:lnTo>
                        <a:lnTo>
                          <a:pt x="44" y="94"/>
                        </a:lnTo>
                        <a:lnTo>
                          <a:pt x="36" y="89"/>
                        </a:lnTo>
                        <a:lnTo>
                          <a:pt x="29" y="82"/>
                        </a:lnTo>
                        <a:lnTo>
                          <a:pt x="17" y="74"/>
                        </a:lnTo>
                        <a:lnTo>
                          <a:pt x="12" y="66"/>
                        </a:lnTo>
                        <a:lnTo>
                          <a:pt x="4" y="60"/>
                        </a:lnTo>
                        <a:lnTo>
                          <a:pt x="0" y="48"/>
                        </a:lnTo>
                        <a:lnTo>
                          <a:pt x="0" y="42"/>
                        </a:lnTo>
                        <a:lnTo>
                          <a:pt x="0" y="36"/>
                        </a:lnTo>
                        <a:lnTo>
                          <a:pt x="0" y="30"/>
                        </a:lnTo>
                        <a:lnTo>
                          <a:pt x="0" y="22"/>
                        </a:lnTo>
                        <a:lnTo>
                          <a:pt x="4" y="12"/>
                        </a:lnTo>
                        <a:lnTo>
                          <a:pt x="9" y="8"/>
                        </a:lnTo>
                        <a:lnTo>
                          <a:pt x="16" y="4"/>
                        </a:lnTo>
                        <a:lnTo>
                          <a:pt x="24" y="3"/>
                        </a:lnTo>
                        <a:lnTo>
                          <a:pt x="29" y="0"/>
                        </a:lnTo>
                        <a:lnTo>
                          <a:pt x="36" y="0"/>
                        </a:lnTo>
                        <a:lnTo>
                          <a:pt x="44" y="0"/>
                        </a:lnTo>
                        <a:lnTo>
                          <a:pt x="53" y="4"/>
                        </a:lnTo>
                        <a:lnTo>
                          <a:pt x="59" y="4"/>
                        </a:lnTo>
                        <a:lnTo>
                          <a:pt x="65" y="8"/>
                        </a:lnTo>
                        <a:lnTo>
                          <a:pt x="71" y="11"/>
                        </a:lnTo>
                        <a:lnTo>
                          <a:pt x="77" y="16"/>
                        </a:lnTo>
                        <a:lnTo>
                          <a:pt x="86" y="24"/>
                        </a:lnTo>
                        <a:lnTo>
                          <a:pt x="95" y="34"/>
                        </a:lnTo>
                        <a:lnTo>
                          <a:pt x="106" y="42"/>
                        </a:lnTo>
                        <a:lnTo>
                          <a:pt x="114" y="50"/>
                        </a:lnTo>
                        <a:lnTo>
                          <a:pt x="122" y="52"/>
                        </a:lnTo>
                        <a:lnTo>
                          <a:pt x="129" y="58"/>
                        </a:lnTo>
                        <a:lnTo>
                          <a:pt x="137" y="60"/>
                        </a:lnTo>
                        <a:lnTo>
                          <a:pt x="143" y="60"/>
                        </a:lnTo>
                        <a:lnTo>
                          <a:pt x="149" y="58"/>
                        </a:lnTo>
                        <a:lnTo>
                          <a:pt x="153" y="50"/>
                        </a:lnTo>
                        <a:lnTo>
                          <a:pt x="157" y="42"/>
                        </a:lnTo>
                        <a:lnTo>
                          <a:pt x="157" y="36"/>
                        </a:lnTo>
                        <a:lnTo>
                          <a:pt x="157" y="30"/>
                        </a:lnTo>
                        <a:lnTo>
                          <a:pt x="157" y="24"/>
                        </a:lnTo>
                        <a:lnTo>
                          <a:pt x="159" y="19"/>
                        </a:lnTo>
                        <a:lnTo>
                          <a:pt x="165" y="11"/>
                        </a:lnTo>
                        <a:lnTo>
                          <a:pt x="169" y="4"/>
                        </a:lnTo>
                        <a:lnTo>
                          <a:pt x="176" y="0"/>
                        </a:lnTo>
                        <a:lnTo>
                          <a:pt x="184" y="0"/>
                        </a:lnTo>
                        <a:lnTo>
                          <a:pt x="189" y="0"/>
                        </a:lnTo>
                        <a:lnTo>
                          <a:pt x="201" y="0"/>
                        </a:lnTo>
                        <a:lnTo>
                          <a:pt x="207" y="0"/>
                        </a:lnTo>
                        <a:lnTo>
                          <a:pt x="215" y="3"/>
                        </a:lnTo>
                        <a:lnTo>
                          <a:pt x="217" y="8"/>
                        </a:lnTo>
                        <a:lnTo>
                          <a:pt x="223" y="16"/>
                        </a:lnTo>
                        <a:lnTo>
                          <a:pt x="227" y="22"/>
                        </a:lnTo>
                        <a:lnTo>
                          <a:pt x="231" y="32"/>
                        </a:lnTo>
                        <a:lnTo>
                          <a:pt x="236" y="40"/>
                        </a:lnTo>
                        <a:lnTo>
                          <a:pt x="243" y="46"/>
                        </a:lnTo>
                        <a:lnTo>
                          <a:pt x="247" y="52"/>
                        </a:lnTo>
                        <a:lnTo>
                          <a:pt x="252" y="58"/>
                        </a:lnTo>
                        <a:lnTo>
                          <a:pt x="259" y="62"/>
                        </a:lnTo>
                        <a:lnTo>
                          <a:pt x="266" y="63"/>
                        </a:lnTo>
                        <a:lnTo>
                          <a:pt x="273" y="66"/>
                        </a:lnTo>
                        <a:lnTo>
                          <a:pt x="281" y="67"/>
                        </a:lnTo>
                        <a:lnTo>
                          <a:pt x="291" y="71"/>
                        </a:lnTo>
                        <a:lnTo>
                          <a:pt x="299" y="71"/>
                        </a:lnTo>
                        <a:lnTo>
                          <a:pt x="303" y="63"/>
                        </a:lnTo>
                        <a:lnTo>
                          <a:pt x="307" y="54"/>
                        </a:lnTo>
                        <a:lnTo>
                          <a:pt x="309" y="46"/>
                        </a:lnTo>
                        <a:lnTo>
                          <a:pt x="309" y="40"/>
                        </a:lnTo>
                        <a:lnTo>
                          <a:pt x="310" y="34"/>
                        </a:lnTo>
                        <a:lnTo>
                          <a:pt x="313" y="28"/>
                        </a:lnTo>
                        <a:lnTo>
                          <a:pt x="321" y="22"/>
                        </a:lnTo>
                        <a:lnTo>
                          <a:pt x="326" y="19"/>
                        </a:lnTo>
                        <a:lnTo>
                          <a:pt x="337" y="15"/>
                        </a:lnTo>
                        <a:lnTo>
                          <a:pt x="347" y="11"/>
                        </a:lnTo>
                        <a:lnTo>
                          <a:pt x="355" y="11"/>
                        </a:lnTo>
                        <a:lnTo>
                          <a:pt x="363" y="11"/>
                        </a:lnTo>
                        <a:lnTo>
                          <a:pt x="371" y="11"/>
                        </a:lnTo>
                        <a:lnTo>
                          <a:pt x="377" y="12"/>
                        </a:lnTo>
                        <a:lnTo>
                          <a:pt x="383" y="19"/>
                        </a:lnTo>
                        <a:lnTo>
                          <a:pt x="383" y="24"/>
                        </a:lnTo>
                        <a:lnTo>
                          <a:pt x="383" y="32"/>
                        </a:lnTo>
                        <a:lnTo>
                          <a:pt x="383" y="38"/>
                        </a:lnTo>
                        <a:lnTo>
                          <a:pt x="383" y="44"/>
                        </a:lnTo>
                        <a:lnTo>
                          <a:pt x="383" y="54"/>
                        </a:lnTo>
                        <a:lnTo>
                          <a:pt x="387" y="60"/>
                        </a:lnTo>
                        <a:lnTo>
                          <a:pt x="396" y="62"/>
                        </a:lnTo>
                        <a:lnTo>
                          <a:pt x="403" y="62"/>
                        </a:lnTo>
                        <a:lnTo>
                          <a:pt x="415" y="62"/>
                        </a:lnTo>
                        <a:lnTo>
                          <a:pt x="421" y="60"/>
                        </a:lnTo>
                        <a:lnTo>
                          <a:pt x="429" y="56"/>
                        </a:lnTo>
                        <a:lnTo>
                          <a:pt x="445" y="52"/>
                        </a:lnTo>
                        <a:lnTo>
                          <a:pt x="457" y="50"/>
                        </a:lnTo>
                        <a:lnTo>
                          <a:pt x="466" y="48"/>
                        </a:lnTo>
                        <a:lnTo>
                          <a:pt x="478" y="46"/>
                        </a:lnTo>
                        <a:lnTo>
                          <a:pt x="485" y="46"/>
                        </a:lnTo>
                        <a:lnTo>
                          <a:pt x="497" y="46"/>
                        </a:lnTo>
                        <a:lnTo>
                          <a:pt x="507" y="46"/>
                        </a:lnTo>
                        <a:lnTo>
                          <a:pt x="517" y="48"/>
                        </a:lnTo>
                        <a:lnTo>
                          <a:pt x="527" y="52"/>
                        </a:lnTo>
                        <a:lnTo>
                          <a:pt x="532" y="54"/>
                        </a:lnTo>
                        <a:lnTo>
                          <a:pt x="543" y="56"/>
                        </a:lnTo>
                        <a:lnTo>
                          <a:pt x="552" y="62"/>
                        </a:lnTo>
                        <a:lnTo>
                          <a:pt x="564" y="66"/>
                        </a:lnTo>
                        <a:lnTo>
                          <a:pt x="571" y="70"/>
                        </a:lnTo>
                        <a:lnTo>
                          <a:pt x="579" y="75"/>
                        </a:lnTo>
                        <a:lnTo>
                          <a:pt x="587" y="82"/>
                        </a:lnTo>
                        <a:lnTo>
                          <a:pt x="588" y="86"/>
                        </a:lnTo>
                        <a:lnTo>
                          <a:pt x="589" y="93"/>
                        </a:lnTo>
                        <a:lnTo>
                          <a:pt x="587" y="104"/>
                        </a:lnTo>
                        <a:lnTo>
                          <a:pt x="579" y="110"/>
                        </a:lnTo>
                        <a:lnTo>
                          <a:pt x="571" y="116"/>
                        </a:lnTo>
                        <a:lnTo>
                          <a:pt x="563" y="122"/>
                        </a:lnTo>
                        <a:lnTo>
                          <a:pt x="556" y="122"/>
                        </a:lnTo>
                        <a:lnTo>
                          <a:pt x="551" y="122"/>
                        </a:lnTo>
                        <a:lnTo>
                          <a:pt x="540" y="122"/>
                        </a:lnTo>
                        <a:lnTo>
                          <a:pt x="532" y="122"/>
                        </a:lnTo>
                        <a:lnTo>
                          <a:pt x="527" y="122"/>
                        </a:lnTo>
                        <a:lnTo>
                          <a:pt x="519" y="122"/>
                        </a:lnTo>
                        <a:lnTo>
                          <a:pt x="511" y="124"/>
                        </a:lnTo>
                        <a:lnTo>
                          <a:pt x="505" y="130"/>
                        </a:lnTo>
                        <a:lnTo>
                          <a:pt x="505" y="138"/>
                        </a:lnTo>
                        <a:lnTo>
                          <a:pt x="509" y="140"/>
                        </a:lnTo>
                        <a:lnTo>
                          <a:pt x="515" y="144"/>
                        </a:lnTo>
                        <a:lnTo>
                          <a:pt x="521" y="148"/>
                        </a:lnTo>
                        <a:lnTo>
                          <a:pt x="527" y="149"/>
                        </a:lnTo>
                        <a:lnTo>
                          <a:pt x="532" y="156"/>
                        </a:lnTo>
                        <a:lnTo>
                          <a:pt x="539" y="161"/>
                        </a:lnTo>
                        <a:lnTo>
                          <a:pt x="544" y="168"/>
                        </a:lnTo>
                        <a:lnTo>
                          <a:pt x="551" y="178"/>
                        </a:lnTo>
                        <a:lnTo>
                          <a:pt x="552" y="184"/>
                        </a:lnTo>
                        <a:lnTo>
                          <a:pt x="559" y="192"/>
                        </a:lnTo>
                        <a:lnTo>
                          <a:pt x="559" y="202"/>
                        </a:lnTo>
                        <a:lnTo>
                          <a:pt x="559" y="212"/>
                        </a:lnTo>
                        <a:lnTo>
                          <a:pt x="556" y="222"/>
                        </a:lnTo>
                        <a:lnTo>
                          <a:pt x="548" y="230"/>
                        </a:lnTo>
                        <a:lnTo>
                          <a:pt x="543" y="234"/>
                        </a:lnTo>
                        <a:lnTo>
                          <a:pt x="535" y="234"/>
                        </a:lnTo>
                        <a:lnTo>
                          <a:pt x="527" y="231"/>
                        </a:lnTo>
                        <a:lnTo>
                          <a:pt x="515" y="230"/>
                        </a:lnTo>
                        <a:lnTo>
                          <a:pt x="505" y="226"/>
                        </a:lnTo>
                        <a:lnTo>
                          <a:pt x="493" y="219"/>
                        </a:lnTo>
                        <a:lnTo>
                          <a:pt x="486" y="218"/>
                        </a:lnTo>
                        <a:lnTo>
                          <a:pt x="477" y="212"/>
                        </a:lnTo>
                        <a:lnTo>
                          <a:pt x="465" y="206"/>
                        </a:lnTo>
                        <a:lnTo>
                          <a:pt x="454" y="202"/>
                        </a:lnTo>
                        <a:lnTo>
                          <a:pt x="445" y="200"/>
                        </a:lnTo>
                        <a:lnTo>
                          <a:pt x="437" y="198"/>
                        </a:lnTo>
                        <a:lnTo>
                          <a:pt x="429" y="194"/>
                        </a:lnTo>
                        <a:lnTo>
                          <a:pt x="423" y="194"/>
                        </a:lnTo>
                        <a:lnTo>
                          <a:pt x="419" y="192"/>
                        </a:lnTo>
                        <a:lnTo>
                          <a:pt x="408" y="192"/>
                        </a:lnTo>
                        <a:lnTo>
                          <a:pt x="400" y="196"/>
                        </a:lnTo>
                        <a:lnTo>
                          <a:pt x="399" y="202"/>
                        </a:lnTo>
                        <a:lnTo>
                          <a:pt x="392" y="208"/>
                        </a:lnTo>
                        <a:lnTo>
                          <a:pt x="387" y="214"/>
                        </a:lnTo>
                        <a:lnTo>
                          <a:pt x="380" y="222"/>
                        </a:lnTo>
                        <a:lnTo>
                          <a:pt x="373" y="227"/>
                        </a:lnTo>
                        <a:lnTo>
                          <a:pt x="363" y="234"/>
                        </a:lnTo>
                        <a:lnTo>
                          <a:pt x="357" y="235"/>
                        </a:lnTo>
                        <a:lnTo>
                          <a:pt x="349" y="235"/>
                        </a:lnTo>
                        <a:lnTo>
                          <a:pt x="340" y="235"/>
                        </a:lnTo>
                        <a:lnTo>
                          <a:pt x="333" y="234"/>
                        </a:lnTo>
                        <a:lnTo>
                          <a:pt x="326" y="230"/>
                        </a:lnTo>
                        <a:lnTo>
                          <a:pt x="322" y="222"/>
                        </a:lnTo>
                        <a:lnTo>
                          <a:pt x="322" y="214"/>
                        </a:lnTo>
                        <a:lnTo>
                          <a:pt x="318" y="206"/>
                        </a:lnTo>
                        <a:lnTo>
                          <a:pt x="313" y="204"/>
                        </a:lnTo>
                        <a:lnTo>
                          <a:pt x="303" y="204"/>
                        </a:lnTo>
                        <a:lnTo>
                          <a:pt x="297" y="204"/>
                        </a:lnTo>
                        <a:lnTo>
                          <a:pt x="291" y="204"/>
                        </a:lnTo>
                        <a:lnTo>
                          <a:pt x="283" y="206"/>
                        </a:lnTo>
                        <a:lnTo>
                          <a:pt x="281" y="212"/>
                        </a:lnTo>
                        <a:lnTo>
                          <a:pt x="281" y="218"/>
                        </a:lnTo>
                        <a:lnTo>
                          <a:pt x="279" y="223"/>
                        </a:lnTo>
                        <a:lnTo>
                          <a:pt x="273" y="231"/>
                        </a:lnTo>
                        <a:lnTo>
                          <a:pt x="266" y="238"/>
                        </a:lnTo>
                        <a:lnTo>
                          <a:pt x="259" y="242"/>
                        </a:lnTo>
                        <a:lnTo>
                          <a:pt x="254" y="246"/>
                        </a:lnTo>
                        <a:lnTo>
                          <a:pt x="247" y="246"/>
                        </a:lnTo>
                        <a:lnTo>
                          <a:pt x="240" y="246"/>
                        </a:lnTo>
                        <a:lnTo>
                          <a:pt x="231" y="246"/>
                        </a:lnTo>
                        <a:lnTo>
                          <a:pt x="223" y="246"/>
                        </a:lnTo>
                        <a:lnTo>
                          <a:pt x="213" y="239"/>
                        </a:lnTo>
                        <a:lnTo>
                          <a:pt x="203" y="235"/>
                        </a:lnTo>
                        <a:lnTo>
                          <a:pt x="192" y="226"/>
                        </a:lnTo>
                        <a:lnTo>
                          <a:pt x="184" y="218"/>
                        </a:lnTo>
                        <a:lnTo>
                          <a:pt x="181" y="212"/>
                        </a:lnTo>
                        <a:lnTo>
                          <a:pt x="181" y="204"/>
                        </a:lnTo>
                        <a:lnTo>
                          <a:pt x="181" y="198"/>
                        </a:lnTo>
                        <a:lnTo>
                          <a:pt x="180" y="192"/>
                        </a:lnTo>
                        <a:lnTo>
                          <a:pt x="177" y="184"/>
                        </a:lnTo>
                        <a:lnTo>
                          <a:pt x="172" y="186"/>
                        </a:lnTo>
                        <a:lnTo>
                          <a:pt x="165" y="190"/>
                        </a:lnTo>
                        <a:lnTo>
                          <a:pt x="155" y="192"/>
                        </a:lnTo>
                        <a:lnTo>
                          <a:pt x="149" y="192"/>
                        </a:lnTo>
                        <a:lnTo>
                          <a:pt x="139" y="192"/>
                        </a:lnTo>
                        <a:lnTo>
                          <a:pt x="133" y="192"/>
                        </a:lnTo>
                        <a:lnTo>
                          <a:pt x="126" y="186"/>
                        </a:lnTo>
                        <a:lnTo>
                          <a:pt x="119" y="182"/>
                        </a:lnTo>
                        <a:lnTo>
                          <a:pt x="119" y="176"/>
                        </a:lnTo>
                        <a:lnTo>
                          <a:pt x="126" y="168"/>
                        </a:lnTo>
                        <a:lnTo>
                          <a:pt x="131" y="164"/>
                        </a:lnTo>
                        <a:lnTo>
                          <a:pt x="137" y="161"/>
                        </a:lnTo>
                        <a:lnTo>
                          <a:pt x="141" y="156"/>
                        </a:lnTo>
                        <a:lnTo>
                          <a:pt x="149" y="145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080800" y="4533480"/>
                    <a:ext cx="245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260">
                        <a:moveTo>
                          <a:pt x="31" y="0"/>
                        </a:moveTo>
                        <a:lnTo>
                          <a:pt x="39" y="4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4" y="14"/>
                        </a:lnTo>
                        <a:lnTo>
                          <a:pt x="60" y="14"/>
                        </a:lnTo>
                        <a:lnTo>
                          <a:pt x="66" y="20"/>
                        </a:lnTo>
                        <a:lnTo>
                          <a:pt x="72" y="26"/>
                        </a:lnTo>
                        <a:lnTo>
                          <a:pt x="78" y="32"/>
                        </a:lnTo>
                        <a:lnTo>
                          <a:pt x="82" y="36"/>
                        </a:lnTo>
                        <a:lnTo>
                          <a:pt x="89" y="37"/>
                        </a:lnTo>
                        <a:lnTo>
                          <a:pt x="93" y="44"/>
                        </a:lnTo>
                        <a:lnTo>
                          <a:pt x="98" y="45"/>
                        </a:lnTo>
                        <a:lnTo>
                          <a:pt x="105" y="52"/>
                        </a:lnTo>
                        <a:lnTo>
                          <a:pt x="110" y="56"/>
                        </a:lnTo>
                        <a:lnTo>
                          <a:pt x="114" y="61"/>
                        </a:lnTo>
                        <a:lnTo>
                          <a:pt x="120" y="65"/>
                        </a:lnTo>
                        <a:lnTo>
                          <a:pt x="126" y="68"/>
                        </a:lnTo>
                        <a:lnTo>
                          <a:pt x="128" y="61"/>
                        </a:lnTo>
                        <a:lnTo>
                          <a:pt x="130" y="56"/>
                        </a:lnTo>
                        <a:lnTo>
                          <a:pt x="128" y="49"/>
                        </a:lnTo>
                        <a:lnTo>
                          <a:pt x="124" y="44"/>
                        </a:lnTo>
                        <a:lnTo>
                          <a:pt x="124" y="37"/>
                        </a:lnTo>
                        <a:lnTo>
                          <a:pt x="124" y="32"/>
                        </a:lnTo>
                        <a:lnTo>
                          <a:pt x="124" y="26"/>
                        </a:lnTo>
                        <a:lnTo>
                          <a:pt x="132" y="20"/>
                        </a:lnTo>
                        <a:lnTo>
                          <a:pt x="138" y="16"/>
                        </a:lnTo>
                        <a:lnTo>
                          <a:pt x="144" y="10"/>
                        </a:lnTo>
                        <a:lnTo>
                          <a:pt x="152" y="6"/>
                        </a:lnTo>
                        <a:lnTo>
                          <a:pt x="156" y="6"/>
                        </a:lnTo>
                        <a:lnTo>
                          <a:pt x="163" y="4"/>
                        </a:lnTo>
                        <a:lnTo>
                          <a:pt x="168" y="4"/>
                        </a:lnTo>
                        <a:lnTo>
                          <a:pt x="175" y="4"/>
                        </a:lnTo>
                        <a:lnTo>
                          <a:pt x="183" y="6"/>
                        </a:lnTo>
                        <a:lnTo>
                          <a:pt x="188" y="10"/>
                        </a:lnTo>
                        <a:lnTo>
                          <a:pt x="196" y="10"/>
                        </a:lnTo>
                        <a:lnTo>
                          <a:pt x="202" y="14"/>
                        </a:lnTo>
                        <a:lnTo>
                          <a:pt x="208" y="16"/>
                        </a:lnTo>
                        <a:lnTo>
                          <a:pt x="212" y="22"/>
                        </a:lnTo>
                        <a:lnTo>
                          <a:pt x="214" y="28"/>
                        </a:lnTo>
                        <a:lnTo>
                          <a:pt x="219" y="32"/>
                        </a:lnTo>
                        <a:lnTo>
                          <a:pt x="226" y="36"/>
                        </a:lnTo>
                        <a:lnTo>
                          <a:pt x="227" y="41"/>
                        </a:lnTo>
                        <a:lnTo>
                          <a:pt x="234" y="49"/>
                        </a:lnTo>
                        <a:lnTo>
                          <a:pt x="241" y="56"/>
                        </a:lnTo>
                        <a:lnTo>
                          <a:pt x="245" y="64"/>
                        </a:lnTo>
                        <a:lnTo>
                          <a:pt x="253" y="64"/>
                        </a:lnTo>
                        <a:lnTo>
                          <a:pt x="258" y="65"/>
                        </a:lnTo>
                        <a:lnTo>
                          <a:pt x="264" y="68"/>
                        </a:lnTo>
                        <a:lnTo>
                          <a:pt x="270" y="68"/>
                        </a:lnTo>
                        <a:lnTo>
                          <a:pt x="276" y="64"/>
                        </a:lnTo>
                        <a:lnTo>
                          <a:pt x="280" y="57"/>
                        </a:lnTo>
                        <a:lnTo>
                          <a:pt x="280" y="52"/>
                        </a:lnTo>
                        <a:lnTo>
                          <a:pt x="284" y="45"/>
                        </a:lnTo>
                        <a:lnTo>
                          <a:pt x="286" y="37"/>
                        </a:lnTo>
                        <a:lnTo>
                          <a:pt x="290" y="30"/>
                        </a:lnTo>
                        <a:lnTo>
                          <a:pt x="296" y="24"/>
                        </a:lnTo>
                        <a:lnTo>
                          <a:pt x="301" y="18"/>
                        </a:lnTo>
                        <a:lnTo>
                          <a:pt x="308" y="16"/>
                        </a:lnTo>
                        <a:lnTo>
                          <a:pt x="315" y="14"/>
                        </a:lnTo>
                        <a:lnTo>
                          <a:pt x="323" y="12"/>
                        </a:lnTo>
                        <a:lnTo>
                          <a:pt x="328" y="10"/>
                        </a:lnTo>
                        <a:lnTo>
                          <a:pt x="334" y="8"/>
                        </a:lnTo>
                        <a:lnTo>
                          <a:pt x="344" y="8"/>
                        </a:lnTo>
                        <a:lnTo>
                          <a:pt x="350" y="8"/>
                        </a:lnTo>
                        <a:lnTo>
                          <a:pt x="358" y="8"/>
                        </a:lnTo>
                        <a:lnTo>
                          <a:pt x="363" y="10"/>
                        </a:lnTo>
                        <a:lnTo>
                          <a:pt x="370" y="12"/>
                        </a:lnTo>
                        <a:lnTo>
                          <a:pt x="374" y="20"/>
                        </a:lnTo>
                        <a:lnTo>
                          <a:pt x="378" y="26"/>
                        </a:lnTo>
                        <a:lnTo>
                          <a:pt x="382" y="32"/>
                        </a:lnTo>
                        <a:lnTo>
                          <a:pt x="382" y="37"/>
                        </a:lnTo>
                        <a:lnTo>
                          <a:pt x="382" y="44"/>
                        </a:lnTo>
                        <a:lnTo>
                          <a:pt x="378" y="52"/>
                        </a:lnTo>
                        <a:lnTo>
                          <a:pt x="375" y="57"/>
                        </a:lnTo>
                        <a:lnTo>
                          <a:pt x="375" y="64"/>
                        </a:lnTo>
                        <a:lnTo>
                          <a:pt x="379" y="69"/>
                        </a:lnTo>
                        <a:lnTo>
                          <a:pt x="386" y="69"/>
                        </a:lnTo>
                        <a:lnTo>
                          <a:pt x="390" y="69"/>
                        </a:lnTo>
                        <a:lnTo>
                          <a:pt x="397" y="68"/>
                        </a:lnTo>
                        <a:lnTo>
                          <a:pt x="404" y="64"/>
                        </a:lnTo>
                        <a:lnTo>
                          <a:pt x="410" y="60"/>
                        </a:lnTo>
                        <a:lnTo>
                          <a:pt x="418" y="56"/>
                        </a:lnTo>
                        <a:lnTo>
                          <a:pt x="424" y="53"/>
                        </a:lnTo>
                        <a:lnTo>
                          <a:pt x="432" y="52"/>
                        </a:lnTo>
                        <a:lnTo>
                          <a:pt x="440" y="49"/>
                        </a:lnTo>
                        <a:lnTo>
                          <a:pt x="448" y="45"/>
                        </a:lnTo>
                        <a:lnTo>
                          <a:pt x="456" y="44"/>
                        </a:lnTo>
                        <a:lnTo>
                          <a:pt x="461" y="44"/>
                        </a:lnTo>
                        <a:lnTo>
                          <a:pt x="471" y="44"/>
                        </a:lnTo>
                        <a:lnTo>
                          <a:pt x="480" y="44"/>
                        </a:lnTo>
                        <a:lnTo>
                          <a:pt x="490" y="44"/>
                        </a:lnTo>
                        <a:lnTo>
                          <a:pt x="498" y="45"/>
                        </a:lnTo>
                        <a:lnTo>
                          <a:pt x="504" y="45"/>
                        </a:lnTo>
                        <a:lnTo>
                          <a:pt x="510" y="49"/>
                        </a:lnTo>
                        <a:lnTo>
                          <a:pt x="518" y="53"/>
                        </a:lnTo>
                        <a:lnTo>
                          <a:pt x="526" y="56"/>
                        </a:lnTo>
                        <a:lnTo>
                          <a:pt x="534" y="61"/>
                        </a:lnTo>
                        <a:lnTo>
                          <a:pt x="539" y="65"/>
                        </a:lnTo>
                        <a:lnTo>
                          <a:pt x="544" y="73"/>
                        </a:lnTo>
                        <a:lnTo>
                          <a:pt x="544" y="81"/>
                        </a:lnTo>
                        <a:lnTo>
                          <a:pt x="544" y="86"/>
                        </a:lnTo>
                        <a:lnTo>
                          <a:pt x="544" y="92"/>
                        </a:lnTo>
                        <a:lnTo>
                          <a:pt x="539" y="98"/>
                        </a:lnTo>
                        <a:lnTo>
                          <a:pt x="534" y="106"/>
                        </a:lnTo>
                        <a:lnTo>
                          <a:pt x="527" y="110"/>
                        </a:lnTo>
                        <a:lnTo>
                          <a:pt x="522" y="111"/>
                        </a:lnTo>
                        <a:lnTo>
                          <a:pt x="514" y="111"/>
                        </a:lnTo>
                        <a:lnTo>
                          <a:pt x="507" y="111"/>
                        </a:lnTo>
                        <a:lnTo>
                          <a:pt x="502" y="111"/>
                        </a:lnTo>
                        <a:lnTo>
                          <a:pt x="496" y="111"/>
                        </a:lnTo>
                        <a:lnTo>
                          <a:pt x="490" y="111"/>
                        </a:lnTo>
                        <a:lnTo>
                          <a:pt x="482" y="111"/>
                        </a:lnTo>
                        <a:lnTo>
                          <a:pt x="476" y="115"/>
                        </a:lnTo>
                        <a:lnTo>
                          <a:pt x="471" y="118"/>
                        </a:lnTo>
                        <a:lnTo>
                          <a:pt x="464" y="123"/>
                        </a:lnTo>
                        <a:lnTo>
                          <a:pt x="457" y="127"/>
                        </a:lnTo>
                        <a:lnTo>
                          <a:pt x="453" y="134"/>
                        </a:lnTo>
                        <a:lnTo>
                          <a:pt x="453" y="139"/>
                        </a:lnTo>
                        <a:lnTo>
                          <a:pt x="457" y="146"/>
                        </a:lnTo>
                        <a:lnTo>
                          <a:pt x="464" y="151"/>
                        </a:lnTo>
                        <a:lnTo>
                          <a:pt x="467" y="158"/>
                        </a:lnTo>
                        <a:lnTo>
                          <a:pt x="472" y="163"/>
                        </a:lnTo>
                        <a:lnTo>
                          <a:pt x="478" y="170"/>
                        </a:lnTo>
                        <a:lnTo>
                          <a:pt x="478" y="174"/>
                        </a:lnTo>
                        <a:lnTo>
                          <a:pt x="480" y="180"/>
                        </a:lnTo>
                        <a:lnTo>
                          <a:pt x="480" y="188"/>
                        </a:lnTo>
                        <a:lnTo>
                          <a:pt x="478" y="193"/>
                        </a:lnTo>
                        <a:lnTo>
                          <a:pt x="468" y="200"/>
                        </a:lnTo>
                        <a:lnTo>
                          <a:pt x="464" y="201"/>
                        </a:lnTo>
                        <a:lnTo>
                          <a:pt x="456" y="201"/>
                        </a:lnTo>
                        <a:lnTo>
                          <a:pt x="449" y="201"/>
                        </a:lnTo>
                        <a:lnTo>
                          <a:pt x="440" y="201"/>
                        </a:lnTo>
                        <a:lnTo>
                          <a:pt x="434" y="197"/>
                        </a:lnTo>
                        <a:lnTo>
                          <a:pt x="428" y="193"/>
                        </a:lnTo>
                        <a:lnTo>
                          <a:pt x="418" y="188"/>
                        </a:lnTo>
                        <a:lnTo>
                          <a:pt x="414" y="180"/>
                        </a:lnTo>
                        <a:lnTo>
                          <a:pt x="412" y="171"/>
                        </a:lnTo>
                        <a:lnTo>
                          <a:pt x="408" y="166"/>
                        </a:lnTo>
                        <a:lnTo>
                          <a:pt x="404" y="159"/>
                        </a:lnTo>
                        <a:lnTo>
                          <a:pt x="397" y="155"/>
                        </a:lnTo>
                        <a:lnTo>
                          <a:pt x="389" y="151"/>
                        </a:lnTo>
                        <a:lnTo>
                          <a:pt x="383" y="151"/>
                        </a:lnTo>
                        <a:lnTo>
                          <a:pt x="378" y="155"/>
                        </a:lnTo>
                        <a:lnTo>
                          <a:pt x="371" y="162"/>
                        </a:lnTo>
                        <a:lnTo>
                          <a:pt x="371" y="167"/>
                        </a:lnTo>
                        <a:lnTo>
                          <a:pt x="371" y="174"/>
                        </a:lnTo>
                        <a:lnTo>
                          <a:pt x="371" y="178"/>
                        </a:lnTo>
                        <a:lnTo>
                          <a:pt x="374" y="188"/>
                        </a:lnTo>
                        <a:lnTo>
                          <a:pt x="375" y="193"/>
                        </a:lnTo>
                        <a:lnTo>
                          <a:pt x="375" y="200"/>
                        </a:lnTo>
                        <a:lnTo>
                          <a:pt x="375" y="205"/>
                        </a:lnTo>
                        <a:lnTo>
                          <a:pt x="375" y="213"/>
                        </a:lnTo>
                        <a:lnTo>
                          <a:pt x="374" y="220"/>
                        </a:lnTo>
                        <a:lnTo>
                          <a:pt x="370" y="229"/>
                        </a:lnTo>
                        <a:lnTo>
                          <a:pt x="366" y="236"/>
                        </a:lnTo>
                        <a:lnTo>
                          <a:pt x="358" y="244"/>
                        </a:lnTo>
                        <a:lnTo>
                          <a:pt x="354" y="249"/>
                        </a:lnTo>
                        <a:lnTo>
                          <a:pt x="348" y="256"/>
                        </a:lnTo>
                        <a:lnTo>
                          <a:pt x="340" y="257"/>
                        </a:lnTo>
                        <a:lnTo>
                          <a:pt x="330" y="260"/>
                        </a:lnTo>
                        <a:lnTo>
                          <a:pt x="323" y="260"/>
                        </a:lnTo>
                        <a:lnTo>
                          <a:pt x="315" y="257"/>
                        </a:lnTo>
                        <a:lnTo>
                          <a:pt x="308" y="252"/>
                        </a:lnTo>
                        <a:lnTo>
                          <a:pt x="300" y="248"/>
                        </a:lnTo>
                        <a:lnTo>
                          <a:pt x="296" y="241"/>
                        </a:lnTo>
                        <a:lnTo>
                          <a:pt x="288" y="236"/>
                        </a:lnTo>
                        <a:lnTo>
                          <a:pt x="288" y="229"/>
                        </a:lnTo>
                        <a:lnTo>
                          <a:pt x="284" y="224"/>
                        </a:lnTo>
                        <a:lnTo>
                          <a:pt x="282" y="213"/>
                        </a:lnTo>
                        <a:lnTo>
                          <a:pt x="282" y="208"/>
                        </a:lnTo>
                        <a:lnTo>
                          <a:pt x="282" y="201"/>
                        </a:lnTo>
                        <a:lnTo>
                          <a:pt x="282" y="193"/>
                        </a:lnTo>
                        <a:lnTo>
                          <a:pt x="282" y="184"/>
                        </a:lnTo>
                        <a:lnTo>
                          <a:pt x="278" y="176"/>
                        </a:lnTo>
                        <a:lnTo>
                          <a:pt x="276" y="171"/>
                        </a:lnTo>
                        <a:lnTo>
                          <a:pt x="268" y="166"/>
                        </a:lnTo>
                        <a:lnTo>
                          <a:pt x="262" y="162"/>
                        </a:lnTo>
                        <a:lnTo>
                          <a:pt x="256" y="159"/>
                        </a:lnTo>
                        <a:lnTo>
                          <a:pt x="250" y="163"/>
                        </a:lnTo>
                        <a:lnTo>
                          <a:pt x="249" y="170"/>
                        </a:lnTo>
                        <a:lnTo>
                          <a:pt x="246" y="174"/>
                        </a:lnTo>
                        <a:lnTo>
                          <a:pt x="245" y="180"/>
                        </a:lnTo>
                        <a:lnTo>
                          <a:pt x="242" y="188"/>
                        </a:lnTo>
                        <a:lnTo>
                          <a:pt x="242" y="196"/>
                        </a:lnTo>
                        <a:lnTo>
                          <a:pt x="242" y="201"/>
                        </a:lnTo>
                        <a:lnTo>
                          <a:pt x="245" y="209"/>
                        </a:lnTo>
                        <a:lnTo>
                          <a:pt x="246" y="216"/>
                        </a:lnTo>
                        <a:lnTo>
                          <a:pt x="246" y="224"/>
                        </a:lnTo>
                        <a:lnTo>
                          <a:pt x="246" y="229"/>
                        </a:lnTo>
                        <a:lnTo>
                          <a:pt x="241" y="233"/>
                        </a:lnTo>
                        <a:lnTo>
                          <a:pt x="234" y="236"/>
                        </a:lnTo>
                        <a:lnTo>
                          <a:pt x="230" y="237"/>
                        </a:lnTo>
                        <a:lnTo>
                          <a:pt x="222" y="240"/>
                        </a:lnTo>
                        <a:lnTo>
                          <a:pt x="216" y="240"/>
                        </a:lnTo>
                        <a:lnTo>
                          <a:pt x="210" y="240"/>
                        </a:lnTo>
                        <a:lnTo>
                          <a:pt x="204" y="233"/>
                        </a:lnTo>
                        <a:lnTo>
                          <a:pt x="196" y="225"/>
                        </a:lnTo>
                        <a:lnTo>
                          <a:pt x="192" y="220"/>
                        </a:lnTo>
                        <a:lnTo>
                          <a:pt x="188" y="212"/>
                        </a:lnTo>
                        <a:lnTo>
                          <a:pt x="186" y="205"/>
                        </a:lnTo>
                        <a:lnTo>
                          <a:pt x="184" y="197"/>
                        </a:lnTo>
                        <a:lnTo>
                          <a:pt x="183" y="192"/>
                        </a:lnTo>
                        <a:lnTo>
                          <a:pt x="183" y="184"/>
                        </a:lnTo>
                        <a:lnTo>
                          <a:pt x="184" y="174"/>
                        </a:lnTo>
                        <a:lnTo>
                          <a:pt x="179" y="171"/>
                        </a:lnTo>
                        <a:lnTo>
                          <a:pt x="172" y="171"/>
                        </a:lnTo>
                        <a:lnTo>
                          <a:pt x="163" y="176"/>
                        </a:lnTo>
                        <a:lnTo>
                          <a:pt x="156" y="178"/>
                        </a:lnTo>
                        <a:lnTo>
                          <a:pt x="153" y="184"/>
                        </a:lnTo>
                        <a:lnTo>
                          <a:pt x="148" y="186"/>
                        </a:lnTo>
                        <a:lnTo>
                          <a:pt x="140" y="188"/>
                        </a:lnTo>
                        <a:lnTo>
                          <a:pt x="136" y="193"/>
                        </a:lnTo>
                        <a:lnTo>
                          <a:pt x="128" y="196"/>
                        </a:lnTo>
                        <a:lnTo>
                          <a:pt x="122" y="200"/>
                        </a:lnTo>
                        <a:lnTo>
                          <a:pt x="116" y="201"/>
                        </a:lnTo>
                        <a:lnTo>
                          <a:pt x="109" y="201"/>
                        </a:lnTo>
                        <a:lnTo>
                          <a:pt x="98" y="201"/>
                        </a:lnTo>
                        <a:lnTo>
                          <a:pt x="93" y="201"/>
                        </a:lnTo>
                        <a:lnTo>
                          <a:pt x="82" y="197"/>
                        </a:lnTo>
                        <a:lnTo>
                          <a:pt x="78" y="193"/>
                        </a:lnTo>
                        <a:lnTo>
                          <a:pt x="72" y="189"/>
                        </a:lnTo>
                        <a:lnTo>
                          <a:pt x="68" y="184"/>
                        </a:lnTo>
                        <a:lnTo>
                          <a:pt x="66" y="176"/>
                        </a:lnTo>
                        <a:lnTo>
                          <a:pt x="66" y="170"/>
                        </a:lnTo>
                        <a:lnTo>
                          <a:pt x="68" y="162"/>
                        </a:lnTo>
                        <a:lnTo>
                          <a:pt x="74" y="155"/>
                        </a:lnTo>
                        <a:lnTo>
                          <a:pt x="82" y="146"/>
                        </a:lnTo>
                        <a:lnTo>
                          <a:pt x="89" y="142"/>
                        </a:lnTo>
                        <a:lnTo>
                          <a:pt x="101" y="135"/>
                        </a:lnTo>
                        <a:lnTo>
                          <a:pt x="109" y="130"/>
                        </a:lnTo>
                        <a:lnTo>
                          <a:pt x="116" y="123"/>
                        </a:lnTo>
                        <a:lnTo>
                          <a:pt x="122" y="122"/>
                        </a:lnTo>
                        <a:lnTo>
                          <a:pt x="132" y="118"/>
                        </a:lnTo>
                        <a:lnTo>
                          <a:pt x="138" y="118"/>
                        </a:lnTo>
                        <a:lnTo>
                          <a:pt x="140" y="111"/>
                        </a:lnTo>
                        <a:lnTo>
                          <a:pt x="136" y="106"/>
                        </a:lnTo>
                        <a:lnTo>
                          <a:pt x="130" y="104"/>
                        </a:lnTo>
                        <a:lnTo>
                          <a:pt x="124" y="104"/>
                        </a:lnTo>
                        <a:lnTo>
                          <a:pt x="118" y="102"/>
                        </a:lnTo>
                        <a:lnTo>
                          <a:pt x="110" y="100"/>
                        </a:lnTo>
                        <a:lnTo>
                          <a:pt x="105" y="98"/>
                        </a:lnTo>
                        <a:lnTo>
                          <a:pt x="98" y="98"/>
                        </a:lnTo>
                        <a:lnTo>
                          <a:pt x="93" y="98"/>
                        </a:lnTo>
                        <a:lnTo>
                          <a:pt x="85" y="98"/>
                        </a:lnTo>
                        <a:lnTo>
                          <a:pt x="78" y="98"/>
                        </a:lnTo>
                        <a:lnTo>
                          <a:pt x="72" y="98"/>
                        </a:lnTo>
                        <a:lnTo>
                          <a:pt x="66" y="98"/>
                        </a:lnTo>
                        <a:lnTo>
                          <a:pt x="56" y="100"/>
                        </a:lnTo>
                        <a:lnTo>
                          <a:pt x="48" y="102"/>
                        </a:lnTo>
                        <a:lnTo>
                          <a:pt x="40" y="102"/>
                        </a:lnTo>
                        <a:lnTo>
                          <a:pt x="35" y="100"/>
                        </a:lnTo>
                        <a:lnTo>
                          <a:pt x="23" y="98"/>
                        </a:lnTo>
                        <a:lnTo>
                          <a:pt x="19" y="92"/>
                        </a:lnTo>
                        <a:lnTo>
                          <a:pt x="11" y="85"/>
                        </a:lnTo>
                        <a:lnTo>
                          <a:pt x="7" y="80"/>
                        </a:lnTo>
                        <a:lnTo>
                          <a:pt x="3" y="73"/>
                        </a:lnTo>
                        <a:lnTo>
                          <a:pt x="0" y="65"/>
                        </a:lnTo>
                        <a:lnTo>
                          <a:pt x="7" y="64"/>
                        </a:lnTo>
                        <a:lnTo>
                          <a:pt x="15" y="64"/>
                        </a:lnTo>
                        <a:lnTo>
                          <a:pt x="20" y="64"/>
                        </a:lnTo>
                        <a:lnTo>
                          <a:pt x="27" y="68"/>
                        </a:lnTo>
                        <a:lnTo>
                          <a:pt x="32" y="69"/>
                        </a:lnTo>
                        <a:lnTo>
                          <a:pt x="39" y="76"/>
                        </a:lnTo>
                        <a:lnTo>
                          <a:pt x="40" y="81"/>
                        </a:lnTo>
                        <a:lnTo>
                          <a:pt x="46" y="85"/>
                        </a:lnTo>
                        <a:lnTo>
                          <a:pt x="52" y="86"/>
                        </a:lnTo>
                        <a:lnTo>
                          <a:pt x="58" y="88"/>
                        </a:lnTo>
                        <a:lnTo>
                          <a:pt x="64" y="88"/>
                        </a:lnTo>
                        <a:lnTo>
                          <a:pt x="72" y="86"/>
                        </a:lnTo>
                        <a:lnTo>
                          <a:pt x="78" y="86"/>
                        </a:lnTo>
                        <a:lnTo>
                          <a:pt x="82" y="86"/>
                        </a:lnTo>
                        <a:lnTo>
                          <a:pt x="89" y="86"/>
                        </a:lnTo>
                        <a:lnTo>
                          <a:pt x="94" y="86"/>
                        </a:lnTo>
                        <a:lnTo>
                          <a:pt x="102" y="88"/>
                        </a:lnTo>
                        <a:lnTo>
                          <a:pt x="109" y="90"/>
                        </a:lnTo>
                        <a:lnTo>
                          <a:pt x="114" y="90"/>
                        </a:lnTo>
                        <a:lnTo>
                          <a:pt x="124" y="90"/>
                        </a:lnTo>
                        <a:lnTo>
                          <a:pt x="130" y="92"/>
                        </a:lnTo>
                        <a:lnTo>
                          <a:pt x="136" y="96"/>
                        </a:lnTo>
                        <a:lnTo>
                          <a:pt x="144" y="98"/>
                        </a:lnTo>
                        <a:lnTo>
                          <a:pt x="152" y="104"/>
                        </a:lnTo>
                        <a:lnTo>
                          <a:pt x="156" y="110"/>
                        </a:lnTo>
                        <a:lnTo>
                          <a:pt x="160" y="115"/>
                        </a:lnTo>
                        <a:lnTo>
                          <a:pt x="160" y="123"/>
                        </a:lnTo>
                        <a:lnTo>
                          <a:pt x="156" y="130"/>
                        </a:lnTo>
                        <a:lnTo>
                          <a:pt x="149" y="131"/>
                        </a:lnTo>
                        <a:lnTo>
                          <a:pt x="142" y="134"/>
                        </a:lnTo>
                        <a:lnTo>
                          <a:pt x="136" y="134"/>
                        </a:lnTo>
                        <a:lnTo>
                          <a:pt x="128" y="139"/>
                        </a:lnTo>
                        <a:lnTo>
                          <a:pt x="118" y="146"/>
                        </a:lnTo>
                        <a:lnTo>
                          <a:pt x="112" y="151"/>
                        </a:lnTo>
                        <a:lnTo>
                          <a:pt x="106" y="154"/>
                        </a:lnTo>
                        <a:lnTo>
                          <a:pt x="101" y="159"/>
                        </a:lnTo>
                        <a:lnTo>
                          <a:pt x="94" y="162"/>
                        </a:lnTo>
                        <a:lnTo>
                          <a:pt x="89" y="166"/>
                        </a:lnTo>
                        <a:lnTo>
                          <a:pt x="85" y="171"/>
                        </a:lnTo>
                        <a:lnTo>
                          <a:pt x="85" y="176"/>
                        </a:lnTo>
                        <a:lnTo>
                          <a:pt x="82" y="182"/>
                        </a:lnTo>
                        <a:lnTo>
                          <a:pt x="85" y="188"/>
                        </a:lnTo>
                        <a:lnTo>
                          <a:pt x="90" y="189"/>
                        </a:lnTo>
                        <a:lnTo>
                          <a:pt x="97" y="189"/>
                        </a:lnTo>
                        <a:lnTo>
                          <a:pt x="105" y="189"/>
                        </a:lnTo>
                        <a:lnTo>
                          <a:pt x="110" y="189"/>
                        </a:lnTo>
                        <a:lnTo>
                          <a:pt x="118" y="186"/>
                        </a:lnTo>
                        <a:lnTo>
                          <a:pt x="124" y="182"/>
                        </a:lnTo>
                        <a:lnTo>
                          <a:pt x="128" y="176"/>
                        </a:lnTo>
                        <a:lnTo>
                          <a:pt x="134" y="174"/>
                        </a:lnTo>
                        <a:lnTo>
                          <a:pt x="140" y="167"/>
                        </a:lnTo>
                        <a:lnTo>
                          <a:pt x="148" y="163"/>
                        </a:lnTo>
                        <a:lnTo>
                          <a:pt x="156" y="159"/>
                        </a:lnTo>
                        <a:lnTo>
                          <a:pt x="163" y="154"/>
                        </a:lnTo>
                        <a:lnTo>
                          <a:pt x="171" y="151"/>
                        </a:lnTo>
                        <a:lnTo>
                          <a:pt x="176" y="151"/>
                        </a:lnTo>
                        <a:lnTo>
                          <a:pt x="183" y="154"/>
                        </a:lnTo>
                        <a:lnTo>
                          <a:pt x="188" y="158"/>
                        </a:lnTo>
                        <a:lnTo>
                          <a:pt x="194" y="162"/>
                        </a:lnTo>
                        <a:lnTo>
                          <a:pt x="194" y="167"/>
                        </a:lnTo>
                        <a:lnTo>
                          <a:pt x="194" y="174"/>
                        </a:lnTo>
                        <a:lnTo>
                          <a:pt x="194" y="178"/>
                        </a:lnTo>
                        <a:lnTo>
                          <a:pt x="196" y="184"/>
                        </a:lnTo>
                        <a:lnTo>
                          <a:pt x="196" y="189"/>
                        </a:lnTo>
                        <a:lnTo>
                          <a:pt x="198" y="196"/>
                        </a:lnTo>
                        <a:lnTo>
                          <a:pt x="198" y="201"/>
                        </a:lnTo>
                        <a:lnTo>
                          <a:pt x="202" y="208"/>
                        </a:lnTo>
                        <a:lnTo>
                          <a:pt x="208" y="213"/>
                        </a:lnTo>
                        <a:lnTo>
                          <a:pt x="212" y="220"/>
                        </a:lnTo>
                        <a:lnTo>
                          <a:pt x="218" y="221"/>
                        </a:lnTo>
                        <a:lnTo>
                          <a:pt x="223" y="224"/>
                        </a:lnTo>
                        <a:lnTo>
                          <a:pt x="230" y="224"/>
                        </a:lnTo>
                        <a:lnTo>
                          <a:pt x="234" y="217"/>
                        </a:lnTo>
                        <a:lnTo>
                          <a:pt x="234" y="212"/>
                        </a:lnTo>
                        <a:lnTo>
                          <a:pt x="234" y="204"/>
                        </a:lnTo>
                        <a:lnTo>
                          <a:pt x="234" y="196"/>
                        </a:lnTo>
                        <a:lnTo>
                          <a:pt x="234" y="188"/>
                        </a:lnTo>
                        <a:lnTo>
                          <a:pt x="234" y="182"/>
                        </a:lnTo>
                        <a:lnTo>
                          <a:pt x="234" y="176"/>
                        </a:lnTo>
                        <a:lnTo>
                          <a:pt x="237" y="167"/>
                        </a:lnTo>
                        <a:lnTo>
                          <a:pt x="237" y="159"/>
                        </a:lnTo>
                        <a:lnTo>
                          <a:pt x="237" y="154"/>
                        </a:lnTo>
                        <a:lnTo>
                          <a:pt x="241" y="146"/>
                        </a:lnTo>
                        <a:lnTo>
                          <a:pt x="245" y="138"/>
                        </a:lnTo>
                        <a:lnTo>
                          <a:pt x="253" y="134"/>
                        </a:lnTo>
                        <a:lnTo>
                          <a:pt x="258" y="134"/>
                        </a:lnTo>
                        <a:lnTo>
                          <a:pt x="264" y="131"/>
                        </a:lnTo>
                        <a:lnTo>
                          <a:pt x="270" y="131"/>
                        </a:lnTo>
                        <a:lnTo>
                          <a:pt x="278" y="131"/>
                        </a:lnTo>
                        <a:lnTo>
                          <a:pt x="286" y="134"/>
                        </a:lnTo>
                        <a:lnTo>
                          <a:pt x="292" y="139"/>
                        </a:lnTo>
                        <a:lnTo>
                          <a:pt x="293" y="146"/>
                        </a:lnTo>
                        <a:lnTo>
                          <a:pt x="296" y="151"/>
                        </a:lnTo>
                        <a:lnTo>
                          <a:pt x="300" y="158"/>
                        </a:lnTo>
                        <a:lnTo>
                          <a:pt x="301" y="166"/>
                        </a:lnTo>
                        <a:lnTo>
                          <a:pt x="301" y="174"/>
                        </a:lnTo>
                        <a:lnTo>
                          <a:pt x="301" y="184"/>
                        </a:lnTo>
                        <a:lnTo>
                          <a:pt x="301" y="189"/>
                        </a:lnTo>
                        <a:lnTo>
                          <a:pt x="304" y="196"/>
                        </a:lnTo>
                        <a:lnTo>
                          <a:pt x="308" y="201"/>
                        </a:lnTo>
                        <a:lnTo>
                          <a:pt x="308" y="209"/>
                        </a:lnTo>
                        <a:lnTo>
                          <a:pt x="311" y="217"/>
                        </a:lnTo>
                        <a:lnTo>
                          <a:pt x="311" y="225"/>
                        </a:lnTo>
                        <a:lnTo>
                          <a:pt x="315" y="232"/>
                        </a:lnTo>
                        <a:lnTo>
                          <a:pt x="316" y="237"/>
                        </a:lnTo>
                        <a:lnTo>
                          <a:pt x="323" y="241"/>
                        </a:lnTo>
                        <a:lnTo>
                          <a:pt x="328" y="244"/>
                        </a:lnTo>
                        <a:lnTo>
                          <a:pt x="334" y="244"/>
                        </a:lnTo>
                        <a:lnTo>
                          <a:pt x="342" y="240"/>
                        </a:lnTo>
                        <a:lnTo>
                          <a:pt x="350" y="233"/>
                        </a:lnTo>
                        <a:lnTo>
                          <a:pt x="354" y="228"/>
                        </a:lnTo>
                        <a:lnTo>
                          <a:pt x="358" y="221"/>
                        </a:lnTo>
                        <a:lnTo>
                          <a:pt x="362" y="216"/>
                        </a:lnTo>
                        <a:lnTo>
                          <a:pt x="366" y="209"/>
                        </a:lnTo>
                        <a:lnTo>
                          <a:pt x="366" y="204"/>
                        </a:lnTo>
                        <a:lnTo>
                          <a:pt x="362" y="197"/>
                        </a:lnTo>
                        <a:lnTo>
                          <a:pt x="362" y="192"/>
                        </a:lnTo>
                        <a:lnTo>
                          <a:pt x="360" y="186"/>
                        </a:lnTo>
                        <a:lnTo>
                          <a:pt x="358" y="178"/>
                        </a:lnTo>
                        <a:lnTo>
                          <a:pt x="356" y="171"/>
                        </a:lnTo>
                        <a:lnTo>
                          <a:pt x="356" y="166"/>
                        </a:lnTo>
                        <a:lnTo>
                          <a:pt x="354" y="159"/>
                        </a:lnTo>
                        <a:lnTo>
                          <a:pt x="354" y="151"/>
                        </a:lnTo>
                        <a:lnTo>
                          <a:pt x="356" y="146"/>
                        </a:lnTo>
                        <a:lnTo>
                          <a:pt x="362" y="143"/>
                        </a:lnTo>
                        <a:lnTo>
                          <a:pt x="370" y="139"/>
                        </a:lnTo>
                        <a:lnTo>
                          <a:pt x="378" y="139"/>
                        </a:lnTo>
                        <a:lnTo>
                          <a:pt x="383" y="139"/>
                        </a:lnTo>
                        <a:lnTo>
                          <a:pt x="393" y="138"/>
                        </a:lnTo>
                        <a:lnTo>
                          <a:pt x="398" y="135"/>
                        </a:lnTo>
                        <a:lnTo>
                          <a:pt x="404" y="135"/>
                        </a:lnTo>
                        <a:lnTo>
                          <a:pt x="410" y="138"/>
                        </a:lnTo>
                        <a:lnTo>
                          <a:pt x="416" y="142"/>
                        </a:lnTo>
                        <a:lnTo>
                          <a:pt x="424" y="150"/>
                        </a:lnTo>
                        <a:lnTo>
                          <a:pt x="428" y="155"/>
                        </a:lnTo>
                        <a:lnTo>
                          <a:pt x="432" y="162"/>
                        </a:lnTo>
                        <a:lnTo>
                          <a:pt x="436" y="167"/>
                        </a:lnTo>
                        <a:lnTo>
                          <a:pt x="441" y="174"/>
                        </a:lnTo>
                        <a:lnTo>
                          <a:pt x="448" y="171"/>
                        </a:lnTo>
                        <a:lnTo>
                          <a:pt x="449" y="166"/>
                        </a:lnTo>
                        <a:lnTo>
                          <a:pt x="452" y="159"/>
                        </a:lnTo>
                        <a:lnTo>
                          <a:pt x="448" y="154"/>
                        </a:lnTo>
                        <a:lnTo>
                          <a:pt x="444" y="146"/>
                        </a:lnTo>
                        <a:lnTo>
                          <a:pt x="440" y="139"/>
                        </a:lnTo>
                        <a:lnTo>
                          <a:pt x="437" y="131"/>
                        </a:lnTo>
                        <a:lnTo>
                          <a:pt x="436" y="126"/>
                        </a:lnTo>
                        <a:lnTo>
                          <a:pt x="436" y="119"/>
                        </a:lnTo>
                        <a:lnTo>
                          <a:pt x="437" y="111"/>
                        </a:lnTo>
                        <a:lnTo>
                          <a:pt x="445" y="108"/>
                        </a:lnTo>
                        <a:lnTo>
                          <a:pt x="452" y="104"/>
                        </a:lnTo>
                        <a:lnTo>
                          <a:pt x="457" y="104"/>
                        </a:lnTo>
                        <a:lnTo>
                          <a:pt x="464" y="104"/>
                        </a:lnTo>
                        <a:lnTo>
                          <a:pt x="471" y="102"/>
                        </a:lnTo>
                        <a:lnTo>
                          <a:pt x="478" y="100"/>
                        </a:lnTo>
                        <a:lnTo>
                          <a:pt x="488" y="98"/>
                        </a:lnTo>
                        <a:lnTo>
                          <a:pt x="494" y="98"/>
                        </a:lnTo>
                        <a:lnTo>
                          <a:pt x="502" y="96"/>
                        </a:lnTo>
                        <a:lnTo>
                          <a:pt x="510" y="94"/>
                        </a:lnTo>
                        <a:lnTo>
                          <a:pt x="518" y="92"/>
                        </a:lnTo>
                        <a:lnTo>
                          <a:pt x="522" y="86"/>
                        </a:lnTo>
                        <a:lnTo>
                          <a:pt x="522" y="81"/>
                        </a:lnTo>
                        <a:lnTo>
                          <a:pt x="522" y="73"/>
                        </a:lnTo>
                        <a:lnTo>
                          <a:pt x="518" y="68"/>
                        </a:lnTo>
                        <a:lnTo>
                          <a:pt x="511" y="64"/>
                        </a:lnTo>
                        <a:lnTo>
                          <a:pt x="506" y="61"/>
                        </a:lnTo>
                        <a:lnTo>
                          <a:pt x="498" y="60"/>
                        </a:lnTo>
                        <a:lnTo>
                          <a:pt x="488" y="57"/>
                        </a:lnTo>
                        <a:lnTo>
                          <a:pt x="482" y="56"/>
                        </a:lnTo>
                        <a:lnTo>
                          <a:pt x="474" y="56"/>
                        </a:lnTo>
                        <a:lnTo>
                          <a:pt x="467" y="56"/>
                        </a:lnTo>
                        <a:lnTo>
                          <a:pt x="456" y="56"/>
                        </a:lnTo>
                        <a:lnTo>
                          <a:pt x="448" y="56"/>
                        </a:lnTo>
                        <a:lnTo>
                          <a:pt x="440" y="60"/>
                        </a:lnTo>
                        <a:lnTo>
                          <a:pt x="434" y="61"/>
                        </a:lnTo>
                        <a:lnTo>
                          <a:pt x="424" y="64"/>
                        </a:lnTo>
                        <a:lnTo>
                          <a:pt x="416" y="65"/>
                        </a:lnTo>
                        <a:lnTo>
                          <a:pt x="408" y="68"/>
                        </a:lnTo>
                        <a:lnTo>
                          <a:pt x="402" y="73"/>
                        </a:lnTo>
                        <a:lnTo>
                          <a:pt x="400" y="80"/>
                        </a:lnTo>
                        <a:lnTo>
                          <a:pt x="394" y="81"/>
                        </a:lnTo>
                        <a:lnTo>
                          <a:pt x="389" y="85"/>
                        </a:lnTo>
                        <a:lnTo>
                          <a:pt x="382" y="88"/>
                        </a:lnTo>
                        <a:lnTo>
                          <a:pt x="378" y="94"/>
                        </a:lnTo>
                        <a:lnTo>
                          <a:pt x="370" y="94"/>
                        </a:lnTo>
                        <a:lnTo>
                          <a:pt x="363" y="92"/>
                        </a:lnTo>
                        <a:lnTo>
                          <a:pt x="358" y="90"/>
                        </a:lnTo>
                        <a:lnTo>
                          <a:pt x="352" y="85"/>
                        </a:lnTo>
                        <a:lnTo>
                          <a:pt x="350" y="76"/>
                        </a:lnTo>
                        <a:lnTo>
                          <a:pt x="352" y="69"/>
                        </a:lnTo>
                        <a:lnTo>
                          <a:pt x="354" y="64"/>
                        </a:lnTo>
                        <a:lnTo>
                          <a:pt x="358" y="56"/>
                        </a:lnTo>
                        <a:lnTo>
                          <a:pt x="362" y="49"/>
                        </a:lnTo>
                        <a:lnTo>
                          <a:pt x="363" y="44"/>
                        </a:lnTo>
                        <a:lnTo>
                          <a:pt x="362" y="37"/>
                        </a:lnTo>
                        <a:lnTo>
                          <a:pt x="356" y="32"/>
                        </a:lnTo>
                        <a:lnTo>
                          <a:pt x="348" y="30"/>
                        </a:lnTo>
                        <a:lnTo>
                          <a:pt x="342" y="28"/>
                        </a:lnTo>
                        <a:lnTo>
                          <a:pt x="336" y="26"/>
                        </a:lnTo>
                        <a:lnTo>
                          <a:pt x="330" y="26"/>
                        </a:lnTo>
                        <a:lnTo>
                          <a:pt x="324" y="26"/>
                        </a:lnTo>
                        <a:lnTo>
                          <a:pt x="319" y="28"/>
                        </a:lnTo>
                        <a:lnTo>
                          <a:pt x="312" y="32"/>
                        </a:lnTo>
                        <a:lnTo>
                          <a:pt x="308" y="36"/>
                        </a:lnTo>
                        <a:lnTo>
                          <a:pt x="300" y="41"/>
                        </a:lnTo>
                        <a:lnTo>
                          <a:pt x="296" y="49"/>
                        </a:lnTo>
                        <a:lnTo>
                          <a:pt x="292" y="57"/>
                        </a:lnTo>
                        <a:lnTo>
                          <a:pt x="292" y="65"/>
                        </a:lnTo>
                        <a:lnTo>
                          <a:pt x="288" y="72"/>
                        </a:lnTo>
                        <a:lnTo>
                          <a:pt x="288" y="81"/>
                        </a:lnTo>
                        <a:lnTo>
                          <a:pt x="284" y="86"/>
                        </a:lnTo>
                        <a:lnTo>
                          <a:pt x="276" y="90"/>
                        </a:lnTo>
                        <a:lnTo>
                          <a:pt x="268" y="94"/>
                        </a:lnTo>
                        <a:lnTo>
                          <a:pt x="260" y="94"/>
                        </a:lnTo>
                        <a:lnTo>
                          <a:pt x="254" y="92"/>
                        </a:lnTo>
                        <a:lnTo>
                          <a:pt x="249" y="90"/>
                        </a:lnTo>
                        <a:lnTo>
                          <a:pt x="238" y="88"/>
                        </a:lnTo>
                        <a:lnTo>
                          <a:pt x="234" y="84"/>
                        </a:lnTo>
                        <a:lnTo>
                          <a:pt x="230" y="77"/>
                        </a:lnTo>
                        <a:lnTo>
                          <a:pt x="223" y="73"/>
                        </a:lnTo>
                        <a:lnTo>
                          <a:pt x="218" y="65"/>
                        </a:lnTo>
                        <a:lnTo>
                          <a:pt x="214" y="60"/>
                        </a:lnTo>
                        <a:lnTo>
                          <a:pt x="208" y="53"/>
                        </a:lnTo>
                        <a:lnTo>
                          <a:pt x="204" y="48"/>
                        </a:lnTo>
                        <a:lnTo>
                          <a:pt x="200" y="41"/>
                        </a:lnTo>
                        <a:lnTo>
                          <a:pt x="196" y="33"/>
                        </a:lnTo>
                        <a:lnTo>
                          <a:pt x="192" y="28"/>
                        </a:lnTo>
                        <a:lnTo>
                          <a:pt x="186" y="24"/>
                        </a:lnTo>
                        <a:lnTo>
                          <a:pt x="180" y="22"/>
                        </a:lnTo>
                        <a:lnTo>
                          <a:pt x="172" y="22"/>
                        </a:lnTo>
                        <a:lnTo>
                          <a:pt x="167" y="24"/>
                        </a:lnTo>
                        <a:lnTo>
                          <a:pt x="160" y="26"/>
                        </a:lnTo>
                        <a:lnTo>
                          <a:pt x="156" y="32"/>
                        </a:lnTo>
                        <a:lnTo>
                          <a:pt x="156" y="37"/>
                        </a:lnTo>
                        <a:lnTo>
                          <a:pt x="153" y="45"/>
                        </a:lnTo>
                        <a:lnTo>
                          <a:pt x="152" y="52"/>
                        </a:lnTo>
                        <a:lnTo>
                          <a:pt x="152" y="57"/>
                        </a:lnTo>
                        <a:lnTo>
                          <a:pt x="152" y="64"/>
                        </a:lnTo>
                        <a:lnTo>
                          <a:pt x="152" y="69"/>
                        </a:lnTo>
                        <a:lnTo>
                          <a:pt x="149" y="76"/>
                        </a:lnTo>
                        <a:lnTo>
                          <a:pt x="148" y="81"/>
                        </a:lnTo>
                        <a:lnTo>
                          <a:pt x="140" y="85"/>
                        </a:lnTo>
                        <a:lnTo>
                          <a:pt x="132" y="86"/>
                        </a:lnTo>
                        <a:lnTo>
                          <a:pt x="126" y="86"/>
                        </a:lnTo>
                        <a:lnTo>
                          <a:pt x="120" y="88"/>
                        </a:lnTo>
                        <a:lnTo>
                          <a:pt x="112" y="88"/>
                        </a:lnTo>
                        <a:lnTo>
                          <a:pt x="106" y="86"/>
                        </a:lnTo>
                        <a:lnTo>
                          <a:pt x="101" y="85"/>
                        </a:lnTo>
                        <a:lnTo>
                          <a:pt x="90" y="81"/>
                        </a:lnTo>
                        <a:lnTo>
                          <a:pt x="85" y="77"/>
                        </a:lnTo>
                        <a:lnTo>
                          <a:pt x="78" y="73"/>
                        </a:lnTo>
                        <a:lnTo>
                          <a:pt x="74" y="69"/>
                        </a:lnTo>
                        <a:lnTo>
                          <a:pt x="66" y="64"/>
                        </a:lnTo>
                        <a:lnTo>
                          <a:pt x="64" y="56"/>
                        </a:lnTo>
                        <a:lnTo>
                          <a:pt x="58" y="49"/>
                        </a:lnTo>
                        <a:lnTo>
                          <a:pt x="52" y="45"/>
                        </a:lnTo>
                        <a:lnTo>
                          <a:pt x="46" y="40"/>
                        </a:lnTo>
                        <a:lnTo>
                          <a:pt x="39" y="36"/>
                        </a:lnTo>
                        <a:lnTo>
                          <a:pt x="32" y="33"/>
                        </a:lnTo>
                        <a:lnTo>
                          <a:pt x="27" y="32"/>
                        </a:lnTo>
                        <a:lnTo>
                          <a:pt x="20" y="28"/>
                        </a:lnTo>
                        <a:lnTo>
                          <a:pt x="19" y="22"/>
                        </a:lnTo>
                        <a:lnTo>
                          <a:pt x="16" y="16"/>
                        </a:lnTo>
                        <a:lnTo>
                          <a:pt x="15" y="10"/>
                        </a:lnTo>
                        <a:lnTo>
                          <a:pt x="16" y="4"/>
                        </a:lnTo>
                        <a:lnTo>
                          <a:pt x="23" y="2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2878920" y="4679640"/>
                <a:ext cx="400320" cy="245520"/>
                <a:chOff x="2878920" y="4679640"/>
                <a:chExt cx="400320" cy="2455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2930400" y="4683240"/>
                  <a:ext cx="345240" cy="207720"/>
                </a:xfrm>
                <a:custGeom>
                  <a:avLst/>
                  <a:gdLst/>
                  <a:ahLst/>
                  <a:rect l="l" t="t" r="r" b="b"/>
                  <a:pathLst>
                    <a:path w="762" h="483">
                      <a:moveTo>
                        <a:pt x="17" y="45"/>
                      </a:moveTo>
                      <a:lnTo>
                        <a:pt x="213" y="0"/>
                      </a:lnTo>
                      <a:lnTo>
                        <a:pt x="331" y="113"/>
                      </a:lnTo>
                      <a:lnTo>
                        <a:pt x="594" y="110"/>
                      </a:lnTo>
                      <a:lnTo>
                        <a:pt x="744" y="118"/>
                      </a:lnTo>
                      <a:lnTo>
                        <a:pt x="762" y="287"/>
                      </a:lnTo>
                      <a:lnTo>
                        <a:pt x="610" y="291"/>
                      </a:lnTo>
                      <a:lnTo>
                        <a:pt x="516" y="300"/>
                      </a:lnTo>
                      <a:lnTo>
                        <a:pt x="638" y="432"/>
                      </a:lnTo>
                      <a:lnTo>
                        <a:pt x="617" y="440"/>
                      </a:lnTo>
                      <a:lnTo>
                        <a:pt x="432" y="483"/>
                      </a:lnTo>
                      <a:lnTo>
                        <a:pt x="338" y="386"/>
                      </a:lnTo>
                      <a:lnTo>
                        <a:pt x="182" y="225"/>
                      </a:lnTo>
                      <a:lnTo>
                        <a:pt x="21" y="73"/>
                      </a:lnTo>
                      <a:lnTo>
                        <a:pt x="0" y="61"/>
                      </a:lnTo>
                      <a:lnTo>
                        <a:pt x="17" y="4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164400" y="4804920"/>
                  <a:ext cx="109800" cy="24120"/>
                </a:xfrm>
                <a:custGeom>
                  <a:avLst/>
                  <a:gdLst/>
                  <a:ahLst/>
                  <a:rect l="l" t="t" r="r" b="b"/>
                  <a:pathLst>
                    <a:path w="243" h="55">
                      <a:moveTo>
                        <a:pt x="243" y="7"/>
                      </a:moveTo>
                      <a:lnTo>
                        <a:pt x="208" y="52"/>
                      </a:lnTo>
                      <a:lnTo>
                        <a:pt x="37" y="55"/>
                      </a:lnTo>
                      <a:lnTo>
                        <a:pt x="0" y="16"/>
                      </a:lnTo>
                      <a:lnTo>
                        <a:pt x="243" y="0"/>
                      </a:lnTo>
                      <a:lnTo>
                        <a:pt x="243" y="7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26080" y="4702680"/>
                  <a:ext cx="294840" cy="217080"/>
                </a:xfrm>
                <a:custGeom>
                  <a:avLst/>
                  <a:gdLst/>
                  <a:ahLst/>
                  <a:rect l="l" t="t" r="r" b="b"/>
                  <a:pathLst>
                    <a:path w="650" h="503">
                      <a:moveTo>
                        <a:pt x="17" y="0"/>
                      </a:moveTo>
                      <a:lnTo>
                        <a:pt x="0" y="43"/>
                      </a:lnTo>
                      <a:lnTo>
                        <a:pt x="4" y="81"/>
                      </a:lnTo>
                      <a:lnTo>
                        <a:pt x="137" y="221"/>
                      </a:lnTo>
                      <a:lnTo>
                        <a:pt x="144" y="223"/>
                      </a:lnTo>
                      <a:lnTo>
                        <a:pt x="281" y="372"/>
                      </a:lnTo>
                      <a:lnTo>
                        <a:pt x="417" y="503"/>
                      </a:lnTo>
                      <a:lnTo>
                        <a:pt x="447" y="500"/>
                      </a:lnTo>
                      <a:lnTo>
                        <a:pt x="529" y="483"/>
                      </a:lnTo>
                      <a:lnTo>
                        <a:pt x="635" y="467"/>
                      </a:lnTo>
                      <a:lnTo>
                        <a:pt x="643" y="457"/>
                      </a:lnTo>
                      <a:lnTo>
                        <a:pt x="650" y="389"/>
                      </a:lnTo>
                      <a:lnTo>
                        <a:pt x="442" y="429"/>
                      </a:lnTo>
                      <a:lnTo>
                        <a:pt x="257" y="246"/>
                      </a:lnTo>
                      <a:lnTo>
                        <a:pt x="107" y="94"/>
                      </a:lnTo>
                      <a:lnTo>
                        <a:pt x="25" y="0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925000" y="4679640"/>
                  <a:ext cx="354240" cy="245520"/>
                  <a:chOff x="2925000" y="4679640"/>
                  <a:chExt cx="354240" cy="2455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2925000" y="4679640"/>
                    <a:ext cx="2998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663" h="570">
                        <a:moveTo>
                          <a:pt x="19" y="50"/>
                        </a:moveTo>
                        <a:lnTo>
                          <a:pt x="189" y="6"/>
                        </a:lnTo>
                        <a:lnTo>
                          <a:pt x="229" y="0"/>
                        </a:lnTo>
                        <a:lnTo>
                          <a:pt x="235" y="0"/>
                        </a:lnTo>
                        <a:lnTo>
                          <a:pt x="247" y="10"/>
                        </a:lnTo>
                        <a:lnTo>
                          <a:pt x="446" y="210"/>
                        </a:lnTo>
                        <a:lnTo>
                          <a:pt x="619" y="390"/>
                        </a:lnTo>
                        <a:lnTo>
                          <a:pt x="661" y="436"/>
                        </a:lnTo>
                        <a:lnTo>
                          <a:pt x="663" y="469"/>
                        </a:lnTo>
                        <a:lnTo>
                          <a:pt x="651" y="526"/>
                        </a:lnTo>
                        <a:lnTo>
                          <a:pt x="635" y="530"/>
                        </a:lnTo>
                        <a:lnTo>
                          <a:pt x="503" y="550"/>
                        </a:lnTo>
                        <a:lnTo>
                          <a:pt x="425" y="570"/>
                        </a:lnTo>
                        <a:lnTo>
                          <a:pt x="421" y="563"/>
                        </a:lnTo>
                        <a:lnTo>
                          <a:pt x="403" y="559"/>
                        </a:lnTo>
                        <a:lnTo>
                          <a:pt x="200" y="348"/>
                        </a:lnTo>
                        <a:lnTo>
                          <a:pt x="58" y="196"/>
                        </a:lnTo>
                        <a:lnTo>
                          <a:pt x="0" y="137"/>
                        </a:lnTo>
                        <a:lnTo>
                          <a:pt x="0" y="114"/>
                        </a:lnTo>
                        <a:lnTo>
                          <a:pt x="12" y="110"/>
                        </a:lnTo>
                        <a:lnTo>
                          <a:pt x="42" y="157"/>
                        </a:lnTo>
                        <a:lnTo>
                          <a:pt x="167" y="285"/>
                        </a:lnTo>
                        <a:lnTo>
                          <a:pt x="323" y="449"/>
                        </a:lnTo>
                        <a:lnTo>
                          <a:pt x="422" y="538"/>
                        </a:lnTo>
                        <a:lnTo>
                          <a:pt x="426" y="506"/>
                        </a:lnTo>
                        <a:lnTo>
                          <a:pt x="429" y="485"/>
                        </a:lnTo>
                        <a:lnTo>
                          <a:pt x="249" y="309"/>
                        </a:lnTo>
                        <a:lnTo>
                          <a:pt x="101" y="152"/>
                        </a:lnTo>
                        <a:lnTo>
                          <a:pt x="93" y="145"/>
                        </a:lnTo>
                        <a:lnTo>
                          <a:pt x="27" y="81"/>
                        </a:lnTo>
                        <a:lnTo>
                          <a:pt x="46" y="66"/>
                        </a:lnTo>
                        <a:lnTo>
                          <a:pt x="58" y="79"/>
                        </a:lnTo>
                        <a:lnTo>
                          <a:pt x="296" y="321"/>
                        </a:lnTo>
                        <a:lnTo>
                          <a:pt x="446" y="472"/>
                        </a:lnTo>
                        <a:lnTo>
                          <a:pt x="459" y="481"/>
                        </a:lnTo>
                        <a:lnTo>
                          <a:pt x="445" y="542"/>
                        </a:lnTo>
                        <a:lnTo>
                          <a:pt x="523" y="526"/>
                        </a:lnTo>
                        <a:lnTo>
                          <a:pt x="635" y="512"/>
                        </a:lnTo>
                        <a:lnTo>
                          <a:pt x="643" y="457"/>
                        </a:lnTo>
                        <a:lnTo>
                          <a:pt x="467" y="490"/>
                        </a:lnTo>
                        <a:lnTo>
                          <a:pt x="474" y="476"/>
                        </a:lnTo>
                        <a:lnTo>
                          <a:pt x="491" y="468"/>
                        </a:lnTo>
                        <a:lnTo>
                          <a:pt x="627" y="440"/>
                        </a:lnTo>
                        <a:lnTo>
                          <a:pt x="617" y="418"/>
                        </a:lnTo>
                        <a:lnTo>
                          <a:pt x="539" y="328"/>
                        </a:lnTo>
                        <a:lnTo>
                          <a:pt x="449" y="239"/>
                        </a:lnTo>
                        <a:lnTo>
                          <a:pt x="442" y="238"/>
                        </a:lnTo>
                        <a:lnTo>
                          <a:pt x="325" y="116"/>
                        </a:lnTo>
                        <a:lnTo>
                          <a:pt x="223" y="18"/>
                        </a:lnTo>
                        <a:lnTo>
                          <a:pt x="66" y="55"/>
                        </a:lnTo>
                        <a:lnTo>
                          <a:pt x="25" y="67"/>
                        </a:lnTo>
                        <a:lnTo>
                          <a:pt x="13" y="100"/>
                        </a:lnTo>
                        <a:lnTo>
                          <a:pt x="0" y="108"/>
                        </a:lnTo>
                        <a:lnTo>
                          <a:pt x="9" y="62"/>
                        </a:lnTo>
                        <a:lnTo>
                          <a:pt x="19" y="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078360" y="4726080"/>
                    <a:ext cx="2008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3" h="243">
                        <a:moveTo>
                          <a:pt x="0" y="1"/>
                        </a:moveTo>
                        <a:lnTo>
                          <a:pt x="291" y="0"/>
                        </a:lnTo>
                        <a:lnTo>
                          <a:pt x="423" y="9"/>
                        </a:lnTo>
                        <a:lnTo>
                          <a:pt x="431" y="93"/>
                        </a:lnTo>
                        <a:lnTo>
                          <a:pt x="443" y="171"/>
                        </a:lnTo>
                        <a:lnTo>
                          <a:pt x="443" y="193"/>
                        </a:lnTo>
                        <a:lnTo>
                          <a:pt x="407" y="243"/>
                        </a:lnTo>
                        <a:lnTo>
                          <a:pt x="229" y="243"/>
                        </a:lnTo>
                        <a:lnTo>
                          <a:pt x="216" y="228"/>
                        </a:lnTo>
                        <a:lnTo>
                          <a:pt x="393" y="224"/>
                        </a:lnTo>
                        <a:lnTo>
                          <a:pt x="423" y="193"/>
                        </a:lnTo>
                        <a:lnTo>
                          <a:pt x="197" y="203"/>
                        </a:lnTo>
                        <a:lnTo>
                          <a:pt x="183" y="193"/>
                        </a:lnTo>
                        <a:lnTo>
                          <a:pt x="419" y="175"/>
                        </a:lnTo>
                        <a:lnTo>
                          <a:pt x="423" y="158"/>
                        </a:lnTo>
                        <a:lnTo>
                          <a:pt x="406" y="25"/>
                        </a:lnTo>
                        <a:lnTo>
                          <a:pt x="298" y="21"/>
                        </a:lnTo>
                        <a:lnTo>
                          <a:pt x="158" y="17"/>
                        </a:lnTo>
                        <a:lnTo>
                          <a:pt x="150" y="19"/>
                        </a:lnTo>
                        <a:lnTo>
                          <a:pt x="11" y="17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2878920" y="4727160"/>
                  <a:ext cx="178920" cy="129240"/>
                  <a:chOff x="2878920" y="4727160"/>
                  <a:chExt cx="178920" cy="1292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2885400" y="4727160"/>
                    <a:ext cx="1724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9" h="299">
                        <a:moveTo>
                          <a:pt x="93" y="81"/>
                        </a:moveTo>
                        <a:lnTo>
                          <a:pt x="89" y="72"/>
                        </a:lnTo>
                        <a:lnTo>
                          <a:pt x="89" y="65"/>
                        </a:lnTo>
                        <a:lnTo>
                          <a:pt x="89" y="60"/>
                        </a:lnTo>
                        <a:lnTo>
                          <a:pt x="93" y="53"/>
                        </a:lnTo>
                        <a:lnTo>
                          <a:pt x="98" y="45"/>
                        </a:lnTo>
                        <a:lnTo>
                          <a:pt x="106" y="44"/>
                        </a:lnTo>
                        <a:lnTo>
                          <a:pt x="112" y="41"/>
                        </a:lnTo>
                        <a:lnTo>
                          <a:pt x="120" y="41"/>
                        </a:lnTo>
                        <a:lnTo>
                          <a:pt x="126" y="41"/>
                        </a:lnTo>
                        <a:lnTo>
                          <a:pt x="132" y="44"/>
                        </a:lnTo>
                        <a:lnTo>
                          <a:pt x="140" y="45"/>
                        </a:lnTo>
                        <a:lnTo>
                          <a:pt x="143" y="52"/>
                        </a:lnTo>
                        <a:lnTo>
                          <a:pt x="144" y="57"/>
                        </a:lnTo>
                        <a:lnTo>
                          <a:pt x="151" y="64"/>
                        </a:lnTo>
                        <a:lnTo>
                          <a:pt x="155" y="72"/>
                        </a:lnTo>
                        <a:lnTo>
                          <a:pt x="160" y="76"/>
                        </a:lnTo>
                        <a:lnTo>
                          <a:pt x="168" y="76"/>
                        </a:lnTo>
                        <a:lnTo>
                          <a:pt x="176" y="68"/>
                        </a:lnTo>
                        <a:lnTo>
                          <a:pt x="182" y="61"/>
                        </a:lnTo>
                        <a:lnTo>
                          <a:pt x="186" y="56"/>
                        </a:lnTo>
                        <a:lnTo>
                          <a:pt x="194" y="45"/>
                        </a:lnTo>
                        <a:lnTo>
                          <a:pt x="202" y="41"/>
                        </a:lnTo>
                        <a:lnTo>
                          <a:pt x="214" y="40"/>
                        </a:lnTo>
                        <a:lnTo>
                          <a:pt x="219" y="40"/>
                        </a:lnTo>
                        <a:lnTo>
                          <a:pt x="226" y="41"/>
                        </a:lnTo>
                        <a:lnTo>
                          <a:pt x="234" y="44"/>
                        </a:lnTo>
                        <a:lnTo>
                          <a:pt x="238" y="44"/>
                        </a:lnTo>
                        <a:lnTo>
                          <a:pt x="242" y="37"/>
                        </a:lnTo>
                        <a:lnTo>
                          <a:pt x="248" y="29"/>
                        </a:lnTo>
                        <a:lnTo>
                          <a:pt x="258" y="24"/>
                        </a:lnTo>
                        <a:lnTo>
                          <a:pt x="262" y="17"/>
                        </a:lnTo>
                        <a:lnTo>
                          <a:pt x="270" y="16"/>
                        </a:lnTo>
                        <a:lnTo>
                          <a:pt x="278" y="12"/>
                        </a:lnTo>
                        <a:lnTo>
                          <a:pt x="292" y="6"/>
                        </a:lnTo>
                        <a:lnTo>
                          <a:pt x="301" y="4"/>
                        </a:lnTo>
                        <a:lnTo>
                          <a:pt x="309" y="2"/>
                        </a:lnTo>
                        <a:lnTo>
                          <a:pt x="324" y="0"/>
                        </a:lnTo>
                        <a:lnTo>
                          <a:pt x="332" y="2"/>
                        </a:lnTo>
                        <a:lnTo>
                          <a:pt x="338" y="4"/>
                        </a:lnTo>
                        <a:lnTo>
                          <a:pt x="348" y="6"/>
                        </a:lnTo>
                        <a:lnTo>
                          <a:pt x="355" y="10"/>
                        </a:lnTo>
                        <a:lnTo>
                          <a:pt x="362" y="12"/>
                        </a:lnTo>
                        <a:lnTo>
                          <a:pt x="363" y="17"/>
                        </a:lnTo>
                        <a:lnTo>
                          <a:pt x="363" y="24"/>
                        </a:lnTo>
                        <a:lnTo>
                          <a:pt x="362" y="29"/>
                        </a:lnTo>
                        <a:lnTo>
                          <a:pt x="358" y="37"/>
                        </a:lnTo>
                        <a:lnTo>
                          <a:pt x="354" y="44"/>
                        </a:lnTo>
                        <a:lnTo>
                          <a:pt x="350" y="49"/>
                        </a:lnTo>
                        <a:lnTo>
                          <a:pt x="342" y="53"/>
                        </a:lnTo>
                        <a:lnTo>
                          <a:pt x="334" y="56"/>
                        </a:lnTo>
                        <a:lnTo>
                          <a:pt x="328" y="57"/>
                        </a:lnTo>
                        <a:lnTo>
                          <a:pt x="320" y="61"/>
                        </a:lnTo>
                        <a:lnTo>
                          <a:pt x="313" y="68"/>
                        </a:lnTo>
                        <a:lnTo>
                          <a:pt x="312" y="73"/>
                        </a:lnTo>
                        <a:lnTo>
                          <a:pt x="313" y="80"/>
                        </a:lnTo>
                        <a:lnTo>
                          <a:pt x="320" y="85"/>
                        </a:lnTo>
                        <a:lnTo>
                          <a:pt x="328" y="89"/>
                        </a:lnTo>
                        <a:lnTo>
                          <a:pt x="332" y="95"/>
                        </a:lnTo>
                        <a:lnTo>
                          <a:pt x="338" y="97"/>
                        </a:lnTo>
                        <a:lnTo>
                          <a:pt x="346" y="99"/>
                        </a:lnTo>
                        <a:lnTo>
                          <a:pt x="354" y="106"/>
                        </a:lnTo>
                        <a:lnTo>
                          <a:pt x="362" y="111"/>
                        </a:lnTo>
                        <a:lnTo>
                          <a:pt x="367" y="118"/>
                        </a:lnTo>
                        <a:lnTo>
                          <a:pt x="374" y="127"/>
                        </a:lnTo>
                        <a:lnTo>
                          <a:pt x="378" y="134"/>
                        </a:lnTo>
                        <a:lnTo>
                          <a:pt x="379" y="146"/>
                        </a:lnTo>
                        <a:lnTo>
                          <a:pt x="379" y="154"/>
                        </a:lnTo>
                        <a:lnTo>
                          <a:pt x="379" y="163"/>
                        </a:lnTo>
                        <a:lnTo>
                          <a:pt x="375" y="175"/>
                        </a:lnTo>
                        <a:lnTo>
                          <a:pt x="370" y="179"/>
                        </a:lnTo>
                        <a:lnTo>
                          <a:pt x="359" y="183"/>
                        </a:lnTo>
                        <a:lnTo>
                          <a:pt x="350" y="181"/>
                        </a:lnTo>
                        <a:lnTo>
                          <a:pt x="342" y="181"/>
                        </a:lnTo>
                        <a:lnTo>
                          <a:pt x="334" y="175"/>
                        </a:lnTo>
                        <a:lnTo>
                          <a:pt x="321" y="173"/>
                        </a:lnTo>
                        <a:lnTo>
                          <a:pt x="312" y="171"/>
                        </a:lnTo>
                        <a:lnTo>
                          <a:pt x="305" y="169"/>
                        </a:lnTo>
                        <a:lnTo>
                          <a:pt x="300" y="169"/>
                        </a:lnTo>
                        <a:lnTo>
                          <a:pt x="288" y="171"/>
                        </a:lnTo>
                        <a:lnTo>
                          <a:pt x="280" y="177"/>
                        </a:lnTo>
                        <a:lnTo>
                          <a:pt x="276" y="183"/>
                        </a:lnTo>
                        <a:lnTo>
                          <a:pt x="272" y="191"/>
                        </a:lnTo>
                        <a:lnTo>
                          <a:pt x="274" y="199"/>
                        </a:lnTo>
                        <a:lnTo>
                          <a:pt x="274" y="204"/>
                        </a:lnTo>
                        <a:lnTo>
                          <a:pt x="278" y="209"/>
                        </a:lnTo>
                        <a:lnTo>
                          <a:pt x="280" y="216"/>
                        </a:lnTo>
                        <a:lnTo>
                          <a:pt x="284" y="224"/>
                        </a:lnTo>
                        <a:lnTo>
                          <a:pt x="284" y="233"/>
                        </a:lnTo>
                        <a:lnTo>
                          <a:pt x="276" y="244"/>
                        </a:lnTo>
                        <a:lnTo>
                          <a:pt x="266" y="247"/>
                        </a:lnTo>
                        <a:lnTo>
                          <a:pt x="256" y="247"/>
                        </a:lnTo>
                        <a:lnTo>
                          <a:pt x="242" y="249"/>
                        </a:lnTo>
                        <a:lnTo>
                          <a:pt x="237" y="251"/>
                        </a:lnTo>
                        <a:lnTo>
                          <a:pt x="230" y="253"/>
                        </a:lnTo>
                        <a:lnTo>
                          <a:pt x="219" y="255"/>
                        </a:lnTo>
                        <a:lnTo>
                          <a:pt x="214" y="255"/>
                        </a:lnTo>
                        <a:lnTo>
                          <a:pt x="214" y="261"/>
                        </a:lnTo>
                        <a:lnTo>
                          <a:pt x="211" y="267"/>
                        </a:lnTo>
                        <a:lnTo>
                          <a:pt x="206" y="277"/>
                        </a:lnTo>
                        <a:lnTo>
                          <a:pt x="206" y="284"/>
                        </a:lnTo>
                        <a:lnTo>
                          <a:pt x="206" y="295"/>
                        </a:lnTo>
                        <a:lnTo>
                          <a:pt x="198" y="299"/>
                        </a:lnTo>
                        <a:lnTo>
                          <a:pt x="192" y="299"/>
                        </a:lnTo>
                        <a:lnTo>
                          <a:pt x="184" y="299"/>
                        </a:lnTo>
                        <a:lnTo>
                          <a:pt x="174" y="299"/>
                        </a:lnTo>
                        <a:lnTo>
                          <a:pt x="163" y="295"/>
                        </a:lnTo>
                        <a:lnTo>
                          <a:pt x="155" y="291"/>
                        </a:lnTo>
                        <a:lnTo>
                          <a:pt x="143" y="281"/>
                        </a:lnTo>
                        <a:lnTo>
                          <a:pt x="141" y="275"/>
                        </a:lnTo>
                        <a:lnTo>
                          <a:pt x="141" y="269"/>
                        </a:lnTo>
                        <a:lnTo>
                          <a:pt x="141" y="263"/>
                        </a:lnTo>
                        <a:lnTo>
                          <a:pt x="140" y="257"/>
                        </a:lnTo>
                        <a:lnTo>
                          <a:pt x="140" y="251"/>
                        </a:lnTo>
                        <a:lnTo>
                          <a:pt x="137" y="245"/>
                        </a:lnTo>
                        <a:lnTo>
                          <a:pt x="137" y="237"/>
                        </a:lnTo>
                        <a:lnTo>
                          <a:pt x="137" y="229"/>
                        </a:lnTo>
                        <a:lnTo>
                          <a:pt x="137" y="224"/>
                        </a:lnTo>
                        <a:lnTo>
                          <a:pt x="136" y="217"/>
                        </a:lnTo>
                        <a:lnTo>
                          <a:pt x="134" y="209"/>
                        </a:lnTo>
                        <a:lnTo>
                          <a:pt x="124" y="205"/>
                        </a:lnTo>
                        <a:lnTo>
                          <a:pt x="118" y="205"/>
                        </a:lnTo>
                        <a:lnTo>
                          <a:pt x="106" y="205"/>
                        </a:lnTo>
                        <a:lnTo>
                          <a:pt x="100" y="209"/>
                        </a:lnTo>
                        <a:lnTo>
                          <a:pt x="90" y="212"/>
                        </a:lnTo>
                        <a:lnTo>
                          <a:pt x="82" y="213"/>
                        </a:lnTo>
                        <a:lnTo>
                          <a:pt x="73" y="217"/>
                        </a:lnTo>
                        <a:lnTo>
                          <a:pt x="66" y="217"/>
                        </a:lnTo>
                        <a:lnTo>
                          <a:pt x="57" y="217"/>
                        </a:lnTo>
                        <a:lnTo>
                          <a:pt x="44" y="217"/>
                        </a:lnTo>
                        <a:lnTo>
                          <a:pt x="38" y="217"/>
                        </a:lnTo>
                        <a:lnTo>
                          <a:pt x="30" y="217"/>
                        </a:lnTo>
                        <a:lnTo>
                          <a:pt x="20" y="212"/>
                        </a:lnTo>
                        <a:lnTo>
                          <a:pt x="15" y="209"/>
                        </a:lnTo>
                        <a:lnTo>
                          <a:pt x="11" y="204"/>
                        </a:lnTo>
                        <a:lnTo>
                          <a:pt x="7" y="197"/>
                        </a:lnTo>
                        <a:lnTo>
                          <a:pt x="4" y="185"/>
                        </a:lnTo>
                        <a:lnTo>
                          <a:pt x="8" y="177"/>
                        </a:lnTo>
                        <a:lnTo>
                          <a:pt x="15" y="173"/>
                        </a:lnTo>
                        <a:lnTo>
                          <a:pt x="23" y="167"/>
                        </a:lnTo>
                        <a:lnTo>
                          <a:pt x="32" y="163"/>
                        </a:lnTo>
                        <a:lnTo>
                          <a:pt x="38" y="162"/>
                        </a:lnTo>
                        <a:lnTo>
                          <a:pt x="42" y="155"/>
                        </a:lnTo>
                        <a:lnTo>
                          <a:pt x="36" y="150"/>
                        </a:lnTo>
                        <a:lnTo>
                          <a:pt x="28" y="147"/>
                        </a:lnTo>
                        <a:lnTo>
                          <a:pt x="23" y="143"/>
                        </a:lnTo>
                        <a:lnTo>
                          <a:pt x="15" y="139"/>
                        </a:lnTo>
                        <a:lnTo>
                          <a:pt x="7" y="134"/>
                        </a:lnTo>
                        <a:lnTo>
                          <a:pt x="0" y="122"/>
                        </a:lnTo>
                        <a:lnTo>
                          <a:pt x="0" y="107"/>
                        </a:lnTo>
                        <a:lnTo>
                          <a:pt x="0" y="99"/>
                        </a:lnTo>
                        <a:lnTo>
                          <a:pt x="3" y="89"/>
                        </a:lnTo>
                        <a:lnTo>
                          <a:pt x="4" y="84"/>
                        </a:lnTo>
                        <a:lnTo>
                          <a:pt x="12" y="77"/>
                        </a:lnTo>
                        <a:lnTo>
                          <a:pt x="19" y="76"/>
                        </a:lnTo>
                        <a:lnTo>
                          <a:pt x="26" y="73"/>
                        </a:lnTo>
                        <a:lnTo>
                          <a:pt x="34" y="73"/>
                        </a:lnTo>
                        <a:lnTo>
                          <a:pt x="44" y="76"/>
                        </a:lnTo>
                        <a:lnTo>
                          <a:pt x="49" y="80"/>
                        </a:lnTo>
                        <a:lnTo>
                          <a:pt x="54" y="81"/>
                        </a:lnTo>
                        <a:lnTo>
                          <a:pt x="61" y="85"/>
                        </a:lnTo>
                        <a:lnTo>
                          <a:pt x="65" y="91"/>
                        </a:lnTo>
                        <a:lnTo>
                          <a:pt x="73" y="99"/>
                        </a:lnTo>
                        <a:lnTo>
                          <a:pt x="77" y="106"/>
                        </a:lnTo>
                        <a:lnTo>
                          <a:pt x="85" y="114"/>
                        </a:lnTo>
                        <a:lnTo>
                          <a:pt x="90" y="119"/>
                        </a:lnTo>
                        <a:lnTo>
                          <a:pt x="97" y="119"/>
                        </a:lnTo>
                        <a:lnTo>
                          <a:pt x="98" y="114"/>
                        </a:lnTo>
                        <a:lnTo>
                          <a:pt x="102" y="106"/>
                        </a:lnTo>
                        <a:lnTo>
                          <a:pt x="104" y="99"/>
                        </a:lnTo>
                        <a:lnTo>
                          <a:pt x="104" y="93"/>
                        </a:lnTo>
                        <a:lnTo>
                          <a:pt x="100" y="88"/>
                        </a:lnTo>
                        <a:lnTo>
                          <a:pt x="93" y="81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2878920" y="4734720"/>
                    <a:ext cx="17640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280">
                        <a:moveTo>
                          <a:pt x="134" y="86"/>
                        </a:moveTo>
                        <a:lnTo>
                          <a:pt x="128" y="78"/>
                        </a:lnTo>
                        <a:lnTo>
                          <a:pt x="124" y="70"/>
                        </a:lnTo>
                        <a:lnTo>
                          <a:pt x="124" y="62"/>
                        </a:lnTo>
                        <a:lnTo>
                          <a:pt x="124" y="57"/>
                        </a:lnTo>
                        <a:lnTo>
                          <a:pt x="124" y="49"/>
                        </a:lnTo>
                        <a:lnTo>
                          <a:pt x="124" y="42"/>
                        </a:lnTo>
                        <a:lnTo>
                          <a:pt x="130" y="35"/>
                        </a:lnTo>
                        <a:lnTo>
                          <a:pt x="136" y="34"/>
                        </a:lnTo>
                        <a:lnTo>
                          <a:pt x="142" y="34"/>
                        </a:lnTo>
                        <a:lnTo>
                          <a:pt x="148" y="35"/>
                        </a:lnTo>
                        <a:lnTo>
                          <a:pt x="153" y="41"/>
                        </a:lnTo>
                        <a:lnTo>
                          <a:pt x="156" y="46"/>
                        </a:lnTo>
                        <a:lnTo>
                          <a:pt x="159" y="53"/>
                        </a:lnTo>
                        <a:lnTo>
                          <a:pt x="159" y="58"/>
                        </a:lnTo>
                        <a:lnTo>
                          <a:pt x="160" y="66"/>
                        </a:lnTo>
                        <a:lnTo>
                          <a:pt x="167" y="72"/>
                        </a:lnTo>
                        <a:lnTo>
                          <a:pt x="171" y="78"/>
                        </a:lnTo>
                        <a:lnTo>
                          <a:pt x="176" y="82"/>
                        </a:lnTo>
                        <a:lnTo>
                          <a:pt x="183" y="82"/>
                        </a:lnTo>
                        <a:lnTo>
                          <a:pt x="186" y="76"/>
                        </a:lnTo>
                        <a:lnTo>
                          <a:pt x="192" y="72"/>
                        </a:lnTo>
                        <a:lnTo>
                          <a:pt x="198" y="69"/>
                        </a:lnTo>
                        <a:lnTo>
                          <a:pt x="202" y="62"/>
                        </a:lnTo>
                        <a:lnTo>
                          <a:pt x="206" y="53"/>
                        </a:lnTo>
                        <a:lnTo>
                          <a:pt x="208" y="46"/>
                        </a:lnTo>
                        <a:lnTo>
                          <a:pt x="212" y="38"/>
                        </a:lnTo>
                        <a:lnTo>
                          <a:pt x="216" y="31"/>
                        </a:lnTo>
                        <a:lnTo>
                          <a:pt x="220" y="26"/>
                        </a:lnTo>
                        <a:lnTo>
                          <a:pt x="227" y="22"/>
                        </a:lnTo>
                        <a:lnTo>
                          <a:pt x="237" y="22"/>
                        </a:lnTo>
                        <a:lnTo>
                          <a:pt x="249" y="22"/>
                        </a:lnTo>
                        <a:lnTo>
                          <a:pt x="258" y="24"/>
                        </a:lnTo>
                        <a:lnTo>
                          <a:pt x="264" y="26"/>
                        </a:lnTo>
                        <a:lnTo>
                          <a:pt x="268" y="31"/>
                        </a:lnTo>
                        <a:lnTo>
                          <a:pt x="270" y="38"/>
                        </a:lnTo>
                        <a:lnTo>
                          <a:pt x="272" y="45"/>
                        </a:lnTo>
                        <a:lnTo>
                          <a:pt x="276" y="50"/>
                        </a:lnTo>
                        <a:lnTo>
                          <a:pt x="282" y="49"/>
                        </a:lnTo>
                        <a:lnTo>
                          <a:pt x="288" y="42"/>
                        </a:lnTo>
                        <a:lnTo>
                          <a:pt x="292" y="37"/>
                        </a:lnTo>
                        <a:lnTo>
                          <a:pt x="296" y="31"/>
                        </a:lnTo>
                        <a:lnTo>
                          <a:pt x="301" y="26"/>
                        </a:lnTo>
                        <a:lnTo>
                          <a:pt x="312" y="20"/>
                        </a:lnTo>
                        <a:lnTo>
                          <a:pt x="319" y="12"/>
                        </a:lnTo>
                        <a:lnTo>
                          <a:pt x="327" y="6"/>
                        </a:lnTo>
                        <a:lnTo>
                          <a:pt x="334" y="2"/>
                        </a:lnTo>
                        <a:lnTo>
                          <a:pt x="340" y="0"/>
                        </a:lnTo>
                        <a:lnTo>
                          <a:pt x="346" y="0"/>
                        </a:lnTo>
                        <a:lnTo>
                          <a:pt x="354" y="0"/>
                        </a:lnTo>
                        <a:lnTo>
                          <a:pt x="364" y="2"/>
                        </a:lnTo>
                        <a:lnTo>
                          <a:pt x="370" y="4"/>
                        </a:lnTo>
                        <a:lnTo>
                          <a:pt x="379" y="8"/>
                        </a:lnTo>
                        <a:lnTo>
                          <a:pt x="386" y="14"/>
                        </a:lnTo>
                        <a:lnTo>
                          <a:pt x="390" y="20"/>
                        </a:lnTo>
                        <a:lnTo>
                          <a:pt x="390" y="26"/>
                        </a:lnTo>
                        <a:lnTo>
                          <a:pt x="390" y="31"/>
                        </a:lnTo>
                        <a:lnTo>
                          <a:pt x="386" y="38"/>
                        </a:lnTo>
                        <a:lnTo>
                          <a:pt x="379" y="45"/>
                        </a:lnTo>
                        <a:lnTo>
                          <a:pt x="374" y="49"/>
                        </a:lnTo>
                        <a:lnTo>
                          <a:pt x="367" y="54"/>
                        </a:lnTo>
                        <a:lnTo>
                          <a:pt x="362" y="58"/>
                        </a:lnTo>
                        <a:lnTo>
                          <a:pt x="354" y="61"/>
                        </a:lnTo>
                        <a:lnTo>
                          <a:pt x="346" y="62"/>
                        </a:lnTo>
                        <a:lnTo>
                          <a:pt x="340" y="62"/>
                        </a:lnTo>
                        <a:lnTo>
                          <a:pt x="334" y="66"/>
                        </a:lnTo>
                        <a:lnTo>
                          <a:pt x="327" y="70"/>
                        </a:lnTo>
                        <a:lnTo>
                          <a:pt x="319" y="72"/>
                        </a:lnTo>
                        <a:lnTo>
                          <a:pt x="312" y="76"/>
                        </a:lnTo>
                        <a:lnTo>
                          <a:pt x="308" y="80"/>
                        </a:lnTo>
                        <a:lnTo>
                          <a:pt x="308" y="86"/>
                        </a:lnTo>
                        <a:lnTo>
                          <a:pt x="312" y="90"/>
                        </a:lnTo>
                        <a:lnTo>
                          <a:pt x="320" y="92"/>
                        </a:lnTo>
                        <a:lnTo>
                          <a:pt x="328" y="94"/>
                        </a:lnTo>
                        <a:lnTo>
                          <a:pt x="336" y="96"/>
                        </a:lnTo>
                        <a:lnTo>
                          <a:pt x="346" y="96"/>
                        </a:lnTo>
                        <a:lnTo>
                          <a:pt x="358" y="96"/>
                        </a:lnTo>
                        <a:lnTo>
                          <a:pt x="364" y="98"/>
                        </a:lnTo>
                        <a:lnTo>
                          <a:pt x="370" y="102"/>
                        </a:lnTo>
                        <a:lnTo>
                          <a:pt x="379" y="106"/>
                        </a:lnTo>
                        <a:lnTo>
                          <a:pt x="387" y="111"/>
                        </a:lnTo>
                        <a:lnTo>
                          <a:pt x="390" y="119"/>
                        </a:lnTo>
                        <a:lnTo>
                          <a:pt x="387" y="131"/>
                        </a:lnTo>
                        <a:lnTo>
                          <a:pt x="382" y="135"/>
                        </a:lnTo>
                        <a:lnTo>
                          <a:pt x="374" y="140"/>
                        </a:lnTo>
                        <a:lnTo>
                          <a:pt x="366" y="143"/>
                        </a:lnTo>
                        <a:lnTo>
                          <a:pt x="358" y="143"/>
                        </a:lnTo>
                        <a:lnTo>
                          <a:pt x="352" y="143"/>
                        </a:lnTo>
                        <a:lnTo>
                          <a:pt x="346" y="140"/>
                        </a:lnTo>
                        <a:lnTo>
                          <a:pt x="334" y="139"/>
                        </a:lnTo>
                        <a:lnTo>
                          <a:pt x="328" y="136"/>
                        </a:lnTo>
                        <a:lnTo>
                          <a:pt x="320" y="132"/>
                        </a:lnTo>
                        <a:lnTo>
                          <a:pt x="309" y="128"/>
                        </a:lnTo>
                        <a:lnTo>
                          <a:pt x="300" y="124"/>
                        </a:lnTo>
                        <a:lnTo>
                          <a:pt x="288" y="123"/>
                        </a:lnTo>
                        <a:lnTo>
                          <a:pt x="282" y="123"/>
                        </a:lnTo>
                        <a:lnTo>
                          <a:pt x="274" y="120"/>
                        </a:lnTo>
                        <a:lnTo>
                          <a:pt x="268" y="120"/>
                        </a:lnTo>
                        <a:lnTo>
                          <a:pt x="260" y="123"/>
                        </a:lnTo>
                        <a:lnTo>
                          <a:pt x="258" y="128"/>
                        </a:lnTo>
                        <a:lnTo>
                          <a:pt x="258" y="136"/>
                        </a:lnTo>
                        <a:lnTo>
                          <a:pt x="264" y="140"/>
                        </a:lnTo>
                        <a:lnTo>
                          <a:pt x="272" y="147"/>
                        </a:lnTo>
                        <a:lnTo>
                          <a:pt x="280" y="154"/>
                        </a:lnTo>
                        <a:lnTo>
                          <a:pt x="282" y="160"/>
                        </a:lnTo>
                        <a:lnTo>
                          <a:pt x="288" y="168"/>
                        </a:lnTo>
                        <a:lnTo>
                          <a:pt x="290" y="174"/>
                        </a:lnTo>
                        <a:lnTo>
                          <a:pt x="292" y="178"/>
                        </a:lnTo>
                        <a:lnTo>
                          <a:pt x="294" y="190"/>
                        </a:lnTo>
                        <a:lnTo>
                          <a:pt x="292" y="198"/>
                        </a:lnTo>
                        <a:lnTo>
                          <a:pt x="288" y="209"/>
                        </a:lnTo>
                        <a:lnTo>
                          <a:pt x="284" y="214"/>
                        </a:lnTo>
                        <a:lnTo>
                          <a:pt x="276" y="221"/>
                        </a:lnTo>
                        <a:lnTo>
                          <a:pt x="268" y="225"/>
                        </a:lnTo>
                        <a:lnTo>
                          <a:pt x="258" y="226"/>
                        </a:lnTo>
                        <a:lnTo>
                          <a:pt x="253" y="226"/>
                        </a:lnTo>
                        <a:lnTo>
                          <a:pt x="245" y="222"/>
                        </a:lnTo>
                        <a:lnTo>
                          <a:pt x="238" y="217"/>
                        </a:lnTo>
                        <a:lnTo>
                          <a:pt x="234" y="213"/>
                        </a:lnTo>
                        <a:lnTo>
                          <a:pt x="226" y="213"/>
                        </a:lnTo>
                        <a:lnTo>
                          <a:pt x="218" y="218"/>
                        </a:lnTo>
                        <a:lnTo>
                          <a:pt x="212" y="226"/>
                        </a:lnTo>
                        <a:lnTo>
                          <a:pt x="206" y="234"/>
                        </a:lnTo>
                        <a:lnTo>
                          <a:pt x="206" y="240"/>
                        </a:lnTo>
                        <a:lnTo>
                          <a:pt x="206" y="247"/>
                        </a:lnTo>
                        <a:lnTo>
                          <a:pt x="208" y="256"/>
                        </a:lnTo>
                        <a:lnTo>
                          <a:pt x="208" y="263"/>
                        </a:lnTo>
                        <a:lnTo>
                          <a:pt x="208" y="268"/>
                        </a:lnTo>
                        <a:lnTo>
                          <a:pt x="206" y="275"/>
                        </a:lnTo>
                        <a:lnTo>
                          <a:pt x="196" y="279"/>
                        </a:lnTo>
                        <a:lnTo>
                          <a:pt x="186" y="280"/>
                        </a:lnTo>
                        <a:lnTo>
                          <a:pt x="179" y="279"/>
                        </a:lnTo>
                        <a:lnTo>
                          <a:pt x="171" y="276"/>
                        </a:lnTo>
                        <a:lnTo>
                          <a:pt x="163" y="268"/>
                        </a:lnTo>
                        <a:lnTo>
                          <a:pt x="159" y="260"/>
                        </a:lnTo>
                        <a:lnTo>
                          <a:pt x="159" y="251"/>
                        </a:lnTo>
                        <a:lnTo>
                          <a:pt x="159" y="244"/>
                        </a:lnTo>
                        <a:lnTo>
                          <a:pt x="159" y="236"/>
                        </a:lnTo>
                        <a:lnTo>
                          <a:pt x="159" y="228"/>
                        </a:lnTo>
                        <a:lnTo>
                          <a:pt x="159" y="221"/>
                        </a:lnTo>
                        <a:lnTo>
                          <a:pt x="159" y="214"/>
                        </a:lnTo>
                        <a:lnTo>
                          <a:pt x="156" y="205"/>
                        </a:lnTo>
                        <a:lnTo>
                          <a:pt x="156" y="197"/>
                        </a:lnTo>
                        <a:lnTo>
                          <a:pt x="153" y="190"/>
                        </a:lnTo>
                        <a:lnTo>
                          <a:pt x="148" y="182"/>
                        </a:lnTo>
                        <a:lnTo>
                          <a:pt x="140" y="178"/>
                        </a:lnTo>
                        <a:lnTo>
                          <a:pt x="132" y="178"/>
                        </a:lnTo>
                        <a:lnTo>
                          <a:pt x="126" y="178"/>
                        </a:lnTo>
                        <a:lnTo>
                          <a:pt x="120" y="181"/>
                        </a:lnTo>
                        <a:lnTo>
                          <a:pt x="114" y="182"/>
                        </a:lnTo>
                        <a:lnTo>
                          <a:pt x="105" y="185"/>
                        </a:lnTo>
                        <a:lnTo>
                          <a:pt x="97" y="186"/>
                        </a:lnTo>
                        <a:lnTo>
                          <a:pt x="89" y="189"/>
                        </a:lnTo>
                        <a:lnTo>
                          <a:pt x="81" y="190"/>
                        </a:lnTo>
                        <a:lnTo>
                          <a:pt x="70" y="193"/>
                        </a:lnTo>
                        <a:lnTo>
                          <a:pt x="64" y="193"/>
                        </a:lnTo>
                        <a:lnTo>
                          <a:pt x="54" y="193"/>
                        </a:lnTo>
                        <a:lnTo>
                          <a:pt x="46" y="193"/>
                        </a:lnTo>
                        <a:lnTo>
                          <a:pt x="39" y="190"/>
                        </a:lnTo>
                        <a:lnTo>
                          <a:pt x="31" y="186"/>
                        </a:lnTo>
                        <a:lnTo>
                          <a:pt x="24" y="185"/>
                        </a:lnTo>
                        <a:lnTo>
                          <a:pt x="19" y="182"/>
                        </a:lnTo>
                        <a:lnTo>
                          <a:pt x="19" y="176"/>
                        </a:lnTo>
                        <a:lnTo>
                          <a:pt x="15" y="170"/>
                        </a:lnTo>
                        <a:lnTo>
                          <a:pt x="15" y="162"/>
                        </a:lnTo>
                        <a:lnTo>
                          <a:pt x="19" y="156"/>
                        </a:lnTo>
                        <a:lnTo>
                          <a:pt x="23" y="150"/>
                        </a:lnTo>
                        <a:lnTo>
                          <a:pt x="31" y="147"/>
                        </a:lnTo>
                        <a:lnTo>
                          <a:pt x="36" y="144"/>
                        </a:lnTo>
                        <a:lnTo>
                          <a:pt x="44" y="140"/>
                        </a:lnTo>
                        <a:lnTo>
                          <a:pt x="52" y="139"/>
                        </a:lnTo>
                        <a:lnTo>
                          <a:pt x="60" y="139"/>
                        </a:lnTo>
                        <a:lnTo>
                          <a:pt x="66" y="139"/>
                        </a:lnTo>
                        <a:lnTo>
                          <a:pt x="72" y="139"/>
                        </a:lnTo>
                        <a:lnTo>
                          <a:pt x="76" y="132"/>
                        </a:lnTo>
                        <a:lnTo>
                          <a:pt x="74" y="127"/>
                        </a:lnTo>
                        <a:lnTo>
                          <a:pt x="66" y="123"/>
                        </a:lnTo>
                        <a:lnTo>
                          <a:pt x="60" y="120"/>
                        </a:lnTo>
                        <a:lnTo>
                          <a:pt x="54" y="119"/>
                        </a:lnTo>
                        <a:lnTo>
                          <a:pt x="44" y="115"/>
                        </a:lnTo>
                        <a:lnTo>
                          <a:pt x="39" y="108"/>
                        </a:lnTo>
                        <a:lnTo>
                          <a:pt x="31" y="107"/>
                        </a:lnTo>
                        <a:lnTo>
                          <a:pt x="19" y="102"/>
                        </a:lnTo>
                        <a:lnTo>
                          <a:pt x="12" y="96"/>
                        </a:lnTo>
                        <a:lnTo>
                          <a:pt x="7" y="94"/>
                        </a:lnTo>
                        <a:lnTo>
                          <a:pt x="0" y="86"/>
                        </a:lnTo>
                        <a:lnTo>
                          <a:pt x="0" y="78"/>
                        </a:lnTo>
                        <a:lnTo>
                          <a:pt x="0" y="72"/>
                        </a:lnTo>
                        <a:lnTo>
                          <a:pt x="0" y="66"/>
                        </a:lnTo>
                        <a:lnTo>
                          <a:pt x="3" y="58"/>
                        </a:lnTo>
                        <a:lnTo>
                          <a:pt x="8" y="53"/>
                        </a:lnTo>
                        <a:lnTo>
                          <a:pt x="15" y="49"/>
                        </a:lnTo>
                        <a:lnTo>
                          <a:pt x="27" y="42"/>
                        </a:lnTo>
                        <a:lnTo>
                          <a:pt x="32" y="38"/>
                        </a:lnTo>
                        <a:lnTo>
                          <a:pt x="42" y="35"/>
                        </a:lnTo>
                        <a:lnTo>
                          <a:pt x="50" y="35"/>
                        </a:lnTo>
                        <a:lnTo>
                          <a:pt x="62" y="35"/>
                        </a:lnTo>
                        <a:lnTo>
                          <a:pt x="70" y="37"/>
                        </a:lnTo>
                        <a:lnTo>
                          <a:pt x="78" y="41"/>
                        </a:lnTo>
                        <a:lnTo>
                          <a:pt x="82" y="42"/>
                        </a:lnTo>
                        <a:lnTo>
                          <a:pt x="90" y="50"/>
                        </a:lnTo>
                        <a:lnTo>
                          <a:pt x="97" y="58"/>
                        </a:lnTo>
                        <a:lnTo>
                          <a:pt x="98" y="65"/>
                        </a:lnTo>
                        <a:lnTo>
                          <a:pt x="101" y="70"/>
                        </a:lnTo>
                        <a:lnTo>
                          <a:pt x="105" y="76"/>
                        </a:lnTo>
                        <a:lnTo>
                          <a:pt x="109" y="86"/>
                        </a:lnTo>
                        <a:lnTo>
                          <a:pt x="113" y="94"/>
                        </a:lnTo>
                        <a:lnTo>
                          <a:pt x="120" y="98"/>
                        </a:lnTo>
                        <a:lnTo>
                          <a:pt x="126" y="100"/>
                        </a:lnTo>
                        <a:lnTo>
                          <a:pt x="132" y="106"/>
                        </a:lnTo>
                        <a:lnTo>
                          <a:pt x="134" y="111"/>
                        </a:lnTo>
                        <a:lnTo>
                          <a:pt x="128" y="115"/>
                        </a:lnTo>
                        <a:lnTo>
                          <a:pt x="122" y="116"/>
                        </a:lnTo>
                        <a:lnTo>
                          <a:pt x="116" y="116"/>
                        </a:lnTo>
                        <a:lnTo>
                          <a:pt x="110" y="111"/>
                        </a:lnTo>
                        <a:lnTo>
                          <a:pt x="105" y="106"/>
                        </a:lnTo>
                        <a:lnTo>
                          <a:pt x="98" y="102"/>
                        </a:lnTo>
                        <a:lnTo>
                          <a:pt x="94" y="96"/>
                        </a:lnTo>
                        <a:lnTo>
                          <a:pt x="89" y="90"/>
                        </a:lnTo>
                        <a:lnTo>
                          <a:pt x="89" y="84"/>
                        </a:lnTo>
                        <a:lnTo>
                          <a:pt x="89" y="78"/>
                        </a:lnTo>
                        <a:lnTo>
                          <a:pt x="85" y="70"/>
                        </a:lnTo>
                        <a:lnTo>
                          <a:pt x="78" y="65"/>
                        </a:lnTo>
                        <a:lnTo>
                          <a:pt x="78" y="58"/>
                        </a:lnTo>
                        <a:lnTo>
                          <a:pt x="70" y="53"/>
                        </a:lnTo>
                        <a:lnTo>
                          <a:pt x="64" y="49"/>
                        </a:lnTo>
                        <a:lnTo>
                          <a:pt x="58" y="46"/>
                        </a:lnTo>
                        <a:lnTo>
                          <a:pt x="48" y="46"/>
                        </a:lnTo>
                        <a:lnTo>
                          <a:pt x="42" y="46"/>
                        </a:lnTo>
                        <a:lnTo>
                          <a:pt x="35" y="46"/>
                        </a:lnTo>
                        <a:lnTo>
                          <a:pt x="28" y="50"/>
                        </a:lnTo>
                        <a:lnTo>
                          <a:pt x="23" y="53"/>
                        </a:lnTo>
                        <a:lnTo>
                          <a:pt x="20" y="58"/>
                        </a:lnTo>
                        <a:lnTo>
                          <a:pt x="19" y="65"/>
                        </a:lnTo>
                        <a:lnTo>
                          <a:pt x="16" y="70"/>
                        </a:lnTo>
                        <a:lnTo>
                          <a:pt x="16" y="76"/>
                        </a:lnTo>
                        <a:lnTo>
                          <a:pt x="19" y="82"/>
                        </a:lnTo>
                        <a:lnTo>
                          <a:pt x="23" y="88"/>
                        </a:lnTo>
                        <a:lnTo>
                          <a:pt x="28" y="92"/>
                        </a:lnTo>
                        <a:lnTo>
                          <a:pt x="36" y="96"/>
                        </a:lnTo>
                        <a:lnTo>
                          <a:pt x="42" y="96"/>
                        </a:lnTo>
                        <a:lnTo>
                          <a:pt x="48" y="96"/>
                        </a:lnTo>
                        <a:lnTo>
                          <a:pt x="54" y="98"/>
                        </a:lnTo>
                        <a:lnTo>
                          <a:pt x="60" y="100"/>
                        </a:lnTo>
                        <a:lnTo>
                          <a:pt x="66" y="102"/>
                        </a:lnTo>
                        <a:lnTo>
                          <a:pt x="74" y="104"/>
                        </a:lnTo>
                        <a:lnTo>
                          <a:pt x="81" y="111"/>
                        </a:lnTo>
                        <a:lnTo>
                          <a:pt x="86" y="112"/>
                        </a:lnTo>
                        <a:lnTo>
                          <a:pt x="93" y="119"/>
                        </a:lnTo>
                        <a:lnTo>
                          <a:pt x="94" y="124"/>
                        </a:lnTo>
                        <a:lnTo>
                          <a:pt x="94" y="131"/>
                        </a:lnTo>
                        <a:lnTo>
                          <a:pt x="94" y="136"/>
                        </a:lnTo>
                        <a:lnTo>
                          <a:pt x="93" y="143"/>
                        </a:lnTo>
                        <a:lnTo>
                          <a:pt x="86" y="147"/>
                        </a:lnTo>
                        <a:lnTo>
                          <a:pt x="81" y="148"/>
                        </a:lnTo>
                        <a:lnTo>
                          <a:pt x="76" y="152"/>
                        </a:lnTo>
                        <a:lnTo>
                          <a:pt x="66" y="154"/>
                        </a:lnTo>
                        <a:lnTo>
                          <a:pt x="58" y="156"/>
                        </a:lnTo>
                        <a:lnTo>
                          <a:pt x="50" y="160"/>
                        </a:lnTo>
                        <a:lnTo>
                          <a:pt x="46" y="166"/>
                        </a:lnTo>
                        <a:lnTo>
                          <a:pt x="44" y="174"/>
                        </a:lnTo>
                        <a:lnTo>
                          <a:pt x="54" y="177"/>
                        </a:lnTo>
                        <a:lnTo>
                          <a:pt x="60" y="178"/>
                        </a:lnTo>
                        <a:lnTo>
                          <a:pt x="68" y="181"/>
                        </a:lnTo>
                        <a:lnTo>
                          <a:pt x="74" y="181"/>
                        </a:lnTo>
                        <a:lnTo>
                          <a:pt x="82" y="174"/>
                        </a:lnTo>
                        <a:lnTo>
                          <a:pt x="89" y="174"/>
                        </a:lnTo>
                        <a:lnTo>
                          <a:pt x="97" y="170"/>
                        </a:lnTo>
                        <a:lnTo>
                          <a:pt x="105" y="168"/>
                        </a:lnTo>
                        <a:lnTo>
                          <a:pt x="113" y="166"/>
                        </a:lnTo>
                        <a:lnTo>
                          <a:pt x="118" y="162"/>
                        </a:lnTo>
                        <a:lnTo>
                          <a:pt x="124" y="158"/>
                        </a:lnTo>
                        <a:lnTo>
                          <a:pt x="130" y="156"/>
                        </a:lnTo>
                        <a:lnTo>
                          <a:pt x="136" y="156"/>
                        </a:lnTo>
                        <a:lnTo>
                          <a:pt x="142" y="154"/>
                        </a:lnTo>
                        <a:lnTo>
                          <a:pt x="148" y="154"/>
                        </a:lnTo>
                        <a:lnTo>
                          <a:pt x="156" y="156"/>
                        </a:lnTo>
                        <a:lnTo>
                          <a:pt x="160" y="162"/>
                        </a:lnTo>
                        <a:lnTo>
                          <a:pt x="164" y="170"/>
                        </a:lnTo>
                        <a:lnTo>
                          <a:pt x="164" y="176"/>
                        </a:lnTo>
                        <a:lnTo>
                          <a:pt x="163" y="181"/>
                        </a:lnTo>
                        <a:lnTo>
                          <a:pt x="163" y="186"/>
                        </a:lnTo>
                        <a:lnTo>
                          <a:pt x="163" y="193"/>
                        </a:lnTo>
                        <a:lnTo>
                          <a:pt x="164" y="198"/>
                        </a:lnTo>
                        <a:lnTo>
                          <a:pt x="167" y="206"/>
                        </a:lnTo>
                        <a:lnTo>
                          <a:pt x="167" y="213"/>
                        </a:lnTo>
                        <a:lnTo>
                          <a:pt x="168" y="221"/>
                        </a:lnTo>
                        <a:lnTo>
                          <a:pt x="171" y="228"/>
                        </a:lnTo>
                        <a:lnTo>
                          <a:pt x="172" y="236"/>
                        </a:lnTo>
                        <a:lnTo>
                          <a:pt x="175" y="244"/>
                        </a:lnTo>
                        <a:lnTo>
                          <a:pt x="179" y="248"/>
                        </a:lnTo>
                        <a:lnTo>
                          <a:pt x="183" y="256"/>
                        </a:lnTo>
                        <a:lnTo>
                          <a:pt x="186" y="263"/>
                        </a:lnTo>
                        <a:lnTo>
                          <a:pt x="192" y="267"/>
                        </a:lnTo>
                        <a:lnTo>
                          <a:pt x="198" y="267"/>
                        </a:lnTo>
                        <a:lnTo>
                          <a:pt x="202" y="259"/>
                        </a:lnTo>
                        <a:lnTo>
                          <a:pt x="202" y="252"/>
                        </a:lnTo>
                        <a:lnTo>
                          <a:pt x="202" y="246"/>
                        </a:lnTo>
                        <a:lnTo>
                          <a:pt x="198" y="240"/>
                        </a:lnTo>
                        <a:lnTo>
                          <a:pt x="194" y="234"/>
                        </a:lnTo>
                        <a:lnTo>
                          <a:pt x="188" y="226"/>
                        </a:lnTo>
                        <a:lnTo>
                          <a:pt x="186" y="218"/>
                        </a:lnTo>
                        <a:lnTo>
                          <a:pt x="183" y="210"/>
                        </a:lnTo>
                        <a:lnTo>
                          <a:pt x="186" y="202"/>
                        </a:lnTo>
                        <a:lnTo>
                          <a:pt x="192" y="198"/>
                        </a:lnTo>
                        <a:lnTo>
                          <a:pt x="198" y="194"/>
                        </a:lnTo>
                        <a:lnTo>
                          <a:pt x="206" y="194"/>
                        </a:lnTo>
                        <a:lnTo>
                          <a:pt x="212" y="194"/>
                        </a:lnTo>
                        <a:lnTo>
                          <a:pt x="218" y="194"/>
                        </a:lnTo>
                        <a:lnTo>
                          <a:pt x="226" y="198"/>
                        </a:lnTo>
                        <a:lnTo>
                          <a:pt x="231" y="201"/>
                        </a:lnTo>
                        <a:lnTo>
                          <a:pt x="237" y="206"/>
                        </a:lnTo>
                        <a:lnTo>
                          <a:pt x="242" y="209"/>
                        </a:lnTo>
                        <a:lnTo>
                          <a:pt x="249" y="210"/>
                        </a:lnTo>
                        <a:lnTo>
                          <a:pt x="254" y="210"/>
                        </a:lnTo>
                        <a:lnTo>
                          <a:pt x="264" y="209"/>
                        </a:lnTo>
                        <a:lnTo>
                          <a:pt x="270" y="209"/>
                        </a:lnTo>
                        <a:lnTo>
                          <a:pt x="276" y="201"/>
                        </a:lnTo>
                        <a:lnTo>
                          <a:pt x="276" y="194"/>
                        </a:lnTo>
                        <a:lnTo>
                          <a:pt x="276" y="189"/>
                        </a:lnTo>
                        <a:lnTo>
                          <a:pt x="274" y="182"/>
                        </a:lnTo>
                        <a:lnTo>
                          <a:pt x="270" y="177"/>
                        </a:lnTo>
                        <a:lnTo>
                          <a:pt x="264" y="174"/>
                        </a:lnTo>
                        <a:lnTo>
                          <a:pt x="260" y="168"/>
                        </a:lnTo>
                        <a:lnTo>
                          <a:pt x="254" y="166"/>
                        </a:lnTo>
                        <a:lnTo>
                          <a:pt x="249" y="160"/>
                        </a:lnTo>
                        <a:lnTo>
                          <a:pt x="241" y="158"/>
                        </a:lnTo>
                        <a:lnTo>
                          <a:pt x="234" y="154"/>
                        </a:lnTo>
                        <a:lnTo>
                          <a:pt x="223" y="148"/>
                        </a:lnTo>
                        <a:lnTo>
                          <a:pt x="218" y="140"/>
                        </a:lnTo>
                        <a:lnTo>
                          <a:pt x="214" y="132"/>
                        </a:lnTo>
                        <a:lnTo>
                          <a:pt x="214" y="123"/>
                        </a:lnTo>
                        <a:lnTo>
                          <a:pt x="218" y="115"/>
                        </a:lnTo>
                        <a:lnTo>
                          <a:pt x="223" y="111"/>
                        </a:lnTo>
                        <a:lnTo>
                          <a:pt x="230" y="107"/>
                        </a:lnTo>
                        <a:lnTo>
                          <a:pt x="237" y="106"/>
                        </a:lnTo>
                        <a:lnTo>
                          <a:pt x="245" y="104"/>
                        </a:lnTo>
                        <a:lnTo>
                          <a:pt x="253" y="102"/>
                        </a:lnTo>
                        <a:lnTo>
                          <a:pt x="260" y="102"/>
                        </a:lnTo>
                        <a:lnTo>
                          <a:pt x="268" y="104"/>
                        </a:lnTo>
                        <a:lnTo>
                          <a:pt x="276" y="106"/>
                        </a:lnTo>
                        <a:lnTo>
                          <a:pt x="282" y="107"/>
                        </a:lnTo>
                        <a:lnTo>
                          <a:pt x="290" y="111"/>
                        </a:lnTo>
                        <a:lnTo>
                          <a:pt x="296" y="115"/>
                        </a:lnTo>
                        <a:lnTo>
                          <a:pt x="304" y="119"/>
                        </a:lnTo>
                        <a:lnTo>
                          <a:pt x="309" y="119"/>
                        </a:lnTo>
                        <a:lnTo>
                          <a:pt x="315" y="120"/>
                        </a:lnTo>
                        <a:lnTo>
                          <a:pt x="323" y="123"/>
                        </a:lnTo>
                        <a:lnTo>
                          <a:pt x="330" y="124"/>
                        </a:lnTo>
                        <a:lnTo>
                          <a:pt x="336" y="127"/>
                        </a:lnTo>
                        <a:lnTo>
                          <a:pt x="342" y="128"/>
                        </a:lnTo>
                        <a:lnTo>
                          <a:pt x="352" y="128"/>
                        </a:lnTo>
                        <a:lnTo>
                          <a:pt x="358" y="131"/>
                        </a:lnTo>
                        <a:lnTo>
                          <a:pt x="364" y="128"/>
                        </a:lnTo>
                        <a:lnTo>
                          <a:pt x="367" y="123"/>
                        </a:lnTo>
                        <a:lnTo>
                          <a:pt x="366" y="116"/>
                        </a:lnTo>
                        <a:lnTo>
                          <a:pt x="358" y="111"/>
                        </a:lnTo>
                        <a:lnTo>
                          <a:pt x="352" y="108"/>
                        </a:lnTo>
                        <a:lnTo>
                          <a:pt x="346" y="107"/>
                        </a:lnTo>
                        <a:lnTo>
                          <a:pt x="336" y="104"/>
                        </a:lnTo>
                        <a:lnTo>
                          <a:pt x="330" y="104"/>
                        </a:lnTo>
                        <a:lnTo>
                          <a:pt x="323" y="104"/>
                        </a:lnTo>
                        <a:lnTo>
                          <a:pt x="312" y="100"/>
                        </a:lnTo>
                        <a:lnTo>
                          <a:pt x="308" y="100"/>
                        </a:lnTo>
                        <a:lnTo>
                          <a:pt x="300" y="98"/>
                        </a:lnTo>
                        <a:lnTo>
                          <a:pt x="294" y="98"/>
                        </a:lnTo>
                        <a:lnTo>
                          <a:pt x="286" y="96"/>
                        </a:lnTo>
                        <a:lnTo>
                          <a:pt x="278" y="92"/>
                        </a:lnTo>
                        <a:lnTo>
                          <a:pt x="278" y="86"/>
                        </a:lnTo>
                        <a:lnTo>
                          <a:pt x="286" y="84"/>
                        </a:lnTo>
                        <a:lnTo>
                          <a:pt x="292" y="80"/>
                        </a:lnTo>
                        <a:lnTo>
                          <a:pt x="300" y="74"/>
                        </a:lnTo>
                        <a:lnTo>
                          <a:pt x="308" y="70"/>
                        </a:lnTo>
                        <a:lnTo>
                          <a:pt x="312" y="65"/>
                        </a:lnTo>
                        <a:lnTo>
                          <a:pt x="320" y="61"/>
                        </a:lnTo>
                        <a:lnTo>
                          <a:pt x="330" y="57"/>
                        </a:lnTo>
                        <a:lnTo>
                          <a:pt x="340" y="54"/>
                        </a:lnTo>
                        <a:lnTo>
                          <a:pt x="346" y="53"/>
                        </a:lnTo>
                        <a:lnTo>
                          <a:pt x="354" y="50"/>
                        </a:lnTo>
                        <a:lnTo>
                          <a:pt x="360" y="46"/>
                        </a:lnTo>
                        <a:lnTo>
                          <a:pt x="366" y="41"/>
                        </a:lnTo>
                        <a:lnTo>
                          <a:pt x="370" y="35"/>
                        </a:lnTo>
                        <a:lnTo>
                          <a:pt x="370" y="30"/>
                        </a:lnTo>
                        <a:lnTo>
                          <a:pt x="370" y="22"/>
                        </a:lnTo>
                        <a:lnTo>
                          <a:pt x="364" y="16"/>
                        </a:lnTo>
                        <a:lnTo>
                          <a:pt x="360" y="10"/>
                        </a:lnTo>
                        <a:lnTo>
                          <a:pt x="354" y="10"/>
                        </a:lnTo>
                        <a:lnTo>
                          <a:pt x="348" y="8"/>
                        </a:lnTo>
                        <a:lnTo>
                          <a:pt x="340" y="8"/>
                        </a:lnTo>
                        <a:lnTo>
                          <a:pt x="332" y="10"/>
                        </a:lnTo>
                        <a:lnTo>
                          <a:pt x="327" y="14"/>
                        </a:lnTo>
                        <a:lnTo>
                          <a:pt x="319" y="18"/>
                        </a:lnTo>
                        <a:lnTo>
                          <a:pt x="315" y="24"/>
                        </a:lnTo>
                        <a:lnTo>
                          <a:pt x="312" y="31"/>
                        </a:lnTo>
                        <a:lnTo>
                          <a:pt x="301" y="38"/>
                        </a:lnTo>
                        <a:lnTo>
                          <a:pt x="294" y="46"/>
                        </a:lnTo>
                        <a:lnTo>
                          <a:pt x="288" y="53"/>
                        </a:lnTo>
                        <a:lnTo>
                          <a:pt x="282" y="58"/>
                        </a:lnTo>
                        <a:lnTo>
                          <a:pt x="274" y="61"/>
                        </a:lnTo>
                        <a:lnTo>
                          <a:pt x="268" y="66"/>
                        </a:lnTo>
                        <a:lnTo>
                          <a:pt x="262" y="70"/>
                        </a:lnTo>
                        <a:lnTo>
                          <a:pt x="257" y="70"/>
                        </a:lnTo>
                        <a:lnTo>
                          <a:pt x="250" y="70"/>
                        </a:lnTo>
                        <a:lnTo>
                          <a:pt x="245" y="66"/>
                        </a:lnTo>
                        <a:lnTo>
                          <a:pt x="241" y="61"/>
                        </a:lnTo>
                        <a:lnTo>
                          <a:pt x="241" y="53"/>
                        </a:lnTo>
                        <a:lnTo>
                          <a:pt x="238" y="45"/>
                        </a:lnTo>
                        <a:lnTo>
                          <a:pt x="234" y="38"/>
                        </a:lnTo>
                        <a:lnTo>
                          <a:pt x="230" y="38"/>
                        </a:lnTo>
                        <a:lnTo>
                          <a:pt x="223" y="42"/>
                        </a:lnTo>
                        <a:lnTo>
                          <a:pt x="218" y="45"/>
                        </a:lnTo>
                        <a:lnTo>
                          <a:pt x="218" y="50"/>
                        </a:lnTo>
                        <a:lnTo>
                          <a:pt x="216" y="58"/>
                        </a:lnTo>
                        <a:lnTo>
                          <a:pt x="216" y="66"/>
                        </a:lnTo>
                        <a:lnTo>
                          <a:pt x="216" y="74"/>
                        </a:lnTo>
                        <a:lnTo>
                          <a:pt x="214" y="80"/>
                        </a:lnTo>
                        <a:lnTo>
                          <a:pt x="208" y="88"/>
                        </a:lnTo>
                        <a:lnTo>
                          <a:pt x="204" y="94"/>
                        </a:lnTo>
                        <a:lnTo>
                          <a:pt x="198" y="98"/>
                        </a:lnTo>
                        <a:lnTo>
                          <a:pt x="192" y="102"/>
                        </a:lnTo>
                        <a:lnTo>
                          <a:pt x="183" y="104"/>
                        </a:lnTo>
                        <a:lnTo>
                          <a:pt x="176" y="104"/>
                        </a:lnTo>
                        <a:lnTo>
                          <a:pt x="171" y="104"/>
                        </a:lnTo>
                        <a:lnTo>
                          <a:pt x="163" y="100"/>
                        </a:lnTo>
                        <a:lnTo>
                          <a:pt x="156" y="94"/>
                        </a:lnTo>
                        <a:lnTo>
                          <a:pt x="156" y="86"/>
                        </a:lnTo>
                        <a:lnTo>
                          <a:pt x="152" y="80"/>
                        </a:lnTo>
                        <a:lnTo>
                          <a:pt x="146" y="76"/>
                        </a:lnTo>
                        <a:lnTo>
                          <a:pt x="140" y="74"/>
                        </a:lnTo>
                        <a:lnTo>
                          <a:pt x="134" y="76"/>
                        </a:lnTo>
                        <a:lnTo>
                          <a:pt x="134" y="86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6840360" y="4072680"/>
                <a:ext cx="402120" cy="727920"/>
                <a:chOff x="6840360" y="4072680"/>
                <a:chExt cx="402120" cy="7279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860520" y="4126680"/>
                  <a:ext cx="302760" cy="312840"/>
                </a:xfrm>
                <a:custGeom>
                  <a:avLst/>
                  <a:gdLst/>
                  <a:ahLst/>
                  <a:rect l="l" t="t" r="r" b="b"/>
                  <a:pathLst>
                    <a:path w="669" h="724">
                      <a:moveTo>
                        <a:pt x="377" y="724"/>
                      </a:moveTo>
                      <a:lnTo>
                        <a:pt x="276" y="724"/>
                      </a:lnTo>
                      <a:lnTo>
                        <a:pt x="280" y="444"/>
                      </a:lnTo>
                      <a:lnTo>
                        <a:pt x="280" y="170"/>
                      </a:lnTo>
                      <a:lnTo>
                        <a:pt x="267" y="126"/>
                      </a:lnTo>
                      <a:lnTo>
                        <a:pt x="236" y="121"/>
                      </a:lnTo>
                      <a:lnTo>
                        <a:pt x="74" y="112"/>
                      </a:lnTo>
                      <a:lnTo>
                        <a:pt x="15" y="103"/>
                      </a:lnTo>
                      <a:lnTo>
                        <a:pt x="0" y="69"/>
                      </a:lnTo>
                      <a:lnTo>
                        <a:pt x="15" y="9"/>
                      </a:lnTo>
                      <a:lnTo>
                        <a:pt x="53" y="54"/>
                      </a:lnTo>
                      <a:lnTo>
                        <a:pt x="543" y="40"/>
                      </a:lnTo>
                      <a:lnTo>
                        <a:pt x="640" y="9"/>
                      </a:lnTo>
                      <a:lnTo>
                        <a:pt x="667" y="0"/>
                      </a:lnTo>
                      <a:lnTo>
                        <a:pt x="669" y="47"/>
                      </a:lnTo>
                      <a:lnTo>
                        <a:pt x="644" y="81"/>
                      </a:lnTo>
                      <a:lnTo>
                        <a:pt x="518" y="96"/>
                      </a:lnTo>
                      <a:lnTo>
                        <a:pt x="364" y="114"/>
                      </a:lnTo>
                      <a:lnTo>
                        <a:pt x="354" y="159"/>
                      </a:lnTo>
                      <a:lnTo>
                        <a:pt x="354" y="343"/>
                      </a:lnTo>
                      <a:lnTo>
                        <a:pt x="357" y="556"/>
                      </a:lnTo>
                      <a:lnTo>
                        <a:pt x="377" y="72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844320" y="4433400"/>
                  <a:ext cx="391320" cy="367200"/>
                </a:xfrm>
                <a:custGeom>
                  <a:avLst/>
                  <a:gdLst/>
                  <a:ahLst/>
                  <a:rect l="l" t="t" r="r" b="b"/>
                  <a:pathLst>
                    <a:path w="864" h="851">
                      <a:moveTo>
                        <a:pt x="170" y="5"/>
                      </a:moveTo>
                      <a:lnTo>
                        <a:pt x="334" y="0"/>
                      </a:lnTo>
                      <a:lnTo>
                        <a:pt x="563" y="5"/>
                      </a:lnTo>
                      <a:lnTo>
                        <a:pt x="630" y="130"/>
                      </a:lnTo>
                      <a:lnTo>
                        <a:pt x="709" y="296"/>
                      </a:lnTo>
                      <a:lnTo>
                        <a:pt x="768" y="434"/>
                      </a:lnTo>
                      <a:lnTo>
                        <a:pt x="812" y="592"/>
                      </a:lnTo>
                      <a:lnTo>
                        <a:pt x="864" y="708"/>
                      </a:lnTo>
                      <a:lnTo>
                        <a:pt x="850" y="833"/>
                      </a:lnTo>
                      <a:lnTo>
                        <a:pt x="778" y="851"/>
                      </a:lnTo>
                      <a:lnTo>
                        <a:pt x="338" y="833"/>
                      </a:lnTo>
                      <a:lnTo>
                        <a:pt x="42" y="829"/>
                      </a:lnTo>
                      <a:lnTo>
                        <a:pt x="15" y="797"/>
                      </a:lnTo>
                      <a:lnTo>
                        <a:pt x="0" y="710"/>
                      </a:lnTo>
                      <a:lnTo>
                        <a:pt x="22" y="525"/>
                      </a:lnTo>
                      <a:lnTo>
                        <a:pt x="74" y="293"/>
                      </a:lnTo>
                      <a:lnTo>
                        <a:pt x="131" y="108"/>
                      </a:lnTo>
                      <a:lnTo>
                        <a:pt x="170" y="5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6840360" y="4429440"/>
                  <a:ext cx="402120" cy="369720"/>
                  <a:chOff x="6840360" y="4429440"/>
                  <a:chExt cx="402120" cy="3697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6840360" y="4429440"/>
                    <a:ext cx="40212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88" h="859">
                        <a:moveTo>
                          <a:pt x="192" y="0"/>
                        </a:moveTo>
                        <a:lnTo>
                          <a:pt x="453" y="0"/>
                        </a:lnTo>
                        <a:lnTo>
                          <a:pt x="579" y="0"/>
                        </a:lnTo>
                        <a:lnTo>
                          <a:pt x="639" y="111"/>
                        </a:lnTo>
                        <a:lnTo>
                          <a:pt x="720" y="269"/>
                        </a:lnTo>
                        <a:lnTo>
                          <a:pt x="792" y="459"/>
                        </a:lnTo>
                        <a:lnTo>
                          <a:pt x="846" y="624"/>
                        </a:lnTo>
                        <a:lnTo>
                          <a:pt x="888" y="689"/>
                        </a:lnTo>
                        <a:lnTo>
                          <a:pt x="881" y="830"/>
                        </a:lnTo>
                        <a:lnTo>
                          <a:pt x="853" y="846"/>
                        </a:lnTo>
                        <a:lnTo>
                          <a:pt x="779" y="859"/>
                        </a:lnTo>
                        <a:lnTo>
                          <a:pt x="387" y="854"/>
                        </a:lnTo>
                        <a:lnTo>
                          <a:pt x="142" y="852"/>
                        </a:lnTo>
                        <a:lnTo>
                          <a:pt x="29" y="844"/>
                        </a:lnTo>
                        <a:lnTo>
                          <a:pt x="9" y="792"/>
                        </a:lnTo>
                        <a:lnTo>
                          <a:pt x="0" y="718"/>
                        </a:lnTo>
                        <a:lnTo>
                          <a:pt x="32" y="721"/>
                        </a:lnTo>
                        <a:lnTo>
                          <a:pt x="52" y="817"/>
                        </a:lnTo>
                        <a:lnTo>
                          <a:pt x="113" y="832"/>
                        </a:lnTo>
                        <a:lnTo>
                          <a:pt x="417" y="830"/>
                        </a:lnTo>
                        <a:lnTo>
                          <a:pt x="680" y="832"/>
                        </a:lnTo>
                        <a:lnTo>
                          <a:pt x="816" y="822"/>
                        </a:lnTo>
                        <a:lnTo>
                          <a:pt x="839" y="817"/>
                        </a:lnTo>
                        <a:lnTo>
                          <a:pt x="851" y="799"/>
                        </a:lnTo>
                        <a:lnTo>
                          <a:pt x="851" y="711"/>
                        </a:lnTo>
                        <a:lnTo>
                          <a:pt x="832" y="669"/>
                        </a:lnTo>
                        <a:lnTo>
                          <a:pt x="794" y="584"/>
                        </a:lnTo>
                        <a:lnTo>
                          <a:pt x="762" y="445"/>
                        </a:lnTo>
                        <a:lnTo>
                          <a:pt x="675" y="239"/>
                        </a:lnTo>
                        <a:lnTo>
                          <a:pt x="599" y="96"/>
                        </a:lnTo>
                        <a:lnTo>
                          <a:pt x="557" y="22"/>
                        </a:lnTo>
                        <a:lnTo>
                          <a:pt x="192" y="29"/>
                        </a:lnTo>
                        <a:lnTo>
                          <a:pt x="165" y="18"/>
                        </a:lnTo>
                        <a:lnTo>
                          <a:pt x="169" y="2"/>
                        </a:lnTo>
                        <a:lnTo>
                          <a:pt x="19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40360" y="4430520"/>
                    <a:ext cx="39528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761">
                        <a:moveTo>
                          <a:pt x="167" y="0"/>
                        </a:moveTo>
                        <a:lnTo>
                          <a:pt x="126" y="96"/>
                        </a:lnTo>
                        <a:lnTo>
                          <a:pt x="74" y="309"/>
                        </a:lnTo>
                        <a:lnTo>
                          <a:pt x="22" y="546"/>
                        </a:lnTo>
                        <a:lnTo>
                          <a:pt x="0" y="682"/>
                        </a:lnTo>
                        <a:lnTo>
                          <a:pt x="5" y="741"/>
                        </a:lnTo>
                        <a:lnTo>
                          <a:pt x="7" y="761"/>
                        </a:lnTo>
                        <a:lnTo>
                          <a:pt x="162" y="741"/>
                        </a:lnTo>
                        <a:lnTo>
                          <a:pt x="429" y="723"/>
                        </a:lnTo>
                        <a:lnTo>
                          <a:pt x="775" y="723"/>
                        </a:lnTo>
                        <a:lnTo>
                          <a:pt x="871" y="726"/>
                        </a:lnTo>
                        <a:lnTo>
                          <a:pt x="857" y="694"/>
                        </a:lnTo>
                        <a:lnTo>
                          <a:pt x="656" y="701"/>
                        </a:lnTo>
                        <a:lnTo>
                          <a:pt x="412" y="705"/>
                        </a:lnTo>
                        <a:lnTo>
                          <a:pt x="148" y="712"/>
                        </a:lnTo>
                        <a:lnTo>
                          <a:pt x="27" y="726"/>
                        </a:lnTo>
                        <a:lnTo>
                          <a:pt x="37" y="638"/>
                        </a:lnTo>
                        <a:lnTo>
                          <a:pt x="64" y="486"/>
                        </a:lnTo>
                        <a:lnTo>
                          <a:pt x="101" y="289"/>
                        </a:lnTo>
                        <a:lnTo>
                          <a:pt x="167" y="80"/>
                        </a:lnTo>
                        <a:lnTo>
                          <a:pt x="205" y="5"/>
                        </a:lnTo>
                        <a:lnTo>
                          <a:pt x="16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6853680" y="4072680"/>
                  <a:ext cx="318960" cy="363240"/>
                  <a:chOff x="6853680" y="4072680"/>
                  <a:chExt cx="318960" cy="3632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6853680" y="4093200"/>
                    <a:ext cx="318960" cy="342720"/>
                  </a:xfrm>
                  <a:custGeom>
                    <a:avLst/>
                    <a:gdLst/>
                    <a:ahLst/>
                    <a:rect l="l" t="t" r="r" b="b"/>
                    <a:pathLst>
                      <a:path w="705" h="795">
                        <a:moveTo>
                          <a:pt x="405" y="795"/>
                        </a:moveTo>
                        <a:lnTo>
                          <a:pt x="368" y="787"/>
                        </a:lnTo>
                        <a:lnTo>
                          <a:pt x="353" y="531"/>
                        </a:lnTo>
                        <a:lnTo>
                          <a:pt x="348" y="314"/>
                        </a:lnTo>
                        <a:lnTo>
                          <a:pt x="356" y="207"/>
                        </a:lnTo>
                        <a:lnTo>
                          <a:pt x="371" y="184"/>
                        </a:lnTo>
                        <a:lnTo>
                          <a:pt x="400" y="175"/>
                        </a:lnTo>
                        <a:lnTo>
                          <a:pt x="465" y="168"/>
                        </a:lnTo>
                        <a:lnTo>
                          <a:pt x="636" y="148"/>
                        </a:lnTo>
                        <a:lnTo>
                          <a:pt x="652" y="138"/>
                        </a:lnTo>
                        <a:lnTo>
                          <a:pt x="667" y="103"/>
                        </a:lnTo>
                        <a:lnTo>
                          <a:pt x="623" y="119"/>
                        </a:lnTo>
                        <a:lnTo>
                          <a:pt x="539" y="133"/>
                        </a:lnTo>
                        <a:lnTo>
                          <a:pt x="308" y="146"/>
                        </a:lnTo>
                        <a:lnTo>
                          <a:pt x="104" y="148"/>
                        </a:lnTo>
                        <a:lnTo>
                          <a:pt x="64" y="148"/>
                        </a:lnTo>
                        <a:lnTo>
                          <a:pt x="37" y="123"/>
                        </a:lnTo>
                        <a:lnTo>
                          <a:pt x="37" y="155"/>
                        </a:lnTo>
                        <a:lnTo>
                          <a:pt x="49" y="175"/>
                        </a:lnTo>
                        <a:lnTo>
                          <a:pt x="94" y="182"/>
                        </a:lnTo>
                        <a:lnTo>
                          <a:pt x="238" y="189"/>
                        </a:lnTo>
                        <a:lnTo>
                          <a:pt x="287" y="193"/>
                        </a:lnTo>
                        <a:lnTo>
                          <a:pt x="304" y="207"/>
                        </a:lnTo>
                        <a:lnTo>
                          <a:pt x="304" y="234"/>
                        </a:lnTo>
                        <a:lnTo>
                          <a:pt x="308" y="308"/>
                        </a:lnTo>
                        <a:lnTo>
                          <a:pt x="301" y="789"/>
                        </a:lnTo>
                        <a:lnTo>
                          <a:pt x="272" y="795"/>
                        </a:lnTo>
                        <a:lnTo>
                          <a:pt x="279" y="234"/>
                        </a:lnTo>
                        <a:lnTo>
                          <a:pt x="265" y="215"/>
                        </a:lnTo>
                        <a:lnTo>
                          <a:pt x="234" y="212"/>
                        </a:lnTo>
                        <a:lnTo>
                          <a:pt x="126" y="207"/>
                        </a:lnTo>
                        <a:lnTo>
                          <a:pt x="49" y="204"/>
                        </a:lnTo>
                        <a:lnTo>
                          <a:pt x="12" y="184"/>
                        </a:lnTo>
                        <a:lnTo>
                          <a:pt x="0" y="138"/>
                        </a:lnTo>
                        <a:lnTo>
                          <a:pt x="7" y="103"/>
                        </a:lnTo>
                        <a:lnTo>
                          <a:pt x="34" y="44"/>
                        </a:lnTo>
                        <a:lnTo>
                          <a:pt x="72" y="21"/>
                        </a:lnTo>
                        <a:lnTo>
                          <a:pt x="72" y="115"/>
                        </a:lnTo>
                        <a:lnTo>
                          <a:pt x="104" y="119"/>
                        </a:lnTo>
                        <a:lnTo>
                          <a:pt x="317" y="119"/>
                        </a:lnTo>
                        <a:lnTo>
                          <a:pt x="458" y="108"/>
                        </a:lnTo>
                        <a:lnTo>
                          <a:pt x="553" y="108"/>
                        </a:lnTo>
                        <a:lnTo>
                          <a:pt x="631" y="81"/>
                        </a:lnTo>
                        <a:lnTo>
                          <a:pt x="652" y="59"/>
                        </a:lnTo>
                        <a:lnTo>
                          <a:pt x="652" y="0"/>
                        </a:lnTo>
                        <a:lnTo>
                          <a:pt x="687" y="41"/>
                        </a:lnTo>
                        <a:lnTo>
                          <a:pt x="705" y="86"/>
                        </a:lnTo>
                        <a:lnTo>
                          <a:pt x="703" y="126"/>
                        </a:lnTo>
                        <a:lnTo>
                          <a:pt x="680" y="170"/>
                        </a:lnTo>
                        <a:lnTo>
                          <a:pt x="636" y="177"/>
                        </a:lnTo>
                        <a:lnTo>
                          <a:pt x="561" y="189"/>
                        </a:lnTo>
                        <a:lnTo>
                          <a:pt x="460" y="197"/>
                        </a:lnTo>
                        <a:lnTo>
                          <a:pt x="405" y="204"/>
                        </a:lnTo>
                        <a:lnTo>
                          <a:pt x="391" y="215"/>
                        </a:lnTo>
                        <a:lnTo>
                          <a:pt x="383" y="242"/>
                        </a:lnTo>
                        <a:lnTo>
                          <a:pt x="383" y="283"/>
                        </a:lnTo>
                        <a:lnTo>
                          <a:pt x="376" y="410"/>
                        </a:lnTo>
                        <a:lnTo>
                          <a:pt x="378" y="528"/>
                        </a:lnTo>
                        <a:lnTo>
                          <a:pt x="391" y="679"/>
                        </a:lnTo>
                        <a:lnTo>
                          <a:pt x="405" y="7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895440" y="4072680"/>
                    <a:ext cx="24300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7" h="121">
                        <a:moveTo>
                          <a:pt x="224" y="57"/>
                        </a:moveTo>
                        <a:lnTo>
                          <a:pt x="82" y="57"/>
                        </a:lnTo>
                        <a:lnTo>
                          <a:pt x="69" y="34"/>
                        </a:lnTo>
                        <a:lnTo>
                          <a:pt x="22" y="41"/>
                        </a:lnTo>
                        <a:lnTo>
                          <a:pt x="22" y="63"/>
                        </a:lnTo>
                        <a:lnTo>
                          <a:pt x="0" y="65"/>
                        </a:lnTo>
                        <a:lnTo>
                          <a:pt x="2" y="89"/>
                        </a:lnTo>
                        <a:lnTo>
                          <a:pt x="25" y="81"/>
                        </a:lnTo>
                        <a:lnTo>
                          <a:pt x="25" y="105"/>
                        </a:lnTo>
                        <a:lnTo>
                          <a:pt x="82" y="102"/>
                        </a:lnTo>
                        <a:lnTo>
                          <a:pt x="77" y="79"/>
                        </a:lnTo>
                        <a:lnTo>
                          <a:pt x="226" y="86"/>
                        </a:lnTo>
                        <a:lnTo>
                          <a:pt x="226" y="118"/>
                        </a:lnTo>
                        <a:lnTo>
                          <a:pt x="328" y="121"/>
                        </a:lnTo>
                        <a:lnTo>
                          <a:pt x="323" y="86"/>
                        </a:lnTo>
                        <a:lnTo>
                          <a:pt x="531" y="86"/>
                        </a:lnTo>
                        <a:lnTo>
                          <a:pt x="537" y="57"/>
                        </a:lnTo>
                        <a:lnTo>
                          <a:pt x="330" y="63"/>
                        </a:lnTo>
                        <a:lnTo>
                          <a:pt x="328" y="0"/>
                        </a:lnTo>
                        <a:lnTo>
                          <a:pt x="231" y="0"/>
                        </a:lnTo>
                        <a:lnTo>
                          <a:pt x="224" y="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7203240" y="4055760"/>
                <a:ext cx="318960" cy="677520"/>
                <a:chOff x="7203240" y="4055760"/>
                <a:chExt cx="318960" cy="677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287120" y="4055760"/>
                  <a:ext cx="175320" cy="125280"/>
                </a:xfrm>
                <a:custGeom>
                  <a:avLst/>
                  <a:gdLst/>
                  <a:ahLst/>
                  <a:rect l="l" t="t" r="r" b="b"/>
                  <a:pathLst>
                    <a:path w="385" h="292">
                      <a:moveTo>
                        <a:pt x="165" y="126"/>
                      </a:moveTo>
                      <a:lnTo>
                        <a:pt x="202" y="58"/>
                      </a:lnTo>
                      <a:lnTo>
                        <a:pt x="240" y="20"/>
                      </a:lnTo>
                      <a:lnTo>
                        <a:pt x="277" y="0"/>
                      </a:lnTo>
                      <a:lnTo>
                        <a:pt x="315" y="0"/>
                      </a:lnTo>
                      <a:lnTo>
                        <a:pt x="347" y="20"/>
                      </a:lnTo>
                      <a:lnTo>
                        <a:pt x="377" y="58"/>
                      </a:lnTo>
                      <a:lnTo>
                        <a:pt x="385" y="91"/>
                      </a:lnTo>
                      <a:lnTo>
                        <a:pt x="377" y="151"/>
                      </a:lnTo>
                      <a:lnTo>
                        <a:pt x="362" y="209"/>
                      </a:lnTo>
                      <a:lnTo>
                        <a:pt x="337" y="242"/>
                      </a:lnTo>
                      <a:lnTo>
                        <a:pt x="308" y="269"/>
                      </a:lnTo>
                      <a:lnTo>
                        <a:pt x="265" y="292"/>
                      </a:lnTo>
                      <a:lnTo>
                        <a:pt x="213" y="287"/>
                      </a:lnTo>
                      <a:lnTo>
                        <a:pt x="172" y="269"/>
                      </a:lnTo>
                      <a:lnTo>
                        <a:pt x="152" y="226"/>
                      </a:lnTo>
                      <a:lnTo>
                        <a:pt x="152" y="189"/>
                      </a:lnTo>
                      <a:lnTo>
                        <a:pt x="152" y="157"/>
                      </a:lnTo>
                      <a:lnTo>
                        <a:pt x="82" y="166"/>
                      </a:lnTo>
                      <a:lnTo>
                        <a:pt x="18" y="174"/>
                      </a:lnTo>
                      <a:lnTo>
                        <a:pt x="0" y="166"/>
                      </a:lnTo>
                      <a:lnTo>
                        <a:pt x="0" y="136"/>
                      </a:lnTo>
                      <a:lnTo>
                        <a:pt x="18" y="126"/>
                      </a:lnTo>
                      <a:lnTo>
                        <a:pt x="55" y="134"/>
                      </a:lnTo>
                      <a:lnTo>
                        <a:pt x="100" y="136"/>
                      </a:lnTo>
                      <a:lnTo>
                        <a:pt x="165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294320" y="4196520"/>
                  <a:ext cx="130320" cy="239040"/>
                </a:xfrm>
                <a:custGeom>
                  <a:avLst/>
                  <a:gdLst/>
                  <a:ahLst/>
                  <a:rect l="l" t="t" r="r" b="b"/>
                  <a:pathLst>
                    <a:path w="287" h="555">
                      <a:moveTo>
                        <a:pt x="268" y="30"/>
                      </a:moveTo>
                      <a:lnTo>
                        <a:pt x="239" y="12"/>
                      </a:lnTo>
                      <a:lnTo>
                        <a:pt x="188" y="0"/>
                      </a:lnTo>
                      <a:lnTo>
                        <a:pt x="144" y="7"/>
                      </a:lnTo>
                      <a:lnTo>
                        <a:pt x="113" y="27"/>
                      </a:lnTo>
                      <a:lnTo>
                        <a:pt x="86" y="67"/>
                      </a:lnTo>
                      <a:lnTo>
                        <a:pt x="58" y="125"/>
                      </a:lnTo>
                      <a:lnTo>
                        <a:pt x="29" y="196"/>
                      </a:lnTo>
                      <a:lnTo>
                        <a:pt x="7" y="269"/>
                      </a:lnTo>
                      <a:lnTo>
                        <a:pt x="0" y="349"/>
                      </a:lnTo>
                      <a:lnTo>
                        <a:pt x="0" y="424"/>
                      </a:lnTo>
                      <a:lnTo>
                        <a:pt x="12" y="480"/>
                      </a:lnTo>
                      <a:lnTo>
                        <a:pt x="43" y="522"/>
                      </a:lnTo>
                      <a:lnTo>
                        <a:pt x="84" y="544"/>
                      </a:lnTo>
                      <a:lnTo>
                        <a:pt x="150" y="555"/>
                      </a:lnTo>
                      <a:lnTo>
                        <a:pt x="196" y="555"/>
                      </a:lnTo>
                      <a:lnTo>
                        <a:pt x="222" y="537"/>
                      </a:lnTo>
                      <a:lnTo>
                        <a:pt x="244" y="502"/>
                      </a:lnTo>
                      <a:lnTo>
                        <a:pt x="251" y="449"/>
                      </a:lnTo>
                      <a:lnTo>
                        <a:pt x="251" y="412"/>
                      </a:lnTo>
                      <a:lnTo>
                        <a:pt x="236" y="366"/>
                      </a:lnTo>
                      <a:lnTo>
                        <a:pt x="225" y="341"/>
                      </a:lnTo>
                      <a:lnTo>
                        <a:pt x="210" y="303"/>
                      </a:lnTo>
                      <a:lnTo>
                        <a:pt x="210" y="261"/>
                      </a:lnTo>
                      <a:lnTo>
                        <a:pt x="225" y="223"/>
                      </a:lnTo>
                      <a:lnTo>
                        <a:pt x="251" y="189"/>
                      </a:lnTo>
                      <a:lnTo>
                        <a:pt x="275" y="150"/>
                      </a:lnTo>
                      <a:lnTo>
                        <a:pt x="282" y="118"/>
                      </a:lnTo>
                      <a:lnTo>
                        <a:pt x="287" y="75"/>
                      </a:lnTo>
                      <a:lnTo>
                        <a:pt x="26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203240" y="4206960"/>
                  <a:ext cx="162720" cy="236520"/>
                </a:xfrm>
                <a:custGeom>
                  <a:avLst/>
                  <a:gdLst/>
                  <a:ahLst/>
                  <a:rect l="l" t="t" r="r" b="b"/>
                  <a:pathLst>
                    <a:path w="360" h="549">
                      <a:moveTo>
                        <a:pt x="267" y="21"/>
                      </a:moveTo>
                      <a:lnTo>
                        <a:pt x="320" y="0"/>
                      </a:lnTo>
                      <a:lnTo>
                        <a:pt x="360" y="0"/>
                      </a:lnTo>
                      <a:lnTo>
                        <a:pt x="353" y="52"/>
                      </a:lnTo>
                      <a:lnTo>
                        <a:pt x="301" y="84"/>
                      </a:lnTo>
                      <a:lnTo>
                        <a:pt x="215" y="121"/>
                      </a:lnTo>
                      <a:lnTo>
                        <a:pt x="133" y="173"/>
                      </a:lnTo>
                      <a:lnTo>
                        <a:pt x="72" y="230"/>
                      </a:lnTo>
                      <a:lnTo>
                        <a:pt x="68" y="245"/>
                      </a:lnTo>
                      <a:lnTo>
                        <a:pt x="97" y="279"/>
                      </a:lnTo>
                      <a:lnTo>
                        <a:pt x="143" y="319"/>
                      </a:lnTo>
                      <a:lnTo>
                        <a:pt x="181" y="364"/>
                      </a:lnTo>
                      <a:lnTo>
                        <a:pt x="208" y="423"/>
                      </a:lnTo>
                      <a:lnTo>
                        <a:pt x="203" y="450"/>
                      </a:lnTo>
                      <a:lnTo>
                        <a:pt x="178" y="465"/>
                      </a:lnTo>
                      <a:lnTo>
                        <a:pt x="156" y="475"/>
                      </a:lnTo>
                      <a:lnTo>
                        <a:pt x="127" y="495"/>
                      </a:lnTo>
                      <a:lnTo>
                        <a:pt x="110" y="532"/>
                      </a:lnTo>
                      <a:lnTo>
                        <a:pt x="102" y="549"/>
                      </a:lnTo>
                      <a:lnTo>
                        <a:pt x="75" y="547"/>
                      </a:lnTo>
                      <a:lnTo>
                        <a:pt x="72" y="517"/>
                      </a:lnTo>
                      <a:lnTo>
                        <a:pt x="110" y="465"/>
                      </a:lnTo>
                      <a:lnTo>
                        <a:pt x="156" y="438"/>
                      </a:lnTo>
                      <a:lnTo>
                        <a:pt x="170" y="421"/>
                      </a:lnTo>
                      <a:lnTo>
                        <a:pt x="158" y="384"/>
                      </a:lnTo>
                      <a:lnTo>
                        <a:pt x="127" y="353"/>
                      </a:lnTo>
                      <a:lnTo>
                        <a:pt x="68" y="319"/>
                      </a:lnTo>
                      <a:lnTo>
                        <a:pt x="20" y="275"/>
                      </a:lnTo>
                      <a:lnTo>
                        <a:pt x="0" y="230"/>
                      </a:lnTo>
                      <a:lnTo>
                        <a:pt x="8" y="218"/>
                      </a:lnTo>
                      <a:lnTo>
                        <a:pt x="43" y="185"/>
                      </a:lnTo>
                      <a:lnTo>
                        <a:pt x="95" y="140"/>
                      </a:lnTo>
                      <a:lnTo>
                        <a:pt x="150" y="99"/>
                      </a:lnTo>
                      <a:lnTo>
                        <a:pt x="210" y="52"/>
                      </a:lnTo>
                      <a:lnTo>
                        <a:pt x="267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391880" y="4212360"/>
                  <a:ext cx="130320" cy="252000"/>
                </a:xfrm>
                <a:custGeom>
                  <a:avLst/>
                  <a:gdLst/>
                  <a:ahLst/>
                  <a:rect l="l" t="t" r="r" b="b"/>
                  <a:pathLst>
                    <a:path w="287" h="585">
                      <a:moveTo>
                        <a:pt x="36" y="0"/>
                      </a:moveTo>
                      <a:lnTo>
                        <a:pt x="106" y="45"/>
                      </a:lnTo>
                      <a:lnTo>
                        <a:pt x="157" y="97"/>
                      </a:lnTo>
                      <a:lnTo>
                        <a:pt x="187" y="148"/>
                      </a:lnTo>
                      <a:lnTo>
                        <a:pt x="212" y="201"/>
                      </a:lnTo>
                      <a:lnTo>
                        <a:pt x="242" y="245"/>
                      </a:lnTo>
                      <a:lnTo>
                        <a:pt x="277" y="294"/>
                      </a:lnTo>
                      <a:lnTo>
                        <a:pt x="287" y="312"/>
                      </a:lnTo>
                      <a:lnTo>
                        <a:pt x="285" y="332"/>
                      </a:lnTo>
                      <a:lnTo>
                        <a:pt x="234" y="357"/>
                      </a:lnTo>
                      <a:lnTo>
                        <a:pt x="166" y="391"/>
                      </a:lnTo>
                      <a:lnTo>
                        <a:pt x="111" y="413"/>
                      </a:lnTo>
                      <a:lnTo>
                        <a:pt x="68" y="429"/>
                      </a:lnTo>
                      <a:lnTo>
                        <a:pt x="66" y="446"/>
                      </a:lnTo>
                      <a:lnTo>
                        <a:pt x="98" y="468"/>
                      </a:lnTo>
                      <a:lnTo>
                        <a:pt x="127" y="505"/>
                      </a:lnTo>
                      <a:lnTo>
                        <a:pt x="148" y="557"/>
                      </a:lnTo>
                      <a:lnTo>
                        <a:pt x="144" y="579"/>
                      </a:lnTo>
                      <a:lnTo>
                        <a:pt x="127" y="585"/>
                      </a:lnTo>
                      <a:lnTo>
                        <a:pt x="111" y="572"/>
                      </a:lnTo>
                      <a:lnTo>
                        <a:pt x="98" y="540"/>
                      </a:lnTo>
                      <a:lnTo>
                        <a:pt x="84" y="510"/>
                      </a:lnTo>
                      <a:lnTo>
                        <a:pt x="61" y="483"/>
                      </a:lnTo>
                      <a:lnTo>
                        <a:pt x="31" y="468"/>
                      </a:lnTo>
                      <a:lnTo>
                        <a:pt x="13" y="446"/>
                      </a:lnTo>
                      <a:lnTo>
                        <a:pt x="31" y="413"/>
                      </a:lnTo>
                      <a:lnTo>
                        <a:pt x="66" y="399"/>
                      </a:lnTo>
                      <a:lnTo>
                        <a:pt x="121" y="364"/>
                      </a:lnTo>
                      <a:lnTo>
                        <a:pt x="182" y="339"/>
                      </a:lnTo>
                      <a:lnTo>
                        <a:pt x="227" y="319"/>
                      </a:lnTo>
                      <a:lnTo>
                        <a:pt x="227" y="305"/>
                      </a:lnTo>
                      <a:lnTo>
                        <a:pt x="212" y="273"/>
                      </a:lnTo>
                      <a:lnTo>
                        <a:pt x="166" y="223"/>
                      </a:lnTo>
                      <a:lnTo>
                        <a:pt x="121" y="171"/>
                      </a:lnTo>
                      <a:lnTo>
                        <a:pt x="68" y="107"/>
                      </a:lnTo>
                      <a:lnTo>
                        <a:pt x="31" y="74"/>
                      </a:lnTo>
                      <a:lnTo>
                        <a:pt x="8" y="38"/>
                      </a:lnTo>
                      <a:lnTo>
                        <a:pt x="0" y="2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54080" y="4398480"/>
                  <a:ext cx="122040" cy="334800"/>
                </a:xfrm>
                <a:custGeom>
                  <a:avLst/>
                  <a:gdLst/>
                  <a:ahLst/>
                  <a:rect l="l" t="t" r="r" b="b"/>
                  <a:pathLst>
                    <a:path w="268" h="775">
                      <a:moveTo>
                        <a:pt x="23" y="5"/>
                      </a:moveTo>
                      <a:lnTo>
                        <a:pt x="55" y="0"/>
                      </a:lnTo>
                      <a:lnTo>
                        <a:pt x="85" y="15"/>
                      </a:lnTo>
                      <a:lnTo>
                        <a:pt x="99" y="42"/>
                      </a:lnTo>
                      <a:lnTo>
                        <a:pt x="99" y="161"/>
                      </a:lnTo>
                      <a:lnTo>
                        <a:pt x="108" y="235"/>
                      </a:lnTo>
                      <a:lnTo>
                        <a:pt x="129" y="333"/>
                      </a:lnTo>
                      <a:lnTo>
                        <a:pt x="151" y="423"/>
                      </a:lnTo>
                      <a:lnTo>
                        <a:pt x="182" y="519"/>
                      </a:lnTo>
                      <a:lnTo>
                        <a:pt x="200" y="582"/>
                      </a:lnTo>
                      <a:lnTo>
                        <a:pt x="220" y="627"/>
                      </a:lnTo>
                      <a:lnTo>
                        <a:pt x="252" y="657"/>
                      </a:lnTo>
                      <a:lnTo>
                        <a:pt x="268" y="679"/>
                      </a:lnTo>
                      <a:lnTo>
                        <a:pt x="257" y="701"/>
                      </a:lnTo>
                      <a:lnTo>
                        <a:pt x="227" y="711"/>
                      </a:lnTo>
                      <a:lnTo>
                        <a:pt x="192" y="726"/>
                      </a:lnTo>
                      <a:lnTo>
                        <a:pt x="167" y="754"/>
                      </a:lnTo>
                      <a:lnTo>
                        <a:pt x="147" y="775"/>
                      </a:lnTo>
                      <a:lnTo>
                        <a:pt x="121" y="770"/>
                      </a:lnTo>
                      <a:lnTo>
                        <a:pt x="106" y="756"/>
                      </a:lnTo>
                      <a:lnTo>
                        <a:pt x="94" y="719"/>
                      </a:lnTo>
                      <a:lnTo>
                        <a:pt x="117" y="703"/>
                      </a:lnTo>
                      <a:lnTo>
                        <a:pt x="167" y="679"/>
                      </a:lnTo>
                      <a:lnTo>
                        <a:pt x="197" y="672"/>
                      </a:lnTo>
                      <a:lnTo>
                        <a:pt x="200" y="660"/>
                      </a:lnTo>
                      <a:lnTo>
                        <a:pt x="185" y="635"/>
                      </a:lnTo>
                      <a:lnTo>
                        <a:pt x="159" y="575"/>
                      </a:lnTo>
                      <a:lnTo>
                        <a:pt x="124" y="494"/>
                      </a:lnTo>
                      <a:lnTo>
                        <a:pt x="91" y="390"/>
                      </a:lnTo>
                      <a:lnTo>
                        <a:pt x="55" y="286"/>
                      </a:lnTo>
                      <a:lnTo>
                        <a:pt x="30" y="190"/>
                      </a:lnTo>
                      <a:lnTo>
                        <a:pt x="16" y="126"/>
                      </a:lnTo>
                      <a:lnTo>
                        <a:pt x="0" y="65"/>
                      </a:lnTo>
                      <a:lnTo>
                        <a:pt x="2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272360" y="4392000"/>
                  <a:ext cx="93600" cy="321840"/>
                </a:xfrm>
                <a:custGeom>
                  <a:avLst/>
                  <a:gdLst/>
                  <a:ahLst/>
                  <a:rect l="l" t="t" r="r" b="b"/>
                  <a:pathLst>
                    <a:path w="206" h="749">
                      <a:moveTo>
                        <a:pt x="61" y="149"/>
                      </a:moveTo>
                      <a:lnTo>
                        <a:pt x="81" y="37"/>
                      </a:lnTo>
                      <a:lnTo>
                        <a:pt x="122" y="0"/>
                      </a:lnTo>
                      <a:lnTo>
                        <a:pt x="153" y="30"/>
                      </a:lnTo>
                      <a:lnTo>
                        <a:pt x="167" y="60"/>
                      </a:lnTo>
                      <a:lnTo>
                        <a:pt x="144" y="111"/>
                      </a:lnTo>
                      <a:lnTo>
                        <a:pt x="127" y="194"/>
                      </a:lnTo>
                      <a:lnTo>
                        <a:pt x="119" y="277"/>
                      </a:lnTo>
                      <a:lnTo>
                        <a:pt x="112" y="364"/>
                      </a:lnTo>
                      <a:lnTo>
                        <a:pt x="122" y="425"/>
                      </a:lnTo>
                      <a:lnTo>
                        <a:pt x="142" y="504"/>
                      </a:lnTo>
                      <a:lnTo>
                        <a:pt x="165" y="573"/>
                      </a:lnTo>
                      <a:lnTo>
                        <a:pt x="188" y="647"/>
                      </a:lnTo>
                      <a:lnTo>
                        <a:pt x="199" y="675"/>
                      </a:lnTo>
                      <a:lnTo>
                        <a:pt x="206" y="692"/>
                      </a:lnTo>
                      <a:lnTo>
                        <a:pt x="199" y="719"/>
                      </a:lnTo>
                      <a:lnTo>
                        <a:pt x="183" y="729"/>
                      </a:lnTo>
                      <a:lnTo>
                        <a:pt x="135" y="722"/>
                      </a:lnTo>
                      <a:lnTo>
                        <a:pt x="76" y="729"/>
                      </a:lnTo>
                      <a:lnTo>
                        <a:pt x="45" y="743"/>
                      </a:lnTo>
                      <a:lnTo>
                        <a:pt x="15" y="749"/>
                      </a:lnTo>
                      <a:lnTo>
                        <a:pt x="0" y="729"/>
                      </a:lnTo>
                      <a:lnTo>
                        <a:pt x="43" y="682"/>
                      </a:lnTo>
                      <a:lnTo>
                        <a:pt x="84" y="677"/>
                      </a:lnTo>
                      <a:lnTo>
                        <a:pt x="137" y="677"/>
                      </a:lnTo>
                      <a:lnTo>
                        <a:pt x="158" y="677"/>
                      </a:lnTo>
                      <a:lnTo>
                        <a:pt x="160" y="653"/>
                      </a:lnTo>
                      <a:lnTo>
                        <a:pt x="142" y="600"/>
                      </a:lnTo>
                      <a:lnTo>
                        <a:pt x="99" y="504"/>
                      </a:lnTo>
                      <a:lnTo>
                        <a:pt x="74" y="425"/>
                      </a:lnTo>
                      <a:lnTo>
                        <a:pt x="61" y="344"/>
                      </a:lnTo>
                      <a:lnTo>
                        <a:pt x="53" y="270"/>
                      </a:lnTo>
                      <a:lnTo>
                        <a:pt x="53" y="201"/>
                      </a:lnTo>
                      <a:lnTo>
                        <a:pt x="61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6780960" y="4469760"/>
                <a:ext cx="396000" cy="388800"/>
                <a:chOff x="6780960" y="4469760"/>
                <a:chExt cx="396000" cy="388800"/>
              </a:xfrm>
            </p:grpSpPr>
            <p:sp>
              <p:nvSpPr>
                <p:cNvPr id="227" name=""/>
                <p:cNvSpPr/>
                <p:nvPr/>
              </p:nvSpPr>
              <p:spPr>
                <a:xfrm rot="18901200">
                  <a:off x="6890400" y="4479120"/>
                  <a:ext cx="161640" cy="377280"/>
                </a:xfrm>
                <a:custGeom>
                  <a:avLst/>
                  <a:gdLst/>
                  <a:ahLst/>
                  <a:rect l="l" t="t" r="r" b="b"/>
                  <a:pathLst>
                    <a:path w="358" h="878">
                      <a:moveTo>
                        <a:pt x="40" y="572"/>
                      </a:moveTo>
                      <a:lnTo>
                        <a:pt x="50" y="531"/>
                      </a:lnTo>
                      <a:lnTo>
                        <a:pt x="45" y="468"/>
                      </a:lnTo>
                      <a:lnTo>
                        <a:pt x="50" y="420"/>
                      </a:lnTo>
                      <a:lnTo>
                        <a:pt x="65" y="387"/>
                      </a:lnTo>
                      <a:lnTo>
                        <a:pt x="62" y="332"/>
                      </a:lnTo>
                      <a:lnTo>
                        <a:pt x="85" y="272"/>
                      </a:lnTo>
                      <a:lnTo>
                        <a:pt x="78" y="250"/>
                      </a:lnTo>
                      <a:lnTo>
                        <a:pt x="58" y="192"/>
                      </a:lnTo>
                      <a:lnTo>
                        <a:pt x="61" y="172"/>
                      </a:lnTo>
                      <a:lnTo>
                        <a:pt x="77" y="137"/>
                      </a:lnTo>
                      <a:lnTo>
                        <a:pt x="104" y="82"/>
                      </a:lnTo>
                      <a:lnTo>
                        <a:pt x="128" y="132"/>
                      </a:lnTo>
                      <a:lnTo>
                        <a:pt x="155" y="210"/>
                      </a:lnTo>
                      <a:lnTo>
                        <a:pt x="160" y="326"/>
                      </a:lnTo>
                      <a:lnTo>
                        <a:pt x="166" y="430"/>
                      </a:lnTo>
                      <a:lnTo>
                        <a:pt x="163" y="502"/>
                      </a:lnTo>
                      <a:lnTo>
                        <a:pt x="155" y="576"/>
                      </a:lnTo>
                      <a:lnTo>
                        <a:pt x="143" y="666"/>
                      </a:lnTo>
                      <a:lnTo>
                        <a:pt x="133" y="736"/>
                      </a:lnTo>
                      <a:lnTo>
                        <a:pt x="144" y="752"/>
                      </a:lnTo>
                      <a:lnTo>
                        <a:pt x="151" y="756"/>
                      </a:lnTo>
                      <a:lnTo>
                        <a:pt x="274" y="878"/>
                      </a:lnTo>
                      <a:lnTo>
                        <a:pt x="358" y="743"/>
                      </a:lnTo>
                      <a:lnTo>
                        <a:pt x="318" y="616"/>
                      </a:lnTo>
                      <a:lnTo>
                        <a:pt x="285" y="452"/>
                      </a:lnTo>
                      <a:lnTo>
                        <a:pt x="248" y="264"/>
                      </a:lnTo>
                      <a:lnTo>
                        <a:pt x="207" y="96"/>
                      </a:lnTo>
                      <a:lnTo>
                        <a:pt x="186" y="28"/>
                      </a:lnTo>
                      <a:lnTo>
                        <a:pt x="166" y="3"/>
                      </a:lnTo>
                      <a:lnTo>
                        <a:pt x="132" y="0"/>
                      </a:lnTo>
                      <a:lnTo>
                        <a:pt x="100" y="11"/>
                      </a:lnTo>
                      <a:lnTo>
                        <a:pt x="90" y="46"/>
                      </a:lnTo>
                      <a:lnTo>
                        <a:pt x="77" y="67"/>
                      </a:lnTo>
                      <a:lnTo>
                        <a:pt x="53" y="108"/>
                      </a:lnTo>
                      <a:lnTo>
                        <a:pt x="42" y="136"/>
                      </a:lnTo>
                      <a:lnTo>
                        <a:pt x="45" y="192"/>
                      </a:lnTo>
                      <a:lnTo>
                        <a:pt x="53" y="242"/>
                      </a:lnTo>
                      <a:lnTo>
                        <a:pt x="50" y="264"/>
                      </a:lnTo>
                      <a:lnTo>
                        <a:pt x="42" y="289"/>
                      </a:lnTo>
                      <a:lnTo>
                        <a:pt x="38" y="313"/>
                      </a:lnTo>
                      <a:lnTo>
                        <a:pt x="57" y="360"/>
                      </a:lnTo>
                      <a:lnTo>
                        <a:pt x="61" y="382"/>
                      </a:lnTo>
                      <a:lnTo>
                        <a:pt x="42" y="404"/>
                      </a:lnTo>
                      <a:lnTo>
                        <a:pt x="12" y="440"/>
                      </a:lnTo>
                      <a:lnTo>
                        <a:pt x="4" y="473"/>
                      </a:lnTo>
                      <a:lnTo>
                        <a:pt x="0" y="512"/>
                      </a:lnTo>
                      <a:lnTo>
                        <a:pt x="19" y="546"/>
                      </a:lnTo>
                      <a:lnTo>
                        <a:pt x="40" y="572"/>
                      </a:lnTo>
                      <a:close/>
                    </a:path>
                  </a:pathLst>
                </a:custGeom>
                <a:solidFill>
                  <a:srgbClr val="99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6795720" y="4469760"/>
                  <a:ext cx="381240" cy="369360"/>
                  <a:chOff x="6795720" y="4469760"/>
                  <a:chExt cx="381240" cy="369360"/>
                </a:xfrm>
              </p:grpSpPr>
              <p:grpSp>
                <p:nvGrpSpPr>
                  <p:cNvPr id="229" name=""/>
                  <p:cNvGrpSpPr/>
                  <p:nvPr/>
                </p:nvGrpSpPr>
                <p:grpSpPr>
                  <a:xfrm>
                    <a:off x="6807960" y="4469760"/>
                    <a:ext cx="369000" cy="369360"/>
                    <a:chOff x="6807960" y="4469760"/>
                    <a:chExt cx="369000" cy="369360"/>
                  </a:xfrm>
                </p:grpSpPr>
                <p:sp>
                  <p:nvSpPr>
                    <p:cNvPr id="230" name=""/>
                    <p:cNvSpPr/>
                    <p:nvPr/>
                  </p:nvSpPr>
                  <p:spPr>
                    <a:xfrm rot="18901200">
                      <a:off x="6925320" y="4460400"/>
                      <a:ext cx="134280" cy="38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901">
                          <a:moveTo>
                            <a:pt x="12" y="35"/>
                          </a:moveTo>
                          <a:lnTo>
                            <a:pt x="21" y="12"/>
                          </a:lnTo>
                          <a:lnTo>
                            <a:pt x="39" y="4"/>
                          </a:lnTo>
                          <a:lnTo>
                            <a:pt x="70" y="0"/>
                          </a:lnTo>
                          <a:lnTo>
                            <a:pt x="107" y="9"/>
                          </a:lnTo>
                          <a:lnTo>
                            <a:pt x="128" y="33"/>
                          </a:lnTo>
                          <a:lnTo>
                            <a:pt x="160" y="164"/>
                          </a:lnTo>
                          <a:lnTo>
                            <a:pt x="198" y="337"/>
                          </a:lnTo>
                          <a:lnTo>
                            <a:pt x="223" y="477"/>
                          </a:lnTo>
                          <a:lnTo>
                            <a:pt x="251" y="618"/>
                          </a:lnTo>
                          <a:lnTo>
                            <a:pt x="272" y="690"/>
                          </a:lnTo>
                          <a:lnTo>
                            <a:pt x="297" y="761"/>
                          </a:lnTo>
                          <a:lnTo>
                            <a:pt x="203" y="901"/>
                          </a:lnTo>
                          <a:lnTo>
                            <a:pt x="186" y="859"/>
                          </a:lnTo>
                          <a:lnTo>
                            <a:pt x="264" y="748"/>
                          </a:lnTo>
                          <a:lnTo>
                            <a:pt x="231" y="632"/>
                          </a:lnTo>
                          <a:lnTo>
                            <a:pt x="214" y="539"/>
                          </a:lnTo>
                          <a:lnTo>
                            <a:pt x="190" y="421"/>
                          </a:lnTo>
                          <a:lnTo>
                            <a:pt x="160" y="265"/>
                          </a:lnTo>
                          <a:lnTo>
                            <a:pt x="140" y="164"/>
                          </a:lnTo>
                          <a:lnTo>
                            <a:pt x="116" y="82"/>
                          </a:lnTo>
                          <a:lnTo>
                            <a:pt x="103" y="37"/>
                          </a:lnTo>
                          <a:lnTo>
                            <a:pt x="78" y="17"/>
                          </a:lnTo>
                          <a:lnTo>
                            <a:pt x="42" y="19"/>
                          </a:lnTo>
                          <a:lnTo>
                            <a:pt x="23" y="43"/>
                          </a:lnTo>
                          <a:lnTo>
                            <a:pt x="16" y="64"/>
                          </a:lnTo>
                          <a:lnTo>
                            <a:pt x="0" y="53"/>
                          </a:lnTo>
                          <a:lnTo>
                            <a:pt x="12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" name=""/>
                    <p:cNvSpPr/>
                    <p:nvPr/>
                  </p:nvSpPr>
                  <p:spPr>
                    <a:xfrm rot="18901200">
                      <a:off x="6935400" y="4474080"/>
                      <a:ext cx="108720" cy="37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881">
                          <a:moveTo>
                            <a:pt x="11" y="0"/>
                          </a:moveTo>
                          <a:lnTo>
                            <a:pt x="2" y="28"/>
                          </a:lnTo>
                          <a:lnTo>
                            <a:pt x="0" y="56"/>
                          </a:lnTo>
                          <a:lnTo>
                            <a:pt x="26" y="105"/>
                          </a:lnTo>
                          <a:lnTo>
                            <a:pt x="50" y="164"/>
                          </a:lnTo>
                          <a:lnTo>
                            <a:pt x="62" y="226"/>
                          </a:lnTo>
                          <a:lnTo>
                            <a:pt x="71" y="309"/>
                          </a:lnTo>
                          <a:lnTo>
                            <a:pt x="75" y="426"/>
                          </a:lnTo>
                          <a:lnTo>
                            <a:pt x="71" y="524"/>
                          </a:lnTo>
                          <a:lnTo>
                            <a:pt x="54" y="627"/>
                          </a:lnTo>
                          <a:lnTo>
                            <a:pt x="39" y="735"/>
                          </a:lnTo>
                          <a:lnTo>
                            <a:pt x="141" y="837"/>
                          </a:lnTo>
                          <a:lnTo>
                            <a:pt x="194" y="881"/>
                          </a:lnTo>
                          <a:lnTo>
                            <a:pt x="202" y="837"/>
                          </a:lnTo>
                          <a:lnTo>
                            <a:pt x="187" y="837"/>
                          </a:lnTo>
                          <a:lnTo>
                            <a:pt x="182" y="838"/>
                          </a:lnTo>
                          <a:lnTo>
                            <a:pt x="132" y="792"/>
                          </a:lnTo>
                          <a:lnTo>
                            <a:pt x="241" y="655"/>
                          </a:lnTo>
                          <a:lnTo>
                            <a:pt x="229" y="624"/>
                          </a:lnTo>
                          <a:lnTo>
                            <a:pt x="113" y="772"/>
                          </a:lnTo>
                          <a:lnTo>
                            <a:pt x="63" y="723"/>
                          </a:lnTo>
                          <a:lnTo>
                            <a:pt x="219" y="561"/>
                          </a:lnTo>
                          <a:lnTo>
                            <a:pt x="214" y="530"/>
                          </a:lnTo>
                          <a:lnTo>
                            <a:pt x="63" y="686"/>
                          </a:lnTo>
                          <a:lnTo>
                            <a:pt x="88" y="546"/>
                          </a:lnTo>
                          <a:lnTo>
                            <a:pt x="194" y="436"/>
                          </a:lnTo>
                          <a:lnTo>
                            <a:pt x="187" y="399"/>
                          </a:lnTo>
                          <a:lnTo>
                            <a:pt x="84" y="512"/>
                          </a:lnTo>
                          <a:lnTo>
                            <a:pt x="93" y="422"/>
                          </a:lnTo>
                          <a:lnTo>
                            <a:pt x="170" y="324"/>
                          </a:lnTo>
                          <a:lnTo>
                            <a:pt x="170" y="331"/>
                          </a:lnTo>
                          <a:lnTo>
                            <a:pt x="166" y="300"/>
                          </a:lnTo>
                          <a:lnTo>
                            <a:pt x="92" y="382"/>
                          </a:lnTo>
                          <a:lnTo>
                            <a:pt x="84" y="280"/>
                          </a:lnTo>
                          <a:lnTo>
                            <a:pt x="153" y="224"/>
                          </a:lnTo>
                          <a:lnTo>
                            <a:pt x="148" y="190"/>
                          </a:lnTo>
                          <a:lnTo>
                            <a:pt x="84" y="250"/>
                          </a:lnTo>
                          <a:lnTo>
                            <a:pt x="74" y="175"/>
                          </a:lnTo>
                          <a:lnTo>
                            <a:pt x="132" y="126"/>
                          </a:lnTo>
                          <a:lnTo>
                            <a:pt x="128" y="97"/>
                          </a:lnTo>
                          <a:lnTo>
                            <a:pt x="67" y="157"/>
                          </a:lnTo>
                          <a:lnTo>
                            <a:pt x="46" y="105"/>
                          </a:lnTo>
                          <a:lnTo>
                            <a:pt x="108" y="34"/>
                          </a:lnTo>
                          <a:lnTo>
                            <a:pt x="97" y="12"/>
                          </a:lnTo>
                          <a:lnTo>
                            <a:pt x="38" y="79"/>
                          </a:lnTo>
                          <a:lnTo>
                            <a:pt x="19" y="44"/>
                          </a:lnTo>
                          <a:lnTo>
                            <a:pt x="19" y="16"/>
                          </a:lnTo>
                          <a:lnTo>
                            <a:pt x="14" y="19"/>
                          </a:lnTo>
                          <a:lnTo>
                            <a:pt x="1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"/>
                  <p:cNvSpPr/>
                  <p:nvPr/>
                </p:nvSpPr>
                <p:spPr>
                  <a:xfrm rot="18901200">
                    <a:off x="6873120" y="4555440"/>
                    <a:ext cx="4464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551">
                        <a:moveTo>
                          <a:pt x="87" y="0"/>
                        </a:moveTo>
                        <a:lnTo>
                          <a:pt x="87" y="10"/>
                        </a:lnTo>
                        <a:lnTo>
                          <a:pt x="85" y="15"/>
                        </a:lnTo>
                        <a:lnTo>
                          <a:pt x="79" y="23"/>
                        </a:lnTo>
                        <a:lnTo>
                          <a:pt x="74" y="31"/>
                        </a:lnTo>
                        <a:lnTo>
                          <a:pt x="70" y="38"/>
                        </a:lnTo>
                        <a:lnTo>
                          <a:pt x="66" y="45"/>
                        </a:lnTo>
                        <a:lnTo>
                          <a:pt x="62" y="50"/>
                        </a:lnTo>
                        <a:lnTo>
                          <a:pt x="57" y="56"/>
                        </a:lnTo>
                        <a:lnTo>
                          <a:pt x="54" y="62"/>
                        </a:lnTo>
                        <a:lnTo>
                          <a:pt x="53" y="68"/>
                        </a:lnTo>
                        <a:lnTo>
                          <a:pt x="49" y="76"/>
                        </a:lnTo>
                        <a:lnTo>
                          <a:pt x="46" y="82"/>
                        </a:lnTo>
                        <a:lnTo>
                          <a:pt x="46" y="88"/>
                        </a:lnTo>
                        <a:lnTo>
                          <a:pt x="45" y="93"/>
                        </a:lnTo>
                        <a:lnTo>
                          <a:pt x="45" y="101"/>
                        </a:lnTo>
                        <a:lnTo>
                          <a:pt x="42" y="109"/>
                        </a:lnTo>
                        <a:lnTo>
                          <a:pt x="42" y="117"/>
                        </a:lnTo>
                        <a:lnTo>
                          <a:pt x="42" y="125"/>
                        </a:lnTo>
                        <a:lnTo>
                          <a:pt x="42" y="132"/>
                        </a:lnTo>
                        <a:lnTo>
                          <a:pt x="42" y="137"/>
                        </a:lnTo>
                        <a:lnTo>
                          <a:pt x="42" y="142"/>
                        </a:lnTo>
                        <a:lnTo>
                          <a:pt x="45" y="148"/>
                        </a:lnTo>
                        <a:lnTo>
                          <a:pt x="45" y="156"/>
                        </a:lnTo>
                        <a:lnTo>
                          <a:pt x="45" y="163"/>
                        </a:lnTo>
                        <a:lnTo>
                          <a:pt x="46" y="171"/>
                        </a:lnTo>
                        <a:lnTo>
                          <a:pt x="46" y="179"/>
                        </a:lnTo>
                        <a:lnTo>
                          <a:pt x="46" y="187"/>
                        </a:lnTo>
                        <a:lnTo>
                          <a:pt x="46" y="194"/>
                        </a:lnTo>
                        <a:lnTo>
                          <a:pt x="46" y="199"/>
                        </a:lnTo>
                        <a:lnTo>
                          <a:pt x="46" y="206"/>
                        </a:lnTo>
                        <a:lnTo>
                          <a:pt x="49" y="211"/>
                        </a:lnTo>
                        <a:lnTo>
                          <a:pt x="49" y="219"/>
                        </a:lnTo>
                        <a:lnTo>
                          <a:pt x="49" y="226"/>
                        </a:lnTo>
                        <a:lnTo>
                          <a:pt x="46" y="230"/>
                        </a:lnTo>
                        <a:lnTo>
                          <a:pt x="41" y="238"/>
                        </a:lnTo>
                        <a:lnTo>
                          <a:pt x="38" y="244"/>
                        </a:lnTo>
                        <a:lnTo>
                          <a:pt x="38" y="252"/>
                        </a:lnTo>
                        <a:lnTo>
                          <a:pt x="38" y="260"/>
                        </a:lnTo>
                        <a:lnTo>
                          <a:pt x="37" y="268"/>
                        </a:lnTo>
                        <a:lnTo>
                          <a:pt x="37" y="276"/>
                        </a:lnTo>
                        <a:lnTo>
                          <a:pt x="37" y="284"/>
                        </a:lnTo>
                        <a:lnTo>
                          <a:pt x="42" y="292"/>
                        </a:lnTo>
                        <a:lnTo>
                          <a:pt x="45" y="297"/>
                        </a:lnTo>
                        <a:lnTo>
                          <a:pt x="46" y="304"/>
                        </a:lnTo>
                        <a:lnTo>
                          <a:pt x="50" y="309"/>
                        </a:lnTo>
                        <a:lnTo>
                          <a:pt x="53" y="317"/>
                        </a:lnTo>
                        <a:lnTo>
                          <a:pt x="57" y="323"/>
                        </a:lnTo>
                        <a:lnTo>
                          <a:pt x="57" y="330"/>
                        </a:lnTo>
                        <a:lnTo>
                          <a:pt x="58" y="335"/>
                        </a:lnTo>
                        <a:lnTo>
                          <a:pt x="57" y="342"/>
                        </a:lnTo>
                        <a:lnTo>
                          <a:pt x="53" y="347"/>
                        </a:lnTo>
                        <a:lnTo>
                          <a:pt x="46" y="351"/>
                        </a:lnTo>
                        <a:lnTo>
                          <a:pt x="41" y="354"/>
                        </a:lnTo>
                        <a:lnTo>
                          <a:pt x="34" y="355"/>
                        </a:lnTo>
                        <a:lnTo>
                          <a:pt x="29" y="359"/>
                        </a:lnTo>
                        <a:lnTo>
                          <a:pt x="25" y="366"/>
                        </a:lnTo>
                        <a:lnTo>
                          <a:pt x="19" y="374"/>
                        </a:lnTo>
                        <a:lnTo>
                          <a:pt x="15" y="379"/>
                        </a:lnTo>
                        <a:lnTo>
                          <a:pt x="11" y="387"/>
                        </a:lnTo>
                        <a:lnTo>
                          <a:pt x="8" y="395"/>
                        </a:lnTo>
                        <a:lnTo>
                          <a:pt x="7" y="401"/>
                        </a:lnTo>
                        <a:lnTo>
                          <a:pt x="4" y="407"/>
                        </a:lnTo>
                        <a:lnTo>
                          <a:pt x="4" y="412"/>
                        </a:lnTo>
                        <a:lnTo>
                          <a:pt x="4" y="417"/>
                        </a:lnTo>
                        <a:lnTo>
                          <a:pt x="4" y="428"/>
                        </a:lnTo>
                        <a:lnTo>
                          <a:pt x="4" y="436"/>
                        </a:lnTo>
                        <a:lnTo>
                          <a:pt x="4" y="441"/>
                        </a:lnTo>
                        <a:lnTo>
                          <a:pt x="3" y="448"/>
                        </a:lnTo>
                        <a:lnTo>
                          <a:pt x="0" y="456"/>
                        </a:lnTo>
                        <a:lnTo>
                          <a:pt x="0" y="464"/>
                        </a:lnTo>
                        <a:lnTo>
                          <a:pt x="0" y="469"/>
                        </a:lnTo>
                        <a:lnTo>
                          <a:pt x="3" y="479"/>
                        </a:lnTo>
                        <a:lnTo>
                          <a:pt x="7" y="487"/>
                        </a:lnTo>
                        <a:lnTo>
                          <a:pt x="7" y="495"/>
                        </a:lnTo>
                        <a:lnTo>
                          <a:pt x="11" y="505"/>
                        </a:lnTo>
                        <a:lnTo>
                          <a:pt x="15" y="510"/>
                        </a:lnTo>
                        <a:lnTo>
                          <a:pt x="19" y="519"/>
                        </a:lnTo>
                        <a:lnTo>
                          <a:pt x="25" y="527"/>
                        </a:lnTo>
                        <a:lnTo>
                          <a:pt x="30" y="534"/>
                        </a:lnTo>
                        <a:lnTo>
                          <a:pt x="34" y="539"/>
                        </a:lnTo>
                        <a:lnTo>
                          <a:pt x="41" y="543"/>
                        </a:lnTo>
                        <a:lnTo>
                          <a:pt x="45" y="550"/>
                        </a:lnTo>
                        <a:lnTo>
                          <a:pt x="50" y="551"/>
                        </a:lnTo>
                        <a:lnTo>
                          <a:pt x="58" y="551"/>
                        </a:lnTo>
                        <a:lnTo>
                          <a:pt x="65" y="551"/>
                        </a:lnTo>
                        <a:lnTo>
                          <a:pt x="69" y="546"/>
                        </a:lnTo>
                        <a:lnTo>
                          <a:pt x="69" y="539"/>
                        </a:lnTo>
                        <a:lnTo>
                          <a:pt x="69" y="534"/>
                        </a:lnTo>
                        <a:lnTo>
                          <a:pt x="65" y="527"/>
                        </a:lnTo>
                        <a:lnTo>
                          <a:pt x="57" y="522"/>
                        </a:lnTo>
                        <a:lnTo>
                          <a:pt x="53" y="515"/>
                        </a:lnTo>
                        <a:lnTo>
                          <a:pt x="49" y="510"/>
                        </a:lnTo>
                        <a:lnTo>
                          <a:pt x="42" y="506"/>
                        </a:lnTo>
                        <a:lnTo>
                          <a:pt x="34" y="501"/>
                        </a:lnTo>
                        <a:lnTo>
                          <a:pt x="30" y="495"/>
                        </a:lnTo>
                        <a:lnTo>
                          <a:pt x="29" y="489"/>
                        </a:lnTo>
                        <a:lnTo>
                          <a:pt x="25" y="483"/>
                        </a:lnTo>
                        <a:lnTo>
                          <a:pt x="24" y="477"/>
                        </a:lnTo>
                        <a:lnTo>
                          <a:pt x="23" y="472"/>
                        </a:lnTo>
                        <a:lnTo>
                          <a:pt x="19" y="464"/>
                        </a:lnTo>
                        <a:lnTo>
                          <a:pt x="19" y="456"/>
                        </a:lnTo>
                        <a:lnTo>
                          <a:pt x="19" y="448"/>
                        </a:lnTo>
                        <a:lnTo>
                          <a:pt x="19" y="441"/>
                        </a:lnTo>
                        <a:lnTo>
                          <a:pt x="20" y="436"/>
                        </a:lnTo>
                        <a:lnTo>
                          <a:pt x="25" y="428"/>
                        </a:lnTo>
                        <a:lnTo>
                          <a:pt x="25" y="421"/>
                        </a:lnTo>
                        <a:lnTo>
                          <a:pt x="29" y="416"/>
                        </a:lnTo>
                        <a:lnTo>
                          <a:pt x="33" y="411"/>
                        </a:lnTo>
                        <a:lnTo>
                          <a:pt x="34" y="403"/>
                        </a:lnTo>
                        <a:lnTo>
                          <a:pt x="37" y="397"/>
                        </a:lnTo>
                        <a:lnTo>
                          <a:pt x="38" y="391"/>
                        </a:lnTo>
                        <a:lnTo>
                          <a:pt x="42" y="383"/>
                        </a:lnTo>
                        <a:lnTo>
                          <a:pt x="49" y="379"/>
                        </a:lnTo>
                        <a:lnTo>
                          <a:pt x="54" y="371"/>
                        </a:lnTo>
                        <a:lnTo>
                          <a:pt x="58" y="366"/>
                        </a:lnTo>
                        <a:lnTo>
                          <a:pt x="65" y="359"/>
                        </a:lnTo>
                        <a:lnTo>
                          <a:pt x="66" y="354"/>
                        </a:lnTo>
                        <a:lnTo>
                          <a:pt x="69" y="347"/>
                        </a:lnTo>
                        <a:lnTo>
                          <a:pt x="73" y="342"/>
                        </a:lnTo>
                        <a:lnTo>
                          <a:pt x="74" y="335"/>
                        </a:lnTo>
                        <a:lnTo>
                          <a:pt x="74" y="330"/>
                        </a:lnTo>
                        <a:lnTo>
                          <a:pt x="74" y="322"/>
                        </a:lnTo>
                        <a:lnTo>
                          <a:pt x="73" y="317"/>
                        </a:lnTo>
                        <a:lnTo>
                          <a:pt x="73" y="312"/>
                        </a:lnTo>
                        <a:lnTo>
                          <a:pt x="73" y="305"/>
                        </a:lnTo>
                        <a:lnTo>
                          <a:pt x="70" y="300"/>
                        </a:lnTo>
                        <a:lnTo>
                          <a:pt x="69" y="293"/>
                        </a:lnTo>
                        <a:lnTo>
                          <a:pt x="66" y="288"/>
                        </a:lnTo>
                        <a:lnTo>
                          <a:pt x="65" y="280"/>
                        </a:lnTo>
                        <a:lnTo>
                          <a:pt x="61" y="273"/>
                        </a:lnTo>
                        <a:lnTo>
                          <a:pt x="61" y="265"/>
                        </a:lnTo>
                        <a:lnTo>
                          <a:pt x="58" y="260"/>
                        </a:lnTo>
                        <a:lnTo>
                          <a:pt x="61" y="252"/>
                        </a:lnTo>
                        <a:lnTo>
                          <a:pt x="65" y="245"/>
                        </a:lnTo>
                        <a:lnTo>
                          <a:pt x="65" y="240"/>
                        </a:lnTo>
                        <a:lnTo>
                          <a:pt x="69" y="234"/>
                        </a:lnTo>
                        <a:lnTo>
                          <a:pt x="70" y="227"/>
                        </a:lnTo>
                        <a:lnTo>
                          <a:pt x="73" y="219"/>
                        </a:lnTo>
                        <a:lnTo>
                          <a:pt x="73" y="211"/>
                        </a:lnTo>
                        <a:lnTo>
                          <a:pt x="73" y="206"/>
                        </a:lnTo>
                        <a:lnTo>
                          <a:pt x="73" y="199"/>
                        </a:lnTo>
                        <a:lnTo>
                          <a:pt x="70" y="194"/>
                        </a:lnTo>
                        <a:lnTo>
                          <a:pt x="69" y="183"/>
                        </a:lnTo>
                        <a:lnTo>
                          <a:pt x="69" y="174"/>
                        </a:lnTo>
                        <a:lnTo>
                          <a:pt x="69" y="166"/>
                        </a:lnTo>
                        <a:lnTo>
                          <a:pt x="66" y="160"/>
                        </a:lnTo>
                        <a:lnTo>
                          <a:pt x="62" y="154"/>
                        </a:lnTo>
                        <a:lnTo>
                          <a:pt x="61" y="148"/>
                        </a:lnTo>
                        <a:lnTo>
                          <a:pt x="61" y="142"/>
                        </a:lnTo>
                        <a:lnTo>
                          <a:pt x="57" y="137"/>
                        </a:lnTo>
                        <a:lnTo>
                          <a:pt x="57" y="132"/>
                        </a:lnTo>
                        <a:lnTo>
                          <a:pt x="57" y="125"/>
                        </a:lnTo>
                        <a:lnTo>
                          <a:pt x="57" y="120"/>
                        </a:lnTo>
                        <a:lnTo>
                          <a:pt x="57" y="112"/>
                        </a:lnTo>
                        <a:lnTo>
                          <a:pt x="57" y="105"/>
                        </a:lnTo>
                        <a:lnTo>
                          <a:pt x="57" y="100"/>
                        </a:lnTo>
                        <a:lnTo>
                          <a:pt x="57" y="93"/>
                        </a:lnTo>
                        <a:lnTo>
                          <a:pt x="61" y="88"/>
                        </a:lnTo>
                        <a:lnTo>
                          <a:pt x="61" y="82"/>
                        </a:lnTo>
                        <a:lnTo>
                          <a:pt x="65" y="74"/>
                        </a:lnTo>
                        <a:lnTo>
                          <a:pt x="66" y="68"/>
                        </a:lnTo>
                        <a:lnTo>
                          <a:pt x="73" y="62"/>
                        </a:lnTo>
                        <a:lnTo>
                          <a:pt x="74" y="56"/>
                        </a:lnTo>
                        <a:lnTo>
                          <a:pt x="77" y="50"/>
                        </a:lnTo>
                        <a:lnTo>
                          <a:pt x="81" y="45"/>
                        </a:lnTo>
                        <a:lnTo>
                          <a:pt x="83" y="39"/>
                        </a:lnTo>
                        <a:lnTo>
                          <a:pt x="87" y="34"/>
                        </a:lnTo>
                        <a:lnTo>
                          <a:pt x="93" y="31"/>
                        </a:lnTo>
                        <a:lnTo>
                          <a:pt x="99" y="26"/>
                        </a:lnTo>
                        <a:lnTo>
                          <a:pt x="99" y="19"/>
                        </a:lnTo>
                        <a:lnTo>
                          <a:pt x="95" y="14"/>
                        </a:lnTo>
                        <a:lnTo>
                          <a:pt x="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18901200">
                    <a:off x="6888960" y="4556160"/>
                    <a:ext cx="3132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524">
                        <a:moveTo>
                          <a:pt x="63" y="12"/>
                        </a:moveTo>
                        <a:lnTo>
                          <a:pt x="63" y="20"/>
                        </a:lnTo>
                        <a:lnTo>
                          <a:pt x="64" y="31"/>
                        </a:lnTo>
                        <a:lnTo>
                          <a:pt x="67" y="36"/>
                        </a:lnTo>
                        <a:lnTo>
                          <a:pt x="67" y="43"/>
                        </a:lnTo>
                        <a:lnTo>
                          <a:pt x="67" y="51"/>
                        </a:lnTo>
                        <a:lnTo>
                          <a:pt x="63" y="56"/>
                        </a:lnTo>
                        <a:lnTo>
                          <a:pt x="59" y="63"/>
                        </a:lnTo>
                        <a:lnTo>
                          <a:pt x="55" y="68"/>
                        </a:lnTo>
                        <a:lnTo>
                          <a:pt x="51" y="74"/>
                        </a:lnTo>
                        <a:lnTo>
                          <a:pt x="51" y="81"/>
                        </a:lnTo>
                        <a:lnTo>
                          <a:pt x="49" y="86"/>
                        </a:lnTo>
                        <a:lnTo>
                          <a:pt x="45" y="93"/>
                        </a:lnTo>
                        <a:lnTo>
                          <a:pt x="41" y="98"/>
                        </a:lnTo>
                        <a:lnTo>
                          <a:pt x="38" y="105"/>
                        </a:lnTo>
                        <a:lnTo>
                          <a:pt x="37" y="110"/>
                        </a:lnTo>
                        <a:lnTo>
                          <a:pt x="37" y="117"/>
                        </a:lnTo>
                        <a:lnTo>
                          <a:pt x="34" y="125"/>
                        </a:lnTo>
                        <a:lnTo>
                          <a:pt x="34" y="130"/>
                        </a:lnTo>
                        <a:lnTo>
                          <a:pt x="37" y="138"/>
                        </a:lnTo>
                        <a:lnTo>
                          <a:pt x="38" y="144"/>
                        </a:lnTo>
                        <a:lnTo>
                          <a:pt x="38" y="150"/>
                        </a:lnTo>
                        <a:lnTo>
                          <a:pt x="41" y="155"/>
                        </a:lnTo>
                        <a:lnTo>
                          <a:pt x="42" y="160"/>
                        </a:lnTo>
                        <a:lnTo>
                          <a:pt x="46" y="168"/>
                        </a:lnTo>
                        <a:lnTo>
                          <a:pt x="50" y="179"/>
                        </a:lnTo>
                        <a:lnTo>
                          <a:pt x="51" y="187"/>
                        </a:lnTo>
                        <a:lnTo>
                          <a:pt x="53" y="192"/>
                        </a:lnTo>
                        <a:lnTo>
                          <a:pt x="55" y="200"/>
                        </a:lnTo>
                        <a:lnTo>
                          <a:pt x="55" y="208"/>
                        </a:lnTo>
                        <a:lnTo>
                          <a:pt x="55" y="215"/>
                        </a:lnTo>
                        <a:lnTo>
                          <a:pt x="55" y="222"/>
                        </a:lnTo>
                        <a:lnTo>
                          <a:pt x="53" y="226"/>
                        </a:lnTo>
                        <a:lnTo>
                          <a:pt x="53" y="233"/>
                        </a:lnTo>
                        <a:lnTo>
                          <a:pt x="51" y="238"/>
                        </a:lnTo>
                        <a:lnTo>
                          <a:pt x="50" y="245"/>
                        </a:lnTo>
                        <a:lnTo>
                          <a:pt x="46" y="250"/>
                        </a:lnTo>
                        <a:lnTo>
                          <a:pt x="45" y="258"/>
                        </a:lnTo>
                        <a:lnTo>
                          <a:pt x="45" y="266"/>
                        </a:lnTo>
                        <a:lnTo>
                          <a:pt x="42" y="273"/>
                        </a:lnTo>
                        <a:lnTo>
                          <a:pt x="38" y="281"/>
                        </a:lnTo>
                        <a:lnTo>
                          <a:pt x="38" y="286"/>
                        </a:lnTo>
                        <a:lnTo>
                          <a:pt x="38" y="293"/>
                        </a:lnTo>
                        <a:lnTo>
                          <a:pt x="41" y="298"/>
                        </a:lnTo>
                        <a:lnTo>
                          <a:pt x="41" y="303"/>
                        </a:lnTo>
                        <a:lnTo>
                          <a:pt x="45" y="311"/>
                        </a:lnTo>
                        <a:lnTo>
                          <a:pt x="45" y="316"/>
                        </a:lnTo>
                        <a:lnTo>
                          <a:pt x="45" y="323"/>
                        </a:lnTo>
                        <a:lnTo>
                          <a:pt x="45" y="328"/>
                        </a:lnTo>
                        <a:lnTo>
                          <a:pt x="45" y="335"/>
                        </a:lnTo>
                        <a:lnTo>
                          <a:pt x="45" y="340"/>
                        </a:lnTo>
                        <a:lnTo>
                          <a:pt x="41" y="347"/>
                        </a:lnTo>
                        <a:lnTo>
                          <a:pt x="38" y="352"/>
                        </a:lnTo>
                        <a:lnTo>
                          <a:pt x="37" y="359"/>
                        </a:lnTo>
                        <a:lnTo>
                          <a:pt x="33" y="364"/>
                        </a:lnTo>
                        <a:lnTo>
                          <a:pt x="29" y="372"/>
                        </a:lnTo>
                        <a:lnTo>
                          <a:pt x="29" y="377"/>
                        </a:lnTo>
                        <a:lnTo>
                          <a:pt x="22" y="381"/>
                        </a:lnTo>
                        <a:lnTo>
                          <a:pt x="22" y="386"/>
                        </a:lnTo>
                        <a:lnTo>
                          <a:pt x="21" y="393"/>
                        </a:lnTo>
                        <a:lnTo>
                          <a:pt x="21" y="398"/>
                        </a:lnTo>
                        <a:lnTo>
                          <a:pt x="21" y="406"/>
                        </a:lnTo>
                        <a:lnTo>
                          <a:pt x="21" y="413"/>
                        </a:lnTo>
                        <a:lnTo>
                          <a:pt x="21" y="421"/>
                        </a:lnTo>
                        <a:lnTo>
                          <a:pt x="21" y="430"/>
                        </a:lnTo>
                        <a:lnTo>
                          <a:pt x="21" y="437"/>
                        </a:lnTo>
                        <a:lnTo>
                          <a:pt x="22" y="442"/>
                        </a:lnTo>
                        <a:lnTo>
                          <a:pt x="25" y="449"/>
                        </a:lnTo>
                        <a:lnTo>
                          <a:pt x="26" y="455"/>
                        </a:lnTo>
                        <a:lnTo>
                          <a:pt x="26" y="460"/>
                        </a:lnTo>
                        <a:lnTo>
                          <a:pt x="30" y="467"/>
                        </a:lnTo>
                        <a:lnTo>
                          <a:pt x="30" y="472"/>
                        </a:lnTo>
                        <a:lnTo>
                          <a:pt x="30" y="480"/>
                        </a:lnTo>
                        <a:lnTo>
                          <a:pt x="26" y="488"/>
                        </a:lnTo>
                        <a:lnTo>
                          <a:pt x="25" y="495"/>
                        </a:lnTo>
                        <a:lnTo>
                          <a:pt x="25" y="500"/>
                        </a:lnTo>
                        <a:lnTo>
                          <a:pt x="21" y="507"/>
                        </a:lnTo>
                        <a:lnTo>
                          <a:pt x="21" y="515"/>
                        </a:lnTo>
                        <a:lnTo>
                          <a:pt x="16" y="520"/>
                        </a:lnTo>
                        <a:lnTo>
                          <a:pt x="10" y="524"/>
                        </a:lnTo>
                        <a:lnTo>
                          <a:pt x="4" y="519"/>
                        </a:lnTo>
                        <a:lnTo>
                          <a:pt x="2" y="512"/>
                        </a:lnTo>
                        <a:lnTo>
                          <a:pt x="0" y="507"/>
                        </a:lnTo>
                        <a:lnTo>
                          <a:pt x="2" y="500"/>
                        </a:lnTo>
                        <a:lnTo>
                          <a:pt x="6" y="495"/>
                        </a:lnTo>
                        <a:lnTo>
                          <a:pt x="6" y="488"/>
                        </a:lnTo>
                        <a:lnTo>
                          <a:pt x="10" y="483"/>
                        </a:lnTo>
                        <a:lnTo>
                          <a:pt x="14" y="476"/>
                        </a:lnTo>
                        <a:lnTo>
                          <a:pt x="14" y="471"/>
                        </a:lnTo>
                        <a:lnTo>
                          <a:pt x="14" y="464"/>
                        </a:lnTo>
                        <a:lnTo>
                          <a:pt x="14" y="459"/>
                        </a:lnTo>
                        <a:lnTo>
                          <a:pt x="14" y="451"/>
                        </a:lnTo>
                        <a:lnTo>
                          <a:pt x="10" y="446"/>
                        </a:lnTo>
                        <a:lnTo>
                          <a:pt x="10" y="441"/>
                        </a:lnTo>
                        <a:lnTo>
                          <a:pt x="10" y="434"/>
                        </a:lnTo>
                        <a:lnTo>
                          <a:pt x="6" y="426"/>
                        </a:lnTo>
                        <a:lnTo>
                          <a:pt x="6" y="418"/>
                        </a:lnTo>
                        <a:lnTo>
                          <a:pt x="6" y="413"/>
                        </a:lnTo>
                        <a:lnTo>
                          <a:pt x="6" y="405"/>
                        </a:lnTo>
                        <a:lnTo>
                          <a:pt x="6" y="397"/>
                        </a:lnTo>
                        <a:lnTo>
                          <a:pt x="6" y="390"/>
                        </a:lnTo>
                        <a:lnTo>
                          <a:pt x="8" y="385"/>
                        </a:lnTo>
                        <a:lnTo>
                          <a:pt x="8" y="378"/>
                        </a:lnTo>
                        <a:lnTo>
                          <a:pt x="8" y="375"/>
                        </a:lnTo>
                        <a:lnTo>
                          <a:pt x="10" y="368"/>
                        </a:lnTo>
                        <a:lnTo>
                          <a:pt x="10" y="363"/>
                        </a:lnTo>
                        <a:lnTo>
                          <a:pt x="14" y="356"/>
                        </a:lnTo>
                        <a:lnTo>
                          <a:pt x="14" y="351"/>
                        </a:lnTo>
                        <a:lnTo>
                          <a:pt x="17" y="344"/>
                        </a:lnTo>
                        <a:lnTo>
                          <a:pt x="21" y="339"/>
                        </a:lnTo>
                        <a:lnTo>
                          <a:pt x="22" y="332"/>
                        </a:lnTo>
                        <a:lnTo>
                          <a:pt x="26" y="327"/>
                        </a:lnTo>
                        <a:lnTo>
                          <a:pt x="30" y="320"/>
                        </a:lnTo>
                        <a:lnTo>
                          <a:pt x="30" y="315"/>
                        </a:lnTo>
                        <a:lnTo>
                          <a:pt x="29" y="308"/>
                        </a:lnTo>
                        <a:lnTo>
                          <a:pt x="25" y="303"/>
                        </a:lnTo>
                        <a:lnTo>
                          <a:pt x="22" y="298"/>
                        </a:lnTo>
                        <a:lnTo>
                          <a:pt x="21" y="293"/>
                        </a:lnTo>
                        <a:lnTo>
                          <a:pt x="18" y="286"/>
                        </a:lnTo>
                        <a:lnTo>
                          <a:pt x="18" y="281"/>
                        </a:lnTo>
                        <a:lnTo>
                          <a:pt x="18" y="274"/>
                        </a:lnTo>
                        <a:lnTo>
                          <a:pt x="18" y="269"/>
                        </a:lnTo>
                        <a:lnTo>
                          <a:pt x="21" y="261"/>
                        </a:lnTo>
                        <a:lnTo>
                          <a:pt x="25" y="254"/>
                        </a:lnTo>
                        <a:lnTo>
                          <a:pt x="30" y="249"/>
                        </a:lnTo>
                        <a:lnTo>
                          <a:pt x="33" y="242"/>
                        </a:lnTo>
                        <a:lnTo>
                          <a:pt x="37" y="233"/>
                        </a:lnTo>
                        <a:lnTo>
                          <a:pt x="38" y="226"/>
                        </a:lnTo>
                        <a:lnTo>
                          <a:pt x="41" y="222"/>
                        </a:lnTo>
                        <a:lnTo>
                          <a:pt x="41" y="216"/>
                        </a:lnTo>
                        <a:lnTo>
                          <a:pt x="41" y="211"/>
                        </a:lnTo>
                        <a:lnTo>
                          <a:pt x="42" y="204"/>
                        </a:lnTo>
                        <a:lnTo>
                          <a:pt x="42" y="199"/>
                        </a:lnTo>
                        <a:lnTo>
                          <a:pt x="42" y="192"/>
                        </a:lnTo>
                        <a:lnTo>
                          <a:pt x="41" y="187"/>
                        </a:lnTo>
                        <a:lnTo>
                          <a:pt x="37" y="180"/>
                        </a:lnTo>
                        <a:lnTo>
                          <a:pt x="34" y="175"/>
                        </a:lnTo>
                        <a:lnTo>
                          <a:pt x="33" y="168"/>
                        </a:lnTo>
                        <a:lnTo>
                          <a:pt x="30" y="163"/>
                        </a:lnTo>
                        <a:lnTo>
                          <a:pt x="26" y="156"/>
                        </a:lnTo>
                        <a:lnTo>
                          <a:pt x="25" y="150"/>
                        </a:lnTo>
                        <a:lnTo>
                          <a:pt x="21" y="144"/>
                        </a:lnTo>
                        <a:lnTo>
                          <a:pt x="21" y="138"/>
                        </a:lnTo>
                        <a:lnTo>
                          <a:pt x="21" y="133"/>
                        </a:lnTo>
                        <a:lnTo>
                          <a:pt x="21" y="126"/>
                        </a:lnTo>
                        <a:lnTo>
                          <a:pt x="21" y="121"/>
                        </a:lnTo>
                        <a:lnTo>
                          <a:pt x="21" y="114"/>
                        </a:lnTo>
                        <a:lnTo>
                          <a:pt x="25" y="109"/>
                        </a:lnTo>
                        <a:lnTo>
                          <a:pt x="26" y="102"/>
                        </a:lnTo>
                        <a:lnTo>
                          <a:pt x="30" y="94"/>
                        </a:lnTo>
                        <a:lnTo>
                          <a:pt x="33" y="89"/>
                        </a:lnTo>
                        <a:lnTo>
                          <a:pt x="34" y="82"/>
                        </a:lnTo>
                        <a:lnTo>
                          <a:pt x="37" y="76"/>
                        </a:lnTo>
                        <a:lnTo>
                          <a:pt x="38" y="70"/>
                        </a:lnTo>
                        <a:lnTo>
                          <a:pt x="41" y="64"/>
                        </a:lnTo>
                        <a:lnTo>
                          <a:pt x="45" y="59"/>
                        </a:lnTo>
                        <a:lnTo>
                          <a:pt x="45" y="52"/>
                        </a:lnTo>
                        <a:lnTo>
                          <a:pt x="49" y="47"/>
                        </a:lnTo>
                        <a:lnTo>
                          <a:pt x="50" y="40"/>
                        </a:lnTo>
                        <a:lnTo>
                          <a:pt x="50" y="35"/>
                        </a:lnTo>
                        <a:lnTo>
                          <a:pt x="51" y="28"/>
                        </a:lnTo>
                        <a:lnTo>
                          <a:pt x="51" y="23"/>
                        </a:lnTo>
                        <a:lnTo>
                          <a:pt x="51" y="16"/>
                        </a:lnTo>
                        <a:lnTo>
                          <a:pt x="51" y="11"/>
                        </a:lnTo>
                        <a:lnTo>
                          <a:pt x="51" y="4"/>
                        </a:lnTo>
                        <a:lnTo>
                          <a:pt x="57" y="0"/>
                        </a:lnTo>
                        <a:lnTo>
                          <a:pt x="63" y="3"/>
                        </a:lnTo>
                        <a:lnTo>
                          <a:pt x="6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7037280" y="4414320"/>
                <a:ext cx="158760" cy="386640"/>
                <a:chOff x="7037280" y="4414320"/>
                <a:chExt cx="158760" cy="386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7066800" y="4424400"/>
                  <a:ext cx="52920" cy="147240"/>
                </a:xfrm>
                <a:custGeom>
                  <a:avLst/>
                  <a:gdLst/>
                  <a:ahLst/>
                  <a:rect l="l" t="t" r="r" b="b"/>
                  <a:pathLst>
                    <a:path w="117" h="342">
                      <a:moveTo>
                        <a:pt x="94" y="342"/>
                      </a:moveTo>
                      <a:lnTo>
                        <a:pt x="31" y="178"/>
                      </a:lnTo>
                      <a:lnTo>
                        <a:pt x="8" y="105"/>
                      </a:lnTo>
                      <a:lnTo>
                        <a:pt x="0" y="42"/>
                      </a:lnTo>
                      <a:lnTo>
                        <a:pt x="32" y="0"/>
                      </a:lnTo>
                      <a:lnTo>
                        <a:pt x="78" y="35"/>
                      </a:lnTo>
                      <a:lnTo>
                        <a:pt x="98" y="84"/>
                      </a:lnTo>
                      <a:lnTo>
                        <a:pt x="117" y="164"/>
                      </a:lnTo>
                      <a:lnTo>
                        <a:pt x="113" y="268"/>
                      </a:lnTo>
                      <a:lnTo>
                        <a:pt x="94" y="342"/>
                      </a:lnTo>
                      <a:close/>
                    </a:path>
                  </a:pathLst>
                </a:custGeom>
                <a:solidFill>
                  <a:srgbClr val="00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039800" y="4420440"/>
                  <a:ext cx="149040" cy="372600"/>
                </a:xfrm>
                <a:custGeom>
                  <a:avLst/>
                  <a:gdLst/>
                  <a:ahLst/>
                  <a:rect l="l" t="t" r="r" b="b"/>
                  <a:pathLst>
                    <a:path w="331" h="865">
                      <a:moveTo>
                        <a:pt x="85" y="15"/>
                      </a:moveTo>
                      <a:lnTo>
                        <a:pt x="96" y="16"/>
                      </a:lnTo>
                      <a:lnTo>
                        <a:pt x="52" y="0"/>
                      </a:lnTo>
                      <a:lnTo>
                        <a:pt x="34" y="3"/>
                      </a:lnTo>
                      <a:lnTo>
                        <a:pt x="14" y="15"/>
                      </a:lnTo>
                      <a:lnTo>
                        <a:pt x="4" y="50"/>
                      </a:lnTo>
                      <a:lnTo>
                        <a:pt x="0" y="90"/>
                      </a:lnTo>
                      <a:lnTo>
                        <a:pt x="14" y="171"/>
                      </a:lnTo>
                      <a:lnTo>
                        <a:pt x="27" y="234"/>
                      </a:lnTo>
                      <a:lnTo>
                        <a:pt x="44" y="335"/>
                      </a:lnTo>
                      <a:lnTo>
                        <a:pt x="64" y="460"/>
                      </a:lnTo>
                      <a:lnTo>
                        <a:pt x="80" y="558"/>
                      </a:lnTo>
                      <a:lnTo>
                        <a:pt x="96" y="647"/>
                      </a:lnTo>
                      <a:lnTo>
                        <a:pt x="112" y="732"/>
                      </a:lnTo>
                      <a:lnTo>
                        <a:pt x="126" y="803"/>
                      </a:lnTo>
                      <a:lnTo>
                        <a:pt x="290" y="865"/>
                      </a:lnTo>
                      <a:lnTo>
                        <a:pt x="310" y="773"/>
                      </a:lnTo>
                      <a:lnTo>
                        <a:pt x="331" y="698"/>
                      </a:lnTo>
                      <a:lnTo>
                        <a:pt x="268" y="628"/>
                      </a:lnTo>
                      <a:lnTo>
                        <a:pt x="214" y="524"/>
                      </a:lnTo>
                      <a:lnTo>
                        <a:pt x="154" y="372"/>
                      </a:lnTo>
                      <a:lnTo>
                        <a:pt x="104" y="235"/>
                      </a:lnTo>
                      <a:lnTo>
                        <a:pt x="72" y="134"/>
                      </a:lnTo>
                      <a:lnTo>
                        <a:pt x="62" y="81"/>
                      </a:lnTo>
                      <a:lnTo>
                        <a:pt x="74" y="40"/>
                      </a:lnTo>
                      <a:lnTo>
                        <a:pt x="100" y="15"/>
                      </a:lnTo>
                      <a:lnTo>
                        <a:pt x="85" y="1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7065720" y="4525200"/>
                  <a:ext cx="121680" cy="246600"/>
                  <a:chOff x="7065720" y="4525200"/>
                  <a:chExt cx="121680" cy="24660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7065720" y="4525200"/>
                    <a:ext cx="241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55">
                        <a:moveTo>
                          <a:pt x="52" y="1"/>
                        </a:moveTo>
                        <a:lnTo>
                          <a:pt x="44" y="0"/>
                        </a:lnTo>
                        <a:lnTo>
                          <a:pt x="36" y="0"/>
                        </a:lnTo>
                        <a:lnTo>
                          <a:pt x="28" y="1"/>
                        </a:lnTo>
                        <a:lnTo>
                          <a:pt x="24" y="8"/>
                        </a:lnTo>
                        <a:lnTo>
                          <a:pt x="22" y="13"/>
                        </a:lnTo>
                        <a:lnTo>
                          <a:pt x="22" y="19"/>
                        </a:lnTo>
                        <a:lnTo>
                          <a:pt x="24" y="25"/>
                        </a:lnTo>
                        <a:lnTo>
                          <a:pt x="24" y="31"/>
                        </a:lnTo>
                        <a:lnTo>
                          <a:pt x="22" y="37"/>
                        </a:lnTo>
                        <a:lnTo>
                          <a:pt x="16" y="37"/>
                        </a:lnTo>
                        <a:lnTo>
                          <a:pt x="6" y="37"/>
                        </a:lnTo>
                        <a:lnTo>
                          <a:pt x="0" y="43"/>
                        </a:lnTo>
                        <a:lnTo>
                          <a:pt x="6" y="45"/>
                        </a:lnTo>
                        <a:lnTo>
                          <a:pt x="12" y="45"/>
                        </a:lnTo>
                        <a:lnTo>
                          <a:pt x="20" y="49"/>
                        </a:lnTo>
                        <a:lnTo>
                          <a:pt x="24" y="55"/>
                        </a:lnTo>
                        <a:lnTo>
                          <a:pt x="29" y="55"/>
                        </a:lnTo>
                        <a:lnTo>
                          <a:pt x="36" y="51"/>
                        </a:lnTo>
                        <a:lnTo>
                          <a:pt x="36" y="45"/>
                        </a:lnTo>
                        <a:lnTo>
                          <a:pt x="36" y="39"/>
                        </a:lnTo>
                        <a:lnTo>
                          <a:pt x="36" y="33"/>
                        </a:lnTo>
                        <a:lnTo>
                          <a:pt x="33" y="27"/>
                        </a:lnTo>
                        <a:lnTo>
                          <a:pt x="33" y="21"/>
                        </a:lnTo>
                        <a:lnTo>
                          <a:pt x="40" y="19"/>
                        </a:lnTo>
                        <a:lnTo>
                          <a:pt x="45" y="19"/>
                        </a:lnTo>
                        <a:lnTo>
                          <a:pt x="52" y="19"/>
                        </a:lnTo>
                        <a:lnTo>
                          <a:pt x="56" y="19"/>
                        </a:lnTo>
                        <a:lnTo>
                          <a:pt x="56" y="13"/>
                        </a:lnTo>
                        <a:lnTo>
                          <a:pt x="52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67880" y="4555080"/>
                    <a:ext cx="3672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58">
                        <a:moveTo>
                          <a:pt x="68" y="3"/>
                        </a:moveTo>
                        <a:lnTo>
                          <a:pt x="60" y="0"/>
                        </a:lnTo>
                        <a:lnTo>
                          <a:pt x="53" y="3"/>
                        </a:lnTo>
                        <a:lnTo>
                          <a:pt x="48" y="4"/>
                        </a:lnTo>
                        <a:lnTo>
                          <a:pt x="44" y="11"/>
                        </a:lnTo>
                        <a:lnTo>
                          <a:pt x="41" y="16"/>
                        </a:lnTo>
                        <a:lnTo>
                          <a:pt x="40" y="23"/>
                        </a:lnTo>
                        <a:lnTo>
                          <a:pt x="40" y="28"/>
                        </a:lnTo>
                        <a:lnTo>
                          <a:pt x="37" y="36"/>
                        </a:lnTo>
                        <a:lnTo>
                          <a:pt x="32" y="36"/>
                        </a:lnTo>
                        <a:lnTo>
                          <a:pt x="25" y="36"/>
                        </a:lnTo>
                        <a:lnTo>
                          <a:pt x="20" y="32"/>
                        </a:lnTo>
                        <a:lnTo>
                          <a:pt x="14" y="32"/>
                        </a:lnTo>
                        <a:lnTo>
                          <a:pt x="8" y="34"/>
                        </a:lnTo>
                        <a:lnTo>
                          <a:pt x="4" y="40"/>
                        </a:lnTo>
                        <a:lnTo>
                          <a:pt x="0" y="46"/>
                        </a:lnTo>
                        <a:lnTo>
                          <a:pt x="0" y="52"/>
                        </a:lnTo>
                        <a:lnTo>
                          <a:pt x="0" y="58"/>
                        </a:lnTo>
                        <a:lnTo>
                          <a:pt x="0" y="52"/>
                        </a:lnTo>
                        <a:lnTo>
                          <a:pt x="6" y="50"/>
                        </a:lnTo>
                        <a:lnTo>
                          <a:pt x="12" y="48"/>
                        </a:lnTo>
                        <a:lnTo>
                          <a:pt x="17" y="52"/>
                        </a:lnTo>
                        <a:lnTo>
                          <a:pt x="24" y="56"/>
                        </a:lnTo>
                        <a:lnTo>
                          <a:pt x="29" y="58"/>
                        </a:lnTo>
                        <a:lnTo>
                          <a:pt x="36" y="58"/>
                        </a:lnTo>
                        <a:lnTo>
                          <a:pt x="41" y="58"/>
                        </a:lnTo>
                        <a:lnTo>
                          <a:pt x="48" y="54"/>
                        </a:lnTo>
                        <a:lnTo>
                          <a:pt x="49" y="48"/>
                        </a:lnTo>
                        <a:lnTo>
                          <a:pt x="49" y="42"/>
                        </a:lnTo>
                        <a:lnTo>
                          <a:pt x="49" y="36"/>
                        </a:lnTo>
                        <a:lnTo>
                          <a:pt x="52" y="30"/>
                        </a:lnTo>
                        <a:lnTo>
                          <a:pt x="57" y="28"/>
                        </a:lnTo>
                        <a:lnTo>
                          <a:pt x="64" y="28"/>
                        </a:lnTo>
                        <a:lnTo>
                          <a:pt x="69" y="28"/>
                        </a:lnTo>
                        <a:lnTo>
                          <a:pt x="76" y="28"/>
                        </a:lnTo>
                        <a:lnTo>
                          <a:pt x="80" y="28"/>
                        </a:lnTo>
                        <a:lnTo>
                          <a:pt x="68" y="3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072200" y="4586040"/>
                    <a:ext cx="4320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94">
                        <a:moveTo>
                          <a:pt x="91" y="2"/>
                        </a:moveTo>
                        <a:lnTo>
                          <a:pt x="83" y="2"/>
                        </a:lnTo>
                        <a:lnTo>
                          <a:pt x="76" y="0"/>
                        </a:lnTo>
                        <a:lnTo>
                          <a:pt x="69" y="0"/>
                        </a:lnTo>
                        <a:lnTo>
                          <a:pt x="64" y="2"/>
                        </a:lnTo>
                        <a:lnTo>
                          <a:pt x="56" y="4"/>
                        </a:lnTo>
                        <a:lnTo>
                          <a:pt x="56" y="12"/>
                        </a:lnTo>
                        <a:lnTo>
                          <a:pt x="56" y="18"/>
                        </a:lnTo>
                        <a:lnTo>
                          <a:pt x="56" y="26"/>
                        </a:lnTo>
                        <a:lnTo>
                          <a:pt x="56" y="32"/>
                        </a:lnTo>
                        <a:lnTo>
                          <a:pt x="56" y="38"/>
                        </a:lnTo>
                        <a:lnTo>
                          <a:pt x="52" y="43"/>
                        </a:lnTo>
                        <a:lnTo>
                          <a:pt x="45" y="50"/>
                        </a:lnTo>
                        <a:lnTo>
                          <a:pt x="40" y="54"/>
                        </a:lnTo>
                        <a:lnTo>
                          <a:pt x="33" y="54"/>
                        </a:lnTo>
                        <a:lnTo>
                          <a:pt x="28" y="54"/>
                        </a:lnTo>
                        <a:lnTo>
                          <a:pt x="20" y="51"/>
                        </a:lnTo>
                        <a:lnTo>
                          <a:pt x="13" y="50"/>
                        </a:lnTo>
                        <a:lnTo>
                          <a:pt x="8" y="51"/>
                        </a:lnTo>
                        <a:lnTo>
                          <a:pt x="4" y="58"/>
                        </a:lnTo>
                        <a:lnTo>
                          <a:pt x="2" y="66"/>
                        </a:lnTo>
                        <a:lnTo>
                          <a:pt x="0" y="71"/>
                        </a:lnTo>
                        <a:lnTo>
                          <a:pt x="0" y="78"/>
                        </a:lnTo>
                        <a:lnTo>
                          <a:pt x="0" y="83"/>
                        </a:lnTo>
                        <a:lnTo>
                          <a:pt x="0" y="90"/>
                        </a:lnTo>
                        <a:lnTo>
                          <a:pt x="0" y="94"/>
                        </a:lnTo>
                        <a:lnTo>
                          <a:pt x="0" y="87"/>
                        </a:lnTo>
                        <a:lnTo>
                          <a:pt x="4" y="82"/>
                        </a:lnTo>
                        <a:lnTo>
                          <a:pt x="6" y="75"/>
                        </a:lnTo>
                        <a:lnTo>
                          <a:pt x="12" y="71"/>
                        </a:lnTo>
                        <a:lnTo>
                          <a:pt x="20" y="67"/>
                        </a:lnTo>
                        <a:lnTo>
                          <a:pt x="25" y="67"/>
                        </a:lnTo>
                        <a:lnTo>
                          <a:pt x="32" y="67"/>
                        </a:lnTo>
                        <a:lnTo>
                          <a:pt x="37" y="67"/>
                        </a:lnTo>
                        <a:lnTo>
                          <a:pt x="44" y="67"/>
                        </a:lnTo>
                        <a:lnTo>
                          <a:pt x="49" y="67"/>
                        </a:lnTo>
                        <a:lnTo>
                          <a:pt x="56" y="66"/>
                        </a:lnTo>
                        <a:lnTo>
                          <a:pt x="61" y="59"/>
                        </a:lnTo>
                        <a:lnTo>
                          <a:pt x="64" y="54"/>
                        </a:lnTo>
                        <a:lnTo>
                          <a:pt x="65" y="47"/>
                        </a:lnTo>
                        <a:lnTo>
                          <a:pt x="68" y="42"/>
                        </a:lnTo>
                        <a:lnTo>
                          <a:pt x="68" y="35"/>
                        </a:lnTo>
                        <a:lnTo>
                          <a:pt x="68" y="30"/>
                        </a:lnTo>
                        <a:lnTo>
                          <a:pt x="68" y="24"/>
                        </a:lnTo>
                        <a:lnTo>
                          <a:pt x="73" y="22"/>
                        </a:lnTo>
                        <a:lnTo>
                          <a:pt x="79" y="22"/>
                        </a:lnTo>
                        <a:lnTo>
                          <a:pt x="85" y="22"/>
                        </a:lnTo>
                        <a:lnTo>
                          <a:pt x="91" y="22"/>
                        </a:lnTo>
                        <a:lnTo>
                          <a:pt x="95" y="22"/>
                        </a:lnTo>
                        <a:lnTo>
                          <a:pt x="91" y="2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083000" y="4615560"/>
                    <a:ext cx="44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93">
                        <a:moveTo>
                          <a:pt x="87" y="1"/>
                        </a:moveTo>
                        <a:lnTo>
                          <a:pt x="79" y="0"/>
                        </a:lnTo>
                        <a:lnTo>
                          <a:pt x="74" y="0"/>
                        </a:lnTo>
                        <a:lnTo>
                          <a:pt x="67" y="0"/>
                        </a:lnTo>
                        <a:lnTo>
                          <a:pt x="62" y="5"/>
                        </a:lnTo>
                        <a:lnTo>
                          <a:pt x="59" y="11"/>
                        </a:lnTo>
                        <a:lnTo>
                          <a:pt x="58" y="17"/>
                        </a:lnTo>
                        <a:lnTo>
                          <a:pt x="58" y="23"/>
                        </a:lnTo>
                        <a:lnTo>
                          <a:pt x="58" y="29"/>
                        </a:lnTo>
                        <a:lnTo>
                          <a:pt x="58" y="35"/>
                        </a:lnTo>
                        <a:lnTo>
                          <a:pt x="54" y="44"/>
                        </a:lnTo>
                        <a:lnTo>
                          <a:pt x="46" y="48"/>
                        </a:lnTo>
                        <a:lnTo>
                          <a:pt x="35" y="47"/>
                        </a:lnTo>
                        <a:lnTo>
                          <a:pt x="30" y="43"/>
                        </a:lnTo>
                        <a:lnTo>
                          <a:pt x="23" y="39"/>
                        </a:lnTo>
                        <a:lnTo>
                          <a:pt x="18" y="39"/>
                        </a:lnTo>
                        <a:lnTo>
                          <a:pt x="12" y="41"/>
                        </a:lnTo>
                        <a:lnTo>
                          <a:pt x="8" y="47"/>
                        </a:lnTo>
                        <a:lnTo>
                          <a:pt x="6" y="52"/>
                        </a:lnTo>
                        <a:lnTo>
                          <a:pt x="2" y="59"/>
                        </a:lnTo>
                        <a:lnTo>
                          <a:pt x="2" y="64"/>
                        </a:lnTo>
                        <a:lnTo>
                          <a:pt x="0" y="71"/>
                        </a:lnTo>
                        <a:lnTo>
                          <a:pt x="0" y="76"/>
                        </a:lnTo>
                        <a:lnTo>
                          <a:pt x="0" y="83"/>
                        </a:lnTo>
                        <a:lnTo>
                          <a:pt x="0" y="88"/>
                        </a:lnTo>
                        <a:lnTo>
                          <a:pt x="0" y="93"/>
                        </a:lnTo>
                        <a:lnTo>
                          <a:pt x="0" y="88"/>
                        </a:lnTo>
                        <a:lnTo>
                          <a:pt x="0" y="83"/>
                        </a:lnTo>
                        <a:lnTo>
                          <a:pt x="2" y="76"/>
                        </a:lnTo>
                        <a:lnTo>
                          <a:pt x="6" y="71"/>
                        </a:lnTo>
                        <a:lnTo>
                          <a:pt x="10" y="64"/>
                        </a:lnTo>
                        <a:lnTo>
                          <a:pt x="16" y="63"/>
                        </a:lnTo>
                        <a:lnTo>
                          <a:pt x="22" y="63"/>
                        </a:lnTo>
                        <a:lnTo>
                          <a:pt x="27" y="67"/>
                        </a:lnTo>
                        <a:lnTo>
                          <a:pt x="34" y="71"/>
                        </a:lnTo>
                        <a:lnTo>
                          <a:pt x="39" y="75"/>
                        </a:lnTo>
                        <a:lnTo>
                          <a:pt x="46" y="79"/>
                        </a:lnTo>
                        <a:lnTo>
                          <a:pt x="51" y="76"/>
                        </a:lnTo>
                        <a:lnTo>
                          <a:pt x="54" y="71"/>
                        </a:lnTo>
                        <a:lnTo>
                          <a:pt x="59" y="67"/>
                        </a:lnTo>
                        <a:lnTo>
                          <a:pt x="59" y="60"/>
                        </a:lnTo>
                        <a:lnTo>
                          <a:pt x="59" y="55"/>
                        </a:lnTo>
                        <a:lnTo>
                          <a:pt x="62" y="48"/>
                        </a:lnTo>
                        <a:lnTo>
                          <a:pt x="63" y="43"/>
                        </a:lnTo>
                        <a:lnTo>
                          <a:pt x="66" y="37"/>
                        </a:lnTo>
                        <a:lnTo>
                          <a:pt x="67" y="31"/>
                        </a:lnTo>
                        <a:lnTo>
                          <a:pt x="74" y="27"/>
                        </a:lnTo>
                        <a:lnTo>
                          <a:pt x="79" y="23"/>
                        </a:lnTo>
                        <a:lnTo>
                          <a:pt x="86" y="23"/>
                        </a:lnTo>
                        <a:lnTo>
                          <a:pt x="93" y="23"/>
                        </a:lnTo>
                        <a:lnTo>
                          <a:pt x="99" y="29"/>
                        </a:lnTo>
                        <a:lnTo>
                          <a:pt x="87" y="1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085880" y="4645080"/>
                    <a:ext cx="568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93">
                        <a:moveTo>
                          <a:pt x="105" y="0"/>
                        </a:moveTo>
                        <a:lnTo>
                          <a:pt x="96" y="0"/>
                        </a:lnTo>
                        <a:lnTo>
                          <a:pt x="91" y="0"/>
                        </a:lnTo>
                        <a:lnTo>
                          <a:pt x="85" y="0"/>
                        </a:lnTo>
                        <a:lnTo>
                          <a:pt x="82" y="5"/>
                        </a:lnTo>
                        <a:lnTo>
                          <a:pt x="79" y="12"/>
                        </a:lnTo>
                        <a:lnTo>
                          <a:pt x="78" y="17"/>
                        </a:lnTo>
                        <a:lnTo>
                          <a:pt x="78" y="23"/>
                        </a:lnTo>
                        <a:lnTo>
                          <a:pt x="79" y="29"/>
                        </a:lnTo>
                        <a:lnTo>
                          <a:pt x="79" y="35"/>
                        </a:lnTo>
                        <a:lnTo>
                          <a:pt x="78" y="41"/>
                        </a:lnTo>
                        <a:lnTo>
                          <a:pt x="71" y="47"/>
                        </a:lnTo>
                        <a:lnTo>
                          <a:pt x="66" y="49"/>
                        </a:lnTo>
                        <a:lnTo>
                          <a:pt x="59" y="49"/>
                        </a:lnTo>
                        <a:lnTo>
                          <a:pt x="51" y="49"/>
                        </a:lnTo>
                        <a:lnTo>
                          <a:pt x="46" y="47"/>
                        </a:lnTo>
                        <a:lnTo>
                          <a:pt x="38" y="41"/>
                        </a:lnTo>
                        <a:lnTo>
                          <a:pt x="31" y="35"/>
                        </a:lnTo>
                        <a:lnTo>
                          <a:pt x="27" y="35"/>
                        </a:lnTo>
                        <a:lnTo>
                          <a:pt x="21" y="35"/>
                        </a:lnTo>
                        <a:lnTo>
                          <a:pt x="15" y="37"/>
                        </a:lnTo>
                        <a:lnTo>
                          <a:pt x="13" y="43"/>
                        </a:lnTo>
                        <a:lnTo>
                          <a:pt x="11" y="49"/>
                        </a:lnTo>
                        <a:lnTo>
                          <a:pt x="8" y="56"/>
                        </a:lnTo>
                        <a:lnTo>
                          <a:pt x="4" y="64"/>
                        </a:lnTo>
                        <a:lnTo>
                          <a:pt x="4" y="71"/>
                        </a:lnTo>
                        <a:lnTo>
                          <a:pt x="1" y="76"/>
                        </a:lnTo>
                        <a:lnTo>
                          <a:pt x="0" y="83"/>
                        </a:lnTo>
                        <a:lnTo>
                          <a:pt x="0" y="88"/>
                        </a:lnTo>
                        <a:lnTo>
                          <a:pt x="0" y="93"/>
                        </a:lnTo>
                        <a:lnTo>
                          <a:pt x="1" y="88"/>
                        </a:lnTo>
                        <a:lnTo>
                          <a:pt x="4" y="83"/>
                        </a:lnTo>
                        <a:lnTo>
                          <a:pt x="8" y="76"/>
                        </a:lnTo>
                        <a:lnTo>
                          <a:pt x="11" y="71"/>
                        </a:lnTo>
                        <a:lnTo>
                          <a:pt x="15" y="64"/>
                        </a:lnTo>
                        <a:lnTo>
                          <a:pt x="19" y="59"/>
                        </a:lnTo>
                        <a:lnTo>
                          <a:pt x="25" y="59"/>
                        </a:lnTo>
                        <a:lnTo>
                          <a:pt x="31" y="59"/>
                        </a:lnTo>
                        <a:lnTo>
                          <a:pt x="35" y="63"/>
                        </a:lnTo>
                        <a:lnTo>
                          <a:pt x="42" y="67"/>
                        </a:lnTo>
                        <a:lnTo>
                          <a:pt x="50" y="71"/>
                        </a:lnTo>
                        <a:lnTo>
                          <a:pt x="55" y="72"/>
                        </a:lnTo>
                        <a:lnTo>
                          <a:pt x="62" y="75"/>
                        </a:lnTo>
                        <a:lnTo>
                          <a:pt x="67" y="76"/>
                        </a:lnTo>
                        <a:lnTo>
                          <a:pt x="74" y="76"/>
                        </a:lnTo>
                        <a:lnTo>
                          <a:pt x="79" y="72"/>
                        </a:lnTo>
                        <a:lnTo>
                          <a:pt x="83" y="67"/>
                        </a:lnTo>
                        <a:lnTo>
                          <a:pt x="85" y="59"/>
                        </a:lnTo>
                        <a:lnTo>
                          <a:pt x="85" y="52"/>
                        </a:lnTo>
                        <a:lnTo>
                          <a:pt x="85" y="47"/>
                        </a:lnTo>
                        <a:lnTo>
                          <a:pt x="87" y="41"/>
                        </a:lnTo>
                        <a:lnTo>
                          <a:pt x="89" y="35"/>
                        </a:lnTo>
                        <a:lnTo>
                          <a:pt x="89" y="29"/>
                        </a:lnTo>
                        <a:lnTo>
                          <a:pt x="91" y="23"/>
                        </a:lnTo>
                        <a:lnTo>
                          <a:pt x="96" y="19"/>
                        </a:lnTo>
                        <a:lnTo>
                          <a:pt x="101" y="19"/>
                        </a:lnTo>
                        <a:lnTo>
                          <a:pt x="108" y="19"/>
                        </a:lnTo>
                        <a:lnTo>
                          <a:pt x="112" y="25"/>
                        </a:lnTo>
                        <a:lnTo>
                          <a:pt x="117" y="27"/>
                        </a:lnTo>
                        <a:lnTo>
                          <a:pt x="124" y="3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088760" y="4681440"/>
                    <a:ext cx="741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27">
                        <a:moveTo>
                          <a:pt x="139" y="0"/>
                        </a:moveTo>
                        <a:lnTo>
                          <a:pt x="131" y="0"/>
                        </a:lnTo>
                        <a:lnTo>
                          <a:pt x="124" y="5"/>
                        </a:lnTo>
                        <a:lnTo>
                          <a:pt x="116" y="9"/>
                        </a:lnTo>
                        <a:lnTo>
                          <a:pt x="114" y="16"/>
                        </a:lnTo>
                        <a:lnTo>
                          <a:pt x="112" y="25"/>
                        </a:lnTo>
                        <a:lnTo>
                          <a:pt x="112" y="32"/>
                        </a:lnTo>
                        <a:lnTo>
                          <a:pt x="112" y="37"/>
                        </a:lnTo>
                        <a:lnTo>
                          <a:pt x="112" y="45"/>
                        </a:lnTo>
                        <a:lnTo>
                          <a:pt x="112" y="53"/>
                        </a:lnTo>
                        <a:lnTo>
                          <a:pt x="110" y="59"/>
                        </a:lnTo>
                        <a:lnTo>
                          <a:pt x="108" y="65"/>
                        </a:lnTo>
                        <a:lnTo>
                          <a:pt x="102" y="67"/>
                        </a:lnTo>
                        <a:lnTo>
                          <a:pt x="96" y="69"/>
                        </a:lnTo>
                        <a:lnTo>
                          <a:pt x="90" y="69"/>
                        </a:lnTo>
                        <a:lnTo>
                          <a:pt x="82" y="69"/>
                        </a:lnTo>
                        <a:lnTo>
                          <a:pt x="78" y="63"/>
                        </a:lnTo>
                        <a:lnTo>
                          <a:pt x="70" y="59"/>
                        </a:lnTo>
                        <a:lnTo>
                          <a:pt x="66" y="53"/>
                        </a:lnTo>
                        <a:lnTo>
                          <a:pt x="61" y="53"/>
                        </a:lnTo>
                        <a:lnTo>
                          <a:pt x="54" y="49"/>
                        </a:lnTo>
                        <a:lnTo>
                          <a:pt x="46" y="47"/>
                        </a:lnTo>
                        <a:lnTo>
                          <a:pt x="42" y="47"/>
                        </a:lnTo>
                        <a:lnTo>
                          <a:pt x="36" y="47"/>
                        </a:lnTo>
                        <a:lnTo>
                          <a:pt x="30" y="49"/>
                        </a:lnTo>
                        <a:lnTo>
                          <a:pt x="24" y="55"/>
                        </a:lnTo>
                        <a:lnTo>
                          <a:pt x="18" y="57"/>
                        </a:lnTo>
                        <a:lnTo>
                          <a:pt x="14" y="63"/>
                        </a:lnTo>
                        <a:lnTo>
                          <a:pt x="10" y="69"/>
                        </a:lnTo>
                        <a:lnTo>
                          <a:pt x="6" y="75"/>
                        </a:lnTo>
                        <a:lnTo>
                          <a:pt x="4" y="83"/>
                        </a:lnTo>
                        <a:lnTo>
                          <a:pt x="3" y="88"/>
                        </a:lnTo>
                        <a:lnTo>
                          <a:pt x="0" y="95"/>
                        </a:lnTo>
                        <a:lnTo>
                          <a:pt x="0" y="100"/>
                        </a:lnTo>
                        <a:lnTo>
                          <a:pt x="0" y="107"/>
                        </a:lnTo>
                        <a:lnTo>
                          <a:pt x="0" y="115"/>
                        </a:lnTo>
                        <a:lnTo>
                          <a:pt x="3" y="123"/>
                        </a:lnTo>
                        <a:lnTo>
                          <a:pt x="4" y="127"/>
                        </a:lnTo>
                        <a:lnTo>
                          <a:pt x="4" y="123"/>
                        </a:lnTo>
                        <a:lnTo>
                          <a:pt x="4" y="116"/>
                        </a:lnTo>
                        <a:lnTo>
                          <a:pt x="4" y="111"/>
                        </a:lnTo>
                        <a:lnTo>
                          <a:pt x="4" y="103"/>
                        </a:lnTo>
                        <a:lnTo>
                          <a:pt x="6" y="96"/>
                        </a:lnTo>
                        <a:lnTo>
                          <a:pt x="10" y="91"/>
                        </a:lnTo>
                        <a:lnTo>
                          <a:pt x="14" y="85"/>
                        </a:lnTo>
                        <a:lnTo>
                          <a:pt x="18" y="79"/>
                        </a:lnTo>
                        <a:lnTo>
                          <a:pt x="24" y="75"/>
                        </a:lnTo>
                        <a:lnTo>
                          <a:pt x="30" y="73"/>
                        </a:lnTo>
                        <a:lnTo>
                          <a:pt x="36" y="73"/>
                        </a:lnTo>
                        <a:lnTo>
                          <a:pt x="42" y="73"/>
                        </a:lnTo>
                        <a:lnTo>
                          <a:pt x="46" y="75"/>
                        </a:lnTo>
                        <a:lnTo>
                          <a:pt x="53" y="77"/>
                        </a:lnTo>
                        <a:lnTo>
                          <a:pt x="57" y="83"/>
                        </a:lnTo>
                        <a:lnTo>
                          <a:pt x="62" y="85"/>
                        </a:lnTo>
                        <a:lnTo>
                          <a:pt x="69" y="88"/>
                        </a:lnTo>
                        <a:lnTo>
                          <a:pt x="74" y="88"/>
                        </a:lnTo>
                        <a:lnTo>
                          <a:pt x="80" y="91"/>
                        </a:lnTo>
                        <a:lnTo>
                          <a:pt x="86" y="92"/>
                        </a:lnTo>
                        <a:lnTo>
                          <a:pt x="92" y="91"/>
                        </a:lnTo>
                        <a:lnTo>
                          <a:pt x="98" y="88"/>
                        </a:lnTo>
                        <a:lnTo>
                          <a:pt x="104" y="85"/>
                        </a:lnTo>
                        <a:lnTo>
                          <a:pt x="110" y="79"/>
                        </a:lnTo>
                        <a:lnTo>
                          <a:pt x="112" y="73"/>
                        </a:lnTo>
                        <a:lnTo>
                          <a:pt x="116" y="67"/>
                        </a:lnTo>
                        <a:lnTo>
                          <a:pt x="117" y="61"/>
                        </a:lnTo>
                        <a:lnTo>
                          <a:pt x="117" y="55"/>
                        </a:lnTo>
                        <a:lnTo>
                          <a:pt x="117" y="49"/>
                        </a:lnTo>
                        <a:lnTo>
                          <a:pt x="120" y="41"/>
                        </a:lnTo>
                        <a:lnTo>
                          <a:pt x="120" y="36"/>
                        </a:lnTo>
                        <a:lnTo>
                          <a:pt x="125" y="32"/>
                        </a:lnTo>
                        <a:lnTo>
                          <a:pt x="131" y="29"/>
                        </a:lnTo>
                        <a:lnTo>
                          <a:pt x="136" y="28"/>
                        </a:lnTo>
                        <a:lnTo>
                          <a:pt x="143" y="28"/>
                        </a:lnTo>
                        <a:lnTo>
                          <a:pt x="150" y="29"/>
                        </a:lnTo>
                        <a:lnTo>
                          <a:pt x="160" y="32"/>
                        </a:lnTo>
                        <a:lnTo>
                          <a:pt x="166" y="36"/>
                        </a:lnTo>
                        <a:lnTo>
                          <a:pt x="139" y="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112880" y="4717440"/>
                    <a:ext cx="7452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27">
                        <a:moveTo>
                          <a:pt x="152" y="0"/>
                        </a:moveTo>
                        <a:lnTo>
                          <a:pt x="141" y="0"/>
                        </a:lnTo>
                        <a:lnTo>
                          <a:pt x="136" y="0"/>
                        </a:lnTo>
                        <a:lnTo>
                          <a:pt x="128" y="3"/>
                        </a:lnTo>
                        <a:lnTo>
                          <a:pt x="123" y="4"/>
                        </a:lnTo>
                        <a:lnTo>
                          <a:pt x="118" y="7"/>
                        </a:lnTo>
                        <a:lnTo>
                          <a:pt x="111" y="11"/>
                        </a:lnTo>
                        <a:lnTo>
                          <a:pt x="106" y="15"/>
                        </a:lnTo>
                        <a:lnTo>
                          <a:pt x="103" y="20"/>
                        </a:lnTo>
                        <a:lnTo>
                          <a:pt x="102" y="27"/>
                        </a:lnTo>
                        <a:lnTo>
                          <a:pt x="99" y="32"/>
                        </a:lnTo>
                        <a:lnTo>
                          <a:pt x="99" y="39"/>
                        </a:lnTo>
                        <a:lnTo>
                          <a:pt x="99" y="46"/>
                        </a:lnTo>
                        <a:lnTo>
                          <a:pt x="99" y="53"/>
                        </a:lnTo>
                        <a:lnTo>
                          <a:pt x="99" y="58"/>
                        </a:lnTo>
                        <a:lnTo>
                          <a:pt x="98" y="65"/>
                        </a:lnTo>
                        <a:lnTo>
                          <a:pt x="95" y="70"/>
                        </a:lnTo>
                        <a:lnTo>
                          <a:pt x="90" y="77"/>
                        </a:lnTo>
                        <a:lnTo>
                          <a:pt x="83" y="82"/>
                        </a:lnTo>
                        <a:lnTo>
                          <a:pt x="78" y="85"/>
                        </a:lnTo>
                        <a:lnTo>
                          <a:pt x="71" y="85"/>
                        </a:lnTo>
                        <a:lnTo>
                          <a:pt x="66" y="82"/>
                        </a:lnTo>
                        <a:lnTo>
                          <a:pt x="60" y="81"/>
                        </a:lnTo>
                        <a:lnTo>
                          <a:pt x="54" y="74"/>
                        </a:lnTo>
                        <a:lnTo>
                          <a:pt x="48" y="70"/>
                        </a:lnTo>
                        <a:lnTo>
                          <a:pt x="42" y="69"/>
                        </a:lnTo>
                        <a:lnTo>
                          <a:pt x="37" y="69"/>
                        </a:lnTo>
                        <a:lnTo>
                          <a:pt x="32" y="70"/>
                        </a:lnTo>
                        <a:lnTo>
                          <a:pt x="24" y="73"/>
                        </a:lnTo>
                        <a:lnTo>
                          <a:pt x="17" y="77"/>
                        </a:lnTo>
                        <a:lnTo>
                          <a:pt x="16" y="82"/>
                        </a:lnTo>
                        <a:lnTo>
                          <a:pt x="12" y="89"/>
                        </a:lnTo>
                        <a:lnTo>
                          <a:pt x="5" y="93"/>
                        </a:lnTo>
                        <a:lnTo>
                          <a:pt x="4" y="99"/>
                        </a:lnTo>
                        <a:lnTo>
                          <a:pt x="1" y="105"/>
                        </a:lnTo>
                        <a:lnTo>
                          <a:pt x="0" y="111"/>
                        </a:lnTo>
                        <a:lnTo>
                          <a:pt x="0" y="117"/>
                        </a:lnTo>
                        <a:lnTo>
                          <a:pt x="0" y="111"/>
                        </a:lnTo>
                        <a:lnTo>
                          <a:pt x="5" y="107"/>
                        </a:lnTo>
                        <a:lnTo>
                          <a:pt x="4" y="113"/>
                        </a:lnTo>
                        <a:lnTo>
                          <a:pt x="1" y="119"/>
                        </a:lnTo>
                        <a:lnTo>
                          <a:pt x="8" y="123"/>
                        </a:lnTo>
                        <a:lnTo>
                          <a:pt x="13" y="127"/>
                        </a:lnTo>
                        <a:lnTo>
                          <a:pt x="12" y="119"/>
                        </a:lnTo>
                        <a:lnTo>
                          <a:pt x="12" y="113"/>
                        </a:lnTo>
                        <a:lnTo>
                          <a:pt x="12" y="107"/>
                        </a:lnTo>
                        <a:lnTo>
                          <a:pt x="13" y="101"/>
                        </a:lnTo>
                        <a:lnTo>
                          <a:pt x="16" y="94"/>
                        </a:lnTo>
                        <a:lnTo>
                          <a:pt x="20" y="89"/>
                        </a:lnTo>
                        <a:lnTo>
                          <a:pt x="25" y="86"/>
                        </a:lnTo>
                        <a:lnTo>
                          <a:pt x="32" y="85"/>
                        </a:lnTo>
                        <a:lnTo>
                          <a:pt x="40" y="82"/>
                        </a:lnTo>
                        <a:lnTo>
                          <a:pt x="44" y="86"/>
                        </a:lnTo>
                        <a:lnTo>
                          <a:pt x="52" y="90"/>
                        </a:lnTo>
                        <a:lnTo>
                          <a:pt x="56" y="95"/>
                        </a:lnTo>
                        <a:lnTo>
                          <a:pt x="63" y="101"/>
                        </a:lnTo>
                        <a:lnTo>
                          <a:pt x="70" y="103"/>
                        </a:lnTo>
                        <a:lnTo>
                          <a:pt x="75" y="103"/>
                        </a:lnTo>
                        <a:lnTo>
                          <a:pt x="82" y="103"/>
                        </a:lnTo>
                        <a:lnTo>
                          <a:pt x="90" y="103"/>
                        </a:lnTo>
                        <a:lnTo>
                          <a:pt x="95" y="99"/>
                        </a:lnTo>
                        <a:lnTo>
                          <a:pt x="102" y="94"/>
                        </a:lnTo>
                        <a:lnTo>
                          <a:pt x="106" y="86"/>
                        </a:lnTo>
                        <a:lnTo>
                          <a:pt x="107" y="81"/>
                        </a:lnTo>
                        <a:lnTo>
                          <a:pt x="107" y="74"/>
                        </a:lnTo>
                        <a:lnTo>
                          <a:pt x="110" y="69"/>
                        </a:lnTo>
                        <a:lnTo>
                          <a:pt x="110" y="62"/>
                        </a:lnTo>
                        <a:lnTo>
                          <a:pt x="110" y="57"/>
                        </a:lnTo>
                        <a:lnTo>
                          <a:pt x="110" y="50"/>
                        </a:lnTo>
                        <a:lnTo>
                          <a:pt x="114" y="45"/>
                        </a:lnTo>
                        <a:lnTo>
                          <a:pt x="118" y="39"/>
                        </a:lnTo>
                        <a:lnTo>
                          <a:pt x="123" y="35"/>
                        </a:lnTo>
                        <a:lnTo>
                          <a:pt x="126" y="31"/>
                        </a:lnTo>
                        <a:lnTo>
                          <a:pt x="132" y="28"/>
                        </a:lnTo>
                        <a:lnTo>
                          <a:pt x="137" y="24"/>
                        </a:lnTo>
                        <a:lnTo>
                          <a:pt x="145" y="23"/>
                        </a:lnTo>
                        <a:lnTo>
                          <a:pt x="152" y="23"/>
                        </a:lnTo>
                        <a:lnTo>
                          <a:pt x="157" y="23"/>
                        </a:lnTo>
                        <a:lnTo>
                          <a:pt x="164" y="23"/>
                        </a:lnTo>
                        <a:lnTo>
                          <a:pt x="160" y="7"/>
                        </a:lnTo>
                        <a:lnTo>
                          <a:pt x="152" y="0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5" name=""/>
                <p:cNvGrpSpPr/>
                <p:nvPr/>
              </p:nvGrpSpPr>
              <p:grpSpPr>
                <a:xfrm>
                  <a:off x="7037280" y="4414320"/>
                  <a:ext cx="158760" cy="386640"/>
                  <a:chOff x="7037280" y="4414320"/>
                  <a:chExt cx="158760" cy="38664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7037280" y="4414320"/>
                    <a:ext cx="15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896">
                        <a:moveTo>
                          <a:pt x="82" y="5"/>
                        </a:moveTo>
                        <a:lnTo>
                          <a:pt x="49" y="0"/>
                        </a:lnTo>
                        <a:lnTo>
                          <a:pt x="27" y="11"/>
                        </a:lnTo>
                        <a:lnTo>
                          <a:pt x="3" y="35"/>
                        </a:lnTo>
                        <a:lnTo>
                          <a:pt x="0" y="85"/>
                        </a:lnTo>
                        <a:lnTo>
                          <a:pt x="3" y="150"/>
                        </a:lnTo>
                        <a:lnTo>
                          <a:pt x="27" y="249"/>
                        </a:lnTo>
                        <a:lnTo>
                          <a:pt x="45" y="375"/>
                        </a:lnTo>
                        <a:lnTo>
                          <a:pt x="58" y="474"/>
                        </a:lnTo>
                        <a:lnTo>
                          <a:pt x="77" y="581"/>
                        </a:lnTo>
                        <a:lnTo>
                          <a:pt x="97" y="696"/>
                        </a:lnTo>
                        <a:lnTo>
                          <a:pt x="117" y="786"/>
                        </a:lnTo>
                        <a:lnTo>
                          <a:pt x="124" y="821"/>
                        </a:lnTo>
                        <a:lnTo>
                          <a:pt x="305" y="896"/>
                        </a:lnTo>
                        <a:lnTo>
                          <a:pt x="323" y="790"/>
                        </a:lnTo>
                        <a:lnTo>
                          <a:pt x="335" y="745"/>
                        </a:lnTo>
                        <a:lnTo>
                          <a:pt x="350" y="711"/>
                        </a:lnTo>
                        <a:lnTo>
                          <a:pt x="344" y="700"/>
                        </a:lnTo>
                        <a:lnTo>
                          <a:pt x="307" y="667"/>
                        </a:lnTo>
                        <a:lnTo>
                          <a:pt x="278" y="621"/>
                        </a:lnTo>
                        <a:lnTo>
                          <a:pt x="241" y="556"/>
                        </a:lnTo>
                        <a:lnTo>
                          <a:pt x="210" y="485"/>
                        </a:lnTo>
                        <a:lnTo>
                          <a:pt x="180" y="396"/>
                        </a:lnTo>
                        <a:lnTo>
                          <a:pt x="139" y="289"/>
                        </a:lnTo>
                        <a:lnTo>
                          <a:pt x="98" y="179"/>
                        </a:lnTo>
                        <a:lnTo>
                          <a:pt x="81" y="121"/>
                        </a:lnTo>
                        <a:lnTo>
                          <a:pt x="77" y="63"/>
                        </a:lnTo>
                        <a:lnTo>
                          <a:pt x="58" y="87"/>
                        </a:lnTo>
                        <a:lnTo>
                          <a:pt x="69" y="158"/>
                        </a:lnTo>
                        <a:lnTo>
                          <a:pt x="85" y="204"/>
                        </a:lnTo>
                        <a:lnTo>
                          <a:pt x="109" y="271"/>
                        </a:lnTo>
                        <a:lnTo>
                          <a:pt x="136" y="345"/>
                        </a:lnTo>
                        <a:lnTo>
                          <a:pt x="167" y="431"/>
                        </a:lnTo>
                        <a:lnTo>
                          <a:pt x="194" y="495"/>
                        </a:lnTo>
                        <a:lnTo>
                          <a:pt x="221" y="556"/>
                        </a:lnTo>
                        <a:lnTo>
                          <a:pt x="246" y="614"/>
                        </a:lnTo>
                        <a:lnTo>
                          <a:pt x="274" y="659"/>
                        </a:lnTo>
                        <a:lnTo>
                          <a:pt x="304" y="688"/>
                        </a:lnTo>
                        <a:lnTo>
                          <a:pt x="323" y="715"/>
                        </a:lnTo>
                        <a:lnTo>
                          <a:pt x="307" y="777"/>
                        </a:lnTo>
                        <a:lnTo>
                          <a:pt x="296" y="828"/>
                        </a:lnTo>
                        <a:lnTo>
                          <a:pt x="290" y="863"/>
                        </a:lnTo>
                        <a:lnTo>
                          <a:pt x="139" y="802"/>
                        </a:lnTo>
                        <a:lnTo>
                          <a:pt x="114" y="675"/>
                        </a:lnTo>
                        <a:lnTo>
                          <a:pt x="93" y="556"/>
                        </a:lnTo>
                        <a:lnTo>
                          <a:pt x="74" y="445"/>
                        </a:lnTo>
                        <a:lnTo>
                          <a:pt x="53" y="326"/>
                        </a:lnTo>
                        <a:lnTo>
                          <a:pt x="43" y="240"/>
                        </a:lnTo>
                        <a:lnTo>
                          <a:pt x="27" y="169"/>
                        </a:lnTo>
                        <a:lnTo>
                          <a:pt x="23" y="163"/>
                        </a:lnTo>
                        <a:lnTo>
                          <a:pt x="16" y="105"/>
                        </a:lnTo>
                        <a:lnTo>
                          <a:pt x="20" y="63"/>
                        </a:lnTo>
                        <a:lnTo>
                          <a:pt x="31" y="29"/>
                        </a:lnTo>
                        <a:lnTo>
                          <a:pt x="47" y="17"/>
                        </a:lnTo>
                        <a:lnTo>
                          <a:pt x="73" y="25"/>
                        </a:lnTo>
                        <a:lnTo>
                          <a:pt x="90" y="35"/>
                        </a:lnTo>
                        <a:lnTo>
                          <a:pt x="82" y="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083360" y="4426920"/>
                    <a:ext cx="403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357">
                        <a:moveTo>
                          <a:pt x="18" y="0"/>
                        </a:moveTo>
                        <a:lnTo>
                          <a:pt x="55" y="38"/>
                        </a:lnTo>
                        <a:lnTo>
                          <a:pt x="78" y="102"/>
                        </a:lnTo>
                        <a:lnTo>
                          <a:pt x="90" y="190"/>
                        </a:lnTo>
                        <a:lnTo>
                          <a:pt x="86" y="282"/>
                        </a:lnTo>
                        <a:lnTo>
                          <a:pt x="71" y="357"/>
                        </a:lnTo>
                        <a:lnTo>
                          <a:pt x="55" y="332"/>
                        </a:lnTo>
                        <a:lnTo>
                          <a:pt x="74" y="252"/>
                        </a:lnTo>
                        <a:lnTo>
                          <a:pt x="74" y="182"/>
                        </a:lnTo>
                        <a:lnTo>
                          <a:pt x="66" y="120"/>
                        </a:lnTo>
                        <a:lnTo>
                          <a:pt x="48" y="59"/>
                        </a:lnTo>
                        <a:lnTo>
                          <a:pt x="30" y="34"/>
                        </a:lnTo>
                        <a:lnTo>
                          <a:pt x="0" y="2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8" name=""/>
              <p:cNvGrpSpPr/>
              <p:nvPr/>
            </p:nvGrpSpPr>
            <p:grpSpPr>
              <a:xfrm>
                <a:off x="6095160" y="3997800"/>
                <a:ext cx="578880" cy="802440"/>
                <a:chOff x="6095160" y="3997800"/>
                <a:chExt cx="578880" cy="802440"/>
              </a:xfrm>
            </p:grpSpPr>
            <p:grpSp>
              <p:nvGrpSpPr>
                <p:cNvPr id="249" name=""/>
                <p:cNvGrpSpPr/>
                <p:nvPr/>
              </p:nvGrpSpPr>
              <p:grpSpPr>
                <a:xfrm>
                  <a:off x="6294600" y="3997800"/>
                  <a:ext cx="379440" cy="299880"/>
                  <a:chOff x="6294600" y="3997800"/>
                  <a:chExt cx="379440" cy="29988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302880" y="4102200"/>
                    <a:ext cx="24984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31">
                        <a:moveTo>
                          <a:pt x="489" y="0"/>
                        </a:moveTo>
                        <a:lnTo>
                          <a:pt x="316" y="110"/>
                        </a:lnTo>
                        <a:lnTo>
                          <a:pt x="158" y="192"/>
                        </a:lnTo>
                        <a:lnTo>
                          <a:pt x="80" y="251"/>
                        </a:lnTo>
                        <a:lnTo>
                          <a:pt x="17" y="321"/>
                        </a:lnTo>
                        <a:lnTo>
                          <a:pt x="0" y="367"/>
                        </a:lnTo>
                        <a:lnTo>
                          <a:pt x="28" y="411"/>
                        </a:lnTo>
                        <a:lnTo>
                          <a:pt x="83" y="431"/>
                        </a:lnTo>
                        <a:lnTo>
                          <a:pt x="159" y="339"/>
                        </a:lnTo>
                        <a:lnTo>
                          <a:pt x="233" y="270"/>
                        </a:lnTo>
                        <a:lnTo>
                          <a:pt x="340" y="205"/>
                        </a:lnTo>
                        <a:lnTo>
                          <a:pt x="434" y="155"/>
                        </a:lnTo>
                        <a:lnTo>
                          <a:pt x="550" y="93"/>
                        </a:lnTo>
                        <a:lnTo>
                          <a:pt x="532" y="43"/>
                        </a:lnTo>
                        <a:lnTo>
                          <a:pt x="489" y="0"/>
                        </a:lnTo>
                        <a:close/>
                      </a:path>
                    </a:pathLst>
                  </a:custGeom>
                  <a:solidFill>
                    <a:srgbClr val="d8c8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475320" y="4002480"/>
                    <a:ext cx="192960" cy="24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26" h="574">
                        <a:moveTo>
                          <a:pt x="224" y="412"/>
                        </a:moveTo>
                        <a:lnTo>
                          <a:pt x="89" y="224"/>
                        </a:lnTo>
                        <a:lnTo>
                          <a:pt x="62" y="181"/>
                        </a:lnTo>
                        <a:lnTo>
                          <a:pt x="68" y="151"/>
                        </a:lnTo>
                        <a:lnTo>
                          <a:pt x="25" y="145"/>
                        </a:lnTo>
                        <a:lnTo>
                          <a:pt x="0" y="122"/>
                        </a:lnTo>
                        <a:lnTo>
                          <a:pt x="27" y="55"/>
                        </a:lnTo>
                        <a:lnTo>
                          <a:pt x="76" y="18"/>
                        </a:lnTo>
                        <a:lnTo>
                          <a:pt x="136" y="0"/>
                        </a:lnTo>
                        <a:lnTo>
                          <a:pt x="174" y="11"/>
                        </a:lnTo>
                        <a:lnTo>
                          <a:pt x="185" y="72"/>
                        </a:lnTo>
                        <a:lnTo>
                          <a:pt x="218" y="80"/>
                        </a:lnTo>
                        <a:lnTo>
                          <a:pt x="296" y="169"/>
                        </a:lnTo>
                        <a:lnTo>
                          <a:pt x="371" y="279"/>
                        </a:lnTo>
                        <a:lnTo>
                          <a:pt x="414" y="348"/>
                        </a:lnTo>
                        <a:lnTo>
                          <a:pt x="426" y="433"/>
                        </a:lnTo>
                        <a:lnTo>
                          <a:pt x="406" y="504"/>
                        </a:lnTo>
                        <a:lnTo>
                          <a:pt x="375" y="556"/>
                        </a:lnTo>
                        <a:lnTo>
                          <a:pt x="359" y="566"/>
                        </a:lnTo>
                        <a:lnTo>
                          <a:pt x="321" y="547"/>
                        </a:lnTo>
                        <a:lnTo>
                          <a:pt x="338" y="464"/>
                        </a:lnTo>
                        <a:lnTo>
                          <a:pt x="286" y="529"/>
                        </a:lnTo>
                        <a:lnTo>
                          <a:pt x="249" y="574"/>
                        </a:lnTo>
                        <a:lnTo>
                          <a:pt x="222" y="561"/>
                        </a:lnTo>
                        <a:lnTo>
                          <a:pt x="242" y="474"/>
                        </a:lnTo>
                        <a:lnTo>
                          <a:pt x="224" y="412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6294600" y="3997800"/>
                    <a:ext cx="379440" cy="299880"/>
                    <a:chOff x="6294600" y="3997800"/>
                    <a:chExt cx="379440" cy="29988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294600" y="3997800"/>
                      <a:ext cx="379440" cy="29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6" h="696">
                          <a:moveTo>
                            <a:pt x="522" y="121"/>
                          </a:moveTo>
                          <a:lnTo>
                            <a:pt x="557" y="91"/>
                          </a:lnTo>
                          <a:lnTo>
                            <a:pt x="571" y="60"/>
                          </a:lnTo>
                          <a:lnTo>
                            <a:pt x="564" y="42"/>
                          </a:lnTo>
                          <a:lnTo>
                            <a:pt x="547" y="22"/>
                          </a:lnTo>
                          <a:lnTo>
                            <a:pt x="509" y="34"/>
                          </a:lnTo>
                          <a:lnTo>
                            <a:pt x="467" y="48"/>
                          </a:lnTo>
                          <a:lnTo>
                            <a:pt x="443" y="84"/>
                          </a:lnTo>
                          <a:lnTo>
                            <a:pt x="431" y="114"/>
                          </a:lnTo>
                          <a:lnTo>
                            <a:pt x="431" y="143"/>
                          </a:lnTo>
                          <a:lnTo>
                            <a:pt x="453" y="152"/>
                          </a:lnTo>
                          <a:lnTo>
                            <a:pt x="477" y="150"/>
                          </a:lnTo>
                          <a:lnTo>
                            <a:pt x="484" y="170"/>
                          </a:lnTo>
                          <a:lnTo>
                            <a:pt x="484" y="188"/>
                          </a:lnTo>
                          <a:lnTo>
                            <a:pt x="515" y="249"/>
                          </a:lnTo>
                          <a:lnTo>
                            <a:pt x="413" y="313"/>
                          </a:lnTo>
                          <a:lnTo>
                            <a:pt x="296" y="389"/>
                          </a:lnTo>
                          <a:lnTo>
                            <a:pt x="153" y="459"/>
                          </a:lnTo>
                          <a:lnTo>
                            <a:pt x="84" y="528"/>
                          </a:lnTo>
                          <a:lnTo>
                            <a:pt x="43" y="577"/>
                          </a:lnTo>
                          <a:lnTo>
                            <a:pt x="41" y="613"/>
                          </a:lnTo>
                          <a:lnTo>
                            <a:pt x="73" y="637"/>
                          </a:lnTo>
                          <a:lnTo>
                            <a:pt x="101" y="647"/>
                          </a:lnTo>
                          <a:lnTo>
                            <a:pt x="132" y="606"/>
                          </a:lnTo>
                          <a:lnTo>
                            <a:pt x="195" y="533"/>
                          </a:lnTo>
                          <a:lnTo>
                            <a:pt x="272" y="477"/>
                          </a:lnTo>
                          <a:lnTo>
                            <a:pt x="365" y="428"/>
                          </a:lnTo>
                          <a:lnTo>
                            <a:pt x="460" y="376"/>
                          </a:lnTo>
                          <a:lnTo>
                            <a:pt x="539" y="334"/>
                          </a:lnTo>
                          <a:lnTo>
                            <a:pt x="515" y="289"/>
                          </a:lnTo>
                          <a:lnTo>
                            <a:pt x="526" y="265"/>
                          </a:lnTo>
                          <a:lnTo>
                            <a:pt x="581" y="334"/>
                          </a:lnTo>
                          <a:lnTo>
                            <a:pt x="626" y="399"/>
                          </a:lnTo>
                          <a:lnTo>
                            <a:pt x="650" y="443"/>
                          </a:lnTo>
                          <a:lnTo>
                            <a:pt x="659" y="490"/>
                          </a:lnTo>
                          <a:lnTo>
                            <a:pt x="641" y="563"/>
                          </a:lnTo>
                          <a:lnTo>
                            <a:pt x="678" y="528"/>
                          </a:lnTo>
                          <a:lnTo>
                            <a:pt x="720" y="471"/>
                          </a:lnTo>
                          <a:lnTo>
                            <a:pt x="722" y="404"/>
                          </a:lnTo>
                          <a:lnTo>
                            <a:pt x="720" y="365"/>
                          </a:lnTo>
                          <a:lnTo>
                            <a:pt x="745" y="411"/>
                          </a:lnTo>
                          <a:lnTo>
                            <a:pt x="752" y="466"/>
                          </a:lnTo>
                          <a:lnTo>
                            <a:pt x="741" y="533"/>
                          </a:lnTo>
                          <a:lnTo>
                            <a:pt x="765" y="550"/>
                          </a:lnTo>
                          <a:lnTo>
                            <a:pt x="777" y="539"/>
                          </a:lnTo>
                          <a:lnTo>
                            <a:pt x="805" y="466"/>
                          </a:lnTo>
                          <a:lnTo>
                            <a:pt x="807" y="404"/>
                          </a:lnTo>
                          <a:lnTo>
                            <a:pt x="795" y="356"/>
                          </a:lnTo>
                          <a:lnTo>
                            <a:pt x="777" y="313"/>
                          </a:lnTo>
                          <a:lnTo>
                            <a:pt x="728" y="253"/>
                          </a:lnTo>
                          <a:lnTo>
                            <a:pt x="683" y="185"/>
                          </a:lnTo>
                          <a:lnTo>
                            <a:pt x="637" y="143"/>
                          </a:lnTo>
                          <a:lnTo>
                            <a:pt x="610" y="115"/>
                          </a:lnTo>
                          <a:lnTo>
                            <a:pt x="599" y="95"/>
                          </a:lnTo>
                          <a:lnTo>
                            <a:pt x="610" y="70"/>
                          </a:lnTo>
                          <a:lnTo>
                            <a:pt x="692" y="156"/>
                          </a:lnTo>
                          <a:lnTo>
                            <a:pt x="756" y="240"/>
                          </a:lnTo>
                          <a:lnTo>
                            <a:pt x="805" y="316"/>
                          </a:lnTo>
                          <a:lnTo>
                            <a:pt x="829" y="375"/>
                          </a:lnTo>
                          <a:lnTo>
                            <a:pt x="836" y="428"/>
                          </a:lnTo>
                          <a:lnTo>
                            <a:pt x="832" y="486"/>
                          </a:lnTo>
                          <a:lnTo>
                            <a:pt x="800" y="564"/>
                          </a:lnTo>
                          <a:lnTo>
                            <a:pt x="759" y="601"/>
                          </a:lnTo>
                          <a:lnTo>
                            <a:pt x="708" y="564"/>
                          </a:lnTo>
                          <a:lnTo>
                            <a:pt x="720" y="504"/>
                          </a:lnTo>
                          <a:lnTo>
                            <a:pt x="654" y="611"/>
                          </a:lnTo>
                          <a:lnTo>
                            <a:pt x="602" y="582"/>
                          </a:lnTo>
                          <a:lnTo>
                            <a:pt x="619" y="519"/>
                          </a:lnTo>
                          <a:lnTo>
                            <a:pt x="623" y="459"/>
                          </a:lnTo>
                          <a:lnTo>
                            <a:pt x="607" y="413"/>
                          </a:lnTo>
                          <a:lnTo>
                            <a:pt x="558" y="356"/>
                          </a:lnTo>
                          <a:lnTo>
                            <a:pt x="456" y="411"/>
                          </a:lnTo>
                          <a:lnTo>
                            <a:pt x="383" y="446"/>
                          </a:lnTo>
                          <a:lnTo>
                            <a:pt x="303" y="491"/>
                          </a:lnTo>
                          <a:lnTo>
                            <a:pt x="231" y="539"/>
                          </a:lnTo>
                          <a:lnTo>
                            <a:pt x="186" y="595"/>
                          </a:lnTo>
                          <a:lnTo>
                            <a:pt x="140" y="643"/>
                          </a:lnTo>
                          <a:lnTo>
                            <a:pt x="104" y="696"/>
                          </a:lnTo>
                          <a:lnTo>
                            <a:pt x="49" y="674"/>
                          </a:lnTo>
                          <a:lnTo>
                            <a:pt x="12" y="641"/>
                          </a:lnTo>
                          <a:lnTo>
                            <a:pt x="0" y="601"/>
                          </a:lnTo>
                          <a:lnTo>
                            <a:pt x="25" y="553"/>
                          </a:lnTo>
                          <a:lnTo>
                            <a:pt x="101" y="473"/>
                          </a:lnTo>
                          <a:lnTo>
                            <a:pt x="182" y="418"/>
                          </a:lnTo>
                          <a:lnTo>
                            <a:pt x="272" y="362"/>
                          </a:lnTo>
                          <a:lnTo>
                            <a:pt x="393" y="302"/>
                          </a:lnTo>
                          <a:lnTo>
                            <a:pt x="477" y="237"/>
                          </a:lnTo>
                          <a:lnTo>
                            <a:pt x="456" y="198"/>
                          </a:lnTo>
                          <a:lnTo>
                            <a:pt x="460" y="174"/>
                          </a:lnTo>
                          <a:lnTo>
                            <a:pt x="411" y="170"/>
                          </a:lnTo>
                          <a:lnTo>
                            <a:pt x="394" y="133"/>
                          </a:lnTo>
                          <a:lnTo>
                            <a:pt x="407" y="91"/>
                          </a:lnTo>
                          <a:lnTo>
                            <a:pt x="431" y="52"/>
                          </a:lnTo>
                          <a:lnTo>
                            <a:pt x="477" y="18"/>
                          </a:lnTo>
                          <a:lnTo>
                            <a:pt x="526" y="4"/>
                          </a:lnTo>
                          <a:lnTo>
                            <a:pt x="563" y="0"/>
                          </a:lnTo>
                          <a:lnTo>
                            <a:pt x="589" y="22"/>
                          </a:lnTo>
                          <a:lnTo>
                            <a:pt x="605" y="46"/>
                          </a:lnTo>
                          <a:lnTo>
                            <a:pt x="593" y="77"/>
                          </a:lnTo>
                          <a:lnTo>
                            <a:pt x="571" y="109"/>
                          </a:lnTo>
                          <a:lnTo>
                            <a:pt x="534" y="143"/>
                          </a:lnTo>
                          <a:lnTo>
                            <a:pt x="495" y="146"/>
                          </a:lnTo>
                          <a:lnTo>
                            <a:pt x="522" y="1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566400" y="4071240"/>
                      <a:ext cx="4500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90">
                          <a:moveTo>
                            <a:pt x="31" y="0"/>
                          </a:moveTo>
                          <a:lnTo>
                            <a:pt x="64" y="23"/>
                          </a:lnTo>
                          <a:lnTo>
                            <a:pt x="94" y="57"/>
                          </a:lnTo>
                          <a:lnTo>
                            <a:pt x="97" y="87"/>
                          </a:lnTo>
                          <a:lnTo>
                            <a:pt x="67" y="90"/>
                          </a:lnTo>
                          <a:lnTo>
                            <a:pt x="21" y="50"/>
                          </a:lnTo>
                          <a:lnTo>
                            <a:pt x="0" y="3"/>
                          </a:lnTo>
                          <a:lnTo>
                            <a:pt x="3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6095160" y="4191480"/>
                  <a:ext cx="305280" cy="608760"/>
                  <a:chOff x="6095160" y="4191480"/>
                  <a:chExt cx="305280" cy="60876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6139800" y="4287240"/>
                    <a:ext cx="1774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69">
                        <a:moveTo>
                          <a:pt x="139" y="83"/>
                        </a:moveTo>
                        <a:lnTo>
                          <a:pt x="176" y="40"/>
                        </a:lnTo>
                        <a:lnTo>
                          <a:pt x="225" y="8"/>
                        </a:lnTo>
                        <a:lnTo>
                          <a:pt x="273" y="0"/>
                        </a:lnTo>
                        <a:lnTo>
                          <a:pt x="324" y="0"/>
                        </a:lnTo>
                        <a:lnTo>
                          <a:pt x="359" y="14"/>
                        </a:lnTo>
                        <a:lnTo>
                          <a:pt x="378" y="40"/>
                        </a:lnTo>
                        <a:lnTo>
                          <a:pt x="390" y="75"/>
                        </a:lnTo>
                        <a:lnTo>
                          <a:pt x="392" y="112"/>
                        </a:lnTo>
                        <a:lnTo>
                          <a:pt x="385" y="149"/>
                        </a:lnTo>
                        <a:lnTo>
                          <a:pt x="354" y="188"/>
                        </a:lnTo>
                        <a:lnTo>
                          <a:pt x="313" y="223"/>
                        </a:lnTo>
                        <a:lnTo>
                          <a:pt x="263" y="250"/>
                        </a:lnTo>
                        <a:lnTo>
                          <a:pt x="218" y="269"/>
                        </a:lnTo>
                        <a:lnTo>
                          <a:pt x="176" y="266"/>
                        </a:lnTo>
                        <a:lnTo>
                          <a:pt x="153" y="256"/>
                        </a:lnTo>
                        <a:lnTo>
                          <a:pt x="135" y="245"/>
                        </a:lnTo>
                        <a:lnTo>
                          <a:pt x="115" y="223"/>
                        </a:lnTo>
                        <a:lnTo>
                          <a:pt x="102" y="176"/>
                        </a:lnTo>
                        <a:lnTo>
                          <a:pt x="110" y="137"/>
                        </a:lnTo>
                        <a:lnTo>
                          <a:pt x="78" y="155"/>
                        </a:lnTo>
                        <a:lnTo>
                          <a:pt x="37" y="169"/>
                        </a:lnTo>
                        <a:lnTo>
                          <a:pt x="14" y="169"/>
                        </a:lnTo>
                        <a:lnTo>
                          <a:pt x="0" y="155"/>
                        </a:lnTo>
                        <a:lnTo>
                          <a:pt x="0" y="137"/>
                        </a:lnTo>
                        <a:lnTo>
                          <a:pt x="28" y="131"/>
                        </a:lnTo>
                        <a:lnTo>
                          <a:pt x="61" y="121"/>
                        </a:lnTo>
                        <a:lnTo>
                          <a:pt x="104" y="101"/>
                        </a:lnTo>
                        <a:lnTo>
                          <a:pt x="139" y="8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19640" y="4404960"/>
                    <a:ext cx="117720" cy="18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421">
                        <a:moveTo>
                          <a:pt x="72" y="43"/>
                        </a:moveTo>
                        <a:lnTo>
                          <a:pt x="106" y="14"/>
                        </a:lnTo>
                        <a:lnTo>
                          <a:pt x="149" y="0"/>
                        </a:lnTo>
                        <a:lnTo>
                          <a:pt x="186" y="2"/>
                        </a:lnTo>
                        <a:lnTo>
                          <a:pt x="227" y="13"/>
                        </a:lnTo>
                        <a:lnTo>
                          <a:pt x="253" y="33"/>
                        </a:lnTo>
                        <a:lnTo>
                          <a:pt x="260" y="64"/>
                        </a:lnTo>
                        <a:lnTo>
                          <a:pt x="241" y="102"/>
                        </a:lnTo>
                        <a:lnTo>
                          <a:pt x="209" y="139"/>
                        </a:lnTo>
                        <a:lnTo>
                          <a:pt x="193" y="184"/>
                        </a:lnTo>
                        <a:lnTo>
                          <a:pt x="193" y="225"/>
                        </a:lnTo>
                        <a:lnTo>
                          <a:pt x="209" y="256"/>
                        </a:lnTo>
                        <a:lnTo>
                          <a:pt x="230" y="274"/>
                        </a:lnTo>
                        <a:lnTo>
                          <a:pt x="246" y="298"/>
                        </a:lnTo>
                        <a:lnTo>
                          <a:pt x="248" y="329"/>
                        </a:lnTo>
                        <a:lnTo>
                          <a:pt x="240" y="366"/>
                        </a:lnTo>
                        <a:lnTo>
                          <a:pt x="223" y="390"/>
                        </a:lnTo>
                        <a:lnTo>
                          <a:pt x="186" y="411"/>
                        </a:lnTo>
                        <a:lnTo>
                          <a:pt x="147" y="421"/>
                        </a:lnTo>
                        <a:lnTo>
                          <a:pt x="111" y="414"/>
                        </a:lnTo>
                        <a:lnTo>
                          <a:pt x="72" y="403"/>
                        </a:lnTo>
                        <a:lnTo>
                          <a:pt x="40" y="372"/>
                        </a:lnTo>
                        <a:lnTo>
                          <a:pt x="19" y="335"/>
                        </a:lnTo>
                        <a:lnTo>
                          <a:pt x="3" y="286"/>
                        </a:lnTo>
                        <a:lnTo>
                          <a:pt x="0" y="230"/>
                        </a:lnTo>
                        <a:lnTo>
                          <a:pt x="6" y="170"/>
                        </a:lnTo>
                        <a:lnTo>
                          <a:pt x="23" y="123"/>
                        </a:lnTo>
                        <a:lnTo>
                          <a:pt x="43" y="73"/>
                        </a:lnTo>
                        <a:lnTo>
                          <a:pt x="72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83360" y="4548240"/>
                    <a:ext cx="1249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585">
                        <a:moveTo>
                          <a:pt x="20" y="134"/>
                        </a:moveTo>
                        <a:lnTo>
                          <a:pt x="0" y="62"/>
                        </a:lnTo>
                        <a:lnTo>
                          <a:pt x="2" y="13"/>
                        </a:lnTo>
                        <a:lnTo>
                          <a:pt x="30" y="0"/>
                        </a:lnTo>
                        <a:lnTo>
                          <a:pt x="67" y="6"/>
                        </a:lnTo>
                        <a:lnTo>
                          <a:pt x="86" y="31"/>
                        </a:lnTo>
                        <a:lnTo>
                          <a:pt x="93" y="114"/>
                        </a:lnTo>
                        <a:lnTo>
                          <a:pt x="111" y="195"/>
                        </a:lnTo>
                        <a:lnTo>
                          <a:pt x="131" y="266"/>
                        </a:lnTo>
                        <a:lnTo>
                          <a:pt x="161" y="323"/>
                        </a:lnTo>
                        <a:lnTo>
                          <a:pt x="194" y="357"/>
                        </a:lnTo>
                        <a:lnTo>
                          <a:pt x="218" y="408"/>
                        </a:lnTo>
                        <a:lnTo>
                          <a:pt x="241" y="445"/>
                        </a:lnTo>
                        <a:lnTo>
                          <a:pt x="260" y="463"/>
                        </a:lnTo>
                        <a:lnTo>
                          <a:pt x="275" y="488"/>
                        </a:lnTo>
                        <a:lnTo>
                          <a:pt x="268" y="512"/>
                        </a:lnTo>
                        <a:lnTo>
                          <a:pt x="254" y="518"/>
                        </a:lnTo>
                        <a:lnTo>
                          <a:pt x="223" y="529"/>
                        </a:lnTo>
                        <a:lnTo>
                          <a:pt x="181" y="536"/>
                        </a:lnTo>
                        <a:lnTo>
                          <a:pt x="130" y="571"/>
                        </a:lnTo>
                        <a:lnTo>
                          <a:pt x="113" y="585"/>
                        </a:lnTo>
                        <a:lnTo>
                          <a:pt x="93" y="578"/>
                        </a:lnTo>
                        <a:lnTo>
                          <a:pt x="76" y="554"/>
                        </a:lnTo>
                        <a:lnTo>
                          <a:pt x="83" y="534"/>
                        </a:lnTo>
                        <a:lnTo>
                          <a:pt x="113" y="512"/>
                        </a:lnTo>
                        <a:lnTo>
                          <a:pt x="180" y="491"/>
                        </a:lnTo>
                        <a:lnTo>
                          <a:pt x="200" y="485"/>
                        </a:lnTo>
                        <a:lnTo>
                          <a:pt x="211" y="463"/>
                        </a:lnTo>
                        <a:lnTo>
                          <a:pt x="200" y="450"/>
                        </a:lnTo>
                        <a:lnTo>
                          <a:pt x="170" y="408"/>
                        </a:lnTo>
                        <a:lnTo>
                          <a:pt x="138" y="360"/>
                        </a:lnTo>
                        <a:lnTo>
                          <a:pt x="101" y="308"/>
                        </a:lnTo>
                        <a:lnTo>
                          <a:pt x="74" y="253"/>
                        </a:lnTo>
                        <a:lnTo>
                          <a:pt x="46" y="195"/>
                        </a:lnTo>
                        <a:lnTo>
                          <a:pt x="20" y="1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095160" y="4543200"/>
                    <a:ext cx="867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575">
                        <a:moveTo>
                          <a:pt x="78" y="165"/>
                        </a:moveTo>
                        <a:lnTo>
                          <a:pt x="91" y="81"/>
                        </a:lnTo>
                        <a:lnTo>
                          <a:pt x="118" y="18"/>
                        </a:lnTo>
                        <a:lnTo>
                          <a:pt x="169" y="0"/>
                        </a:lnTo>
                        <a:lnTo>
                          <a:pt x="192" y="27"/>
                        </a:lnTo>
                        <a:lnTo>
                          <a:pt x="186" y="81"/>
                        </a:lnTo>
                        <a:lnTo>
                          <a:pt x="143" y="152"/>
                        </a:lnTo>
                        <a:lnTo>
                          <a:pt x="123" y="239"/>
                        </a:lnTo>
                        <a:lnTo>
                          <a:pt x="117" y="307"/>
                        </a:lnTo>
                        <a:lnTo>
                          <a:pt x="118" y="335"/>
                        </a:lnTo>
                        <a:lnTo>
                          <a:pt x="141" y="384"/>
                        </a:lnTo>
                        <a:lnTo>
                          <a:pt x="154" y="429"/>
                        </a:lnTo>
                        <a:lnTo>
                          <a:pt x="154" y="481"/>
                        </a:lnTo>
                        <a:lnTo>
                          <a:pt x="150" y="505"/>
                        </a:lnTo>
                        <a:lnTo>
                          <a:pt x="156" y="526"/>
                        </a:lnTo>
                        <a:lnTo>
                          <a:pt x="154" y="548"/>
                        </a:lnTo>
                        <a:lnTo>
                          <a:pt x="131" y="550"/>
                        </a:lnTo>
                        <a:lnTo>
                          <a:pt x="87" y="550"/>
                        </a:lnTo>
                        <a:lnTo>
                          <a:pt x="38" y="560"/>
                        </a:lnTo>
                        <a:lnTo>
                          <a:pt x="13" y="575"/>
                        </a:lnTo>
                        <a:lnTo>
                          <a:pt x="0" y="554"/>
                        </a:lnTo>
                        <a:lnTo>
                          <a:pt x="10" y="523"/>
                        </a:lnTo>
                        <a:lnTo>
                          <a:pt x="42" y="508"/>
                        </a:lnTo>
                        <a:lnTo>
                          <a:pt x="78" y="508"/>
                        </a:lnTo>
                        <a:lnTo>
                          <a:pt x="110" y="502"/>
                        </a:lnTo>
                        <a:lnTo>
                          <a:pt x="118" y="484"/>
                        </a:lnTo>
                        <a:lnTo>
                          <a:pt x="111" y="440"/>
                        </a:lnTo>
                        <a:lnTo>
                          <a:pt x="97" y="377"/>
                        </a:lnTo>
                        <a:lnTo>
                          <a:pt x="72" y="331"/>
                        </a:lnTo>
                        <a:lnTo>
                          <a:pt x="68" y="283"/>
                        </a:lnTo>
                        <a:lnTo>
                          <a:pt x="72" y="238"/>
                        </a:lnTo>
                        <a:lnTo>
                          <a:pt x="78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201000" y="4223520"/>
                    <a:ext cx="19944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1" h="558">
                        <a:moveTo>
                          <a:pt x="116" y="447"/>
                        </a:moveTo>
                        <a:lnTo>
                          <a:pt x="53" y="447"/>
                        </a:lnTo>
                        <a:lnTo>
                          <a:pt x="0" y="465"/>
                        </a:lnTo>
                        <a:lnTo>
                          <a:pt x="10" y="512"/>
                        </a:lnTo>
                        <a:lnTo>
                          <a:pt x="47" y="521"/>
                        </a:lnTo>
                        <a:lnTo>
                          <a:pt x="120" y="516"/>
                        </a:lnTo>
                        <a:lnTo>
                          <a:pt x="200" y="528"/>
                        </a:lnTo>
                        <a:lnTo>
                          <a:pt x="312" y="554"/>
                        </a:lnTo>
                        <a:lnTo>
                          <a:pt x="348" y="558"/>
                        </a:lnTo>
                        <a:lnTo>
                          <a:pt x="365" y="537"/>
                        </a:lnTo>
                        <a:lnTo>
                          <a:pt x="379" y="483"/>
                        </a:lnTo>
                        <a:lnTo>
                          <a:pt x="390" y="287"/>
                        </a:lnTo>
                        <a:lnTo>
                          <a:pt x="390" y="204"/>
                        </a:lnTo>
                        <a:lnTo>
                          <a:pt x="386" y="140"/>
                        </a:lnTo>
                        <a:lnTo>
                          <a:pt x="410" y="112"/>
                        </a:lnTo>
                        <a:lnTo>
                          <a:pt x="434" y="76"/>
                        </a:lnTo>
                        <a:lnTo>
                          <a:pt x="438" y="49"/>
                        </a:lnTo>
                        <a:lnTo>
                          <a:pt x="441" y="0"/>
                        </a:lnTo>
                        <a:lnTo>
                          <a:pt x="349" y="87"/>
                        </a:lnTo>
                        <a:lnTo>
                          <a:pt x="335" y="135"/>
                        </a:lnTo>
                        <a:lnTo>
                          <a:pt x="359" y="171"/>
                        </a:lnTo>
                        <a:lnTo>
                          <a:pt x="359" y="281"/>
                        </a:lnTo>
                        <a:lnTo>
                          <a:pt x="348" y="361"/>
                        </a:lnTo>
                        <a:lnTo>
                          <a:pt x="337" y="433"/>
                        </a:lnTo>
                        <a:lnTo>
                          <a:pt x="322" y="482"/>
                        </a:lnTo>
                        <a:lnTo>
                          <a:pt x="304" y="512"/>
                        </a:lnTo>
                        <a:lnTo>
                          <a:pt x="255" y="493"/>
                        </a:lnTo>
                        <a:lnTo>
                          <a:pt x="188" y="469"/>
                        </a:lnTo>
                        <a:lnTo>
                          <a:pt x="116" y="44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11360" y="4191480"/>
                    <a:ext cx="26352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600">
                        <a:moveTo>
                          <a:pt x="162" y="535"/>
                        </a:moveTo>
                        <a:lnTo>
                          <a:pt x="176" y="563"/>
                        </a:lnTo>
                        <a:lnTo>
                          <a:pt x="162" y="592"/>
                        </a:lnTo>
                        <a:lnTo>
                          <a:pt x="107" y="600"/>
                        </a:lnTo>
                        <a:lnTo>
                          <a:pt x="96" y="551"/>
                        </a:lnTo>
                        <a:lnTo>
                          <a:pt x="61" y="462"/>
                        </a:lnTo>
                        <a:lnTo>
                          <a:pt x="30" y="363"/>
                        </a:lnTo>
                        <a:lnTo>
                          <a:pt x="6" y="284"/>
                        </a:lnTo>
                        <a:lnTo>
                          <a:pt x="0" y="217"/>
                        </a:lnTo>
                        <a:lnTo>
                          <a:pt x="16" y="177"/>
                        </a:lnTo>
                        <a:lnTo>
                          <a:pt x="58" y="139"/>
                        </a:lnTo>
                        <a:lnTo>
                          <a:pt x="199" y="95"/>
                        </a:lnTo>
                        <a:lnTo>
                          <a:pt x="328" y="73"/>
                        </a:lnTo>
                        <a:lnTo>
                          <a:pt x="420" y="52"/>
                        </a:lnTo>
                        <a:lnTo>
                          <a:pt x="479" y="35"/>
                        </a:lnTo>
                        <a:lnTo>
                          <a:pt x="511" y="17"/>
                        </a:lnTo>
                        <a:lnTo>
                          <a:pt x="552" y="0"/>
                        </a:lnTo>
                        <a:lnTo>
                          <a:pt x="583" y="17"/>
                        </a:lnTo>
                        <a:lnTo>
                          <a:pt x="576" y="52"/>
                        </a:lnTo>
                        <a:lnTo>
                          <a:pt x="548" y="86"/>
                        </a:lnTo>
                        <a:lnTo>
                          <a:pt x="511" y="101"/>
                        </a:lnTo>
                        <a:lnTo>
                          <a:pt x="473" y="86"/>
                        </a:lnTo>
                        <a:lnTo>
                          <a:pt x="442" y="77"/>
                        </a:lnTo>
                        <a:lnTo>
                          <a:pt x="365" y="97"/>
                        </a:lnTo>
                        <a:lnTo>
                          <a:pt x="244" y="125"/>
                        </a:lnTo>
                        <a:lnTo>
                          <a:pt x="145" y="156"/>
                        </a:lnTo>
                        <a:lnTo>
                          <a:pt x="71" y="183"/>
                        </a:lnTo>
                        <a:lnTo>
                          <a:pt x="52" y="207"/>
                        </a:lnTo>
                        <a:lnTo>
                          <a:pt x="48" y="237"/>
                        </a:lnTo>
                        <a:lnTo>
                          <a:pt x="65" y="302"/>
                        </a:lnTo>
                        <a:lnTo>
                          <a:pt x="101" y="399"/>
                        </a:lnTo>
                        <a:lnTo>
                          <a:pt x="144" y="486"/>
                        </a:lnTo>
                        <a:lnTo>
                          <a:pt x="162" y="5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2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746160" y="3869640"/>
                <a:ext cx="1094400" cy="111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5118120" y="3862080"/>
                <a:ext cx="282600" cy="92880"/>
              </a:xfrm>
              <a:custGeom>
                <a:avLst/>
                <a:gdLst/>
                <a:ahLst/>
                <a:rect l="l" t="t" r="r" b="b"/>
                <a:pathLst>
                  <a:path w="589" h="190">
                    <a:moveTo>
                      <a:pt x="0" y="34"/>
                    </a:moveTo>
                    <a:lnTo>
                      <a:pt x="332" y="10"/>
                    </a:lnTo>
                    <a:lnTo>
                      <a:pt x="567" y="0"/>
                    </a:lnTo>
                    <a:lnTo>
                      <a:pt x="585" y="43"/>
                    </a:lnTo>
                    <a:lnTo>
                      <a:pt x="589" y="141"/>
                    </a:lnTo>
                    <a:lnTo>
                      <a:pt x="582" y="165"/>
                    </a:lnTo>
                    <a:lnTo>
                      <a:pt x="367" y="175"/>
                    </a:lnTo>
                    <a:lnTo>
                      <a:pt x="109" y="190"/>
                    </a:lnTo>
                    <a:lnTo>
                      <a:pt x="1" y="189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09840" y="3854160"/>
                <a:ext cx="298800" cy="106200"/>
              </a:xfrm>
              <a:custGeom>
                <a:avLst/>
                <a:gdLst/>
                <a:ahLst/>
                <a:rect l="l" t="t" r="r" b="b"/>
                <a:pathLst>
                  <a:path w="620" h="216">
                    <a:moveTo>
                      <a:pt x="26" y="34"/>
                    </a:moveTo>
                    <a:lnTo>
                      <a:pt x="400" y="8"/>
                    </a:lnTo>
                    <a:lnTo>
                      <a:pt x="597" y="0"/>
                    </a:lnTo>
                    <a:lnTo>
                      <a:pt x="597" y="28"/>
                    </a:lnTo>
                    <a:lnTo>
                      <a:pt x="251" y="43"/>
                    </a:lnTo>
                    <a:lnTo>
                      <a:pt x="36" y="62"/>
                    </a:lnTo>
                    <a:lnTo>
                      <a:pt x="32" y="182"/>
                    </a:lnTo>
                    <a:lnTo>
                      <a:pt x="54" y="188"/>
                    </a:lnTo>
                    <a:lnTo>
                      <a:pt x="233" y="186"/>
                    </a:lnTo>
                    <a:lnTo>
                      <a:pt x="443" y="168"/>
                    </a:lnTo>
                    <a:lnTo>
                      <a:pt x="591" y="162"/>
                    </a:lnTo>
                    <a:lnTo>
                      <a:pt x="589" y="116"/>
                    </a:lnTo>
                    <a:lnTo>
                      <a:pt x="579" y="34"/>
                    </a:lnTo>
                    <a:lnTo>
                      <a:pt x="584" y="28"/>
                    </a:lnTo>
                    <a:lnTo>
                      <a:pt x="601" y="33"/>
                    </a:lnTo>
                    <a:lnTo>
                      <a:pt x="612" y="49"/>
                    </a:lnTo>
                    <a:lnTo>
                      <a:pt x="620" y="118"/>
                    </a:lnTo>
                    <a:lnTo>
                      <a:pt x="615" y="177"/>
                    </a:lnTo>
                    <a:lnTo>
                      <a:pt x="606" y="188"/>
                    </a:lnTo>
                    <a:lnTo>
                      <a:pt x="565" y="193"/>
                    </a:lnTo>
                    <a:lnTo>
                      <a:pt x="425" y="193"/>
                    </a:lnTo>
                    <a:lnTo>
                      <a:pt x="276" y="200"/>
                    </a:lnTo>
                    <a:lnTo>
                      <a:pt x="92" y="215"/>
                    </a:lnTo>
                    <a:lnTo>
                      <a:pt x="12" y="216"/>
                    </a:lnTo>
                    <a:lnTo>
                      <a:pt x="0" y="206"/>
                    </a:lnTo>
                    <a:lnTo>
                      <a:pt x="3" y="159"/>
                    </a:lnTo>
                    <a:lnTo>
                      <a:pt x="0" y="76"/>
                    </a:lnTo>
                    <a:lnTo>
                      <a:pt x="5" y="44"/>
                    </a:lnTo>
                    <a:lnTo>
                      <a:pt x="26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56360" y="3998880"/>
                <a:ext cx="333000" cy="87840"/>
              </a:xfrm>
              <a:custGeom>
                <a:avLst/>
                <a:gdLst/>
                <a:ahLst/>
                <a:rect l="l" t="t" r="r" b="b"/>
                <a:pathLst>
                  <a:path w="695" h="180">
                    <a:moveTo>
                      <a:pt x="13" y="16"/>
                    </a:moveTo>
                    <a:lnTo>
                      <a:pt x="78" y="10"/>
                    </a:lnTo>
                    <a:lnTo>
                      <a:pt x="256" y="0"/>
                    </a:lnTo>
                    <a:lnTo>
                      <a:pt x="521" y="1"/>
                    </a:lnTo>
                    <a:lnTo>
                      <a:pt x="685" y="10"/>
                    </a:lnTo>
                    <a:lnTo>
                      <a:pt x="695" y="70"/>
                    </a:lnTo>
                    <a:lnTo>
                      <a:pt x="690" y="157"/>
                    </a:lnTo>
                    <a:lnTo>
                      <a:pt x="362" y="165"/>
                    </a:lnTo>
                    <a:lnTo>
                      <a:pt x="194" y="174"/>
                    </a:lnTo>
                    <a:lnTo>
                      <a:pt x="19" y="180"/>
                    </a:lnTo>
                    <a:lnTo>
                      <a:pt x="0" y="16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49520" y="3993840"/>
                <a:ext cx="346680" cy="98280"/>
              </a:xfrm>
              <a:custGeom>
                <a:avLst/>
                <a:gdLst/>
                <a:ahLst/>
                <a:rect l="l" t="t" r="r" b="b"/>
                <a:pathLst>
                  <a:path w="720" h="198">
                    <a:moveTo>
                      <a:pt x="29" y="11"/>
                    </a:moveTo>
                    <a:lnTo>
                      <a:pt x="224" y="5"/>
                    </a:lnTo>
                    <a:lnTo>
                      <a:pt x="435" y="2"/>
                    </a:lnTo>
                    <a:lnTo>
                      <a:pt x="706" y="0"/>
                    </a:lnTo>
                    <a:lnTo>
                      <a:pt x="720" y="10"/>
                    </a:lnTo>
                    <a:lnTo>
                      <a:pt x="710" y="39"/>
                    </a:lnTo>
                    <a:lnTo>
                      <a:pt x="610" y="29"/>
                    </a:lnTo>
                    <a:lnTo>
                      <a:pt x="476" y="20"/>
                    </a:lnTo>
                    <a:lnTo>
                      <a:pt x="302" y="21"/>
                    </a:lnTo>
                    <a:lnTo>
                      <a:pt x="70" y="34"/>
                    </a:lnTo>
                    <a:lnTo>
                      <a:pt x="38" y="45"/>
                    </a:lnTo>
                    <a:lnTo>
                      <a:pt x="38" y="101"/>
                    </a:lnTo>
                    <a:lnTo>
                      <a:pt x="41" y="164"/>
                    </a:lnTo>
                    <a:lnTo>
                      <a:pt x="51" y="170"/>
                    </a:lnTo>
                    <a:lnTo>
                      <a:pt x="141" y="178"/>
                    </a:lnTo>
                    <a:lnTo>
                      <a:pt x="322" y="160"/>
                    </a:lnTo>
                    <a:lnTo>
                      <a:pt x="589" y="155"/>
                    </a:lnTo>
                    <a:lnTo>
                      <a:pt x="688" y="147"/>
                    </a:lnTo>
                    <a:lnTo>
                      <a:pt x="700" y="139"/>
                    </a:lnTo>
                    <a:lnTo>
                      <a:pt x="700" y="78"/>
                    </a:lnTo>
                    <a:lnTo>
                      <a:pt x="695" y="39"/>
                    </a:lnTo>
                    <a:lnTo>
                      <a:pt x="709" y="35"/>
                    </a:lnTo>
                    <a:lnTo>
                      <a:pt x="720" y="55"/>
                    </a:lnTo>
                    <a:lnTo>
                      <a:pt x="719" y="149"/>
                    </a:lnTo>
                    <a:lnTo>
                      <a:pt x="710" y="175"/>
                    </a:lnTo>
                    <a:lnTo>
                      <a:pt x="607" y="180"/>
                    </a:lnTo>
                    <a:lnTo>
                      <a:pt x="412" y="185"/>
                    </a:lnTo>
                    <a:lnTo>
                      <a:pt x="266" y="188"/>
                    </a:lnTo>
                    <a:lnTo>
                      <a:pt x="87" y="198"/>
                    </a:lnTo>
                    <a:lnTo>
                      <a:pt x="10" y="198"/>
                    </a:lnTo>
                    <a:lnTo>
                      <a:pt x="0" y="175"/>
                    </a:lnTo>
                    <a:lnTo>
                      <a:pt x="5" y="122"/>
                    </a:lnTo>
                    <a:lnTo>
                      <a:pt x="8" y="59"/>
                    </a:lnTo>
                    <a:lnTo>
                      <a:pt x="8" y="21"/>
                    </a:lnTo>
                    <a:lnTo>
                      <a:pt x="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366880" y="4109040"/>
                <a:ext cx="845280" cy="131760"/>
              </a:xfrm>
              <a:custGeom>
                <a:avLst/>
                <a:gdLst/>
                <a:ahLst/>
                <a:rect l="l" t="t" r="r" b="b"/>
                <a:pathLst>
                  <a:path w="1758" h="266">
                    <a:moveTo>
                      <a:pt x="2" y="57"/>
                    </a:moveTo>
                    <a:lnTo>
                      <a:pt x="89" y="51"/>
                    </a:lnTo>
                    <a:lnTo>
                      <a:pt x="385" y="47"/>
                    </a:lnTo>
                    <a:lnTo>
                      <a:pt x="657" y="39"/>
                    </a:lnTo>
                    <a:lnTo>
                      <a:pt x="880" y="35"/>
                    </a:lnTo>
                    <a:lnTo>
                      <a:pt x="1042" y="22"/>
                    </a:lnTo>
                    <a:lnTo>
                      <a:pt x="1290" y="12"/>
                    </a:lnTo>
                    <a:lnTo>
                      <a:pt x="1475" y="4"/>
                    </a:lnTo>
                    <a:lnTo>
                      <a:pt x="1743" y="0"/>
                    </a:lnTo>
                    <a:lnTo>
                      <a:pt x="1758" y="111"/>
                    </a:lnTo>
                    <a:lnTo>
                      <a:pt x="1750" y="225"/>
                    </a:lnTo>
                    <a:lnTo>
                      <a:pt x="1554" y="225"/>
                    </a:lnTo>
                    <a:lnTo>
                      <a:pt x="1434" y="227"/>
                    </a:lnTo>
                    <a:lnTo>
                      <a:pt x="1231" y="241"/>
                    </a:lnTo>
                    <a:lnTo>
                      <a:pt x="1028" y="243"/>
                    </a:lnTo>
                    <a:lnTo>
                      <a:pt x="780" y="241"/>
                    </a:lnTo>
                    <a:lnTo>
                      <a:pt x="593" y="253"/>
                    </a:lnTo>
                    <a:lnTo>
                      <a:pt x="420" y="253"/>
                    </a:lnTo>
                    <a:lnTo>
                      <a:pt x="222" y="259"/>
                    </a:lnTo>
                    <a:lnTo>
                      <a:pt x="0" y="266"/>
                    </a:lnTo>
                    <a:lnTo>
                      <a:pt x="2" y="5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" name=""/>
              <p:cNvGrpSpPr/>
              <p:nvPr/>
            </p:nvGrpSpPr>
            <p:grpSpPr>
              <a:xfrm>
                <a:off x="5359680" y="4102560"/>
                <a:ext cx="857520" cy="143280"/>
                <a:chOff x="5359680" y="4102560"/>
                <a:chExt cx="857520" cy="1432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359680" y="4127400"/>
                  <a:ext cx="771120" cy="118440"/>
                </a:xfrm>
                <a:custGeom>
                  <a:avLst/>
                  <a:gdLst/>
                  <a:ahLst/>
                  <a:rect l="l" t="t" r="r" b="b"/>
                  <a:pathLst>
                    <a:path w="1606" h="242">
                      <a:moveTo>
                        <a:pt x="0" y="238"/>
                      </a:moveTo>
                      <a:lnTo>
                        <a:pt x="1" y="33"/>
                      </a:lnTo>
                      <a:lnTo>
                        <a:pt x="1" y="15"/>
                      </a:lnTo>
                      <a:lnTo>
                        <a:pt x="20" y="0"/>
                      </a:lnTo>
                      <a:lnTo>
                        <a:pt x="30" y="30"/>
                      </a:lnTo>
                      <a:lnTo>
                        <a:pt x="30" y="139"/>
                      </a:lnTo>
                      <a:lnTo>
                        <a:pt x="30" y="215"/>
                      </a:lnTo>
                      <a:lnTo>
                        <a:pt x="144" y="210"/>
                      </a:lnTo>
                      <a:lnTo>
                        <a:pt x="376" y="208"/>
                      </a:lnTo>
                      <a:lnTo>
                        <a:pt x="603" y="201"/>
                      </a:lnTo>
                      <a:lnTo>
                        <a:pt x="912" y="191"/>
                      </a:lnTo>
                      <a:lnTo>
                        <a:pt x="1213" y="185"/>
                      </a:lnTo>
                      <a:lnTo>
                        <a:pt x="1483" y="176"/>
                      </a:lnTo>
                      <a:lnTo>
                        <a:pt x="1606" y="195"/>
                      </a:lnTo>
                      <a:lnTo>
                        <a:pt x="1193" y="213"/>
                      </a:lnTo>
                      <a:lnTo>
                        <a:pt x="892" y="215"/>
                      </a:lnTo>
                      <a:lnTo>
                        <a:pt x="618" y="224"/>
                      </a:lnTo>
                      <a:lnTo>
                        <a:pt x="375" y="234"/>
                      </a:lnTo>
                      <a:lnTo>
                        <a:pt x="150" y="234"/>
                      </a:lnTo>
                      <a:lnTo>
                        <a:pt x="25" y="242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2560" y="4106880"/>
                  <a:ext cx="754920" cy="43920"/>
                </a:xfrm>
                <a:custGeom>
                  <a:avLst/>
                  <a:gdLst/>
                  <a:ahLst/>
                  <a:rect l="l" t="t" r="r" b="b"/>
                  <a:pathLst>
                    <a:path w="1571" h="89">
                      <a:moveTo>
                        <a:pt x="0" y="58"/>
                      </a:moveTo>
                      <a:lnTo>
                        <a:pt x="27" y="46"/>
                      </a:lnTo>
                      <a:lnTo>
                        <a:pt x="320" y="46"/>
                      </a:lnTo>
                      <a:lnTo>
                        <a:pt x="582" y="41"/>
                      </a:lnTo>
                      <a:lnTo>
                        <a:pt x="890" y="31"/>
                      </a:lnTo>
                      <a:lnTo>
                        <a:pt x="1122" y="15"/>
                      </a:lnTo>
                      <a:lnTo>
                        <a:pt x="1307" y="5"/>
                      </a:lnTo>
                      <a:lnTo>
                        <a:pt x="1503" y="0"/>
                      </a:lnTo>
                      <a:lnTo>
                        <a:pt x="1571" y="12"/>
                      </a:lnTo>
                      <a:lnTo>
                        <a:pt x="1480" y="27"/>
                      </a:lnTo>
                      <a:lnTo>
                        <a:pt x="1304" y="31"/>
                      </a:lnTo>
                      <a:lnTo>
                        <a:pt x="1091" y="41"/>
                      </a:lnTo>
                      <a:lnTo>
                        <a:pt x="864" y="58"/>
                      </a:lnTo>
                      <a:lnTo>
                        <a:pt x="620" y="63"/>
                      </a:lnTo>
                      <a:lnTo>
                        <a:pt x="352" y="67"/>
                      </a:lnTo>
                      <a:lnTo>
                        <a:pt x="148" y="72"/>
                      </a:lnTo>
                      <a:lnTo>
                        <a:pt x="26" y="79"/>
                      </a:lnTo>
                      <a:lnTo>
                        <a:pt x="3" y="89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027120" y="4102560"/>
                  <a:ext cx="190080" cy="127440"/>
                </a:xfrm>
                <a:custGeom>
                  <a:avLst/>
                  <a:gdLst/>
                  <a:ahLst/>
                  <a:rect l="l" t="t" r="r" b="b"/>
                  <a:pathLst>
                    <a:path w="395" h="261">
                      <a:moveTo>
                        <a:pt x="48" y="23"/>
                      </a:moveTo>
                      <a:lnTo>
                        <a:pt x="89" y="8"/>
                      </a:lnTo>
                      <a:lnTo>
                        <a:pt x="249" y="5"/>
                      </a:lnTo>
                      <a:lnTo>
                        <a:pt x="373" y="0"/>
                      </a:lnTo>
                      <a:lnTo>
                        <a:pt x="388" y="15"/>
                      </a:lnTo>
                      <a:lnTo>
                        <a:pt x="392" y="119"/>
                      </a:lnTo>
                      <a:lnTo>
                        <a:pt x="395" y="251"/>
                      </a:lnTo>
                      <a:lnTo>
                        <a:pt x="377" y="261"/>
                      </a:lnTo>
                      <a:lnTo>
                        <a:pt x="279" y="256"/>
                      </a:lnTo>
                      <a:lnTo>
                        <a:pt x="118" y="250"/>
                      </a:lnTo>
                      <a:lnTo>
                        <a:pt x="0" y="242"/>
                      </a:lnTo>
                      <a:lnTo>
                        <a:pt x="70" y="227"/>
                      </a:lnTo>
                      <a:lnTo>
                        <a:pt x="166" y="225"/>
                      </a:lnTo>
                      <a:lnTo>
                        <a:pt x="321" y="222"/>
                      </a:lnTo>
                      <a:lnTo>
                        <a:pt x="364" y="225"/>
                      </a:lnTo>
                      <a:lnTo>
                        <a:pt x="362" y="205"/>
                      </a:lnTo>
                      <a:lnTo>
                        <a:pt x="368" y="108"/>
                      </a:lnTo>
                      <a:lnTo>
                        <a:pt x="354" y="32"/>
                      </a:lnTo>
                      <a:lnTo>
                        <a:pt x="320" y="24"/>
                      </a:lnTo>
                      <a:lnTo>
                        <a:pt x="71" y="34"/>
                      </a:lnTo>
                      <a:lnTo>
                        <a:pt x="48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207760" y="4305600"/>
                <a:ext cx="743400" cy="299880"/>
              </a:xfrm>
              <a:custGeom>
                <a:avLst/>
                <a:gdLst/>
                <a:ahLst/>
                <a:rect l="l" t="t" r="r" b="b"/>
                <a:pathLst>
                  <a:path w="1546" h="613">
                    <a:moveTo>
                      <a:pt x="9" y="112"/>
                    </a:moveTo>
                    <a:lnTo>
                      <a:pt x="0" y="13"/>
                    </a:lnTo>
                    <a:lnTo>
                      <a:pt x="195" y="14"/>
                    </a:lnTo>
                    <a:lnTo>
                      <a:pt x="453" y="10"/>
                    </a:lnTo>
                    <a:lnTo>
                      <a:pt x="676" y="4"/>
                    </a:lnTo>
                    <a:lnTo>
                      <a:pt x="953" y="0"/>
                    </a:lnTo>
                    <a:lnTo>
                      <a:pt x="1176" y="4"/>
                    </a:lnTo>
                    <a:lnTo>
                      <a:pt x="1373" y="4"/>
                    </a:lnTo>
                    <a:lnTo>
                      <a:pt x="1411" y="19"/>
                    </a:lnTo>
                    <a:lnTo>
                      <a:pt x="1433" y="68"/>
                    </a:lnTo>
                    <a:lnTo>
                      <a:pt x="1449" y="106"/>
                    </a:lnTo>
                    <a:lnTo>
                      <a:pt x="1494" y="126"/>
                    </a:lnTo>
                    <a:lnTo>
                      <a:pt x="1490" y="178"/>
                    </a:lnTo>
                    <a:lnTo>
                      <a:pt x="1480" y="222"/>
                    </a:lnTo>
                    <a:lnTo>
                      <a:pt x="1477" y="297"/>
                    </a:lnTo>
                    <a:lnTo>
                      <a:pt x="1475" y="334"/>
                    </a:lnTo>
                    <a:lnTo>
                      <a:pt x="1468" y="372"/>
                    </a:lnTo>
                    <a:lnTo>
                      <a:pt x="1480" y="420"/>
                    </a:lnTo>
                    <a:lnTo>
                      <a:pt x="1523" y="475"/>
                    </a:lnTo>
                    <a:lnTo>
                      <a:pt x="1546" y="521"/>
                    </a:lnTo>
                    <a:lnTo>
                      <a:pt x="1540" y="613"/>
                    </a:lnTo>
                    <a:lnTo>
                      <a:pt x="1443" y="577"/>
                    </a:lnTo>
                    <a:lnTo>
                      <a:pt x="1429" y="562"/>
                    </a:lnTo>
                    <a:lnTo>
                      <a:pt x="1419" y="539"/>
                    </a:lnTo>
                    <a:lnTo>
                      <a:pt x="1426" y="470"/>
                    </a:lnTo>
                    <a:lnTo>
                      <a:pt x="1417" y="436"/>
                    </a:lnTo>
                    <a:lnTo>
                      <a:pt x="1385" y="376"/>
                    </a:lnTo>
                    <a:lnTo>
                      <a:pt x="1370" y="322"/>
                    </a:lnTo>
                    <a:lnTo>
                      <a:pt x="1369" y="284"/>
                    </a:lnTo>
                    <a:lnTo>
                      <a:pt x="1373" y="260"/>
                    </a:lnTo>
                    <a:lnTo>
                      <a:pt x="1388" y="205"/>
                    </a:lnTo>
                    <a:lnTo>
                      <a:pt x="1396" y="159"/>
                    </a:lnTo>
                    <a:lnTo>
                      <a:pt x="1385" y="126"/>
                    </a:lnTo>
                    <a:lnTo>
                      <a:pt x="1364" y="97"/>
                    </a:lnTo>
                    <a:lnTo>
                      <a:pt x="1178" y="103"/>
                    </a:lnTo>
                    <a:lnTo>
                      <a:pt x="1014" y="107"/>
                    </a:lnTo>
                    <a:lnTo>
                      <a:pt x="819" y="106"/>
                    </a:lnTo>
                    <a:lnTo>
                      <a:pt x="661" y="98"/>
                    </a:lnTo>
                    <a:lnTo>
                      <a:pt x="568" y="103"/>
                    </a:lnTo>
                    <a:lnTo>
                      <a:pt x="448" y="117"/>
                    </a:lnTo>
                    <a:lnTo>
                      <a:pt x="185" y="112"/>
                    </a:lnTo>
                    <a:lnTo>
                      <a:pt x="24" y="111"/>
                    </a:lnTo>
                    <a:lnTo>
                      <a:pt x="9" y="112"/>
                    </a:lnTo>
                    <a:close/>
                  </a:path>
                </a:pathLst>
              </a:custGeom>
              <a:solidFill>
                <a:srgbClr val="fdee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67520" y="430956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316120" y="431064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64000" y="4310640"/>
                <a:ext cx="11880" cy="3744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1152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59040" y="4308120"/>
                <a:ext cx="12240" cy="3744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0512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53000" y="4308120"/>
                <a:ext cx="11880" cy="3744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76040" y="4308120"/>
                <a:ext cx="13320" cy="37440"/>
              </a:xfrm>
              <a:custGeom>
                <a:avLst/>
                <a:gdLst/>
                <a:ahLst/>
                <a:rect l="l" t="t" r="r" b="b"/>
                <a:pathLst>
                  <a:path w="29" h="74">
                    <a:moveTo>
                      <a:pt x="0" y="5"/>
                    </a:moveTo>
                    <a:lnTo>
                      <a:pt x="5" y="74"/>
                    </a:lnTo>
                    <a:lnTo>
                      <a:pt x="29" y="74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00520" y="430704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29" h="73">
                    <a:moveTo>
                      <a:pt x="0" y="5"/>
                    </a:moveTo>
                    <a:lnTo>
                      <a:pt x="4" y="73"/>
                    </a:lnTo>
                    <a:lnTo>
                      <a:pt x="29" y="73"/>
                    </a:lnTo>
                    <a:lnTo>
                      <a:pt x="2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648040" y="430704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27" h="73">
                    <a:moveTo>
                      <a:pt x="0" y="5"/>
                    </a:moveTo>
                    <a:lnTo>
                      <a:pt x="5" y="73"/>
                    </a:lnTo>
                    <a:lnTo>
                      <a:pt x="27" y="73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94120" y="430560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742000" y="4305600"/>
                <a:ext cx="11880" cy="36360"/>
              </a:xfrm>
              <a:custGeom>
                <a:avLst/>
                <a:gdLst/>
                <a:ahLst/>
                <a:rect l="l" t="t" r="r" b="b"/>
                <a:pathLst>
                  <a:path w="28" h="74">
                    <a:moveTo>
                      <a:pt x="0" y="5"/>
                    </a:moveTo>
                    <a:lnTo>
                      <a:pt x="5" y="74"/>
                    </a:lnTo>
                    <a:lnTo>
                      <a:pt x="28" y="74"/>
                    </a:lnTo>
                    <a:lnTo>
                      <a:pt x="28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4305600"/>
                <a:ext cx="13320" cy="36360"/>
              </a:xfrm>
              <a:custGeom>
                <a:avLst/>
                <a:gdLst/>
                <a:ahLst/>
                <a:rect l="l" t="t" r="r" b="b"/>
                <a:pathLst>
                  <a:path w="30" h="74">
                    <a:moveTo>
                      <a:pt x="0" y="5"/>
                    </a:moveTo>
                    <a:lnTo>
                      <a:pt x="5" y="74"/>
                    </a:lnTo>
                    <a:lnTo>
                      <a:pt x="30" y="74"/>
                    </a:lnTo>
                    <a:lnTo>
                      <a:pt x="3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37040" y="430560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27" h="74">
                    <a:moveTo>
                      <a:pt x="0" y="5"/>
                    </a:moveTo>
                    <a:lnTo>
                      <a:pt x="5" y="74"/>
                    </a:lnTo>
                    <a:lnTo>
                      <a:pt x="27" y="74"/>
                    </a:lnTo>
                    <a:lnTo>
                      <a:pt x="2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199480" y="4299120"/>
                <a:ext cx="754560" cy="311760"/>
              </a:xfrm>
              <a:custGeom>
                <a:avLst/>
                <a:gdLst/>
                <a:ahLst/>
                <a:rect l="l" t="t" r="r" b="b"/>
                <a:pathLst>
                  <a:path w="1570" h="633">
                    <a:moveTo>
                      <a:pt x="36" y="72"/>
                    </a:moveTo>
                    <a:lnTo>
                      <a:pt x="36" y="35"/>
                    </a:lnTo>
                    <a:lnTo>
                      <a:pt x="281" y="35"/>
                    </a:lnTo>
                    <a:lnTo>
                      <a:pt x="568" y="29"/>
                    </a:lnTo>
                    <a:lnTo>
                      <a:pt x="748" y="20"/>
                    </a:lnTo>
                    <a:lnTo>
                      <a:pt x="965" y="19"/>
                    </a:lnTo>
                    <a:lnTo>
                      <a:pt x="1200" y="20"/>
                    </a:lnTo>
                    <a:lnTo>
                      <a:pt x="1390" y="24"/>
                    </a:lnTo>
                    <a:lnTo>
                      <a:pt x="1415" y="35"/>
                    </a:lnTo>
                    <a:lnTo>
                      <a:pt x="1431" y="67"/>
                    </a:lnTo>
                    <a:lnTo>
                      <a:pt x="1445" y="99"/>
                    </a:lnTo>
                    <a:lnTo>
                      <a:pt x="1466" y="128"/>
                    </a:lnTo>
                    <a:lnTo>
                      <a:pt x="1501" y="146"/>
                    </a:lnTo>
                    <a:lnTo>
                      <a:pt x="1498" y="187"/>
                    </a:lnTo>
                    <a:lnTo>
                      <a:pt x="1482" y="242"/>
                    </a:lnTo>
                    <a:lnTo>
                      <a:pt x="1482" y="298"/>
                    </a:lnTo>
                    <a:lnTo>
                      <a:pt x="1482" y="345"/>
                    </a:lnTo>
                    <a:lnTo>
                      <a:pt x="1475" y="397"/>
                    </a:lnTo>
                    <a:lnTo>
                      <a:pt x="1493" y="447"/>
                    </a:lnTo>
                    <a:lnTo>
                      <a:pt x="1519" y="475"/>
                    </a:lnTo>
                    <a:lnTo>
                      <a:pt x="1547" y="513"/>
                    </a:lnTo>
                    <a:lnTo>
                      <a:pt x="1552" y="556"/>
                    </a:lnTo>
                    <a:lnTo>
                      <a:pt x="1547" y="612"/>
                    </a:lnTo>
                    <a:lnTo>
                      <a:pt x="1456" y="577"/>
                    </a:lnTo>
                    <a:lnTo>
                      <a:pt x="1442" y="546"/>
                    </a:lnTo>
                    <a:lnTo>
                      <a:pt x="1447" y="485"/>
                    </a:lnTo>
                    <a:lnTo>
                      <a:pt x="1442" y="447"/>
                    </a:lnTo>
                    <a:lnTo>
                      <a:pt x="1415" y="396"/>
                    </a:lnTo>
                    <a:lnTo>
                      <a:pt x="1396" y="340"/>
                    </a:lnTo>
                    <a:lnTo>
                      <a:pt x="1391" y="298"/>
                    </a:lnTo>
                    <a:lnTo>
                      <a:pt x="1404" y="247"/>
                    </a:lnTo>
                    <a:lnTo>
                      <a:pt x="1419" y="202"/>
                    </a:lnTo>
                    <a:lnTo>
                      <a:pt x="1419" y="160"/>
                    </a:lnTo>
                    <a:lnTo>
                      <a:pt x="1405" y="125"/>
                    </a:lnTo>
                    <a:lnTo>
                      <a:pt x="1385" y="99"/>
                    </a:lnTo>
                    <a:lnTo>
                      <a:pt x="1353" y="99"/>
                    </a:lnTo>
                    <a:lnTo>
                      <a:pt x="1227" y="107"/>
                    </a:lnTo>
                    <a:lnTo>
                      <a:pt x="1087" y="112"/>
                    </a:lnTo>
                    <a:lnTo>
                      <a:pt x="925" y="112"/>
                    </a:lnTo>
                    <a:lnTo>
                      <a:pt x="766" y="107"/>
                    </a:lnTo>
                    <a:lnTo>
                      <a:pt x="647" y="99"/>
                    </a:lnTo>
                    <a:lnTo>
                      <a:pt x="504" y="113"/>
                    </a:lnTo>
                    <a:lnTo>
                      <a:pt x="277" y="117"/>
                    </a:lnTo>
                    <a:lnTo>
                      <a:pt x="128" y="117"/>
                    </a:lnTo>
                    <a:lnTo>
                      <a:pt x="37" y="107"/>
                    </a:lnTo>
                    <a:lnTo>
                      <a:pt x="21" y="128"/>
                    </a:lnTo>
                    <a:lnTo>
                      <a:pt x="97" y="130"/>
                    </a:lnTo>
                    <a:lnTo>
                      <a:pt x="184" y="135"/>
                    </a:lnTo>
                    <a:lnTo>
                      <a:pt x="310" y="135"/>
                    </a:lnTo>
                    <a:lnTo>
                      <a:pt x="412" y="135"/>
                    </a:lnTo>
                    <a:lnTo>
                      <a:pt x="522" y="130"/>
                    </a:lnTo>
                    <a:lnTo>
                      <a:pt x="633" y="118"/>
                    </a:lnTo>
                    <a:lnTo>
                      <a:pt x="671" y="118"/>
                    </a:lnTo>
                    <a:lnTo>
                      <a:pt x="764" y="118"/>
                    </a:lnTo>
                    <a:lnTo>
                      <a:pt x="855" y="128"/>
                    </a:lnTo>
                    <a:lnTo>
                      <a:pt x="981" y="125"/>
                    </a:lnTo>
                    <a:lnTo>
                      <a:pt x="1118" y="130"/>
                    </a:lnTo>
                    <a:lnTo>
                      <a:pt x="1201" y="123"/>
                    </a:lnTo>
                    <a:lnTo>
                      <a:pt x="1290" y="118"/>
                    </a:lnTo>
                    <a:lnTo>
                      <a:pt x="1339" y="118"/>
                    </a:lnTo>
                    <a:lnTo>
                      <a:pt x="1377" y="117"/>
                    </a:lnTo>
                    <a:lnTo>
                      <a:pt x="1396" y="140"/>
                    </a:lnTo>
                    <a:lnTo>
                      <a:pt x="1404" y="174"/>
                    </a:lnTo>
                    <a:lnTo>
                      <a:pt x="1396" y="221"/>
                    </a:lnTo>
                    <a:lnTo>
                      <a:pt x="1378" y="274"/>
                    </a:lnTo>
                    <a:lnTo>
                      <a:pt x="1373" y="326"/>
                    </a:lnTo>
                    <a:lnTo>
                      <a:pt x="1390" y="374"/>
                    </a:lnTo>
                    <a:lnTo>
                      <a:pt x="1418" y="434"/>
                    </a:lnTo>
                    <a:lnTo>
                      <a:pt x="1431" y="484"/>
                    </a:lnTo>
                    <a:lnTo>
                      <a:pt x="1428" y="553"/>
                    </a:lnTo>
                    <a:lnTo>
                      <a:pt x="1437" y="587"/>
                    </a:lnTo>
                    <a:lnTo>
                      <a:pt x="1450" y="593"/>
                    </a:lnTo>
                    <a:lnTo>
                      <a:pt x="1558" y="633"/>
                    </a:lnTo>
                    <a:lnTo>
                      <a:pt x="1563" y="607"/>
                    </a:lnTo>
                    <a:lnTo>
                      <a:pt x="1570" y="540"/>
                    </a:lnTo>
                    <a:lnTo>
                      <a:pt x="1565" y="508"/>
                    </a:lnTo>
                    <a:lnTo>
                      <a:pt x="1544" y="477"/>
                    </a:lnTo>
                    <a:lnTo>
                      <a:pt x="1506" y="426"/>
                    </a:lnTo>
                    <a:lnTo>
                      <a:pt x="1493" y="402"/>
                    </a:lnTo>
                    <a:lnTo>
                      <a:pt x="1488" y="372"/>
                    </a:lnTo>
                    <a:lnTo>
                      <a:pt x="1498" y="318"/>
                    </a:lnTo>
                    <a:lnTo>
                      <a:pt x="1498" y="279"/>
                    </a:lnTo>
                    <a:lnTo>
                      <a:pt x="1501" y="237"/>
                    </a:lnTo>
                    <a:lnTo>
                      <a:pt x="1515" y="187"/>
                    </a:lnTo>
                    <a:lnTo>
                      <a:pt x="1515" y="160"/>
                    </a:lnTo>
                    <a:lnTo>
                      <a:pt x="1515" y="132"/>
                    </a:lnTo>
                    <a:lnTo>
                      <a:pt x="1498" y="118"/>
                    </a:lnTo>
                    <a:lnTo>
                      <a:pt x="1475" y="112"/>
                    </a:lnTo>
                    <a:lnTo>
                      <a:pt x="1461" y="91"/>
                    </a:lnTo>
                    <a:lnTo>
                      <a:pt x="1445" y="47"/>
                    </a:lnTo>
                    <a:lnTo>
                      <a:pt x="1423" y="19"/>
                    </a:lnTo>
                    <a:lnTo>
                      <a:pt x="1391" y="0"/>
                    </a:lnTo>
                    <a:lnTo>
                      <a:pt x="1252" y="1"/>
                    </a:lnTo>
                    <a:lnTo>
                      <a:pt x="1091" y="5"/>
                    </a:lnTo>
                    <a:lnTo>
                      <a:pt x="949" y="0"/>
                    </a:lnTo>
                    <a:lnTo>
                      <a:pt x="783" y="5"/>
                    </a:lnTo>
                    <a:lnTo>
                      <a:pt x="625" y="6"/>
                    </a:lnTo>
                    <a:lnTo>
                      <a:pt x="430" y="16"/>
                    </a:lnTo>
                    <a:lnTo>
                      <a:pt x="217" y="16"/>
                    </a:lnTo>
                    <a:lnTo>
                      <a:pt x="82" y="19"/>
                    </a:lnTo>
                    <a:lnTo>
                      <a:pt x="0" y="20"/>
                    </a:lnTo>
                    <a:lnTo>
                      <a:pt x="21" y="99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88880" y="4362480"/>
                <a:ext cx="30960" cy="2592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43" y="0"/>
                    </a:moveTo>
                    <a:lnTo>
                      <a:pt x="0" y="35"/>
                    </a:lnTo>
                    <a:lnTo>
                      <a:pt x="8" y="50"/>
                    </a:lnTo>
                    <a:lnTo>
                      <a:pt x="66" y="1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86000" y="4401360"/>
                <a:ext cx="32400" cy="19080"/>
              </a:xfrm>
              <a:custGeom>
                <a:avLst/>
                <a:gdLst/>
                <a:ahLst/>
                <a:rect l="l" t="t" r="r" b="b"/>
                <a:pathLst>
                  <a:path w="69" h="39">
                    <a:moveTo>
                      <a:pt x="69" y="13"/>
                    </a:moveTo>
                    <a:lnTo>
                      <a:pt x="11" y="0"/>
                    </a:lnTo>
                    <a:lnTo>
                      <a:pt x="0" y="24"/>
                    </a:lnTo>
                    <a:lnTo>
                      <a:pt x="60" y="39"/>
                    </a:lnTo>
                    <a:lnTo>
                      <a:pt x="6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78080" y="4447800"/>
                <a:ext cx="37800" cy="15480"/>
              </a:xfrm>
              <a:custGeom>
                <a:avLst/>
                <a:gdLst/>
                <a:ahLst/>
                <a:rect l="l" t="t" r="r" b="b"/>
                <a:pathLst>
                  <a:path w="83" h="30">
                    <a:moveTo>
                      <a:pt x="78" y="2"/>
                    </a:moveTo>
                    <a:lnTo>
                      <a:pt x="0" y="0"/>
                    </a:lnTo>
                    <a:lnTo>
                      <a:pt x="4" y="21"/>
                    </a:lnTo>
                    <a:lnTo>
                      <a:pt x="83" y="30"/>
                    </a:lnTo>
                    <a:lnTo>
                      <a:pt x="7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88880" y="449712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51" y="0"/>
                    </a:moveTo>
                    <a:lnTo>
                      <a:pt x="0" y="8"/>
                    </a:lnTo>
                    <a:lnTo>
                      <a:pt x="10" y="30"/>
                    </a:lnTo>
                    <a:lnTo>
                      <a:pt x="54" y="21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903640" y="4535640"/>
                <a:ext cx="39240" cy="12600"/>
              </a:xfrm>
              <a:custGeom>
                <a:avLst/>
                <a:gdLst/>
                <a:ahLst/>
                <a:rect l="l" t="t" r="r" b="b"/>
                <a:pathLst>
                  <a:path w="82" h="25">
                    <a:moveTo>
                      <a:pt x="72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82" y="2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14800" y="4568400"/>
                <a:ext cx="33840" cy="16560"/>
              </a:xfrm>
              <a:custGeom>
                <a:avLst/>
                <a:gdLst/>
                <a:ahLst/>
                <a:rect l="l" t="t" r="r" b="b"/>
                <a:pathLst>
                  <a:path w="68" h="36">
                    <a:moveTo>
                      <a:pt x="68" y="17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67" y="36"/>
                    </a:lnTo>
                    <a:lnTo>
                      <a:pt x="6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532840" y="4239720"/>
                <a:ext cx="141120" cy="123840"/>
              </a:xfrm>
              <a:custGeom>
                <a:avLst/>
                <a:gdLst/>
                <a:ahLst/>
                <a:rect l="l" t="t" r="r" b="b"/>
                <a:pathLst>
                  <a:path w="294" h="254">
                    <a:moveTo>
                      <a:pt x="181" y="124"/>
                    </a:moveTo>
                    <a:lnTo>
                      <a:pt x="181" y="86"/>
                    </a:lnTo>
                    <a:lnTo>
                      <a:pt x="174" y="57"/>
                    </a:lnTo>
                    <a:lnTo>
                      <a:pt x="157" y="28"/>
                    </a:lnTo>
                    <a:lnTo>
                      <a:pt x="138" y="10"/>
                    </a:lnTo>
                    <a:lnTo>
                      <a:pt x="115" y="4"/>
                    </a:lnTo>
                    <a:lnTo>
                      <a:pt x="76" y="0"/>
                    </a:lnTo>
                    <a:lnTo>
                      <a:pt x="48" y="15"/>
                    </a:lnTo>
                    <a:lnTo>
                      <a:pt x="24" y="44"/>
                    </a:lnTo>
                    <a:lnTo>
                      <a:pt x="10" y="86"/>
                    </a:lnTo>
                    <a:lnTo>
                      <a:pt x="0" y="132"/>
                    </a:lnTo>
                    <a:lnTo>
                      <a:pt x="0" y="177"/>
                    </a:lnTo>
                    <a:lnTo>
                      <a:pt x="13" y="214"/>
                    </a:lnTo>
                    <a:lnTo>
                      <a:pt x="34" y="237"/>
                    </a:lnTo>
                    <a:lnTo>
                      <a:pt x="65" y="252"/>
                    </a:lnTo>
                    <a:lnTo>
                      <a:pt x="96" y="254"/>
                    </a:lnTo>
                    <a:lnTo>
                      <a:pt x="125" y="249"/>
                    </a:lnTo>
                    <a:lnTo>
                      <a:pt x="143" y="237"/>
                    </a:lnTo>
                    <a:lnTo>
                      <a:pt x="157" y="214"/>
                    </a:lnTo>
                    <a:lnTo>
                      <a:pt x="169" y="180"/>
                    </a:lnTo>
                    <a:lnTo>
                      <a:pt x="181" y="173"/>
                    </a:lnTo>
                    <a:lnTo>
                      <a:pt x="218" y="170"/>
                    </a:lnTo>
                    <a:lnTo>
                      <a:pt x="270" y="182"/>
                    </a:lnTo>
                    <a:lnTo>
                      <a:pt x="284" y="185"/>
                    </a:lnTo>
                    <a:lnTo>
                      <a:pt x="294" y="173"/>
                    </a:lnTo>
                    <a:lnTo>
                      <a:pt x="290" y="162"/>
                    </a:lnTo>
                    <a:lnTo>
                      <a:pt x="284" y="148"/>
                    </a:lnTo>
                    <a:lnTo>
                      <a:pt x="251" y="142"/>
                    </a:lnTo>
                    <a:lnTo>
                      <a:pt x="213" y="139"/>
                    </a:lnTo>
                    <a:lnTo>
                      <a:pt x="181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484960" y="4367520"/>
                <a:ext cx="111240" cy="221040"/>
              </a:xfrm>
              <a:custGeom>
                <a:avLst/>
                <a:gdLst/>
                <a:ahLst/>
                <a:rect l="l" t="t" r="r" b="b"/>
                <a:pathLst>
                  <a:path w="231" h="451">
                    <a:moveTo>
                      <a:pt x="16" y="90"/>
                    </a:moveTo>
                    <a:lnTo>
                      <a:pt x="59" y="30"/>
                    </a:lnTo>
                    <a:lnTo>
                      <a:pt x="87" y="6"/>
                    </a:lnTo>
                    <a:lnTo>
                      <a:pt x="122" y="0"/>
                    </a:lnTo>
                    <a:lnTo>
                      <a:pt x="151" y="1"/>
                    </a:lnTo>
                    <a:lnTo>
                      <a:pt x="193" y="10"/>
                    </a:lnTo>
                    <a:lnTo>
                      <a:pt x="216" y="28"/>
                    </a:lnTo>
                    <a:lnTo>
                      <a:pt x="231" y="48"/>
                    </a:lnTo>
                    <a:lnTo>
                      <a:pt x="231" y="79"/>
                    </a:lnTo>
                    <a:lnTo>
                      <a:pt x="219" y="104"/>
                    </a:lnTo>
                    <a:lnTo>
                      <a:pt x="199" y="137"/>
                    </a:lnTo>
                    <a:lnTo>
                      <a:pt x="185" y="169"/>
                    </a:lnTo>
                    <a:lnTo>
                      <a:pt x="180" y="203"/>
                    </a:lnTo>
                    <a:lnTo>
                      <a:pt x="178" y="229"/>
                    </a:lnTo>
                    <a:lnTo>
                      <a:pt x="189" y="264"/>
                    </a:lnTo>
                    <a:lnTo>
                      <a:pt x="208" y="300"/>
                    </a:lnTo>
                    <a:lnTo>
                      <a:pt x="224" y="337"/>
                    </a:lnTo>
                    <a:lnTo>
                      <a:pt x="228" y="366"/>
                    </a:lnTo>
                    <a:lnTo>
                      <a:pt x="226" y="399"/>
                    </a:lnTo>
                    <a:lnTo>
                      <a:pt x="208" y="423"/>
                    </a:lnTo>
                    <a:lnTo>
                      <a:pt x="178" y="440"/>
                    </a:lnTo>
                    <a:lnTo>
                      <a:pt x="154" y="451"/>
                    </a:lnTo>
                    <a:lnTo>
                      <a:pt x="117" y="451"/>
                    </a:lnTo>
                    <a:lnTo>
                      <a:pt x="82" y="440"/>
                    </a:lnTo>
                    <a:lnTo>
                      <a:pt x="35" y="422"/>
                    </a:lnTo>
                    <a:lnTo>
                      <a:pt x="16" y="375"/>
                    </a:lnTo>
                    <a:lnTo>
                      <a:pt x="10" y="342"/>
                    </a:lnTo>
                    <a:lnTo>
                      <a:pt x="10" y="301"/>
                    </a:lnTo>
                    <a:lnTo>
                      <a:pt x="5" y="264"/>
                    </a:lnTo>
                    <a:lnTo>
                      <a:pt x="0" y="203"/>
                    </a:lnTo>
                    <a:lnTo>
                      <a:pt x="1" y="155"/>
                    </a:lnTo>
                    <a:lnTo>
                      <a:pt x="10" y="114"/>
                    </a:lnTo>
                    <a:lnTo>
                      <a:pt x="1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0920" y="4308120"/>
                <a:ext cx="335520" cy="132840"/>
              </a:xfrm>
              <a:custGeom>
                <a:avLst/>
                <a:gdLst/>
                <a:ahLst/>
                <a:rect l="l" t="t" r="r" b="b"/>
                <a:pathLst>
                  <a:path w="699" h="268">
                    <a:moveTo>
                      <a:pt x="611" y="157"/>
                    </a:moveTo>
                    <a:lnTo>
                      <a:pt x="651" y="139"/>
                    </a:lnTo>
                    <a:lnTo>
                      <a:pt x="686" y="130"/>
                    </a:lnTo>
                    <a:lnTo>
                      <a:pt x="699" y="142"/>
                    </a:lnTo>
                    <a:lnTo>
                      <a:pt x="699" y="172"/>
                    </a:lnTo>
                    <a:lnTo>
                      <a:pt x="667" y="209"/>
                    </a:lnTo>
                    <a:lnTo>
                      <a:pt x="632" y="216"/>
                    </a:lnTo>
                    <a:lnTo>
                      <a:pt x="544" y="243"/>
                    </a:lnTo>
                    <a:lnTo>
                      <a:pt x="456" y="258"/>
                    </a:lnTo>
                    <a:lnTo>
                      <a:pt x="377" y="268"/>
                    </a:lnTo>
                    <a:lnTo>
                      <a:pt x="320" y="261"/>
                    </a:lnTo>
                    <a:lnTo>
                      <a:pt x="242" y="243"/>
                    </a:lnTo>
                    <a:lnTo>
                      <a:pt x="154" y="186"/>
                    </a:lnTo>
                    <a:lnTo>
                      <a:pt x="100" y="139"/>
                    </a:lnTo>
                    <a:lnTo>
                      <a:pt x="69" y="120"/>
                    </a:lnTo>
                    <a:lnTo>
                      <a:pt x="42" y="114"/>
                    </a:lnTo>
                    <a:lnTo>
                      <a:pt x="18" y="109"/>
                    </a:lnTo>
                    <a:lnTo>
                      <a:pt x="5" y="85"/>
                    </a:lnTo>
                    <a:lnTo>
                      <a:pt x="0" y="44"/>
                    </a:lnTo>
                    <a:lnTo>
                      <a:pt x="10" y="18"/>
                    </a:lnTo>
                    <a:lnTo>
                      <a:pt x="23" y="0"/>
                    </a:lnTo>
                    <a:lnTo>
                      <a:pt x="44" y="6"/>
                    </a:lnTo>
                    <a:lnTo>
                      <a:pt x="54" y="38"/>
                    </a:lnTo>
                    <a:lnTo>
                      <a:pt x="51" y="73"/>
                    </a:lnTo>
                    <a:lnTo>
                      <a:pt x="79" y="95"/>
                    </a:lnTo>
                    <a:lnTo>
                      <a:pt x="97" y="96"/>
                    </a:lnTo>
                    <a:lnTo>
                      <a:pt x="111" y="82"/>
                    </a:lnTo>
                    <a:lnTo>
                      <a:pt x="116" y="58"/>
                    </a:lnTo>
                    <a:lnTo>
                      <a:pt x="149" y="63"/>
                    </a:lnTo>
                    <a:lnTo>
                      <a:pt x="149" y="100"/>
                    </a:lnTo>
                    <a:lnTo>
                      <a:pt x="130" y="124"/>
                    </a:lnTo>
                    <a:lnTo>
                      <a:pt x="171" y="157"/>
                    </a:lnTo>
                    <a:lnTo>
                      <a:pt x="236" y="186"/>
                    </a:lnTo>
                    <a:lnTo>
                      <a:pt x="293" y="201"/>
                    </a:lnTo>
                    <a:lnTo>
                      <a:pt x="350" y="214"/>
                    </a:lnTo>
                    <a:lnTo>
                      <a:pt x="390" y="214"/>
                    </a:lnTo>
                    <a:lnTo>
                      <a:pt x="441" y="204"/>
                    </a:lnTo>
                    <a:lnTo>
                      <a:pt x="497" y="189"/>
                    </a:lnTo>
                    <a:lnTo>
                      <a:pt x="553" y="172"/>
                    </a:lnTo>
                    <a:lnTo>
                      <a:pt x="611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54080" y="4313520"/>
                <a:ext cx="336960" cy="130320"/>
              </a:xfrm>
              <a:custGeom>
                <a:avLst/>
                <a:gdLst/>
                <a:ahLst/>
                <a:rect l="l" t="t" r="r" b="b"/>
                <a:pathLst>
                  <a:path w="701" h="268">
                    <a:moveTo>
                      <a:pt x="89" y="158"/>
                    </a:moveTo>
                    <a:lnTo>
                      <a:pt x="49" y="139"/>
                    </a:lnTo>
                    <a:lnTo>
                      <a:pt x="14" y="130"/>
                    </a:lnTo>
                    <a:lnTo>
                      <a:pt x="0" y="143"/>
                    </a:lnTo>
                    <a:lnTo>
                      <a:pt x="0" y="173"/>
                    </a:lnTo>
                    <a:lnTo>
                      <a:pt x="33" y="210"/>
                    </a:lnTo>
                    <a:lnTo>
                      <a:pt x="67" y="216"/>
                    </a:lnTo>
                    <a:lnTo>
                      <a:pt x="156" y="243"/>
                    </a:lnTo>
                    <a:lnTo>
                      <a:pt x="245" y="258"/>
                    </a:lnTo>
                    <a:lnTo>
                      <a:pt x="322" y="268"/>
                    </a:lnTo>
                    <a:lnTo>
                      <a:pt x="381" y="262"/>
                    </a:lnTo>
                    <a:lnTo>
                      <a:pt x="458" y="243"/>
                    </a:lnTo>
                    <a:lnTo>
                      <a:pt x="547" y="186"/>
                    </a:lnTo>
                    <a:lnTo>
                      <a:pt x="601" y="139"/>
                    </a:lnTo>
                    <a:lnTo>
                      <a:pt x="632" y="120"/>
                    </a:lnTo>
                    <a:lnTo>
                      <a:pt x="659" y="114"/>
                    </a:lnTo>
                    <a:lnTo>
                      <a:pt x="683" y="109"/>
                    </a:lnTo>
                    <a:lnTo>
                      <a:pt x="696" y="86"/>
                    </a:lnTo>
                    <a:lnTo>
                      <a:pt x="701" y="45"/>
                    </a:lnTo>
                    <a:lnTo>
                      <a:pt x="691" y="19"/>
                    </a:lnTo>
                    <a:lnTo>
                      <a:pt x="678" y="0"/>
                    </a:lnTo>
                    <a:lnTo>
                      <a:pt x="656" y="6"/>
                    </a:lnTo>
                    <a:lnTo>
                      <a:pt x="647" y="39"/>
                    </a:lnTo>
                    <a:lnTo>
                      <a:pt x="650" y="73"/>
                    </a:lnTo>
                    <a:lnTo>
                      <a:pt x="622" y="96"/>
                    </a:lnTo>
                    <a:lnTo>
                      <a:pt x="604" y="97"/>
                    </a:lnTo>
                    <a:lnTo>
                      <a:pt x="589" y="82"/>
                    </a:lnTo>
                    <a:lnTo>
                      <a:pt x="584" y="58"/>
                    </a:lnTo>
                    <a:lnTo>
                      <a:pt x="552" y="63"/>
                    </a:lnTo>
                    <a:lnTo>
                      <a:pt x="552" y="101"/>
                    </a:lnTo>
                    <a:lnTo>
                      <a:pt x="571" y="124"/>
                    </a:lnTo>
                    <a:lnTo>
                      <a:pt x="530" y="158"/>
                    </a:lnTo>
                    <a:lnTo>
                      <a:pt x="464" y="186"/>
                    </a:lnTo>
                    <a:lnTo>
                      <a:pt x="407" y="201"/>
                    </a:lnTo>
                    <a:lnTo>
                      <a:pt x="351" y="215"/>
                    </a:lnTo>
                    <a:lnTo>
                      <a:pt x="310" y="215"/>
                    </a:lnTo>
                    <a:lnTo>
                      <a:pt x="259" y="205"/>
                    </a:lnTo>
                    <a:lnTo>
                      <a:pt x="203" y="190"/>
                    </a:lnTo>
                    <a:lnTo>
                      <a:pt x="147" y="173"/>
                    </a:lnTo>
                    <a:lnTo>
                      <a:pt x="89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384520" y="4481640"/>
                <a:ext cx="172440" cy="204480"/>
              </a:xfrm>
              <a:custGeom>
                <a:avLst/>
                <a:gdLst/>
                <a:ahLst/>
                <a:rect l="l" t="t" r="r" b="b"/>
                <a:pathLst>
                  <a:path w="358" h="418">
                    <a:moveTo>
                      <a:pt x="306" y="94"/>
                    </a:moveTo>
                    <a:lnTo>
                      <a:pt x="334" y="108"/>
                    </a:lnTo>
                    <a:lnTo>
                      <a:pt x="351" y="141"/>
                    </a:lnTo>
                    <a:lnTo>
                      <a:pt x="358" y="173"/>
                    </a:lnTo>
                    <a:lnTo>
                      <a:pt x="344" y="207"/>
                    </a:lnTo>
                    <a:lnTo>
                      <a:pt x="329" y="211"/>
                    </a:lnTo>
                    <a:lnTo>
                      <a:pt x="298" y="219"/>
                    </a:lnTo>
                    <a:lnTo>
                      <a:pt x="260" y="215"/>
                    </a:lnTo>
                    <a:lnTo>
                      <a:pt x="223" y="202"/>
                    </a:lnTo>
                    <a:lnTo>
                      <a:pt x="178" y="172"/>
                    </a:lnTo>
                    <a:lnTo>
                      <a:pt x="147" y="139"/>
                    </a:lnTo>
                    <a:lnTo>
                      <a:pt x="113" y="101"/>
                    </a:lnTo>
                    <a:lnTo>
                      <a:pt x="98" y="83"/>
                    </a:lnTo>
                    <a:lnTo>
                      <a:pt x="112" y="121"/>
                    </a:lnTo>
                    <a:lnTo>
                      <a:pt x="122" y="178"/>
                    </a:lnTo>
                    <a:lnTo>
                      <a:pt x="118" y="249"/>
                    </a:lnTo>
                    <a:lnTo>
                      <a:pt x="109" y="305"/>
                    </a:lnTo>
                    <a:lnTo>
                      <a:pt x="102" y="346"/>
                    </a:lnTo>
                    <a:lnTo>
                      <a:pt x="107" y="378"/>
                    </a:lnTo>
                    <a:lnTo>
                      <a:pt x="113" y="399"/>
                    </a:lnTo>
                    <a:lnTo>
                      <a:pt x="112" y="413"/>
                    </a:lnTo>
                    <a:lnTo>
                      <a:pt x="100" y="418"/>
                    </a:lnTo>
                    <a:lnTo>
                      <a:pt x="76" y="418"/>
                    </a:lnTo>
                    <a:lnTo>
                      <a:pt x="60" y="408"/>
                    </a:lnTo>
                    <a:lnTo>
                      <a:pt x="41" y="383"/>
                    </a:lnTo>
                    <a:lnTo>
                      <a:pt x="29" y="352"/>
                    </a:lnTo>
                    <a:lnTo>
                      <a:pt x="4" y="312"/>
                    </a:lnTo>
                    <a:lnTo>
                      <a:pt x="0" y="300"/>
                    </a:lnTo>
                    <a:lnTo>
                      <a:pt x="10" y="291"/>
                    </a:lnTo>
                    <a:lnTo>
                      <a:pt x="46" y="281"/>
                    </a:lnTo>
                    <a:lnTo>
                      <a:pt x="71" y="286"/>
                    </a:lnTo>
                    <a:lnTo>
                      <a:pt x="71" y="280"/>
                    </a:lnTo>
                    <a:lnTo>
                      <a:pt x="71" y="219"/>
                    </a:lnTo>
                    <a:lnTo>
                      <a:pt x="57" y="141"/>
                    </a:lnTo>
                    <a:lnTo>
                      <a:pt x="47" y="89"/>
                    </a:lnTo>
                    <a:lnTo>
                      <a:pt x="46" y="47"/>
                    </a:lnTo>
                    <a:lnTo>
                      <a:pt x="57" y="28"/>
                    </a:lnTo>
                    <a:lnTo>
                      <a:pt x="76" y="3"/>
                    </a:lnTo>
                    <a:lnTo>
                      <a:pt x="107" y="0"/>
                    </a:lnTo>
                    <a:lnTo>
                      <a:pt x="131" y="13"/>
                    </a:lnTo>
                    <a:lnTo>
                      <a:pt x="165" y="42"/>
                    </a:lnTo>
                    <a:lnTo>
                      <a:pt x="213" y="73"/>
                    </a:lnTo>
                    <a:lnTo>
                      <a:pt x="259" y="89"/>
                    </a:lnTo>
                    <a:lnTo>
                      <a:pt x="30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97200" y="4541040"/>
                <a:ext cx="180360" cy="198000"/>
              </a:xfrm>
              <a:custGeom>
                <a:avLst/>
                <a:gdLst/>
                <a:ahLst/>
                <a:rect l="l" t="t" r="r" b="b"/>
                <a:pathLst>
                  <a:path w="377" h="404">
                    <a:moveTo>
                      <a:pt x="104" y="24"/>
                    </a:moveTo>
                    <a:lnTo>
                      <a:pt x="147" y="0"/>
                    </a:lnTo>
                    <a:lnTo>
                      <a:pt x="178" y="17"/>
                    </a:lnTo>
                    <a:lnTo>
                      <a:pt x="193" y="43"/>
                    </a:lnTo>
                    <a:lnTo>
                      <a:pt x="175" y="95"/>
                    </a:lnTo>
                    <a:lnTo>
                      <a:pt x="145" y="151"/>
                    </a:lnTo>
                    <a:lnTo>
                      <a:pt x="104" y="198"/>
                    </a:lnTo>
                    <a:lnTo>
                      <a:pt x="75" y="218"/>
                    </a:lnTo>
                    <a:lnTo>
                      <a:pt x="76" y="230"/>
                    </a:lnTo>
                    <a:lnTo>
                      <a:pt x="122" y="236"/>
                    </a:lnTo>
                    <a:lnTo>
                      <a:pt x="165" y="241"/>
                    </a:lnTo>
                    <a:lnTo>
                      <a:pt x="240" y="231"/>
                    </a:lnTo>
                    <a:lnTo>
                      <a:pt x="293" y="211"/>
                    </a:lnTo>
                    <a:lnTo>
                      <a:pt x="312" y="198"/>
                    </a:lnTo>
                    <a:lnTo>
                      <a:pt x="336" y="188"/>
                    </a:lnTo>
                    <a:lnTo>
                      <a:pt x="348" y="189"/>
                    </a:lnTo>
                    <a:lnTo>
                      <a:pt x="359" y="204"/>
                    </a:lnTo>
                    <a:lnTo>
                      <a:pt x="359" y="230"/>
                    </a:lnTo>
                    <a:lnTo>
                      <a:pt x="334" y="265"/>
                    </a:lnTo>
                    <a:lnTo>
                      <a:pt x="326" y="306"/>
                    </a:lnTo>
                    <a:lnTo>
                      <a:pt x="339" y="329"/>
                    </a:lnTo>
                    <a:lnTo>
                      <a:pt x="372" y="352"/>
                    </a:lnTo>
                    <a:lnTo>
                      <a:pt x="377" y="368"/>
                    </a:lnTo>
                    <a:lnTo>
                      <a:pt x="363" y="386"/>
                    </a:lnTo>
                    <a:lnTo>
                      <a:pt x="322" y="404"/>
                    </a:lnTo>
                    <a:lnTo>
                      <a:pt x="302" y="396"/>
                    </a:lnTo>
                    <a:lnTo>
                      <a:pt x="292" y="358"/>
                    </a:lnTo>
                    <a:lnTo>
                      <a:pt x="282" y="307"/>
                    </a:lnTo>
                    <a:lnTo>
                      <a:pt x="287" y="259"/>
                    </a:lnTo>
                    <a:lnTo>
                      <a:pt x="270" y="255"/>
                    </a:lnTo>
                    <a:lnTo>
                      <a:pt x="227" y="270"/>
                    </a:lnTo>
                    <a:lnTo>
                      <a:pt x="160" y="282"/>
                    </a:lnTo>
                    <a:lnTo>
                      <a:pt x="113" y="288"/>
                    </a:lnTo>
                    <a:lnTo>
                      <a:pt x="51" y="277"/>
                    </a:lnTo>
                    <a:lnTo>
                      <a:pt x="7" y="267"/>
                    </a:lnTo>
                    <a:lnTo>
                      <a:pt x="0" y="225"/>
                    </a:lnTo>
                    <a:lnTo>
                      <a:pt x="12" y="185"/>
                    </a:lnTo>
                    <a:lnTo>
                      <a:pt x="47" y="113"/>
                    </a:lnTo>
                    <a:lnTo>
                      <a:pt x="66" y="77"/>
                    </a:lnTo>
                    <a:lnTo>
                      <a:pt x="85" y="48"/>
                    </a:lnTo>
                    <a:lnTo>
                      <a:pt x="10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628720" y="3700080"/>
              <a:ext cx="1174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Ku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88080" y="3683160"/>
              <a:ext cx="117432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3333cc"/>
                  </a:solidFill>
                  <a:latin typeface="Arial"/>
                </a:rPr>
                <a:t>Kun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059000" y="2923200"/>
              <a:ext cx="464400" cy="216360"/>
              <a:chOff x="4059000" y="2923200"/>
              <a:chExt cx="464400" cy="21636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4059000" y="2930040"/>
                <a:ext cx="464400" cy="209520"/>
                <a:chOff x="4059000" y="2930040"/>
                <a:chExt cx="464400" cy="209520"/>
              </a:xfrm>
            </p:grpSpPr>
            <p:sp>
              <p:nvSpPr>
                <p:cNvPr id="304" name=""/>
                <p:cNvSpPr/>
                <p:nvPr/>
              </p:nvSpPr>
              <p:spPr>
                <a:xfrm flipH="1" rot="21352200">
                  <a:off x="4069800" y="300060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H="1" rot="21352200">
                  <a:off x="4091040" y="29890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rot="21352200">
                  <a:off x="4088160" y="297936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rot="21352200">
                  <a:off x="4074480" y="296856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 rot="21352200">
                  <a:off x="4091760" y="296064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 rot="21352200">
                  <a:off x="4062960" y="294588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072680" y="2923200"/>
                <a:ext cx="431280" cy="150120"/>
                <a:chOff x="4072680" y="2923200"/>
                <a:chExt cx="431280" cy="15012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rot="21352200">
                  <a:off x="407628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 rot="21352200">
                  <a:off x="4322880" y="298260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rot="21352200">
                  <a:off x="4197240" y="29530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4221360" y="2959200"/>
                <a:ext cx="142920" cy="112680"/>
                <a:chOff x="4221360" y="2959200"/>
                <a:chExt cx="142920" cy="112680"/>
              </a:xfrm>
            </p:grpSpPr>
            <p:sp>
              <p:nvSpPr>
                <p:cNvPr id="315" name=""/>
                <p:cNvSpPr/>
                <p:nvPr/>
              </p:nvSpPr>
              <p:spPr>
                <a:xfrm flipH="1" rot="21352200">
                  <a:off x="4222440" y="2963880"/>
                  <a:ext cx="139320" cy="5472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rot="21352200">
                  <a:off x="4222800" y="3009960"/>
                  <a:ext cx="34200" cy="604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10840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"/>
            <p:cNvGrpSpPr/>
            <p:nvPr/>
          </p:nvGrpSpPr>
          <p:grpSpPr>
            <a:xfrm>
              <a:off x="4776840" y="2904840"/>
              <a:ext cx="472320" cy="254160"/>
              <a:chOff x="4776840" y="2904840"/>
              <a:chExt cx="472320" cy="25416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4776840" y="2910960"/>
                <a:ext cx="472320" cy="248040"/>
                <a:chOff x="4776840" y="2910960"/>
                <a:chExt cx="472320" cy="248040"/>
              </a:xfrm>
            </p:grpSpPr>
            <p:sp>
              <p:nvSpPr>
                <p:cNvPr id="320" name=""/>
                <p:cNvSpPr/>
                <p:nvPr/>
              </p:nvSpPr>
              <p:spPr>
                <a:xfrm rot="564000">
                  <a:off x="4785120" y="300024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564000">
                  <a:off x="4786200" y="298764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564000">
                  <a:off x="4789800" y="29782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564000">
                  <a:off x="4783680" y="296784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564000">
                  <a:off x="4789080" y="295920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564000">
                  <a:off x="4797000" y="29462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4799160" y="2904840"/>
                <a:ext cx="437400" cy="187560"/>
                <a:chOff x="4799160" y="2904840"/>
                <a:chExt cx="437400" cy="187560"/>
              </a:xfrm>
            </p:grpSpPr>
            <p:sp>
              <p:nvSpPr>
                <p:cNvPr id="327" name=""/>
                <p:cNvSpPr/>
                <p:nvPr/>
              </p:nvSpPr>
              <p:spPr>
                <a:xfrm rot="564000">
                  <a:off x="480564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564000">
                  <a:off x="490536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564000">
                  <a:off x="5033520" y="29584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940640" y="2953080"/>
                <a:ext cx="146520" cy="124920"/>
                <a:chOff x="4940640" y="2953080"/>
                <a:chExt cx="146520" cy="124920"/>
              </a:xfrm>
            </p:grpSpPr>
            <p:sp>
              <p:nvSpPr>
                <p:cNvPr id="331" name=""/>
                <p:cNvSpPr/>
                <p:nvPr/>
              </p:nvSpPr>
              <p:spPr>
                <a:xfrm rot="564000">
                  <a:off x="494388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564000">
                  <a:off x="504396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33" name="" descr=""/>
            <p:cNvPicPr/>
            <p:nvPr/>
          </p:nvPicPr>
          <p:blipFill>
            <a:blip r:embed="rId5"/>
            <a:stretch/>
          </p:blipFill>
          <p:spPr>
            <a:xfrm>
              <a:off x="6609240" y="2565360"/>
              <a:ext cx="978480" cy="50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4" name=""/>
            <p:cNvGrpSpPr/>
            <p:nvPr/>
          </p:nvGrpSpPr>
          <p:grpSpPr>
            <a:xfrm>
              <a:off x="6413040" y="2941560"/>
              <a:ext cx="391320" cy="243720"/>
              <a:chOff x="6413040" y="2941560"/>
              <a:chExt cx="391320" cy="24372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413040" y="2951640"/>
                <a:ext cx="391320" cy="233640"/>
                <a:chOff x="6413040" y="2951640"/>
                <a:chExt cx="391320" cy="233640"/>
              </a:xfrm>
            </p:grpSpPr>
            <p:sp>
              <p:nvSpPr>
                <p:cNvPr id="336" name=""/>
                <p:cNvSpPr/>
                <p:nvPr/>
              </p:nvSpPr>
              <p:spPr>
                <a:xfrm flipH="1">
                  <a:off x="6415560" y="3024000"/>
                  <a:ext cx="382680" cy="16128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6435000" y="300960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6433200" y="299664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6421320" y="2982600"/>
                  <a:ext cx="382680" cy="16272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6437520" y="2972160"/>
                  <a:ext cx="363240" cy="15624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6412680" y="2951640"/>
                  <a:ext cx="382680" cy="16308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425280" y="2941560"/>
                <a:ext cx="364320" cy="157680"/>
                <a:chOff x="6425280" y="2941560"/>
                <a:chExt cx="364320" cy="157680"/>
              </a:xfrm>
            </p:grpSpPr>
            <p:sp>
              <p:nvSpPr>
                <p:cNvPr id="343" name=""/>
                <p:cNvSpPr/>
                <p:nvPr/>
              </p:nvSpPr>
              <p:spPr>
                <a:xfrm flipH="1">
                  <a:off x="6425280" y="2941560"/>
                  <a:ext cx="364320" cy="1576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6635880" y="3007440"/>
                  <a:ext cx="66600" cy="669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6530040" y="2957040"/>
                  <a:ext cx="65880" cy="669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6549120" y="2976480"/>
                <a:ext cx="122400" cy="135360"/>
                <a:chOff x="6549120" y="2976480"/>
                <a:chExt cx="122400" cy="135360"/>
              </a:xfrm>
            </p:grpSpPr>
            <p:sp>
              <p:nvSpPr>
                <p:cNvPr id="347" name=""/>
                <p:cNvSpPr/>
                <p:nvPr/>
              </p:nvSpPr>
              <p:spPr>
                <a:xfrm flipH="1">
                  <a:off x="6552000" y="2976480"/>
                  <a:ext cx="119520" cy="7236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6549120" y="3031560"/>
                  <a:ext cx="29520" cy="802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"/>
            <p:cNvGrpSpPr/>
            <p:nvPr/>
          </p:nvGrpSpPr>
          <p:grpSpPr>
            <a:xfrm>
              <a:off x="6015240" y="2904840"/>
              <a:ext cx="472320" cy="254160"/>
              <a:chOff x="6015240" y="2904840"/>
              <a:chExt cx="472320" cy="25416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6015240" y="2910960"/>
                <a:ext cx="472320" cy="248040"/>
                <a:chOff x="6015240" y="2910960"/>
                <a:chExt cx="472320" cy="248040"/>
              </a:xfrm>
            </p:grpSpPr>
            <p:sp>
              <p:nvSpPr>
                <p:cNvPr id="351" name=""/>
                <p:cNvSpPr/>
                <p:nvPr/>
              </p:nvSpPr>
              <p:spPr>
                <a:xfrm rot="564000">
                  <a:off x="6023520" y="300024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64000">
                  <a:off x="6024600" y="298764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564000">
                  <a:off x="6028200" y="29782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rot="564000">
                  <a:off x="6022080" y="296784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rot="564000">
                  <a:off x="6027480" y="295920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rot="564000">
                  <a:off x="6035400" y="294624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037560" y="2904840"/>
                <a:ext cx="437400" cy="187560"/>
                <a:chOff x="6037560" y="2904840"/>
                <a:chExt cx="437400" cy="187560"/>
              </a:xfrm>
            </p:grpSpPr>
            <p:sp>
              <p:nvSpPr>
                <p:cNvPr id="358" name=""/>
                <p:cNvSpPr/>
                <p:nvPr/>
              </p:nvSpPr>
              <p:spPr>
                <a:xfrm rot="564000">
                  <a:off x="604404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rot="564000">
                  <a:off x="6143760" y="297648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rot="564000">
                  <a:off x="6271920" y="29584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6179040" y="2953080"/>
                <a:ext cx="146520" cy="124920"/>
                <a:chOff x="6179040" y="2953080"/>
                <a:chExt cx="146520" cy="124920"/>
              </a:xfrm>
            </p:grpSpPr>
            <p:sp>
              <p:nvSpPr>
                <p:cNvPr id="362" name=""/>
                <p:cNvSpPr/>
                <p:nvPr/>
              </p:nvSpPr>
              <p:spPr>
                <a:xfrm rot="564000">
                  <a:off x="6182280" y="2963880"/>
                  <a:ext cx="139320" cy="5508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rot="564000">
                  <a:off x="6282360" y="3014640"/>
                  <a:ext cx="34200" cy="6084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4" name=""/>
            <p:cNvGrpSpPr/>
            <p:nvPr/>
          </p:nvGrpSpPr>
          <p:grpSpPr>
            <a:xfrm>
              <a:off x="7518600" y="2923200"/>
              <a:ext cx="464400" cy="216360"/>
              <a:chOff x="7518600" y="2923200"/>
              <a:chExt cx="464400" cy="21636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7518600" y="2930040"/>
                <a:ext cx="464400" cy="209520"/>
                <a:chOff x="7518600" y="2930040"/>
                <a:chExt cx="464400" cy="209520"/>
              </a:xfrm>
            </p:grpSpPr>
            <p:sp>
              <p:nvSpPr>
                <p:cNvPr id="366" name=""/>
                <p:cNvSpPr/>
                <p:nvPr/>
              </p:nvSpPr>
              <p:spPr>
                <a:xfrm flipH="1" rot="21352200">
                  <a:off x="7529400" y="3000600"/>
                  <a:ext cx="444600" cy="123120"/>
                </a:xfrm>
                <a:custGeom>
                  <a:avLst/>
                  <a:gdLst/>
                  <a:ahLst/>
                  <a:rect l="l" t="t" r="r" b="b"/>
                  <a:pathLst>
                    <a:path w="3529" h="1005">
                      <a:moveTo>
                        <a:pt x="234" y="456"/>
                      </a:moveTo>
                      <a:lnTo>
                        <a:pt x="0" y="498"/>
                      </a:lnTo>
                      <a:lnTo>
                        <a:pt x="207" y="570"/>
                      </a:lnTo>
                      <a:lnTo>
                        <a:pt x="415" y="621"/>
                      </a:lnTo>
                      <a:lnTo>
                        <a:pt x="596" y="653"/>
                      </a:lnTo>
                      <a:lnTo>
                        <a:pt x="713" y="706"/>
                      </a:lnTo>
                      <a:lnTo>
                        <a:pt x="876" y="798"/>
                      </a:lnTo>
                      <a:lnTo>
                        <a:pt x="1020" y="922"/>
                      </a:lnTo>
                      <a:lnTo>
                        <a:pt x="1174" y="985"/>
                      </a:lnTo>
                      <a:lnTo>
                        <a:pt x="1274" y="1005"/>
                      </a:lnTo>
                      <a:lnTo>
                        <a:pt x="1409" y="912"/>
                      </a:lnTo>
                      <a:lnTo>
                        <a:pt x="1544" y="819"/>
                      </a:lnTo>
                      <a:lnTo>
                        <a:pt x="1815" y="706"/>
                      </a:lnTo>
                      <a:lnTo>
                        <a:pt x="2040" y="631"/>
                      </a:lnTo>
                      <a:lnTo>
                        <a:pt x="2400" y="498"/>
                      </a:lnTo>
                      <a:lnTo>
                        <a:pt x="2961" y="332"/>
                      </a:lnTo>
                      <a:lnTo>
                        <a:pt x="3141" y="280"/>
                      </a:lnTo>
                      <a:lnTo>
                        <a:pt x="3321" y="259"/>
                      </a:lnTo>
                      <a:lnTo>
                        <a:pt x="3529" y="280"/>
                      </a:lnTo>
                      <a:lnTo>
                        <a:pt x="3123" y="197"/>
                      </a:lnTo>
                      <a:lnTo>
                        <a:pt x="2835" y="208"/>
                      </a:lnTo>
                      <a:lnTo>
                        <a:pt x="2427" y="146"/>
                      </a:lnTo>
                      <a:lnTo>
                        <a:pt x="2129" y="53"/>
                      </a:lnTo>
                      <a:lnTo>
                        <a:pt x="1905" y="0"/>
                      </a:lnTo>
                      <a:lnTo>
                        <a:pt x="1634" y="146"/>
                      </a:lnTo>
                      <a:lnTo>
                        <a:pt x="1138" y="312"/>
                      </a:lnTo>
                      <a:lnTo>
                        <a:pt x="677" y="414"/>
                      </a:lnTo>
                      <a:lnTo>
                        <a:pt x="234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rot="21352200">
                  <a:off x="7550640" y="298908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4">
                      <a:moveTo>
                        <a:pt x="0" y="456"/>
                      </a:moveTo>
                      <a:lnTo>
                        <a:pt x="315" y="456"/>
                      </a:lnTo>
                      <a:lnTo>
                        <a:pt x="577" y="436"/>
                      </a:lnTo>
                      <a:lnTo>
                        <a:pt x="784" y="404"/>
                      </a:lnTo>
                      <a:lnTo>
                        <a:pt x="1101" y="323"/>
                      </a:lnTo>
                      <a:lnTo>
                        <a:pt x="1398" y="218"/>
                      </a:lnTo>
                      <a:lnTo>
                        <a:pt x="1624" y="146"/>
                      </a:lnTo>
                      <a:lnTo>
                        <a:pt x="1759" y="83"/>
                      </a:lnTo>
                      <a:lnTo>
                        <a:pt x="1851" y="0"/>
                      </a:lnTo>
                      <a:lnTo>
                        <a:pt x="2039" y="73"/>
                      </a:lnTo>
                      <a:lnTo>
                        <a:pt x="2246" y="104"/>
                      </a:lnTo>
                      <a:lnTo>
                        <a:pt x="2563" y="186"/>
                      </a:lnTo>
                      <a:lnTo>
                        <a:pt x="2879" y="218"/>
                      </a:lnTo>
                      <a:lnTo>
                        <a:pt x="3150" y="186"/>
                      </a:lnTo>
                      <a:lnTo>
                        <a:pt x="3357" y="166"/>
                      </a:lnTo>
                      <a:lnTo>
                        <a:pt x="3140" y="280"/>
                      </a:lnTo>
                      <a:lnTo>
                        <a:pt x="2978" y="331"/>
                      </a:lnTo>
                      <a:lnTo>
                        <a:pt x="2788" y="415"/>
                      </a:lnTo>
                      <a:lnTo>
                        <a:pt x="2373" y="518"/>
                      </a:lnTo>
                      <a:lnTo>
                        <a:pt x="2048" y="601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7" y="923"/>
                      </a:lnTo>
                      <a:lnTo>
                        <a:pt x="1146" y="974"/>
                      </a:lnTo>
                      <a:lnTo>
                        <a:pt x="974" y="850"/>
                      </a:lnTo>
                      <a:lnTo>
                        <a:pt x="748" y="704"/>
                      </a:lnTo>
                      <a:lnTo>
                        <a:pt x="558" y="653"/>
                      </a:lnTo>
                      <a:lnTo>
                        <a:pt x="324" y="611"/>
                      </a:lnTo>
                      <a:lnTo>
                        <a:pt x="0" y="45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 rot="21352200">
                  <a:off x="7547760" y="297936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8" h="973">
                      <a:moveTo>
                        <a:pt x="0" y="455"/>
                      </a:moveTo>
                      <a:lnTo>
                        <a:pt x="317" y="455"/>
                      </a:lnTo>
                      <a:lnTo>
                        <a:pt x="577" y="434"/>
                      </a:lnTo>
                      <a:lnTo>
                        <a:pt x="785" y="405"/>
                      </a:lnTo>
                      <a:lnTo>
                        <a:pt x="1102" y="320"/>
                      </a:lnTo>
                      <a:lnTo>
                        <a:pt x="1400" y="218"/>
                      </a:lnTo>
                      <a:lnTo>
                        <a:pt x="1626" y="146"/>
                      </a:lnTo>
                      <a:lnTo>
                        <a:pt x="1760" y="82"/>
                      </a:lnTo>
                      <a:lnTo>
                        <a:pt x="1850" y="0"/>
                      </a:lnTo>
                      <a:lnTo>
                        <a:pt x="2040" y="73"/>
                      </a:lnTo>
                      <a:lnTo>
                        <a:pt x="2248" y="103"/>
                      </a:lnTo>
                      <a:lnTo>
                        <a:pt x="2564" y="186"/>
                      </a:lnTo>
                      <a:lnTo>
                        <a:pt x="2880" y="218"/>
                      </a:lnTo>
                      <a:lnTo>
                        <a:pt x="3150" y="186"/>
                      </a:lnTo>
                      <a:lnTo>
                        <a:pt x="3358" y="165"/>
                      </a:lnTo>
                      <a:lnTo>
                        <a:pt x="3141" y="279"/>
                      </a:lnTo>
                      <a:lnTo>
                        <a:pt x="2979" y="331"/>
                      </a:lnTo>
                      <a:lnTo>
                        <a:pt x="2790" y="413"/>
                      </a:lnTo>
                      <a:lnTo>
                        <a:pt x="2375" y="518"/>
                      </a:lnTo>
                      <a:lnTo>
                        <a:pt x="2050" y="600"/>
                      </a:lnTo>
                      <a:lnTo>
                        <a:pt x="1788" y="724"/>
                      </a:lnTo>
                      <a:lnTo>
                        <a:pt x="1517" y="818"/>
                      </a:lnTo>
                      <a:lnTo>
                        <a:pt x="1228" y="923"/>
                      </a:lnTo>
                      <a:lnTo>
                        <a:pt x="1147" y="973"/>
                      </a:lnTo>
                      <a:lnTo>
                        <a:pt x="976" y="850"/>
                      </a:lnTo>
                      <a:lnTo>
                        <a:pt x="749" y="704"/>
                      </a:lnTo>
                      <a:lnTo>
                        <a:pt x="560" y="651"/>
                      </a:lnTo>
                      <a:lnTo>
                        <a:pt x="325" y="611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H="1" rot="21352200">
                  <a:off x="7534080" y="2968560"/>
                  <a:ext cx="44460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8">
                      <a:moveTo>
                        <a:pt x="233" y="458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4" y="623"/>
                      </a:lnTo>
                      <a:lnTo>
                        <a:pt x="594" y="654"/>
                      </a:lnTo>
                      <a:lnTo>
                        <a:pt x="711" y="706"/>
                      </a:lnTo>
                      <a:lnTo>
                        <a:pt x="874" y="798"/>
                      </a:lnTo>
                      <a:lnTo>
                        <a:pt x="1019" y="924"/>
                      </a:lnTo>
                      <a:lnTo>
                        <a:pt x="1172" y="985"/>
                      </a:lnTo>
                      <a:lnTo>
                        <a:pt x="1272" y="1008"/>
                      </a:lnTo>
                      <a:lnTo>
                        <a:pt x="1408" y="914"/>
                      </a:lnTo>
                      <a:lnTo>
                        <a:pt x="1543" y="820"/>
                      </a:lnTo>
                      <a:lnTo>
                        <a:pt x="1813" y="706"/>
                      </a:lnTo>
                      <a:lnTo>
                        <a:pt x="2039" y="633"/>
                      </a:lnTo>
                      <a:lnTo>
                        <a:pt x="2399" y="498"/>
                      </a:lnTo>
                      <a:lnTo>
                        <a:pt x="2960" y="333"/>
                      </a:lnTo>
                      <a:lnTo>
                        <a:pt x="3141" y="282"/>
                      </a:lnTo>
                      <a:lnTo>
                        <a:pt x="3320" y="260"/>
                      </a:lnTo>
                      <a:lnTo>
                        <a:pt x="3528" y="282"/>
                      </a:lnTo>
                      <a:lnTo>
                        <a:pt x="3122" y="199"/>
                      </a:lnTo>
                      <a:lnTo>
                        <a:pt x="2833" y="210"/>
                      </a:lnTo>
                      <a:lnTo>
                        <a:pt x="2427" y="147"/>
                      </a:lnTo>
                      <a:lnTo>
                        <a:pt x="2129" y="53"/>
                      </a:lnTo>
                      <a:lnTo>
                        <a:pt x="1903" y="0"/>
                      </a:lnTo>
                      <a:lnTo>
                        <a:pt x="1633" y="147"/>
                      </a:lnTo>
                      <a:lnTo>
                        <a:pt x="1137" y="313"/>
                      </a:lnTo>
                      <a:lnTo>
                        <a:pt x="676" y="416"/>
                      </a:lnTo>
                      <a:lnTo>
                        <a:pt x="233" y="458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rot="21352200">
                  <a:off x="7551360" y="2960640"/>
                  <a:ext cx="422640" cy="11880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4" y="403"/>
                      </a:lnTo>
                      <a:lnTo>
                        <a:pt x="1101" y="320"/>
                      </a:lnTo>
                      <a:lnTo>
                        <a:pt x="1399" y="217"/>
                      </a:lnTo>
                      <a:lnTo>
                        <a:pt x="1624" y="144"/>
                      </a:lnTo>
                      <a:lnTo>
                        <a:pt x="1760" y="81"/>
                      </a:lnTo>
                      <a:lnTo>
                        <a:pt x="1850" y="0"/>
                      </a:lnTo>
                      <a:lnTo>
                        <a:pt x="2040" y="70"/>
                      </a:lnTo>
                      <a:lnTo>
                        <a:pt x="2247" y="102"/>
                      </a:lnTo>
                      <a:lnTo>
                        <a:pt x="2562" y="187"/>
                      </a:lnTo>
                      <a:lnTo>
                        <a:pt x="2880" y="217"/>
                      </a:lnTo>
                      <a:lnTo>
                        <a:pt x="3150" y="187"/>
                      </a:lnTo>
                      <a:lnTo>
                        <a:pt x="3357" y="163"/>
                      </a:lnTo>
                      <a:lnTo>
                        <a:pt x="3141" y="280"/>
                      </a:lnTo>
                      <a:lnTo>
                        <a:pt x="2978" y="330"/>
                      </a:lnTo>
                      <a:lnTo>
                        <a:pt x="2790" y="414"/>
                      </a:lnTo>
                      <a:lnTo>
                        <a:pt x="2372" y="517"/>
                      </a:lnTo>
                      <a:lnTo>
                        <a:pt x="2047" y="600"/>
                      </a:lnTo>
                      <a:lnTo>
                        <a:pt x="1787" y="724"/>
                      </a:lnTo>
                      <a:lnTo>
                        <a:pt x="1516" y="818"/>
                      </a:lnTo>
                      <a:lnTo>
                        <a:pt x="1227" y="921"/>
                      </a:lnTo>
                      <a:lnTo>
                        <a:pt x="1146" y="973"/>
                      </a:lnTo>
                      <a:lnTo>
                        <a:pt x="975" y="848"/>
                      </a:lnTo>
                      <a:lnTo>
                        <a:pt x="748" y="703"/>
                      </a:lnTo>
                      <a:lnTo>
                        <a:pt x="559" y="652"/>
                      </a:lnTo>
                      <a:lnTo>
                        <a:pt x="324" y="610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 rot="21352200">
                  <a:off x="7522560" y="2945880"/>
                  <a:ext cx="444960" cy="123840"/>
                </a:xfrm>
                <a:custGeom>
                  <a:avLst/>
                  <a:gdLst/>
                  <a:ahLst/>
                  <a:rect l="l" t="t" r="r" b="b"/>
                  <a:pathLst>
                    <a:path w="3528" h="1004">
                      <a:moveTo>
                        <a:pt x="233" y="455"/>
                      </a:moveTo>
                      <a:lnTo>
                        <a:pt x="0" y="498"/>
                      </a:lnTo>
                      <a:lnTo>
                        <a:pt x="206" y="571"/>
                      </a:lnTo>
                      <a:lnTo>
                        <a:pt x="415" y="621"/>
                      </a:lnTo>
                      <a:lnTo>
                        <a:pt x="595" y="653"/>
                      </a:lnTo>
                      <a:lnTo>
                        <a:pt x="712" y="704"/>
                      </a:lnTo>
                      <a:lnTo>
                        <a:pt x="876" y="798"/>
                      </a:lnTo>
                      <a:lnTo>
                        <a:pt x="1019" y="920"/>
                      </a:lnTo>
                      <a:lnTo>
                        <a:pt x="1173" y="984"/>
                      </a:lnTo>
                      <a:lnTo>
                        <a:pt x="1272" y="1004"/>
                      </a:lnTo>
                      <a:lnTo>
                        <a:pt x="1408" y="912"/>
                      </a:lnTo>
                      <a:lnTo>
                        <a:pt x="1543" y="818"/>
                      </a:lnTo>
                      <a:lnTo>
                        <a:pt x="1813" y="704"/>
                      </a:lnTo>
                      <a:lnTo>
                        <a:pt x="2039" y="632"/>
                      </a:lnTo>
                      <a:lnTo>
                        <a:pt x="2399" y="498"/>
                      </a:lnTo>
                      <a:lnTo>
                        <a:pt x="2960" y="332"/>
                      </a:lnTo>
                      <a:lnTo>
                        <a:pt x="3141" y="280"/>
                      </a:lnTo>
                      <a:lnTo>
                        <a:pt x="3320" y="259"/>
                      </a:lnTo>
                      <a:lnTo>
                        <a:pt x="3528" y="280"/>
                      </a:lnTo>
                      <a:lnTo>
                        <a:pt x="3122" y="195"/>
                      </a:lnTo>
                      <a:lnTo>
                        <a:pt x="2833" y="206"/>
                      </a:lnTo>
                      <a:lnTo>
                        <a:pt x="2427" y="145"/>
                      </a:lnTo>
                      <a:lnTo>
                        <a:pt x="2129" y="52"/>
                      </a:lnTo>
                      <a:lnTo>
                        <a:pt x="1903" y="0"/>
                      </a:lnTo>
                      <a:lnTo>
                        <a:pt x="1633" y="145"/>
                      </a:lnTo>
                      <a:lnTo>
                        <a:pt x="1138" y="312"/>
                      </a:lnTo>
                      <a:lnTo>
                        <a:pt x="676" y="414"/>
                      </a:lnTo>
                      <a:lnTo>
                        <a:pt x="233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532280" y="2923200"/>
                <a:ext cx="431280" cy="150120"/>
                <a:chOff x="7532280" y="2923200"/>
                <a:chExt cx="431280" cy="150120"/>
              </a:xfrm>
            </p:grpSpPr>
            <p:sp>
              <p:nvSpPr>
                <p:cNvPr id="373" name=""/>
                <p:cNvSpPr/>
                <p:nvPr/>
              </p:nvSpPr>
              <p:spPr>
                <a:xfrm flipH="1" rot="21352200">
                  <a:off x="7535880" y="2938320"/>
                  <a:ext cx="423720" cy="119880"/>
                </a:xfrm>
                <a:custGeom>
                  <a:avLst/>
                  <a:gdLst/>
                  <a:ahLst/>
                  <a:rect l="l" t="t" r="r" b="b"/>
                  <a:pathLst>
                    <a:path w="3357" h="973">
                      <a:moveTo>
                        <a:pt x="0" y="455"/>
                      </a:moveTo>
                      <a:lnTo>
                        <a:pt x="314" y="455"/>
                      </a:lnTo>
                      <a:lnTo>
                        <a:pt x="576" y="434"/>
                      </a:lnTo>
                      <a:lnTo>
                        <a:pt x="785" y="403"/>
                      </a:lnTo>
                      <a:lnTo>
                        <a:pt x="1100" y="320"/>
                      </a:lnTo>
                      <a:lnTo>
                        <a:pt x="1397" y="215"/>
                      </a:lnTo>
                      <a:lnTo>
                        <a:pt x="1624" y="143"/>
                      </a:lnTo>
                      <a:lnTo>
                        <a:pt x="1760" y="82"/>
                      </a:lnTo>
                      <a:lnTo>
                        <a:pt x="1848" y="0"/>
                      </a:lnTo>
                      <a:lnTo>
                        <a:pt x="2038" y="71"/>
                      </a:lnTo>
                      <a:lnTo>
                        <a:pt x="2246" y="101"/>
                      </a:lnTo>
                      <a:lnTo>
                        <a:pt x="2561" y="186"/>
                      </a:lnTo>
                      <a:lnTo>
                        <a:pt x="2878" y="215"/>
                      </a:lnTo>
                      <a:lnTo>
                        <a:pt x="3149" y="186"/>
                      </a:lnTo>
                      <a:lnTo>
                        <a:pt x="3357" y="164"/>
                      </a:lnTo>
                      <a:lnTo>
                        <a:pt x="3141" y="278"/>
                      </a:lnTo>
                      <a:lnTo>
                        <a:pt x="2978" y="330"/>
                      </a:lnTo>
                      <a:lnTo>
                        <a:pt x="2788" y="414"/>
                      </a:lnTo>
                      <a:lnTo>
                        <a:pt x="2372" y="516"/>
                      </a:lnTo>
                      <a:lnTo>
                        <a:pt x="2047" y="600"/>
                      </a:lnTo>
                      <a:lnTo>
                        <a:pt x="1786" y="725"/>
                      </a:lnTo>
                      <a:lnTo>
                        <a:pt x="1515" y="818"/>
                      </a:lnTo>
                      <a:lnTo>
                        <a:pt x="1226" y="920"/>
                      </a:lnTo>
                      <a:lnTo>
                        <a:pt x="1145" y="973"/>
                      </a:lnTo>
                      <a:lnTo>
                        <a:pt x="974" y="848"/>
                      </a:lnTo>
                      <a:lnTo>
                        <a:pt x="747" y="703"/>
                      </a:lnTo>
                      <a:lnTo>
                        <a:pt x="557" y="652"/>
                      </a:lnTo>
                      <a:lnTo>
                        <a:pt x="324" y="609"/>
                      </a:lnTo>
                      <a:lnTo>
                        <a:pt x="0" y="45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rot="21352200">
                  <a:off x="7782480" y="2982600"/>
                  <a:ext cx="77400" cy="50760"/>
                </a:xfrm>
                <a:custGeom>
                  <a:avLst/>
                  <a:gdLst/>
                  <a:ahLst/>
                  <a:rect l="l" t="t" r="r" b="b"/>
                  <a:pathLst>
                    <a:path w="615" h="418">
                      <a:moveTo>
                        <a:pt x="182" y="0"/>
                      </a:moveTo>
                      <a:lnTo>
                        <a:pt x="296" y="65"/>
                      </a:lnTo>
                      <a:lnTo>
                        <a:pt x="234" y="58"/>
                      </a:lnTo>
                      <a:lnTo>
                        <a:pt x="162" y="64"/>
                      </a:lnTo>
                      <a:lnTo>
                        <a:pt x="112" y="82"/>
                      </a:lnTo>
                      <a:lnTo>
                        <a:pt x="77" y="97"/>
                      </a:lnTo>
                      <a:lnTo>
                        <a:pt x="59" y="116"/>
                      </a:lnTo>
                      <a:lnTo>
                        <a:pt x="51" y="139"/>
                      </a:lnTo>
                      <a:lnTo>
                        <a:pt x="56" y="165"/>
                      </a:lnTo>
                      <a:lnTo>
                        <a:pt x="74" y="182"/>
                      </a:lnTo>
                      <a:lnTo>
                        <a:pt x="97" y="199"/>
                      </a:lnTo>
                      <a:lnTo>
                        <a:pt x="131" y="196"/>
                      </a:lnTo>
                      <a:lnTo>
                        <a:pt x="196" y="184"/>
                      </a:lnTo>
                      <a:lnTo>
                        <a:pt x="254" y="170"/>
                      </a:lnTo>
                      <a:lnTo>
                        <a:pt x="340" y="150"/>
                      </a:lnTo>
                      <a:lnTo>
                        <a:pt x="395" y="136"/>
                      </a:lnTo>
                      <a:lnTo>
                        <a:pt x="433" y="125"/>
                      </a:lnTo>
                      <a:lnTo>
                        <a:pt x="471" y="125"/>
                      </a:lnTo>
                      <a:lnTo>
                        <a:pt x="501" y="125"/>
                      </a:lnTo>
                      <a:lnTo>
                        <a:pt x="534" y="133"/>
                      </a:lnTo>
                      <a:lnTo>
                        <a:pt x="560" y="146"/>
                      </a:lnTo>
                      <a:lnTo>
                        <a:pt x="580" y="168"/>
                      </a:lnTo>
                      <a:lnTo>
                        <a:pt x="591" y="203"/>
                      </a:lnTo>
                      <a:lnTo>
                        <a:pt x="594" y="239"/>
                      </a:lnTo>
                      <a:lnTo>
                        <a:pt x="591" y="273"/>
                      </a:lnTo>
                      <a:lnTo>
                        <a:pt x="581" y="292"/>
                      </a:lnTo>
                      <a:lnTo>
                        <a:pt x="567" y="310"/>
                      </a:lnTo>
                      <a:lnTo>
                        <a:pt x="615" y="341"/>
                      </a:lnTo>
                      <a:lnTo>
                        <a:pt x="525" y="398"/>
                      </a:lnTo>
                      <a:lnTo>
                        <a:pt x="481" y="349"/>
                      </a:lnTo>
                      <a:lnTo>
                        <a:pt x="453" y="365"/>
                      </a:lnTo>
                      <a:lnTo>
                        <a:pt x="407" y="387"/>
                      </a:lnTo>
                      <a:lnTo>
                        <a:pt x="382" y="418"/>
                      </a:lnTo>
                      <a:lnTo>
                        <a:pt x="219" y="324"/>
                      </a:lnTo>
                      <a:lnTo>
                        <a:pt x="335" y="323"/>
                      </a:lnTo>
                      <a:lnTo>
                        <a:pt x="423" y="313"/>
                      </a:lnTo>
                      <a:lnTo>
                        <a:pt x="479" y="306"/>
                      </a:lnTo>
                      <a:lnTo>
                        <a:pt x="512" y="291"/>
                      </a:lnTo>
                      <a:lnTo>
                        <a:pt x="529" y="275"/>
                      </a:lnTo>
                      <a:lnTo>
                        <a:pt x="534" y="242"/>
                      </a:lnTo>
                      <a:lnTo>
                        <a:pt x="525" y="218"/>
                      </a:lnTo>
                      <a:lnTo>
                        <a:pt x="494" y="196"/>
                      </a:lnTo>
                      <a:lnTo>
                        <a:pt x="445" y="203"/>
                      </a:lnTo>
                      <a:lnTo>
                        <a:pt x="357" y="231"/>
                      </a:lnTo>
                      <a:lnTo>
                        <a:pt x="271" y="253"/>
                      </a:lnTo>
                      <a:lnTo>
                        <a:pt x="173" y="278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1" y="273"/>
                      </a:lnTo>
                      <a:lnTo>
                        <a:pt x="15" y="252"/>
                      </a:lnTo>
                      <a:lnTo>
                        <a:pt x="1" y="221"/>
                      </a:lnTo>
                      <a:lnTo>
                        <a:pt x="0" y="195"/>
                      </a:lnTo>
                      <a:lnTo>
                        <a:pt x="0" y="171"/>
                      </a:lnTo>
                      <a:lnTo>
                        <a:pt x="10" y="142"/>
                      </a:lnTo>
                      <a:lnTo>
                        <a:pt x="24" y="114"/>
                      </a:lnTo>
                      <a:lnTo>
                        <a:pt x="40" y="96"/>
                      </a:lnTo>
                      <a:lnTo>
                        <a:pt x="54" y="78"/>
                      </a:lnTo>
                      <a:lnTo>
                        <a:pt x="3" y="40"/>
                      </a:lnTo>
                      <a:lnTo>
                        <a:pt x="92" y="11"/>
                      </a:lnTo>
                      <a:lnTo>
                        <a:pt x="137" y="42"/>
                      </a:lnTo>
                      <a:lnTo>
                        <a:pt x="170" y="37"/>
                      </a:lnTo>
                      <a:lnTo>
                        <a:pt x="182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rot="21352200">
                  <a:off x="7656840" y="2953080"/>
                  <a:ext cx="76320" cy="50760"/>
                </a:xfrm>
                <a:custGeom>
                  <a:avLst/>
                  <a:gdLst/>
                  <a:ahLst/>
                  <a:rect l="l" t="t" r="r" b="b"/>
                  <a:pathLst>
                    <a:path w="616" h="418">
                      <a:moveTo>
                        <a:pt x="183" y="0"/>
                      </a:moveTo>
                      <a:lnTo>
                        <a:pt x="297" y="64"/>
                      </a:lnTo>
                      <a:lnTo>
                        <a:pt x="236" y="59"/>
                      </a:lnTo>
                      <a:lnTo>
                        <a:pt x="163" y="63"/>
                      </a:lnTo>
                      <a:lnTo>
                        <a:pt x="115" y="81"/>
                      </a:lnTo>
                      <a:lnTo>
                        <a:pt x="79" y="98"/>
                      </a:lnTo>
                      <a:lnTo>
                        <a:pt x="60" y="117"/>
                      </a:lnTo>
                      <a:lnTo>
                        <a:pt x="51" y="138"/>
                      </a:lnTo>
                      <a:lnTo>
                        <a:pt x="58" y="166"/>
                      </a:lnTo>
                      <a:lnTo>
                        <a:pt x="75" y="181"/>
                      </a:lnTo>
                      <a:lnTo>
                        <a:pt x="99" y="198"/>
                      </a:lnTo>
                      <a:lnTo>
                        <a:pt x="131" y="195"/>
                      </a:lnTo>
                      <a:lnTo>
                        <a:pt x="199" y="184"/>
                      </a:lnTo>
                      <a:lnTo>
                        <a:pt x="256" y="170"/>
                      </a:lnTo>
                      <a:lnTo>
                        <a:pt x="341" y="152"/>
                      </a:lnTo>
                      <a:lnTo>
                        <a:pt x="397" y="135"/>
                      </a:lnTo>
                      <a:lnTo>
                        <a:pt x="434" y="124"/>
                      </a:lnTo>
                      <a:lnTo>
                        <a:pt x="473" y="124"/>
                      </a:lnTo>
                      <a:lnTo>
                        <a:pt x="503" y="124"/>
                      </a:lnTo>
                      <a:lnTo>
                        <a:pt x="535" y="134"/>
                      </a:lnTo>
                      <a:lnTo>
                        <a:pt x="560" y="147"/>
                      </a:lnTo>
                      <a:lnTo>
                        <a:pt x="580" y="169"/>
                      </a:lnTo>
                      <a:lnTo>
                        <a:pt x="591" y="204"/>
                      </a:lnTo>
                      <a:lnTo>
                        <a:pt x="595" y="240"/>
                      </a:lnTo>
                      <a:lnTo>
                        <a:pt x="591" y="272"/>
                      </a:lnTo>
                      <a:lnTo>
                        <a:pt x="581" y="293"/>
                      </a:lnTo>
                      <a:lnTo>
                        <a:pt x="569" y="310"/>
                      </a:lnTo>
                      <a:lnTo>
                        <a:pt x="616" y="341"/>
                      </a:lnTo>
                      <a:lnTo>
                        <a:pt x="526" y="398"/>
                      </a:lnTo>
                      <a:lnTo>
                        <a:pt x="483" y="350"/>
                      </a:lnTo>
                      <a:lnTo>
                        <a:pt x="454" y="366"/>
                      </a:lnTo>
                      <a:lnTo>
                        <a:pt x="408" y="390"/>
                      </a:lnTo>
                      <a:lnTo>
                        <a:pt x="383" y="418"/>
                      </a:lnTo>
                      <a:lnTo>
                        <a:pt x="220" y="324"/>
                      </a:lnTo>
                      <a:lnTo>
                        <a:pt x="337" y="323"/>
                      </a:lnTo>
                      <a:lnTo>
                        <a:pt x="424" y="315"/>
                      </a:lnTo>
                      <a:lnTo>
                        <a:pt x="479" y="308"/>
                      </a:lnTo>
                      <a:lnTo>
                        <a:pt x="514" y="291"/>
                      </a:lnTo>
                      <a:lnTo>
                        <a:pt x="529" y="275"/>
                      </a:lnTo>
                      <a:lnTo>
                        <a:pt x="535" y="243"/>
                      </a:lnTo>
                      <a:lnTo>
                        <a:pt x="526" y="218"/>
                      </a:lnTo>
                      <a:lnTo>
                        <a:pt x="496" y="195"/>
                      </a:lnTo>
                      <a:lnTo>
                        <a:pt x="447" y="204"/>
                      </a:lnTo>
                      <a:lnTo>
                        <a:pt x="359" y="230"/>
                      </a:lnTo>
                      <a:lnTo>
                        <a:pt x="271" y="252"/>
                      </a:lnTo>
                      <a:lnTo>
                        <a:pt x="175" y="280"/>
                      </a:lnTo>
                      <a:lnTo>
                        <a:pt x="121" y="288"/>
                      </a:lnTo>
                      <a:lnTo>
                        <a:pt x="80" y="288"/>
                      </a:lnTo>
                      <a:lnTo>
                        <a:pt x="43" y="272"/>
                      </a:lnTo>
                      <a:lnTo>
                        <a:pt x="16" y="251"/>
                      </a:lnTo>
                      <a:lnTo>
                        <a:pt x="3" y="223"/>
                      </a:lnTo>
                      <a:lnTo>
                        <a:pt x="0" y="194"/>
                      </a:lnTo>
                      <a:lnTo>
                        <a:pt x="0" y="172"/>
                      </a:lnTo>
                      <a:lnTo>
                        <a:pt x="10" y="141"/>
                      </a:lnTo>
                      <a:lnTo>
                        <a:pt x="25" y="116"/>
                      </a:lnTo>
                      <a:lnTo>
                        <a:pt x="40" y="96"/>
                      </a:lnTo>
                      <a:lnTo>
                        <a:pt x="55" y="78"/>
                      </a:lnTo>
                      <a:lnTo>
                        <a:pt x="4" y="41"/>
                      </a:lnTo>
                      <a:lnTo>
                        <a:pt x="94" y="10"/>
                      </a:lnTo>
                      <a:lnTo>
                        <a:pt x="139" y="42"/>
                      </a:lnTo>
                      <a:lnTo>
                        <a:pt x="171" y="38"/>
                      </a:lnTo>
                      <a:lnTo>
                        <a:pt x="183" y="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680960" y="2959200"/>
                <a:ext cx="142920" cy="112680"/>
                <a:chOff x="7680960" y="2959200"/>
                <a:chExt cx="142920" cy="112680"/>
              </a:xfrm>
            </p:grpSpPr>
            <p:sp>
              <p:nvSpPr>
                <p:cNvPr id="377" name=""/>
                <p:cNvSpPr/>
                <p:nvPr/>
              </p:nvSpPr>
              <p:spPr>
                <a:xfrm flipH="1" rot="21352200">
                  <a:off x="7682040" y="2963880"/>
                  <a:ext cx="139320" cy="54720"/>
                </a:xfrm>
                <a:custGeom>
                  <a:avLst/>
                  <a:gdLst/>
                  <a:ahLst/>
                  <a:rect l="l" t="t" r="r" b="b"/>
                  <a:pathLst>
                    <a:path w="1109" h="446">
                      <a:moveTo>
                        <a:pt x="0" y="105"/>
                      </a:moveTo>
                      <a:lnTo>
                        <a:pt x="848" y="446"/>
                      </a:lnTo>
                      <a:lnTo>
                        <a:pt x="1109" y="354"/>
                      </a:lnTo>
                      <a:lnTo>
                        <a:pt x="260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rot="21352200">
                  <a:off x="7682400" y="3009960"/>
                  <a:ext cx="34200" cy="60480"/>
                </a:xfrm>
                <a:custGeom>
                  <a:avLst/>
                  <a:gdLst/>
                  <a:ahLst/>
                  <a:rect l="l" t="t" r="r" b="b"/>
                  <a:pathLst>
                    <a:path w="272" h="495">
                      <a:moveTo>
                        <a:pt x="0" y="102"/>
                      </a:moveTo>
                      <a:lnTo>
                        <a:pt x="263" y="0"/>
                      </a:lnTo>
                      <a:lnTo>
                        <a:pt x="272" y="393"/>
                      </a:lnTo>
                      <a:lnTo>
                        <a:pt x="0" y="495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9" name=""/>
          <p:cNvSpPr/>
          <p:nvPr/>
        </p:nvSpPr>
        <p:spPr>
          <a:xfrm>
            <a:off x="2025720" y="565308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Der Durchlauf des Prozesses verbraucht Zeit und Ressour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752480" y="1371600"/>
            <a:ext cx="7086600" cy="4723920"/>
            <a:chOff x="1752480" y="1371600"/>
            <a:chExt cx="7086600" cy="4723920"/>
          </a:xfrm>
        </p:grpSpPr>
        <p:sp>
          <p:nvSpPr>
            <p:cNvPr id="381" name=""/>
            <p:cNvSpPr/>
            <p:nvPr/>
          </p:nvSpPr>
          <p:spPr>
            <a:xfrm>
              <a:off x="1752480" y="1371600"/>
              <a:ext cx="7086600" cy="52452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Funktionale versus prozessorientierte Sichtwe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52480" y="5242680"/>
              <a:ext cx="7086600" cy="852840"/>
            </a:xfrm>
            <a:prstGeom prst="rect">
              <a:avLst/>
            </a:prstGeom>
            <a:solidFill>
              <a:srgbClr val="becc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Alle ziehen an einem Strang, damit die vom Kunden angestoßenen Abläufe transparent und effizient ablaufe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52480" y="3996000"/>
              <a:ext cx="3936960" cy="104976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prozess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14800" y="2447280"/>
              <a:ext cx="147024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89440" y="1896120"/>
              <a:ext cx="3149280" cy="15746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fach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teiloptim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viele Funktionsverantwortlic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lange Durchlaufz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viele Schnittst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1480" y="2727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25240" y="4131360"/>
              <a:ext cx="13867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52480" y="1897560"/>
              <a:ext cx="3936960" cy="157320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66"/>
                  </a:solidFill>
                  <a:latin typeface="Arial"/>
                </a:rPr>
                <a:t>funk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8760" y="196200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89440" y="3996000"/>
              <a:ext cx="3149280" cy="104976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produktorient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gesamtoptimi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ein Prozessverantwortlich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kurze Durchlaufze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   </a:t>
              </a:r>
              <a:r>
                <a:rPr b="0" lang="de-DE" sz="1400" spc="-1" strike="noStrike">
                  <a:solidFill>
                    <a:srgbClr val="000066"/>
                  </a:solidFill>
                  <a:latin typeface="Arial"/>
                </a:rPr>
                <a:t>Schnittstellen abgestim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2181960" y="4258440"/>
              <a:ext cx="3149280" cy="524520"/>
              <a:chOff x="2181960" y="4258440"/>
              <a:chExt cx="3149280" cy="524520"/>
            </a:xfrm>
          </p:grpSpPr>
          <p:sp>
            <p:nvSpPr>
              <p:cNvPr id="392" name=""/>
              <p:cNvSpPr/>
              <p:nvPr/>
            </p:nvSpPr>
            <p:spPr>
              <a:xfrm>
                <a:off x="3914280" y="4258440"/>
                <a:ext cx="839520" cy="52452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33648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181960" y="4258440"/>
                <a:ext cx="839520" cy="524520"/>
              </a:xfrm>
              <a:custGeom>
                <a:avLst/>
                <a:gdLst>
                  <a:gd name="textAreaLeft" fmla="*/ 0 w 839520"/>
                  <a:gd name="textAreaRight" fmla="*/ 839880 w 83952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5904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491360" y="4258440"/>
                <a:ext cx="839880" cy="524520"/>
              </a:xfrm>
              <a:custGeom>
                <a:avLst/>
                <a:gdLst>
                  <a:gd name="textAreaLeft" fmla="*/ 0 w 839880"/>
                  <a:gd name="textAreaRight" fmla="*/ 840240 w 839880"/>
                  <a:gd name="textAreaTop" fmla="*/ 0 h 524520"/>
                  <a:gd name="textAreaBottom" fmla="*/ 524880 h 52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80" y="0"/>
                    </a:lnTo>
                    <a:lnTo>
                      <a:pt x="21600" y="10800"/>
                    </a:lnTo>
                    <a:lnTo>
                      <a:pt x="14880" y="21600"/>
                    </a:lnTo>
                    <a:lnTo>
                      <a:pt x="0" y="21600"/>
                    </a:lnTo>
                    <a:lnTo>
                      <a:pt x="6720" y="10800"/>
                    </a:lnTo>
                    <a:close/>
                  </a:path>
                </a:pathLst>
              </a:custGeom>
              <a:solidFill>
                <a:srgbClr val="becc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4186080" y="248688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11440" y="2486880"/>
              <a:ext cx="644040" cy="393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6816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2712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5660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32712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9764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1556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5660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86080" y="320832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1556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816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9764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86080" y="2946240"/>
              <a:ext cx="357480" cy="196560"/>
            </a:xfrm>
            <a:prstGeom prst="rect">
              <a:avLst/>
            </a:prstGeom>
            <a:solidFill>
              <a:srgbClr val="becc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1" name=""/>
            <p:cNvCxnSpPr>
              <a:stCxn id="389" idx="2"/>
              <a:endCxn id="397" idx="0"/>
            </p:cNvCxnSpPr>
            <p:nvPr/>
          </p:nvCxnSpPr>
          <p:spPr>
            <a:xfrm flipH="1" rot="16200000">
              <a:off x="4048200" y="2027160"/>
              <a:ext cx="131760" cy="788040"/>
            </a:xfrm>
            <a:prstGeom prst="bentConnector3">
              <a:avLst>
                <a:gd name="adj1" fmla="val 49863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2" name=""/>
            <p:cNvCxnSpPr>
              <a:stCxn id="389" idx="2"/>
              <a:endCxn id="398" idx="0"/>
            </p:cNvCxnSpPr>
            <p:nvPr/>
          </p:nvCxnSpPr>
          <p:spPr>
            <a:xfrm rot="5400000">
              <a:off x="3260880" y="2027520"/>
              <a:ext cx="131760" cy="787680"/>
            </a:xfrm>
            <a:prstGeom prst="bentConnector3">
              <a:avLst>
                <a:gd name="adj1" fmla="val 49863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3" name=""/>
            <p:cNvCxnSpPr>
              <a:stCxn id="398" idx="2"/>
              <a:endCxn id="409" idx="0"/>
            </p:cNvCxnSpPr>
            <p:nvPr/>
          </p:nvCxnSpPr>
          <p:spPr>
            <a:xfrm flipH="1" rot="16200000">
              <a:off x="2971440" y="2841480"/>
              <a:ext cx="66240" cy="14364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4" name=""/>
            <p:cNvCxnSpPr>
              <a:stCxn id="398" idx="2"/>
              <a:endCxn id="408" idx="0"/>
            </p:cNvCxnSpPr>
            <p:nvPr/>
          </p:nvCxnSpPr>
          <p:spPr>
            <a:xfrm rot="5400000">
              <a:off x="2756520" y="2769840"/>
              <a:ext cx="66240" cy="2869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5" name=""/>
            <p:cNvCxnSpPr>
              <a:stCxn id="398" idx="2"/>
              <a:endCxn id="402" idx="0"/>
            </p:cNvCxnSpPr>
            <p:nvPr/>
          </p:nvCxnSpPr>
          <p:spPr>
            <a:xfrm flipH="1" rot="16200000">
              <a:off x="3187080" y="2626560"/>
              <a:ext cx="66240" cy="57312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6" name=""/>
            <p:cNvCxnSpPr>
              <a:stCxn id="397" idx="2"/>
              <a:endCxn id="407" idx="0"/>
            </p:cNvCxnSpPr>
            <p:nvPr/>
          </p:nvCxnSpPr>
          <p:spPr>
            <a:xfrm flipH="1" rot="16200000">
              <a:off x="4618800" y="2769840"/>
              <a:ext cx="66240" cy="28656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7" name=""/>
            <p:cNvCxnSpPr>
              <a:stCxn id="397" idx="2"/>
              <a:endCxn id="410" idx="0"/>
            </p:cNvCxnSpPr>
            <p:nvPr/>
          </p:nvCxnSpPr>
          <p:spPr>
            <a:xfrm rot="5400000">
              <a:off x="4403160" y="2841480"/>
              <a:ext cx="66240" cy="14400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8" name=""/>
            <p:cNvCxnSpPr>
              <a:stCxn id="397" idx="2"/>
              <a:endCxn id="401" idx="0"/>
            </p:cNvCxnSpPr>
            <p:nvPr/>
          </p:nvCxnSpPr>
          <p:spPr>
            <a:xfrm rot="5400000">
              <a:off x="4188240" y="2626560"/>
              <a:ext cx="66240" cy="573480"/>
            </a:xfrm>
            <a:prstGeom prst="bentConnector3">
              <a:avLst>
                <a:gd name="adj1" fmla="val 49726"/>
              </a:avLst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19" name=""/>
            <p:cNvCxnSpPr>
              <a:stCxn id="408" idx="2"/>
              <a:endCxn id="399" idx="0"/>
            </p:cNvCxnSpPr>
            <p:nvPr/>
          </p:nvCxnSpPr>
          <p:spPr>
            <a:xfrm>
              <a:off x="264672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0" name=""/>
            <p:cNvCxnSpPr>
              <a:stCxn id="409" idx="2"/>
              <a:endCxn id="403" idx="0"/>
            </p:cNvCxnSpPr>
            <p:nvPr/>
          </p:nvCxnSpPr>
          <p:spPr>
            <a:xfrm>
              <a:off x="307620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1" name=""/>
            <p:cNvCxnSpPr>
              <a:stCxn id="402" idx="2"/>
              <a:endCxn id="400" idx="0"/>
            </p:cNvCxnSpPr>
            <p:nvPr/>
          </p:nvCxnSpPr>
          <p:spPr>
            <a:xfrm>
              <a:off x="350568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2" name=""/>
            <p:cNvCxnSpPr>
              <a:stCxn id="401" idx="2"/>
              <a:endCxn id="405" idx="0"/>
            </p:cNvCxnSpPr>
            <p:nvPr/>
          </p:nvCxnSpPr>
          <p:spPr>
            <a:xfrm>
              <a:off x="393516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3" name=""/>
            <p:cNvCxnSpPr>
              <a:stCxn id="410" idx="2"/>
              <a:endCxn id="406" idx="0"/>
            </p:cNvCxnSpPr>
            <p:nvPr/>
          </p:nvCxnSpPr>
          <p:spPr>
            <a:xfrm>
              <a:off x="436464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cxnSp>
          <p:nvCxnSpPr>
            <p:cNvPr id="424" name=""/>
            <p:cNvCxnSpPr>
              <a:stCxn id="407" idx="2"/>
              <a:endCxn id="404" idx="0"/>
            </p:cNvCxnSpPr>
            <p:nvPr/>
          </p:nvCxnSpPr>
          <p:spPr>
            <a:xfrm>
              <a:off x="4794120" y="3142800"/>
              <a:ext cx="1080" cy="65520"/>
            </a:xfrm>
            <a:prstGeom prst="straightConnector1">
              <a:avLst/>
            </a:prstGeom>
            <a:ln w="9360">
              <a:solidFill>
                <a:srgbClr val="001e64"/>
              </a:solidFill>
              <a:miter/>
            </a:ln>
          </p:spPr>
        </p:cxnSp>
        <p:sp>
          <p:nvSpPr>
            <p:cNvPr id="425" name=""/>
            <p:cNvSpPr/>
            <p:nvPr/>
          </p:nvSpPr>
          <p:spPr>
            <a:xfrm>
              <a:off x="6476760" y="3471120"/>
              <a:ext cx="787320" cy="524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327120" y="3471120"/>
              <a:ext cx="786960" cy="524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83080" y="3077280"/>
              <a:ext cx="858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83080" y="3077280"/>
              <a:ext cx="121644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542040" y="3077280"/>
              <a:ext cx="786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758840" y="3077280"/>
              <a:ext cx="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97640" y="2749320"/>
              <a:ext cx="214560" cy="52452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99880" y="3077280"/>
              <a:ext cx="858960" cy="19656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38680" y="4520880"/>
              <a:ext cx="3578760" cy="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050920" y="12193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Verdana"/>
              </a:rPr>
              <a:t>Prozessmanageme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mfasst die zielorienti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staltung, Steuerung und Durchfüh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ller Prozesse eines Unternehme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627280" y="2973240"/>
            <a:ext cx="5867280" cy="3048120"/>
            <a:chOff x="2627280" y="2973240"/>
            <a:chExt cx="5867280" cy="3048120"/>
          </a:xfrm>
        </p:grpSpPr>
        <p:sp>
          <p:nvSpPr>
            <p:cNvPr id="436" name=""/>
            <p:cNvSpPr/>
            <p:nvPr/>
          </p:nvSpPr>
          <p:spPr>
            <a:xfrm>
              <a:off x="2627280" y="5411880"/>
              <a:ext cx="586728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6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Überprüfung und Verbesser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27280" y="2973240"/>
              <a:ext cx="5867280" cy="60984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66"/>
                  </a:solidFill>
                  <a:latin typeface="Arial"/>
                </a:rPr>
                <a:t>Das bedeute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27280" y="3583080"/>
              <a:ext cx="5867280" cy="60948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Identifikation und Strukturier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7280" y="4802040"/>
              <a:ext cx="5867280" cy="609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Führung und Anwendung des Prozes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27280" y="4192560"/>
              <a:ext cx="5867280" cy="60948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Gestaltung der Proze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04760" y="159984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Vorteile durch Prozessorientieru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6934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richtung an realen Unternehmensabläu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lare Verantwortlichkeiten und Schnitt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Transparenz für jeden Mitarbei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steigerte Akzeptanz bei den Beschäftig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ärkere Eigenverantwortung durch Identifikation mit den eigenen Tätig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ntinuierlicher Verbesserungsprozess setzt direkt an den Abläufen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samtsicht schafft Basis für verbesserte Wertschöp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1763280" y="2472840"/>
            <a:ext cx="71643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Steckbr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Aufna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ozess – Ziele und Kenn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1752480" y="31240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000000"/>
                </a:solidFill>
                <a:latin typeface="Verdana"/>
              </a:rPr>
              <a:t>Der Prozess-Steckbrie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dcterms:modified xsi:type="dcterms:W3CDTF">2007-11-16T14:46:03Z</dcterms:modified>
  <cp:revision>74</cp:revision>
  <dc:subject/>
  <dc:title>PowerPoint-Präsentation</dc:title>
</cp:coreProperties>
</file>