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7-A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Ziele, Zielauswahl, Zielperspektiven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151A53DC-E229-427E-983A-451A4854115E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herbert.klemisch@kni.de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1341360"/>
            <a:ext cx="73915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ZIEL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ZIELPERSPEKTIVE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ZIELAUSWAH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7280" y="2535120"/>
            <a:ext cx="77058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Nur wer sein Ziel kennt, findet den W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aot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12682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Ziele solle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2060640"/>
            <a:ext cx="7345440" cy="3384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als Meilenstein Motor für Verbesserungen von Ergebnissen und Prozessen des Unternehmens se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Probleme aufzeig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helfen, Lösungsalternativen für ein erkanntes Problem zu beurteil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Informationen bewer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Beschäftigten eine eindeutige Orientierung ge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5226120"/>
            <a:ext cx="12290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1125360"/>
            <a:ext cx="741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00000"/>
                </a:solidFill>
                <a:latin typeface="Verdana"/>
              </a:rPr>
              <a:t>Zielperspekti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78040" y="2286000"/>
            <a:ext cx="5587920" cy="2905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6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Finanz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336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Kunden/-in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336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Prozes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336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Potenzi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33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1125360"/>
            <a:ext cx="7416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Ziele sollen präzise sein hinsichtlich des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844640"/>
            <a:ext cx="6912000" cy="338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s Inhalt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Was soll erreicht werden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s angestrebten Ausmaß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Wieviel soll erreicht werden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s Zeithorizont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Wann soll das Ziel erreicht werden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s Geltungsbereich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Gilt das Ziel für das gesamte Unternehmen, einzelne Prozesse, einzelne Aktivitäten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048120"/>
            <a:ext cx="190476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9-06T14:58:48Z</dcterms:modified>
  <cp:revision>78</cp:revision>
  <dc:subject/>
  <dc:title>Kein Folientitel</dc:title>
</cp:coreProperties>
</file>