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10234613" cy="14662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3680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827360" y="914400"/>
            <a:ext cx="5945040" cy="565308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0" y="5286240"/>
            <a:ext cx="1066680" cy="809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1042920" y="6599160"/>
            <a:ext cx="403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808080"/>
                </a:solidFill>
                <a:latin typeface="Verdana"/>
              </a:rPr>
              <a:t>S7-A1: PowerPoint-Präsentation </a:t>
            </a:r>
            <a:r>
              <a:rPr b="0" lang="en-US" sz="800" spc="-1" strike="noStrike">
                <a:solidFill>
                  <a:srgbClr val="808080"/>
                </a:solidFill>
                <a:latin typeface="Verdana"/>
              </a:rPr>
              <a:t>»Ziele, Zielauswahl, Zielperspektiven«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423280" y="6643800"/>
            <a:ext cx="720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808080"/>
                </a:solidFill>
                <a:latin typeface="Verdana"/>
              </a:rPr>
              <a:t>Folie </a:t>
            </a:r>
            <a:fld id="{64ED1884-8CEB-4E8F-9282-B25667D20FFB}" type="slidenum">
              <a:rPr b="0" lang="de-DE" sz="8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5"/>
          <a:stretch/>
        </p:blipFill>
        <p:spPr>
          <a:xfrm>
            <a:off x="4068720" y="260280"/>
            <a:ext cx="2158920" cy="51768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6"/>
          <a:stretch/>
        </p:blipFill>
        <p:spPr>
          <a:xfrm>
            <a:off x="1116000" y="333360"/>
            <a:ext cx="2532240" cy="4507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7"/>
          <a:stretch/>
        </p:blipFill>
        <p:spPr>
          <a:xfrm>
            <a:off x="7020000" y="260280"/>
            <a:ext cx="1368360" cy="52560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ingo.rauhut@handwerk-nrw.de" TargetMode="External"/><Relationship Id="rId2" Type="http://schemas.openxmlformats.org/officeDocument/2006/relationships/hyperlink" Target="mailto:herbert.klemisch@kni.de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187280" y="1341360"/>
            <a:ext cx="73915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Verdana"/>
              </a:rPr>
              <a:t>ZIELE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Verdana"/>
              </a:rPr>
              <a:t>ZIELPERSPEKTIVEN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Verdana"/>
              </a:rPr>
              <a:t>ZIELAUSWAH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34120" y="5165640"/>
            <a:ext cx="2438280" cy="939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523880" y="5394240"/>
            <a:ext cx="304812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187280" y="2535120"/>
            <a:ext cx="770580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Verdana"/>
              </a:rPr>
              <a:t>Nur wer sein Ziel kennt, findet den We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Laot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16000" y="1268280"/>
            <a:ext cx="75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0000"/>
                </a:solidFill>
                <a:latin typeface="Verdana"/>
              </a:rPr>
              <a:t>Ziele sollen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03280" y="2060640"/>
            <a:ext cx="7345440" cy="3384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Verdana"/>
              </a:rPr>
              <a:t>als Meilenstein Motor für Verbesserungen von Ergebnissen und Prozessen des Unternehmens se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Verdana"/>
              </a:rPr>
              <a:t>Probleme aufzeigen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Verdana"/>
              </a:rPr>
              <a:t>helfen, Lösungsalternativen für ein erkanntes Problem zu beurteil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Verdana"/>
              </a:rPr>
              <a:t>Informationen bewert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Verdana"/>
              </a:rPr>
              <a:t>Beschäftigten eine eindeutige Orientierung geb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87280" y="5226120"/>
            <a:ext cx="12290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16000" y="1125360"/>
            <a:ext cx="74167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000" spc="-1" strike="noStrike">
                <a:solidFill>
                  <a:srgbClr val="000000"/>
                </a:solidFill>
                <a:latin typeface="Verdana"/>
              </a:rPr>
              <a:t>Zielperspektiv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78040" y="2286000"/>
            <a:ext cx="5587920" cy="2905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366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000000"/>
                </a:solidFill>
                <a:latin typeface="Verdana"/>
              </a:rPr>
              <a:t>Finanz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3366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000000"/>
                </a:solidFill>
                <a:latin typeface="Verdana"/>
              </a:rPr>
              <a:t>Kunden/-inn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3366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000000"/>
                </a:solidFill>
                <a:latin typeface="Verdana"/>
              </a:rPr>
              <a:t>Prozes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3366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000000"/>
                </a:solidFill>
                <a:latin typeface="Verdana"/>
              </a:rPr>
              <a:t>Potenzia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336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116000" y="1125360"/>
            <a:ext cx="74167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Verdana"/>
              </a:rPr>
              <a:t>Ziele sollen präzise sein hinsichtlich des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1844640"/>
            <a:ext cx="6912000" cy="3384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des Inhaltes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(Was soll erreicht werden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des angestrebten Ausmaßes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(Wieviel soll erreicht werden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des Zeithorizontes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(Wann soll das Ziel erreicht werden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des Geltungsbereiches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(Gilt das Ziel für das gesamte Unternehmen, einzelne Prozesse, einzelne Aktivitäten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295280" y="1219320"/>
            <a:ext cx="7620120" cy="15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Modellversuch »Entwicklung und Erprobung eines Weiterbildungskonzeptes zu nachhaltigem Wirtschaften als Zukunftschance für das Handwerk«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Gefördert durch das Bundesinstitut für Berufsbildung mit Mitteln des Bundesministeriums für Bildung und Forschung im Rahmen des Modellversuchsschwerpunkt »Berufsbildung für eine nachhaltige Entwicklung«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Laufzeit: 01.09.2004-31.08.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81280" y="3032280"/>
            <a:ext cx="2210040" cy="15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nsprech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estdeutscher Handwerkskammertag e.V.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Ingo Rauhut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0211/3007-722</a:t>
            </a:r>
            <a:br>
              <a:rPr sz="1000"/>
            </a:br>
            <a:r>
              <a:rPr b="0" lang="de-DE" sz="10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ingo.rauhut@handwerk-nrw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handwerk-nrw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47920" y="3048120"/>
            <a:ext cx="1904760" cy="14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nsprech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Klaus Novy Institut e.V.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Dr. Herbert Klemisch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0221/931207-15</a:t>
            </a:r>
            <a:br>
              <a:rPr sz="1000"/>
            </a:br>
            <a:r>
              <a:rPr b="0" lang="de-DE" sz="10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erbert.klemisch@kni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kni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52480" y="592776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bibb.de/nachhaltigke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334120" y="5165640"/>
            <a:ext cx="2438280" cy="9399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257800" y="6080040"/>
            <a:ext cx="266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handwerk-agenda21plus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1523880" y="5394240"/>
            <a:ext cx="3048120" cy="5619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156360" y="3068640"/>
            <a:ext cx="2514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nsprech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uppertal Institut für Klima, Umwelt, Energie GmbH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Holger Rohn/Thomas Lemken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0202/2492-245 – 0202/2492-179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holger.rohn@wupperins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thomas.lemken@wupperinst.org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wupperins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15:48:45Z</dcterms:created>
  <dc:creator>Ingo Rauhut</dc:creator>
  <dc:description/>
  <dc:language>en-US</dc:language>
  <cp:lastModifiedBy>Ingo Rauhut</cp:lastModifiedBy>
  <cp:lastPrinted>2005-02-10T15:49:31Z</cp:lastPrinted>
  <dcterms:modified xsi:type="dcterms:W3CDTF">2007-09-06T14:58:48Z</dcterms:modified>
  <cp:revision>78</cp:revision>
  <dc:subject/>
  <dc:title>Kein Folientitel</dc:title>
</cp:coreProperties>
</file>