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7-C2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Was sind Kennzahlen?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DE1E3D3D-93BA-416A-99AD-C2F9F7A34FCF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844640"/>
            <a:ext cx="73915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WAS SIND KENNZAHL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535120"/>
            <a:ext cx="7705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Wenn man es nicht messen kann, kann man es auch nicht mana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eter F. Dru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Kennzahle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sind Zahlen, die in präziser und konzentrierter Form Aussagen über wichtige zahlenmäßig erfassbare Tatbestände und Entwicklungen eines Unternehmens lief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5226120"/>
            <a:ext cx="1229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17200" y="915480"/>
            <a:ext cx="821844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Anforderungen an Kennzah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40872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30200" y="1052640"/>
            <a:ext cx="727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Ziele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eben Sie das Ziel 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1844640"/>
            <a:ext cx="7127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Kennzahl (Messgröße)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lche Kennzahl könnte einen Fortschritt beschreib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781360"/>
            <a:ext cx="741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Ist-Situation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ie ist die Ist-Situation? (Meistens 100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3716280"/>
            <a:ext cx="756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Soll-Situation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 welchem Zeitraum soll was erreicht 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03280" y="4724280"/>
            <a:ext cx="7344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Maßnahme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omit soll eine Veränderung erzielt wer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5589720"/>
            <a:ext cx="741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Verantwortlich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 ist für die Durchführung/Zielerreichung verantwortlic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48120"/>
            <a:ext cx="1904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9-06T15:13:00Z</dcterms:modified>
  <cp:revision>81</cp:revision>
  <dc:subject/>
  <dc:title>Kein Folientitel</dc:title>
</cp:coreProperties>
</file>