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ontinuierlicher Verbesserungsprozess (KVP)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83EA36B4-2C68-49E4-A595-F2659C58BAB1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ONTINUIERLICHER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VERBESSERUNGSPROZESS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413000"/>
            <a:ext cx="7848720" cy="358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000" spc="-1" strike="noStrike">
                <a:solidFill>
                  <a:srgbClr val="000000"/>
                </a:solidFill>
                <a:latin typeface="Verdana"/>
              </a:rPr>
              <a:t>Verschwendung und deren Reduzierung sind zentrales Anliegen des KVP.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Als Verschwendung wird alles angesehen, was nicht unmittelbar der Wertschöpfung des abzusetzenden Produktes oder der Dienstleistung dient oder dessen Kosten ohne Aussicht auf einen adäquaten Mehrerlös erhöht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8040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ild KVP (Kostka/Kostka, S.1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126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VP-Prinzip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erbesserungs- und Nachhaltigkeit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ozess- und Ergebni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alität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Kund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ransparenz- und Fakt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67640" y="51530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ild in Anlehnung an Kostka/Kostka S. 22, Kopp 200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2535120"/>
            <a:ext cx="7705800" cy="2112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Eine erste Kraft ist ein Arbeiter, der genau das tut, was ihm gesagt wird und nicht widerspr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ederick W. Taylor (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Damal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nd he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060640"/>
            <a:ext cx="7345440" cy="39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haben ein deutlich höheres Ausbildungsni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wollen ihre Arbeit und ihre Arbeitsumgebung selbst mitgest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wollen die Qualität ihrer Arbeit verbessern,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hren Arbeitsplatz zu sichern und abends zufriedener nach Hause zu ge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Grundlagen von 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Reiferes Menschenb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Jeder Beschäftigte ist Experte seiner Arb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U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itdenken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 der Beschäftigten zu fördern, bedarf es Empower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legation von Aufgaben und »Akzeptieren« von Problemlös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zessorientiertes Hande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50133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907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Leitlinien des KVP für prozessorientiertes Handel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2344680"/>
            <a:ext cx="734544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zielgerichtet arbei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or Ort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 ge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obleme begrüß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n Daten spre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zesse beherrs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erbessern und erhal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Zusammen arb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67640" y="52974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13:52Z</dcterms:modified>
  <cp:revision>89</cp:revision>
  <dc:subject/>
  <dc:title>Kein Folientitel</dc:title>
</cp:coreProperties>
</file>