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60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8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ontinuierlicher Verbesserungsprozess (KVP)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9013C5A2-9DF7-4B29-BC7B-045817DA338C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628640"/>
            <a:ext cx="73915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KONTINUIERLICHER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VERBESSERUNGSPROZESS</a:t>
            </a:r>
            <a:br>
              <a:rPr sz="3600"/>
            </a:b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KV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56360" y="3068640"/>
            <a:ext cx="25146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16000" y="1413000"/>
            <a:ext cx="7848720" cy="3583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000" spc="-1" strike="noStrike">
                <a:solidFill>
                  <a:srgbClr val="000000"/>
                </a:solidFill>
                <a:latin typeface="Verdana"/>
              </a:rPr>
              <a:t>Verschwendung und deren Reduzierung sind zentrales Anliegen des KVP.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Als Verschwendung wird alles angesehen, was nicht unmittelbar der Wertschöpfung des abzusetzenden Produktes oder der Dienstleistung dient oder dessen Kosten ohne Aussicht auf einen adäquaten Mehrerlös erhöht.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8040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Bild KVP (Kostka/Kostka, S.1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16000" y="126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KVP-Prinzip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Verbesserungs- und Nachhaltigkeits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n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ozess- und Ergebnis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ualitäts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Kunden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Transparenz- und Faktenorient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67640" y="515304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Bild in Anlehnung an Kostka/Kostka S. 22, Kopp 200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87280" y="2535120"/>
            <a:ext cx="7705800" cy="2112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Eine erste Kraft ist ein Arbeiter, der genau das tut, was ihm gesagt wird und nicht widerspric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Frederick W. Taylor (19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Damal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nd he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2060640"/>
            <a:ext cx="7345440" cy="396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 haben ein deutlich höheres Ausbildungsnivea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 wollen ihre Arbeit und ihre Arbeitsumgebung selbst mitgesta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chäftigte wollen die Qualität ihrer Arbeit verbessern,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ihren Arbeitsplatz zu sichern und abends zufriedener nach Hause zu ge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67640" y="56610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Grundlagen von KV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Reiferes Menschenbi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Jeder Beschäftigte ist Experte seiner Arbe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Um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Mitdenken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« der Beschäftigten zu fördern, bedarf es Empower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Delegation von Aufgaben und »Akzeptieren« von Problemlös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zessorientiertes Handel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7640" y="50133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90792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Leitlinien des KVP für prozessorientiertes Handel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2344680"/>
            <a:ext cx="7345440" cy="338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zielgerichtet arbei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vor Ort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 ge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obleme begrüß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in Daten spre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zesse beherrs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Verbessern und erhalt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Zusammen arb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67640" y="529740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5:13:52Z</dcterms:modified>
  <cp:revision>89</cp:revision>
  <dc:subject/>
  <dc:title>Kein Folientitel</dc:title>
</cp:coreProperties>
</file>