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295280" y="152280"/>
            <a:ext cx="933480" cy="68436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3449520" y="152280"/>
            <a:ext cx="2778120" cy="73980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1827360" y="914400"/>
            <a:ext cx="5945040" cy="56530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6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042920" y="6599160"/>
            <a:ext cx="460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S8-B1: PowerPoint-Präsentation </a:t>
            </a: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»Einführungsmodell zum KVP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423280" y="6643800"/>
            <a:ext cx="720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Folie </a:t>
            </a:r>
            <a:fld id="{B1EE0CF7-2CFC-4C86-933C-3575930AAB83}" type="slidenum">
              <a:rPr b="0" lang="de-DE" sz="8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7"/>
          <a:stretch/>
        </p:blipFill>
        <p:spPr>
          <a:xfrm>
            <a:off x="7164360" y="404640"/>
            <a:ext cx="1389240" cy="3463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87280" y="1628640"/>
            <a:ext cx="7391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Verdana"/>
              </a:rPr>
              <a:t>EINFÜHRUNGSMODELL ZUM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Verdana"/>
              </a:rPr>
              <a:t>KV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16000" y="90792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Phasen eines Einführungsmodells zum KV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03280" y="2344680"/>
            <a:ext cx="7345440" cy="3029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Sensibilisier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Umsetz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Stabilisier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67640" y="5157720"/>
            <a:ext cx="1228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Verdana"/>
              </a:rPr>
              <a:t>Sensibilisier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2920" y="2276640"/>
            <a:ext cx="7201080" cy="3240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Unternehmensleitung für volle Unterstützung gewin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Information über Ziele und Vorgehensweisen von KV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Ressourcenbedar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Meilensteine mit Ergebniskriteri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ntscheidung für/gegen KV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Verdana"/>
              </a:rPr>
              <a:t>Sensibilisier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02920" y="2492280"/>
            <a:ext cx="7201080" cy="244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Für Information und Umsetzung von KVP bedarf es externer Unterstütz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rste Ansprechpartner: Betriebsberater/-innen der Handwerkskamme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14400" y="981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03280" y="2276640"/>
            <a:ext cx="7201080" cy="3168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Feinplanung der Umsetzung von KV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inbindung externer Berater/-innen (von HWK oder fre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Information der Beschäftigten über das Vorhaben (Schwarzes Brett, E-Mail, usw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Planund und Durchführung einer Auftaktveranstaltu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oderatorenschulung für interessierte/freiwillige Beschäftig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14400" y="981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Verdana"/>
              </a:rPr>
              <a:t>Umsetz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03280" y="2276640"/>
            <a:ext cx="7201080" cy="2952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inbau von KVP-Methoden in betriebliche Prozes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Verschwendungssuche, 5A-Aktionen, Zielvereinbarungen, Visuelles Management, usw. durchfüh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aßnahmenkataloge sind zu bearbei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Über Ergebnisse ist offen zu informie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Verwendung standardisierter Formula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14400" y="981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Verdana"/>
              </a:rPr>
              <a:t>Stabilisier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03280" y="2276640"/>
            <a:ext cx="7201080" cy="3240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KVP als Prozess ohne 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inführung einer Aufbau- und Ablauforganis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Ziel: mit geringem Aufwand Prozesse lenken und dokumentie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Fach- und Methodenkompetenz zu bestimmten Themen des KVP kontinuierlich ausbau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95280" y="1219320"/>
            <a:ext cx="762012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odellversuch »Entwicklung und Erprobung eines Weiterbildungskonzeptes zu nachhaltigem Wirtschaften als Zukunftschance für das Handwerk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Laufzeit: 01.09.2004-31.08.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1280" y="3032280"/>
            <a:ext cx="221004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estdeutscher Handwerkskammertag e.V.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Ingo Rauhu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11/3007-722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ingo.rauhut@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3048120"/>
            <a:ext cx="1904760" cy="13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Klaus Novy Institut e.V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r. Herbert Klemisc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21/931207-15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erbert.klemisch@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52480" y="592776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257800" y="608004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156360" y="3068640"/>
            <a:ext cx="251460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uppertal Institut für Klima, Umwelt, Energie Gmb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 Rohn/Thomas Lemk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02/2492-245 – 0202/2492-179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.rohn@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thomas.lemken@wupperinst.org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Ingo Rauhut</cp:lastModifiedBy>
  <cp:lastPrinted>2005-02-10T15:49:31Z</cp:lastPrinted>
  <dcterms:modified xsi:type="dcterms:W3CDTF">2007-06-19T07:19:20Z</dcterms:modified>
  <cp:revision>93</cp:revision>
  <dc:subject/>
  <dc:title>Kein Folientitel</dc:title>
</cp:coreProperties>
</file>