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295280" y="152280"/>
            <a:ext cx="933480" cy="6843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3449520" y="152280"/>
            <a:ext cx="2778120" cy="7398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042920" y="6599160"/>
            <a:ext cx="460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8-B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Einführungsmodell zum KVP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34442D54-7A6D-4E96-B4D5-C24374986328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164360" y="404640"/>
            <a:ext cx="1389240" cy="3463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162864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EINFÜHRUNGSMODELL ZUM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KV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90792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Phasen eines Einführungsmodells zum KV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03280" y="2344680"/>
            <a:ext cx="7345440" cy="3029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Sensibilis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Umsetz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Stabilisi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67640" y="515772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Sensibil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7201080" cy="3240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Unternehmensleitung für volle Unterstützung gewi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Information über Ziele und Vorgehensweisen von KV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Ressourcenbedar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eilensteine mit Ergebniskriteri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ntscheidung für/gegen KV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Sensibil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2920" y="2492280"/>
            <a:ext cx="7201080" cy="244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ür Information und Umsetzung von KVP bedarf es externer Unterstütz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rste Ansprechpartner: Betriebsberater/-innen der Handwerkskamm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276640"/>
            <a:ext cx="7201080" cy="3168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Feinplanung der Umsetzung von KV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nbindung externer Berater/-innen (von HWK oder fre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Information der Beschäftigten über das Vorhaben (Schwarzes Brett, E-Mail, usw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Planund und Durchführung einer Auftaktveranstaltu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oderatorenschulung für interessierte/freiwillige Beschäftig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Umsetz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2276640"/>
            <a:ext cx="7201080" cy="2952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Einbau von KVP-Methoden in betriebliche Prozes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erschwendungssuche, 5A-Aktionen, Zielvereinbarungen, Visuelles Management, usw. durchfüh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aßnahmenkataloge sind zu bearbei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Über Ergebnisse ist offen zu inform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Verwendung standardisierter Formul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14400" y="981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00"/>
                </a:solidFill>
                <a:latin typeface="Verdana"/>
              </a:rPr>
              <a:t>Stabil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3280" y="2276640"/>
            <a:ext cx="7201080" cy="3240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KVP als Prozess ohne 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führung einer Aufbau- und Ablauforgani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Ziel: mit geringem Aufwand Prozesse lenken und dokumenti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Fach- und Methodenkompetenz zu bestimmten Themen des KVP kontinuierlich ausbau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56360" y="3068640"/>
            <a:ext cx="25146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6-19T07:19:20Z</dcterms:modified>
  <cp:revision>93</cp:revision>
  <dc:subject/>
  <dc:title>Kein Folientitel</dc:title>
</cp:coreProperties>
</file>