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460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8-C1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Methoden des KVP im Überblick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CB2FADAF-36EB-402C-87FA-E4629C5D87AC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162864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METHODEN DES KVP 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IM 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3048120"/>
            <a:ext cx="190476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156360" y="3068640"/>
            <a:ext cx="251460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16000" y="90792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Methoden des KVP - Überbl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2344680"/>
            <a:ext cx="7345440" cy="3029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Verschwendungssu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5A-Ak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Zielvereinba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Visuelles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67640" y="515772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Verdana"/>
              </a:rPr>
              <a:t>Verschwendungssuc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2920" y="2276640"/>
            <a:ext cx="7201080" cy="3240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Identifizieren von Verlusten/Verschwendungen am Ort der Wertschöpf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Klein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»Energiefresser« an die man sich gewöhnt 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Insgesamt sieben Verschwendungsa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907920"/>
            <a:ext cx="7139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Verschwendungssu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87280" y="1916280"/>
          <a:ext cx="7427880" cy="4060080"/>
        </p:xfrm>
        <a:graphic>
          <a:graphicData uri="http://schemas.openxmlformats.org/drawingml/2006/table">
            <a:tbl>
              <a:tblPr/>
              <a:tblGrid>
                <a:gridCol w="3714120"/>
                <a:gridCol w="3713760"/>
              </a:tblGrid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duktionsberei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üro- und Verwaltungstechni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Überproduk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ppel- und Mehrfacharbe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stän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stän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nsp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e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arteze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arte- und Liegeze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rstellu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arbeitungs- und Suchzeit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wegu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beitsplatzgestalt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ehl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ehl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Verdana"/>
              </a:rPr>
              <a:t>5A-Ak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2565360"/>
            <a:ext cx="7056360" cy="2521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Zielt ab auf alte Tugen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Beschäftigte sollen nach Ordnung und Sauberkeit am Arbeitsplatz stre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67640" y="472428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Die 5A‘s am Arbeitsplat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2205000"/>
            <a:ext cx="6697800" cy="3745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Aussortier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Aufräum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Arbeitsplatz sauberhalt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Allgemeine Standards erarbeit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Alle Punkte einhalten und ständig verbess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67640" y="5589720"/>
            <a:ext cx="122868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Zielvereinbarung - Zie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2276640"/>
            <a:ext cx="6985080" cy="37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otivation zur Teilnahme am KVP erhö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dentifikation mit Unternehmen und Unternehmenszielen erhöh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erdeutlichen der jeweiligen Aufgabenbereiche der Beschäftig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erdeutlichen des Beitrags der Beschäftigten zum Unternehmenserfol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67640" y="565776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Zielvereinbarung - Voraussetz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2276640"/>
            <a:ext cx="7056360" cy="302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Zielvereinbarungen nur gemeinsam mit Beschäftigten festle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Transparenz über Betriebsabläufe herstell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67640" y="508464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Visuelles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1989000"/>
            <a:ext cx="6624720" cy="4176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erschwendungssuche vor Ort (mit Klebezettel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arstellung von Zie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ildliche Darstellung des Ist-Zustan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ildliche Darstellung von erkannten Proble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rbeitsanweisungen und –hinwe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67640" y="5589720"/>
            <a:ext cx="122868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9-06T15:27:53Z</dcterms:modified>
  <cp:revision>100</cp:revision>
  <dc:subject/>
  <dc:title>Kein Folientitel</dc:title>
</cp:coreProperties>
</file>