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DC60-CCD0-403D-8465-DEB043A1A30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2080" cy="4113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Garamond"/>
              </a:rPr>
              <a:t>Összevontan tartalmazza a projekt céljait, a hozzárendelt mutatókat, a megvalósítás kockázatát, a szükséges erőforrásokat és a lehetséges eredményeket.azaz </a:t>
            </a:r>
            <a:r>
              <a:rPr b="0" lang="hu-HU" sz="1600" spc="-1" strike="noStrike">
                <a:solidFill>
                  <a:srgbClr val="808080"/>
                </a:solidFill>
                <a:latin typeface="Garamond"/>
              </a:rPr>
              <a:t>a teljes program egy oldal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FA12-56AA-4430-B2C6-2EA308714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8E95-AD13-4136-B1F7-858EC7B3E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981C-7B54-45C6-BE2D-66C30672E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4FD6-A375-46CE-B580-C4CB83EC1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4415-CA1A-408A-9315-738B62E6C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49CE-156E-4348-B472-3FA6991BB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3CCB-E535-4E45-861A-CCE186226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B4D3-F5A1-4E95-A6C8-97DB7F327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1D6F-9786-4C5A-8461-96AF343CF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A4DF-9D61-411A-8150-0D2561DEA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CBBD-7227-448C-93B2-F5A04CAF6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3F09-EE64-47F8-9BEF-8B69D7C11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D55E9953-FD78-440D-B446-461211FA3477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765000"/>
            <a:ext cx="8207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136f0"/>
                </a:solidFill>
                <a:latin typeface="Arial"/>
              </a:rPr>
              <a:t>Module S11 – Project management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86280" y="542448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3800" y="2565360"/>
            <a:ext cx="59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11-B1 Planning of projects, Logical Framework Approach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Indicators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2320" y="2196720"/>
            <a:ext cx="762336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Objectively Verifiable Indicators describe the project’s objectives in operationally measurable terms (quantity, quality, time – or </a:t>
            </a:r>
            <a:r>
              <a:rPr b="1" lang="hu-HU" sz="2000" spc="-1" strike="noStrike">
                <a:solidFill>
                  <a:srgbClr val="013c59"/>
                </a:solidFill>
                <a:latin typeface="Arial"/>
              </a:rPr>
              <a:t>QQT</a:t>
            </a: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). Specifying OVIs helps to check the feasibility of objectives and helps form the basis of the project’s monitoring and evaluation system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68468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994120"/>
            <a:ext cx="80010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200" spc="-1" strike="noStrike">
                <a:solidFill>
                  <a:srgbClr val="ff0000"/>
                </a:solidFill>
                <a:latin typeface="Tahoma"/>
              </a:rPr>
              <a:t>Good indicators – SMART criteria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pecific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asurable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chievable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alistic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ime-based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851120"/>
            <a:ext cx="1905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99"/>
                </a:solidFill>
                <a:latin typeface="Tahoma"/>
              </a:rPr>
              <a:t>Objeciv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851120"/>
            <a:ext cx="1905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99"/>
                </a:solidFill>
                <a:latin typeface="Tahoma"/>
              </a:rPr>
              <a:t>Indicato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1851120"/>
            <a:ext cx="19047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99"/>
                </a:solidFill>
                <a:latin typeface="Tahoma"/>
              </a:rPr>
              <a:t>Source of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99"/>
                </a:solidFill>
                <a:latin typeface="Tahoma"/>
              </a:rPr>
              <a:t>verification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079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2079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PCM - LF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101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e5815"/>
                </a:solidFill>
                <a:uFillTx/>
                <a:latin typeface="Verdana"/>
              </a:rPr>
              <a:t>PCM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e5815"/>
                </a:solidFill>
                <a:latin typeface="Verdana"/>
              </a:rPr>
              <a:t>In different phases of a project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e5815"/>
                </a:solidFill>
                <a:latin typeface="Verdana"/>
              </a:rPr>
              <a:t>Management activities and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fe5815"/>
                </a:solidFill>
                <a:uFillTx/>
                <a:latin typeface="Verdana"/>
              </a:rPr>
              <a:t>Decision-making procedures</a:t>
            </a:r>
            <a:r>
              <a:rPr b="0" lang="hu-HU" sz="24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3280" y="1699920"/>
            <a:ext cx="431640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800000"/>
                </a:solidFill>
                <a:uFillTx/>
                <a:latin typeface="Verdana"/>
              </a:rPr>
              <a:t>LFA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Verdana"/>
              </a:rPr>
              <a:t>Programme - project planning, monitoring and evaluating methodology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Verdana"/>
              </a:rPr>
              <a:t>It provides a framework for thinking of goals, means and stakeholder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711680"/>
            <a:ext cx="3889440" cy="1008720"/>
          </a:xfrm>
          <a:prstGeom prst="rect">
            <a:avLst/>
          </a:prstGeom>
          <a:noFill/>
          <a:ln w="507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Decision making and project implementation in predetermined wa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4711680"/>
            <a:ext cx="4176720" cy="100872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Project management methodology </a:t>
            </a:r>
            <a:br>
              <a:rPr sz="2000"/>
            </a:b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and too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Logical Framework Approach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772400" cy="38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34290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13c59"/>
                </a:solidFill>
                <a:latin typeface="Tahoma"/>
              </a:rPr>
              <a:t>Logical Framework Approch more than a matrix!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8364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400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Intervetion logic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5410080"/>
            <a:ext cx="2667240" cy="10670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13c59"/>
                </a:solidFill>
                <a:latin typeface="Verdana"/>
              </a:rPr>
              <a:t>Activiti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38360" y="5383080"/>
            <a:ext cx="162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0600" y="4097160"/>
            <a:ext cx="2667240" cy="825840"/>
          </a:xfrm>
          <a:prstGeom prst="rect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0320" y="2792520"/>
            <a:ext cx="2647800" cy="819000"/>
          </a:xfrm>
          <a:prstGeom prst="rect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Purpos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700280"/>
            <a:ext cx="2628720" cy="780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1700280"/>
            <a:ext cx="1800360" cy="8049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13c59"/>
                </a:solidFill>
                <a:latin typeface="Verdana"/>
              </a:rPr>
              <a:t>Overall objectiv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061040" y="4659480"/>
            <a:ext cx="191880" cy="6120"/>
            <a:chOff x="7061040" y="4659480"/>
            <a:chExt cx="191880" cy="6120"/>
          </a:xfrm>
        </p:grpSpPr>
        <p:sp>
          <p:nvSpPr>
            <p:cNvPr id="116" name=""/>
            <p:cNvSpPr/>
            <p:nvPr/>
          </p:nvSpPr>
          <p:spPr>
            <a:xfrm>
              <a:off x="7061040" y="4659480"/>
              <a:ext cx="36360" cy="612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13240" y="4659480"/>
              <a:ext cx="39600" cy="61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8680" y="4659480"/>
              <a:ext cx="39960" cy="61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24480" y="465948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5320" y="5749920"/>
            <a:ext cx="37656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177" y="0"/>
                </a:moveTo>
                <a:lnTo>
                  <a:pt x="177" y="49"/>
                </a:lnTo>
                <a:lnTo>
                  <a:pt x="0" y="49"/>
                </a:lnTo>
                <a:lnTo>
                  <a:pt x="0" y="146"/>
                </a:lnTo>
                <a:lnTo>
                  <a:pt x="177" y="146"/>
                </a:lnTo>
                <a:lnTo>
                  <a:pt x="177" y="195"/>
                </a:lnTo>
                <a:lnTo>
                  <a:pt x="237" y="97"/>
                </a:lnTo>
                <a:lnTo>
                  <a:pt x="177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6840" y="5011560"/>
            <a:ext cx="37620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0" y="49"/>
                </a:moveTo>
                <a:lnTo>
                  <a:pt x="60" y="49"/>
                </a:lnTo>
                <a:lnTo>
                  <a:pt x="60" y="195"/>
                </a:lnTo>
                <a:lnTo>
                  <a:pt x="177" y="195"/>
                </a:lnTo>
                <a:lnTo>
                  <a:pt x="177" y="49"/>
                </a:lnTo>
                <a:lnTo>
                  <a:pt x="237" y="49"/>
                </a:lnTo>
                <a:lnTo>
                  <a:pt x="118" y="0"/>
                </a:lnTo>
                <a:lnTo>
                  <a:pt x="0" y="49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6840" y="3700440"/>
            <a:ext cx="376200" cy="308160"/>
          </a:xfrm>
          <a:custGeom>
            <a:avLst/>
            <a:gdLst/>
            <a:ahLst/>
            <a:rect l="l" t="t" r="r" b="b"/>
            <a:pathLst>
              <a:path w="237" h="194">
                <a:moveTo>
                  <a:pt x="0" y="48"/>
                </a:moveTo>
                <a:lnTo>
                  <a:pt x="60" y="48"/>
                </a:lnTo>
                <a:lnTo>
                  <a:pt x="60" y="194"/>
                </a:lnTo>
                <a:lnTo>
                  <a:pt x="177" y="194"/>
                </a:lnTo>
                <a:lnTo>
                  <a:pt x="177" y="48"/>
                </a:lnTo>
                <a:lnTo>
                  <a:pt x="237" y="48"/>
                </a:lnTo>
                <a:lnTo>
                  <a:pt x="118" y="0"/>
                </a:lnTo>
                <a:lnTo>
                  <a:pt x="0" y="48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2492280"/>
            <a:ext cx="37620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0" y="49"/>
                </a:moveTo>
                <a:lnTo>
                  <a:pt x="60" y="49"/>
                </a:lnTo>
                <a:lnTo>
                  <a:pt x="60" y="195"/>
                </a:lnTo>
                <a:lnTo>
                  <a:pt x="177" y="195"/>
                </a:lnTo>
                <a:lnTo>
                  <a:pt x="177" y="49"/>
                </a:lnTo>
                <a:lnTo>
                  <a:pt x="237" y="49"/>
                </a:lnTo>
                <a:lnTo>
                  <a:pt x="118" y="0"/>
                </a:lnTo>
                <a:lnTo>
                  <a:pt x="0" y="49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53200" y="2838600"/>
            <a:ext cx="188280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13c59"/>
                </a:solidFill>
                <a:latin typeface="Verdana"/>
              </a:rPr>
              <a:t>Specific objectiv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53200" y="4172040"/>
            <a:ext cx="195552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3c59"/>
                </a:solidFill>
                <a:latin typeface="Verdana"/>
              </a:rPr>
              <a:t>Operat</a:t>
            </a:r>
            <a:r>
              <a:rPr b="0" i="1" lang="hu-HU" sz="2400" spc="-1" strike="noStrike">
                <a:solidFill>
                  <a:srgbClr val="013c59"/>
                </a:solidFill>
                <a:latin typeface="Verdana"/>
              </a:rPr>
              <a:t>ive objectiv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17524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5080" y="31240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5080" y="4495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1773360"/>
            <a:ext cx="1295640" cy="0"/>
          </a:xfrm>
          <a:prstGeom prst="line">
            <a:avLst/>
          </a:prstGeom>
          <a:ln w="38160">
            <a:solidFill>
              <a:srgbClr val="013c5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8675280" y="1773000"/>
            <a:ext cx="1080" cy="3169080"/>
          </a:xfrm>
          <a:prstGeom prst="straightConnector1">
            <a:avLst/>
          </a:prstGeom>
          <a:ln w="38160">
            <a:solidFill>
              <a:srgbClr val="013c5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7164360" y="2838600"/>
            <a:ext cx="216072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Program</a:t>
            </a:r>
            <a:r>
              <a:rPr b="0" lang="hu-HU" sz="2400" spc="-1" strike="noStrike">
                <a:solidFill>
                  <a:srgbClr val="013c59"/>
                </a:solidFill>
                <a:latin typeface="Verdana"/>
              </a:rPr>
              <a:t>me</a:t>
            </a: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13c59"/>
                </a:solidFill>
                <a:latin typeface="Verdana"/>
              </a:rPr>
              <a:t>objectiv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H="1">
            <a:off x="7524000" y="4941360"/>
            <a:ext cx="1143720" cy="108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V="1">
            <a:off x="7105680" y="3428640"/>
            <a:ext cx="2160" cy="1334160"/>
          </a:xfrm>
          <a:prstGeom prst="bentConnector3">
            <a:avLst>
              <a:gd name="adj1" fmla="val 8300000"/>
            </a:avLst>
          </a:prstGeom>
          <a:ln w="28440">
            <a:solidFill>
              <a:srgbClr val="013c59"/>
            </a:solidFill>
            <a:prstDash val="dashDot"/>
            <a:miter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 flipV="1">
            <a:off x="7124760" y="1751760"/>
            <a:ext cx="2160" cy="1334520"/>
          </a:xfrm>
          <a:prstGeom prst="bentConnector3">
            <a:avLst>
              <a:gd name="adj1" fmla="val 8300000"/>
            </a:avLst>
          </a:prstGeom>
          <a:ln w="28440">
            <a:solidFill>
              <a:srgbClr val="013c59"/>
            </a:solidFill>
            <a:prstDash val="dashDot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8160" y="556272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3c59"/>
                </a:solidFill>
                <a:latin typeface="Verdana"/>
              </a:rPr>
              <a:t>Input</a:t>
            </a:r>
            <a:r>
              <a:rPr b="0" lang="hu-HU" sz="3200" spc="-1" strike="noStrike">
                <a:solidFill>
                  <a:srgbClr val="013c59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The logframe matrix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37" name="Picture 6" descr="LogInfo"/>
          <p:cNvPicPr/>
          <p:nvPr/>
        </p:nvPicPr>
        <p:blipFill>
          <a:blip r:embed="rId1"/>
          <a:stretch/>
        </p:blipFill>
        <p:spPr>
          <a:xfrm>
            <a:off x="900000" y="1477800"/>
            <a:ext cx="7128000" cy="47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ssumptions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Assumptions are external factors that have the potential to influence (or even determine) the success of a project, but lie outside the direct control of project manager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067280" y="3068640"/>
            <a:ext cx="3851280" cy="3137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19360" y="3573360"/>
            <a:ext cx="31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13c59"/>
                </a:solidFill>
                <a:latin typeface="Arial"/>
              </a:rPr>
              <a:t>How assumptions affect objective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ssessment of Assumptions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39720" y="1695600"/>
            <a:ext cx="641700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5136f0"/>
                </a:solidFill>
                <a:latin typeface="Arial"/>
              </a:rPr>
              <a:t>Example of assumptions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2342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55:52Z</dcterms:created>
  <dc:creator>zsuzsa</dc:creator>
  <dc:description/>
  <dc:language>en-US</dc:language>
  <cp:lastModifiedBy>Dr. Tráser Ferenc</cp:lastModifiedBy>
  <dcterms:modified xsi:type="dcterms:W3CDTF">2010-10-11T17:20:33Z</dcterms:modified>
  <cp:revision>4</cp:revision>
  <dc:subject/>
  <dc:title>1. dia</dc:title>
</cp:coreProperties>
</file>