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99C4D-A764-4C06-9B17-8136902C49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64849-54CF-4FF8-97E9-BC14236CB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53499-AE7C-4917-A227-1F5BA2A22E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28BD1-388A-46FD-892D-1076E3B61F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D019D-0D28-4D74-9403-1C86F08AFA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382E6-3FD8-4845-A323-CA3BC10BA2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59D9D-9D2F-4788-9A64-3A24EE279C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59FBB-E842-4098-A5CD-6148846BAC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734C8-2CF0-4D8A-9D02-AF3B81C22D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82F43-9775-4B13-B9BA-18C6D0FC90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987A7-C294-425B-99FF-DF27DC76CE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80343-7C54-4E19-AFB3-5C49837675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10840" y="6179760"/>
            <a:ext cx="72867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66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53080" y="6205680"/>
            <a:ext cx="5396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(</a:t>
            </a:r>
            <a:fld id="{352E0612-4CD7-4BD0-A1A9-2A2218094D8D}" type="slidenum">
              <a:rPr b="0" lang="en-US" sz="9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9760" y="1398600"/>
            <a:ext cx="80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76b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948360" y="196920"/>
            <a:ext cx="1584360" cy="639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36680" y="257040"/>
            <a:ext cx="2047680" cy="3636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15280" y="2314440"/>
            <a:ext cx="2463480" cy="1393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-6476760" y="2865600"/>
            <a:ext cx="19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93640" y="28656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308560"/>
            <a:ext cx="9144000" cy="15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13c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755880"/>
            <a:ext cx="61722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765000"/>
            <a:ext cx="820728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5136f0"/>
                </a:solidFill>
                <a:latin typeface="Arial"/>
              </a:rPr>
              <a:t>Module S11 – Project management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1989000"/>
            <a:ext cx="7848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35120" y="3494160"/>
            <a:ext cx="5842080" cy="2022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986280" y="5424480"/>
            <a:ext cx="113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13c59"/>
                </a:solidFill>
                <a:latin typeface="Arial"/>
              </a:rPr>
              <a:t>Eurocrafts 21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75600" y="2565360"/>
            <a:ext cx="36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e5815"/>
                </a:solidFill>
                <a:latin typeface="Arial"/>
              </a:rPr>
              <a:t>S11-C1</a:t>
            </a:r>
            <a:r>
              <a:rPr b="0" lang="hu-HU" sz="1800" spc="-1" strike="noStrike">
                <a:solidFill>
                  <a:srgbClr val="fe5815"/>
                </a:solidFill>
                <a:latin typeface="Arial"/>
              </a:rPr>
              <a:t>: </a:t>
            </a:r>
            <a:r>
              <a:rPr b="0" lang="cs-CZ" sz="1800" spc="-1" strike="noStrike">
                <a:solidFill>
                  <a:srgbClr val="fe5815"/>
                </a:solidFill>
                <a:latin typeface="Arial"/>
              </a:rPr>
              <a:t>Implementation of project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959200" cy="55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87759-3871-4C6C-A31F-2D3429EC83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136f0"/>
                </a:solidFill>
                <a:latin typeface="Arial"/>
              </a:rPr>
              <a:t>Main implementation periods 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6913800" cy="46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2FD95-3BD2-4E6D-96B7-18DBDABEF0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136f0"/>
                </a:solidFill>
                <a:latin typeface="Arial"/>
              </a:rPr>
              <a:t>Sequence of activities</a:t>
            </a:r>
            <a:endParaRPr b="0" lang="en-US" sz="20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Arial"/>
              </a:rPr>
              <a:t>Review the objectives and prepare or confirm the activity plan and budget plan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Arial"/>
              </a:rPr>
              <a:t>Carry out an inception review of the project preparation and conditions and suggest any changes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Arial"/>
              </a:rPr>
              <a:t>Set up management and monitoring systems using the logical framework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Arial"/>
              </a:rPr>
              <a:t>Carry out the activities and achieve the outputs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Arial"/>
              </a:rPr>
              <a:t>Keep track of progress against the activity plan and the budget plan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Arial"/>
              </a:rPr>
              <a:t>Test project actions against mainstream providers’ procedures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50D3B-7333-4A75-80FF-D40E03F641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136f0"/>
                </a:solidFill>
                <a:latin typeface="Arial"/>
              </a:rPr>
              <a:t>Activity plan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-46440" bIns="-4644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-46440" bIns="-4644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8360" y="1674720"/>
            <a:ext cx="7272360" cy="429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A3019-17B2-44E4-9038-D32AA39BFE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5136f0"/>
                </a:solidFill>
                <a:latin typeface="Arial"/>
                <a:ea typeface="Times New Roman"/>
              </a:rPr>
              <a:t>Definition of monitoring, evaluation and audit</a:t>
            </a:r>
            <a:endParaRPr b="0" lang="en-US" sz="2000" spc="-1" strike="noStrike">
              <a:solidFill>
                <a:srgbClr val="5136f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604360" cy="458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94AAA-D1DC-4280-B8B6-B1C584BCFF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Christopher Manstein</dc:creator>
  <dc:description/>
  <dc:language>en-US</dc:language>
  <cp:lastModifiedBy>Dr. Tráser Ferenc</cp:lastModifiedBy>
  <dcterms:modified xsi:type="dcterms:W3CDTF">2010-10-11T19:26:56Z</dcterms:modified>
  <cp:revision>807</cp:revision>
  <dc:subject/>
  <dc:title>Euro Crafts 21</dc:title>
</cp:coreProperties>
</file>