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CF76-A9EA-4B58-8843-F0815E473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CFBD-BCA0-4F78-9ADF-F35C73D06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D088-CABA-40FF-9ABF-E2663F57E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F2A2-63D4-47FA-A667-242B08468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5A82-38DD-4B58-A805-ABB96CF77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66E0-6E7D-459D-968D-5A358E9A9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8C9C-5764-4382-B83F-BA3D60363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F381-7BDF-4197-9151-06ECB2704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52A8-814A-42B2-9364-4D45523C8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3DF6-ED08-48BC-8150-E87043F31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E744-488B-48E2-806A-E0CC6FB37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22BE-6419-4AAD-BDAB-F08081B0B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7C75F798-B964-45A2-B544-3F1AD703B5FF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Module S11 – Project manage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5600" y="256536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C1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fe5815"/>
                </a:solidFill>
                <a:latin typeface="Arial"/>
              </a:rPr>
              <a:t>Implementation of project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D785-38FF-48EE-BD67-80B6C0A195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Main implementation periods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6913800" cy="46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3A06-AF88-4FF0-BB20-8CF8BDAC0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Sequence of activities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Review the objectives and prepare or confirm the activity plan and budget plan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Carry out an inception review of the project preparation and conditions and suggest any chang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Set up management and monitoring systems using the logical framework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Carry out the activities and achieve the output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Keep track of progress against the activity plan and the budget plan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Test project actions against mainstream providers’ procedur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CB28-E8A3-46A1-9166-332FE25810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ctivity plan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674720"/>
            <a:ext cx="7272360" cy="42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FD1B-50A3-4BD7-823D-604B683D15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5136f0"/>
                </a:solidFill>
                <a:latin typeface="Arial"/>
                <a:ea typeface="Times New Roman"/>
              </a:rPr>
              <a:t>Definition of monitoring, evaluation and audit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60436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A87C-9EDA-465B-BDA2-437C7748B1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Dr. Tráser Ferenc</cp:lastModifiedBy>
  <dcterms:modified xsi:type="dcterms:W3CDTF">2010-10-11T19:26:56Z</dcterms:modified>
  <cp:revision>807</cp:revision>
  <dc:subject/>
  <dc:title>Euro Crafts 21</dc:title>
</cp:coreProperties>
</file>