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78A4-5E5C-45A7-9C10-1087D6946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9209-AF67-4B79-93C9-4EC23B62A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98A8-15C7-42DA-8B73-63EF2BD84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6F36-FCEF-4910-B44E-A25799D678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F34DD-7F5E-4AC0-AF91-5FFDB3FC4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8AC05-AD7F-4691-B3FF-61F96EA9F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9AE3-8115-4119-96CC-1AAC6B778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AD8E0-9889-4CEF-96E2-697BB9613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32AF8-DD3C-48FC-BE99-7B14DB86D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FE4B-AD21-4197-91FF-1F19FB318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78A6-483D-453A-94E0-C5C8C6454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940C-C39C-4CB0-BEB9-3178DEF0F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CB6453A1-0E53-4EFC-BC6B-DDA9AA53473C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69920" y="2060640"/>
            <a:ext cx="14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Clusters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3890-243F-4B17-AE04-AA7BA47E6D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824A-C12E-410C-B9BF-D694DC2451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E78C9-1F5C-40D2-8625-E9B88C304D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33FFB-20C8-4D0D-8867-805A7B4DB6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68BAC-6E3B-4B9B-B795-8742259B2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E107-748F-49E4-9EAE-7D6B49C75C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3525-BF3F-472C-8003-5791CDB15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4910E-135A-4EFA-A1D9-DB0D2E8CE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3404-3143-4440-82EA-431568F44B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7F11F-69EC-4B45-B00E-6DC31A30EA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474F-B300-44C2-9DA0-F79D577BF4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45FD-3536-42AB-9B44-ADBBB5194E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F125D-E9FE-474A-B84A-D9FA13623A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7279-02FB-428E-B084-39275784F1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4:27Z</dcterms:modified>
  <cp:revision>790</cp:revision>
  <dc:subject/>
  <dc:title>Euro Crafts 21</dc:title>
</cp:coreProperties>
</file>