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2F790-7750-40CC-9051-F373D1184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8A033-1C3C-49A6-8F97-21D5D0D28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E10E3-CFDF-4309-8413-9BCBE7280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8D030-F27A-4B95-968F-7B0A94BAFE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8D7E4-C33C-465A-BE12-8B722DD51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F7247-9A05-4285-A8D0-228F41D31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28919-5021-4352-A664-1E4CB564C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78FFE-55F7-4594-9755-C45D7EE3B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A93D1-9967-45A0-BFA0-0DBA3DD7F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0247-14DE-4C35-B9A4-A64D0DEA9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E0359-7BDD-40DD-B993-C598324D6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CEEA4-0777-42C0-84A5-8E3877311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176EB851-3C99-4DDB-BD78-6EB0C9C0ED31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69920" y="2060640"/>
            <a:ext cx="14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136f0"/>
                </a:solidFill>
                <a:latin typeface="Arial"/>
              </a:rPr>
              <a:t>Cluster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87280" y="4365720"/>
            <a:ext cx="6767640" cy="234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8712F-C887-4209-98D8-7EB2EA344C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77228-436A-431A-B3CC-C31BA2F3C4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2BEDD-1EEA-475F-9F07-05BFF6D6B2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F6D96-8919-468A-8A55-3B5E5C33D8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D3CFA-9D1C-4A2B-9A31-E36127C361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F6756-5BBA-4B4C-BBF6-C9BE3A5E30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30A39-E042-4884-83CF-17C2CF75CB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7B083-5226-4009-B566-CBF74D403D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DFDD-A984-41B5-AAA0-A49E9351AA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19538-DA37-4D3E-B2B8-6AC537CBD6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01D3-751B-470C-8351-4DE91A357A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8F36-11ED-4462-8EA9-884600E440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51966-BF04-405F-BA3D-C5E4572851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5C38E-929A-41EF-8B38-7E70370CE7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0T14:34:27Z</dcterms:modified>
  <cp:revision>790</cp:revision>
  <dc:subject/>
  <dc:title>Euro Crafts 21</dc:title>
</cp:coreProperties>
</file>