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A5E9-4AF5-4755-AC2F-5162FCD34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1D93-6141-4A45-8787-B8783ECD3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4597-4EBB-40BA-92AD-8E05C7FB9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65DD-CB1C-4103-A041-E8298D373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FD23-CC69-4E12-BDD9-0D2FFA4E5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D4FC-A6E3-4589-9381-DAE6FBB5F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ADBF2-0B6B-42BE-87A2-4D80342CF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6431-AF01-4551-9B44-B0B994914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82AD-EDFA-434D-B8C2-3DDE6FCC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4AF3-B6C4-4817-9D07-0F544729B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9AE4-40B6-4E2F-9D18-DA7C3D92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D37F3-B668-47B3-BBA0-6E924EBF1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B0E2D474-2813-410D-B6DE-A05E37881BD2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16640" y="206064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OPEN INNOVATION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CC59-A7EB-4E5A-A2AD-7769686F4F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DC51C-04A4-4D5E-B7E6-6ED1FA3876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4B7DC-C286-447B-9F76-E033F41CE7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B0FD-318C-475F-899E-2F0579FDA8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6D47B-B878-4E0F-84CB-AD3B0982B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9BFD-5E80-4E1D-8A08-64BDE73954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1030-D31D-4631-807D-80614C8445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16FAC-9313-40E9-AD1B-2F3EA67153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E7A7E-B207-416A-9FFC-D77004E6E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C6F1-80CA-4EFD-B16F-05FAAA56F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0E0C-7F3A-4DDB-9AA8-F01EB3025D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81FF-A7F6-4771-AC4A-3581300F33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1DE29-E673-4D6F-A0CB-40FC56469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A315C-3D29-4A76-B6EA-F407D0094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29BC2-EFB5-49F1-A3D7-A8A8F2C713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4EB0-8360-42D4-A3BB-F0C605A9D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2:15Z</dcterms:modified>
  <cp:revision>798</cp:revision>
  <dc:subject/>
  <dc:title>Euro Crafts 21</dc:title>
</cp:coreProperties>
</file>