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D16AE-D045-4F71-8981-5F1552082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72537-7E9B-4C70-8B1F-7E3D2C7D9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3A90-8172-47FA-9349-B189117E4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50BD-1100-4D46-B549-266AE5A0B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DF1D-02F6-480E-8ED8-3A5E69A3A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0F6E-0A7F-4ECE-AC2F-A656434EC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E145-E91E-4BF5-8228-52A5A1A97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82EB6-DCA1-4BD1-B1B1-228925A91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4C4B1-F043-4291-9B7F-6D0340758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5FFD0-1045-4940-A0F6-DBEB19EE5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5470-0F40-4A52-BD23-5E3D68D0B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AE35-7701-434B-BD03-12F3AA09E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DEBFCB4D-8D6A-4F4B-AB07-F7A93002A45C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6640" y="2060640"/>
            <a:ext cx="34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OPEN INNOVATION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6767640" cy="23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C8439-8999-4D00-A132-9768B0A44D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9463-259D-49FF-AA51-1F327AED51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C1BCC-E8EE-4404-ADD4-B750414D85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E690-10E3-40DD-971E-EB4AB459C6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57785-BFB5-4B99-8C2E-D8F369F150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9A5D1-7B92-4B94-A2A8-FE33E75EE1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4C92-040C-4F21-8E73-ADD1A556B0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16160-C83C-4425-ABDF-212742DBA2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C6C1-9C73-413D-8A0A-2287E15545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23D5-9477-4917-A558-56D0F6A37F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4B894-BCA8-4596-9CB1-F4F2D1064F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7C38-4C33-4B7A-B791-97CE8FDE44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4C67C-0EDA-4131-984C-DE90734C2E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6BFA-32D3-406C-96B9-100EAED552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37A2E-F422-4CD7-B145-2BF0C9BE08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EF08-0877-47B5-9855-F3371597B9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4:32:15Z</dcterms:modified>
  <cp:revision>798</cp:revision>
  <dc:subject/>
  <dc:title>Euro Crafts 21</dc:title>
</cp:coreProperties>
</file>