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7021-1A29-4E42-B31C-E5BFA28A7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0AB2-9079-41C4-95B1-7571918E6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D9E4-1A56-4007-AAE4-F64325583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BC58-D769-4EE6-A0EE-3E9328554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6B98-B225-455A-AC26-C3588A532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7386-10E1-4625-9616-FE0A0C3EE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8E07-6CBB-4AE5-A882-1154636F4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216F-E4E1-49E7-906A-40FBE5417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2119-8FFA-478B-8573-C2CF187DE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E5C5-A0C5-468B-AF25-5776C8F9B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84A6-5652-4565-9DA8-65EF6FFEC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5879-AA54-452D-9659-5A36343C5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A4A6BFEC-B0B0-493A-A497-13076BDEB258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83920" y="206064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INDUSTRIAL PROPERT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PATENT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1AB2-E80C-41D0-8F80-285C61BAB6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39CA-2223-4B09-BAF8-8305471F5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B6E2-F3D7-48F7-B36E-E15C12C465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7A82-3B92-41E6-83A3-D0E91C6A6E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5F0F-4058-42B3-947A-E10C0BC67B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B477-B02D-4F12-8497-3F59ACFB12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9423-2942-4573-A269-6E6482C56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A401-4FD3-411E-AC92-9C94185998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DA91-3B7C-4D1A-971B-24F0EC10BB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3EDC-18EF-497F-8C9D-479AD35A7F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5:34Z</dcterms:modified>
  <cp:revision>795</cp:revision>
  <dc:subject/>
  <dc:title>Euro Crafts 21</dc:title>
</cp:coreProperties>
</file>