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154D-6C50-4ECC-A994-6F940F6F1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9A80-5617-4743-AF1A-BA00190A0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20FD-D10B-4DD2-B22C-361171BDB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B352-E816-42B1-8498-CF56248C1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08BD-8D82-4879-B535-76C5790FA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E785-0996-4AFB-A8DF-898A5B384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30895-ECE4-46B3-B625-AE078E460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2D60-DAA6-48DA-9742-E3B8FD131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D2DF-6D9B-490D-9DD4-98D60C53FF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94AD-50AD-4378-9715-3459E4528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7D2DB-3124-42EA-B809-0A30D3C94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9ECF-13A1-44C6-B177-704816304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9F27E4C0-0783-46D5-BA34-C0CE53E9FD20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83920" y="2060640"/>
            <a:ext cx="426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INDUSTRIAL PROPERT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PATENT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CD8EF-9042-4EFF-AF97-D5917669DB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A326-20A4-4E0A-A5C5-4A955DBEAF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A6E5-1FA5-491E-BC9C-DEB9965882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12628-A7F7-4A12-8E13-DA6CBB91FB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F60A-B765-4C47-936B-B722509BD4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ECEE-549D-4672-8B96-1D16C3D70D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4A76-F159-4491-904B-B3B35056FA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4665-EF6B-45F2-8CA7-AE8A373F0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A414D-422E-47E6-BC1E-961AB1AC09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F7D1-24D2-4B96-B38E-BB1756633F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5:34Z</dcterms:modified>
  <cp:revision>795</cp:revision>
  <dc:subject/>
  <dc:title>Euro Crafts 21</dc:title>
</cp:coreProperties>
</file>