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3A4116-1C19-4F30-A7A6-FCABFDFBCF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* Analysis of leadership behavior II (LBAII) is a tool to measure self-awareness and responsiveness of others in relation to the flexibility of a leader, as a tool to evaluate the effectiveness of leadership in choosing the appropriate style of leadership. Zigarmi, Drea, Carl Edeburn, Ken Blanchard, Introduction to LBAII ®: Research, validity and reliability of internal and external forms of the fourth edition. (Escondido: The Ken Blanchard Companies, 1997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D341-410F-4C4C-9251-A4E4DAE86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B266-AB5A-4C46-AB1A-195AF4E2D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FF43-7392-42B2-881C-9772D0840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C63E-2FFA-45CF-B950-0B4273329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5AC0-97F4-4FA3-93B1-A83CF3365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93D3-CA12-4D35-AAFA-9B9465AC6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C6B5-9473-47AF-9ED5-45BB95429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1584-8C78-4AEF-8278-EBEB7D203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9E24-1111-427D-B098-F0443F859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121D-E68D-4A81-9BBD-9B078483C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6FAB-65EE-4C19-BBEC-21B5F7480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45AD-4C9D-4F25-A60F-04E583164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870E5341-5C58-4B98-8BBB-37EFF445FE8C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15"/>
                </a:solidFill>
                <a:latin typeface="Arial"/>
              </a:rPr>
              <a:t>Situational Leadership® II</a:t>
            </a:r>
            <a:br>
              <a:rPr sz="2800"/>
            </a:br>
            <a:r>
              <a:rPr b="1" lang="en-US" sz="2800" spc="-1" strike="noStrike">
                <a:solidFill>
                  <a:srgbClr val="fe5815"/>
                </a:solidFill>
                <a:latin typeface="Arial"/>
              </a:rPr>
              <a:t>in Personal Car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61D0-B9A0-4E47-9CE8-27366B7FAF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631188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554040" y="76320"/>
            <a:ext cx="781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720" y="3624120"/>
            <a:ext cx="301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S4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tyle 4 -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low share of directive behaviour / low proportion of supporting behaving -Declarative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84520"/>
            <a:ext cx="35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Allowing / rusting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Confirming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Delegating • Making sure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Agreeing • Courageous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635280" y="2205000"/>
            <a:ext cx="3961080" cy="360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EC78-E3B3-4ACE-92A6-9A7987E94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2420640"/>
            <a:ext cx="6408720" cy="1465560"/>
          </a:xfrm>
          <a:prstGeom prst="rect">
            <a:avLst/>
          </a:prstGeom>
          <a:noFill/>
          <a:ln w="2232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According to the analysis of behavior leaders IITM (LBAII ®)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*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, it is clear that the 54 percent of leaders used only one style, 35 percent of leaders used two styles, 10 percent three and only per cent used four styles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62840" y="4371840"/>
            <a:ext cx="58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To become a leader effective leader must learn to use all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four styles. They have to learn to be flexible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F83F-5634-4F60-9114-FFD0AD5CB9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8360" y="1773360"/>
            <a:ext cx="3362400" cy="4219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62400" cy="42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2BB5-C379-486D-BA2F-0C8CEDE0D8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ank you for attentio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e5815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Contact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Trenčin  Regional Chamber of SCC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87640" y="306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5815"/>
                </a:solidFill>
                <a:latin typeface="Arial"/>
              </a:rPr>
              <a:t>Jozef Rapant, </a:t>
            </a:r>
            <a:r>
              <a:rPr b="1" lang="sk-SK" sz="2400" spc="-1" strike="noStrike" u="sng">
                <a:solidFill>
                  <a:srgbClr val="fe5815"/>
                </a:solidFill>
                <a:uFillTx/>
                <a:latin typeface="Arial"/>
              </a:rPr>
              <a:t>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12400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E6E3-14C7-4B5D-8CA3-7DCCA49BF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21920" y="1676160"/>
            <a:ext cx="8018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e5815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3c59"/>
                </a:solidFill>
                <a:latin typeface="Arial"/>
              </a:rPr>
              <a:t>Specify and implement a situational leadership as leadership style and the way works – </a:t>
            </a: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IN YOUR </a:t>
            </a:r>
            <a:r>
              <a:rPr b="0" lang="en-GB" sz="2000" spc="-1" strike="noStrike">
                <a:solidFill>
                  <a:srgbClr val="013c59"/>
                </a:solidFill>
                <a:latin typeface="Arial"/>
              </a:rPr>
              <a:t>COMPANY</a:t>
            </a:r>
            <a:r>
              <a:rPr b="0" lang="cs-CZ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5319-8956-4B8C-80E3-B1E1F03E6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1920" y="1676160"/>
            <a:ext cx="8018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21920" y="228240"/>
            <a:ext cx="8720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A New leader's rol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1989000"/>
            <a:ext cx="813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13c59"/>
                </a:solidFill>
                <a:latin typeface="Arial"/>
              </a:rPr>
              <a:t>Leadership is a partnership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13c59"/>
                </a:solidFill>
                <a:latin typeface="Arial"/>
              </a:rPr>
              <a:t>No command and control, but the support and encouragement</a:t>
            </a:r>
            <a:r>
              <a:rPr b="0" lang="en-GB" sz="24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00360" y="4228920"/>
            <a:ext cx="2448000" cy="146556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ituational leadership II is not something that you provide to people, but something you do with them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5FD4-FEC7-4277-AF57-4558F8B69B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4950360" y="1828800"/>
            <a:ext cx="3400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4 styles of leading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S1,S2,S3,S4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4 levels of developmen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D1,D2,D3,D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189000"/>
            <a:ext cx="781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del of Situation leading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3362400" cy="42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C07E-5FED-4ED4-BA00-5952552713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013c59"/>
                </a:solidFill>
                <a:latin typeface="Arial"/>
              </a:rPr>
              <a:t>eadership style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63640" y="26679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Arial"/>
              </a:rPr>
              <a:t>There is no best leadership style.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Arial"/>
              </a:rPr>
              <a:t>Leadership style depends on the situation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A3DC-AC6C-4D13-978F-3D641AD70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631188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249228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upportive behaviour - listening, helping to solve problems, asking, explaining, encouraging</a:t>
            </a:r>
            <a:r>
              <a:rPr b="0" lang="cs-CZ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29560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rescriptive behaviour-structuring; organization, instruction, evaluation, control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627280" y="1725480"/>
            <a:ext cx="3816360" cy="34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6B17-3EDE-4E4B-8FA6-DBB962A8B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6672240"/>
            <a:ext cx="9144000" cy="1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435640" y="328464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1</a:t>
            </a:r>
            <a:r>
              <a:rPr b="1" lang="en-GB" sz="18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tyle 1 -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highly prescriptive behaviour / low proportion of supportive behaviour, Directiv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508392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sk-SK" sz="1200" spc="-1" strike="noStrike">
                <a:solidFill>
                  <a:srgbClr val="013c59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efining                   • Teachers / showing and speaking as</a:t>
            </a:r>
            <a:br>
              <a:rPr sz="1200"/>
            </a:b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• Planning / setting     • Inspecting / Monitoring priorities</a:t>
            </a:r>
            <a:br>
              <a:rPr sz="1200"/>
            </a:b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• Orienting                  • Providing feedbac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876400" y="35654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84360" y="1773360"/>
            <a:ext cx="4030560" cy="36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3F66-FEDF-4320-BCE0-CE5A670207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II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720" y="191592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S2</a:t>
            </a: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tyle 2 -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highly directive behaviour / high proportion of supporting behaving -Couching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285720"/>
            <a:ext cx="39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Exploring / questioner • Sharing feedback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Explanatory / Illustrative • Encouraging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Re-evaluating • Praising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6920" y="2125800"/>
            <a:ext cx="4102200" cy="37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22F5-7F1E-4BF7-B7FA-5213C2ECB4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6720" y="1779480"/>
            <a:ext cx="301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fa2c"/>
                </a:solidFill>
                <a:latin typeface="Arial"/>
              </a:rPr>
              <a:t>S3</a:t>
            </a:r>
            <a:r>
              <a:rPr b="1" lang="en-GB" sz="1800" spc="-1" strike="noStrike">
                <a:solidFill>
                  <a:srgbClr val="f0fa2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tyle 3 -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low share of directive behaviour / high proportion of supporting behaving -Supporting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539520"/>
            <a:ext cx="35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Asking / listening to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Helping in problem solving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Making sure • Feedback based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Collaborating • Accepting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564000" y="1773360"/>
            <a:ext cx="431784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3554-90AA-44FF-B318-FFD37A0BD0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14:09Z</dcterms:modified>
  <cp:revision>771</cp:revision>
  <dc:subject/>
  <dc:title>Euro Crafts 21</dc:title>
</cp:coreProperties>
</file>