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9F77AC-A65C-4E72-96DD-9BEEF245B7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96DB2B7-B964-43E6-ACAF-1449DE53F66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846600" y="9441000"/>
            <a:ext cx="2950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F0815E57-F81E-44DA-8907-9FE94A3142ED}" type="slidenum">
              <a:rPr b="0" lang="en-US" sz="1800" spc="-1" strike="noStrike">
                <a:solidFill>
                  <a:srgbClr val="013c5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4680" y="4713120"/>
            <a:ext cx="4987800" cy="4470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part of the business case is showing that something is wrong with the status quo.  This development level distribution is obviously not ideal, with only 15% of critical tasks being performed at the D4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experience, most clients we work with have percentages within +/- 5% of these perce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582CF6-FD94-4A1D-906A-AF4E8E556B1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46600" y="9441000"/>
            <a:ext cx="2950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6CA593DF-CD52-405D-B7D4-94E27186863F}" type="slidenum">
              <a:rPr b="0" lang="en-US" sz="1800" spc="-1" strike="noStrike">
                <a:solidFill>
                  <a:srgbClr val="013c5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Why does it matter that 35% of critical tasks are performed at Beginner (D1) or Learner (D2) levels?  People performing at these development levels are returning a negative net return to the bottom li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it matter that another 50% of critical tasks are performed at Capable Performer (D3) levels?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ople performing at the Capable Performer development level are returning significantly less net return to the bottom line than a Self-Reliant Achiever (D4) on the same t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xact return depends on the task being performed).  For example, consider the relative economic return of your top salespeople versus your average salespeople; typically, the 80/20 rule applies (i.e., 80% of the economic return is produced by 20% of the peop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9A7FE-BA10-493B-B242-E9DD0F7FF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4B0A5-7C82-402A-B941-4B65B25FE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66EA-4BEC-4F2E-8786-E2DC66B15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57273-10EB-448D-A5A7-8A5D4EB124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B7A05-2E34-4A7B-9009-31EB112B9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8C496-612D-447B-84D6-9639E78B9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874D-2694-43BB-8B75-3716B0FC9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20F2-0D6E-4D07-8CAD-0BA58DED4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3C1B1-9CDF-4743-B981-0F578B32A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A926-BC8B-49E1-B529-01A4F4E76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A4633-9F11-4CB2-8F59-91FE66A0F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C1CFB-0A94-473D-B5DF-6425EDECD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DB1AC297-87D9-491D-AAEB-89202444E916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Projekt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Euro Crafts 21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5815"/>
                </a:solidFill>
                <a:latin typeface="Arial"/>
              </a:rPr>
              <a:t>Situational Leadership® II</a:t>
            </a:r>
            <a:br>
              <a:rPr sz="2800"/>
            </a:br>
            <a:r>
              <a:rPr b="1" lang="en-GB" sz="2800" spc="-1" strike="noStrike">
                <a:solidFill>
                  <a:srgbClr val="fe5815"/>
                </a:solidFill>
                <a:latin typeface="Arial"/>
              </a:rPr>
              <a:t>Maturity level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11640" y="3494160"/>
            <a:ext cx="3529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62440" y="5424480"/>
            <a:ext cx="31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(</a:t>
            </a: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č. projektu</a:t>
            </a: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: LLP-LDV/TOI-08-AT-0015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C046A-C0AD-4E1E-87BF-DF6DB757C1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ank you for attention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177156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e5815"/>
                </a:solidFill>
                <a:uFillTx/>
                <a:latin typeface="Arial"/>
              </a:rPr>
              <a:t>http://www.eurocrafts21.e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Contact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Trenčin  Regional Chamber of SCCI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Jilemnického 10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hone: 032-6525797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-Mail: </a:t>
            </a:r>
            <a:r>
              <a:rPr b="0" lang="en-GB" sz="1800" spc="-1" strike="noStrike" u="sng">
                <a:solidFill>
                  <a:srgbClr val="0066ff"/>
                </a:solidFill>
                <a:uFillTx/>
                <a:latin typeface="Arial"/>
              </a:rPr>
              <a:t>sopkrktn@sopk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en-GB" sz="1800" spc="-1" strike="noStrike" u="sng">
                <a:solidFill>
                  <a:srgbClr val="0066ff"/>
                </a:solidFill>
                <a:uFillTx/>
                <a:latin typeface="Arial"/>
              </a:rPr>
              <a:t>www.komora.nam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85720" y="1878120"/>
            <a:ext cx="2313000" cy="15382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987640" y="3068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e5815"/>
                </a:solidFill>
                <a:latin typeface="Arial"/>
              </a:rPr>
              <a:t>Jozef Rapant, </a:t>
            </a:r>
            <a:r>
              <a:rPr b="1" lang="sk-SK" sz="2400" spc="-1" strike="noStrike" u="sng">
                <a:solidFill>
                  <a:srgbClr val="fe5815"/>
                </a:solidFill>
                <a:uFillTx/>
                <a:latin typeface="Arial"/>
              </a:rPr>
              <a:t>www.lifehelp.s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2124000" cy="961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003640" y="4869000"/>
            <a:ext cx="262908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D60D6-4611-43CF-9E58-F01F1B3A1B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4951800" y="1828800"/>
            <a:ext cx="2602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4 leading styles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S1,S2,S3,S4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4 maturity level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D1,D2,D3,D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39640" y="333360"/>
            <a:ext cx="781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136f0"/>
                </a:solidFill>
                <a:latin typeface="Arial"/>
              </a:rPr>
              <a:t>Model of Situation leadership SLII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559116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8317080" y="6483240"/>
            <a:ext cx="826920" cy="374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39640" y="1700280"/>
            <a:ext cx="3672000" cy="460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9C51-2FAE-4771-B92C-2CEFBE9054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136f0"/>
                </a:solidFill>
                <a:latin typeface="Arial"/>
              </a:rPr>
              <a:t>Maturity level</a:t>
            </a:r>
            <a:endParaRPr b="0" lang="en-US" sz="24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2" name="Text Box 48"/>
          <p:cNvSpPr/>
          <p:nvPr/>
        </p:nvSpPr>
        <p:spPr>
          <a:xfrm>
            <a:off x="1683000" y="2286000"/>
            <a:ext cx="125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13c59"/>
                </a:solidFill>
                <a:latin typeface="Arial"/>
              </a:rPr>
              <a:t>Knowledg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13c59"/>
                </a:solidFill>
                <a:latin typeface="Arial"/>
              </a:rPr>
              <a:t>Skills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3" name="Text Box 49"/>
          <p:cNvSpPr/>
          <p:nvPr/>
        </p:nvSpPr>
        <p:spPr>
          <a:xfrm>
            <a:off x="1514160" y="5181480"/>
            <a:ext cx="119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13c59"/>
                </a:solidFill>
                <a:latin typeface="Arial"/>
              </a:rPr>
              <a:t>Motivation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13c59"/>
                </a:solidFill>
                <a:latin typeface="Arial"/>
              </a:rPr>
              <a:t>Trust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4" name="AutoShape 51"/>
          <p:cNvSpPr/>
          <p:nvPr/>
        </p:nvSpPr>
        <p:spPr>
          <a:xfrm rot="1258200">
            <a:off x="2361960" y="1828800"/>
            <a:ext cx="3581280" cy="609480"/>
          </a:xfrm>
          <a:prstGeom prst="leftArrow">
            <a:avLst>
              <a:gd name="adj1" fmla="val 50000"/>
              <a:gd name="adj2" fmla="val 146899"/>
            </a:avLst>
          </a:prstGeom>
          <a:solidFill>
            <a:srgbClr val="efe8d1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5" name="AutoShape 52"/>
          <p:cNvSpPr/>
          <p:nvPr/>
        </p:nvSpPr>
        <p:spPr>
          <a:xfrm rot="19509000">
            <a:off x="4611240" y="5083200"/>
            <a:ext cx="1905120" cy="380880"/>
          </a:xfrm>
          <a:prstGeom prst="leftArrow">
            <a:avLst>
              <a:gd name="adj1" fmla="val 50000"/>
              <a:gd name="adj2" fmla="val 125047"/>
            </a:avLst>
          </a:prstGeom>
          <a:solidFill>
            <a:srgbClr val="efe8d1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6" name="AutoShape 53"/>
          <p:cNvSpPr/>
          <p:nvPr/>
        </p:nvSpPr>
        <p:spPr>
          <a:xfrm rot="1472400">
            <a:off x="2438280" y="5105160"/>
            <a:ext cx="1752840" cy="457200"/>
          </a:xfrm>
          <a:prstGeom prst="leftArrow">
            <a:avLst>
              <a:gd name="adj1" fmla="val 50000"/>
              <a:gd name="adj2" fmla="val 95846"/>
            </a:avLst>
          </a:prstGeom>
          <a:solidFill>
            <a:srgbClr val="efe8d1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8317080" y="6483240"/>
            <a:ext cx="826920" cy="374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692360" y="2924280"/>
            <a:ext cx="5688000" cy="166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06144-BEF7-41EE-B008-464AA25A9B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907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136f0"/>
                </a:solidFill>
                <a:latin typeface="Arial"/>
              </a:rPr>
              <a:t>Critical Task Distribution</a:t>
            </a:r>
            <a:endParaRPr b="0" lang="en-US" sz="24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7308720" y="4983120"/>
            <a:ext cx="114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c59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327640" y="498312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c59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422520" y="4983120"/>
            <a:ext cx="129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c59"/>
                </a:solidFill>
                <a:latin typeface="Arial"/>
              </a:rPr>
              <a:t>50%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41440" y="4983120"/>
            <a:ext cx="114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c59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47680" y="5591160"/>
            <a:ext cx="73915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3c59"/>
                </a:solidFill>
                <a:latin typeface="Arial"/>
              </a:rPr>
              <a:t>Observed Development Level Distribution on Critical Tasks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13c59"/>
                </a:solidFill>
                <a:latin typeface="Arial"/>
              </a:rPr>
              <a:t>Source: Blanchard Field Research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990720" y="1814400"/>
            <a:ext cx="1892160" cy="1103400"/>
          </a:xfrm>
          <a:prstGeom prst="rect">
            <a:avLst/>
          </a:prstGeom>
          <a:solidFill>
            <a:srgbClr val="0b6b2a"/>
          </a:solidFill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895480" y="1814400"/>
            <a:ext cx="1892520" cy="110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4800600" y="1814400"/>
            <a:ext cx="1892160" cy="1103400"/>
          </a:xfrm>
          <a:prstGeom prst="rect">
            <a:avLst/>
          </a:prstGeom>
          <a:solidFill>
            <a:srgbClr val="ff9900"/>
          </a:solidFill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6705720" y="1814400"/>
            <a:ext cx="1892160" cy="1103400"/>
          </a:xfrm>
          <a:prstGeom prst="rect">
            <a:avLst/>
          </a:prstGeom>
          <a:solidFill>
            <a:srgbClr val="ff0000"/>
          </a:solidFill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1347840" y="1752480"/>
            <a:ext cx="11430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D4</a:t>
            </a:r>
            <a:endParaRPr b="0" lang="en-US" sz="4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252960" y="1752480"/>
            <a:ext cx="11430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13c59"/>
                </a:solidFill>
                <a:latin typeface="Times New Roman"/>
              </a:rPr>
              <a:t>D3</a:t>
            </a:r>
            <a:endParaRPr b="0" lang="en-US" sz="4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5157720" y="1752480"/>
            <a:ext cx="11430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13c59"/>
                </a:solidFill>
                <a:latin typeface="Times New Roman"/>
              </a:rPr>
              <a:t>D2</a:t>
            </a:r>
            <a:endParaRPr b="0" lang="en-US" sz="4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7062840" y="1752480"/>
            <a:ext cx="11430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42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24" name="Group 16"/>
          <p:cNvGrpSpPr/>
          <p:nvPr/>
        </p:nvGrpSpPr>
        <p:grpSpPr>
          <a:xfrm>
            <a:off x="990720" y="2917800"/>
            <a:ext cx="7606800" cy="2021040"/>
            <a:chOff x="990720" y="2917800"/>
            <a:chExt cx="7606800" cy="2021040"/>
          </a:xfrm>
        </p:grpSpPr>
        <p:sp>
          <p:nvSpPr>
            <p:cNvPr id="125" name="Rectangle 17"/>
            <p:cNvSpPr/>
            <p:nvPr/>
          </p:nvSpPr>
          <p:spPr>
            <a:xfrm>
              <a:off x="990720" y="2917800"/>
              <a:ext cx="1892160" cy="202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2895480" y="2917800"/>
              <a:ext cx="1891800" cy="202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4800600" y="2917800"/>
              <a:ext cx="1891800" cy="202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6705360" y="2917800"/>
              <a:ext cx="1892160" cy="202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129" name="Freeform 21"/>
          <p:cNvSpPr/>
          <p:nvPr/>
        </p:nvSpPr>
        <p:spPr>
          <a:xfrm>
            <a:off x="1136520" y="3141720"/>
            <a:ext cx="7317000" cy="1568520"/>
          </a:xfrm>
          <a:custGeom>
            <a:avLst/>
            <a:gdLst>
              <a:gd name="textAreaLeft" fmla="*/ 0 w 7317000"/>
              <a:gd name="textAreaRight" fmla="*/ 7317360 w 7317000"/>
              <a:gd name="textAreaTop" fmla="*/ 0 h 1568520"/>
              <a:gd name="textAreaBottom" fmla="*/ 1568880 h 1568520"/>
            </a:gdLst>
            <a:ahLst/>
            <a:rect l="textAreaLeft" t="textAreaTop" r="textAreaRight" b="textAreaBottom"/>
            <a:pathLst>
              <a:path w="4609" h="1084">
                <a:moveTo>
                  <a:pt x="0" y="0"/>
                </a:moveTo>
                <a:lnTo>
                  <a:pt x="56" y="12"/>
                </a:lnTo>
                <a:lnTo>
                  <a:pt x="84" y="12"/>
                </a:lnTo>
                <a:lnTo>
                  <a:pt x="132" y="31"/>
                </a:lnTo>
                <a:lnTo>
                  <a:pt x="227" y="47"/>
                </a:lnTo>
                <a:lnTo>
                  <a:pt x="304" y="66"/>
                </a:lnTo>
                <a:lnTo>
                  <a:pt x="351" y="101"/>
                </a:lnTo>
                <a:lnTo>
                  <a:pt x="399" y="119"/>
                </a:lnTo>
                <a:lnTo>
                  <a:pt x="446" y="119"/>
                </a:lnTo>
                <a:lnTo>
                  <a:pt x="504" y="136"/>
                </a:lnTo>
                <a:lnTo>
                  <a:pt x="561" y="154"/>
                </a:lnTo>
                <a:lnTo>
                  <a:pt x="666" y="171"/>
                </a:lnTo>
                <a:lnTo>
                  <a:pt x="789" y="189"/>
                </a:lnTo>
                <a:lnTo>
                  <a:pt x="885" y="224"/>
                </a:lnTo>
                <a:lnTo>
                  <a:pt x="1008" y="276"/>
                </a:lnTo>
                <a:lnTo>
                  <a:pt x="1132" y="311"/>
                </a:lnTo>
                <a:lnTo>
                  <a:pt x="1256" y="329"/>
                </a:lnTo>
                <a:lnTo>
                  <a:pt x="1304" y="346"/>
                </a:lnTo>
                <a:lnTo>
                  <a:pt x="1351" y="381"/>
                </a:lnTo>
                <a:lnTo>
                  <a:pt x="1380" y="399"/>
                </a:lnTo>
                <a:lnTo>
                  <a:pt x="1456" y="416"/>
                </a:lnTo>
                <a:lnTo>
                  <a:pt x="1561" y="451"/>
                </a:lnTo>
                <a:lnTo>
                  <a:pt x="1637" y="486"/>
                </a:lnTo>
                <a:lnTo>
                  <a:pt x="1742" y="504"/>
                </a:lnTo>
                <a:lnTo>
                  <a:pt x="1837" y="539"/>
                </a:lnTo>
                <a:lnTo>
                  <a:pt x="1913" y="558"/>
                </a:lnTo>
                <a:lnTo>
                  <a:pt x="2018" y="574"/>
                </a:lnTo>
                <a:lnTo>
                  <a:pt x="2075" y="593"/>
                </a:lnTo>
                <a:lnTo>
                  <a:pt x="2180" y="609"/>
                </a:lnTo>
                <a:lnTo>
                  <a:pt x="2275" y="628"/>
                </a:lnTo>
                <a:lnTo>
                  <a:pt x="2399" y="644"/>
                </a:lnTo>
                <a:lnTo>
                  <a:pt x="2456" y="679"/>
                </a:lnTo>
                <a:lnTo>
                  <a:pt x="2609" y="679"/>
                </a:lnTo>
                <a:lnTo>
                  <a:pt x="2714" y="698"/>
                </a:lnTo>
                <a:lnTo>
                  <a:pt x="2809" y="698"/>
                </a:lnTo>
                <a:lnTo>
                  <a:pt x="2885" y="714"/>
                </a:lnTo>
                <a:lnTo>
                  <a:pt x="2952" y="733"/>
                </a:lnTo>
                <a:lnTo>
                  <a:pt x="3047" y="733"/>
                </a:lnTo>
                <a:lnTo>
                  <a:pt x="3123" y="749"/>
                </a:lnTo>
                <a:lnTo>
                  <a:pt x="3209" y="768"/>
                </a:lnTo>
                <a:lnTo>
                  <a:pt x="3247" y="768"/>
                </a:lnTo>
                <a:lnTo>
                  <a:pt x="3295" y="784"/>
                </a:lnTo>
                <a:lnTo>
                  <a:pt x="3342" y="803"/>
                </a:lnTo>
                <a:lnTo>
                  <a:pt x="3399" y="803"/>
                </a:lnTo>
                <a:lnTo>
                  <a:pt x="3447" y="803"/>
                </a:lnTo>
                <a:lnTo>
                  <a:pt x="3495" y="819"/>
                </a:lnTo>
                <a:lnTo>
                  <a:pt x="3552" y="838"/>
                </a:lnTo>
                <a:lnTo>
                  <a:pt x="3676" y="838"/>
                </a:lnTo>
                <a:lnTo>
                  <a:pt x="3752" y="854"/>
                </a:lnTo>
                <a:lnTo>
                  <a:pt x="3809" y="889"/>
                </a:lnTo>
                <a:lnTo>
                  <a:pt x="3857" y="889"/>
                </a:lnTo>
                <a:lnTo>
                  <a:pt x="3914" y="908"/>
                </a:lnTo>
                <a:lnTo>
                  <a:pt x="3962" y="961"/>
                </a:lnTo>
                <a:lnTo>
                  <a:pt x="4019" y="961"/>
                </a:lnTo>
                <a:lnTo>
                  <a:pt x="4076" y="978"/>
                </a:lnTo>
                <a:lnTo>
                  <a:pt x="4123" y="996"/>
                </a:lnTo>
                <a:lnTo>
                  <a:pt x="4162" y="1013"/>
                </a:lnTo>
                <a:lnTo>
                  <a:pt x="4200" y="1013"/>
                </a:lnTo>
                <a:lnTo>
                  <a:pt x="4247" y="1031"/>
                </a:lnTo>
                <a:lnTo>
                  <a:pt x="4295" y="1048"/>
                </a:lnTo>
                <a:lnTo>
                  <a:pt x="4352" y="1048"/>
                </a:lnTo>
                <a:lnTo>
                  <a:pt x="4419" y="1066"/>
                </a:lnTo>
                <a:lnTo>
                  <a:pt x="4447" y="1066"/>
                </a:lnTo>
                <a:lnTo>
                  <a:pt x="4485" y="1066"/>
                </a:lnTo>
                <a:lnTo>
                  <a:pt x="4543" y="1083"/>
                </a:lnTo>
                <a:lnTo>
                  <a:pt x="4571" y="1083"/>
                </a:lnTo>
                <a:lnTo>
                  <a:pt x="4608" y="1060"/>
                </a:lnTo>
              </a:path>
            </a:pathLst>
          </a:custGeom>
          <a:noFill/>
          <a:ln cap="rnd" w="38160">
            <a:solidFill>
              <a:srgbClr val="fe5815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1212840" y="3048120"/>
            <a:ext cx="7240680" cy="1738080"/>
          </a:xfrm>
          <a:custGeom>
            <a:avLst/>
            <a:gdLst>
              <a:gd name="textAreaLeft" fmla="*/ 0 w 7240680"/>
              <a:gd name="textAreaRight" fmla="*/ 7241040 w 7240680"/>
              <a:gd name="textAreaTop" fmla="*/ 0 h 1738080"/>
              <a:gd name="textAreaBottom" fmla="*/ 1738440 h 1738080"/>
            </a:gdLst>
            <a:ahLst/>
            <a:rect l="textAreaLeft" t="textAreaTop" r="textAreaRight" b="textAreaBottom"/>
            <a:pathLst>
              <a:path w="4561" h="1123">
                <a:moveTo>
                  <a:pt x="0" y="233"/>
                </a:moveTo>
                <a:lnTo>
                  <a:pt x="56" y="193"/>
                </a:lnTo>
                <a:lnTo>
                  <a:pt x="103" y="193"/>
                </a:lnTo>
                <a:lnTo>
                  <a:pt x="151" y="193"/>
                </a:lnTo>
                <a:lnTo>
                  <a:pt x="198" y="210"/>
                </a:lnTo>
                <a:lnTo>
                  <a:pt x="237" y="228"/>
                </a:lnTo>
                <a:lnTo>
                  <a:pt x="294" y="245"/>
                </a:lnTo>
                <a:lnTo>
                  <a:pt x="351" y="263"/>
                </a:lnTo>
                <a:lnTo>
                  <a:pt x="398" y="298"/>
                </a:lnTo>
                <a:lnTo>
                  <a:pt x="437" y="333"/>
                </a:lnTo>
                <a:lnTo>
                  <a:pt x="494" y="350"/>
                </a:lnTo>
                <a:lnTo>
                  <a:pt x="541" y="368"/>
                </a:lnTo>
                <a:lnTo>
                  <a:pt x="579" y="403"/>
                </a:lnTo>
                <a:lnTo>
                  <a:pt x="608" y="420"/>
                </a:lnTo>
                <a:lnTo>
                  <a:pt x="656" y="455"/>
                </a:lnTo>
                <a:lnTo>
                  <a:pt x="694" y="473"/>
                </a:lnTo>
                <a:lnTo>
                  <a:pt x="732" y="508"/>
                </a:lnTo>
                <a:lnTo>
                  <a:pt x="760" y="526"/>
                </a:lnTo>
                <a:lnTo>
                  <a:pt x="789" y="543"/>
                </a:lnTo>
                <a:lnTo>
                  <a:pt x="837" y="561"/>
                </a:lnTo>
                <a:lnTo>
                  <a:pt x="875" y="578"/>
                </a:lnTo>
                <a:lnTo>
                  <a:pt x="913" y="596"/>
                </a:lnTo>
                <a:lnTo>
                  <a:pt x="941" y="596"/>
                </a:lnTo>
                <a:lnTo>
                  <a:pt x="970" y="613"/>
                </a:lnTo>
                <a:lnTo>
                  <a:pt x="999" y="631"/>
                </a:lnTo>
                <a:lnTo>
                  <a:pt x="1027" y="631"/>
                </a:lnTo>
                <a:lnTo>
                  <a:pt x="1065" y="613"/>
                </a:lnTo>
                <a:lnTo>
                  <a:pt x="1094" y="578"/>
                </a:lnTo>
                <a:lnTo>
                  <a:pt x="1122" y="543"/>
                </a:lnTo>
                <a:lnTo>
                  <a:pt x="1151" y="508"/>
                </a:lnTo>
                <a:lnTo>
                  <a:pt x="1170" y="455"/>
                </a:lnTo>
                <a:lnTo>
                  <a:pt x="1199" y="403"/>
                </a:lnTo>
                <a:lnTo>
                  <a:pt x="1227" y="385"/>
                </a:lnTo>
                <a:lnTo>
                  <a:pt x="1256" y="350"/>
                </a:lnTo>
                <a:lnTo>
                  <a:pt x="1284" y="350"/>
                </a:lnTo>
                <a:lnTo>
                  <a:pt x="1322" y="420"/>
                </a:lnTo>
                <a:lnTo>
                  <a:pt x="1342" y="455"/>
                </a:lnTo>
                <a:lnTo>
                  <a:pt x="1351" y="491"/>
                </a:lnTo>
                <a:lnTo>
                  <a:pt x="1380" y="543"/>
                </a:lnTo>
                <a:lnTo>
                  <a:pt x="1408" y="596"/>
                </a:lnTo>
                <a:lnTo>
                  <a:pt x="1427" y="648"/>
                </a:lnTo>
                <a:lnTo>
                  <a:pt x="1456" y="701"/>
                </a:lnTo>
                <a:lnTo>
                  <a:pt x="1465" y="753"/>
                </a:lnTo>
                <a:lnTo>
                  <a:pt x="1475" y="806"/>
                </a:lnTo>
                <a:lnTo>
                  <a:pt x="1494" y="858"/>
                </a:lnTo>
                <a:lnTo>
                  <a:pt x="1503" y="895"/>
                </a:lnTo>
                <a:lnTo>
                  <a:pt x="1523" y="930"/>
                </a:lnTo>
                <a:lnTo>
                  <a:pt x="1542" y="981"/>
                </a:lnTo>
                <a:lnTo>
                  <a:pt x="1570" y="1016"/>
                </a:lnTo>
                <a:lnTo>
                  <a:pt x="1599" y="1070"/>
                </a:lnTo>
                <a:lnTo>
                  <a:pt x="1627" y="1122"/>
                </a:lnTo>
                <a:lnTo>
                  <a:pt x="1637" y="1070"/>
                </a:lnTo>
                <a:lnTo>
                  <a:pt x="1656" y="1016"/>
                </a:lnTo>
                <a:lnTo>
                  <a:pt x="1665" y="965"/>
                </a:lnTo>
                <a:lnTo>
                  <a:pt x="1675" y="911"/>
                </a:lnTo>
                <a:lnTo>
                  <a:pt x="1675" y="858"/>
                </a:lnTo>
                <a:lnTo>
                  <a:pt x="1694" y="788"/>
                </a:lnTo>
                <a:lnTo>
                  <a:pt x="1703" y="736"/>
                </a:lnTo>
                <a:lnTo>
                  <a:pt x="1723" y="683"/>
                </a:lnTo>
                <a:lnTo>
                  <a:pt x="1751" y="666"/>
                </a:lnTo>
                <a:lnTo>
                  <a:pt x="1780" y="613"/>
                </a:lnTo>
                <a:lnTo>
                  <a:pt x="1808" y="613"/>
                </a:lnTo>
                <a:lnTo>
                  <a:pt x="1837" y="631"/>
                </a:lnTo>
                <a:lnTo>
                  <a:pt x="1846" y="683"/>
                </a:lnTo>
                <a:lnTo>
                  <a:pt x="1865" y="736"/>
                </a:lnTo>
                <a:lnTo>
                  <a:pt x="1875" y="788"/>
                </a:lnTo>
                <a:lnTo>
                  <a:pt x="1904" y="823"/>
                </a:lnTo>
                <a:lnTo>
                  <a:pt x="1923" y="876"/>
                </a:lnTo>
                <a:lnTo>
                  <a:pt x="1942" y="930"/>
                </a:lnTo>
                <a:lnTo>
                  <a:pt x="1961" y="981"/>
                </a:lnTo>
                <a:lnTo>
                  <a:pt x="1989" y="1016"/>
                </a:lnTo>
                <a:lnTo>
                  <a:pt x="2018" y="1035"/>
                </a:lnTo>
                <a:lnTo>
                  <a:pt x="2056" y="1070"/>
                </a:lnTo>
                <a:lnTo>
                  <a:pt x="2094" y="1086"/>
                </a:lnTo>
                <a:lnTo>
                  <a:pt x="2123" y="1086"/>
                </a:lnTo>
                <a:lnTo>
                  <a:pt x="2161" y="1105"/>
                </a:lnTo>
                <a:lnTo>
                  <a:pt x="2189" y="1122"/>
                </a:lnTo>
                <a:lnTo>
                  <a:pt x="2237" y="1122"/>
                </a:lnTo>
                <a:lnTo>
                  <a:pt x="2266" y="1122"/>
                </a:lnTo>
                <a:lnTo>
                  <a:pt x="2294" y="1122"/>
                </a:lnTo>
                <a:lnTo>
                  <a:pt x="2342" y="1122"/>
                </a:lnTo>
                <a:lnTo>
                  <a:pt x="2380" y="1122"/>
                </a:lnTo>
                <a:lnTo>
                  <a:pt x="2408" y="1122"/>
                </a:lnTo>
                <a:lnTo>
                  <a:pt x="2485" y="1122"/>
                </a:lnTo>
                <a:lnTo>
                  <a:pt x="2513" y="1122"/>
                </a:lnTo>
                <a:lnTo>
                  <a:pt x="2570" y="1122"/>
                </a:lnTo>
                <a:lnTo>
                  <a:pt x="2599" y="1122"/>
                </a:lnTo>
                <a:lnTo>
                  <a:pt x="2637" y="1122"/>
                </a:lnTo>
                <a:lnTo>
                  <a:pt x="2694" y="1086"/>
                </a:lnTo>
                <a:lnTo>
                  <a:pt x="2751" y="1070"/>
                </a:lnTo>
                <a:lnTo>
                  <a:pt x="2789" y="1051"/>
                </a:lnTo>
                <a:lnTo>
                  <a:pt x="2818" y="1035"/>
                </a:lnTo>
                <a:lnTo>
                  <a:pt x="2856" y="1000"/>
                </a:lnTo>
                <a:lnTo>
                  <a:pt x="2894" y="965"/>
                </a:lnTo>
                <a:lnTo>
                  <a:pt x="2932" y="911"/>
                </a:lnTo>
                <a:lnTo>
                  <a:pt x="2970" y="858"/>
                </a:lnTo>
                <a:lnTo>
                  <a:pt x="3018" y="823"/>
                </a:lnTo>
                <a:lnTo>
                  <a:pt x="3047" y="788"/>
                </a:lnTo>
                <a:lnTo>
                  <a:pt x="3075" y="753"/>
                </a:lnTo>
                <a:lnTo>
                  <a:pt x="3104" y="736"/>
                </a:lnTo>
                <a:lnTo>
                  <a:pt x="3132" y="701"/>
                </a:lnTo>
                <a:lnTo>
                  <a:pt x="3190" y="666"/>
                </a:lnTo>
                <a:lnTo>
                  <a:pt x="3247" y="596"/>
                </a:lnTo>
                <a:lnTo>
                  <a:pt x="3285" y="578"/>
                </a:lnTo>
                <a:lnTo>
                  <a:pt x="3332" y="543"/>
                </a:lnTo>
                <a:lnTo>
                  <a:pt x="3371" y="526"/>
                </a:lnTo>
                <a:lnTo>
                  <a:pt x="3409" y="508"/>
                </a:lnTo>
                <a:lnTo>
                  <a:pt x="3456" y="473"/>
                </a:lnTo>
                <a:lnTo>
                  <a:pt x="3494" y="455"/>
                </a:lnTo>
                <a:lnTo>
                  <a:pt x="3552" y="420"/>
                </a:lnTo>
                <a:lnTo>
                  <a:pt x="3599" y="403"/>
                </a:lnTo>
                <a:lnTo>
                  <a:pt x="3637" y="385"/>
                </a:lnTo>
                <a:lnTo>
                  <a:pt x="3685" y="350"/>
                </a:lnTo>
                <a:lnTo>
                  <a:pt x="3742" y="333"/>
                </a:lnTo>
                <a:lnTo>
                  <a:pt x="3790" y="315"/>
                </a:lnTo>
                <a:lnTo>
                  <a:pt x="3828" y="298"/>
                </a:lnTo>
                <a:lnTo>
                  <a:pt x="3894" y="263"/>
                </a:lnTo>
                <a:lnTo>
                  <a:pt x="3914" y="245"/>
                </a:lnTo>
                <a:lnTo>
                  <a:pt x="3942" y="228"/>
                </a:lnTo>
                <a:lnTo>
                  <a:pt x="3971" y="210"/>
                </a:lnTo>
                <a:lnTo>
                  <a:pt x="4018" y="193"/>
                </a:lnTo>
                <a:lnTo>
                  <a:pt x="4075" y="175"/>
                </a:lnTo>
                <a:lnTo>
                  <a:pt x="4114" y="158"/>
                </a:lnTo>
                <a:lnTo>
                  <a:pt x="4142" y="140"/>
                </a:lnTo>
                <a:lnTo>
                  <a:pt x="4190" y="123"/>
                </a:lnTo>
                <a:lnTo>
                  <a:pt x="4247" y="105"/>
                </a:lnTo>
                <a:lnTo>
                  <a:pt x="4304" y="88"/>
                </a:lnTo>
                <a:lnTo>
                  <a:pt x="4342" y="70"/>
                </a:lnTo>
                <a:lnTo>
                  <a:pt x="4380" y="70"/>
                </a:lnTo>
                <a:lnTo>
                  <a:pt x="4428" y="70"/>
                </a:lnTo>
                <a:lnTo>
                  <a:pt x="4456" y="70"/>
                </a:lnTo>
                <a:lnTo>
                  <a:pt x="4476" y="70"/>
                </a:lnTo>
                <a:lnTo>
                  <a:pt x="4560" y="57"/>
                </a:lnTo>
                <a:lnTo>
                  <a:pt x="4542" y="0"/>
                </a:lnTo>
                <a:lnTo>
                  <a:pt x="4512" y="57"/>
                </a:lnTo>
              </a:path>
            </a:pathLst>
          </a:custGeom>
          <a:noFill/>
          <a:ln cap="rnd" w="38160">
            <a:solidFill>
              <a:srgbClr val="ff66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741000" y="2957400"/>
            <a:ext cx="14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3c59"/>
                </a:solidFill>
                <a:latin typeface="Arial"/>
              </a:rPr>
              <a:t>Commitment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7053120" y="396252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3c59"/>
                </a:solidFill>
                <a:latin typeface="Arial"/>
              </a:rPr>
              <a:t>Competenc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3" name="Line 25"/>
          <p:cNvSpPr/>
          <p:nvPr/>
        </p:nvSpPr>
        <p:spPr>
          <a:xfrm>
            <a:off x="7232760" y="3262320"/>
            <a:ext cx="75960" cy="304920"/>
          </a:xfrm>
          <a:prstGeom prst="line">
            <a:avLst/>
          </a:prstGeom>
          <a:ln w="28440">
            <a:solidFill>
              <a:srgbClr val="013c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4" name="Line 26"/>
          <p:cNvSpPr/>
          <p:nvPr/>
        </p:nvSpPr>
        <p:spPr>
          <a:xfrm>
            <a:off x="7537320" y="4267080"/>
            <a:ext cx="76320" cy="304920"/>
          </a:xfrm>
          <a:prstGeom prst="line">
            <a:avLst/>
          </a:prstGeom>
          <a:ln w="28440">
            <a:solidFill>
              <a:srgbClr val="013c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6775560" y="2332080"/>
            <a:ext cx="17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thusiastic Beginne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4870440" y="2332080"/>
            <a:ext cx="17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3c59"/>
                </a:solidFill>
                <a:latin typeface="Arial"/>
              </a:rPr>
              <a:t>Disillusioned Learne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2965320" y="2332080"/>
            <a:ext cx="17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3c59"/>
                </a:solidFill>
                <a:latin typeface="Arial"/>
              </a:rPr>
              <a:t>Capable Performe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1060560" y="2332080"/>
            <a:ext cx="17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lf-Reliant Achieve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7280280" y="11970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13c59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5551560" y="11970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13c59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3557880" y="11970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13c59"/>
                </a:solidFill>
                <a:latin typeface="Arial"/>
              </a:rPr>
              <a:t>P3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2" name="Text Box 34"/>
          <p:cNvSpPr/>
          <p:nvPr/>
        </p:nvSpPr>
        <p:spPr>
          <a:xfrm>
            <a:off x="1697400" y="12682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13c59"/>
                </a:solidFill>
                <a:latin typeface="Arial"/>
              </a:rPr>
              <a:t>P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6672240"/>
            <a:ext cx="9144000" cy="18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2"/>
          <a:stretch/>
        </p:blipFill>
        <p:spPr>
          <a:xfrm>
            <a:off x="4572000" y="6467400"/>
            <a:ext cx="2162160" cy="390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0" y="6467400"/>
            <a:ext cx="4572000" cy="390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4"/>
          <a:stretch/>
        </p:blipFill>
        <p:spPr>
          <a:xfrm>
            <a:off x="8317080" y="6483240"/>
            <a:ext cx="826920" cy="37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3096-94A5-49D9-AA1B-9F75BEDB65A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3657600" y="3048120"/>
            <a:ext cx="685800" cy="1066680"/>
          </a:xfrm>
          <a:prstGeom prst="rtTriangle">
            <a:avLst/>
          </a:prstGeom>
          <a:solidFill>
            <a:srgbClr val="0b6b2a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27244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136f0"/>
                </a:solidFill>
                <a:latin typeface="Arial"/>
              </a:rPr>
              <a:t>Economic  indicator of effective leading</a:t>
            </a:r>
            <a:endParaRPr b="0" lang="en-US" sz="24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3311640" y="2703600"/>
            <a:ext cx="0" cy="2598480"/>
          </a:xfrm>
          <a:prstGeom prst="line">
            <a:avLst/>
          </a:prstGeom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 rot="16200000">
            <a:off x="1213920" y="3562560"/>
            <a:ext cx="223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3c59"/>
                </a:solidFill>
                <a:latin typeface="Arial"/>
              </a:rPr>
              <a:t>Economic effect for  firm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895480" y="33656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c59"/>
                </a:solidFill>
                <a:latin typeface="Arial"/>
              </a:rPr>
              <a:t>(+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903400" y="461808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c59"/>
                </a:solidFill>
                <a:latin typeface="Arial"/>
              </a:rPr>
              <a:t>(-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3935520" y="4997520"/>
            <a:ext cx="2554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13c59"/>
                </a:solidFill>
                <a:latin typeface="Arial"/>
              </a:rPr>
              <a:t>Maturity level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3001320" y="3998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3c5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5" name="Arc 10"/>
          <p:cNvSpPr/>
          <p:nvPr/>
        </p:nvSpPr>
        <p:spPr>
          <a:xfrm>
            <a:off x="3657600" y="2779560"/>
            <a:ext cx="2662200" cy="1765440"/>
          </a:xfrm>
          <a:custGeom>
            <a:avLst/>
            <a:gdLst>
              <a:gd name="textAreaLeft" fmla="*/ 0 w 2662200"/>
              <a:gd name="textAreaRight" fmla="*/ 2662560 w 2662200"/>
              <a:gd name="textAreaTop" fmla="*/ 0 h 1765440"/>
              <a:gd name="textAreaBottom" fmla="*/ 1765800 h 1765440"/>
            </a:gdLst>
            <a:ahLst/>
            <a:rect l="textAreaLeft" t="textAreaTop" r="textAreaRight" b="textAreaBottom"/>
            <a:pathLst>
              <a:path fill="none" w="21805" h="21695">
                <a:moveTo>
                  <a:pt x="21805" y="21694"/>
                </a:moveTo>
                <a:cubicBezTo>
                  <a:pt x="21736" y="21694"/>
                  <a:pt x="21668" y="21694"/>
                  <a:pt x="21600" y="21695"/>
                </a:cubicBezTo>
                <a:cubicBezTo>
                  <a:pt x="9670" y="21695"/>
                  <a:pt x="0" y="12024"/>
                  <a:pt x="0" y="95"/>
                </a:cubicBezTo>
                <a:cubicBezTo>
                  <a:pt x="-1" y="63"/>
                  <a:pt x="0" y="31"/>
                  <a:pt x="0" y="0"/>
                </a:cubicBezTo>
              </a:path>
              <a:path stroke="0" w="21805" h="21695">
                <a:moveTo>
                  <a:pt x="21805" y="21694"/>
                </a:moveTo>
                <a:cubicBezTo>
                  <a:pt x="21736" y="21694"/>
                  <a:pt x="21668" y="21694"/>
                  <a:pt x="21600" y="21695"/>
                </a:cubicBezTo>
                <a:cubicBezTo>
                  <a:pt x="9670" y="21695"/>
                  <a:pt x="0" y="12024"/>
                  <a:pt x="0" y="95"/>
                </a:cubicBezTo>
                <a:cubicBezTo>
                  <a:pt x="-1" y="63"/>
                  <a:pt x="0" y="31"/>
                  <a:pt x="0" y="0"/>
                </a:cubicBezTo>
                <a:lnTo>
                  <a:pt x="21600" y="95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5867280" y="4363920"/>
            <a:ext cx="37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5105520" y="4227480"/>
            <a:ext cx="36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3516480" y="2879640"/>
            <a:ext cx="369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4191120" y="3886200"/>
            <a:ext cx="38088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60" name="Group 15"/>
          <p:cNvGrpSpPr/>
          <p:nvPr/>
        </p:nvGrpSpPr>
        <p:grpSpPr>
          <a:xfrm>
            <a:off x="3349800" y="3809880"/>
            <a:ext cx="2928600" cy="468360"/>
            <a:chOff x="3349800" y="3809880"/>
            <a:chExt cx="2928600" cy="468360"/>
          </a:xfrm>
        </p:grpSpPr>
        <p:sp>
          <p:nvSpPr>
            <p:cNvPr id="161" name="Line 16"/>
            <p:cNvSpPr/>
            <p:nvPr/>
          </p:nvSpPr>
          <p:spPr>
            <a:xfrm>
              <a:off x="3349800" y="4118400"/>
              <a:ext cx="2865960" cy="0"/>
            </a:xfrm>
            <a:prstGeom prst="line">
              <a:avLst/>
            </a:prstGeom>
            <a:ln w="12600">
              <a:solidFill>
                <a:srgbClr val="013c5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2" name="Line 17"/>
            <p:cNvSpPr/>
            <p:nvPr/>
          </p:nvSpPr>
          <p:spPr>
            <a:xfrm>
              <a:off x="4035240" y="3958560"/>
              <a:ext cx="0" cy="319680"/>
            </a:xfrm>
            <a:prstGeom prst="line">
              <a:avLst/>
            </a:prstGeom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3" name="Line 18"/>
            <p:cNvSpPr/>
            <p:nvPr/>
          </p:nvSpPr>
          <p:spPr>
            <a:xfrm>
              <a:off x="4844880" y="3958560"/>
              <a:ext cx="0" cy="319680"/>
            </a:xfrm>
            <a:prstGeom prst="line">
              <a:avLst/>
            </a:prstGeom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5592600" y="3958560"/>
              <a:ext cx="0" cy="319680"/>
            </a:xfrm>
            <a:prstGeom prst="line">
              <a:avLst/>
            </a:prstGeom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5" name="Line 20"/>
            <p:cNvSpPr/>
            <p:nvPr/>
          </p:nvSpPr>
          <p:spPr>
            <a:xfrm>
              <a:off x="6278400" y="3958560"/>
              <a:ext cx="0" cy="319680"/>
            </a:xfrm>
            <a:prstGeom prst="line">
              <a:avLst/>
            </a:prstGeom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490200" y="3809880"/>
              <a:ext cx="498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3c59"/>
                  </a:solidFill>
                  <a:latin typeface="Arial"/>
                </a:rPr>
                <a:t>D4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4298760" y="3809880"/>
              <a:ext cx="498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3c59"/>
                  </a:solidFill>
                  <a:latin typeface="Arial"/>
                </a:rPr>
                <a:t>D3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8" name="Rectangle 23"/>
            <p:cNvSpPr/>
            <p:nvPr/>
          </p:nvSpPr>
          <p:spPr>
            <a:xfrm>
              <a:off x="5108760" y="3809880"/>
              <a:ext cx="498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3c59"/>
                  </a:solidFill>
                  <a:latin typeface="Arial"/>
                </a:rPr>
                <a:t>D2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9" name="Rectangle 24"/>
            <p:cNvSpPr/>
            <p:nvPr/>
          </p:nvSpPr>
          <p:spPr>
            <a:xfrm>
              <a:off x="5734440" y="3809880"/>
              <a:ext cx="495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3c59"/>
                  </a:solidFill>
                  <a:latin typeface="Arial"/>
                </a:rPr>
                <a:t>D1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170" name="Rectangle 25"/>
          <p:cNvSpPr/>
          <p:nvPr/>
        </p:nvSpPr>
        <p:spPr>
          <a:xfrm>
            <a:off x="4049640" y="3693960"/>
            <a:ext cx="37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559116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8317080" y="6483240"/>
            <a:ext cx="826920" cy="37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B44E-6815-4E93-918C-49BD25FB1E5C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0"/>
          <p:cNvSpPr/>
          <p:nvPr/>
        </p:nvSpPr>
        <p:spPr>
          <a:xfrm>
            <a:off x="2340000" y="2276640"/>
            <a:ext cx="4249800" cy="2956680"/>
          </a:xfrm>
          <a:prstGeom prst="rect">
            <a:avLst/>
          </a:prstGeom>
          <a:solidFill>
            <a:srgbClr val="ff0000"/>
          </a:solidFill>
          <a:ln w="2844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Enthusiastic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Binne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Low Competenc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High Commitment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_____._____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New to the task or goal, inexperienced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Eager to learn, willing to take direction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Enthusiastic, excited, optimistic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Don’t know what they don’t know, so they may do the wrong thing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Confidence based on hopes and transferable skills, not reality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395280" y="47628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136f0"/>
                </a:solidFill>
                <a:latin typeface="Arial"/>
              </a:rPr>
              <a:t>Level of personal maturity - Characteristic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8317080" y="6483240"/>
            <a:ext cx="826920" cy="37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A2E54-FDA7-47F6-907D-4B17416FD7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2268360" y="2205000"/>
            <a:ext cx="4751640" cy="3056040"/>
          </a:xfrm>
          <a:prstGeom prst="rect">
            <a:avLst/>
          </a:prstGeom>
          <a:solidFill>
            <a:srgbClr val="ff6600"/>
          </a:solidFill>
          <a:ln w="2844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Disillusioned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Learne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Low to some Competenc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Low Commitment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_____._____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Has some knowledge and skill, not competent yet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Frustrated, may be ready to quit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Discouraged, overwhelmed, confused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Developing and learning, needs reassurance that mistakes are part of the learning process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Unreliable, inconsistent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1"/>
          <p:cNvSpPr/>
          <p:nvPr/>
        </p:nvSpPr>
        <p:spPr>
          <a:xfrm>
            <a:off x="395280" y="34128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136f0"/>
                </a:solidFill>
                <a:latin typeface="Arial"/>
              </a:rPr>
              <a:t>Level of personal maturity - Characteristic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2"/>
          <a:stretch/>
        </p:blipFill>
        <p:spPr>
          <a:xfrm>
            <a:off x="8317080" y="6483240"/>
            <a:ext cx="826920" cy="37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EB77-CC95-4753-BC59-542A758D84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2268360" y="2276640"/>
            <a:ext cx="4859640" cy="2713320"/>
          </a:xfrm>
          <a:prstGeom prst="rect">
            <a:avLst/>
          </a:prstGeom>
          <a:solidFill>
            <a:srgbClr val="ffff00"/>
          </a:solidFill>
          <a:ln w="2844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3300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00"/>
                </a:solidFill>
                <a:latin typeface="Arial"/>
              </a:rPr>
              <a:t>Capable, but cautious, performe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Moderate to High Competenc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Variable Commitment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_____._____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Is generally self-directed,  but needs opportunities to test ideas with others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Sometimes hesitant, unsure, tentative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Not always confident, self-critical, may need help in looking at skills objectively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May be bored with goal or task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00"/>
                </a:solidFill>
                <a:latin typeface="Arial"/>
              </a:rPr>
              <a:t>Makes productive contributions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1"/>
          <p:cNvSpPr/>
          <p:nvPr/>
        </p:nvSpPr>
        <p:spPr>
          <a:xfrm>
            <a:off x="395280" y="34128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136f0"/>
                </a:solidFill>
                <a:latin typeface="Arial"/>
              </a:rPr>
              <a:t>Level of personal maturity - Characteristic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2"/>
          <a:stretch/>
        </p:blipFill>
        <p:spPr>
          <a:xfrm>
            <a:off x="8317080" y="6483240"/>
            <a:ext cx="826920" cy="37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9E51-1B30-4832-B1F5-4D9A335D79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2124000" y="2205000"/>
            <a:ext cx="5222880" cy="3157560"/>
          </a:xfrm>
          <a:prstGeom prst="rect">
            <a:avLst/>
          </a:prstGeom>
          <a:solidFill>
            <a:srgbClr val="008000"/>
          </a:solidFill>
          <a:ln w="2844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D4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lf-Reliant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chieve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igh Competenc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igh Commitment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_____._____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Recognised by others as an expert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Consistently competent, justifiably confident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Trust own ability to work independently, self-assured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Inspired, inspires others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Arial"/>
              </a:rPr>
              <a:t>Proactive, may be asked to do too much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1"/>
          <p:cNvSpPr/>
          <p:nvPr/>
        </p:nvSpPr>
        <p:spPr>
          <a:xfrm>
            <a:off x="395280" y="34128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136f0"/>
                </a:solidFill>
                <a:latin typeface="Arial"/>
              </a:rPr>
              <a:t>Level of personal maturity - Characteristic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8317080" y="6483240"/>
            <a:ext cx="826920" cy="37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F5C6C-A2C0-4E19-AFA2-518AED0CEA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5:18:11Z</dcterms:modified>
  <cp:revision>770</cp:revision>
  <dc:subject/>
  <dc:title>Euro Crafts 21</dc:title>
</cp:coreProperties>
</file>