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AA015-56B9-47D5-BF2A-FED1E9E65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16C1E-DF19-40E2-A099-BA74556FB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A4060-1D11-4033-AE22-A971C53ED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61229-3969-417E-8D5D-A6546E1F0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98415-F38A-4DE1-842C-DAA02F424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954AC-20DF-40F1-8EC4-96CF5678F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09658-8F74-46B8-8F37-13B6346B6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D7664-B635-4DFC-B238-87F2969AE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BFE0A-BD0C-4A33-B402-38939865C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ECB75-E7A4-41A7-83B8-FCB85F88A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27D9A-3673-47AB-AB95-75C44F6E5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AE416-3955-4104-9318-8B0790459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3DF54A97-DCF7-4BBF-BCBC-AAEEA56CF4E1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Projekt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Euro Crafts 21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5815"/>
                </a:solidFill>
                <a:latin typeface="Arial"/>
              </a:rPr>
              <a:t>Situation leadership</a:t>
            </a:r>
            <a:r>
              <a:rPr b="1" lang="sk-SK" sz="2800" spc="-1" strike="noStrike">
                <a:solidFill>
                  <a:srgbClr val="fe5815"/>
                </a:solidFill>
                <a:latin typeface="Arial"/>
              </a:rPr>
              <a:t> II</a:t>
            </a:r>
            <a:r>
              <a:rPr b="1" lang="en-GB" sz="2800" spc="-1" strike="noStrike">
                <a:solidFill>
                  <a:srgbClr val="fe581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5815"/>
                </a:solidFill>
                <a:latin typeface="Arial"/>
              </a:rPr>
              <a:t>Ongoing improvement process HR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35120" y="3494160"/>
            <a:ext cx="5842080" cy="2022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11640" y="3494160"/>
            <a:ext cx="3529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62440" y="5424480"/>
            <a:ext cx="31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(</a:t>
            </a:r>
            <a:r>
              <a:rPr b="0" lang="sk-SK" sz="1400" spc="-1" strike="noStrike">
                <a:solidFill>
                  <a:srgbClr val="013c59"/>
                </a:solidFill>
                <a:latin typeface="Arial"/>
              </a:rPr>
              <a:t>č. projektu</a:t>
            </a: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: LLP-LDV/TOI-08-AT-0015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A4541-CCB4-4E02-97F0-98316D4B51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94120" y="1844640"/>
            <a:ext cx="564444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13c59"/>
                </a:solidFill>
                <a:latin typeface="Arial"/>
              </a:rPr>
              <a:t>Within framework of all four leader styles:</a:t>
            </a:r>
            <a:br>
              <a:rPr sz="1800"/>
            </a:b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457200" indent="-457200">
              <a:buClr>
                <a:srgbClr val="9294b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13c59"/>
                </a:solidFill>
                <a:latin typeface="Arial"/>
              </a:rPr>
              <a:t>It clarifies the expectations and objectiv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457200" indent="-457200">
              <a:buClr>
                <a:srgbClr val="9294b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13c59"/>
                </a:solidFill>
                <a:latin typeface="Arial"/>
              </a:rPr>
              <a:t>Monitors - monitor performanc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457200" indent="-457200">
              <a:buClr>
                <a:srgbClr val="9294b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13c59"/>
                </a:solidFill>
                <a:latin typeface="Arial"/>
              </a:rPr>
              <a:t>Provides feedback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92" name="Šípka dolu 5"/>
          <p:cNvSpPr/>
          <p:nvPr/>
        </p:nvSpPr>
        <p:spPr>
          <a:xfrm>
            <a:off x="3130560" y="378936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efe8d1"/>
          </a:solidFill>
          <a:ln w="9360">
            <a:solidFill>
              <a:srgbClr val="013c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3" name="Obdĺžnik 6"/>
          <p:cNvSpPr/>
          <p:nvPr/>
        </p:nvSpPr>
        <p:spPr>
          <a:xfrm>
            <a:off x="1543320" y="523080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Ongoing improvement proces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4" name="Nadpis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136f0"/>
                </a:solidFill>
                <a:latin typeface="Arial"/>
              </a:rPr>
              <a:t>Ongoing improvement process in HR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7A2D4-B60D-4B00-B3C7-CA0BEAC9E6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136f0"/>
                </a:solidFill>
                <a:latin typeface="Arial"/>
              </a:rPr>
              <a:t>Ongoing improvement process in HR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2814480"/>
            <a:ext cx="46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Partnership for performance, the third skill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of 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situational leader is to reach an agreement with individuals on their level of development and the leadership style that will help them achieve individual and organizational goals.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300BC-939C-41F5-8D18-B6C8E9AA06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00000" y="980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larify expectations and goals</a:t>
            </a:r>
            <a:r>
              <a:rPr b="0" lang="cs-CZ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2" name="BlokTextu 7"/>
          <p:cNvSpPr/>
          <p:nvPr/>
        </p:nvSpPr>
        <p:spPr>
          <a:xfrm>
            <a:off x="826920" y="2708280"/>
            <a:ext cx="703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establish individual goals, „detail specification 'business objectiv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 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number of goals: 3-5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 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S M A R T!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 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presentation of a mutual agreement to fulfil the objectives of the joint meeting (Which can be exploited elements "SL "...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 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also need writing!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3F968-AC63-4A0E-80C5-969BA1AA7E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00000" y="907920"/>
            <a:ext cx="6400800" cy="6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Monitoring - Monitoring Performance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6" name="BlokTextu 7"/>
          <p:cNvSpPr/>
          <p:nvPr/>
        </p:nvSpPr>
        <p:spPr>
          <a:xfrm>
            <a:off x="900000" y="2565360"/>
            <a:ext cx="703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regular joint review of individual targets</a:t>
            </a:r>
            <a:br>
              <a:rPr sz="1800"/>
            </a:b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 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frequency: min. 1x per 3 months - short informal meeting</a:t>
            </a:r>
            <a:br>
              <a:rPr sz="1800"/>
            </a:b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 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review of the rule S M A R T</a:t>
            </a:r>
            <a:br>
              <a:rPr sz="1800"/>
            </a:b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 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mutual agreement on a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next steps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in meeting the objectives</a:t>
            </a:r>
            <a:br>
              <a:rPr sz="1800"/>
            </a:b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 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recommendation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writing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form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- the more important points of this meeting!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F52C0-D611-416A-A66B-E7F95FBE69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00000" y="907920"/>
            <a:ext cx="6400800" cy="6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Feedback“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0" name="BlokTextu 7"/>
          <p:cNvSpPr/>
          <p:nvPr/>
        </p:nvSpPr>
        <p:spPr>
          <a:xfrm>
            <a:off x="900000" y="2133720"/>
            <a:ext cx="7567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regular joint review / evaluation of individual targets (Y / N)</a:t>
            </a:r>
            <a:br>
              <a:rPr sz="1800"/>
            </a:b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frequency: min. 1x per 6 months (surely 1x a year!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 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reasons for the success (failure) in achieving individual goal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 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mutual agreement on a next steps in meeting the objectives - for a further period</a:t>
            </a:r>
            <a:br>
              <a:rPr sz="1800"/>
            </a:b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PERSONAL DEVELOPMENT PLAN&gt;&gt;&gt; process of constant development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n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eeded to be writing!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4A551-BD26-4D39-A11F-457F890A34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Zástupný symbol päty 1"/>
          <p:cNvSpPr/>
          <p:nvPr/>
        </p:nvSpPr>
        <p:spPr>
          <a:xfrm>
            <a:off x="12852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September 2004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112" name="Object 0"/>
          <p:cNvGraphicFramePr/>
          <p:nvPr/>
        </p:nvGraphicFramePr>
        <p:xfrm>
          <a:off x="468360" y="189000"/>
          <a:ext cx="8088120" cy="638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9000"/>
                    <a:ext cx="8088120" cy="63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20A6E-B39E-45E2-AF02-765FB4D14A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47680" y="5257800"/>
            <a:ext cx="7454880" cy="1600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85400"/>
            <a:ext cx="7521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5136f0"/>
                </a:solidFill>
                <a:latin typeface="Arial"/>
              </a:rPr>
              <a:t>MOTTO 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2049480" y="1631520"/>
            <a:ext cx="51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00"/>
                </a:solidFill>
                <a:latin typeface="Comic Sans MS"/>
              </a:rPr>
              <a:t>What you tell me, I forgot it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00"/>
                </a:solidFill>
                <a:latin typeface="Comic Sans MS"/>
              </a:rPr>
              <a:t>What you show me, I do not remember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00"/>
                </a:solidFill>
                <a:latin typeface="Comic Sans MS"/>
                <a:ea typeface="Lucida Sans Unicode"/>
              </a:rPr>
              <a:t>What you let me do, I understand it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18" name="obrázky1" descr=""/>
          <p:cNvPicPr/>
          <p:nvPr/>
        </p:nvPicPr>
        <p:blipFill>
          <a:blip r:embed="rId3"/>
          <a:stretch/>
        </p:blipFill>
        <p:spPr>
          <a:xfrm>
            <a:off x="3130560" y="3068640"/>
            <a:ext cx="1441440" cy="2513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608040" y="5653800"/>
            <a:ext cx="648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800000"/>
                </a:solidFill>
                <a:latin typeface="Comic Sans MS"/>
              </a:rPr>
              <a:t>Konfucius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3c59"/>
                </a:solidFill>
                <a:latin typeface="Arial"/>
              </a:rPr>
              <a:t>Chinese philosopher, founder of Confucianism</a:t>
            </a:r>
            <a:br>
              <a:rPr sz="1000"/>
            </a:br>
            <a:r>
              <a:rPr b="0" lang="en-GB" sz="1000" spc="-1" strike="noStrike">
                <a:solidFill>
                  <a:srgbClr val="013c59"/>
                </a:solidFill>
                <a:latin typeface="Arial"/>
              </a:rPr>
              <a:t>* 551 before </a:t>
            </a:r>
            <a:r>
              <a:rPr b="0" lang="sk-SK" sz="1000" spc="-1" strike="noStrike">
                <a:solidFill>
                  <a:srgbClr val="013c59"/>
                </a:solidFill>
                <a:latin typeface="Arial"/>
              </a:rPr>
              <a:t>CH</a:t>
            </a:r>
            <a:r>
              <a:rPr b="0" lang="en-GB" sz="1000" spc="-1" strike="noStrike">
                <a:solidFill>
                  <a:srgbClr val="013c59"/>
                </a:solidFill>
                <a:latin typeface="Arial"/>
              </a:rPr>
              <a:t>. Chu-fu - t 479 before </a:t>
            </a:r>
            <a:r>
              <a:rPr b="0" lang="sk-SK" sz="1000" spc="-1" strike="noStrike">
                <a:solidFill>
                  <a:srgbClr val="013c59"/>
                </a:solidFill>
                <a:latin typeface="Arial"/>
              </a:rPr>
              <a:t>Ch</a:t>
            </a:r>
            <a:r>
              <a:rPr b="0" lang="en-GB" sz="1000" spc="-1" strike="noStrike">
                <a:solidFill>
                  <a:srgbClr val="013c59"/>
                </a:solidFill>
                <a:latin typeface="Arial"/>
              </a:rPr>
              <a:t>. Chu-fu 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CC858-45A0-4F8D-8C21-BC9858AFB3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ank you for attention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771560"/>
            <a:ext cx="66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e5815"/>
                </a:solidFill>
                <a:uFillTx/>
                <a:latin typeface="Arial"/>
              </a:rPr>
              <a:t>http://www.eurocrafts21.eu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Contact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Trenčin  Regional Chamber of SCCI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Jilemnického 10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Phone: 032-6525797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E-Mail: </a:t>
            </a:r>
            <a:r>
              <a:rPr b="0" lang="en-GB" sz="1800" spc="-1" strike="noStrike" u="sng">
                <a:solidFill>
                  <a:srgbClr val="0066ff"/>
                </a:solidFill>
                <a:uFillTx/>
                <a:latin typeface="Arial"/>
              </a:rPr>
              <a:t>sopkrktn@sopk.s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Internet: </a:t>
            </a:r>
            <a:r>
              <a:rPr b="0" lang="en-GB" sz="1800" spc="-1" strike="noStrike" u="sng">
                <a:solidFill>
                  <a:srgbClr val="0066ff"/>
                </a:solidFill>
                <a:uFillTx/>
                <a:latin typeface="Arial"/>
              </a:rPr>
              <a:t>www.komora.nam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85720" y="1878120"/>
            <a:ext cx="2313000" cy="1538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987640" y="306864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e5815"/>
                </a:solidFill>
                <a:latin typeface="Arial"/>
              </a:rPr>
              <a:t>Jozef Rapant, </a:t>
            </a:r>
            <a:r>
              <a:rPr b="1" lang="sk-SK" sz="2400" spc="-1" strike="noStrike" u="sng">
                <a:solidFill>
                  <a:srgbClr val="fe5815"/>
                </a:solidFill>
                <a:uFillTx/>
                <a:latin typeface="Arial"/>
              </a:rPr>
              <a:t>www.lifehelp.s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2124000" cy="961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003640" y="4869000"/>
            <a:ext cx="2629080" cy="113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A6DF0-A2AA-4178-81A9-815A9C13B8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0T15:18:02Z</dcterms:modified>
  <cp:revision>770</cp:revision>
  <dc:subject/>
  <dc:title>Euro Crafts 21</dc:title>
</cp:coreProperties>
</file>