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D44E-C3CA-420B-9D82-8AE0AA36B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DCE2-FABA-41EE-B4BF-F90F676A7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7EE4-98A9-4494-B802-39492CFA8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194C-9181-40CD-B3FD-EE996A2E4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C8E5-221F-4F6A-AD2F-7BD4C6979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7635A-C8F9-480C-A012-D0DB92CD4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BF23-7453-4FFF-BCED-83D41B7FB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70CC-B400-46C4-B609-FF85E45CDE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811D-61EF-4885-BBB8-AAA51812C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E6DA-989E-4389-A309-6D4BDC40F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1145-9B7B-4B98-8D5C-C65758B26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0EF9-08A5-488E-B71B-F8C07D99C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76759857-C555-48A0-AF8E-D748B8018C02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5815"/>
                </a:solidFill>
                <a:latin typeface="Arial"/>
              </a:rPr>
              <a:t>Situation leadership</a:t>
            </a:r>
            <a:r>
              <a:rPr b="1" lang="sk-SK" sz="2800" spc="-1" strike="noStrike">
                <a:solidFill>
                  <a:srgbClr val="fe5815"/>
                </a:solidFill>
                <a:latin typeface="Arial"/>
              </a:rPr>
              <a:t> II</a:t>
            </a:r>
            <a:r>
              <a:rPr b="1" lang="en-GB" sz="2800" spc="-1" strike="noStrike">
                <a:solidFill>
                  <a:srgbClr val="fe5815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5815"/>
                </a:solidFill>
                <a:latin typeface="Arial"/>
              </a:rPr>
              <a:t>Ongoing improvement process HR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8B29-BA10-4FE7-A78A-1F1D2E7565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194120" y="1844640"/>
            <a:ext cx="564444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3c59"/>
                </a:solidFill>
                <a:latin typeface="Arial"/>
              </a:rPr>
              <a:t>Within framework of all four leader styles:</a:t>
            </a:r>
            <a:br>
              <a:rPr sz="1800"/>
            </a:b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3c59"/>
                </a:solidFill>
                <a:latin typeface="Arial"/>
              </a:rPr>
              <a:t>It clarifies the expectations and objectiv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3c59"/>
                </a:solidFill>
                <a:latin typeface="Arial"/>
              </a:rPr>
              <a:t>Monitors - monitor performanc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3c59"/>
                </a:solidFill>
                <a:latin typeface="Arial"/>
              </a:rPr>
              <a:t>Provides feedback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92" name="Šípka dolu 5"/>
          <p:cNvSpPr/>
          <p:nvPr/>
        </p:nvSpPr>
        <p:spPr>
          <a:xfrm>
            <a:off x="3130560" y="37893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efe8d1"/>
          </a:solidFill>
          <a:ln w="9360">
            <a:solidFill>
              <a:srgbClr val="013c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Obdĺžnik 6"/>
          <p:cNvSpPr/>
          <p:nvPr/>
        </p:nvSpPr>
        <p:spPr>
          <a:xfrm>
            <a:off x="1543320" y="52308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Ongoing improvement proces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4" name="Nadpis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Ongoing improvement process in HR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5402-C946-41AD-AE77-A585D532B5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Ongoing improvement process in HR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281448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artnership for performance, the third skill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of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ituational leader is to reach an agreement with individuals on their level of development and the leadership style that will help them achieve individual and organizational goals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CFC6-1BB2-425A-9B91-C05B59907E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00000" y="980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arify expectations and goals</a:t>
            </a:r>
            <a:r>
              <a:rPr b="0" lang="cs-CZ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BlokTextu 7"/>
          <p:cNvSpPr/>
          <p:nvPr/>
        </p:nvSpPr>
        <p:spPr>
          <a:xfrm>
            <a:off x="826920" y="2708280"/>
            <a:ext cx="703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stablish individual goals, „detail specification 'business objective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number of goals: 3-5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 M A R T!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resentation of a mutual agreement to fulfil the objectives of the joint meeting (Which can be exploited elements "SL "...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also need writing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9B2C-EFEA-428E-A6B2-34953CC74B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00000" y="90792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Monitoring - Monitoring Performance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6" name="BlokTextu 7"/>
          <p:cNvSpPr/>
          <p:nvPr/>
        </p:nvSpPr>
        <p:spPr>
          <a:xfrm>
            <a:off x="900000" y="2565360"/>
            <a:ext cx="703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regular joint review of individual targets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frequency: min. 1x per 3 months - short informal meeting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review of the rule S M A R T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mutual agreement on a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ext steps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in meeting the objectives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recommendation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of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writing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form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- the more important points of this meeting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032B-A153-417F-A81C-BFAB3EA70E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00000" y="90792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Feedback“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0" name="BlokTextu 7"/>
          <p:cNvSpPr/>
          <p:nvPr/>
        </p:nvSpPr>
        <p:spPr>
          <a:xfrm>
            <a:off x="900000" y="2133720"/>
            <a:ext cx="7567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regular joint review / evaluation of individual targets (Y / N)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frequency: min. 1x per 6 months (surely 1x a year!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reasons for the success (failure) in achieving individual goal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 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mutual agreement on a next steps in meeting the objectives - for a further period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ERSONAL DEVELOPMENT PLAN&gt;&gt;&gt; process of constant development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eded to be writing!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5D2E-B096-4703-B0F2-83BC5E678A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Zástupný symbol päty 1"/>
          <p:cNvSpPr/>
          <p:nvPr/>
        </p:nvSpPr>
        <p:spPr>
          <a:xfrm>
            <a:off x="12852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September 2004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12" name="Object 0"/>
          <p:cNvGraphicFramePr/>
          <p:nvPr/>
        </p:nvGraphicFramePr>
        <p:xfrm>
          <a:off x="468360" y="189000"/>
          <a:ext cx="808812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808812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F0A0-FEA2-446B-9EF4-66ECFCB8A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47680" y="5257800"/>
            <a:ext cx="745488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7521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MOTTO 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2049480" y="1631520"/>
            <a:ext cx="51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00"/>
                </a:solidFill>
                <a:latin typeface="Comic Sans MS"/>
              </a:rPr>
              <a:t>What you tell me, I forgot it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00"/>
                </a:solidFill>
                <a:latin typeface="Comic Sans MS"/>
              </a:rPr>
              <a:t>What you show me, I do not remember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800000"/>
                </a:solidFill>
                <a:latin typeface="Comic Sans MS"/>
                <a:ea typeface="Lucida Sans Unicode"/>
              </a:rPr>
              <a:t>What you let me do, I understand i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18" name="obrázky1" descr=""/>
          <p:cNvPicPr/>
          <p:nvPr/>
        </p:nvPicPr>
        <p:blipFill>
          <a:blip r:embed="rId3"/>
          <a:stretch/>
        </p:blipFill>
        <p:spPr>
          <a:xfrm>
            <a:off x="3130560" y="3068640"/>
            <a:ext cx="1441440" cy="2513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608040" y="5653800"/>
            <a:ext cx="6486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800000"/>
                </a:solidFill>
                <a:latin typeface="Comic Sans MS"/>
              </a:rPr>
              <a:t>Konfucius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3c59"/>
                </a:solidFill>
                <a:latin typeface="Arial"/>
              </a:rPr>
              <a:t>Chinese philosopher, founder of Confucianism</a:t>
            </a:r>
            <a:br>
              <a:rPr sz="1000"/>
            </a:br>
            <a:r>
              <a:rPr b="0" lang="en-GB" sz="1000" spc="-1" strike="noStrike">
                <a:solidFill>
                  <a:srgbClr val="013c59"/>
                </a:solidFill>
                <a:latin typeface="Arial"/>
              </a:rPr>
              <a:t>* 551 before </a:t>
            </a: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CH</a:t>
            </a:r>
            <a:r>
              <a:rPr b="0" lang="en-GB" sz="1000" spc="-1" strike="noStrike">
                <a:solidFill>
                  <a:srgbClr val="013c59"/>
                </a:solidFill>
                <a:latin typeface="Arial"/>
              </a:rPr>
              <a:t>. Chu-fu - t 479 before </a:t>
            </a:r>
            <a:r>
              <a:rPr b="0" lang="sk-SK" sz="1000" spc="-1" strike="noStrike">
                <a:solidFill>
                  <a:srgbClr val="013c59"/>
                </a:solidFill>
                <a:latin typeface="Arial"/>
              </a:rPr>
              <a:t>Ch</a:t>
            </a:r>
            <a:r>
              <a:rPr b="0" lang="en-GB" sz="1000" spc="-1" strike="noStrike">
                <a:solidFill>
                  <a:srgbClr val="013c59"/>
                </a:solidFill>
                <a:latin typeface="Arial"/>
              </a:rPr>
              <a:t>. Chu-fu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1246-5C5A-4F84-9FB7-31D2081FDE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ank you for attentio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e5815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Contact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Trenčin  Regional Chamber of SCC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hone: 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987640" y="3068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5815"/>
                </a:solidFill>
                <a:latin typeface="Arial"/>
              </a:rPr>
              <a:t>Jozef Rapant, </a:t>
            </a:r>
            <a:r>
              <a:rPr b="1" lang="sk-SK" sz="2400" spc="-1" strike="noStrike" u="sng">
                <a:solidFill>
                  <a:srgbClr val="fe5815"/>
                </a:solidFill>
                <a:uFillTx/>
                <a:latin typeface="Arial"/>
              </a:rPr>
              <a:t>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124000" cy="961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003640" y="486900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17DF-0346-476F-AE3A-6DFF0D7356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5:18:02Z</dcterms:modified>
  <cp:revision>770</cp:revision>
  <dc:subject/>
  <dc:title>Euro Crafts 21</dc:title>
</cp:coreProperties>
</file>