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019040" y="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401904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AA9744-DBAC-4D62-BAE2-036D7CE94C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19400" y="9720360"/>
            <a:ext cx="30783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13C4852-EAE6-4890-99AA-2A30F57A68D3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11000" y="4862520"/>
            <a:ext cx="56768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A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6E950-D1C7-46A5-B490-8DD3BA7DF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78C0-E5C9-49A2-9444-B0A7F29D5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A6F4-EF6B-436A-8644-4D7B4EE5F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7026B-BF9B-448A-901B-7FE6BD05C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06C-1AAC-4469-9A2C-49E28E4748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77A-FAB1-4993-8026-594BAD5C36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8DE-6B94-4FAE-8B37-72BA375CC3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DCA-6B06-477A-951B-2BA29BA4A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1D50-ECCA-48BE-BE16-2C3817E01F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A178-E591-48D8-AFAA-2C0AA114EF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2BE-5A1D-42EC-A5E2-F50EFB2F64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8B159-24C4-4C3B-9AEB-233144BEA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F71-B193-46AB-99C9-C581F52F88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F53-46FC-47B8-BE02-A557F69FD0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A12-CE49-4E22-B57C-351CEB82DE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26CA-4A6D-4A53-84B4-A3E7365024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AA7-BA70-4F9E-8CF2-E43E771B7A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DEAB-741D-4FE1-8DCD-782F4A784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C00DF-7570-453E-9350-8030C0BDB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3C59-2F28-4050-90BF-27F504A61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C8DAE-CDD8-428F-BAC6-58C2456EB6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0821D-AABB-43DE-99E2-5EFF6A89E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E9C3-7493-478E-8D80-6D9A3A5E6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43B9-7713-4255-BBA9-35E9EB839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S14-Tecnologías Limp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403A-7361-43FD-93CB-4376161FFA39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B2EA-1DB5-469A-84C1-67F9C6DC4A88}" type="slidenum">
              <a:rPr b="0" lang="de-AT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14-A1 Environmental Management in companies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hyperlink" Target="http://images.google.es/imgres?imgurl=http://www.engineeredpartsinc.com/images/facility_lg.jpg&amp;imgrefurl=http://www.engineeredpartsinc.com/about.htm&amp;h=1200&amp;w=1924&amp;sz=564&amp;hl=es&amp;start=78&amp;tbnid=NgTgAVryLbaiQM:&amp;tbnh=94&amp;tbnw=150&amp;prev=/images%3Fq%3Dfacility%26start%3D72%26gbv%3D2%26ndsp%3D18%26svnum%3D10%26hl%3Des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images.google.es/imgres?imgurl=http://www.ritetrack.com/sp/images/iso_14001_certificate.jpg&amp;imgrefurl=http://www.ritetrack.com/sp/iso.asp&amp;h=544&amp;w=424&amp;sz=127&amp;hl=es&amp;start=3&amp;um=1&amp;tbnid=tFoYJ26vm-9aPM:&amp;tbnh=150&amp;tbnw=117&amp;prev=/images%3Fq%3Diso%26gbv%3D2%26svnum%3D10%26um%3D1%26hl%3Des" TargetMode="External"/><Relationship Id="rId8" Type="http://schemas.openxmlformats.org/officeDocument/2006/relationships/image" Target="../media/image11.jpeg"/><Relationship Id="rId9" Type="http://schemas.openxmlformats.org/officeDocument/2006/relationships/hyperlink" Target="http://images.google.es/imgres?imgurl=http://www.salica.es/anadirfotos/es/seguridad/23.jpg&amp;imgrefurl=http://www.salica.es/es/seguridad.asp&amp;h=250&amp;w=250&amp;sz=52&amp;hl=es&amp;start=4&amp;um=1&amp;tbnid=MsH61zPMIHDYqM:&amp;tbnh=111&amp;tbnw=111&amp;prev=/images%3Fq%3Dconsumidores%26gbv%3D2%26svnum%3D10%26um%3D1%26hl%3Des" TargetMode="External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hyperlink" Target="http://images.google.es/imgres?imgurl=http://www.fida.es/imagenes/fotos_ciudadviva/fotos_i/bebe_depuradora.jpg&amp;imgrefurl=http://www.fida.es/directorio/reportajes/ciudad_viva/cv_bebe.htm&amp;h=199&amp;w=240&amp;sz=11&amp;hl=es&amp;start=3&amp;um=1&amp;tbnid=kcFUXzcxNMPFbM:&amp;tbnh=91&amp;tbnw=110&amp;prev=/images%3Fq%3Ddepuradora%26gbv%3D2%26svnum%3D10%26um%3D1%26hl%3Des" TargetMode="External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hyperlink" Target="http://images.google.es/imgres?imgurl=http://images.ciao.com/ies/images/products/normal/420/Euro__150420.gif&amp;imgrefurl=http://www.ciao.es/Euro__Opinion_420837&amp;h=258&amp;w=258&amp;sz=2&amp;hl=es&amp;start=23&amp;tbnid=3DeUey1FP1hZUM:&amp;tbnh=112&amp;tbnw=112&amp;prev=/images%3Fq%3Deuro%26start%3D18%26gbv%3D2%26ndsp%3D18%26svnum%3D10%26hl%3Des%26sa%3DN" TargetMode="External"/><Relationship Id="rId16" Type="http://schemas.openxmlformats.org/officeDocument/2006/relationships/image" Target="../media/image16.jpeg"/><Relationship Id="rId17" Type="http://schemas.openxmlformats.org/officeDocument/2006/relationships/hyperlink" Target="http://images.google.es/imgres?imgurl=http://images.ciao.com/ies/images/products/normal/420/Euro__150420.gif&amp;imgrefurl=http://www.ciao.es/Euro__Opinion_420837&amp;h=258&amp;w=258&amp;sz=2&amp;hl=es&amp;start=23&amp;tbnid=3DeUey1FP1hZUM:&amp;tbnh=112&amp;tbnw=112&amp;prev=/images%3Fq%3Deuro%26start%3D18%26gbv%3D2%26ndsp%3D18%26svnum%3D10%26hl%3Des%26sa%3DN" TargetMode="External"/><Relationship Id="rId18" Type="http://schemas.openxmlformats.org/officeDocument/2006/relationships/image" Target="../media/image16.jpeg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82E5-CC54-4617-8786-AD09156A7CC5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0" y="2587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8080"/>
                </a:solidFill>
                <a:latin typeface="Arial"/>
              </a:rPr>
              <a:t>Environmental technologies (ET)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Module S1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Component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08080"/>
                </a:solidFill>
                <a:latin typeface="Arial"/>
              </a:rPr>
              <a:t>S14-A1 </a:t>
            </a:r>
            <a:r>
              <a:rPr b="1" lang="es-ES_tradnl" sz="1800" spc="-1" strike="noStrike">
                <a:solidFill>
                  <a:srgbClr val="808080"/>
                </a:solidFill>
                <a:latin typeface="Arial"/>
              </a:rPr>
              <a:t>Environmental management in compani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5"/>
          <p:cNvSpPr/>
          <p:nvPr/>
        </p:nvSpPr>
        <p:spPr>
          <a:xfrm>
            <a:off x="507960" y="6245280"/>
            <a:ext cx="5727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14-A1 Environmental Management in companies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C651-EFDE-427F-8139-BC3F1A86FF6F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58760" y="1943280"/>
            <a:ext cx="7472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14 Module – Environmental Technologies (ET)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A) Environmental management in compani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B) Eco-innovati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C) Types of E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 D) Management of E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438B-06D1-4557-B96A-6278B5822C70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79320" y="1628640"/>
            <a:ext cx="7996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Component A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13c59"/>
                </a:solidFill>
                <a:latin typeface="Verdana"/>
              </a:rPr>
              <a:t>ENVIRONMENTAL MANAGEMENT IN COMPANIES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219320" y="73656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Activity in the compan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62120" y="3200400"/>
            <a:ext cx="23619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00"/>
                </a:solidFill>
                <a:latin typeface="Verdana"/>
              </a:rPr>
              <a:t>Wate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00"/>
                </a:solidFill>
                <a:latin typeface="Verdana"/>
              </a:rPr>
              <a:t>Energy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00"/>
                </a:solidFill>
                <a:latin typeface="Verdana"/>
              </a:rPr>
              <a:t>Other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3648240" y="609480"/>
            <a:ext cx="4733640" cy="5376960"/>
            <a:chOff x="3648240" y="609480"/>
            <a:chExt cx="4733640" cy="5376960"/>
          </a:xfrm>
        </p:grpSpPr>
        <p:sp>
          <p:nvSpPr>
            <p:cNvPr id="103" name="Text Box 11"/>
            <p:cNvSpPr/>
            <p:nvPr/>
          </p:nvSpPr>
          <p:spPr>
            <a:xfrm>
              <a:off x="5219640" y="5013360"/>
              <a:ext cx="16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13c59"/>
                  </a:solidFill>
                  <a:latin typeface="Verdana"/>
                </a:rPr>
                <a:t>Discharges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graphicFrame>
          <p:nvGraphicFramePr>
            <p:cNvPr id="104" name="Object 2"/>
            <p:cNvGraphicFramePr/>
            <p:nvPr/>
          </p:nvGraphicFramePr>
          <p:xfrm>
            <a:off x="5632560" y="5396040"/>
            <a:ext cx="811080" cy="590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2560" y="5396040"/>
                      <a:ext cx="81108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Text Box 14"/>
            <p:cNvSpPr/>
            <p:nvPr/>
          </p:nvSpPr>
          <p:spPr>
            <a:xfrm>
              <a:off x="3648240" y="5051520"/>
              <a:ext cx="164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13c59"/>
                  </a:solidFill>
                  <a:latin typeface="Verdana"/>
                </a:rPr>
                <a:t>Wastes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graphicFrame>
          <p:nvGraphicFramePr>
            <p:cNvPr id="107" name="Object 3"/>
            <p:cNvGraphicFramePr/>
            <p:nvPr/>
          </p:nvGraphicFramePr>
          <p:xfrm>
            <a:off x="3995640" y="5373720"/>
            <a:ext cx="760680" cy="5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5640" y="5373720"/>
                      <a:ext cx="760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Line 16"/>
            <p:cNvSpPr/>
            <p:nvPr/>
          </p:nvSpPr>
          <p:spPr>
            <a:xfrm flipH="1">
              <a:off x="4859280" y="4365720"/>
              <a:ext cx="433440" cy="503280"/>
            </a:xfrm>
            <a:prstGeom prst="line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grpSp>
          <p:nvGrpSpPr>
            <p:cNvPr id="110" name="Group 39"/>
            <p:cNvGrpSpPr/>
            <p:nvPr/>
          </p:nvGrpSpPr>
          <p:grpSpPr>
            <a:xfrm>
              <a:off x="5486400" y="609480"/>
              <a:ext cx="2895480" cy="1599840"/>
              <a:chOff x="5486400" y="609480"/>
              <a:chExt cx="2895480" cy="1599840"/>
            </a:xfrm>
          </p:grpSpPr>
          <p:grpSp>
            <p:nvGrpSpPr>
              <p:cNvPr id="111" name="Group 25"/>
              <p:cNvGrpSpPr/>
              <p:nvPr/>
            </p:nvGrpSpPr>
            <p:grpSpPr>
              <a:xfrm>
                <a:off x="5486400" y="609480"/>
                <a:ext cx="1981080" cy="1295280"/>
                <a:chOff x="5486400" y="609480"/>
                <a:chExt cx="1981080" cy="1295280"/>
              </a:xfrm>
            </p:grpSpPr>
            <p:sp>
              <p:nvSpPr>
                <p:cNvPr id="112" name="Freeform 26"/>
                <p:cNvSpPr/>
                <p:nvPr/>
              </p:nvSpPr>
              <p:spPr>
                <a:xfrm>
                  <a:off x="5702400" y="761760"/>
                  <a:ext cx="253800" cy="1143000"/>
                </a:xfrm>
                <a:custGeom>
                  <a:avLst/>
                  <a:gdLst>
                    <a:gd name="textAreaLeft" fmla="*/ 0 w 253800"/>
                    <a:gd name="textAreaRight" fmla="*/ 254160 w 253800"/>
                    <a:gd name="textAreaTop" fmla="*/ 0 h 1143000"/>
                    <a:gd name="textAreaBottom" fmla="*/ 1143360 h 1143000"/>
                  </a:gdLst>
                  <a:ahLst/>
                  <a:rect l="textAreaLeft" t="textAreaTop" r="textAreaRight" b="textAreaBottom"/>
                  <a:pathLst>
                    <a:path w="160" h="720">
                      <a:moveTo>
                        <a:pt x="56" y="0"/>
                      </a:moveTo>
                      <a:cubicBezTo>
                        <a:pt x="108" y="52"/>
                        <a:pt x="160" y="104"/>
                        <a:pt x="152" y="144"/>
                      </a:cubicBezTo>
                      <a:cubicBezTo>
                        <a:pt x="144" y="184"/>
                        <a:pt x="16" y="200"/>
                        <a:pt x="8" y="240"/>
                      </a:cubicBezTo>
                      <a:cubicBezTo>
                        <a:pt x="0" y="280"/>
                        <a:pt x="96" y="328"/>
                        <a:pt x="104" y="384"/>
                      </a:cubicBezTo>
                      <a:cubicBezTo>
                        <a:pt x="112" y="440"/>
                        <a:pt x="56" y="520"/>
                        <a:pt x="56" y="576"/>
                      </a:cubicBezTo>
                      <a:cubicBezTo>
                        <a:pt x="56" y="632"/>
                        <a:pt x="96" y="696"/>
                        <a:pt x="104" y="720"/>
                      </a:cubicBezTo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27"/>
                <p:cNvSpPr/>
                <p:nvPr/>
              </p:nvSpPr>
              <p:spPr>
                <a:xfrm>
                  <a:off x="5486400" y="609480"/>
                  <a:ext cx="1981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13c59"/>
                      </a:solidFill>
                      <a:latin typeface="Verdana"/>
                    </a:rPr>
                    <a:t>gases</a:t>
                  </a:r>
                  <a:endParaRPr b="0" lang="en-US" sz="20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28"/>
              <p:cNvGrpSpPr/>
              <p:nvPr/>
            </p:nvGrpSpPr>
            <p:grpSpPr>
              <a:xfrm>
                <a:off x="6172200" y="1371600"/>
                <a:ext cx="2209680" cy="837720"/>
                <a:chOff x="6172200" y="1371600"/>
                <a:chExt cx="2209680" cy="837720"/>
              </a:xfrm>
            </p:grpSpPr>
            <p:sp>
              <p:nvSpPr>
                <p:cNvPr id="115" name="Arc 29"/>
                <p:cNvSpPr/>
                <p:nvPr/>
              </p:nvSpPr>
              <p:spPr>
                <a:xfrm>
                  <a:off x="6172200" y="1752480"/>
                  <a:ext cx="304920" cy="45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6" name="Arc 30"/>
                <p:cNvSpPr/>
                <p:nvPr/>
              </p:nvSpPr>
              <p:spPr>
                <a:xfrm>
                  <a:off x="6400800" y="1599840"/>
                  <a:ext cx="304920" cy="456840"/>
                </a:xfrm>
                <a:custGeom>
                  <a:avLst/>
                  <a:gdLst>
                    <a:gd name="textAreaLeft" fmla="*/ 0 w 304920"/>
                    <a:gd name="textAreaRight" fmla="*/ 305280 w 30492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7" name="Arc 31"/>
                <p:cNvSpPr/>
                <p:nvPr/>
              </p:nvSpPr>
              <p:spPr>
                <a:xfrm>
                  <a:off x="6705720" y="1447560"/>
                  <a:ext cx="304560" cy="456840"/>
                </a:xfrm>
                <a:custGeom>
                  <a:avLst/>
                  <a:gdLst>
                    <a:gd name="textAreaLeft" fmla="*/ 0 w 304560"/>
                    <a:gd name="textAreaRight" fmla="*/ 304920 w 304560"/>
                    <a:gd name="textAreaTop" fmla="*/ 0 h 456840"/>
                    <a:gd name="textAreaBottom" fmla="*/ 457200 h 45684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13c5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  <p:sp>
              <p:nvSpPr>
                <p:cNvPr id="118" name="Text Box 32"/>
                <p:cNvSpPr/>
                <p:nvPr/>
              </p:nvSpPr>
              <p:spPr>
                <a:xfrm>
                  <a:off x="6858000" y="1371600"/>
                  <a:ext cx="1523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70000"/>
                    </a:lnSpc>
                    <a:spcBef>
                      <a:spcPts val="2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13c59"/>
                      </a:solidFill>
                      <a:latin typeface="Verdana"/>
                    </a:rPr>
                    <a:t>noise</a:t>
                  </a:r>
                  <a:endParaRPr b="0" lang="en-US" sz="2000" spc="-1" strike="noStrike">
                    <a:solidFill>
                      <a:srgbClr val="013c5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" name="Line 37"/>
            <p:cNvSpPr/>
            <p:nvPr/>
          </p:nvSpPr>
          <p:spPr>
            <a:xfrm>
              <a:off x="5435640" y="4365720"/>
              <a:ext cx="431640" cy="503280"/>
            </a:xfrm>
            <a:prstGeom prst="line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0" y="1981080"/>
            <a:ext cx="9144000" cy="2286000"/>
            <a:chOff x="0" y="1981080"/>
            <a:chExt cx="9144000" cy="2286000"/>
          </a:xfrm>
        </p:grpSpPr>
        <p:grpSp>
          <p:nvGrpSpPr>
            <p:cNvPr id="121" name="Group 2"/>
            <p:cNvGrpSpPr/>
            <p:nvPr/>
          </p:nvGrpSpPr>
          <p:grpSpPr>
            <a:xfrm>
              <a:off x="6172200" y="3048120"/>
              <a:ext cx="2971800" cy="459720"/>
              <a:chOff x="6172200" y="3048120"/>
              <a:chExt cx="2971800" cy="459720"/>
            </a:xfrm>
          </p:grpSpPr>
          <p:sp>
            <p:nvSpPr>
              <p:cNvPr id="122" name="Text Box 3"/>
              <p:cNvSpPr/>
              <p:nvPr/>
            </p:nvSpPr>
            <p:spPr>
              <a:xfrm>
                <a:off x="7162920" y="30481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cc3300"/>
                    </a:solidFill>
                    <a:latin typeface="Verdana"/>
                  </a:rPr>
                  <a:t>Products</a:t>
                </a:r>
                <a:endParaRPr b="0" lang="en-US" sz="2400" spc="-1" strike="noStrike">
                  <a:solidFill>
                    <a:srgbClr val="013c59"/>
                  </a:solidFill>
                  <a:latin typeface="Arial"/>
                </a:endParaRPr>
              </a:p>
            </p:txBody>
          </p:sp>
          <p:sp>
            <p:nvSpPr>
              <p:cNvPr id="123" name="AutoShape 4"/>
              <p:cNvSpPr/>
              <p:nvPr/>
            </p:nvSpPr>
            <p:spPr>
              <a:xfrm>
                <a:off x="6172200" y="3048120"/>
                <a:ext cx="990720" cy="457200"/>
              </a:xfrm>
              <a:prstGeom prst="rightArrow">
                <a:avLst>
                  <a:gd name="adj1" fmla="val 50000"/>
                  <a:gd name="adj2" fmla="val 54173"/>
                </a:avLst>
              </a:prstGeom>
              <a:solidFill>
                <a:srgbClr val="efe8d1"/>
              </a:solidFill>
              <a:ln w="9360">
                <a:solidFill>
                  <a:srgbClr val="013c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13c59"/>
                  </a:solidFill>
                  <a:latin typeface="Arial"/>
                </a:endParaRPr>
              </a:p>
            </p:txBody>
          </p:sp>
        </p:grpSp>
        <p:sp>
          <p:nvSpPr>
            <p:cNvPr id="124" name="Text Box 6"/>
            <p:cNvSpPr/>
            <p:nvPr/>
          </p:nvSpPr>
          <p:spPr>
            <a:xfrm>
              <a:off x="0" y="289548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e5815"/>
                  </a:solidFill>
                  <a:latin typeface="Verdana"/>
                </a:rPr>
                <a:t>Raw materials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5" name="AutoShape 7"/>
            <p:cNvSpPr/>
            <p:nvPr/>
          </p:nvSpPr>
          <p:spPr>
            <a:xfrm>
              <a:off x="2666880" y="2911320"/>
              <a:ext cx="762120" cy="457200"/>
            </a:xfrm>
            <a:prstGeom prst="rightArrow">
              <a:avLst>
                <a:gd name="adj1" fmla="val 50000"/>
                <a:gd name="adj2" fmla="val 41673"/>
              </a:avLst>
            </a:prstGeom>
            <a:solidFill>
              <a:srgbClr val="efe8d1"/>
            </a:solidFill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Line 17"/>
            <p:cNvSpPr/>
            <p:nvPr/>
          </p:nvSpPr>
          <p:spPr>
            <a:xfrm>
              <a:off x="5638680" y="1981080"/>
              <a:ext cx="457200" cy="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Line 18"/>
            <p:cNvSpPr/>
            <p:nvPr/>
          </p:nvSpPr>
          <p:spPr>
            <a:xfrm>
              <a:off x="6019920" y="1981080"/>
              <a:ext cx="0" cy="228600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Line 19"/>
            <p:cNvSpPr/>
            <p:nvPr/>
          </p:nvSpPr>
          <p:spPr>
            <a:xfrm>
              <a:off x="3733920" y="4267080"/>
              <a:ext cx="2286000" cy="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9" name="Line 20"/>
            <p:cNvSpPr/>
            <p:nvPr/>
          </p:nvSpPr>
          <p:spPr>
            <a:xfrm>
              <a:off x="5638680" y="1981080"/>
              <a:ext cx="0" cy="91440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0" name="Line 21"/>
            <p:cNvSpPr/>
            <p:nvPr/>
          </p:nvSpPr>
          <p:spPr>
            <a:xfrm flipH="1" flipV="1">
              <a:off x="4800600" y="2209320"/>
              <a:ext cx="838080" cy="68580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 flipH="1">
              <a:off x="3657240" y="2209680"/>
              <a:ext cx="1143000" cy="60984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3657600" y="2819520"/>
              <a:ext cx="0" cy="1447560"/>
            </a:xfrm>
            <a:prstGeom prst="line">
              <a:avLst/>
            </a:prstGeom>
            <a:ln w="936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33" name="Text Box 24"/>
            <p:cNvSpPr/>
            <p:nvPr/>
          </p:nvSpPr>
          <p:spPr>
            <a:xfrm>
              <a:off x="3733920" y="3171960"/>
              <a:ext cx="2133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cc6600"/>
                  </a:solidFill>
                  <a:latin typeface="Verdana"/>
                </a:rPr>
                <a:t>PROCESS </a:t>
              </a: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3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CCCE-A328-473D-8ED9-24E546C95F5D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8356-43AA-4682-A9B0-F9D128ED0F67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219320" y="73656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Environmental management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7" name="Picture 3" descr="j0300840"/>
          <p:cNvPicPr/>
          <p:nvPr/>
        </p:nvPicPr>
        <p:blipFill>
          <a:blip r:embed="rId1"/>
          <a:stretch/>
        </p:blipFill>
        <p:spPr>
          <a:xfrm>
            <a:off x="7461360" y="1278000"/>
            <a:ext cx="1382760" cy="1165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J0090027"/>
          <p:cNvPicPr/>
          <p:nvPr/>
        </p:nvPicPr>
        <p:blipFill>
          <a:blip r:embed="rId2"/>
          <a:stretch/>
        </p:blipFill>
        <p:spPr>
          <a:xfrm>
            <a:off x="907920" y="4416480"/>
            <a:ext cx="1944720" cy="1515960"/>
          </a:xfrm>
          <a:prstGeom prst="rect">
            <a:avLst/>
          </a:prstGeom>
          <a:ln w="0">
            <a:noFill/>
          </a:ln>
        </p:spPr>
      </p:pic>
      <p:sp>
        <p:nvSpPr>
          <p:cNvPr id="139" name="Line 5"/>
          <p:cNvSpPr/>
          <p:nvPr/>
        </p:nvSpPr>
        <p:spPr>
          <a:xfrm>
            <a:off x="2746440" y="3421080"/>
            <a:ext cx="718920" cy="2160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0" name="Picture 6" descr="BL00098_"/>
          <p:cNvPicPr/>
          <p:nvPr/>
        </p:nvPicPr>
        <p:blipFill>
          <a:blip r:embed="rId3"/>
          <a:stretch/>
        </p:blipFill>
        <p:spPr>
          <a:xfrm>
            <a:off x="6956280" y="1854360"/>
            <a:ext cx="1663920" cy="1282680"/>
          </a:xfrm>
          <a:prstGeom prst="rect">
            <a:avLst/>
          </a:prstGeom>
          <a:ln w="0">
            <a:noFill/>
          </a:ln>
        </p:spPr>
      </p:pic>
      <p:sp>
        <p:nvSpPr>
          <p:cNvPr id="141" name="Line 7"/>
          <p:cNvSpPr/>
          <p:nvPr/>
        </p:nvSpPr>
        <p:spPr>
          <a:xfrm flipH="1">
            <a:off x="2852280" y="4703760"/>
            <a:ext cx="647640" cy="5763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V="1">
            <a:off x="6235560" y="3077640"/>
            <a:ext cx="505080" cy="5050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5732640" y="4734000"/>
            <a:ext cx="863280" cy="4316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4" name="Picture 10" descr="facility_l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571920" y="3005280"/>
            <a:ext cx="2585880" cy="16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"/>
          <p:cNvPicPr/>
          <p:nvPr/>
        </p:nvPicPr>
        <p:blipFill>
          <a:blip r:embed="rId6"/>
          <a:stretch/>
        </p:blipFill>
        <p:spPr>
          <a:xfrm>
            <a:off x="368280" y="1260360"/>
            <a:ext cx="1104840" cy="1428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iso_14001_certificat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3560" y="1332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2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708280" y="176364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J0101859"/>
          <p:cNvPicPr/>
          <p:nvPr/>
        </p:nvPicPr>
        <p:blipFill>
          <a:blip r:embed="rId11"/>
          <a:stretch/>
        </p:blipFill>
        <p:spPr>
          <a:xfrm>
            <a:off x="619200" y="1763640"/>
            <a:ext cx="2305080" cy="1525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bebe_depuradora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172280" y="4373640"/>
            <a:ext cx="1224000" cy="101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"/>
          <p:cNvPicPr/>
          <p:nvPr/>
        </p:nvPicPr>
        <p:blipFill>
          <a:blip r:embed="rId14"/>
          <a:stretch/>
        </p:blipFill>
        <p:spPr>
          <a:xfrm>
            <a:off x="6524640" y="5021280"/>
            <a:ext cx="1584360" cy="974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Euro__15042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661000" y="509436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Euro__15042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235560" y="217656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Euro__150420"/>
          <p:cNvPicPr/>
          <p:nvPr/>
        </p:nvPicPr>
        <p:blipFill>
          <a:blip r:embed="rId19"/>
          <a:stretch/>
        </p:blipFill>
        <p:spPr>
          <a:xfrm>
            <a:off x="1844640" y="1344600"/>
            <a:ext cx="34596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54D7-6AEF-48B7-B856-570A5FC18B58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88840" y="1460520"/>
            <a:ext cx="699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Two possible strategies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1 ) Corrective strategy (high economic costs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13c59"/>
                </a:solidFill>
                <a:latin typeface="Arial"/>
              </a:rPr>
              <a:t>2 ) Preventive strategy (reduction of consumption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615960" y="2852640"/>
            <a:ext cx="3816360" cy="2525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19320" y="736560"/>
            <a:ext cx="876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f218b"/>
                </a:solidFill>
                <a:latin typeface="Arial"/>
              </a:rPr>
              <a:t>Environmental management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8" name="Picture 4" descr="A1"/>
          <p:cNvPicPr/>
          <p:nvPr/>
        </p:nvPicPr>
        <p:blipFill>
          <a:blip r:embed="rId2"/>
          <a:stretch/>
        </p:blipFill>
        <p:spPr>
          <a:xfrm>
            <a:off x="5343480" y="2857680"/>
            <a:ext cx="1495440" cy="149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5E83-26F8-4E5A-AF88-BD2C131E5A45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295280" y="2793960"/>
            <a:ext cx="6324840" cy="2552760"/>
          </a:xfrm>
          <a:prstGeom prst="rect">
            <a:avLst/>
          </a:prstGeom>
          <a:solidFill>
            <a:srgbClr val="efe8d1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87600" y="1549440"/>
            <a:ext cx="6146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roblem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nvironmental requirements and costs related are increas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Solution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revention and control of pollution through   </a:t>
            </a:r>
            <a:r>
              <a:rPr b="1" lang="es-ES" sz="2000" spc="-1" strike="noStrike" u="sng">
                <a:solidFill>
                  <a:srgbClr val="013c59"/>
                </a:solidFill>
                <a:uFillTx/>
                <a:latin typeface="Arial"/>
                <a:ea typeface="ＭＳ Ｐゴシック"/>
              </a:rPr>
              <a:t>eco-innovati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ctive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Guarantee success and competitivenes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 rot="5400000">
            <a:off x="6591600" y="3986640"/>
            <a:ext cx="28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Sustainable econom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9040" y="2484360"/>
          <a:ext cx="8031240" cy="1935360"/>
        </p:xfrm>
        <a:graphic>
          <a:graphicData uri="http://schemas.openxmlformats.org/drawingml/2006/table">
            <a:tbl>
              <a:tblPr/>
              <a:tblGrid>
                <a:gridCol w="4035240"/>
                <a:gridCol w="3996000"/>
              </a:tblGrid>
              <a:tr h="1935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– Environmental Management and Sustainability</a:t>
                      </a: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Spain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-622603462  Fax: 00-34-966430283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www.gesma.es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www.eurocrafts21.eu </a:t>
                      </a:r>
                      <a:endParaRPr b="0" lang="en-US" sz="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lean Technology Center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Urbanismo y Vivienda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, Spain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i="1" lang="en-US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http://www.cth.gva.es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3T23:32:34Z</dcterms:modified>
  <cp:revision>643</cp:revision>
  <dc:subject/>
  <dc:title>Presentacion S14</dc:title>
</cp:coreProperties>
</file>