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17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019040" y="0"/>
            <a:ext cx="30783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401904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462E24-3990-4DE1-A88C-C1F5C52AB8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F3A3E9-9272-41A2-BA53-CE9CBEDCD52D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B322-03A6-47BD-BF04-C6F340550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2C3B-FDA9-420A-AEA6-991F6CC48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C60E-ACF7-467B-8674-ADD6C4999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3E60-6DE2-4543-ACBF-F230B8ACB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47D-81BA-4603-859E-5C2AB8F3F0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A88-FDE0-4CEA-AD51-217D513FF8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066-6C28-4E92-AE8F-F37ACBF86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2AD-42A6-4669-8B7E-39C2569532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978-C527-49EF-A307-68C00AF0D3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8B1-9845-44B5-BBC3-58C14D7E4B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73D-126E-434D-929B-BFB52DB58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D7AB-9B85-4F9A-B988-EE969F6C7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87E-5AB3-4149-9D67-F1B7739DF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179-4052-491C-9EDA-220C4AEA24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EF2-BEDD-44A5-85A2-5D2386B9C8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B281-1EC0-4068-83A6-1C4AF6C8DA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21C-D8B8-4928-AF38-02DD306DA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9CC6-467E-49A6-8F02-C433FB4B6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3FC3-23F4-4F14-8401-2D9A9D42E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D079-DB55-4914-A619-1BA7C123F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9D9A-4EA6-48E1-AB06-EF3B9E6E1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E279-A979-4DBC-BF9A-090F190AB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655E-3050-416D-851D-F4686FFA8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898C-AA41-4563-960F-B11E6B4DF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S14-Tecnologías Limp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7312-F5F2-4256-9942-3F4C36089D9E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C0F4-0400-457B-A4AE-5B42689C2234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S14-A1 Environmental Management in companies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hyperlink" Target="http://images.google.es/imgres?imgurl=http://www.engineeredpartsinc.com/images/facility_lg.jpg&amp;imgrefurl=http://www.engineeredpartsinc.com/about.htm&amp;h=1200&amp;w=1924&amp;sz=564&amp;hl=es&amp;start=78&amp;tbnid=NgTgAVryLbaiQM:&amp;tbnh=94&amp;tbnw=150&amp;prev=/images%3Fq%3Dfacility%26start%3D72%26gbv%3D2%26ndsp%3D18%26svnum%3D10%26hl%3Des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images.google.es/imgres?imgurl=http://www.ritetrack.com/sp/images/iso_14001_certificate.jpg&amp;imgrefurl=http://www.ritetrack.com/sp/iso.asp&amp;h=544&amp;w=424&amp;sz=127&amp;hl=es&amp;start=3&amp;um=1&amp;tbnid=tFoYJ26vm-9aPM:&amp;tbnh=150&amp;tbnw=117&amp;prev=/images%3Fq%3Diso%26gbv%3D2%26svnum%3D10%26um%3D1%26hl%3Des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es/imgres?imgurl=http://www.salica.es/anadirfotos/es/seguridad/23.jpg&amp;imgrefurl=http://www.salica.es/es/seguridad.asp&amp;h=250&amp;w=250&amp;sz=52&amp;hl=es&amp;start=4&amp;um=1&amp;tbnid=MsH61zPMIHDYqM:&amp;tbnh=111&amp;tbnw=111&amp;prev=/images%3Fq%3Dconsumidores%26gbv%3D2%26svnum%3D10%26um%3D1%26hl%3Des" TargetMode="External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hyperlink" Target="http://images.google.es/imgres?imgurl=http://www.fida.es/imagenes/fotos_ciudadviva/fotos_i/bebe_depuradora.jpg&amp;imgrefurl=http://www.fida.es/directorio/reportajes/ciudad_viva/cv_bebe.htm&amp;h=199&amp;w=240&amp;sz=11&amp;hl=es&amp;start=3&amp;um=1&amp;tbnid=kcFUXzcxNMPFbM:&amp;tbnh=91&amp;tbnw=110&amp;prev=/images%3Fq%3Ddepuradora%26gbv%3D2%26svnum%3D10%26um%3D1%26hl%3Des" TargetMode="External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hyperlink" Target="http://images.google.es/imgres?imgurl=http://images.ciao.com/ies/images/products/normal/420/Euro__150420.gif&amp;imgrefurl=http://www.ciao.es/Euro__Opinion_420837&amp;h=258&amp;w=258&amp;sz=2&amp;hl=es&amp;start=23&amp;tbnid=3DeUey1FP1hZUM:&amp;tbnh=112&amp;tbnw=112&amp;prev=/images%3Fq%3Deuro%26start%3D18%26gbv%3D2%26ndsp%3D18%26svnum%3D10%26hl%3Des%26sa%3DN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images.google.es/imgres?imgurl=http://images.ciao.com/ies/images/products/normal/420/Euro__150420.gif&amp;imgrefurl=http://www.ciao.es/Euro__Opinion_420837&amp;h=258&amp;w=258&amp;sz=2&amp;hl=es&amp;start=23&amp;tbnid=3DeUey1FP1hZUM:&amp;tbnh=112&amp;tbnw=112&amp;prev=/images%3Fq%3Deuro%26start%3D18%26gbv%3D2%26ndsp%3D18%26svnum%3D10%26hl%3Des%26sa%3DN" TargetMode="External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F54-A6B4-4868-BBBB-771C47DA7F1C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2587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8080"/>
                </a:solidFill>
                <a:latin typeface="Arial"/>
              </a:rPr>
              <a:t>Environmental technologies (ET)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Module S1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Component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S14-A1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Environmental management in compani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S14-A1 Environmental Management in companies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EBBB-5D98-4FE5-9D6A-3B5BD63FE4AE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58760" y="1943280"/>
            <a:ext cx="7472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14 Module – Environmental Technologies (ET)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 A) Environmental management in compani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 B) Eco-innovation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 C) Types of E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 D) Management of E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3B5A-8440-46C8-A795-D5147978E7BB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79320" y="1628640"/>
            <a:ext cx="799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Component A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ENVIRONMENTAL MANAGEMENT IN COMPANIES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219320" y="73656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Activity in the company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62120" y="3200400"/>
            <a:ext cx="23619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00"/>
                </a:solidFill>
                <a:latin typeface="Verdana"/>
              </a:rPr>
              <a:t>Wate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00"/>
                </a:solidFill>
                <a:latin typeface="Verdana"/>
              </a:rPr>
              <a:t>Energy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00"/>
                </a:solidFill>
                <a:latin typeface="Verdana"/>
              </a:rPr>
              <a:t>Other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3648240" y="609480"/>
            <a:ext cx="4733640" cy="5376960"/>
            <a:chOff x="3648240" y="609480"/>
            <a:chExt cx="4733640" cy="5376960"/>
          </a:xfrm>
        </p:grpSpPr>
        <p:sp>
          <p:nvSpPr>
            <p:cNvPr id="103" name="Text Box 11"/>
            <p:cNvSpPr/>
            <p:nvPr/>
          </p:nvSpPr>
          <p:spPr>
            <a:xfrm>
              <a:off x="5219640" y="5013360"/>
              <a:ext cx="16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13c59"/>
                  </a:solidFill>
                  <a:latin typeface="Verdana"/>
                </a:rPr>
                <a:t>Discharges</a:t>
              </a: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graphicFrame>
          <p:nvGraphicFramePr>
            <p:cNvPr id="104" name="Object 2"/>
            <p:cNvGraphicFramePr/>
            <p:nvPr/>
          </p:nvGraphicFramePr>
          <p:xfrm>
            <a:off x="5632560" y="5396040"/>
            <a:ext cx="811080" cy="59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2560" y="5396040"/>
                      <a:ext cx="81108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Text Box 14"/>
            <p:cNvSpPr/>
            <p:nvPr/>
          </p:nvSpPr>
          <p:spPr>
            <a:xfrm>
              <a:off x="3648240" y="5051520"/>
              <a:ext cx="16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13c59"/>
                  </a:solidFill>
                  <a:latin typeface="Verdana"/>
                </a:rPr>
                <a:t>Wastes</a:t>
              </a: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graphicFrame>
          <p:nvGraphicFramePr>
            <p:cNvPr id="107" name="Object 3"/>
            <p:cNvGraphicFramePr/>
            <p:nvPr/>
          </p:nvGraphicFramePr>
          <p:xfrm>
            <a:off x="3995640" y="5373720"/>
            <a:ext cx="760680" cy="5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5640" y="5373720"/>
                      <a:ext cx="760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Line 16"/>
            <p:cNvSpPr/>
            <p:nvPr/>
          </p:nvSpPr>
          <p:spPr>
            <a:xfrm flipH="1">
              <a:off x="4859280" y="4365720"/>
              <a:ext cx="433440" cy="503280"/>
            </a:xfrm>
            <a:prstGeom prst="line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grpSp>
          <p:nvGrpSpPr>
            <p:cNvPr id="110" name="Group 39"/>
            <p:cNvGrpSpPr/>
            <p:nvPr/>
          </p:nvGrpSpPr>
          <p:grpSpPr>
            <a:xfrm>
              <a:off x="5486400" y="609480"/>
              <a:ext cx="2895480" cy="1599840"/>
              <a:chOff x="5486400" y="609480"/>
              <a:chExt cx="2895480" cy="1599840"/>
            </a:xfrm>
          </p:grpSpPr>
          <p:grpSp>
            <p:nvGrpSpPr>
              <p:cNvPr id="111" name="Group 25"/>
              <p:cNvGrpSpPr/>
              <p:nvPr/>
            </p:nvGrpSpPr>
            <p:grpSpPr>
              <a:xfrm>
                <a:off x="5486400" y="609480"/>
                <a:ext cx="1981080" cy="1295280"/>
                <a:chOff x="5486400" y="609480"/>
                <a:chExt cx="1981080" cy="1295280"/>
              </a:xfrm>
            </p:grpSpPr>
            <p:sp>
              <p:nvSpPr>
                <p:cNvPr id="112" name="Freeform 26"/>
                <p:cNvSpPr/>
                <p:nvPr/>
              </p:nvSpPr>
              <p:spPr>
                <a:xfrm>
                  <a:off x="5702400" y="761760"/>
                  <a:ext cx="253800" cy="1143000"/>
                </a:xfrm>
                <a:custGeom>
                  <a:avLst/>
                  <a:gdLst>
                    <a:gd name="textAreaLeft" fmla="*/ 0 w 253800"/>
                    <a:gd name="textAreaRight" fmla="*/ 254160 w 25380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160" h="720">
                      <a:moveTo>
                        <a:pt x="56" y="0"/>
                      </a:moveTo>
                      <a:cubicBezTo>
                        <a:pt x="108" y="52"/>
                        <a:pt x="160" y="104"/>
                        <a:pt x="152" y="144"/>
                      </a:cubicBezTo>
                      <a:cubicBezTo>
                        <a:pt x="144" y="184"/>
                        <a:pt x="16" y="200"/>
                        <a:pt x="8" y="240"/>
                      </a:cubicBezTo>
                      <a:cubicBezTo>
                        <a:pt x="0" y="280"/>
                        <a:pt x="96" y="328"/>
                        <a:pt x="104" y="384"/>
                      </a:cubicBezTo>
                      <a:cubicBezTo>
                        <a:pt x="112" y="440"/>
                        <a:pt x="56" y="520"/>
                        <a:pt x="56" y="576"/>
                      </a:cubicBezTo>
                      <a:cubicBezTo>
                        <a:pt x="56" y="632"/>
                        <a:pt x="96" y="696"/>
                        <a:pt x="104" y="720"/>
                      </a:cubicBezTo>
                    </a:path>
                  </a:pathLst>
                </a:custGeom>
                <a:noFill/>
                <a:ln w="9360">
                  <a:solidFill>
                    <a:srgbClr val="013c5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27"/>
                <p:cNvSpPr/>
                <p:nvPr/>
              </p:nvSpPr>
              <p:spPr>
                <a:xfrm>
                  <a:off x="5486400" y="609480"/>
                  <a:ext cx="1981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13c59"/>
                      </a:solidFill>
                      <a:latin typeface="Verdana"/>
                    </a:rPr>
                    <a:t>gases</a:t>
                  </a:r>
                  <a:endParaRPr b="0" lang="en-US" sz="20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28"/>
              <p:cNvGrpSpPr/>
              <p:nvPr/>
            </p:nvGrpSpPr>
            <p:grpSpPr>
              <a:xfrm>
                <a:off x="6172200" y="1371600"/>
                <a:ext cx="2209680" cy="837720"/>
                <a:chOff x="6172200" y="1371600"/>
                <a:chExt cx="2209680" cy="837720"/>
              </a:xfrm>
            </p:grpSpPr>
            <p:sp>
              <p:nvSpPr>
                <p:cNvPr id="115" name="Arc 29"/>
                <p:cNvSpPr/>
                <p:nvPr/>
              </p:nvSpPr>
              <p:spPr>
                <a:xfrm>
                  <a:off x="6172200" y="1752480"/>
                  <a:ext cx="304920" cy="45684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13c5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  <p:sp>
              <p:nvSpPr>
                <p:cNvPr id="116" name="Arc 30"/>
                <p:cNvSpPr/>
                <p:nvPr/>
              </p:nvSpPr>
              <p:spPr>
                <a:xfrm>
                  <a:off x="6400800" y="1599840"/>
                  <a:ext cx="304920" cy="45684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13c5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  <p:sp>
              <p:nvSpPr>
                <p:cNvPr id="117" name="Arc 31"/>
                <p:cNvSpPr/>
                <p:nvPr/>
              </p:nvSpPr>
              <p:spPr>
                <a:xfrm>
                  <a:off x="6705720" y="1447560"/>
                  <a:ext cx="304560" cy="456840"/>
                </a:xfrm>
                <a:custGeom>
                  <a:avLst/>
                  <a:gdLst>
                    <a:gd name="textAreaLeft" fmla="*/ 0 w 304560"/>
                    <a:gd name="textAreaRight" fmla="*/ 304920 w 30456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13c5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  <p:sp>
              <p:nvSpPr>
                <p:cNvPr id="118" name="Text Box 32"/>
                <p:cNvSpPr/>
                <p:nvPr/>
              </p:nvSpPr>
              <p:spPr>
                <a:xfrm>
                  <a:off x="6858000" y="1371600"/>
                  <a:ext cx="1523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13c59"/>
                      </a:solidFill>
                      <a:latin typeface="Verdana"/>
                    </a:rPr>
                    <a:t>noise</a:t>
                  </a:r>
                  <a:endParaRPr b="0" lang="en-US" sz="20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Line 37"/>
            <p:cNvSpPr/>
            <p:nvPr/>
          </p:nvSpPr>
          <p:spPr>
            <a:xfrm>
              <a:off x="5435640" y="4365720"/>
              <a:ext cx="431640" cy="503280"/>
            </a:xfrm>
            <a:prstGeom prst="line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0" y="1981080"/>
            <a:ext cx="9144000" cy="2286000"/>
            <a:chOff x="0" y="1981080"/>
            <a:chExt cx="9144000" cy="2286000"/>
          </a:xfrm>
        </p:grpSpPr>
        <p:grpSp>
          <p:nvGrpSpPr>
            <p:cNvPr id="121" name="Group 2"/>
            <p:cNvGrpSpPr/>
            <p:nvPr/>
          </p:nvGrpSpPr>
          <p:grpSpPr>
            <a:xfrm>
              <a:off x="6172200" y="3048120"/>
              <a:ext cx="2971800" cy="459720"/>
              <a:chOff x="6172200" y="3048120"/>
              <a:chExt cx="2971800" cy="459720"/>
            </a:xfrm>
          </p:grpSpPr>
          <p:sp>
            <p:nvSpPr>
              <p:cNvPr id="122" name="Text Box 3"/>
              <p:cNvSpPr/>
              <p:nvPr/>
            </p:nvSpPr>
            <p:spPr>
              <a:xfrm>
                <a:off x="716292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cc3300"/>
                    </a:solidFill>
                    <a:latin typeface="Verdana"/>
                  </a:rPr>
                  <a:t>Products</a:t>
                </a:r>
                <a:endParaRPr b="0" lang="en-US" sz="2400" spc="-1" strike="noStrike">
                  <a:solidFill>
                    <a:srgbClr val="013c59"/>
                  </a:solidFill>
                  <a:latin typeface="Arial"/>
                </a:endParaRPr>
              </a:p>
            </p:txBody>
          </p:sp>
          <p:sp>
            <p:nvSpPr>
              <p:cNvPr id="123" name="AutoShape 4"/>
              <p:cNvSpPr/>
              <p:nvPr/>
            </p:nvSpPr>
            <p:spPr>
              <a:xfrm>
                <a:off x="6172200" y="3048120"/>
                <a:ext cx="990720" cy="457200"/>
              </a:xfrm>
              <a:prstGeom prst="rightArrow">
                <a:avLst>
                  <a:gd name="adj1" fmla="val 50000"/>
                  <a:gd name="adj2" fmla="val 54173"/>
                </a:avLst>
              </a:prstGeom>
              <a:solidFill>
                <a:srgbClr val="efe8d1"/>
              </a:solidFill>
              <a:ln w="9360">
                <a:solidFill>
                  <a:srgbClr val="013c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3c59"/>
                  </a:solidFill>
                  <a:latin typeface="Arial"/>
                </a:endParaRPr>
              </a:p>
            </p:txBody>
          </p:sp>
        </p:grpSp>
        <p:sp>
          <p:nvSpPr>
            <p:cNvPr id="124" name="Text Box 6"/>
            <p:cNvSpPr/>
            <p:nvPr/>
          </p:nvSpPr>
          <p:spPr>
            <a:xfrm>
              <a:off x="0" y="28954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e5815"/>
                  </a:solidFill>
                  <a:latin typeface="Verdana"/>
                </a:rPr>
                <a:t>Raw materials</a:t>
              </a: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6880" y="291132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efe8d1"/>
            </a:solidFill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6" name="Line 17"/>
            <p:cNvSpPr/>
            <p:nvPr/>
          </p:nvSpPr>
          <p:spPr>
            <a:xfrm>
              <a:off x="5638680" y="1981080"/>
              <a:ext cx="457200" cy="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7" name="Line 18"/>
            <p:cNvSpPr/>
            <p:nvPr/>
          </p:nvSpPr>
          <p:spPr>
            <a:xfrm>
              <a:off x="6019920" y="1981080"/>
              <a:ext cx="0" cy="228600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8" name="Line 19"/>
            <p:cNvSpPr/>
            <p:nvPr/>
          </p:nvSpPr>
          <p:spPr>
            <a:xfrm>
              <a:off x="3733920" y="4267080"/>
              <a:ext cx="2286000" cy="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>
              <a:off x="5638680" y="1981080"/>
              <a:ext cx="0" cy="91440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30" name="Line 21"/>
            <p:cNvSpPr/>
            <p:nvPr/>
          </p:nvSpPr>
          <p:spPr>
            <a:xfrm flipH="1" flipV="1">
              <a:off x="4800600" y="2209320"/>
              <a:ext cx="838080" cy="68580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 flipH="1">
              <a:off x="3657240" y="2209680"/>
              <a:ext cx="1143000" cy="60984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3657600" y="2819520"/>
              <a:ext cx="0" cy="144756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33" name="Text Box 24"/>
            <p:cNvSpPr/>
            <p:nvPr/>
          </p:nvSpPr>
          <p:spPr>
            <a:xfrm>
              <a:off x="3733920" y="3171960"/>
              <a:ext cx="2133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6600"/>
                  </a:solidFill>
                  <a:latin typeface="Verdana"/>
                </a:rPr>
                <a:t>PROCESS </a:t>
              </a: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34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A49F-7434-4606-8A19-64E57CCF5D11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152C-3C8F-459E-9339-FCB251063525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219320" y="73656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Environmental management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7" name="Picture 3" descr="j0300840"/>
          <p:cNvPicPr/>
          <p:nvPr/>
        </p:nvPicPr>
        <p:blipFill>
          <a:blip r:embed="rId1"/>
          <a:stretch/>
        </p:blipFill>
        <p:spPr>
          <a:xfrm>
            <a:off x="7461360" y="1278000"/>
            <a:ext cx="1382760" cy="116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J0090027"/>
          <p:cNvPicPr/>
          <p:nvPr/>
        </p:nvPicPr>
        <p:blipFill>
          <a:blip r:embed="rId2"/>
          <a:stretch/>
        </p:blipFill>
        <p:spPr>
          <a:xfrm>
            <a:off x="907920" y="4416480"/>
            <a:ext cx="1944720" cy="151596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>
            <a:off x="2746440" y="3421080"/>
            <a:ext cx="718920" cy="2160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0" name="Picture 6" descr="BL00098_"/>
          <p:cNvPicPr/>
          <p:nvPr/>
        </p:nvPicPr>
        <p:blipFill>
          <a:blip r:embed="rId3"/>
          <a:stretch/>
        </p:blipFill>
        <p:spPr>
          <a:xfrm>
            <a:off x="6956280" y="1854360"/>
            <a:ext cx="1663920" cy="1282680"/>
          </a:xfrm>
          <a:prstGeom prst="rect">
            <a:avLst/>
          </a:prstGeom>
          <a:ln w="0">
            <a:noFill/>
          </a:ln>
        </p:spPr>
      </p:pic>
      <p:sp>
        <p:nvSpPr>
          <p:cNvPr id="141" name="Line 7"/>
          <p:cNvSpPr/>
          <p:nvPr/>
        </p:nvSpPr>
        <p:spPr>
          <a:xfrm flipH="1">
            <a:off x="2852280" y="4703760"/>
            <a:ext cx="647640" cy="5763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V="1">
            <a:off x="6235560" y="3077640"/>
            <a:ext cx="505080" cy="5050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732640" y="4734000"/>
            <a:ext cx="863280" cy="4316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4" name="Picture 10" descr="facility_l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920" y="3005280"/>
            <a:ext cx="2585880" cy="162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6"/>
          <a:stretch/>
        </p:blipFill>
        <p:spPr>
          <a:xfrm>
            <a:off x="368280" y="126036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iso_14001_certificat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3560" y="13320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2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708280" y="176364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J0101859"/>
          <p:cNvPicPr/>
          <p:nvPr/>
        </p:nvPicPr>
        <p:blipFill>
          <a:blip r:embed="rId11"/>
          <a:stretch/>
        </p:blipFill>
        <p:spPr>
          <a:xfrm>
            <a:off x="619200" y="1763640"/>
            <a:ext cx="2305080" cy="1525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bebe_depurador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72280" y="4373640"/>
            <a:ext cx="1224000" cy="101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"/>
          <p:cNvPicPr/>
          <p:nvPr/>
        </p:nvPicPr>
        <p:blipFill>
          <a:blip r:embed="rId14"/>
          <a:stretch/>
        </p:blipFill>
        <p:spPr>
          <a:xfrm>
            <a:off x="6524640" y="5021280"/>
            <a:ext cx="1584360" cy="974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Euro__15042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661000" y="509436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Euro__15042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235560" y="217656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Euro__150420"/>
          <p:cNvPicPr/>
          <p:nvPr/>
        </p:nvPicPr>
        <p:blipFill>
          <a:blip r:embed="rId19"/>
          <a:stretch/>
        </p:blipFill>
        <p:spPr>
          <a:xfrm>
            <a:off x="1844640" y="1344600"/>
            <a:ext cx="34596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3518-0336-4514-8649-26013FA4758D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88840" y="1460520"/>
            <a:ext cx="699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Two possible strategie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1 ) Corrective strategy (high economic costs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13c59"/>
                </a:solidFill>
                <a:latin typeface="Arial"/>
              </a:rPr>
              <a:t>2 ) Preventive strategy (reduction of consumption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615960" y="2852640"/>
            <a:ext cx="3816360" cy="2525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219320" y="73656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Environmental management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8" name="Picture 4" descr="A1"/>
          <p:cNvPicPr/>
          <p:nvPr/>
        </p:nvPicPr>
        <p:blipFill>
          <a:blip r:embed="rId2"/>
          <a:stretch/>
        </p:blipFill>
        <p:spPr>
          <a:xfrm>
            <a:off x="5343480" y="2857680"/>
            <a:ext cx="1495440" cy="14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1BD-0EB1-4DBC-A132-601A14EF8B13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295280" y="2793960"/>
            <a:ext cx="6324840" cy="2552760"/>
          </a:xfrm>
          <a:prstGeom prst="rect">
            <a:avLst/>
          </a:prstGeom>
          <a:solidFill>
            <a:srgbClr val="efe8d1"/>
          </a:solidFill>
          <a:ln w="93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587600" y="1549440"/>
            <a:ext cx="6146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roblem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nvironmental requirements and costs related are increas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Solution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revention and control of pollution through   </a:t>
            </a:r>
            <a:r>
              <a:rPr b="1" lang="es-ES" sz="2000" spc="-1" strike="noStrike" u="sng">
                <a:solidFill>
                  <a:srgbClr val="013c59"/>
                </a:solidFill>
                <a:uFillTx/>
                <a:latin typeface="Arial"/>
                <a:ea typeface="ＭＳ Ｐゴシック"/>
              </a:rPr>
              <a:t>eco-innovation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ctive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Guarantee success and competitivenes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 rot="5400000">
            <a:off x="6591600" y="39866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Sustainable econom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9040" y="2484360"/>
          <a:ext cx="8031240" cy="1935360"/>
        </p:xfrm>
        <a:graphic>
          <a:graphicData uri="http://schemas.openxmlformats.org/drawingml/2006/table">
            <a:tbl>
              <a:tblPr/>
              <a:tblGrid>
                <a:gridCol w="4035240"/>
                <a:gridCol w="3996000"/>
              </a:tblGrid>
              <a:tr h="1935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– Environmental Management and Sustainability</a:t>
                      </a: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Spain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www.gesma.es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ww.eurocrafts21.eu </a:t>
                      </a:r>
                      <a:endParaRPr b="0" lang="en-US" sz="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lean Technology Center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Urbanismo y Vivienda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, Spain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http://www.cth.gva.es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3T23:32:34Z</dcterms:modified>
  <cp:revision>643</cp:revision>
  <dc:subject/>
  <dc:title>Presentacion S14</dc:title>
</cp:coreProperties>
</file>