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7"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90"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B694824-5AD3-474A-B1D7-8618CD33A2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40DDA65-D93A-4142-8FAB-32E6FF9CC5BD}"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31" name="PlaceHolder 1"/>
          <p:cNvSpPr>
            <a:spLocks noGrp="1"/>
          </p:cNvSpPr>
          <p:nvPr>
            <p:ph type="sldImg"/>
          </p:nvPr>
        </p:nvSpPr>
        <p:spPr>
          <a:xfrm>
            <a:off x="896760" y="738360"/>
            <a:ext cx="4915080" cy="3687480"/>
          </a:xfrm>
          <a:prstGeom prst="rect">
            <a:avLst/>
          </a:prstGeom>
          <a:ln w="0">
            <a:noFill/>
          </a:ln>
        </p:spPr>
      </p:sp>
      <p:sp>
        <p:nvSpPr>
          <p:cNvPr id="132"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88DC4D-77DF-46CB-9A0D-DAACB3941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E19884-F659-4A69-AE5B-336E8801D9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A64D1F-0EC3-48C7-8C9B-C43C6319D1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93D648-49A1-41EA-A704-84E86D053E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46E0DA-20E9-494E-9765-0344FA64BA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1"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386C33-E0C0-442E-A2C8-3F109BD717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7721F0-0F97-4919-A492-277D425F6F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6"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221F1B-4065-4C1A-B23E-8ACC1B9208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FEFC69-3C4E-46B2-B00A-0114B2525B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9398F7-E146-4F52-B80F-052A327764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0"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2"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4F04D2-6F3D-471D-AB4B-E5EDCAD7DA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5D480C-A76A-44F7-BC51-6AB447E37A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6"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D7D6A4-E845-43DB-AE32-17D8D9A82E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0"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C3CBC4-63CA-4460-828C-4E1EE63DC7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2"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3"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99D906-F754-4964-9CA1-D67A67ADAF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8"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BD8D65-E05A-4B98-B8B9-6DAAF0C6CF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80"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5"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C62266-8FAB-409F-B5DD-2E3E4A5CDB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AD7C26-2FD6-4B7B-AD9D-1D72F2781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699FF7-F3D2-44D3-BD42-72D6A9E734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B59B6A-983A-4F07-B30C-1B49A510D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83E46E-2D9F-4051-BCBA-BD920FA8B8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94FA0B-0AFD-4FD3-B940-CBEBAFF5D0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01DBBF-97A7-4265-BED3-3294F67926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A8AC5-B62E-44BD-B2AF-D24981CC7A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FB15-B9E9-433D-BE00-BAD29B1E3543}"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3246480" y="423720"/>
            <a:ext cx="2757600" cy="489240"/>
          </a:xfrm>
          <a:prstGeom prst="rect">
            <a:avLst/>
          </a:prstGeom>
          <a:ln w="0">
            <a:noFill/>
          </a:ln>
        </p:spPr>
      </p:pic>
      <p:pic>
        <p:nvPicPr>
          <p:cNvPr id="45" name="Picture 14" descr=""/>
          <p:cNvPicPr/>
          <p:nvPr/>
        </p:nvPicPr>
        <p:blipFill>
          <a:blip r:embed="rId4"/>
          <a:stretch/>
        </p:blipFill>
        <p:spPr>
          <a:xfrm>
            <a:off x="50760" y="50760"/>
            <a:ext cx="2082960" cy="1057320"/>
          </a:xfrm>
          <a:prstGeom prst="rect">
            <a:avLst/>
          </a:prstGeom>
          <a:ln w="0">
            <a:noFill/>
          </a:ln>
        </p:spPr>
      </p:pic>
      <p:sp>
        <p:nvSpPr>
          <p:cNvPr id="4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7"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8"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349B-AE97-49FD-8F0B-76D274195256}"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
        <p:nvSpPr>
          <p:cNvPr id="9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BBD7-6E84-411C-8D41-8A399D0BCB79}"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5"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b050"/>
                </a:solidFill>
                <a:latin typeface="Arial"/>
              </a:rPr>
              <a:t>Green Marketing</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Pilot testing – Module S4</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6" name="Picture 12" descr=""/>
          <p:cNvPicPr/>
          <p:nvPr/>
        </p:nvPicPr>
        <p:blipFill>
          <a:blip r:embed="rId1">
            <a:lum contrast="20000"/>
          </a:blip>
          <a:stretch/>
        </p:blipFill>
        <p:spPr>
          <a:xfrm>
            <a:off x="6891480" y="325440"/>
            <a:ext cx="1866600" cy="754200"/>
          </a:xfrm>
          <a:prstGeom prst="rect">
            <a:avLst/>
          </a:prstGeom>
          <a:ln w="0">
            <a:noFill/>
          </a:ln>
        </p:spPr>
      </p:pic>
      <p:pic>
        <p:nvPicPr>
          <p:cNvPr id="97"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F2D1-73BA-485B-9D9F-3D026CA3422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8"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Eco Training Ki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www. learn-ecodesign.ne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EFD2-A4D3-4B72-8E3A-24C4638BF77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Ecodesign and Green Marketing</a:t>
            </a:r>
            <a:endParaRPr b="0" lang="en-US" sz="2800" spc="-1" strike="noStrike">
              <a:solidFill>
                <a:srgbClr val="013c59"/>
              </a:solidFill>
              <a:latin typeface="Arial"/>
            </a:endParaRPr>
          </a:p>
        </p:txBody>
      </p:sp>
      <p:sp>
        <p:nvSpPr>
          <p:cNvPr id="100"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codesign and marketing will connect to all of the product life cycle stages</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environmentally friendly products, marketing and sales do not differ fundamentally from other marketing and sales</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important to be honest green: to look for continuous improvements, providing open and reliable information to consumers. "Greenwashing" is no longer convincing consumers</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45BE-3637-4C99-8790-C7F7614C84D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3"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70c0"/>
                </a:solidFill>
                <a:latin typeface="Arial"/>
              </a:rPr>
              <a:t>Expensive or not?</a:t>
            </a:r>
            <a:endParaRPr b="0" lang="en-US" sz="2800" spc="-1" strike="noStrike">
              <a:solidFill>
                <a:srgbClr val="013c59"/>
              </a:solidFill>
              <a:latin typeface="Arial"/>
            </a:endParaRPr>
          </a:p>
        </p:txBody>
      </p:sp>
      <p:sp>
        <p:nvSpPr>
          <p:cNvPr id="104"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Ecodesign need not necessarily be more expensive than the ordinary product</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nvironmentally-friendly production in the longer term can often be cheaper than conventional production</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Product pricing will anyway be passed on to consumers, and environmental values of the price of the product consists of</a:t>
            </a:r>
            <a:endParaRPr b="0" lang="en-US" sz="2000" spc="-1" strike="noStrike">
              <a:solidFill>
                <a:srgbClr val="013c59"/>
              </a:solidFill>
              <a:latin typeface="Arial"/>
            </a:endParaRPr>
          </a:p>
        </p:txBody>
      </p:sp>
      <p:sp>
        <p:nvSpPr>
          <p:cNvPr id="10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30CE-1853-49DF-A80A-95FCF71E8F3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7"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Tools for Green Marketing</a:t>
            </a:r>
            <a:endParaRPr b="0" lang="en-US" sz="2800" spc="-1" strike="noStrike">
              <a:solidFill>
                <a:srgbClr val="013c59"/>
              </a:solidFill>
              <a:latin typeface="Arial"/>
            </a:endParaRPr>
          </a:p>
        </p:txBody>
      </p:sp>
      <p:sp>
        <p:nvSpPr>
          <p:cNvPr id="108"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nvironmentally friendly product may be an independent environmental label, which raises awareness among consumers. One of the green marketing is a way of eco-labeling, it is a way to bring out products that are environmentally friendly and will help consumers to make informed decisions</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Eco-label scheme may be either voluntary or mandatory, and may also be a single attribute such as certifications, the hazard warning labels and notices, etc. Product pricing will anyway be passed on to consumers, and environmental values of the price of the product consists of</a:t>
            </a:r>
            <a:endParaRPr b="0" lang="en-US" sz="2000" spc="-1" strike="noStrike">
              <a:solidFill>
                <a:srgbClr val="013c59"/>
              </a:solidFill>
              <a:latin typeface="Arial"/>
            </a:endParaRPr>
          </a:p>
        </p:txBody>
      </p:sp>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47605-AC56-45FB-8E66-D03F3D2A2F6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70c0"/>
                </a:solidFill>
                <a:latin typeface="Arial"/>
              </a:rPr>
              <a:t>Three Types of Ecolabels</a:t>
            </a:r>
            <a:endParaRPr b="0" lang="en-US" sz="2800" spc="-1" strike="noStrike">
              <a:solidFill>
                <a:srgbClr val="013c59"/>
              </a:solidFill>
              <a:latin typeface="Arial"/>
            </a:endParaRPr>
          </a:p>
        </p:txBody>
      </p:sp>
      <p:sp>
        <p:nvSpPr>
          <p:cNvPr id="112"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International Standardisation Organisation (ISO) has classified the ecolabels in three </a:t>
            </a:r>
            <a:r>
              <a:rPr b="0" lang="fi-FI" sz="2000" spc="-1" strike="noStrike">
                <a:solidFill>
                  <a:srgbClr val="00b050"/>
                </a:solidFill>
                <a:latin typeface="Arial"/>
              </a:rPr>
              <a:t>type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ype 1 – ecolabel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ype 2 - self declared environmental claim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Arial"/>
              </a:rPr>
              <a:t>type 3 - environmental declarations</a:t>
            </a:r>
            <a:endParaRPr b="0" lang="en-US" sz="2000" spc="-1" strike="noStrike">
              <a:solidFill>
                <a:srgbClr val="013c59"/>
              </a:solidFill>
              <a:latin typeface="Arial"/>
            </a:endParaRPr>
          </a:p>
        </p:txBody>
      </p:sp>
      <p:sp>
        <p:nvSpPr>
          <p:cNvPr id="11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EBCA-5BB5-42DF-AA91-B3DE75797DB5}"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graphicFrame>
        <p:nvGraphicFramePr>
          <p:cNvPr id="115" name=""/>
          <p:cNvGraphicFramePr/>
          <p:nvPr/>
        </p:nvGraphicFramePr>
        <p:xfrm>
          <a:off x="723960" y="1008000"/>
          <a:ext cx="7848720" cy="4765680"/>
        </p:xfrm>
        <a:graphic>
          <a:graphicData uri="http://schemas.openxmlformats.org/drawingml/2006/table">
            <a:tbl>
              <a:tblPr/>
              <a:tblGrid>
                <a:gridCol w="2166840"/>
                <a:gridCol w="1895400"/>
                <a:gridCol w="1897200"/>
                <a:gridCol w="1889280"/>
              </a:tblGrid>
              <a:tr h="426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Characteristic</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b050"/>
                          </a:solidFill>
                          <a:latin typeface="Arial"/>
                        </a:rPr>
                        <a:t>Type 1</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b050"/>
                          </a:solidFill>
                          <a:latin typeface="Arial"/>
                        </a:rPr>
                        <a:t>Type 2</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b050"/>
                          </a:solidFill>
                          <a:latin typeface="Arial"/>
                        </a:rPr>
                        <a:t>Type3</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77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Generic name </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Ecolabel</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elf-declared</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nvironment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laim</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nvironment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declaration</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448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cop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Whole life cycl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ingle aspect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Whole life cycl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785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Target audienc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Retail consumer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Retail consumer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Industri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onsumers</a:t>
                      </a:r>
                      <a:endParaRPr b="0" lang="en-US" sz="1400" spc="-1" strike="noStrike">
                        <a:solidFill>
                          <a:srgbClr val="013c5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6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ertification by 3rd</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arty</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ye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Generally 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Yes/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67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Governing body</a:t>
                      </a:r>
                      <a:endParaRPr b="0" lang="en-US" sz="1400" spc="-1" strike="noStrike">
                        <a:solidFill>
                          <a:srgbClr val="013c5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colabelling body</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onsumer bureau</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Accreditation body</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771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ommunication</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method</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ymbol/label </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ymbol and/or tex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nvironment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rofile data shee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43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ass-or-fall criteria</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e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bl>
          </a:graphicData>
        </a:graphic>
      </p:graphicFrame>
      <p:sp>
        <p:nvSpPr>
          <p:cNvPr id="116" name="Rectangle 15"/>
          <p:cNvSpPr/>
          <p:nvPr/>
        </p:nvSpPr>
        <p:spPr>
          <a:xfrm>
            <a:off x="660240" y="6397560"/>
            <a:ext cx="5727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7C8B-67D2-4F72-B06C-1C526C899DF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8"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A voluntary ecolabel?</a:t>
            </a:r>
            <a:endParaRPr b="0" lang="en-US" sz="2800" spc="-1" strike="noStrike">
              <a:solidFill>
                <a:srgbClr val="013c59"/>
              </a:solidFill>
              <a:latin typeface="Arial"/>
            </a:endParaRPr>
          </a:p>
        </p:txBody>
      </p:sp>
      <p:sp>
        <p:nvSpPr>
          <p:cNvPr id="119"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pplication for ecolabel can be expensive</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environmental requirements have not yet been established for all product categories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he application depends on competition in the market</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characteristics of ecodesigned product can be even better than required </a:t>
            </a:r>
            <a:r>
              <a:rPr b="0" lang="fi-FI" sz="2000" spc="-1" strike="noStrike">
                <a:solidFill>
                  <a:srgbClr val="00b050"/>
                </a:solidFill>
                <a:latin typeface="Arial"/>
              </a:rPr>
              <a:t>in certain ecolabel schemes</a:t>
            </a:r>
            <a:endParaRPr b="0" lang="en-US" sz="2000" spc="-1" strike="noStrike">
              <a:solidFill>
                <a:srgbClr val="013c59"/>
              </a:solidFill>
              <a:latin typeface="Arial"/>
            </a:endParaRPr>
          </a:p>
        </p:txBody>
      </p:sp>
      <p:sp>
        <p:nvSpPr>
          <p:cNvPr id="12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9C68-8351-491A-9706-245A3F4A595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2" name="PlaceHolder 1"/>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Introduce the consumer clearly and honestly, how the product is environmentally friendly. In  the entire lifecycle!</a:t>
            </a:r>
            <a:endParaRPr b="0" lang="en-US" sz="2400" spc="-1" strike="noStrike">
              <a:solidFill>
                <a:srgbClr val="013c59"/>
              </a:solidFill>
              <a:latin typeface="Arial"/>
            </a:endParaRPr>
          </a:p>
          <a:p>
            <a:pPr marL="266760" indent="-2667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se clear symbols, text, story, photo report: what fits your company's image and your products!</a:t>
            </a:r>
            <a:endParaRPr b="0" lang="en-US" sz="2400" spc="-1" strike="noStrike">
              <a:solidFill>
                <a:srgbClr val="013c59"/>
              </a:solidFill>
              <a:latin typeface="Arial"/>
            </a:endParaRPr>
          </a:p>
        </p:txBody>
      </p:sp>
      <p:sp>
        <p:nvSpPr>
          <p:cNvPr id="12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A222-0393-4528-8893-DC3A70018119}"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5"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Sirpa Ryynänen</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	</a:t>
            </a:r>
            <a:r>
              <a:rPr b="0" lang="fi-FI" sz="1400" spc="-1" strike="noStrike">
                <a:solidFill>
                  <a:srgbClr val="013c59"/>
                </a:solidFill>
                <a:latin typeface="Arial"/>
              </a:rPr>
              <a:t>Kuopio Academy of Design, Savonia University of Applied Sciences </a:t>
            </a:r>
            <a:br>
              <a:rPr sz="1400"/>
            </a:br>
            <a:r>
              <a:rPr b="0" lang="fi-FI" sz="1400" spc="-1" strike="noStrike">
                <a:solidFill>
                  <a:srgbClr val="013c59"/>
                </a:solidFill>
                <a:latin typeface="Arial"/>
              </a:rPr>
              <a:t>P.O. Box 98, Piispankatu 8, FI-70101 Kuopio, Finland</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358 17 308 200</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1" lang="de-AT" sz="1400" spc="-1" strike="noStrike">
                <a:solidFill>
                  <a:srgbClr val="808080"/>
                </a:solidFill>
                <a:latin typeface="Arial"/>
              </a:rPr>
              <a:t>office@designkuopio.fi</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1"/>
              </a:rPr>
              <a:t>www.eurocrafts21.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karyysi</cp:lastModifiedBy>
  <dcterms:modified xsi:type="dcterms:W3CDTF">2010-09-21T15:03:26Z</dcterms:modified>
  <cp:revision>316</cp:revision>
  <dc:subject/>
  <dc:title>Folie 1</dc:title>
</cp:coreProperties>
</file>