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98440" y="-3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37800" y="752400"/>
            <a:ext cx="5010120" cy="375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98440" y="95151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C1228-FF2A-418B-B464-58DBEB31D81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98800" y="9515520"/>
            <a:ext cx="2984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97F35-B201-4C41-B04D-83F151159A3D}" type="slidenum">
              <a:rPr b="0" lang="de-DE" sz="1200" spc="-1" strike="noStrike">
                <a:solidFill>
                  <a:srgbClr val="013c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08680" cy="375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535A8-1C5E-4967-BB47-8EB6DBCE4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76268-6265-4A2E-B7E2-CF3DDC7132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807E2-EDD7-4967-856C-5E09A1935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C0CE6-C3AA-4EB6-9CC9-AACCB7E0D2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0149D-DB8B-4FC5-ABA4-216385FA0D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3F518-7210-495E-8957-70B9E86497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7099B-CDB1-40E6-B07E-A12B78D505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69F17-B825-4193-8CD2-BB46CBF186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A0535-E77E-4B15-B499-EAABB757FE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A5836-1100-43F4-B75A-0AB5EA7845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EB5BA-628C-403D-A502-88F3D1D1CB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5CF81-682A-482B-8887-31FCE5163C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AF687-880D-4A36-A602-A787226249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CBF4A-F6C8-4D74-B198-DD2FE68D57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FD6AF-B3A2-47D4-9DD2-894910642D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D7063-2C81-4BF7-844B-EC7B22BF20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3D1D0-2E9F-4D49-A8A8-854C66B369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4690E-0AD0-4F20-9136-09EB05557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B6B8E-9B5B-461F-8C83-1BBEBCA82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2D736-0998-4716-8E68-D56749BBE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0381C-FBFB-4D18-BEC7-A0D9D6D10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2182B-9EF7-49A0-B88C-7D8D809FB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CBCD2-1095-4874-8040-4762E284A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88EE9-96F0-4208-97C6-29A3E4E99D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Times New Roman"/>
              </a:rPr>
              <a:t>B1-A1-Desarrollo sosten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0AAD-17EA-490D-B1EA-EF9C44D21B58}" type="slidenum">
              <a:rPr b="0" lang="de-AT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" descr=""/>
          <p:cNvPicPr/>
          <p:nvPr/>
        </p:nvPicPr>
        <p:blipFill>
          <a:blip r:embed="rId3"/>
          <a:stretch/>
        </p:blipFill>
        <p:spPr>
          <a:xfrm>
            <a:off x="488880" y="387360"/>
            <a:ext cx="2793960" cy="685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Times New Roman"/>
              </a:rPr>
              <a:t>B1-A1-Desarrollo sosten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E0A4-212F-4767-9942-5BE8F0C42BA0}" type="slidenum">
              <a:rPr b="0" lang="de-AT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urocrafts21.eu/" TargetMode="External"/><Relationship Id="rId2" Type="http://schemas.openxmlformats.org/officeDocument/2006/relationships/hyperlink" Target="mailto:ana.moreno@gesma.es" TargetMode="External"/><Relationship Id="rId3" Type="http://schemas.openxmlformats.org/officeDocument/2006/relationships/hyperlink" Target="http://www.gesma.es/" TargetMode="External"/><Relationship Id="rId4" Type="http://schemas.openxmlformats.org/officeDocument/2006/relationships/hyperlink" Target="http://www.cth.gva.es/CTL/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1-A1-Desarrollo sostenible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DF64-5C47-42EE-9A2B-E345F57C8013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0" y="258768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Desarrollo sostenible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Módulo B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Componente 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B1-A1 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Desarrollo Sostenibl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5" name="Picture 1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891480" y="325440"/>
            <a:ext cx="1866600" cy="754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"/>
          <p:cNvPicPr/>
          <p:nvPr/>
        </p:nvPicPr>
        <p:blipFill>
          <a:blip r:embed="rId2"/>
          <a:stretch/>
        </p:blipFill>
        <p:spPr>
          <a:xfrm>
            <a:off x="2514600" y="2017800"/>
            <a:ext cx="411480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1-A1-Desarrollo sostenible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1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A939-EE6A-4BA0-921C-BC721501C138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733320" y="1266840"/>
            <a:ext cx="811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8080"/>
                </a:solidFill>
                <a:latin typeface="Arial"/>
              </a:rPr>
              <a:t>Sostenibilidad como una declaración de misión empresarial - Agenda 21 y empresa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780120" y="2352600"/>
            <a:ext cx="798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e5815"/>
                </a:solidFill>
                <a:latin typeface="Arial"/>
                <a:ea typeface="ＭＳ Ｐゴシック"/>
              </a:rPr>
              <a:t>Extracto de la política de medio ambiente. Agenda 21 del Ministerio Federal para </a:t>
            </a:r>
            <a:br>
              <a:rPr sz="1600"/>
            </a:br>
            <a:r>
              <a:rPr b="1" lang="es-ES" sz="1600" spc="-1" strike="noStrike">
                <a:solidFill>
                  <a:srgbClr val="fe5815"/>
                </a:solidFill>
                <a:latin typeface="Arial"/>
                <a:ea typeface="ＭＳ Ｐゴシック"/>
              </a:rPr>
              <a:t>el medio ambiente, la conservación de la naturaleza y la seguridad nuclear, 1997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736560" y="3191040"/>
            <a:ext cx="777240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5815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Symbol"/>
                <a:ea typeface="Symbol"/>
              </a:rPr>
              <a:t></a:t>
            </a:r>
            <a:r>
              <a:rPr b="0" lang="es-E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808080"/>
                </a:solidFill>
                <a:latin typeface="Arial"/>
              </a:rPr>
              <a:t>El </a:t>
            </a:r>
            <a:r>
              <a:rPr b="1" lang="es-ES" sz="1600" spc="-1" strike="noStrike">
                <a:solidFill>
                  <a:srgbClr val="808080"/>
                </a:solidFill>
                <a:latin typeface="Arial"/>
              </a:rPr>
              <a:t>papel importante de la gestión del medio ambiente </a:t>
            </a:r>
            <a:r>
              <a:rPr b="0" lang="es-ES" sz="1600" spc="-1" strike="noStrike">
                <a:solidFill>
                  <a:srgbClr val="808080"/>
                </a:solidFill>
                <a:latin typeface="Arial"/>
              </a:rPr>
              <a:t>como una de las principales prioridades empresariales y como una clave determinada para un desarrollo sostenible realizado por el sector privado (responsible care) ha de ser aceptada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80808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Symbol"/>
                <a:ea typeface="Symbol"/>
              </a:rPr>
              <a:t></a:t>
            </a:r>
            <a:r>
              <a:rPr b="0" lang="es-ES" sz="1600" spc="-1" strike="noStrike">
                <a:solidFill>
                  <a:srgbClr val="808080"/>
                </a:solidFill>
                <a:latin typeface="Arial"/>
              </a:rPr>
              <a:t>Los precios de productos y servicios han de reflejar los </a:t>
            </a:r>
            <a:r>
              <a:rPr b="1" lang="es-ES" sz="1600" spc="-1" strike="noStrike">
                <a:solidFill>
                  <a:srgbClr val="808080"/>
                </a:solidFill>
                <a:latin typeface="Arial"/>
              </a:rPr>
              <a:t>costes ecológicos</a:t>
            </a:r>
            <a:r>
              <a:rPr b="0" lang="es-ES" sz="1600" spc="-1" strike="noStrike">
                <a:solidFill>
                  <a:srgbClr val="808080"/>
                </a:solidFill>
                <a:latin typeface="Arial"/>
              </a:rPr>
              <a:t> de preparativos, producción, uso, reciclado, y la eliminación de residuos</a:t>
            </a:r>
            <a:r>
              <a:rPr b="1" lang="es-ES" sz="16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1-A1-Desarrollo sostenible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2456-200F-4FD8-9DE2-6A759B835030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733320" y="1266840"/>
            <a:ext cx="797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Sostenibilidad como una declaración de misión empresarial - Agenda 21 y empresa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657360" y="3102120"/>
            <a:ext cx="7772400" cy="22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80808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808080"/>
                </a:solidFill>
                <a:latin typeface="Arial"/>
              </a:rPr>
              <a:t>Se ha de aspirar a la prevención y minimización de la generación de residuos </a:t>
            </a:r>
            <a:r>
              <a:rPr b="1" lang="es-ES" sz="1600" spc="-1" strike="noStrike">
                <a:solidFill>
                  <a:srgbClr val="808080"/>
                </a:solidFill>
                <a:latin typeface="Arial"/>
              </a:rPr>
              <a:t>gracias a  procesos de producción más eficientes</a:t>
            </a:r>
            <a:r>
              <a:rPr b="0" lang="es-ES" sz="1600" spc="-1" strike="noStrike">
                <a:solidFill>
                  <a:srgbClr val="808080"/>
                </a:solidFill>
                <a:latin typeface="Arial"/>
              </a:rPr>
              <a:t>, estrategias preventivas, tecnologías y métodos de producción más limpias  durante todo el proceso de producción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80808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Arial"/>
              </a:rPr>
              <a:t>  </a:t>
            </a:r>
            <a:r>
              <a:rPr b="0" lang="es-ES" sz="1600" spc="-1" strike="noStrike">
                <a:solidFill>
                  <a:srgbClr val="808080"/>
                </a:solidFill>
                <a:latin typeface="Arial"/>
              </a:rPr>
              <a:t>Se han de facilitar las </a:t>
            </a:r>
            <a:r>
              <a:rPr b="1" lang="es-ES" sz="1600" spc="-1" strike="noStrike">
                <a:solidFill>
                  <a:srgbClr val="808080"/>
                </a:solidFill>
                <a:latin typeface="Arial"/>
              </a:rPr>
              <a:t>innovaciones tecnológicas</a:t>
            </a:r>
            <a:r>
              <a:rPr b="0" lang="es-ES" sz="1600" spc="-1" strike="noStrike">
                <a:solidFill>
                  <a:srgbClr val="808080"/>
                </a:solidFill>
                <a:latin typeface="Arial"/>
              </a:rPr>
              <a:t>, desarrollo técnico y ejecución, transferencia de tecnología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8080"/>
                </a:solidFill>
                <a:latin typeface="Symbol"/>
                <a:ea typeface="Symbol"/>
              </a:rPr>
              <a:t></a:t>
            </a:r>
            <a:r>
              <a:rPr b="0" lang="es-ES" sz="1600" spc="-1" strike="noStrike">
                <a:solidFill>
                  <a:srgbClr val="808080"/>
                </a:solidFill>
                <a:latin typeface="Arial"/>
              </a:rPr>
              <a:t>El diálogo </a:t>
            </a:r>
            <a:r>
              <a:rPr b="1" lang="es-ES" sz="1600" spc="-1" strike="noStrike">
                <a:solidFill>
                  <a:srgbClr val="808080"/>
                </a:solidFill>
                <a:latin typeface="Arial"/>
              </a:rPr>
              <a:t>con los empleados y la opinión pública </a:t>
            </a:r>
            <a:r>
              <a:rPr b="0" lang="es-ES" sz="1600" spc="-1" strike="noStrike">
                <a:solidFill>
                  <a:srgbClr val="808080"/>
                </a:solidFill>
                <a:latin typeface="Arial"/>
              </a:rPr>
              <a:t>ha de ser reforzado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780120" y="2352600"/>
            <a:ext cx="798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e5815"/>
                </a:solidFill>
                <a:latin typeface="Arial"/>
                <a:ea typeface="ＭＳ Ｐゴシック"/>
              </a:rPr>
              <a:t>Extracto de la política de medio ambiente. Agenda 21 del Ministerio Federal para </a:t>
            </a:r>
            <a:br>
              <a:rPr sz="1600"/>
            </a:br>
            <a:r>
              <a:rPr b="1" lang="es-ES" sz="1600" spc="-1" strike="noStrike">
                <a:solidFill>
                  <a:srgbClr val="fe5815"/>
                </a:solidFill>
                <a:latin typeface="Arial"/>
                <a:ea typeface="ＭＳ Ｐゴシック"/>
              </a:rPr>
              <a:t>el medio ambiente, la conservación de la naturaleza y la seguridad nuclear, 1997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1-A1-Desarrollo sostenible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2FCF-7BC9-46BC-BA2B-2847C2B3B357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808080"/>
                </a:solidFill>
                <a:latin typeface="Verdana"/>
                <a:ea typeface="Times New Roman"/>
              </a:rPr>
              <a:t>Fuente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808080"/>
                </a:solidFill>
                <a:latin typeface="Verdana"/>
                <a:ea typeface="Times New Roman"/>
              </a:rPr>
              <a:t>     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  <a:ea typeface="Times New Roman"/>
              </a:rPr>
              <a:t>Lemken, Thomas; Rohn, Holger en colaboración con Claudia Kaiser, INA Schäfer, Anna Bliesner, Kristin Parlow: Desarrollo sostenible Módulo B1. Westdeutscher Handwerkskammertag (ed.): Gestión sostenible en las empresas de artesanía. Un Manual para la aplicación de un concepto de consultoría y calificación realizados para consultores y profesores en el sector de artesanía. Resultados  </a:t>
            </a:r>
            <a:r>
              <a:rPr b="0" i="1" lang="de-DE" sz="1600" spc="-1" strike="noStrike">
                <a:solidFill>
                  <a:srgbClr val="808080"/>
                </a:solidFill>
                <a:latin typeface="Arial"/>
                <a:ea typeface="Times New Roman"/>
              </a:rPr>
              <a:t>de un proyecto piloto, Düsseldorf (Nachhaltiges Wirtschaften en Handwerksbetrieben. Eine Handreichung zur Durchführung eines Qualifizierungs- und Beratungskonzeptes für Betriebsberater /-innen und Dozenten /-innen im Handwerk. 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  <a:ea typeface="Times New Roman"/>
              </a:rPr>
              <a:t>Ergebnisse aus einem Modellversuch, Düsseldorf).</a:t>
            </a: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1-A1-Desarrollo sostenible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7068-AB13-44F8-88B6-355D59A04B5A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71680" y="1429920"/>
            <a:ext cx="8285040" cy="22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0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9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0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s-ES" sz="1200" spc="-1" strike="noStrike" u="sng">
                <a:solidFill>
                  <a:srgbClr val="bc956e"/>
                </a:solidFill>
                <a:uFillTx/>
                <a:latin typeface="Arial"/>
                <a:hlinkClick r:id="rId1"/>
              </a:rPr>
              <a:t>www.eurocrafts21.eu</a:t>
            </a:r>
            <a:r>
              <a:rPr b="1" lang="es-ES" sz="1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250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9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0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s-E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Este proyecto está financiado con el apoyo de la Comisión Europea. Esta publicación refleja los puntos de vista sólo del autor, y la Comisión no es responsable de cualquier uso que se pueda hacer de la información contenida en él.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250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250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       </a:t>
            </a:r>
            <a:r>
              <a:rPr b="0" i="1" lang="es-E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El proyecto de Leonardo da Vinci Euro Crafts 21 se lleva a cabo bajo la Administración de plenum - sociedad para el desarrollo sostenible global y la del Instituto Factor de 10 Austria. El objetivo del proyecto es establecer  un valor añadido significativo en la educación profesional en los países asociados participantes (Austria, Finlandia, Alemania, Eslovaquia, España y Hungría).Esto se logrará mediante la transferencia de innovación de un proyecto piloto ya finalizado - con el objetivo del desarrollo y prueba de un concepto general de calificación y el consultoría para la gestión de sostenibilidad en la rama de artesanía de Renania del Norte-Westfalia (Alemania).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250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80808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250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i="1" lang="es-ES" sz="1200" spc="-1" strike="noStrike">
                <a:solidFill>
                  <a:srgbClr val="808080"/>
                </a:solidFill>
                <a:latin typeface="Arial"/>
              </a:rPr>
              <a:t>Contacto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marL="250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16040" y="3886200"/>
          <a:ext cx="8031240" cy="1935000"/>
        </p:xfrm>
        <a:graphic>
          <a:graphicData uri="http://schemas.openxmlformats.org/drawingml/2006/table">
            <a:tbl>
              <a:tblPr/>
              <a:tblGrid>
                <a:gridCol w="4016160"/>
                <a:gridCol w="4015080"/>
              </a:tblGrid>
              <a:tr h="2016360"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MA - 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tión Medioambiental y  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Sostenibilidad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r>
                        <a:rPr b="1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Ana Moreno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de las Murallas 3,10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enia 03700 (Alicante) Españ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el: 00-34--622603462  Fax: 00-34-966430283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2"/>
                        </a:rPr>
                        <a:t>ana.moreno@gesma.es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3"/>
                        </a:rPr>
                        <a:t>www.gesma.es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entro de Tecnologías Limpias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onselleria de Medio Ambiente, Agua, 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Urbanismo y Viviend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irección General para el Cambio Climático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neralitat Valenciana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rmán Giner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Isaac Peral y Caballero, 5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46980 PATERNA (VALENCIA)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lf: 00-34- 96 136 6949 - Fax: 00-34- 96 131 8495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4"/>
                        </a:rPr>
                        <a:t>http://www.cth.gva.es/CTL/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1-A1-Desarrollo sostenible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C8DE-6ED8-445A-ADFF-076F35159B11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579600" y="1219320"/>
            <a:ext cx="80564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“</a:t>
            </a:r>
            <a:r>
              <a:rPr b="1" i="1" lang="es-ES" sz="36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Ningún problema puede ser resuelto desde el mismo nivel de conciencia con el que fue creado"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bert Einstein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2590920" y="3568680"/>
            <a:ext cx="2298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1-A1-Desarrollo sostenible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63FA-A07F-4608-8E87-4849C77FBD61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066680" y="1143000"/>
            <a:ext cx="7391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»Cómo si tuviéramos cuatro Tierras...«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4006800" cy="4251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6822720" y="5711760"/>
            <a:ext cx="183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Source: Wuppertal Institute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1-A1-Desarrollo sostenible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82D8-597C-4519-94F4-3DBBFCCCB169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08" name="Picture 12" descr="Bild 33"/>
          <p:cNvPicPr/>
          <p:nvPr/>
        </p:nvPicPr>
        <p:blipFill>
          <a:blip r:embed="rId1"/>
          <a:stretch/>
        </p:blipFill>
        <p:spPr>
          <a:xfrm>
            <a:off x="927000" y="981000"/>
            <a:ext cx="7239240" cy="49658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9"/>
          <p:cNvSpPr/>
          <p:nvPr/>
        </p:nvSpPr>
        <p:spPr>
          <a:xfrm>
            <a:off x="1143000" y="1486080"/>
            <a:ext cx="677880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Comisión Brundtland: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13c59"/>
                </a:solidFill>
                <a:latin typeface="Arial"/>
              </a:rPr>
              <a:t>" el desarrollo sostenible es el desarrollo que satisface las necesidades del presente sin arriesgar que las generaciones futuras sean incapaces de satisfacer sus necesidades". [Comisión Mundial sobre el medio ambiente y el desarrollo, 1987]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Objetivo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13c59"/>
                </a:solidFill>
                <a:latin typeface="Arial"/>
              </a:rPr>
              <a:t>Conciliar la mejora de las condiciones de vida económica y social de todas las personas, que viven ahora y en el futuro, con la protección a largo plazo de los medios de vida natural.</a:t>
            </a:r>
            <a:r>
              <a:rPr b="0" lang="es-ES" sz="2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1-A1-Desarrollo sostenible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881F-1192-42D5-B439-5179B67FDF14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900440" y="1041480"/>
            <a:ext cx="62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l “triángulo mágico“ de la sostenibilidad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13" name="Picture 32" descr=""/>
          <p:cNvPicPr/>
          <p:nvPr/>
        </p:nvPicPr>
        <p:blipFill>
          <a:blip r:embed="rId1"/>
          <a:stretch/>
        </p:blipFill>
        <p:spPr>
          <a:xfrm>
            <a:off x="2249640" y="1692360"/>
            <a:ext cx="467028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1-A1-Desarrollo sostenible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7BAC-1595-44A8-8B59-86A57CDD53EF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714240" y="1143000"/>
            <a:ext cx="7696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l triángulo de la sostenibilidad en la empresa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grpSp>
        <p:nvGrpSpPr>
          <p:cNvPr id="117" name="Group 22"/>
          <p:cNvGrpSpPr/>
          <p:nvPr/>
        </p:nvGrpSpPr>
        <p:grpSpPr>
          <a:xfrm>
            <a:off x="1623960" y="1928880"/>
            <a:ext cx="5761080" cy="3132000"/>
            <a:chOff x="1623960" y="1928880"/>
            <a:chExt cx="5761080" cy="3132000"/>
          </a:xfrm>
        </p:grpSpPr>
        <p:sp>
          <p:nvSpPr>
            <p:cNvPr id="118" name="AutoShape 23"/>
            <p:cNvSpPr/>
            <p:nvPr/>
          </p:nvSpPr>
          <p:spPr>
            <a:xfrm>
              <a:off x="1623960" y="1928880"/>
              <a:ext cx="5761080" cy="31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19" name="Rechteck 8"/>
            <p:cNvSpPr/>
            <p:nvPr/>
          </p:nvSpPr>
          <p:spPr>
            <a:xfrm>
              <a:off x="1623960" y="1928880"/>
              <a:ext cx="5701320" cy="3132000"/>
            </a:xfrm>
            <a:prstGeom prst="rect">
              <a:avLst/>
            </a:prstGeom>
            <a:solidFill>
              <a:srgbClr val="fdfb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0" name="Extrahieren 9"/>
            <p:cNvSpPr/>
            <p:nvPr/>
          </p:nvSpPr>
          <p:spPr>
            <a:xfrm>
              <a:off x="2545920" y="2323080"/>
              <a:ext cx="3487320" cy="2015280"/>
            </a:xfrm>
            <a:prstGeom prst="flowChartExtract">
              <a:avLst/>
            </a:prstGeom>
            <a:gradFill rotWithShape="0">
              <a:gsLst>
                <a:gs pos="0">
                  <a:srgbClr val="584992"/>
                </a:gs>
                <a:gs pos="100000">
                  <a:srgbClr val="b6ac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ffffff"/>
                  </a:solidFill>
                  <a:latin typeface="Arial"/>
                </a:rPr>
                <a:t>Empresa sostenible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1" name="Textfeld 5"/>
            <p:cNvSpPr/>
            <p:nvPr/>
          </p:nvSpPr>
          <p:spPr>
            <a:xfrm>
              <a:off x="1738080" y="3757320"/>
              <a:ext cx="182196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13c59"/>
                  </a:solidFill>
                  <a:latin typeface="Arial"/>
                </a:rPr>
                <a:t>Social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buClr>
                  <a:srgbClr val="013c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13c59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seguridad de empleo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buClr>
                  <a:srgbClr val="013c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13c59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cooperación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buClr>
                  <a:srgbClr val="013c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13c59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igualdad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buClr>
                  <a:srgbClr val="013c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13c59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calificación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buClr>
                  <a:srgbClr val="013c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...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2" name="Textfeld 6"/>
            <p:cNvSpPr/>
            <p:nvPr/>
          </p:nvSpPr>
          <p:spPr>
            <a:xfrm>
              <a:off x="5625000" y="3643560"/>
              <a:ext cx="1704240" cy="13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13c59"/>
                  </a:solidFill>
                  <a:latin typeface="Arial"/>
                </a:rPr>
                <a:t>Ecología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buClr>
                  <a:srgbClr val="013c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13c59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ahorro de recursos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buClr>
                  <a:srgbClr val="013c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13c59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conservación de los sistemas ecológicos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buClr>
                  <a:srgbClr val="013c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13c59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reducir las emisiones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buClr>
                  <a:srgbClr val="013c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13c59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evitar el riesgo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buClr>
                  <a:srgbClr val="013c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...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3" name="Textfeld 4"/>
            <p:cNvSpPr/>
            <p:nvPr/>
          </p:nvSpPr>
          <p:spPr>
            <a:xfrm>
              <a:off x="3566880" y="2043000"/>
              <a:ext cx="3056400" cy="12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13c59"/>
                  </a:solidFill>
                  <a:latin typeface="Arial"/>
                </a:rPr>
                <a:t>Economía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buClr>
                  <a:srgbClr val="013c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13c59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asegurar la empresa a largo plazo la existencia 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buClr>
                  <a:srgbClr val="013c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  </a:t>
              </a: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valor añadido elevado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buClr>
                  <a:srgbClr val="013c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13c59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orientación sobre las necesidades del cliente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buClr>
                  <a:srgbClr val="013c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13c59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alto potencial de innovación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  <a:p>
              <a:pPr>
                <a:buClr>
                  <a:srgbClr val="013c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 </a:t>
              </a:r>
              <a:r>
                <a:rPr b="0" lang="es-ES" sz="1100" spc="-1" strike="noStrike">
                  <a:solidFill>
                    <a:srgbClr val="013c59"/>
                  </a:solidFill>
                  <a:latin typeface="Arial"/>
                </a:rPr>
                <a:t>...</a:t>
              </a:r>
              <a:endParaRPr b="0" lang="en-US" sz="11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1-A1-Desarrollo sostenible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3C92-C169-4796-B0D7-797B84636A0B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26" name="Picture 5" descr="Bild 35"/>
          <p:cNvPicPr/>
          <p:nvPr/>
        </p:nvPicPr>
        <p:blipFill>
          <a:blip r:embed="rId1"/>
          <a:stretch/>
        </p:blipFill>
        <p:spPr>
          <a:xfrm>
            <a:off x="1023840" y="2922480"/>
            <a:ext cx="3814920" cy="28400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"/>
          <p:cNvSpPr/>
          <p:nvPr/>
        </p:nvSpPr>
        <p:spPr>
          <a:xfrm>
            <a:off x="1074600" y="1000080"/>
            <a:ext cx="7839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ada vez más las empresas reconocen que no sólo asumir responsabilidad económica, sino también ecológica y social,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4543560" y="2822400"/>
            <a:ext cx="4600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   •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disminuye la exposición de riesgos,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   •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aporta más rentabilidad al trabajo,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   •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y reconoce las oportunidades de mercado anticipadamente.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1-A1-Desarrollo sostenible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C3E9-5C49-4CE0-89EE-7DB0742AFEBA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7632000" y="4524480"/>
            <a:ext cx="102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Source: Pixelio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80880" y="15238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Sostenibilidad: el papel económico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96720" y="2120760"/>
            <a:ext cx="5261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 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-  Las empresas desempeñan como motor económico un papel importante para un desarrollo económico sostenible, social y ecológico</a:t>
            </a:r>
            <a:br>
              <a:rPr sz="1800"/>
            </a:b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-   Las empresas sostenibles tienen que encontrar respuestas sobre los desafíos de la economía del mundo globalizado</a:t>
            </a:r>
            <a:br>
              <a:rPr sz="1800"/>
            </a:b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-   Sostenibilidad significa para las empresas el administrar su actividad económica correctamente, con un saldo realista de obtener ganancias y la capacidad de hacerlo en el futuro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34" name="Picture 7" descr="Bild 34"/>
          <p:cNvPicPr/>
          <p:nvPr/>
        </p:nvPicPr>
        <p:blipFill>
          <a:blip r:embed="rId1"/>
          <a:stretch/>
        </p:blipFill>
        <p:spPr>
          <a:xfrm>
            <a:off x="5819760" y="2495520"/>
            <a:ext cx="273852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1-A1-Desarrollo sostenible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4C13-A3F3-4A4F-9C29-187ECE902AFC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7660800" y="1009800"/>
            <a:ext cx="102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Source: Pixelio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38" name="Picture 6" descr="Bild 32"/>
          <p:cNvPicPr/>
          <p:nvPr/>
        </p:nvPicPr>
        <p:blipFill>
          <a:blip r:embed="rId1"/>
          <a:stretch/>
        </p:blipFill>
        <p:spPr>
          <a:xfrm>
            <a:off x="6315120" y="1219320"/>
            <a:ext cx="2282760" cy="15145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547560" y="1092960"/>
            <a:ext cx="614376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8080"/>
                </a:solidFill>
                <a:latin typeface="Arial"/>
              </a:rPr>
              <a:t>Sostenibilidad: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8080"/>
                </a:solidFill>
                <a:latin typeface="Arial"/>
              </a:rPr>
              <a:t>Oportunidad para las empresa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fuerzo de la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reput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Cumplimiento de su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responsabi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en lo referente a la naturaleza y a la sociedad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Preservación y aument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del valo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largo plazo de su empresa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Aumento de la confianz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del cliente, autoridades y asesores financieros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solidación de la 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relación con el cliente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umplimiento de los requisitos del futuro desarrollo </a:t>
            </a:r>
            <a:r>
              <a:rPr b="0" lang="de-DE" sz="2000" spc="-1" strike="noStrike">
                <a:solidFill>
                  <a:srgbClr val="013c59"/>
                </a:solidFill>
                <a:latin typeface="Arial"/>
              </a:rPr>
              <a:t>del </a:t>
            </a:r>
            <a:r>
              <a:rPr b="1" lang="de-DE" sz="2000" spc="-1" strike="noStrike">
                <a:solidFill>
                  <a:srgbClr val="013c59"/>
                </a:solidFill>
                <a:latin typeface="Arial"/>
              </a:rPr>
              <a:t> mercado de capita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013c5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tractividad para</a:t>
            </a:r>
            <a:r>
              <a:rPr b="0" lang="de-DE" sz="20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13c59"/>
                </a:solidFill>
                <a:latin typeface="Arial"/>
              </a:rPr>
              <a:t>aspirantes cualificados</a:t>
            </a:r>
            <a:r>
              <a:rPr b="0" lang="de-DE" sz="20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y efecto positivo sobre los empleado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Ana Moreno</dc:creator>
  <dc:description/>
  <dc:language>en-US</dc:language>
  <cp:lastModifiedBy>Jouni Valtonen</cp:lastModifiedBy>
  <dcterms:modified xsi:type="dcterms:W3CDTF">2010-11-23T12:34:37Z</dcterms:modified>
  <cp:revision>332</cp:revision>
  <dc:subject>EC21</dc:subject>
  <dc:title>Presentacion B1-A1</dc:title>
</cp:coreProperties>
</file>