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BC9CB-84A4-46DB-8BCC-F88508160C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D8C4E-B85D-4B92-9D6C-2208D33ABD5C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18ADB-8892-471B-8DB7-E78F30E3F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DB47-2367-443C-8809-D1E090AEF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D8A2-67EC-4926-83AF-8C6F96DC3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85ED-944B-4799-BC23-BAC868D14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DF19D-6CF8-4DDD-A561-F3ED409B5B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7A9E8-F6EF-45DF-81E9-2EA150E02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4B6E4-480E-4960-973B-BD92BD1382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D4FCC-55FC-4D1E-A272-AB4A5B72DF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FDD8B-E696-471D-9B71-7A99274039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C0192-2409-4CD2-B877-15EAFFDEE9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CA34-C92A-4B47-B48E-06F7B9846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4FE9-3ACB-45F5-98C3-88B4DF49A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7EBB1-EC10-422E-8859-4A15AC11B8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594E0-24D1-49E5-B513-440C01018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0EB6D-E660-4FC6-B1DA-49723582B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123F2-2DB2-4D6F-B8A0-EC634EAD8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17583-8495-4525-9244-7E2BD8229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4B8E-F662-4A50-9BB1-CF096951E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4494-DF19-42CE-8635-911670F1A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7013-5BEF-4EF7-9344-0115361B2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FB53-FBE0-497D-B7F8-EB5931C6E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67DE-3814-4864-9A9F-D49D7AC95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5F0D-C24B-4447-89A0-35118F0A8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AB1E-68D5-4100-9258-40305E228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Desarrollo sosten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6C3F-2257-427A-84E5-976797AC2AE9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Desarrollo sosten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F065-F74C-4A33-B9DC-583FCECA1845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3B14-E6C3-46DB-80AB-61B71EE3293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25876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esarrollo sostenible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B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B1-A1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Desarrollo Sostenibl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90D-E278-4083-B1F0-ACD8FDB29F8B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33320" y="1266840"/>
            <a:ext cx="811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Sostenibilidad como una declaración de misión empresarial - Agenda 21 y empres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780120" y="2352600"/>
            <a:ext cx="79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xtracto de la política de medio ambiente. Agenda 21 del Ministerio Federal para </a:t>
            </a:r>
            <a:br>
              <a:rPr sz="1600"/>
            </a:b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l medio ambiente, la conservación de la naturaleza y la seguridad nuclear, 1997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736560" y="3191040"/>
            <a:ext cx="77724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5815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Symbol"/>
                <a:ea typeface="Symbol"/>
              </a:rPr>
              <a:t>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papel importante de la gestión del medio ambiente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como una de las principales prioridades empresariales y como una clave determinada para un desarrollo sostenible realizado por el sector privado (responsible care) ha de ser aceptada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Symbol"/>
                <a:ea typeface="Symbol"/>
              </a:rPr>
              <a:t>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Los precios de productos y servicios han de reflejar los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costes ecológicos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 de preparativos, producción, uso, reciclado, y la eliminación de residuos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865-C4F0-4978-8E84-C505D4E229F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733320" y="12668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stenibilidad como una declaración de misión empresarial - Agenda 21 y empres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57360" y="3102120"/>
            <a:ext cx="777240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80808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Se ha de aspirar a la prevención y minimización de la generación de residuos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gracias a  procesos de producción más eficientes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, estrategias preventivas, tecnologías y métodos de producción más limpias  durante todo el proceso de producción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80808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 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Se han de facilitar las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innovaciones tecnológicas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, desarrollo técnico y ejecución, transferencia de tecnologí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Symbol"/>
                <a:ea typeface="Symbol"/>
              </a:rPr>
              <a:t>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El diálogo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con los empleados y la opinión pública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ha de ser reforzado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780120" y="2352600"/>
            <a:ext cx="79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xtracto de la política de medio ambiente. Agenda 21 del Ministerio Federal para </a:t>
            </a:r>
            <a:br>
              <a:rPr sz="1600"/>
            </a:b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l medio ambiente, la conservación de la naturaleza y la seguridad nuclear, 1997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FF0B-3357-4C10-A551-DEC8BE9F3C7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7CA-971C-4AE9-9C08-9D17EBC8EC2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42992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  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Contacto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16040" y="3886200"/>
          <a:ext cx="8031240" cy="193500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www.cth.gva.es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2DA-0541-4D20-B97D-EF393295728B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79600" y="1219320"/>
            <a:ext cx="805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“</a:t>
            </a:r>
            <a:r>
              <a:rPr b="1" i="1" lang="es-ES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ingún problema puede ser resuelto desde el mismo nivel de conciencia con el que fue creado"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bert Einstei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90920" y="3568680"/>
            <a:ext cx="2298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E75-23A3-43DC-AC58-56B0EE57BDC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066680" y="1143000"/>
            <a:ext cx="7391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Cómo si tuviéramos cuatro Tierras...«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006800" cy="4251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6822720" y="5711760"/>
            <a:ext cx="183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urce: Wuppertal Institute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2B54-5632-491E-B51A-7D4CAFB289A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8" name="Picture 12" descr="Bild 33"/>
          <p:cNvPicPr/>
          <p:nvPr/>
        </p:nvPicPr>
        <p:blipFill>
          <a:blip r:embed="rId1"/>
          <a:stretch/>
        </p:blipFill>
        <p:spPr>
          <a:xfrm>
            <a:off x="927000" y="981000"/>
            <a:ext cx="7239240" cy="4965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1143000" y="1486080"/>
            <a:ext cx="677880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misión Brundtland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13c59"/>
                </a:solidFill>
                <a:latin typeface="Arial"/>
              </a:rPr>
              <a:t>" el desarrollo sostenible es el desarrollo que satisface las necesidades del presente sin arriesgar que las generaciones futuras sean incapaces de satisfacer sus necesidades". [Comisión Mundial sobre el medio ambiente y el desarrollo, 1987]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Conciliar la mejora de las condiciones de vida económica y social de todas las personas, que viven ahora y en el futuro, con la protección a largo plazo de los medios de vida natural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9F92-E3C4-4024-A9FA-679DE6A405C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00440" y="1041480"/>
            <a:ext cx="62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l “triángulo mágico“ de la sostenibilidad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3" name="Picture 32" descr=""/>
          <p:cNvPicPr/>
          <p:nvPr/>
        </p:nvPicPr>
        <p:blipFill>
          <a:blip r:embed="rId1"/>
          <a:stretch/>
        </p:blipFill>
        <p:spPr>
          <a:xfrm>
            <a:off x="2249640" y="1692360"/>
            <a:ext cx="46702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E0F6-C3C7-47B1-BE93-F414B0E93C59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14240" y="1143000"/>
            <a:ext cx="7696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l triángulo de la sostenibilidad en la empres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1623960" y="1928880"/>
            <a:ext cx="5761080" cy="3132000"/>
            <a:chOff x="1623960" y="1928880"/>
            <a:chExt cx="5761080" cy="3132000"/>
          </a:xfrm>
        </p:grpSpPr>
        <p:sp>
          <p:nvSpPr>
            <p:cNvPr id="118" name="AutoShape 23"/>
            <p:cNvSpPr/>
            <p:nvPr/>
          </p:nvSpPr>
          <p:spPr>
            <a:xfrm>
              <a:off x="1623960" y="1928880"/>
              <a:ext cx="576108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9" name="Rechteck 8"/>
            <p:cNvSpPr/>
            <p:nvPr/>
          </p:nvSpPr>
          <p:spPr>
            <a:xfrm>
              <a:off x="1623960" y="1928880"/>
              <a:ext cx="5701320" cy="3132000"/>
            </a:xfrm>
            <a:prstGeom prst="rect">
              <a:avLst/>
            </a:prstGeom>
            <a:solidFill>
              <a:srgbClr val="fdf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0" name="Extrahieren 9"/>
            <p:cNvSpPr/>
            <p:nvPr/>
          </p:nvSpPr>
          <p:spPr>
            <a:xfrm>
              <a:off x="2545920" y="2323080"/>
              <a:ext cx="3487320" cy="2015280"/>
            </a:xfrm>
            <a:prstGeom prst="flowChartExtract">
              <a:avLst/>
            </a:prstGeom>
            <a:gradFill rotWithShape="0">
              <a:gsLst>
                <a:gs pos="0">
                  <a:srgbClr val="584992"/>
                </a:gs>
                <a:gs pos="100000">
                  <a:srgbClr val="b6ac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Empresa sostenible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1" name="Textfeld 5"/>
            <p:cNvSpPr/>
            <p:nvPr/>
          </p:nvSpPr>
          <p:spPr>
            <a:xfrm>
              <a:off x="1738080" y="3757320"/>
              <a:ext cx="18219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Social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seguridad de emple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cooperación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igualdad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calificación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2" name="Textfeld 6"/>
            <p:cNvSpPr/>
            <p:nvPr/>
          </p:nvSpPr>
          <p:spPr>
            <a:xfrm>
              <a:off x="5625000" y="3643560"/>
              <a:ext cx="170424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Ecología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horro de recurso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conservación de los sistemas ecológico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reducir las emisione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evitar el riesg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3" name="Textfeld 4"/>
            <p:cNvSpPr/>
            <p:nvPr/>
          </p:nvSpPr>
          <p:spPr>
            <a:xfrm>
              <a:off x="3566880" y="2043000"/>
              <a:ext cx="305640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Economía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segurar la empresa a largo plazo la existencia 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valor añadido elevad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orientación sobre las necesidades del cliente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lto potencial de innovación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3ED3-BA8A-4B15-B320-4EB32B234DF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6" name="Picture 5" descr="Bild 35"/>
          <p:cNvPicPr/>
          <p:nvPr/>
        </p:nvPicPr>
        <p:blipFill>
          <a:blip r:embed="rId1"/>
          <a:stretch/>
        </p:blipFill>
        <p:spPr>
          <a:xfrm>
            <a:off x="1023840" y="2922480"/>
            <a:ext cx="3814920" cy="2840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074600" y="1000080"/>
            <a:ext cx="7839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da vez más las empresas reconocen que no sólo asumir responsabilidad económica, sino también ecológica y social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43560" y="2822400"/>
            <a:ext cx="460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  •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disminuye la exposición de riesgos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  •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porta más rentabilidad al trabajo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  •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y reconoce las oportunidades de mercado anticipadamente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2A32-B310-467D-ABF1-E689E4F1F84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632000" y="452448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urce: Pixelio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88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stenibilidad: el papel económic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6720" y="2120760"/>
            <a:ext cx="5261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  Las empresas desempeñan como motor económico un papel importante para un desarrollo económico sostenible, social y ecológico</a:t>
            </a: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   Las empresas sostenibles tienen que encontrar respuestas sobre los desafíos de la economía del mundo globalizado</a:t>
            </a: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  Sostenibilidad significa para las empresas el administrar su actividad económica correctamente, con un saldo realista de obtener ganancias y la capacidad de hacerlo en el futuro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4" name="Picture 7" descr="Bild 34"/>
          <p:cNvPicPr/>
          <p:nvPr/>
        </p:nvPicPr>
        <p:blipFill>
          <a:blip r:embed="rId1"/>
          <a:stretch/>
        </p:blipFill>
        <p:spPr>
          <a:xfrm>
            <a:off x="5819760" y="2495520"/>
            <a:ext cx="27385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2AA-69EE-4C03-A3F9-F983E6FEE73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660800" y="10098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Source: Pixelio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8" name="Picture 6" descr="Bild 32"/>
          <p:cNvPicPr/>
          <p:nvPr/>
        </p:nvPicPr>
        <p:blipFill>
          <a:blip r:embed="rId1"/>
          <a:stretch/>
        </p:blipFill>
        <p:spPr>
          <a:xfrm>
            <a:off x="6315120" y="1219320"/>
            <a:ext cx="2282760" cy="1514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547560" y="1092960"/>
            <a:ext cx="6143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Sostenibilidad: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Oportunidad para las empres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uerzo de la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put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umplimiento de su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spons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lo referente a la naturaleza y a la socie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eservación y aum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l val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rgo plazo de su empre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umento de la confianz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l cliente, autoridades y asesores financiero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ción de la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lación con el client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mplimiento de los requisitos del futuro desarrollo 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del 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 mercado de capita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ractividad para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aspirantes cualificados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 efecto positivo sobre los emplead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Jouni Valtonen</cp:lastModifiedBy>
  <dcterms:modified xsi:type="dcterms:W3CDTF">2010-11-23T12:34:37Z</dcterms:modified>
  <cp:revision>332</cp:revision>
  <dc:subject>EC21</dc:subject>
  <dc:title>Presentacion B1-A1</dc:title>
</cp:coreProperties>
</file>