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45C71-A6F2-4B41-8EE2-F016B77705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5C8E0-0F7A-4446-B4F9-D404C5A7E7E4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B527-64EA-4714-B114-FDFFD8FF4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A170-95DE-4017-B367-6C62A5748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4C53-A86F-4A6A-938E-371C3CB94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8734-22EB-469C-9A3C-0C106545B8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981D7-F52B-4A4A-8DE2-AA3981EF95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8705D-29B1-44F9-9C15-58DDF521A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DD8F-A80F-430B-B025-EB5D204C8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52D4-257B-4A64-A4F1-AA888E482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34E7F-470C-40D9-8876-713F20FE9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29C57-85AB-42D7-9ABC-1B85F61D1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6868-7853-4D5D-B190-4D316D588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EF4CE-67C3-4F26-ABBF-7F5DE3941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2-B1 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La Autoevaluación – Proceso en la em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23BB-0A63-4D0C-AACB-624FB76ED4D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http://www.eurocrafts21.eu/" TargetMode="External"/><Relationship Id="rId3" Type="http://schemas.openxmlformats.org/officeDocument/2006/relationships/hyperlink" Target="http://www.eurocrafts21.eu/" TargetMode="External"/><Relationship Id="rId4" Type="http://schemas.openxmlformats.org/officeDocument/2006/relationships/hyperlink" Target="mailto:ana.moreno@gesma.es" TargetMode="External"/><Relationship Id="rId5" Type="http://schemas.openxmlformats.org/officeDocument/2006/relationships/hyperlink" Target="http://www.gesma.es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hyperlink" Target="http://www.cth.gva.es/CTL/" TargetMode="External"/><Relationship Id="rId8" Type="http://schemas.openxmlformats.org/officeDocument/2006/relationships/hyperlink" Target="http://www.cth.gva.es/CTL/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Autoevaluación de sostenibilidad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B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B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B2-B1 </a:t>
            </a:r>
            <a:r>
              <a:rPr b="1" lang="de-DE" sz="1800" spc="-1" strike="noStrike">
                <a:solidFill>
                  <a:srgbClr val="808080"/>
                </a:solidFill>
                <a:latin typeface="Arial"/>
              </a:rPr>
              <a:t>La Autoevaluación – Proceso en la empre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F27F-FA5B-4240-8BC9-5DFA81C9B8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914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Proceso general en la empresa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296120" y="1795320"/>
            <a:ext cx="1845720" cy="762120"/>
            <a:chOff x="7296120" y="1795320"/>
            <a:chExt cx="1845720" cy="762120"/>
          </a:xfrm>
        </p:grpSpPr>
        <p:sp>
          <p:nvSpPr>
            <p:cNvPr id="57" name=""/>
            <p:cNvSpPr/>
            <p:nvPr/>
          </p:nvSpPr>
          <p:spPr>
            <a:xfrm>
              <a:off x="7296120" y="179532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03200" y="196200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1. Encuentr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361280" y="2990880"/>
            <a:ext cx="1780200" cy="914040"/>
            <a:chOff x="7361280" y="2990880"/>
            <a:chExt cx="1780200" cy="914040"/>
          </a:xfrm>
        </p:grpSpPr>
        <p:sp>
          <p:nvSpPr>
            <p:cNvPr id="60" name=""/>
            <p:cNvSpPr/>
            <p:nvPr/>
          </p:nvSpPr>
          <p:spPr>
            <a:xfrm>
              <a:off x="7361280" y="2990880"/>
              <a:ext cx="303480" cy="91404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66920" y="319248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2. Encuentr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20560" y="1498680"/>
            <a:ext cx="71614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3040" indent="-29880">
              <a:lnSpc>
                <a:spcPct val="130000"/>
              </a:lnSpc>
              <a:spcBef>
                <a:spcPts val="876"/>
              </a:spcBef>
              <a:buClr>
                <a:srgbClr val="013c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1. Forme un equipo (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¿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quien debe participar?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2. Reunión del encargado de proyecto con el equipo (internamente, sin formadores)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Meta: Introducción a la ejecución del „self check „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3. Cada miembro del equipo logra la evaluación del status quo individualmente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4. Taller de media jornada (bajo moderación del formador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¿„Donde nos encontramos según el análisis actual? “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La declaración de las evaluacione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¿Necesidad de discusión? ¿Información adicional?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5. Taller de media jornada (bajo presentación del formador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Las medidas para otras mejoras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Clarificar las evaluaciones abiert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Identificación de las fortalezas y del potenciales de mejor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• </a:t>
            </a: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Plan de medidas y procedimiento adicional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6. Conversión de las medidas de mejor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03040" indent="-29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808080"/>
                </a:solidFill>
                <a:latin typeface="Arial"/>
              </a:rPr>
              <a:t>posteriormente:  Intercambio de experiencias con los resultados, correcturas en caso de necesidad, medidas ya lograd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361280" y="4133880"/>
            <a:ext cx="1780200" cy="1523520"/>
            <a:chOff x="7361280" y="4133880"/>
            <a:chExt cx="1780200" cy="1523520"/>
          </a:xfrm>
        </p:grpSpPr>
        <p:sp>
          <p:nvSpPr>
            <p:cNvPr id="64" name=""/>
            <p:cNvSpPr/>
            <p:nvPr/>
          </p:nvSpPr>
          <p:spPr>
            <a:xfrm>
              <a:off x="7361280" y="4133880"/>
              <a:ext cx="303480" cy="152352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39600 h 1523520"/>
                <a:gd name="textAreaBottom" fmla="*/ 148392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66920" y="46278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3. Encuentro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11C82-8C31-4E18-A4C2-641743DD2E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9040" y="1143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Formar un equipo y preparación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676520"/>
            <a:ext cx="70866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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Eduque al equipo del proyecto, para lograr realizar la autoevaluación de de forma individual. Este equipo puede consistir en un círculo pequeño del personal de alto nivel (dueño, director ) o de un comité existente. Los empleados deben ser integrados en el equipo o consultados en caso de necesidad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Participan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entre tres y ocho personas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  <a:ea typeface="Arial"/>
              </a:rPr>
              <a:t>Informe a los directores de gestión y a los empleados respectivos de su proyecto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C075A-60AA-4B2C-8F22-9990DC1C79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917280"/>
            <a:ext cx="918036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Utilización del análisis de status quo / Autoevaluación:</a:t>
            </a: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»Kick off« (1. Encuentro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960" y="2077920"/>
            <a:ext cx="887904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en-GB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808080"/>
                </a:solidFill>
                <a:latin typeface="Arial"/>
                <a:ea typeface="Arial"/>
              </a:rPr>
              <a:t>Reunión interna del equipo (aproximadamente. 1 - 1.5 h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Introducción a la autoevaluación y a la metodología de la autoevaluación por el encargado de proyecto de la empres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Preguntas abiertas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Distribución de los materiales para la autoevaluación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En caso necesario, aplazamiento del taller de realización de la autoevaluación (2. Fecha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 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Posteriormente: Complete las secciones de la autoevaluación individualment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Wingdings"/>
                <a:ea typeface="Wingdings"/>
              </a:rPr>
              <a:t></a:t>
            </a:r>
            <a:r>
              <a:rPr b="0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 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Aproximadamente 1 semana antes de la 2. Fecha: envio de las autoevaluaciones rellenadas al coordinador del equipo</a:t>
            </a:r>
            <a:r>
              <a:rPr b="0" lang="de-DE" sz="16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lvl="1" marL="673200" indent="-216000"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38D1-8074-49E1-87C0-225CC6E639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21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Utilización del análisis de status quo / Autoevaluación : </a:t>
            </a:r>
            <a:br>
              <a:rPr sz="28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Workshop de valoración (2. Encuentro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200" y="1967040"/>
            <a:ext cx="8319960" cy="37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Media jornada asistida con moderación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Especifique explicaciones de las valoraciones de la autoevaluación (generalmente las que contienen menos de 2 a 3 desviación) y la definición del valor medio. Base: evaluaciones individuales del status quo de los miembros del equip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Discusión de las evaluaciones y la identificación de una evaluación común no consensual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Determinación de los valores medios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Marque (si es necesario) esas declaraciones/evaluaciones, </a:t>
            </a:r>
            <a:br>
              <a:rPr sz="1600"/>
            </a:b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para las que necesita aún más información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Elaborar la visualización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Arial"/>
              </a:rPr>
              <a:t>Conclusiones y opinión sobre potenciales y taller de medidas (3. Fecha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C627B-889B-4421-924D-83A8FACAD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07280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Utilización del análisis de status quo / Autoevaluación : </a:t>
            </a:r>
            <a:br>
              <a:rPr sz="2800"/>
            </a:b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Workshop de potenciales y medidas (3. Encuentro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52640" y="2036880"/>
            <a:ext cx="761976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Media jornada asistida con moderació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de-DE" sz="7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</a:t>
            </a:r>
            <a:r>
              <a:rPr b="0" i="1" lang="de-DE" sz="1400" spc="-1" strike="noStrike" u="sng">
                <a:solidFill>
                  <a:srgbClr val="808080"/>
                </a:solidFill>
                <a:uFillTx/>
                <a:latin typeface="Arial"/>
                <a:ea typeface="Arial"/>
              </a:rPr>
              <a:t>en caso de necesidad.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Fijación de datos y de secciones de la evaluació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Introducción a la metodología de la identificación de potenciales y de medid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 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Recolección común de las fortalezas y de los potenciales de mejora del análisis del status quo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Priorización de los potenciales de mejor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Transformación del potenciales de mejora en medida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 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Instale un plan de medidas de acción </a:t>
            </a:r>
            <a:r>
              <a:rPr b="0" lang="de-DE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  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buClr>
                <a:srgbClr val="80808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 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  <a:ea typeface="Arial"/>
              </a:rPr>
              <a:t>Conclusión y opinión sobre la reflexión intercambios de experiencia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EA1E-363B-4827-8C8A-90A6AD9F0E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D1A6-B856-45E1-8C47-F92A7211A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680" y="142992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.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3"/>
              </a:rPr>
              <a:t>eu</a:t>
            </a: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  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Contacto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16040" y="388620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7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8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11A1-66E3-4C2F-B404-8B11FFA5B6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1-19T11:47:59Z</dcterms:modified>
  <cp:revision>368</cp:revision>
  <dc:subject/>
  <dc:title>Presentacion B2-B1</dc:title>
</cp:coreProperties>
</file>