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98440" y="-360"/>
            <a:ext cx="298476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37800" y="752400"/>
            <a:ext cx="5010120" cy="375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98440" y="9515160"/>
            <a:ext cx="298476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63C4C-EAFE-4960-93B6-FE8E405F220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98800" y="9515520"/>
            <a:ext cx="29847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BBA29-C413-4DBF-9C5B-B3EFA84C7B37}" type="slidenum">
              <a:rPr b="0" lang="de-DE" sz="1200" spc="-1" strike="noStrike">
                <a:solidFill>
                  <a:srgbClr val="013c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38160" y="752400"/>
            <a:ext cx="5008680" cy="3756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700EB-24DA-4554-812C-EA79E21BF3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989BB-2F00-4F3A-8876-53D38F4DF7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0843E-C9B3-4DBE-8B49-5B45180B6F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7FAD1-27E8-41E7-A89F-E2E81AEEE3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95428-C5A2-4716-AF56-BF2FF72B2C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F954B-1EC7-422C-BA15-04E1C7C1F0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0F222-A353-4FEB-B8E6-B1A6A9F0F4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E5150-36ED-4649-B5BE-3DB6E8132C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5275C-40B1-466E-ABB9-C58C6259B5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C7AE8-8E79-4F35-B749-EAF17DD9AD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E59AB-64E7-400D-AA39-28ED64F1BC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52AC1-8249-44B2-B0CC-AC575AFC11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9"/>
          <p:cNvSpPr/>
          <p:nvPr/>
        </p:nvSpPr>
        <p:spPr>
          <a:xfrm>
            <a:off x="-7217640" y="6005520"/>
            <a:ext cx="23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Text Box 44"/>
          <p:cNvSpPr/>
          <p:nvPr/>
        </p:nvSpPr>
        <p:spPr>
          <a:xfrm>
            <a:off x="463680" y="5883120"/>
            <a:ext cx="821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cc00"/>
                </a:solidFill>
                <a:latin typeface="Arial"/>
              </a:rPr>
              <a:t>-----------------------------------------------------------------------------------------------------------------------------------------------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Rectangle 48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234200" y="325440"/>
            <a:ext cx="1523880" cy="6159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Arial"/>
              </a:rPr>
              <a:t>B2-B1 </a:t>
            </a: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La Autoevaluación – Proceso en la empr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A86C-002B-4884-8330-0AB9B0662637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488880" y="387360"/>
            <a:ext cx="279396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urocrafts21.eu/" TargetMode="External"/><Relationship Id="rId2" Type="http://schemas.openxmlformats.org/officeDocument/2006/relationships/hyperlink" Target="http://www.eurocrafts21.eu/" TargetMode="External"/><Relationship Id="rId3" Type="http://schemas.openxmlformats.org/officeDocument/2006/relationships/hyperlink" Target="http://www.eurocrafts21.eu/" TargetMode="External"/><Relationship Id="rId4" Type="http://schemas.openxmlformats.org/officeDocument/2006/relationships/hyperlink" Target="mailto:ana.moreno@gesma.es" TargetMode="External"/><Relationship Id="rId5" Type="http://schemas.openxmlformats.org/officeDocument/2006/relationships/hyperlink" Target="http://www.gesma.es/" TargetMode="External"/><Relationship Id="rId6" Type="http://schemas.openxmlformats.org/officeDocument/2006/relationships/hyperlink" Target="http://www.cth.gva.es/CTL/" TargetMode="External"/><Relationship Id="rId7" Type="http://schemas.openxmlformats.org/officeDocument/2006/relationships/hyperlink" Target="http://www.cth.gva.es/CTL/" TargetMode="External"/><Relationship Id="rId8" Type="http://schemas.openxmlformats.org/officeDocument/2006/relationships/hyperlink" Target="http://www.cth.gva.es/CTL/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2587680"/>
            <a:ext cx="91440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Autoevaluación de sostenibilidad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Módulo B</a:t>
            </a: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Componente B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B2-B1 </a:t>
            </a:r>
            <a:r>
              <a:rPr b="1" lang="de-DE" sz="1800" spc="-1" strike="noStrike">
                <a:solidFill>
                  <a:srgbClr val="808080"/>
                </a:solidFill>
                <a:latin typeface="Arial"/>
              </a:rPr>
              <a:t>La Autoevaluación – Proceso en la empres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www.eurocrafts21.eu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6891480" y="325440"/>
            <a:ext cx="1866600" cy="754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14600" y="2017800"/>
            <a:ext cx="4114800" cy="135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16F1D-B820-4884-98F7-901407C79D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91440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Proceso general en la empresa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7296120" y="1795320"/>
            <a:ext cx="1845720" cy="762120"/>
            <a:chOff x="7296120" y="1795320"/>
            <a:chExt cx="1845720" cy="762120"/>
          </a:xfrm>
        </p:grpSpPr>
        <p:sp>
          <p:nvSpPr>
            <p:cNvPr id="57" name=""/>
            <p:cNvSpPr/>
            <p:nvPr/>
          </p:nvSpPr>
          <p:spPr>
            <a:xfrm>
              <a:off x="7296120" y="1795320"/>
              <a:ext cx="304920" cy="7621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603200" y="1962000"/>
              <a:ext cx="15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ff0000"/>
                  </a:solidFill>
                  <a:latin typeface="Arial"/>
                </a:rPr>
                <a:t>1. Encuentro</a:t>
              </a: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7361280" y="2990880"/>
            <a:ext cx="1780200" cy="914040"/>
            <a:chOff x="7361280" y="2990880"/>
            <a:chExt cx="1780200" cy="914040"/>
          </a:xfrm>
        </p:grpSpPr>
        <p:sp>
          <p:nvSpPr>
            <p:cNvPr id="60" name=""/>
            <p:cNvSpPr/>
            <p:nvPr/>
          </p:nvSpPr>
          <p:spPr>
            <a:xfrm>
              <a:off x="7361280" y="2990880"/>
              <a:ext cx="303480" cy="914040"/>
            </a:xfrm>
            <a:custGeom>
              <a:avLst/>
              <a:gdLst>
                <a:gd name="textAreaLeft" fmla="*/ 0 w 303480"/>
                <a:gd name="textAreaRight" fmla="*/ 109440 w 303480"/>
                <a:gd name="textAreaTop" fmla="*/ 23760 h 914040"/>
                <a:gd name="textAreaBottom" fmla="*/ 890280 h 9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66920" y="3192480"/>
              <a:ext cx="14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0000"/>
                  </a:solidFill>
                  <a:latin typeface="Arial"/>
                </a:rPr>
                <a:t>2. Encuentro</a:t>
              </a: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520560" y="1498680"/>
            <a:ext cx="716148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3040" indent="-29880">
              <a:lnSpc>
                <a:spcPct val="130000"/>
              </a:lnSpc>
              <a:spcBef>
                <a:spcPts val="876"/>
              </a:spcBef>
              <a:buClr>
                <a:srgbClr val="013c5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03040" indent="-29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1. Forme un equipo (</a:t>
            </a: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¿</a:t>
            </a: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quien debe participar?)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03040" indent="-29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2. Reunión del encargado de proyecto con el equipo (internamente, sin formadores) 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03040" indent="-29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Meta: Introducción a la ejecución del „self check „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03040" indent="-29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3. Cada miembro del equipo logra la evaluación del status quo individualmente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03040" indent="-29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03040" indent="-29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4. Taller de media jornada (bajo moderación del formador)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03040" indent="-29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• </a:t>
            </a: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¿„Donde nos encontramos según el análisis actual? “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03040" indent="-29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• </a:t>
            </a: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La declaración de las evaluaciones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03040" indent="-29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• </a:t>
            </a: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¿Necesidad de discusión? ¿Información adicional?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03040" indent="-29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03040" indent="-29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5. Taller de media jornada (bajo presentación del formador)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03040" indent="-29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• </a:t>
            </a: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Las medidas para otras mejoras 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03040" indent="-29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• </a:t>
            </a: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Clarificar las evaluaciones abiertas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03040" indent="-29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• </a:t>
            </a: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Identificación de las fortalezas y del potenciales de mejora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03040" indent="-29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• </a:t>
            </a: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Plan de medidas y procedimiento adicional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03040" indent="-29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6. Conversión de las medidas de mejora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03040" indent="-29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posteriormente:  Intercambio de experiencias con los resultados, correcturas en caso de necesidad, medidas ya logradas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361280" y="4133880"/>
            <a:ext cx="1780200" cy="1523520"/>
            <a:chOff x="7361280" y="4133880"/>
            <a:chExt cx="1780200" cy="1523520"/>
          </a:xfrm>
        </p:grpSpPr>
        <p:sp>
          <p:nvSpPr>
            <p:cNvPr id="64" name=""/>
            <p:cNvSpPr/>
            <p:nvPr/>
          </p:nvSpPr>
          <p:spPr>
            <a:xfrm>
              <a:off x="7361280" y="4133880"/>
              <a:ext cx="303480" cy="1523520"/>
            </a:xfrm>
            <a:custGeom>
              <a:avLst/>
              <a:gdLst>
                <a:gd name="textAreaLeft" fmla="*/ 0 w 303480"/>
                <a:gd name="textAreaRight" fmla="*/ 109440 w 303480"/>
                <a:gd name="textAreaTop" fmla="*/ 39600 h 1523520"/>
                <a:gd name="textAreaBottom" fmla="*/ 1483920 h 152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66920" y="4627800"/>
              <a:ext cx="14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0000"/>
                  </a:solidFill>
                  <a:latin typeface="Arial"/>
                </a:rPr>
                <a:t>3. Encuentro</a:t>
              </a: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013CB-D49A-4B26-987E-280F056656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9040" y="1143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Formar un equipo y preparación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1676520"/>
            <a:ext cx="7086600" cy="40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76200" indent="-37620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08080"/>
                </a:solidFill>
                <a:latin typeface="Wingdings"/>
                <a:ea typeface="Wingdings"/>
              </a:rPr>
              <a:t></a:t>
            </a:r>
            <a:r>
              <a:rPr b="0" lang="de-DE" sz="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808080"/>
                </a:solidFill>
                <a:latin typeface="Arial"/>
                <a:ea typeface="Arial"/>
              </a:rPr>
              <a:t>Eduque al equipo del proyecto, para lograr realizar la autoevaluación de de forma individual. Este equipo puede consistir en un círculo pequeño del personal de alto nivel (dueño, director ) o de un comité existente. Los empleados deben ser integrados en el equipo o consultados en caso de necesidad.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76200" indent="-37620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08080"/>
                </a:solidFill>
                <a:latin typeface="Wingdings"/>
                <a:ea typeface="Wingdings"/>
              </a:rPr>
              <a:t></a:t>
            </a:r>
            <a:r>
              <a:rPr b="0" lang="de-DE" sz="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</a:t>
            </a:r>
            <a:r>
              <a:rPr b="0" lang="de-DE" sz="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de-DE" sz="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808080"/>
                </a:solidFill>
                <a:latin typeface="Arial"/>
                <a:ea typeface="Arial"/>
              </a:rPr>
              <a:t>Participan</a:t>
            </a:r>
            <a:r>
              <a:rPr b="0" lang="de-DE" sz="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808080"/>
                </a:solidFill>
                <a:latin typeface="Arial"/>
                <a:ea typeface="Arial"/>
              </a:rPr>
              <a:t>entre tres y ocho personas.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76200" indent="-37620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08080"/>
                </a:solidFill>
                <a:latin typeface="Wingdings"/>
                <a:ea typeface="Wingdings"/>
              </a:rPr>
              <a:t></a:t>
            </a:r>
            <a:r>
              <a:rPr b="0" lang="de-DE" sz="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</a:t>
            </a:r>
            <a:r>
              <a:rPr b="0" lang="de-DE" sz="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808080"/>
                </a:solidFill>
                <a:latin typeface="Arial"/>
                <a:ea typeface="Arial"/>
              </a:rPr>
              <a:t>Informe a los directores de gestión y a los empleados respectivos de su proyecto.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EE965-42A3-478B-9486-CE26AD1A7D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5320" y="917280"/>
            <a:ext cx="918036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Utilización del análisis de status quo / Autoevaluación:</a:t>
            </a: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»Kick off« (1. Encuentro)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4960" y="2077920"/>
            <a:ext cx="8879040" cy="44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Wingdings"/>
                <a:ea typeface="Wingdings"/>
              </a:rPr>
              <a:t></a:t>
            </a:r>
            <a:r>
              <a:rPr b="0" lang="en-GB" sz="7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  <a:ea typeface="Arial"/>
              </a:rPr>
              <a:t>Reunión interna del equipo (aproximadamente. 1 - 1.5 h)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Wingdings"/>
                <a:ea typeface="Wingdings"/>
              </a:rPr>
              <a:t></a:t>
            </a:r>
            <a:r>
              <a:rPr b="0" lang="de-DE" sz="7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</a:t>
            </a:r>
            <a:r>
              <a:rPr b="0" lang="de-DE" sz="1600" spc="-1" strike="noStrike">
                <a:solidFill>
                  <a:srgbClr val="808080"/>
                </a:solidFill>
                <a:latin typeface="Arial"/>
                <a:ea typeface="Arial"/>
              </a:rPr>
              <a:t>Introducción a la autoevaluación y a la metodología de la autoevaluación por el encargado de proyecto de la empresa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80808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  <a:ea typeface="Arial"/>
              </a:rPr>
              <a:t>Preguntas abiertas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80808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  <a:ea typeface="Arial"/>
              </a:rPr>
              <a:t>Distribución de los materiales para la autoevaluación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Wingdings"/>
                <a:ea typeface="Wingdings"/>
              </a:rPr>
              <a:t></a:t>
            </a:r>
            <a:r>
              <a:rPr b="0" lang="de-DE" sz="7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</a:t>
            </a:r>
            <a:r>
              <a:rPr b="0" lang="de-DE" sz="1600" spc="-1" strike="noStrike">
                <a:solidFill>
                  <a:srgbClr val="808080"/>
                </a:solidFill>
                <a:latin typeface="Arial"/>
                <a:ea typeface="Arial"/>
              </a:rPr>
              <a:t>En caso necesario, aplazamiento del taller de realización de la autoevaluación (2. Fecha)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Wingdings"/>
                <a:ea typeface="Wingdings"/>
              </a:rPr>
              <a:t></a:t>
            </a:r>
            <a:r>
              <a:rPr b="0" lang="de-DE" sz="7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</a:t>
            </a:r>
            <a:r>
              <a:rPr b="0" lang="de-DE" sz="1600" spc="-1" strike="noStrike">
                <a:solidFill>
                  <a:srgbClr val="808080"/>
                </a:solidFill>
                <a:latin typeface="Arial"/>
                <a:ea typeface="Arial"/>
              </a:rPr>
              <a:t> </a:t>
            </a:r>
            <a:r>
              <a:rPr b="0" lang="de-DE" sz="1600" spc="-1" strike="noStrike">
                <a:solidFill>
                  <a:srgbClr val="808080"/>
                </a:solidFill>
                <a:latin typeface="Arial"/>
                <a:ea typeface="Arial"/>
              </a:rPr>
              <a:t>Posteriormente: Complete las secciones de la autoevaluación individualmente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Wingdings"/>
                <a:ea typeface="Wingdings"/>
              </a:rPr>
              <a:t></a:t>
            </a:r>
            <a:r>
              <a:rPr b="0" lang="de-DE" sz="7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</a:t>
            </a:r>
            <a:r>
              <a:rPr b="0" lang="de-DE" sz="1600" spc="-1" strike="noStrike">
                <a:solidFill>
                  <a:srgbClr val="808080"/>
                </a:solidFill>
                <a:latin typeface="Arial"/>
                <a:ea typeface="Arial"/>
              </a:rPr>
              <a:t> </a:t>
            </a:r>
            <a:r>
              <a:rPr b="0" lang="de-DE" sz="1600" spc="-1" strike="noStrike">
                <a:solidFill>
                  <a:srgbClr val="808080"/>
                </a:solidFill>
                <a:latin typeface="Arial"/>
                <a:ea typeface="Arial"/>
              </a:rPr>
              <a:t>Aproximadamente 1 semana antes de la 2. Fecha: envio de las autoevaluaciones rellenadas al coordinador del equipo</a:t>
            </a:r>
            <a:r>
              <a:rPr b="0" lang="de-DE" sz="16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lvl="1" marL="673200" indent="-216000">
              <a:lnSpc>
                <a:spcPct val="130000"/>
              </a:lnSpc>
              <a:spcBef>
                <a:spcPts val="876"/>
              </a:spcBef>
              <a:buClr>
                <a:srgbClr val="80808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F936E-3A73-4061-9DD9-514B1AE698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22184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Utilización del análisis de status quo / Autoevaluación : </a:t>
            </a:r>
            <a:br>
              <a:rPr sz="2800"/>
            </a:b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Workshop de valoración (2. Encuentro)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1200" y="1967040"/>
            <a:ext cx="8319960" cy="37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80808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  <a:ea typeface="Arial"/>
              </a:rPr>
              <a:t>Media jornada asistida con moderación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80808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  <a:ea typeface="Arial"/>
              </a:rPr>
              <a:t>Especifique explicaciones de las valoraciones de la autoevaluación (generalmente las que contienen menos de 2 a 3 desviación) y la definición del valor medio. Base: evaluaciones individuales del status quo de los miembros del equipo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80808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  <a:ea typeface="Arial"/>
              </a:rPr>
              <a:t>Discusión de las evaluaciones y la identificación de una evaluación común no consensual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80808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  <a:ea typeface="Arial"/>
              </a:rPr>
              <a:t>Determinación de los valores medios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80808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  <a:ea typeface="Arial"/>
              </a:rPr>
              <a:t> </a:t>
            </a:r>
            <a:r>
              <a:rPr b="0" lang="de-DE" sz="1600" spc="-1" strike="noStrike">
                <a:solidFill>
                  <a:srgbClr val="808080"/>
                </a:solidFill>
                <a:latin typeface="Arial"/>
                <a:ea typeface="Arial"/>
              </a:rPr>
              <a:t>Marque (si es necesario) esas declaraciones/evaluaciones, </a:t>
            </a:r>
            <a:br>
              <a:rPr sz="1600"/>
            </a:br>
            <a:r>
              <a:rPr b="0" lang="de-DE" sz="1600" spc="-1" strike="noStrike">
                <a:solidFill>
                  <a:srgbClr val="808080"/>
                </a:solidFill>
                <a:latin typeface="Arial"/>
                <a:ea typeface="Arial"/>
              </a:rPr>
              <a:t>para las que necesita aún más información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80808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  <a:ea typeface="Arial"/>
              </a:rPr>
              <a:t>Elaborar la visualización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80808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  <a:ea typeface="Arial"/>
              </a:rPr>
              <a:t> </a:t>
            </a:r>
            <a:r>
              <a:rPr b="0" lang="de-DE" sz="1600" spc="-1" strike="noStrike">
                <a:solidFill>
                  <a:srgbClr val="808080"/>
                </a:solidFill>
                <a:latin typeface="Arial"/>
                <a:ea typeface="Arial"/>
              </a:rPr>
              <a:t>Conclusiones y opinión sobre potenciales y taller de medidas (3. Fecha)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F42C2-1574-414C-AE16-169B4A2654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1072800"/>
            <a:ext cx="9296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Utilización del análisis de status quo / Autoevaluación : </a:t>
            </a:r>
            <a:br>
              <a:rPr sz="2800"/>
            </a:b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Workshop de potenciales y medidas (3. Encuentro)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52640" y="2036880"/>
            <a:ext cx="7619760" cy="36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buClr>
                <a:srgbClr val="80808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 </a:t>
            </a:r>
            <a:r>
              <a:rPr b="0" i="1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Media jornada asistida con moderación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buClr>
                <a:srgbClr val="80808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de-DE" sz="7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</a:t>
            </a:r>
            <a:r>
              <a:rPr b="0" i="1" lang="de-DE" sz="1400" spc="-1" strike="noStrike" u="sng">
                <a:solidFill>
                  <a:srgbClr val="808080"/>
                </a:solidFill>
                <a:uFillTx/>
                <a:latin typeface="Arial"/>
                <a:ea typeface="Arial"/>
              </a:rPr>
              <a:t>en caso de necesidad.</a:t>
            </a:r>
            <a:r>
              <a:rPr b="0" i="1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 Fijación de datos y de secciones de la evaluación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buClr>
                <a:srgbClr val="80808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 </a:t>
            </a:r>
            <a:r>
              <a:rPr b="0" i="1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Introducción a la metodología de la identificación de potenciales y de medidas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buClr>
                <a:srgbClr val="80808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  </a:t>
            </a:r>
            <a:r>
              <a:rPr b="0" i="1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Recolección común de las fortalezas y de los potenciales de mejora del análisis del status quo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buClr>
                <a:srgbClr val="80808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  </a:t>
            </a:r>
            <a:r>
              <a:rPr b="0" i="1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Priorización de los potenciales de mejora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buClr>
                <a:srgbClr val="80808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  </a:t>
            </a:r>
            <a:r>
              <a:rPr b="0" i="1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Transformación del potenciales de mejora en medidas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80808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  </a:t>
            </a:r>
            <a:r>
              <a:rPr b="0" i="1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Instale un plan de medidas de acción </a:t>
            </a:r>
            <a:r>
              <a:rPr b="0" lang="de-DE" sz="1600" spc="-1" strike="noStrike">
                <a:solidFill>
                  <a:srgbClr val="808080"/>
                </a:solidFill>
                <a:latin typeface="Arial"/>
                <a:ea typeface="Times New Roman"/>
              </a:rPr>
              <a:t>  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buClr>
                <a:srgbClr val="80808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  </a:t>
            </a:r>
            <a:r>
              <a:rPr b="0" i="1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Conclusión y opinión sobre la reflexión intercambios de experiencia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18951-959D-4424-B4C1-57546AED97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95360" y="1366920"/>
            <a:ext cx="80359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808080"/>
                </a:solidFill>
                <a:latin typeface="Verdana"/>
                <a:ea typeface="Times New Roman"/>
              </a:rPr>
              <a:t>Fuente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808080"/>
                </a:solidFill>
                <a:latin typeface="Verdana"/>
                <a:ea typeface="Times New Roman"/>
              </a:rPr>
              <a:t>     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  <a:ea typeface="Times New Roman"/>
              </a:rPr>
              <a:t>Lemken, Thomas; Rohn, Holger en colaboración con Claudia Kaiser, INA Schäfer, Anna Bliesner, Kristin Parlow: Desarrollo sostenible Módulo B1. Westdeutscher Handwerkskammertag (ed.): Gestión sostenible en las empresas de artesanía. Un Manual para la aplicación de un concepto de consultoría y calificación realizados para consultores y profesores en el sector de artesanía. Resultados  </a:t>
            </a:r>
            <a:r>
              <a:rPr b="0" i="1" lang="de-DE" sz="1600" spc="-1" strike="noStrike">
                <a:solidFill>
                  <a:srgbClr val="808080"/>
                </a:solidFill>
                <a:latin typeface="Arial"/>
                <a:ea typeface="Times New Roman"/>
              </a:rPr>
              <a:t>de un proyecto piloto, Düsseldorf (Nachhaltiges Wirtschaften en Handwerksbetrieben. Eine Handreichung zur Durchführung eines Qualifizierungs- und Beratungskonzeptes für Betriebsberater /-innen und Dozenten /-innen im Handwerk. 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  <a:ea typeface="Times New Roman"/>
              </a:rPr>
              <a:t>Ergebnisse aus einem Modellversuch, Düsseldorf).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CCEFC-6F93-4C54-A21F-5F01FE3895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680" y="1429920"/>
            <a:ext cx="82850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05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9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  <a:p>
            <a:pPr marL="250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s-ES" sz="1200" spc="-1" strike="noStrike" u="sng">
                <a:solidFill>
                  <a:srgbClr val="bc956e"/>
                </a:solidFill>
                <a:uFillTx/>
                <a:latin typeface="Arial"/>
                <a:hlinkClick r:id="rId1"/>
              </a:rPr>
              <a:t>www.eurocrafts21</a:t>
            </a:r>
            <a:r>
              <a:rPr b="0" i="1" lang="es-ES" sz="1200" spc="-1" strike="noStrike" u="sng">
                <a:solidFill>
                  <a:srgbClr val="bc956e"/>
                </a:solidFill>
                <a:uFillTx/>
                <a:latin typeface="Arial"/>
                <a:hlinkClick r:id="rId2"/>
              </a:rPr>
              <a:t>.</a:t>
            </a:r>
            <a:r>
              <a:rPr b="0" i="1" lang="es-ES" sz="1200" spc="-1" strike="noStrike" u="sng">
                <a:solidFill>
                  <a:srgbClr val="bc956e"/>
                </a:solidFill>
                <a:uFillTx/>
                <a:latin typeface="Arial"/>
                <a:hlinkClick r:id="rId3"/>
              </a:rPr>
              <a:t>eu</a:t>
            </a:r>
            <a:r>
              <a:rPr b="1" lang="es-ES" sz="1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marL="2505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9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  <a:p>
            <a:pPr marL="250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s-E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Este proyecto está financiado con el apoyo de la Comisión Europea. Esta publicación refleja los puntos de vista sólo del autor, y la Comisión no es responsable de cualquier uso que se pueda hacer de la información contenida en él.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marL="250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marL="250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       </a:t>
            </a:r>
            <a:r>
              <a:rPr b="0" i="1" lang="es-E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El proyecto de Leonardo da Vinci Euro Crafts 21 se lleva a cabo bajo la Administración de plenum - sociedad para el desarrollo sostenible global y la del Instituto Factor de 10 Austria. El objetivo del proyecto es establecer  un valor añadido significativo en la educación profesional en los países asociados participantes (Austria, Finlandia, Alemania, Eslovaquia, España y Hungría).Esto se logrará mediante la transferencia de innovación de un proyecto piloto ya finalizado - con el objetivo del desarrollo y prueba de un concepto general de calificación y el consultoría para la gestión de sostenibilidad en la rama de artesanía de Renania del Norte-Westfalia (Alemania).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marL="250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80808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marL="250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i="1" lang="es-ES" sz="1200" spc="-1" strike="noStrike">
                <a:solidFill>
                  <a:srgbClr val="808080"/>
                </a:solidFill>
                <a:latin typeface="Arial"/>
              </a:rPr>
              <a:t>Contacto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marL="250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16040" y="3886200"/>
          <a:ext cx="8031240" cy="2011320"/>
        </p:xfrm>
        <a:graphic>
          <a:graphicData uri="http://schemas.openxmlformats.org/drawingml/2006/table">
            <a:tbl>
              <a:tblPr/>
              <a:tblGrid>
                <a:gridCol w="4016160"/>
                <a:gridCol w="4015080"/>
              </a:tblGrid>
              <a:tr h="2016360"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MA - </a:t>
                      </a: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tión Medioambiental y  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Sostenibilidad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i="1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r>
                        <a:rPr b="1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Ana Moreno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de las Murallas 3,10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enia 03700 (Alicante) España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el: 00-34--622603462  Fax: 00-34-966430283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4"/>
                        </a:rPr>
                        <a:t>ana.moreno@gesma.es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5"/>
                        </a:rPr>
                        <a:t>www.gesma.es</a:t>
                      </a: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entro de Tecnologías Limpias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onselleria de Medio Ambiente, Agua, 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Urbanismo y Vivienda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irección General para el Cambio Climático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neralitat Valenciana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i="1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rmán Giner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Isaac Peral y Caballero, 5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46980 PATERNA (VALENCIA)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lf: 00-34- 96 136 6949 - Fax: 00-34- 96 131 8495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6"/>
                        </a:rPr>
                        <a:t>http://</a:t>
                      </a: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7"/>
                        </a:rPr>
                        <a:t>www.cth.gva.es</a:t>
                      </a: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8"/>
                        </a:rPr>
                        <a:t>/CTL/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3FCE9-5809-458E-9CDF-04DE27B982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Ana Moreno</dc:creator>
  <dc:description/>
  <dc:language>en-US</dc:language>
  <cp:lastModifiedBy>Ana </cp:lastModifiedBy>
  <dcterms:modified xsi:type="dcterms:W3CDTF">2010-11-19T11:47:59Z</dcterms:modified>
  <cp:revision>368</cp:revision>
  <dc:subject/>
  <dc:title>Presentacion B2-B1</dc:title>
</cp:coreProperties>
</file>