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98440" y="-360"/>
            <a:ext cx="298476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37800" y="752400"/>
            <a:ext cx="5010120" cy="375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98440" y="9515160"/>
            <a:ext cx="298476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93544-4BB9-456B-B078-DE96FCEF6D0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98800" y="9515520"/>
            <a:ext cx="29847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E3AE2-4255-454E-AFCC-8DD4C33538C9}" type="slidenum">
              <a:rPr b="0" lang="de-DE" sz="1200" spc="-1" strike="noStrike">
                <a:solidFill>
                  <a:srgbClr val="013c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938160" y="752400"/>
            <a:ext cx="5008680" cy="3756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8A1C2-743D-4852-A163-064D6FEC93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24C65-9C0A-4CAD-807C-CAE4AF3FBA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F9C5E-5FB0-4CFC-86C4-C31D5E8073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55B7B-6E59-4DF6-B320-381F7A7CAC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D3F10-9772-41B6-922E-AA55862887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BA607-2B06-4DBB-B443-D7155F6F51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5C77A-5770-4737-98A0-38F0964184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CD971-7CEF-4F28-8478-4E37329546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8600" y="689040"/>
            <a:ext cx="637704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70619-E2D8-4E19-9FDA-332D4D190B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B8FF9-0B75-411D-BB10-AFF114FDE6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BFCC1-DC85-48F3-B87F-DA71706234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FA6E9-9CFC-44AE-A687-5864651FFB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9"/>
          <p:cNvSpPr/>
          <p:nvPr/>
        </p:nvSpPr>
        <p:spPr>
          <a:xfrm>
            <a:off x="-7217640" y="6005520"/>
            <a:ext cx="235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Text Box 44"/>
          <p:cNvSpPr/>
          <p:nvPr/>
        </p:nvSpPr>
        <p:spPr>
          <a:xfrm>
            <a:off x="463680" y="5883120"/>
            <a:ext cx="8218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cc00"/>
                </a:solidFill>
                <a:latin typeface="Arial"/>
              </a:rPr>
              <a:t>-----------------------------------------------------------------------------------------------------------------------------------------------</a:t>
            </a:r>
            <a:endParaRPr b="0" lang="en-US" sz="13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Rectangle 48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234200" y="325440"/>
            <a:ext cx="1523880" cy="6159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507960" y="6244920"/>
            <a:ext cx="572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08080"/>
                </a:solidFill>
                <a:latin typeface="Arial"/>
              </a:rPr>
              <a:t>&lt;footer&gt;</a:t>
            </a:r>
            <a:r>
              <a:rPr b="0" lang="de-AT" sz="1200" spc="-1" strike="noStrike">
                <a:solidFill>
                  <a:srgbClr val="808080"/>
                </a:solidFill>
                <a:latin typeface="Arial"/>
              </a:rPr>
              <a:t>S3-A0-Introducción en los segmentos de negocio sosten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38DC-1E71-4C67-AF3A-66DDE1CF44E9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488880" y="387360"/>
            <a:ext cx="279396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urocrafts21.eu/" TargetMode="External"/><Relationship Id="rId2" Type="http://schemas.openxmlformats.org/officeDocument/2006/relationships/hyperlink" Target="mailto:ana.moreno@gesma.es" TargetMode="External"/><Relationship Id="rId3" Type="http://schemas.openxmlformats.org/officeDocument/2006/relationships/hyperlink" Target="http://www.gesma.es/" TargetMode="External"/><Relationship Id="rId4" Type="http://schemas.openxmlformats.org/officeDocument/2006/relationships/hyperlink" Target="http://www.cth.gva.es/CTL/" TargetMode="External"/><Relationship Id="rId5" Type="http://schemas.openxmlformats.org/officeDocument/2006/relationships/hyperlink" Target="http://www.cth.gva.es/CTL/" TargetMode="External"/><Relationship Id="rId6" Type="http://schemas.openxmlformats.org/officeDocument/2006/relationships/hyperlink" Target="http://www.cth.gva.es/CTL/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2587680"/>
            <a:ext cx="914400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8080"/>
                </a:solidFill>
                <a:latin typeface="Arial"/>
              </a:rPr>
              <a:t>Segmentos de negocio sostenibles </a:t>
            </a:r>
            <a:br>
              <a:rPr sz="3600"/>
            </a:br>
            <a:r>
              <a:rPr b="1" lang="es-ES" sz="36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Módulo S3</a:t>
            </a:r>
            <a:r>
              <a:rPr b="1" lang="es-ES" sz="36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Componente 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S3-A0 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Introducción en los segmentos de negocio sostenibles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00"/>
                </a:solidFill>
                <a:latin typeface="Arial"/>
              </a:rPr>
              <a:t>www.eurocrafts21.eu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6891480" y="325440"/>
            <a:ext cx="1866600" cy="754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14600" y="1496880"/>
            <a:ext cx="4114800" cy="135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748EE-8D27-4836-B5B6-B7B0B61E64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1155600" y="1943280"/>
            <a:ext cx="717552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Módulo S3 - Segmentos de negocio sostenible 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omponente A- Segmentos de negocio sostenible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omponente B- Técnicas de creatividad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omponente C- Valoración de la comerciabilidad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34F6D-DBF5-4BA4-8B1A-171174A74E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95280" y="2793960"/>
            <a:ext cx="6324840" cy="2552760"/>
          </a:xfrm>
          <a:prstGeom prst="rect">
            <a:avLst/>
          </a:prstGeom>
          <a:solidFill>
            <a:srgbClr val="efe8d1"/>
          </a:solidFill>
          <a:ln w="9360">
            <a:solidFill>
              <a:srgbClr val="fe5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1587600" y="1943280"/>
            <a:ext cx="6146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Problema: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Mercados saturados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Solución: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Descubrir y desarrollar nuevos campos de trabajo a largo plazo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Resultado: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Garantizar el éxito y la competitividad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 rot="5400000">
            <a:off x="6590160" y="3986640"/>
            <a:ext cx="28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6600"/>
                </a:solidFill>
                <a:latin typeface="Arial"/>
              </a:rPr>
              <a:t>Economía sostenible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73739-6EFE-4010-8F5D-BF97B787B0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1587600" y="1943280"/>
            <a:ext cx="614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8080"/>
                </a:solidFill>
                <a:latin typeface="Arial"/>
              </a:rPr>
              <a:t>¿Qué significa para una empresa desarrollarse de forma </a:t>
            </a:r>
            <a:r>
              <a:rPr b="1" lang="es-ES" sz="2400" spc="-1" strike="noStrike">
                <a:solidFill>
                  <a:srgbClr val="fe5815"/>
                </a:solidFill>
                <a:latin typeface="Arial"/>
              </a:rPr>
              <a:t>sostenible</a:t>
            </a:r>
            <a:r>
              <a:rPr b="1" lang="es-ES" sz="2400" spc="-1" strike="noStrike">
                <a:solidFill>
                  <a:srgbClr val="80808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76640" y="2832120"/>
            <a:ext cx="457200" cy="596880"/>
          </a:xfrm>
          <a:prstGeom prst="downArrow">
            <a:avLst>
              <a:gd name="adj1" fmla="val 50000"/>
              <a:gd name="adj2" fmla="val 32638"/>
            </a:avLst>
          </a:prstGeom>
          <a:solidFill>
            <a:srgbClr val="efe8cd"/>
          </a:solidFill>
          <a:ln w="9360">
            <a:solidFill>
              <a:srgbClr val="fe5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562040" y="3505320"/>
            <a:ext cx="6147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- Desarrollar estrategias para: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. asegurar la competitividad a largo plazo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. aumentar el valor de la empresa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. tener en cuenta los costes derivados 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(p. ej. daños en la salud de la 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población 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o cambio climático debido al 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efecto 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invernadero)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A30AF-3EC6-4F04-9118-81E169ABBB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1650960" y="1079640"/>
            <a:ext cx="614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8080"/>
                </a:solidFill>
                <a:latin typeface="Arial"/>
              </a:rPr>
              <a:t>Posibilidades concretas de actuación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600200" y="1638360"/>
            <a:ext cx="6858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Recursos: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. Materias primas renovable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. Energías renovable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. Eficiencia de recurso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Tecnologías: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. </a:t>
            </a: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Evitar residuos y emisione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. Limpias, eficientes y ahorrativa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Sociedad: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. Creación de cooperaciones y rede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. Gestión responsable orientada a las </a:t>
            </a: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  necesidades sociales y de la sociedad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Productos y servicios: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. que mejoren la calidad de vida del cliente y le sean </a:t>
            </a: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  provechoso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. que sean ecológicos e inofensivo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3AE2A-2F41-4B6B-93B7-C3B6600744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12680" y="1066680"/>
            <a:ext cx="81313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Ejercicio S3-A1 </a:t>
            </a:r>
            <a:br>
              <a:rPr sz="2400"/>
            </a:b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Mindmap - Tendencias sociales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2817360"/>
            <a:ext cx="48261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13c59"/>
                </a:solidFill>
                <a:latin typeface="Arial"/>
              </a:rPr>
              <a:t>En el grupo se discutirán y estructurarán con un diagrama Mindmap las tendencias sociales actuales relevantes de mercado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13c59"/>
                </a:solidFill>
                <a:latin typeface="Arial"/>
              </a:rPr>
              <a:t>Conteste a la pregunta: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¿Que tendencias sociales desempeñan un papel crucial en su opinión?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Enumere hasta cuatro tendencia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626080" y="2381400"/>
            <a:ext cx="2895480" cy="3466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1C36C-AABD-41C5-9603-FCBB10E344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1680" y="1696680"/>
            <a:ext cx="82850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8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7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800" spc="-1" strike="noStrike" u="sng">
                <a:solidFill>
                  <a:srgbClr val="bc956e"/>
                </a:solidFill>
                <a:uFillTx/>
                <a:latin typeface="Arial"/>
                <a:hlinkClick r:id="rId1"/>
              </a:rPr>
              <a:t>www.eurocrafts21.eu</a:t>
            </a:r>
            <a:r>
              <a:rPr b="1" lang="en-GB" sz="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Este proyecto está financiado con el apoyo de la Comisión Europea. Esta publicación refleja los puntos de vista sólo del autor, y la Comisión no es responsable de cualquier uso que se pueda hacer de la información contenida en él.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 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   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El proyecto de Leonardo da Vinci Euro Crafts 21 se lleva a cabo bajo la Administración de plenum - sociedad para el desarrollo sostenible global y la del Instituto Factor de 10 Austria. El objetivo del proyecto es establecer  un valor añadido significativo en la educación profesional en los países asociados participantes (Austria, Finlandia, Alemania, Eslovaquia, España y Hungría).Esto se logrará mediante la transferencia de innovación de un proyecto piloto ya finalizado - con el objetivo del desarrollo y prueba de un concepto general de calificación y el consultoría para la gestión de sostenibilidad en la rama de artesanía de Renania del Norte-Westfalia (Alemania).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Verdana"/>
                <a:ea typeface="Times New Roman"/>
              </a:rPr>
              <a:t> </a:t>
            </a:r>
            <a:r>
              <a:rPr b="1" i="1" lang="en-GB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Fuente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800" spc="-1" strike="noStrike">
                <a:solidFill>
                  <a:srgbClr val="808080"/>
                </a:solidFill>
                <a:latin typeface="Verdana"/>
                <a:ea typeface="Times New Roman"/>
              </a:rPr>
              <a:t>     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Lemken, Thomas; Rohn, Holger en colaboración con Claudia Kaiser, INA Schäfer, Anna Bliesner, Kristin Parlow: Desarrollo sostenible Módulo B1. Westdeutscher Handwerkskammertag (ed.): Gestión sostenible en las empresas de artesanía. Un Manual para la aplicación de un concepto de consultoría y calificación realizados para consultores y profesores en el sector de artesanía. Resultados  </a:t>
            </a:r>
            <a:r>
              <a:rPr b="0" i="1" lang="de-DE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de un proyecto piloto, Düsseldorf (Nachhaltiges Wirtschaften en Handwerksbetrieben. Eine Handreichung zur Durchführung eines Qualifizierungs- und Beratungskonzeptes für Betriebsberater /-innen und Dozenten /-innen im Handwerk. 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Ergebnisse aus einem Modellversuch, Düsseldorf).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  </a:t>
            </a:r>
            <a:r>
              <a:rPr b="1" i="1" lang="en-GB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Contacto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13c59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716040" y="3962520"/>
          <a:ext cx="8031240" cy="2011320"/>
        </p:xfrm>
        <a:graphic>
          <a:graphicData uri="http://schemas.openxmlformats.org/drawingml/2006/table">
            <a:tbl>
              <a:tblPr/>
              <a:tblGrid>
                <a:gridCol w="4016160"/>
                <a:gridCol w="4015080"/>
              </a:tblGrid>
              <a:tr h="2016360"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sMA - </a:t>
                      </a: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stión Medioambiental y  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Sostenibilidad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i="1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 </a:t>
                      </a:r>
                      <a:r>
                        <a:rPr b="1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Ana Moreno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Ronda de las Murallas 3,10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Denia 03700 (Alicante) España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Tel: 00-34--622603462  Fax: 00-34-966430283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2"/>
                        </a:rPr>
                        <a:t>ana.moreno@gesma.es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3"/>
                        </a:rPr>
                        <a:t>www.gesma.es</a:t>
                      </a: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Centro de Tecnologías Limpias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Conselleria de Medio Ambiente, Agua, 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Urbanismo y Vivienda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Dirección General para el Cambio Climático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neralitat Valenciana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1" i="1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rmán Giner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Ronda Isaac Peral y Caballero, 5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46980 PATERNA (VALENCIA)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Tlf: 00-34- 96 136 6949 - Fax: 00-34- 96 131 8495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4"/>
                        </a:rPr>
                        <a:t>http://</a:t>
                      </a: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5"/>
                        </a:rPr>
                        <a:t>www.cth.gva.es</a:t>
                      </a: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6"/>
                        </a:rPr>
                        <a:t>/CTL/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04244-0744-4562-B5AE-4B151ECDE8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95360" y="1366920"/>
            <a:ext cx="80359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22360" y="2629080"/>
            <a:ext cx="67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3c59"/>
                </a:solidFill>
                <a:latin typeface="Arial"/>
                <a:ea typeface="Arial"/>
              </a:rPr>
              <a:t>¡</a:t>
            </a:r>
            <a:r>
              <a:rPr b="1" i="1" lang="es-ES" sz="2800" spc="-1" strike="noStrike">
                <a:solidFill>
                  <a:srgbClr val="013c59"/>
                </a:solidFill>
                <a:latin typeface="Verdana"/>
              </a:rPr>
              <a:t>Gracias por vuestra atención!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8698D-D38B-49C7-ADBA-DFFCFE2001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Ana Moreno</dc:creator>
  <dc:description/>
  <dc:language>en-US</dc:language>
  <cp:lastModifiedBy>Ana </cp:lastModifiedBy>
  <dcterms:modified xsi:type="dcterms:W3CDTF">2010-10-07T11:57:12Z</dcterms:modified>
  <cp:revision>405</cp:revision>
  <dc:subject>EC21</dc:subject>
  <dc:title>Presentacion S3</dc:title>
</cp:coreProperties>
</file>