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3898440" y="-360"/>
            <a:ext cx="2984760" cy="501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37800" y="752400"/>
            <a:ext cx="5010120" cy="375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3c59"/>
                </a:solidFill>
                <a:latin typeface="Arial"/>
              </a:rPr>
              <a:t>Click to move the slide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4"/>
          </p:nvPr>
        </p:nvSpPr>
        <p:spPr>
          <a:xfrm>
            <a:off x="0" y="95151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5"/>
          </p:nvPr>
        </p:nvSpPr>
        <p:spPr>
          <a:xfrm>
            <a:off x="3898440" y="9515160"/>
            <a:ext cx="2984760" cy="501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09CBCD-6386-439D-B534-49C0AF6C064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98800" y="9515520"/>
            <a:ext cx="29847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845ADD-F435-4587-8D23-9E8E5A8EC9DE}" type="slidenum">
              <a:rPr b="0" lang="de-DE" sz="1200" spc="-1" strike="noStrike">
                <a:solidFill>
                  <a:srgbClr val="013c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938160" y="752400"/>
            <a:ext cx="5008680" cy="375624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0BDAC-6437-4D4E-82CA-A81C9C292A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FD570-04CA-47BC-8FA9-319F5CA1FF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1F44C-35D3-44A1-A40B-2B22375439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61A07-F935-48F8-9252-15EE59BF77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4C013-8077-4241-9FE1-A016D050B6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B0297-7F06-483A-9811-9E13014CC2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B0C14-E337-4EC8-86A9-6491B7723B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C73B1-532D-48F8-A4F8-6F4BE618BD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98600" y="689040"/>
            <a:ext cx="637704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8F3B6-B459-46D8-938C-905DD7C565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BBE3C-D289-4FCB-8177-612333D752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0B926-74E9-483A-9040-C97C1289D9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B1422-A276-48AF-AA37-75B07317DD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9"/>
          <p:cNvSpPr/>
          <p:nvPr/>
        </p:nvSpPr>
        <p:spPr>
          <a:xfrm>
            <a:off x="-7217640" y="6005520"/>
            <a:ext cx="235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ac4ae"/>
                </a:solidFill>
                <a:latin typeface="Estrangelo Edessa"/>
              </a:rPr>
              <a:t>|||||||||||||||||||||||||||||||||||||||||||||||||||||||||||||||||||||||||||||||||||||||||||||||||||||||||||||||||||||||||||||||||||||||||||||||||||||||||||||||||||||||||||||||||||||||||||||||||||||||||||||||||||||||||||||||||||||||||||||||||||||||||||||||||||||||||||||||||||||||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" name="Text Box 44"/>
          <p:cNvSpPr/>
          <p:nvPr/>
        </p:nvSpPr>
        <p:spPr>
          <a:xfrm>
            <a:off x="463680" y="5883120"/>
            <a:ext cx="8218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9cc00"/>
                </a:solidFill>
                <a:latin typeface="Arial"/>
              </a:rPr>
              <a:t>-----------------------------------------------------------------------------------------------------------------------------------------------</a:t>
            </a:r>
            <a:endParaRPr b="0" lang="en-US" sz="13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Rectangle 48"/>
          <p:cNvSpPr/>
          <p:nvPr/>
        </p:nvSpPr>
        <p:spPr>
          <a:xfrm>
            <a:off x="0" y="0"/>
            <a:ext cx="9144000" cy="687384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3c59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2" marL="1252440" indent="-27144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3" marL="1660680" indent="-228600">
              <a:spcBef>
                <a:spcPts val="499"/>
              </a:spcBef>
              <a:buClr>
                <a:srgbClr val="bc95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4" marL="2068560" indent="-228600">
              <a:spcBef>
                <a:spcPts val="499"/>
              </a:spcBef>
              <a:buClr>
                <a:srgbClr val="bc95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5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6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7234200" y="325440"/>
            <a:ext cx="1523880" cy="61596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507960" y="6244920"/>
            <a:ext cx="5727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08080"/>
                </a:solidFill>
                <a:latin typeface="Arial"/>
              </a:rPr>
              <a:t>&lt;footer&gt;</a:t>
            </a:r>
            <a:r>
              <a:rPr b="0" lang="de-AT" sz="1200" spc="-1" strike="noStrike">
                <a:solidFill>
                  <a:srgbClr val="808080"/>
                </a:solidFill>
                <a:latin typeface="Arial"/>
              </a:rPr>
              <a:t>S3-A0-Introducción en los segmentos de negocio sosten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E2993-1EC3-4E65-AE47-E0D5F8453E0F}" type="slidenum">
              <a:rPr b="0" lang="de-A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488880" y="387360"/>
            <a:ext cx="279396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urocrafts21.eu/" TargetMode="External"/><Relationship Id="rId2" Type="http://schemas.openxmlformats.org/officeDocument/2006/relationships/hyperlink" Target="mailto:ana.moreno@gesma.es" TargetMode="External"/><Relationship Id="rId3" Type="http://schemas.openxmlformats.org/officeDocument/2006/relationships/hyperlink" Target="http://www.gesma.es/" TargetMode="External"/><Relationship Id="rId4" Type="http://schemas.openxmlformats.org/officeDocument/2006/relationships/hyperlink" Target="http://www.cth.gva.es/CTL/" TargetMode="External"/><Relationship Id="rId5" Type="http://schemas.openxmlformats.org/officeDocument/2006/relationships/hyperlink" Target="http://www.cth.gva.es/CTL/" TargetMode="External"/><Relationship Id="rId6" Type="http://schemas.openxmlformats.org/officeDocument/2006/relationships/hyperlink" Target="http://www.cth.gva.es/CTL/" TargetMode="External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2587680"/>
            <a:ext cx="9144000" cy="34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8080"/>
                </a:solidFill>
                <a:latin typeface="Arial"/>
              </a:rPr>
              <a:t>Segmentos de negocio sostenibles </a:t>
            </a:r>
            <a:br>
              <a:rPr sz="3600"/>
            </a:br>
            <a:r>
              <a:rPr b="1" lang="es-ES" sz="36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Arial"/>
              </a:rPr>
              <a:t>Módulo S3</a:t>
            </a:r>
            <a:r>
              <a:rPr b="1" lang="es-ES" sz="36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Arial"/>
              </a:rPr>
              <a:t>Componente A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Arial"/>
              </a:rPr>
              <a:t>S3-A0 </a:t>
            </a:r>
            <a:r>
              <a:rPr b="1" lang="es-ES" sz="2000" spc="-1" strike="noStrike">
                <a:solidFill>
                  <a:srgbClr val="808080"/>
                </a:solidFill>
                <a:latin typeface="Arial"/>
              </a:rPr>
              <a:t>Introducción en los segmentos de negocio sostenibles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6600"/>
                </a:solidFill>
                <a:latin typeface="Arial"/>
              </a:rPr>
              <a:t>www.eurocrafts21.eu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6891480" y="325440"/>
            <a:ext cx="1866600" cy="754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514600" y="1496880"/>
            <a:ext cx="4114800" cy="135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2C05B-12F6-4915-99B5-2D5169EFCCB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1155600" y="1943280"/>
            <a:ext cx="717552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Módulo S3 - Segmentos de negocio sostenible 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Componente A- Segmentos de negocio sostenible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Componente B- Técnicas de creatividad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Componente C- Valoración de la comerciabilidad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28758-ED6D-47A5-AEAE-5AA50E76827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95280" y="2793960"/>
            <a:ext cx="6324840" cy="2552760"/>
          </a:xfrm>
          <a:prstGeom prst="rect">
            <a:avLst/>
          </a:prstGeom>
          <a:solidFill>
            <a:srgbClr val="efe8d1"/>
          </a:solidFill>
          <a:ln w="9360">
            <a:solidFill>
              <a:srgbClr val="fe58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sp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1587600" y="1943280"/>
            <a:ext cx="61466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Problema: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Mercados saturados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Solución: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Descubrir y desarrollar nuevos campos de trabajo a largo plazo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Resultado: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Garantizar el éxito y la competitividad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8" name="Rectangle 2"/>
          <p:cNvSpPr/>
          <p:nvPr/>
        </p:nvSpPr>
        <p:spPr>
          <a:xfrm rot="5400000">
            <a:off x="6590160" y="3986640"/>
            <a:ext cx="288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6600"/>
                </a:solidFill>
                <a:latin typeface="Arial"/>
              </a:rPr>
              <a:t>Economía sostenible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467BA-028F-4240-9937-848C7541D0B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1587600" y="1943280"/>
            <a:ext cx="614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8080"/>
                </a:solidFill>
                <a:latin typeface="Arial"/>
              </a:rPr>
              <a:t>¿Qué significa para una empresa desarrollarse de forma </a:t>
            </a:r>
            <a:r>
              <a:rPr b="1" lang="es-ES" sz="2400" spc="-1" strike="noStrike">
                <a:solidFill>
                  <a:srgbClr val="fe5815"/>
                </a:solidFill>
                <a:latin typeface="Arial"/>
              </a:rPr>
              <a:t>sostenible</a:t>
            </a:r>
            <a:r>
              <a:rPr b="1" lang="es-ES" sz="2400" spc="-1" strike="noStrike">
                <a:solidFill>
                  <a:srgbClr val="80808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76640" y="2832120"/>
            <a:ext cx="457200" cy="596880"/>
          </a:xfrm>
          <a:prstGeom prst="downArrow">
            <a:avLst>
              <a:gd name="adj1" fmla="val 50000"/>
              <a:gd name="adj2" fmla="val 32638"/>
            </a:avLst>
          </a:prstGeom>
          <a:solidFill>
            <a:srgbClr val="efe8cd"/>
          </a:solidFill>
          <a:ln w="9360">
            <a:solidFill>
              <a:srgbClr val="fe58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sp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562040" y="3505320"/>
            <a:ext cx="6147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8080"/>
                </a:solidFill>
                <a:latin typeface="Arial"/>
              </a:rPr>
              <a:t>- Desarrollar estrategias para: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808080"/>
                </a:solidFill>
                <a:latin typeface="Arial"/>
              </a:rPr>
              <a:t>. asegurar la competitividad a largo plazo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808080"/>
                </a:solidFill>
                <a:latin typeface="Arial"/>
              </a:rPr>
              <a:t>. aumentar el valor de la empresa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808080"/>
                </a:solidFill>
                <a:latin typeface="Arial"/>
              </a:rPr>
              <a:t>. tener en cuenta los costes derivados </a:t>
            </a:r>
            <a:r>
              <a:rPr b="1" lang="es-E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808080"/>
                </a:solidFill>
                <a:latin typeface="Arial"/>
              </a:rPr>
              <a:t>(p. ej. daños en la salud de la </a:t>
            </a:r>
            <a:r>
              <a:rPr b="1" lang="es-E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808080"/>
                </a:solidFill>
                <a:latin typeface="Arial"/>
              </a:rPr>
              <a:t>población </a:t>
            </a:r>
            <a:r>
              <a:rPr b="1" lang="es-E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808080"/>
                </a:solidFill>
                <a:latin typeface="Arial"/>
              </a:rPr>
              <a:t>o cambio climático debido al </a:t>
            </a:r>
            <a:r>
              <a:rPr b="1" lang="es-E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808080"/>
                </a:solidFill>
                <a:latin typeface="Arial"/>
              </a:rPr>
              <a:t>efecto </a:t>
            </a:r>
            <a:r>
              <a:rPr b="1" lang="es-ES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808080"/>
                </a:solidFill>
                <a:latin typeface="Arial"/>
              </a:rPr>
              <a:t>invernadero)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AA685-EA48-4026-AA48-32BDB845AEC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1650960" y="1079640"/>
            <a:ext cx="614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8080"/>
                </a:solidFill>
                <a:latin typeface="Arial"/>
              </a:rPr>
              <a:t>Posibilidades concretas de actuación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600200" y="1638360"/>
            <a:ext cx="6858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08080"/>
                </a:solidFill>
                <a:latin typeface="Arial"/>
              </a:rPr>
              <a:t>Recursos: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808080"/>
                </a:solidFill>
                <a:latin typeface="Arial"/>
              </a:rPr>
              <a:t>. Materias primas renovables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808080"/>
                </a:solidFill>
                <a:latin typeface="Arial"/>
              </a:rPr>
              <a:t>. Energías renovables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808080"/>
                </a:solidFill>
                <a:latin typeface="Arial"/>
              </a:rPr>
              <a:t>. Eficiencia de recursos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08080"/>
                </a:solidFill>
                <a:latin typeface="Arial"/>
              </a:rPr>
              <a:t>Tecnologías: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808080"/>
                </a:solidFill>
                <a:latin typeface="Arial"/>
              </a:rPr>
              <a:t>. </a:t>
            </a:r>
            <a:r>
              <a:rPr b="0" lang="es-ES" sz="1800" spc="-1" strike="noStrike">
                <a:solidFill>
                  <a:srgbClr val="808080"/>
                </a:solidFill>
                <a:latin typeface="Arial"/>
              </a:rPr>
              <a:t>Evitar residuos y emisiones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808080"/>
                </a:solidFill>
                <a:latin typeface="Arial"/>
              </a:rPr>
              <a:t>. Limpias, eficientes y ahorrativas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08080"/>
                </a:solidFill>
                <a:latin typeface="Arial"/>
              </a:rPr>
              <a:t>Sociedad: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808080"/>
                </a:solidFill>
                <a:latin typeface="Arial"/>
              </a:rPr>
              <a:t>. Creación de cooperaciones y redes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808080"/>
                </a:solidFill>
                <a:latin typeface="Arial"/>
              </a:rPr>
              <a:t>. Gestión responsable orientada a las </a:t>
            </a:r>
            <a:r>
              <a:rPr b="0" lang="es-E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808080"/>
                </a:solidFill>
                <a:latin typeface="Arial"/>
              </a:rPr>
              <a:t>  necesidades sociales y de la sociedad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08080"/>
                </a:solidFill>
                <a:latin typeface="Arial"/>
              </a:rPr>
              <a:t>Productos y servicios: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808080"/>
                </a:solidFill>
                <a:latin typeface="Arial"/>
              </a:rPr>
              <a:t>. que mejoren la calidad de vida del cliente y le sean </a:t>
            </a:r>
            <a:r>
              <a:rPr b="0" lang="es-E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808080"/>
                </a:solidFill>
                <a:latin typeface="Arial"/>
              </a:rPr>
              <a:t>  provechosos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808080"/>
                </a:solidFill>
                <a:latin typeface="Arial"/>
              </a:rPr>
              <a:t>. que sean ecológicos e inofensivos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34D4C-A404-45E2-B69A-796AC448F1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012680" y="1066680"/>
            <a:ext cx="81313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Ejercicio S3-A1 </a:t>
            </a:r>
            <a:br>
              <a:rPr sz="2400"/>
            </a:br>
            <a:r>
              <a:rPr b="1" lang="de-DE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Mindmap - Tendencias sociales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2817360"/>
            <a:ext cx="482616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13c59"/>
                </a:solidFill>
                <a:latin typeface="Arial"/>
              </a:rPr>
              <a:t>En el grupo se discutirán y estructurarán con un diagrama Mindmap las tendencias sociales actuales relevantes de mercado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13c59"/>
                </a:solidFill>
                <a:latin typeface="Arial"/>
              </a:rPr>
              <a:t>Conteste a la pregunta: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¿Que tendencias sociales desempeñan un papel crucial en su opinión?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Enumere hasta cuatro tendencias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626080" y="2381400"/>
            <a:ext cx="2895480" cy="3466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49733-CA61-419F-965D-5A5B4076D9D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71680" y="1696680"/>
            <a:ext cx="82850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584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7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en-GB" sz="800" spc="-1" strike="noStrike" u="sng">
                <a:solidFill>
                  <a:srgbClr val="bc956e"/>
                </a:solidFill>
                <a:uFillTx/>
                <a:latin typeface="Arial"/>
                <a:hlinkClick r:id="rId1"/>
              </a:rPr>
              <a:t>www.eurocrafts21.eu</a:t>
            </a:r>
            <a:r>
              <a:rPr b="1" lang="en-GB" sz="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	</a:t>
            </a:r>
            <a:r>
              <a:rPr b="0" i="1" lang="es-ES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Este proyecto está financiado con el apoyo de la Comisión Europea. Esta publicación refleja los puntos de vista sólo del autor, y la Comisión no es responsable de cualquier uso que se pueda hacer de la información contenida en él.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 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   </a:t>
            </a:r>
            <a:r>
              <a:rPr b="0" i="1" lang="en-GB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	</a:t>
            </a:r>
            <a:r>
              <a:rPr b="0" i="1" lang="es-ES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El proyecto de Leonardo da Vinci Euro Crafts 21 se lleva a cabo bajo la Administración de plenum - sociedad para el desarrollo sostenible global y la del Instituto Factor de 10 Austria. El objetivo del proyecto es establecer  un valor añadido significativo en la educación profesional en los países asociados participantes (Austria, Finlandia, Alemania, Eslovaquia, España y Hungría).Esto se logrará mediante la transferencia de innovación de un proyecto piloto ya finalizado - con el objetivo del desarrollo y prueba de un concepto general de calificación y el consultoría para la gestión de sostenibilidad en la rama de artesanía de Renania del Norte-Westfalia (Alemania).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808080"/>
                </a:solidFill>
                <a:latin typeface="Verdana"/>
                <a:ea typeface="Times New Roman"/>
              </a:rPr>
              <a:t> </a:t>
            </a:r>
            <a:r>
              <a:rPr b="1" i="1" lang="en-GB" sz="900" spc="-1" strike="noStrike">
                <a:solidFill>
                  <a:srgbClr val="808080"/>
                </a:solidFill>
                <a:latin typeface="Verdana"/>
                <a:ea typeface="Times New Roman"/>
              </a:rPr>
              <a:t>Fuente</a:t>
            </a:r>
            <a:endParaRPr b="0" lang="en-US" sz="9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800" spc="-1" strike="noStrike">
                <a:solidFill>
                  <a:srgbClr val="808080"/>
                </a:solidFill>
                <a:latin typeface="Verdana"/>
                <a:ea typeface="Times New Roman"/>
              </a:rPr>
              <a:t>      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	</a:t>
            </a:r>
            <a:r>
              <a:rPr b="0" i="1" lang="en-GB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Lemken, Thomas; Rohn, Holger en colaboración con Claudia Kaiser, INA Schäfer, Anna Bliesner, Kristin Parlow: Desarrollo sostenible Módulo B1. Westdeutscher Handwerkskammertag (ed.): Gestión sostenible en las empresas de artesanía. Un Manual para la aplicación de un concepto de consultoría y calificación realizados para consultores y profesores en el sector de artesanía. Resultados  </a:t>
            </a:r>
            <a:r>
              <a:rPr b="0" i="1" lang="de-DE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de un proyecto piloto, Düsseldorf (Nachhaltiges Wirtschaften en Handwerksbetrieben. Eine Handreichung zur Durchführung eines Qualifizierungs- und Beratungskonzeptes für Betriebsberater /-innen und Dozenten /-innen im Handwerk. </a:t>
            </a:r>
            <a:r>
              <a:rPr b="0" i="1" lang="en-GB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Ergebnisse aus einem Modellversuch, Düsseldorf).</a:t>
            </a:r>
            <a:r>
              <a:rPr b="0" i="1" lang="en-GB" sz="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900" spc="-1" strike="noStrike">
                <a:solidFill>
                  <a:srgbClr val="808080"/>
                </a:solidFill>
                <a:latin typeface="Verdana"/>
                <a:ea typeface="Times New Roman"/>
              </a:rPr>
              <a:t>  </a:t>
            </a:r>
            <a:r>
              <a:rPr b="1" i="1" lang="en-GB" sz="900" spc="-1" strike="noStrike">
                <a:solidFill>
                  <a:srgbClr val="808080"/>
                </a:solidFill>
                <a:latin typeface="Verdana"/>
                <a:ea typeface="Times New Roman"/>
              </a:rPr>
              <a:t>Contacto</a:t>
            </a:r>
            <a:endParaRPr b="0" lang="en-US" sz="9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13c59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716040" y="3962520"/>
          <a:ext cx="8031240" cy="2011320"/>
        </p:xfrm>
        <a:graphic>
          <a:graphicData uri="http://schemas.openxmlformats.org/drawingml/2006/table">
            <a:tbl>
              <a:tblPr/>
              <a:tblGrid>
                <a:gridCol w="4016160"/>
                <a:gridCol w="4015080"/>
              </a:tblGrid>
              <a:tr h="2016360">
                <a:tc>
                  <a:txBody>
                    <a:bodyPr lIns="36000" rIns="36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GesMA - </a:t>
                      </a: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Gestión Medioambiental y  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Sostenibilidad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i="1" lang="de-DE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 </a:t>
                      </a:r>
                      <a:r>
                        <a:rPr b="1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Ana Moreno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Ronda de las Murallas 3,10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Denia 03700 (Alicante) España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Tel: 00-34--622603462  Fax: 00-34-966430283</a:t>
                      </a:r>
                      <a:br>
                        <a:rPr sz="1000"/>
                      </a:br>
                      <a:r>
                        <a:rPr b="0" lang="es-ES_tradnl" sz="1000" spc="-1" strike="noStrike" u="sng">
                          <a:solidFill>
                            <a:srgbClr val="bc956e"/>
                          </a:solidFill>
                          <a:uFillTx/>
                          <a:latin typeface="Arial"/>
                          <a:hlinkClick r:id="rId2"/>
                        </a:rPr>
                        <a:t>ana.moreno@gesma.es</a:t>
                      </a:r>
                      <a:br>
                        <a:rPr sz="1000"/>
                      </a:br>
                      <a:r>
                        <a:rPr b="0" lang="es-ES_tradnl" sz="1000" spc="-1" strike="noStrike" u="sng">
                          <a:solidFill>
                            <a:srgbClr val="bc956e"/>
                          </a:solidFill>
                          <a:uFillTx/>
                          <a:latin typeface="Arial"/>
                          <a:hlinkClick r:id="rId3"/>
                        </a:rPr>
                        <a:t>www.gesma.es</a:t>
                      </a: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Centro de Tecnologías Limpias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Conselleria de Medio Ambiente, Agua, 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Urbanismo y Vivienda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Dirección General para el Cambio Climático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Generalitat Valenciana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r>
                        <a:rPr b="1" i="1" lang="de-DE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Germán Giner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Ronda Isaac Peral y Caballero, 5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46980 PATERNA (VALENCIA)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Tlf: 00-34- 96 136 6949 - Fax: 00-34- 96 131 8495</a:t>
                      </a:r>
                      <a:br>
                        <a:rPr sz="1000"/>
                      </a:br>
                      <a:r>
                        <a:rPr b="0" lang="es-ES_tradnl" sz="1000" spc="-1" strike="noStrike" u="sng">
                          <a:solidFill>
                            <a:srgbClr val="bc956e"/>
                          </a:solidFill>
                          <a:uFillTx/>
                          <a:latin typeface="Arial"/>
                          <a:hlinkClick r:id="rId4"/>
                        </a:rPr>
                        <a:t>http://</a:t>
                      </a:r>
                      <a:r>
                        <a:rPr b="0" lang="es-ES_tradnl" sz="1000" spc="-1" strike="noStrike" u="sng">
                          <a:solidFill>
                            <a:srgbClr val="bc956e"/>
                          </a:solidFill>
                          <a:uFillTx/>
                          <a:latin typeface="Arial"/>
                          <a:hlinkClick r:id="rId5"/>
                        </a:rPr>
                        <a:t>www.cth.gva.es</a:t>
                      </a:r>
                      <a:r>
                        <a:rPr b="0" lang="es-ES_tradnl" sz="1000" spc="-1" strike="noStrike" u="sng">
                          <a:solidFill>
                            <a:srgbClr val="bc956e"/>
                          </a:solidFill>
                          <a:uFillTx/>
                          <a:latin typeface="Arial"/>
                          <a:hlinkClick r:id="rId6"/>
                        </a:rPr>
                        <a:t>/CTL/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48B83-5569-4C69-86C3-AC9F213CCCD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95360" y="1366920"/>
            <a:ext cx="803592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22360" y="2629080"/>
            <a:ext cx="67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13c59"/>
                </a:solidFill>
                <a:latin typeface="Arial"/>
                <a:ea typeface="Arial"/>
              </a:rPr>
              <a:t>¡</a:t>
            </a:r>
            <a:r>
              <a:rPr b="1" i="1" lang="es-ES" sz="2800" spc="-1" strike="noStrike">
                <a:solidFill>
                  <a:srgbClr val="013c59"/>
                </a:solidFill>
                <a:latin typeface="Verdana"/>
              </a:rPr>
              <a:t>Gracias por vuestra atención!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AC8D9-26E7-40E1-A2ED-A54A3BD250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1T14:29:03Z</dcterms:created>
  <dc:creator>Ana Moreno</dc:creator>
  <dc:description/>
  <dc:language>en-US</dc:language>
  <cp:lastModifiedBy>Ana </cp:lastModifiedBy>
  <dcterms:modified xsi:type="dcterms:W3CDTF">2010-10-07T11:57:12Z</dcterms:modified>
  <cp:revision>405</cp:revision>
  <dc:subject>EC21</dc:subject>
  <dc:title>Presentacion S3</dc:title>
</cp:coreProperties>
</file>