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98440" y="-3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7800" y="752400"/>
            <a:ext cx="50101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98440" y="95151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A74EF-F9CF-4894-AB7B-41FF97933A7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98800" y="9515520"/>
            <a:ext cx="2984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7121B-B738-4C84-B1E5-4DC141444E94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7280" y="4759200"/>
            <a:ext cx="5049720" cy="4508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fK Grupo Int. De Institutos de estudio de merc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EA914-5929-4B0E-8D97-08C790FF0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1DBD7-9999-46AE-9D12-C15C2F4EA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D0D7B-C0E5-45C9-8E5B-34AACF280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F1F7C-9A4B-4366-AA3A-E5D3D9B87A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FB943-DEE8-4744-8CED-500A98E2FF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ABFCD-6AE0-4788-8C46-558BEC8CC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9A873-354D-4709-916E-71E06981F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8FF0A-DB4E-40A8-80D6-0A60B547F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1B650-D93B-4F0E-8468-66FF641DA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394BB-9160-4067-BBDE-0C74C1599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669BD-6EB1-400F-A31E-E8C31251A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09080-64BA-41DA-AE92-68BE82746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3-A3- </a:t>
            </a:r>
            <a:r>
              <a:rPr b="0" lang="es-ES" sz="1200" spc="-1" strike="noStrike">
                <a:solidFill>
                  <a:srgbClr val="808080"/>
                </a:solidFill>
                <a:latin typeface="Arial"/>
              </a:rPr>
              <a:t>Mercado de la tercera 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9788-73E2-419E-ADD1-139BE03C2FDF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urocrafts21.eu/" TargetMode="External"/><Relationship Id="rId2" Type="http://schemas.openxmlformats.org/officeDocument/2006/relationships/hyperlink" Target="mailto:ana.moreno@gesma.es" TargetMode="External"/><Relationship Id="rId3" Type="http://schemas.openxmlformats.org/officeDocument/2006/relationships/hyperlink" Target="http://www.gesma.es/" TargetMode="External"/><Relationship Id="rId4" Type="http://schemas.openxmlformats.org/officeDocument/2006/relationships/hyperlink" Target="http://www.cth.gva.es/CTL/" TargetMode="External"/><Relationship Id="rId5" Type="http://schemas.openxmlformats.org/officeDocument/2006/relationships/hyperlink" Target="http://www.cth.gva.es/CTL/" TargetMode="External"/><Relationship Id="rId6" Type="http://schemas.openxmlformats.org/officeDocument/2006/relationships/hyperlink" Target="http://www.cth.gva.es/CTL/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estatis.de/basis/d/bevoe/bev_pyr3.htm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www.destatis.de/basis/d/bevoe/bev_pyr4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587680"/>
            <a:ext cx="9144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Arial"/>
              </a:rPr>
              <a:t>Segmentos de negocio sostenible 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" sz="3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Módulo S3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Componente 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S3-A3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Mercado de la tercera edad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489040" y="1725480"/>
            <a:ext cx="4114800" cy="135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35315-FD27-43B8-8CF7-48F4865426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71680" y="169668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8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eurocrafts21.eu</a:t>
            </a:r>
            <a:r>
              <a:rPr b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ste proyecto está financiado con el apoyo de la Comisión Europea. Esta publicación refleja los puntos de vista sólo del autor, y la Comisión no es responsable de cualquier uso que se pueda hacer de la información contenida en él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  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l proyecto de Leonardo da Vinci Euro Crafts 21 se lleva a cabo bajo la Administración de plenum - sociedad para el desarrollo sostenible global y la del Instituto Factor de 10 Austria. El objetivo del proyecto es establecer  un valor añadido significativo en la educación profesional en los países asociados participantes (Austria, Finlandia, Alemania, Eslovaquia, España y Hungría).Esto se logrará mediante la transferencia de innovación de un proyecto piloto ya finalizado - con el objetivo del desarrollo y prueba de un concepto general de calificación y el consultoría para la gestión de sostenibilidad en la rama de artesanía de Renania del Norte-Westfalia (Alemania)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Fuente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    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Lemken, Thomas; Rohn, Holger en colaboración con Claudia Kaiser, INA Schäfer, Anna Bliesner, Kristin Parlow: Desarrollo sostenible Módulo B1. Westdeutscher Handwerkskammertag (ed.): Gestión sostenible en las empresas de artesanía. Un Manual para la aplicación de un concepto de consultoría y calificación realizados para consultores y profesores en el sector de artesanía. Resultados  </a:t>
            </a:r>
            <a:r>
              <a:rPr b="0" i="1" lang="de-DE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de un proyecto piloto, Düsseldorf (Nachhaltiges Wirtschaften en Handwerksbetrieben. Eine Handreichung zur Durchführung eines Qualifizierungs- und Beratungskonzeptes für Betriebsberater /-innen und Dozenten /-innen im Handwerk. 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rgebnisse aus einem Modellversuch, Düsseldorf).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  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Contacto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16040" y="3962520"/>
          <a:ext cx="8031240" cy="2011320"/>
        </p:xfrm>
        <a:graphic>
          <a:graphicData uri="http://schemas.openxmlformats.org/drawingml/2006/table">
            <a:tbl>
              <a:tblPr/>
              <a:tblGrid>
                <a:gridCol w="4016160"/>
                <a:gridCol w="4015080"/>
              </a:tblGrid>
              <a:tr h="2016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- 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tión Medioambiental y  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Sostenibilidad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Españ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-622603462  Fax: 00-34-966430283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2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3"/>
                        </a:rPr>
                        <a:t>www.gesma.es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entro de Tecnologías Limpias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Urbanismo y Viviend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4"/>
                        </a:rPr>
                        <a:t>http://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5"/>
                        </a:rPr>
                        <a:t>www.cth.gva.es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6"/>
                        </a:rPr>
                        <a:t>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408D0-589F-4267-A4C2-BC0A174321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22360" y="2629080"/>
            <a:ext cx="67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3c59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013c59"/>
                </a:solidFill>
                <a:latin typeface="Verdana"/>
              </a:rPr>
              <a:t>Gracias por vuestra atención!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EA01B-DF53-4933-9F8F-F17F8B6CC9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79320" y="1628640"/>
            <a:ext cx="7996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13c59"/>
                </a:solidFill>
                <a:latin typeface="Verdana"/>
              </a:rPr>
              <a:t>TENDENCIAS SOCIALES 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13c59"/>
                </a:solidFill>
                <a:latin typeface="Verdana"/>
              </a:rPr>
              <a:t>El mercado de</a:t>
            </a:r>
            <a:r>
              <a:rPr b="1" lang="de-DE" sz="3200" spc="-1" strike="noStrike">
                <a:solidFill>
                  <a:srgbClr val="013c59"/>
                </a:solidFill>
                <a:latin typeface="Verdana"/>
              </a:rPr>
              <a:t> l</a:t>
            </a:r>
            <a:r>
              <a:rPr b="1" lang="de-DE" sz="3600" spc="-1" strike="noStrike">
                <a:solidFill>
                  <a:srgbClr val="013c59"/>
                </a:solidFill>
                <a:latin typeface="Verdana"/>
              </a:rPr>
              <a:t>a tercera edad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A509E-572F-4FF1-9D64-49DCE691F2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47920" y="1143000"/>
            <a:ext cx="7315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Mercado de la tercera edad – </a:t>
            </a:r>
            <a:br>
              <a:rPr sz="2800"/>
            </a:b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Seres humanos en número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25909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336760"/>
            <a:ext cx="64134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Desarrollo demográfico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2000 era cada quinta persona sobre 60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2010 se convierten en cada cuarta sobre 60 y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¡2030 será cada tercero sobre 60!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Nota: La generación heredera será incluso vieja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3c59"/>
                </a:solidFill>
                <a:latin typeface="Arial"/>
              </a:rPr>
              <a:t>Tesis: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Hay un considerable aumento de la capacidad de demanda de las personas mayor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9" name="" descr="Bevölkerungspyramide 1950 für Deutschland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0120" y="1828800"/>
            <a:ext cx="1366560" cy="1447920"/>
          </a:xfrm>
          <a:prstGeom prst="rect">
            <a:avLst/>
          </a:prstGeom>
          <a:ln w="9360">
            <a:solidFill>
              <a:srgbClr val="fe5815"/>
            </a:solidFill>
            <a:miter/>
          </a:ln>
        </p:spPr>
      </p:pic>
      <p:pic>
        <p:nvPicPr>
          <p:cNvPr id="60" name="" descr="Bevölkerungspyramide 2050 für Deutschland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0120" y="4114800"/>
            <a:ext cx="1353960" cy="1447920"/>
          </a:xfrm>
          <a:prstGeom prst="rect">
            <a:avLst/>
          </a:prstGeom>
          <a:ln w="9360">
            <a:solidFill>
              <a:srgbClr val="fe5815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7531200" y="3306600"/>
            <a:ext cx="157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13c59"/>
                </a:solidFill>
                <a:latin typeface="Arial"/>
              </a:rPr>
              <a:t>Distribución de la edad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13c59"/>
                </a:solidFill>
                <a:latin typeface="Arial"/>
                <a:ea typeface="Arial"/>
              </a:rPr>
              <a:t>1950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43800" y="559260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13c59"/>
                </a:solidFill>
                <a:latin typeface="Arial"/>
              </a:rPr>
              <a:t>Distribución de la edad</a:t>
            </a:r>
            <a:br>
              <a:rPr sz="1600"/>
            </a:br>
            <a:r>
              <a:rPr b="1" lang="de-DE" sz="1600" spc="-1" strike="noStrike">
                <a:solidFill>
                  <a:srgbClr val="013c59"/>
                </a:solidFill>
                <a:latin typeface="Arial"/>
              </a:rPr>
              <a:t>2050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9B982-FCD5-4892-841D-90BE672C25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295280" y="971640"/>
          <a:ext cx="7543800" cy="5657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971640"/>
                    <a:ext cx="75438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6EF70-C7AF-4B10-AA73-31C4099FA3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19320" y="1143000"/>
            <a:ext cx="8762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La persona mayor – el ser desconocido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2286000"/>
            <a:ext cx="82296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13c59"/>
                </a:solidFill>
                <a:latin typeface="Arial"/>
              </a:rPr>
              <a:t>Prejuicios: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13c59"/>
                </a:solidFill>
                <a:latin typeface="Arial"/>
              </a:rPr>
              <a:t>•</a:t>
            </a:r>
            <a:r>
              <a:rPr b="1" lang="de-DE" sz="2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13c59"/>
                </a:solidFill>
                <a:latin typeface="Arial"/>
              </a:rPr>
              <a:t>clientes difícile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2800" spc="-1" strike="noStrike">
                <a:solidFill>
                  <a:srgbClr val="013c59"/>
                </a:solidFill>
                <a:latin typeface="Arial"/>
              </a:rPr>
              <a:t>pasividad y aislamiento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2800" spc="-1" strike="noStrike">
                <a:solidFill>
                  <a:srgbClr val="013c59"/>
                </a:solidFill>
                <a:latin typeface="Arial"/>
              </a:rPr>
              <a:t>escasos recursos financiero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2800" spc="-1" strike="noStrike">
                <a:solidFill>
                  <a:srgbClr val="013c59"/>
                </a:solidFill>
                <a:latin typeface="Arial"/>
              </a:rPr>
              <a:t>personas mayores viven en residencias de anciano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2800" spc="-1" strike="noStrike">
                <a:solidFill>
                  <a:srgbClr val="013c59"/>
                </a:solidFill>
                <a:latin typeface="Arial"/>
              </a:rPr>
              <a:t>poco cosumidore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2800" spc="-1" strike="noStrike">
                <a:solidFill>
                  <a:srgbClr val="013c59"/>
                </a:solidFill>
                <a:latin typeface="Arial"/>
              </a:rPr>
              <a:t>poca disposición a la innovación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19342-12AA-48F9-A26A-01F07EF38B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19320" y="990720"/>
            <a:ext cx="8762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La persona mayor – el ser desconocido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905120"/>
            <a:ext cx="82296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 u="sng">
                <a:solidFill>
                  <a:srgbClr val="013c59"/>
                </a:solidFill>
                <a:uFillTx/>
                <a:latin typeface="Arial"/>
              </a:rPr>
              <a:t>Realidad</a:t>
            </a:r>
            <a:r>
              <a:rPr b="1" lang="de-DE" sz="2600" spc="-1" strike="noStrike">
                <a:solidFill>
                  <a:srgbClr val="013c5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2600" spc="-1" strike="noStrike">
                <a:solidFill>
                  <a:srgbClr val="013c59"/>
                </a:solidFill>
                <a:latin typeface="Arial"/>
              </a:rPr>
              <a:t>cliente exigente y de confianza </a:t>
            </a:r>
            <a:endParaRPr b="0" lang="en-US" sz="2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2600" spc="-1" strike="noStrike">
                <a:solidFill>
                  <a:srgbClr val="013c59"/>
                </a:solidFill>
                <a:latin typeface="Arial"/>
              </a:rPr>
              <a:t>contacto, deseo de vivir y sociable</a:t>
            </a:r>
            <a:endParaRPr b="0" lang="en-US" sz="2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2600" spc="-1" strike="noStrike">
                <a:solidFill>
                  <a:srgbClr val="013c59"/>
                </a:solidFill>
                <a:latin typeface="Arial"/>
              </a:rPr>
              <a:t>sobre el poder medio adquisitivo</a:t>
            </a:r>
            <a:endParaRPr b="0" lang="en-US" sz="2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2600" spc="-1" strike="noStrike">
                <a:solidFill>
                  <a:srgbClr val="013c59"/>
                </a:solidFill>
                <a:latin typeface="Arial"/>
              </a:rPr>
              <a:t>95 % viven en casa y casi la mitad en la suya propia</a:t>
            </a:r>
            <a:endParaRPr b="0" lang="en-US" sz="2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2600" spc="-1" strike="noStrike">
                <a:solidFill>
                  <a:srgbClr val="013c59"/>
                </a:solidFill>
                <a:latin typeface="Arial"/>
              </a:rPr>
              <a:t>deseo „de disfrutar por fin de algo “</a:t>
            </a:r>
            <a:endParaRPr b="0" lang="en-US" sz="2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2600" spc="-1" strike="noStrike">
                <a:solidFill>
                  <a:srgbClr val="013c59"/>
                </a:solidFill>
                <a:latin typeface="Arial"/>
              </a:rPr>
              <a:t>cada vez más activo y abierto para lo nuevo</a:t>
            </a:r>
            <a:endParaRPr b="0" lang="en-US" sz="2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102FA-5D5E-499C-9EEE-468B520EED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43000" y="114300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Predisposición de compra y consumismo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2324160"/>
            <a:ext cx="822960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Me he ganado el pensar también una vez en mi y gastarme mi dinero para mi“…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13c59"/>
                </a:solidFill>
                <a:latin typeface="Arial"/>
              </a:rPr>
              <a:t>...dicen el 56 % entre 70 y 75 anios.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13c59"/>
                </a:solidFill>
                <a:latin typeface="Arial"/>
              </a:rPr>
              <a:t>(Fuente: GfK-Studie)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24480" y="3936960"/>
            <a:ext cx="2438640" cy="223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70AD3-DEE3-43DD-B62A-F782CD4D30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03320" y="105408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El mercado de la tercera edad – poder adquisitivo o casos sociales?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19920" y="3962520"/>
            <a:ext cx="2952720" cy="1714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68280" y="1892160"/>
            <a:ext cx="7950240" cy="42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Condiciones básicas: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sobre el 80% por encima de 50 a</a:t>
            </a:r>
            <a:r>
              <a:rPr b="0" lang="es-ES" sz="2400" spc="-1" strike="noStrike">
                <a:solidFill>
                  <a:srgbClr val="013c59"/>
                </a:solidFill>
                <a:latin typeface="Arial"/>
                <a:ea typeface="Arial"/>
              </a:rPr>
              <a:t>ños dispone de </a:t>
            </a: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buena a muy buena situación de rent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renta libremente disponible 1.492 euro/me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13c59"/>
                </a:solidFill>
                <a:latin typeface="Arial"/>
              </a:rPr>
              <a:t>(Estudios el Norte-Rin/Westfalia 2003, Instituto para el trabajo y la tecnología)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fortuna media: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                    </a:t>
            </a: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55 - 65 años: euro 90.000                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                    </a:t>
            </a:r>
            <a:r>
              <a:rPr b="0" lang="es-ES" sz="2400" spc="-1" strike="noStrike">
                <a:solidFill>
                  <a:srgbClr val="013c59"/>
                </a:solidFill>
                <a:latin typeface="Arial"/>
              </a:rPr>
              <a:t>65 - 75 años: euro 73.000     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13c59"/>
                </a:solidFill>
                <a:latin typeface="Arial"/>
              </a:rPr>
              <a:t>(Muestra de la renta y de la consumición, estado. Oficina federal)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A7A28-C7C9-488B-AA0C-577DDFC579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9600" y="1143000"/>
            <a:ext cx="925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Oferta de las empresas de manufacturas para personas de la tercera edad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04760" y="2097000"/>
            <a:ext cx="86868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Palabras claves en 12 categorías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Edificio apto para gente mayor y discapacitados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Baño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Calefacción/clima/ventilación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Cocina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Ventanas y puerta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Muebl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Ingeniería de la seguridad de protección contra incendios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Interfonos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Tecnología eléctric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Dispositivos de color y decoración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Suelo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Servicio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BD8E7-B0E5-49CC-A35A-80E08EDA93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Ana </cp:lastModifiedBy>
  <dcterms:modified xsi:type="dcterms:W3CDTF">2010-10-07T11:56:12Z</dcterms:modified>
  <cp:revision>402</cp:revision>
  <dc:subject>EC21</dc:subject>
  <dc:title>Presentacion S3</dc:title>
</cp:coreProperties>
</file>