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6D5C-6620-46C8-AAAA-BCF54E92B0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5A1C4-99FF-4BE1-8F1C-48FA077BEE8C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7280" y="4759200"/>
            <a:ext cx="5049720" cy="4508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fK Grupo Int. De Institutos de estudio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47E5-CDC1-4524-BA36-7CE9C802B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647B-ACA1-4932-9357-073ED1CE5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184F6-D760-4DC1-A866-067AC12C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0F87-FC74-42E7-8202-C3444390A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CCEE-DF4B-4D9C-908A-81BCA6D7C8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6C18-8A11-481D-895F-841CDE843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FE0E-9B83-4DF9-8F8B-5CD4C876A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AFD68-755E-4B83-BAC7-F726F5580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D7F1-7405-4568-91C6-188BF0C91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AE05-CD7B-41C9-9D77-340BFA170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DEC9-609E-4265-B332-3CB4ED7DE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12D3-3BAF-4934-BFB5-1C94296E1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3-A3-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Mercado de la tercera 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E5A-C9E5-440E-A2B9-3BCE97766E3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statis.de/basis/d/bevoe/bev_pyr3.htm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destatis.de/basis/d/bevoe/bev_pyr4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3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Mercado de la tercera e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9040" y="172548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3464-9F36-4D44-96C6-62A9BF02A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E3B9-7600-405A-8709-AA2D09994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3372-F76F-430B-A1DE-592C7B7708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l mercado de</a:t>
            </a: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 l</a:t>
            </a: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a tercera e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0183-B17B-4A91-97C8-2A1D2C9D7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14300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Mercado de la tercera edad – </a:t>
            </a:r>
            <a:br>
              <a:rPr sz="2800"/>
            </a:b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res humanos en númer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336760"/>
            <a:ext cx="64134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arrollo demográfic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2000 era cada quinta persona sobre 6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2010 se convierten en cada cuarta sobre 60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¡2030 será cada tercero sobre 60!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Nota: La generación heredera será incluso vieja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Tesis: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Hay un considerable aumento de la capacidad de demanda de las personas may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9" name="" descr="Bevölkerungspyramide 1950 für Deutschland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1828800"/>
            <a:ext cx="1366560" cy="1447920"/>
          </a:xfrm>
          <a:prstGeom prst="rect">
            <a:avLst/>
          </a:prstGeom>
          <a:ln w="9360">
            <a:solidFill>
              <a:srgbClr val="fe5815"/>
            </a:solidFill>
            <a:miter/>
          </a:ln>
        </p:spPr>
      </p:pic>
      <p:pic>
        <p:nvPicPr>
          <p:cNvPr id="60" name="" descr="Bevölkerungspyramide 2050 für Deutschland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4114800"/>
            <a:ext cx="1353960" cy="1447920"/>
          </a:xfrm>
          <a:prstGeom prst="rect">
            <a:avLst/>
          </a:prstGeom>
          <a:ln w="9360">
            <a:solidFill>
              <a:srgbClr val="fe5815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7531200" y="3306600"/>
            <a:ext cx="157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Distribución de la eda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  <a:ea typeface="Arial"/>
              </a:rPr>
              <a:t>1950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55926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Distribución de la edad</a:t>
            </a:r>
            <a:br>
              <a:rPr sz="1600"/>
            </a:b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2050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C2FA1-1F68-4D50-8533-C43D5AB829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95280" y="97164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7164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DCC32-FF77-496D-8C83-22038CF206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114300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La persona mayor – el ser desconocid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286000"/>
            <a:ext cx="8229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rejuicios: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clientes difícile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asividad y aislamien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escasos recursos financier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ersonas mayores viven en residencias de ancian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oco cosumidore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oca disposición a la innovació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D123-DAEC-46FC-8E34-D608932DA8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990720"/>
            <a:ext cx="8762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La persona mayor – el ser desconocid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90512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 u="sng">
                <a:solidFill>
                  <a:srgbClr val="013c59"/>
                </a:solidFill>
                <a:uFillTx/>
                <a:latin typeface="Arial"/>
              </a:rPr>
              <a:t>Realidad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liente exigente y de confianza 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ontacto, deseo de vivir y sociable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sobre el poder medio adquisitivo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95 % viven en casa y casi la mitad en la suya prop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deseo „de disfrutar por fin de algo “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ada vez más activo y abierto para lo nuevo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99B81-128A-4BCF-B065-F7EDDDC961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Predisposición de compra y consumism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32416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Me he ganado el pensar también una vez en mi y gastarme mi dinero para mi“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...dicen el 56 % entre 70 y 75 anio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13c59"/>
                </a:solidFill>
                <a:latin typeface="Arial"/>
              </a:rPr>
              <a:t>(Fuente: GfK-Studie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3936960"/>
            <a:ext cx="2438640" cy="223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EAD9-55C9-402F-92C7-D404E759CB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3320" y="105408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l mercado de la tercera edad – poder adquisitivo o casos sociales?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52720" cy="171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8280" y="1892160"/>
            <a:ext cx="79502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Condiciones básicas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sobre el 80% por encima de 50 a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  <a:ea typeface="Arial"/>
              </a:rPr>
              <a:t>ños dispone de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buena a muy buena situación de r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renta libremente disponible 1.492 euro/m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13c59"/>
                </a:solidFill>
                <a:latin typeface="Arial"/>
              </a:rPr>
              <a:t>(Estudios el Norte-Rin/Westfalia 2003, Instituto para el trabajo y la tecnología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fortuna media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                    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55 - 65 años: euro 90.000                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                    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65 - 75 años: euro 73.000     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13c59"/>
                </a:solidFill>
                <a:latin typeface="Arial"/>
              </a:rPr>
              <a:t>(Muestra de la renta y de la consumición, estado. Oficina federal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977A-2A0D-49D0-914E-9A84918639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9600" y="1143000"/>
            <a:ext cx="925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Oferta de las empresas de manufacturas para personas de la tercera edad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760" y="209700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Palabras claves en 12 categoría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Edificio apto para gente mayor y discapacitad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Bañ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alefacción/clima/ventilació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ocin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Ventanas y puer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Mue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Ingeniería de la seguridad de protección contra incendi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Interfon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Tecnología eléctric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Dispositivos de color y decoració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uel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6501-9464-4740-9301-2E6B336C62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6:12Z</dcterms:modified>
  <cp:revision>402</cp:revision>
  <dc:subject>EC21</dc:subject>
  <dc:title>Presentacion S3</dc:title>
</cp:coreProperties>
</file>