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98440" y="-360"/>
            <a:ext cx="298476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37800" y="752400"/>
            <a:ext cx="5010120" cy="375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98440" y="9515160"/>
            <a:ext cx="298476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C6BCA-4F4C-4D5A-BC61-BB7374A7E26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98800" y="9515520"/>
            <a:ext cx="29847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68DBFB-2E2A-40DB-9842-C3E29B4ED407}" type="slidenum">
              <a:rPr b="0" lang="de-DE" sz="1200" spc="-1" strike="noStrike">
                <a:solidFill>
                  <a:srgbClr val="013c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38160" y="752400"/>
            <a:ext cx="5008680" cy="37562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51B8F-0282-4B4C-A9CC-8C7FC6DE28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624F6-2C7B-44D2-92CF-2E57707284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6B00D-3C7F-4B51-94CD-3D7EE27B47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487D1-33B6-45FA-921F-C247303B3A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F54EC-0BB4-4EE2-B380-2F03563595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5CD35-D596-4A00-83A3-C503F44CA9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57FF5-CA26-4EDB-B891-F3664DF31B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9F71C-724D-4423-8333-18EE1F86A8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8600" y="689040"/>
            <a:ext cx="637704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1E2BB-D70E-43F4-B4D7-AE4E4A969A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0385D-C643-4AED-8E23-2925734D59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5DCE5-FE32-416E-B3A2-918E775CC9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E1E22-0878-47B1-A5D9-26FB22D656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9"/>
          <p:cNvSpPr/>
          <p:nvPr/>
        </p:nvSpPr>
        <p:spPr>
          <a:xfrm>
            <a:off x="-7217640" y="6005520"/>
            <a:ext cx="235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Text Box 44"/>
          <p:cNvSpPr/>
          <p:nvPr/>
        </p:nvSpPr>
        <p:spPr>
          <a:xfrm>
            <a:off x="463680" y="5883120"/>
            <a:ext cx="8218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cc00"/>
                </a:solidFill>
                <a:latin typeface="Arial"/>
              </a:rPr>
              <a:t>-----------------------------------------------------------------------------------------------------------------------------------------------</a:t>
            </a:r>
            <a:endParaRPr b="0" lang="en-US" sz="13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Rectangle 48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234200" y="325440"/>
            <a:ext cx="1523880" cy="6159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507960" y="6244920"/>
            <a:ext cx="572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08080"/>
                </a:solidFill>
                <a:latin typeface="Arial"/>
              </a:rPr>
              <a:t>S3-A4: Salud y bienest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C31C-A778-4253-9F1B-13355A98B5E5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488880" y="387360"/>
            <a:ext cx="279396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urocrafts21.eu/" TargetMode="External"/><Relationship Id="rId2" Type="http://schemas.openxmlformats.org/officeDocument/2006/relationships/hyperlink" Target="mailto:ana.moreno@gesma.es" TargetMode="External"/><Relationship Id="rId3" Type="http://schemas.openxmlformats.org/officeDocument/2006/relationships/hyperlink" Target="http://www.gesma.es/" TargetMode="External"/><Relationship Id="rId4" Type="http://schemas.openxmlformats.org/officeDocument/2006/relationships/hyperlink" Target="http://www.cth.gva.es/CTL/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2587680"/>
            <a:ext cx="91440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8080"/>
                </a:solidFill>
                <a:latin typeface="Arial"/>
              </a:rPr>
              <a:t>Segmentos de negocio sostenible </a:t>
            </a: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Módulo S3</a:t>
            </a:r>
            <a:r>
              <a:rPr b="1" lang="es-ES" sz="3600" spc="-1" strike="noStrike">
                <a:solidFill>
                  <a:srgbClr val="808080"/>
                </a:solidFill>
                <a:latin typeface="Arial"/>
              </a:rPr>
              <a:t> </a:t>
            </a:r>
            <a:br>
              <a:rPr sz="3600"/>
            </a:b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Componente A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S3-A4 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Salud y bienestar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6600"/>
                </a:solidFill>
                <a:latin typeface="Arial"/>
              </a:rPr>
              <a:t>www.eurocrafts21.eu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6891480" y="325440"/>
            <a:ext cx="1866600" cy="754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14600" y="1751040"/>
            <a:ext cx="4114800" cy="135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D8032-F849-4F6D-AFB6-40DCCE2200C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79320" y="1628640"/>
            <a:ext cx="79963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13c59"/>
                </a:solidFill>
                <a:latin typeface="Verdana"/>
              </a:rPr>
              <a:t>TENDENCIAS SOCIALES </a:t>
            </a: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13c59"/>
                </a:solidFill>
                <a:latin typeface="Verdana"/>
              </a:rPr>
              <a:t>El mercado de salud y wellness</a:t>
            </a: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B7A4A-4342-4608-8FC1-CCB3A7A877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447920" y="121932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99"/>
                </a:solidFill>
                <a:latin typeface="Arial"/>
              </a:rPr>
              <a:t>Wellness y salud: </a:t>
            </a:r>
            <a:br>
              <a:rPr sz="2800"/>
            </a:br>
            <a:r>
              <a:rPr b="1" lang="de-DE" sz="2800" spc="-1" strike="noStrike">
                <a:solidFill>
                  <a:srgbClr val="003399"/>
                </a:solidFill>
                <a:latin typeface="Arial"/>
              </a:rPr>
              <a:t>Una tendencia para jovenes y viejos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67280" y="2793960"/>
            <a:ext cx="2286000" cy="1523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00200" y="2666880"/>
            <a:ext cx="7010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Palabras clave: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- Balance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13c5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Natural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13c5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Naturaleza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Pero también: wellness/bienestar, para poder sobrellevar las exigencias del día a día.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13c5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2BEB0-E0AD-4D78-86BE-73BA177647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447920" y="114300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¿</a:t>
            </a:r>
            <a:r>
              <a:rPr b="1" lang="de-DE" sz="2800" spc="-1" strike="noStrike">
                <a:solidFill>
                  <a:srgbClr val="003399"/>
                </a:solidFill>
                <a:latin typeface="Arial"/>
              </a:rPr>
              <a:t>Qué significa balance?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2133720"/>
            <a:ext cx="7467840" cy="38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...el sentirse equilibrado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13c5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en su ambiente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13c5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en la propia casa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13c5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en la ropa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13c5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con la imagen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13c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45220-56C3-4102-BC5D-391393B8FE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47920" y="137160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Wellness y salud: Una oportunidad para las empresas manufactureras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9760" y="2303640"/>
            <a:ext cx="73296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13c59"/>
              </a:buClr>
              <a:buFont typeface="Arial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El interés se mueve por todos los grupos de la población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13c59"/>
              </a:buClr>
              <a:buFont typeface="Arial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Individualidad en lugar de receta de patente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13c59"/>
              </a:buClr>
              <a:buFont typeface="Arial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asentar el espíritu de los materiales naturales en los espacios habitables“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13c59"/>
              </a:buClr>
              <a:buFont typeface="Arial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Servicios para las personas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13c59"/>
              </a:buClr>
              <a:buFont typeface="Arial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13c59"/>
              </a:buClr>
              <a:buFont typeface="Arial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92FFF-135F-42BE-B85C-1ADC591B27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23960" y="1079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Wellness plus: </a:t>
            </a:r>
            <a:r>
              <a:rPr b="1" lang="de-DE" sz="2400" spc="-1" strike="noStrike">
                <a:solidFill>
                  <a:srgbClr val="cc3300"/>
                </a:solidFill>
                <a:latin typeface="Arial"/>
              </a:rPr>
              <a:t>La vida saludable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90680" y="1778040"/>
            <a:ext cx="7010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Materiales-Wellness</a:t>
            </a:r>
            <a:br>
              <a:rPr sz="2400"/>
            </a:b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Barros, construcciones de madera sin conservantes, materiales pobres en emisiones 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Alojamiento-Wellness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Nueva revaloración del ba</a:t>
            </a:r>
            <a:r>
              <a:rPr b="0" lang="en-US" sz="2400" spc="-1" strike="noStrike">
                <a:solidFill>
                  <a:srgbClr val="013c59"/>
                </a:solidFill>
                <a:latin typeface="Arial"/>
                <a:ea typeface="Arial"/>
              </a:rPr>
              <a:t>ñ</a:t>
            </a: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o y la cocina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Alimentos-Wellness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Productos ecológicos y saludables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Ideas-Wellness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Feng-Shui, colores saludables, sonidos, carga electromagnética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D2C95-0D1F-47BD-8BA5-C5A36FB3E9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71680" y="1696680"/>
            <a:ext cx="82850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8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7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s-ES" sz="800" spc="-1" strike="noStrike" u="sng">
                <a:solidFill>
                  <a:srgbClr val="bc956e"/>
                </a:solidFill>
                <a:uFillTx/>
                <a:latin typeface="Arial"/>
                <a:hlinkClick r:id="rId1"/>
              </a:rPr>
              <a:t>www.eurocrafts21.eu</a:t>
            </a:r>
            <a:r>
              <a:rPr b="1" lang="es-ES" sz="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Este proyecto está financiado con el apoyo de la Comisión Europea. Esta publicación refleja los puntos de vista sólo del autor, y la Comisión no es responsable de cualquier uso que se pueda hacer de la información contenida en él.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 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   </a:t>
            </a: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El proyecto de Leonardo da Vinci Euro Crafts 21 se lleva a cabo bajo la Administración de plenum - sociedad para el desarrollo sostenible global y la del Instituto Factor de 10 Austria. El objetivo del proyecto es establecer  un valor añadido significativo en la educación profesional en los países asociados participantes (Austria, Finlandia, Alemania, Eslovaquia, España y Hungría).Esto se logrará mediante la transferencia de innovación de un proyecto piloto ya finalizado - con el objetivo del desarrollo y prueba de un concepto general de calificación y el consultoría para la gestión de sostenibilidad en la rama de artesanía de Renania del Norte-Westfalia (Alemania).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808080"/>
                </a:solidFill>
                <a:latin typeface="Verdana"/>
                <a:ea typeface="Times New Roman"/>
              </a:rPr>
              <a:t>Fuente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800" spc="-1" strike="noStrike">
                <a:solidFill>
                  <a:srgbClr val="808080"/>
                </a:solidFill>
                <a:latin typeface="Verdana"/>
                <a:ea typeface="Times New Roman"/>
              </a:rPr>
              <a:t>      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Lemken, Thomas; Rohn, Holger en </a:t>
            </a: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colaboración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 con Claudia Kaiser, INA Schäfer, Anna Bliesner, Kristin Parlow: Desarrollo sostenible Módulo B1. Westdeutscher Handwerkskammertag (ed.): Gestión sostenible en las empresas de artesanía. Un Manual para la aplicación de un concepto de consultoría y calificación realizados para consultores y profesores en el sector de artesanía. Resultados  </a:t>
            </a:r>
            <a:r>
              <a:rPr b="0" i="1" lang="de-DE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de un proyecto piloto, Düsseldorf (Nachhaltiges Wirtschaften en Handwerksbetrieben. Eine Handreichung zur Durchführung eines Qualifizierungs- und Beratungskonzeptes für Betriebsberater /-innen und Dozenten /-innen im Handwerk. 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Ergebnisse aus einem Modellversuch, Düsseldorf).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900" spc="-1" strike="noStrike">
                <a:solidFill>
                  <a:srgbClr val="808080"/>
                </a:solidFill>
                <a:latin typeface="Verdana"/>
                <a:ea typeface="Times New Roman"/>
              </a:rPr>
              <a:t>  </a:t>
            </a:r>
            <a:r>
              <a:rPr b="1" i="1" lang="en-GB" sz="900" spc="-1" strike="noStrike">
                <a:solidFill>
                  <a:srgbClr val="808080"/>
                </a:solidFill>
                <a:latin typeface="Verdana"/>
                <a:ea typeface="Times New Roman"/>
              </a:rPr>
              <a:t>Contacto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13c59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16040" y="3962520"/>
          <a:ext cx="8031240" cy="2011320"/>
        </p:xfrm>
        <a:graphic>
          <a:graphicData uri="http://schemas.openxmlformats.org/drawingml/2006/table">
            <a:tbl>
              <a:tblPr/>
              <a:tblGrid>
                <a:gridCol w="4016160"/>
                <a:gridCol w="4015080"/>
              </a:tblGrid>
              <a:tr h="2016360"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sMA - </a:t>
                      </a: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stión Medioambiental y  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Sostenibilidad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i="1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 </a:t>
                      </a:r>
                      <a:r>
                        <a:rPr b="1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Ana Moreno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Ronda de las Murallas 3,10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Denia 03700 (Alicante) España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Tel: 00-34-622603462  Fax: 00-34-966430283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2"/>
                        </a:rPr>
                        <a:t>ana.moreno@gesma.es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3"/>
                        </a:rPr>
                        <a:t>www.gesma.es</a:t>
                      </a: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Centro de Tecnologías Limpias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Conselleria de Medio Ambiente, Agua, 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Urbanismo y Vivienda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Dirección General para el Cambio Climático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neralitat Valenciana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1" i="1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rmán Giner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Ronda Isaac Peral y Caballero, 5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46980 PATERNA (VALENCIA)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Tlf: 00-34- 96 136 6949 - Fax: 00-34- 96 131 8495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4"/>
                        </a:rPr>
                        <a:t>http://www.cth.gva.es/CTL/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13094-BFCD-47BD-81C3-3A7F19E7E6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95360" y="1366920"/>
            <a:ext cx="803592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22360" y="2629080"/>
            <a:ext cx="67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3c59"/>
                </a:solidFill>
                <a:latin typeface="Arial"/>
                <a:ea typeface="Arial"/>
              </a:rPr>
              <a:t>¡</a:t>
            </a:r>
            <a:r>
              <a:rPr b="1" i="1" lang="es-ES" sz="2800" spc="-1" strike="noStrike">
                <a:solidFill>
                  <a:srgbClr val="013c59"/>
                </a:solidFill>
                <a:latin typeface="Verdana"/>
              </a:rPr>
              <a:t>Gracias por vuestra atención!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537AA-4AD6-4CB5-A254-08A0E94E05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4:29:03Z</dcterms:created>
  <dc:creator>Ana Moreno</dc:creator>
  <dc:description/>
  <dc:language>en-US</dc:language>
  <cp:lastModifiedBy>Ana </cp:lastModifiedBy>
  <dcterms:modified xsi:type="dcterms:W3CDTF">2010-10-07T11:55:39Z</dcterms:modified>
  <cp:revision>403</cp:revision>
  <dc:subject>EC21</dc:subject>
  <dc:title>Presentacion S3</dc:title>
</cp:coreProperties>
</file>