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039CC-7423-4C7E-80DD-3CB4E31F21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E1894-13A7-43E6-A3EE-53F77953291C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B6E0-71ED-4999-B0C0-36977CE39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21B05-F72B-403C-A884-D2DBFDB7D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3CBD-C666-4D57-A397-B36F6F6C3A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52669-45B7-4DCC-B8E7-9B8141DC01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76046-71A2-4226-9672-A7D924DD0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BB7B-89E8-4DA9-9FE6-4972D1374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7B29-6982-4C06-96BD-D0DFF1DF0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49F4-EE2B-430C-B66A-597DEB560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9A559-1B8C-4516-AF00-2189B6729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EE4B-6ED0-4934-AEE3-A18645362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E9B45-A10D-4D1C-BD86-A9F285865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4A49-6B96-425A-99DD-B90DE2CEC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Arial"/>
              </a:rPr>
              <a:t>S3-A4: Salud y bienest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DB9A-2BEB-49BC-B4FF-E13949A43679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S3</a:t>
            </a: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3600"/>
            </a:b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3-A4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Salud y bienestar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75104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2309-FFA3-4040-87D7-65DEF332A0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79320" y="1628640"/>
            <a:ext cx="7996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TENDENCIAS SOCIALES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El mercado de salud y wellness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5BD45-E1C4-4EAD-8121-AB7C2DEC7F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121932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Wellness y salud: </a:t>
            </a:r>
            <a:br>
              <a:rPr sz="2800"/>
            </a:b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Una tendencia para jovenes y viej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67280" y="279396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00200" y="2666880"/>
            <a:ext cx="7010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Palabras clave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- Balanc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Natural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Naturalez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Pero también: wellness/bienestar, para poder sobrellevar las exigencias del día a día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575B-1E34-4CAF-AC8D-25761258AE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7920" y="11430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¿</a:t>
            </a:r>
            <a:r>
              <a:rPr b="1" lang="de-DE" sz="2800" spc="-1" strike="noStrike">
                <a:solidFill>
                  <a:srgbClr val="003399"/>
                </a:solidFill>
                <a:latin typeface="Arial"/>
              </a:rPr>
              <a:t>Qué significa balance?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133720"/>
            <a:ext cx="746784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...el sentirse equilibrad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en su ambient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en la propia cas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en la rop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con la imagen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13c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569F1-D30B-415D-86BB-77312DE113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47920" y="1371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Wellness y salud: Una oportunidad para las empresas manufacturer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9760" y="2303640"/>
            <a:ext cx="73296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El interés se mueve por todos los grupos de la población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Individualidad en lugar de receta de patent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asentar el espíritu de los materiales naturales en los espacios habitables“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Servicios para las person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13c59"/>
              </a:buClr>
              <a:buFont typeface="Arial"/>
              <a:buChar char="-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57C95-8F55-4764-BFD6-2D713CFAF9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23960" y="1079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Wellness plus: </a:t>
            </a:r>
            <a:r>
              <a:rPr b="1" lang="de-DE" sz="2400" spc="-1" strike="noStrike">
                <a:solidFill>
                  <a:srgbClr val="cc3300"/>
                </a:solidFill>
                <a:latin typeface="Arial"/>
              </a:rPr>
              <a:t>La vida saludabl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90680" y="1778040"/>
            <a:ext cx="701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Materiales-Wellness</a:t>
            </a:r>
            <a:br>
              <a:rPr sz="2400"/>
            </a:b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Barros, construcciones de madera sin conservantes, materiales pobres en emisiones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Alojamiento-Wellnes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Nueva revaloración del ba</a:t>
            </a:r>
            <a:r>
              <a:rPr b="0" lang="en-US" sz="2400" spc="-1" strike="noStrike">
                <a:solidFill>
                  <a:srgbClr val="013c59"/>
                </a:solidFill>
                <a:latin typeface="Arial"/>
                <a:ea typeface="Arial"/>
              </a:rPr>
              <a:t>ñ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o y la cocin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Alimentos-Wellnes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Productos ecológicos y saludabl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Ideas-Wellnes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Feng-Shui, colores saludables, sonidos, carga electromagnétic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1A60-8FF0-4AE8-87FD-5E4C715E01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s-ES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colaboración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www.cth.gva.es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CC11-99B4-4CAE-AFF7-0EF7F0012F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554A2-00E1-4943-B11E-067BBC64F7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7T11:55:39Z</dcterms:modified>
  <cp:revision>403</cp:revision>
  <dc:subject>EC21</dc:subject>
  <dc:title>Presentacion S3</dc:title>
</cp:coreProperties>
</file>