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8EFA-FE1E-450B-A411-ABCCB17FF0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52033-6514-4F59-A7CA-990AB01C933C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973C-9277-4D85-884D-DBE56E567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14EA-27FC-44CE-B29D-9D99BECCD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18626-16A1-49A7-AF26-ADFADE0AD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688E-9A9C-46DE-B87E-9B08E0464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FDFB7-F7AD-4ED3-9D93-367A217E1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C2C5-F265-4624-85EF-22695C734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414A-C506-4B83-9282-287CAEA7D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9CF56-ABE1-4FBE-B098-842AFB38B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710F-9394-4CD6-882C-F36FB745A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61E9D-464B-4B06-A0B8-9C72CEB7C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1C1E-13F0-4AA3-A0EE-8E3C6EE54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BB3EF-1E8B-4D77-BE6E-DF77636BF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3-A5: Escasez de recurs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8833-7E34-42FB-B6DE-4C969474C82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hyperlink" Target="http://www.eurocrafts21.eu/" TargetMode="External"/><Relationship Id="rId4" Type="http://schemas.openxmlformats.org/officeDocument/2006/relationships/hyperlink" Target="mailto:ana.moreno@gesma.es" TargetMode="External"/><Relationship Id="rId5" Type="http://schemas.openxmlformats.org/officeDocument/2006/relationships/hyperlink" Target="http://www.gesma.es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hyperlink" Target="http://www.cth.gva.es/CTL/" TargetMode="External"/><Relationship Id="rId8" Type="http://schemas.openxmlformats.org/officeDocument/2006/relationships/hyperlink" Target="http://www.cth.gva.es/CTL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3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3-A5: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Escasez de recurso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511D-F1CE-419D-ABF8-30103B0663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0BD8-C264-4A48-BD83-F1BD8BACD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scasez de recursos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ECA6-BA65-4BB1-8946-13AEF33B0D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15920" y="2421000"/>
            <a:ext cx="7334280" cy="228852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Tarifas con aumento de precio 2005/1998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Fuel-oil ligero: + 133.6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Gas natural: + 48,6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Electricidad: + 17,7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           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- Combustibles: + 60,0 %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 </a:t>
            </a:r>
            <a:r>
              <a:rPr b="0" lang="es-ES" sz="2400" spc="-1" strike="noStrike">
                <a:solidFill>
                  <a:srgbClr val="013c59"/>
                </a:solidFill>
                <a:latin typeface="Verdana"/>
              </a:rPr>
              <a:t>En suma: ¡aumento del 37.1% del precio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58920" y="1268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</a:rPr>
              <a:t>Pronóstico de los costes energéticos de 1998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8920" y="5157720"/>
            <a:ext cx="52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13c59"/>
                </a:solidFill>
                <a:latin typeface="Verdana"/>
              </a:rPr>
              <a:t>Fuente: Kornhardt (2006b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023C6-EFD9-4A08-BD5F-FBC6CC2E79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4760" y="2357280"/>
            <a:ext cx="42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panadero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rnic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herr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ecánic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forj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onstructor de envases y aparat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grabad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odel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refrigerante de pla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impres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92080" y="1125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Verdana"/>
              </a:rPr>
              <a:t>Comercios con un consumo de energía relativamente alt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306520"/>
            <a:ext cx="3635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flexograf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ingeniero eléctric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ectricista de máquin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carpint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técnico denti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mecánico de cirugí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ortopedi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ortopedista zapat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borda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tejedo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veler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D09F3-A8F3-43ED-81DA-34A5BE8489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850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Verdana"/>
              </a:rPr>
              <a:t>Precios del mercado mundial de materias primas 2006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516640"/>
            <a:ext cx="56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13c59"/>
                </a:solidFill>
                <a:latin typeface="Verdana"/>
              </a:rPr>
              <a:t>Fuente: BMWi informe mensual 09/2006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32040" y="2093760"/>
            <a:ext cx="7777080" cy="3095640"/>
            <a:chOff x="932040" y="2093760"/>
            <a:chExt cx="7777080" cy="30956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932040" y="2093760"/>
              <a:ext cx="7777080" cy="30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45040" y="2246400"/>
              <a:ext cx="252396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Cambio respecto al periodo anterior en %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10400" y="2246400"/>
              <a:ext cx="269244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Cambio respecto al periodo anterior  del año pasado en %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35360" y="3300480"/>
              <a:ext cx="2184120" cy="428760"/>
            </a:xfrm>
            <a:prstGeom prst="rect">
              <a:avLst/>
            </a:prstGeom>
            <a:solidFill>
              <a:srgbClr val="013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Arial"/>
                </a:rPr>
                <a:t>Precio del mercado para materias prima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0560" y="3732120"/>
              <a:ext cx="218448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Total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73520" y="4049640"/>
              <a:ext cx="215892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limentos, bebidas y tabac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7960" y="4367160"/>
              <a:ext cx="2184480" cy="261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Materias primas - industri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47960" y="4672080"/>
              <a:ext cx="2184480" cy="428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Materias primas- energía (carbón y crudo)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3200" y="3033720"/>
              <a:ext cx="88884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n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1160" y="30211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n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97600" y="3033720"/>
              <a:ext cx="88884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l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737400" y="30211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juli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84920" y="303372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agost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01040" y="3008160"/>
              <a:ext cx="889200" cy="261360"/>
            </a:xfrm>
            <a:prstGeom prst="rect">
              <a:avLst/>
            </a:prstGeom>
            <a:solidFill>
              <a:srgbClr val="d5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agost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D4ED-089A-4B1F-A693-6C277A0FBF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696680"/>
            <a:ext cx="7862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13c59"/>
                </a:solidFill>
                <a:latin typeface="Verdana"/>
              </a:rPr>
              <a:t>Oportunidades para empresas de manufactura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7640" y="3007800"/>
            <a:ext cx="7242120" cy="1289160"/>
          </a:xfrm>
          <a:prstGeom prst="rect">
            <a:avLst/>
          </a:prstGeom>
          <a:solidFill>
            <a:srgbClr val="b4f4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onstrucción de edificios ecológica y con ahorro de energía,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aneamiento energético de edificios,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istemas descentralizados de fuentes de alimentación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2DAF-01D5-4514-9BE7-B8FD1702BB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16000" y="1184400"/>
            <a:ext cx="7667640" cy="50004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1168560" y="1206360"/>
            <a:ext cx="7238880" cy="3967200"/>
            <a:chOff x="1168560" y="1206360"/>
            <a:chExt cx="7238880" cy="3967200"/>
          </a:xfrm>
        </p:grpSpPr>
        <p:sp>
          <p:nvSpPr>
            <p:cNvPr id="83" name=""/>
            <p:cNvSpPr/>
            <p:nvPr/>
          </p:nvSpPr>
          <p:spPr>
            <a:xfrm>
              <a:off x="1168560" y="2641680"/>
              <a:ext cx="135864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Aceites minerale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27480" y="2082960"/>
              <a:ext cx="13590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Lignito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2273400"/>
              <a:ext cx="135900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Hulla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16720" y="3530520"/>
              <a:ext cx="99072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Energía atómica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80240" y="4826160"/>
              <a:ext cx="81252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Ga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89120" y="4495680"/>
              <a:ext cx="1359000" cy="55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Energías renovable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0680" y="4851360"/>
              <a:ext cx="672840" cy="3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500" spc="-1" strike="noStrike">
                  <a:solidFill>
                    <a:srgbClr val="013c59"/>
                  </a:solidFill>
                  <a:latin typeface="Arial"/>
                </a:rPr>
                <a:t>Otros</a:t>
              </a:r>
              <a:endParaRPr b="0" lang="en-US" sz="15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1206360"/>
              <a:ext cx="4749840" cy="9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13c59"/>
                  </a:solidFill>
                  <a:latin typeface="Arial"/>
                </a:rPr>
                <a:t>Estructura del consumo primario de energía en Alemania 2005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13c59"/>
                  </a:solidFill>
                  <a:latin typeface="Arial"/>
                </a:rPr>
                <a:t>Total: 14.238 PJ</a:t>
              </a:r>
              <a:endParaRPr b="0" lang="en-US" sz="12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D148-2F42-4224-80C4-D75D55AC6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54000" y="1206360"/>
            <a:ext cx="7777080" cy="4321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136600" y="1220760"/>
            <a:ext cx="64645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13c59"/>
                </a:solidFill>
                <a:latin typeface="Arial"/>
              </a:rPr>
              <a:t>Porcentaje de energías renovables en la energía a disposición en Alemani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3600" y="2033640"/>
            <a:ext cx="289584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final de energía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82800" y="3187800"/>
            <a:ext cx="2895480" cy="31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orcentaje de las ER en el consumo final de energía en Alemania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2800" y="4764240"/>
            <a:ext cx="289548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Suma del consumo de energía primar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82800" y="3621240"/>
            <a:ext cx="2895480" cy="174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primario de energía (CPE)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57240" y="222408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roducción eléctrica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82800" y="254160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Disposición de calor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2847960"/>
            <a:ext cx="224784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de combustible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transporte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69840" y="3824280"/>
            <a:ext cx="24256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roducción eléctrica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2800" y="4129200"/>
            <a:ext cx="24382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Disposición de calor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bruto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57240" y="4438800"/>
            <a:ext cx="2438280" cy="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Consumo de combustible</a:t>
            </a:r>
            <a:br>
              <a:rPr sz="1000"/>
            </a:br>
            <a:r>
              <a:rPr b="1" lang="es-ES" sz="700" spc="-1" strike="noStrike">
                <a:solidFill>
                  <a:srgbClr val="013c59"/>
                </a:solidFill>
                <a:latin typeface="Arial"/>
              </a:rPr>
              <a:t>(consumo total transporte de energía primaria)</a:t>
            </a:r>
            <a:endParaRPr b="0" lang="en-US" sz="7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33480" y="4956120"/>
            <a:ext cx="744228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Porcentaje de CPE calculado por el métododel grado de rendimiento</a:t>
            </a:r>
            <a:br>
              <a:rPr sz="1000"/>
            </a:b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*)datos provisionales</a:t>
            </a:r>
            <a:br>
              <a:rPr sz="1000"/>
            </a:b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a partir del 2003 nueva valoración de la disposición de calor de EE debida a una mejora de la toma de datos (recogida de datos de la Ley de Estadística Energética (EnStatG)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13c59"/>
                </a:solidFill>
                <a:latin typeface="Arial"/>
              </a:rPr>
              <a:t>Fuente: BMU – publicación – Energías renovables en números- desarrollo nacional e internacional, Stand de mayo 2006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58CE-EEC6-47CE-9D11-80B6FC62B2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.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3"/>
              </a:rPr>
              <a:t>eu</a:t>
            </a:r>
            <a:r>
              <a:rPr b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de un proyecto piloto, Düsseldorf (Nachhaltiges Wirtschaften en Handwerksbetrieben. Eine Handreichung zur Durchführung eines Qualifizierungs- und Beratungskonzeptes für Betriebsberater /-innen und Dozenten /-innen im Handwerk. Ergebnisse aus einem Modellversuch, Düsseldorf).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7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8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BF11-1D60-42B1-98D5-071F773404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2:33Z</dcterms:modified>
  <cp:revision>403</cp:revision>
  <dc:subject>EC21</dc:subject>
  <dc:title>Presentacion S3</dc:title>
</cp:coreProperties>
</file>