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2F5E7-AF98-438A-A0D3-E2E1C62AAC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BDBF2-4F08-453A-843D-ACCDF8434D90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29306-8AF6-4FC7-BAC3-4D8E2396F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D6341-3D6F-4817-B771-CB7E4A967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B1046-4201-4BD3-BE83-9899BF4DB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3E3C-3EC0-4592-A6BC-D3389AC698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7C3DE-0203-41C8-9333-23B233498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5F9B-A622-44AC-846D-9F542648C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7890C-D31F-4B13-AAE3-4E7FD23E3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CC6A-11C9-4031-911F-8F5F86173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7884-2264-4CD0-B1D7-FCA93E2ED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1F10-C044-4E17-A87D-ED1ACE51B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A0BC-A1B7-4867-B82C-C8BFBF592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AE0F-D8C5-44B9-9989-9AEF11C1D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Arial"/>
              </a:rPr>
              <a:t>S3-A5: Escasez de recur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717F-139F-4DDF-A8D1-F5D43587C6CE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http://www.eurocrafts21.eu/" TargetMode="External"/><Relationship Id="rId3" Type="http://schemas.openxmlformats.org/officeDocument/2006/relationships/hyperlink" Target="http://www.eurocrafts21.eu/" TargetMode="External"/><Relationship Id="rId4" Type="http://schemas.openxmlformats.org/officeDocument/2006/relationships/hyperlink" Target="mailto:ana.moreno@gesma.es" TargetMode="External"/><Relationship Id="rId5" Type="http://schemas.openxmlformats.org/officeDocument/2006/relationships/hyperlink" Target="http://www.gesma.es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hyperlink" Target="http://www.cth.gva.es/CTL/" TargetMode="External"/><Relationship Id="rId8" Type="http://schemas.openxmlformats.org/officeDocument/2006/relationships/hyperlink" Target="http://www.cth.gva.es/CTL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egmentos de negocio sostenible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odulo S3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3-A5: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scasez de recurso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751040"/>
            <a:ext cx="41148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E78B-586D-4751-95E1-FC307D28DD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0EC2-C8D8-48E9-B848-2EBC84F873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79320" y="1628640"/>
            <a:ext cx="7996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13c59"/>
                </a:solidFill>
                <a:latin typeface="Verdana"/>
              </a:rPr>
              <a:t>TENDENCIAS SOCIALES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13c59"/>
                </a:solidFill>
                <a:latin typeface="Verdana"/>
              </a:rPr>
              <a:t>Escasez de recursos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1C7D-3012-4170-AC51-D96BDE0083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15920" y="2421000"/>
            <a:ext cx="7334280" cy="228852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• </a:t>
            </a: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Tarifas con aumento de precio 2005/1998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            </a:t>
            </a: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- Fuel-oil ligero: + 133.6%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            </a:t>
            </a: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- Gas natural: + 48,6 %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            </a:t>
            </a: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- Electricidad: + 17,7 %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            </a:t>
            </a: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- Combustibles: + 60,0 %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 </a:t>
            </a: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En suma: ¡aumento del 37.1% del precio!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1268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3c59"/>
                </a:solidFill>
                <a:latin typeface="Arial"/>
              </a:rPr>
              <a:t>Pronóstico de los costes energéticos de 1998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515772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13c59"/>
                </a:solidFill>
                <a:latin typeface="Verdana"/>
              </a:rPr>
              <a:t>Fuente: Kornhardt (2006b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8D93-2552-4078-8ABC-31D913FC69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4760" y="2357280"/>
            <a:ext cx="424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panadero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carnicer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herrer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mecánic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forjado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constructor de envases y aparat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grabador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modelado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refrigerante de plant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impresor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2080" y="11253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3c59"/>
                </a:solidFill>
                <a:latin typeface="Verdana"/>
              </a:rPr>
              <a:t>Comercios con un consumo de energía relativamente alt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306520"/>
            <a:ext cx="36352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flexograf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ingeniero eléctric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electricista de máquin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carpinter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técnico dentist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mecánico de cirugí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ortopedist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ortopedista zapater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bordado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tejedo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veler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1527-91B1-4139-96AE-3F3FE01C08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85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13c59"/>
                </a:solidFill>
                <a:latin typeface="Verdana"/>
              </a:rPr>
              <a:t>Precios del mercado mundial de materias primas 2006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5516640"/>
            <a:ext cx="56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13c59"/>
                </a:solidFill>
                <a:latin typeface="Verdana"/>
              </a:rPr>
              <a:t>Fuente: BMWi informe mensual 09/2006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32040" y="2093760"/>
            <a:ext cx="7777080" cy="3095640"/>
            <a:chOff x="932040" y="2093760"/>
            <a:chExt cx="7777080" cy="309564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932040" y="2093760"/>
              <a:ext cx="777708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245040" y="2246400"/>
              <a:ext cx="2523960" cy="428760"/>
            </a:xfrm>
            <a:prstGeom prst="rect">
              <a:avLst/>
            </a:prstGeom>
            <a:solidFill>
              <a:srgbClr val="013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Arial"/>
                </a:rPr>
                <a:t>Cambio respecto al periodo anterior en %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10400" y="2246400"/>
              <a:ext cx="2692440" cy="428760"/>
            </a:xfrm>
            <a:prstGeom prst="rect">
              <a:avLst/>
            </a:prstGeom>
            <a:solidFill>
              <a:srgbClr val="013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Arial"/>
                </a:rPr>
                <a:t>Cambio respecto al periodo anterior  del año pasado en %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35360" y="3300480"/>
              <a:ext cx="2184120" cy="428760"/>
            </a:xfrm>
            <a:prstGeom prst="rect">
              <a:avLst/>
            </a:prstGeom>
            <a:solidFill>
              <a:srgbClr val="013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Arial"/>
                </a:rPr>
                <a:t>Precio del mercado para materias primas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0560" y="3732120"/>
              <a:ext cx="2184480" cy="261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Total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3520" y="4049640"/>
              <a:ext cx="2158920" cy="261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Alimentos, bebidas y tabac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47960" y="4367160"/>
              <a:ext cx="2184480" cy="261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Materias primas - industria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47960" y="4672080"/>
              <a:ext cx="2184480" cy="428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Materias primas- energía (carbón y crudo)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83200" y="3033720"/>
              <a:ext cx="888840" cy="26136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juni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1160" y="3021120"/>
              <a:ext cx="889200" cy="26136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juni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97600" y="3033720"/>
              <a:ext cx="888840" cy="26136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juli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37400" y="3021120"/>
              <a:ext cx="889200" cy="26136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juli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84920" y="3033720"/>
              <a:ext cx="889200" cy="26136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agost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01040" y="3008160"/>
              <a:ext cx="889200" cy="26136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agost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0D2D-51E9-4DF2-86F7-59F59BC491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696680"/>
            <a:ext cx="78627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13c59"/>
                </a:solidFill>
                <a:latin typeface="Verdana"/>
              </a:rPr>
              <a:t>Oportunidades para empresas de manufactura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7640" y="3007800"/>
            <a:ext cx="7242120" cy="1289160"/>
          </a:xfrm>
          <a:prstGeom prst="rect">
            <a:avLst/>
          </a:prstGeom>
          <a:solidFill>
            <a:srgbClr val="b4f4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Construcción de edificios ecológica y con ahorro de energía,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Saneamiento energético de edificios,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Sistemas descentralizados de fuentes de alimentación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78FC-A95E-46CE-A946-C6F7823BC0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16000" y="1184400"/>
            <a:ext cx="7667640" cy="50004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1168560" y="1206360"/>
            <a:ext cx="7238880" cy="3967200"/>
            <a:chOff x="1168560" y="1206360"/>
            <a:chExt cx="7238880" cy="3967200"/>
          </a:xfrm>
        </p:grpSpPr>
        <p:sp>
          <p:nvSpPr>
            <p:cNvPr id="83" name=""/>
            <p:cNvSpPr/>
            <p:nvPr/>
          </p:nvSpPr>
          <p:spPr>
            <a:xfrm>
              <a:off x="1168560" y="2641680"/>
              <a:ext cx="1358640" cy="55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Aceites minerales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27480" y="2082960"/>
              <a:ext cx="135900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Lignito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3600" y="2273400"/>
              <a:ext cx="135900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Hulla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16720" y="3530520"/>
              <a:ext cx="990720" cy="55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Energía atómica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80240" y="4826160"/>
              <a:ext cx="81252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Gas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89120" y="4495680"/>
              <a:ext cx="1359000" cy="55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Energías renovables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00680" y="4851360"/>
              <a:ext cx="67284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Otros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3200" y="1206360"/>
              <a:ext cx="4749840" cy="9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13c59"/>
                  </a:solidFill>
                  <a:latin typeface="Arial"/>
                </a:rPr>
                <a:t>Estructura del consumo primario de energía en Alemania 2005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13c59"/>
                  </a:solidFill>
                  <a:latin typeface="Arial"/>
                </a:rPr>
                <a:t>Total: 14.238 PJ</a:t>
              </a:r>
              <a:endParaRPr b="0" lang="en-US" sz="12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FC4F-B190-4801-8B3D-EE90C200E9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54000" y="1206360"/>
            <a:ext cx="7777080" cy="4321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36600" y="1220760"/>
            <a:ext cx="646452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13c59"/>
                </a:solidFill>
                <a:latin typeface="Arial"/>
              </a:rPr>
              <a:t>Porcentaje de energías renovables en la energía a disposición en Alemani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3600" y="2033640"/>
            <a:ext cx="2895840" cy="17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Consumo final de energía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82800" y="3187800"/>
            <a:ext cx="2895480" cy="31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Porcentaje de las ER en el consumo final de energía en Alemania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2800" y="4764240"/>
            <a:ext cx="2895480" cy="17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Suma del consumo de energía primario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82800" y="3621240"/>
            <a:ext cx="2895480" cy="17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Consumo primario de energía (CPE)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57240" y="2224080"/>
            <a:ext cx="2247840" cy="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Producción eléctrica</a:t>
            </a:r>
            <a:br>
              <a:rPr sz="1000"/>
            </a:br>
            <a:r>
              <a:rPr b="1" lang="es-ES" sz="700" spc="-1" strike="noStrike">
                <a:solidFill>
                  <a:srgbClr val="013c59"/>
                </a:solidFill>
                <a:latin typeface="Arial"/>
              </a:rPr>
              <a:t>(consumo total bruto)</a:t>
            </a:r>
            <a:endParaRPr b="0" lang="en-US" sz="7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82800" y="2541600"/>
            <a:ext cx="2247840" cy="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Disposición de calor</a:t>
            </a:r>
            <a:br>
              <a:rPr sz="1000"/>
            </a:br>
            <a:r>
              <a:rPr b="1" lang="es-ES" sz="700" spc="-1" strike="noStrike">
                <a:solidFill>
                  <a:srgbClr val="013c59"/>
                </a:solidFill>
                <a:latin typeface="Arial"/>
              </a:rPr>
              <a:t>(consumo total bruto)</a:t>
            </a:r>
            <a:endParaRPr b="0" lang="en-US" sz="7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82800" y="2847960"/>
            <a:ext cx="2247840" cy="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Consumo de combustible</a:t>
            </a:r>
            <a:br>
              <a:rPr sz="1000"/>
            </a:br>
            <a:r>
              <a:rPr b="1" lang="es-ES" sz="700" spc="-1" strike="noStrike">
                <a:solidFill>
                  <a:srgbClr val="013c59"/>
                </a:solidFill>
                <a:latin typeface="Arial"/>
              </a:rPr>
              <a:t>(consumo total transporte)</a:t>
            </a:r>
            <a:endParaRPr b="0" lang="en-US" sz="7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69840" y="3824280"/>
            <a:ext cx="2425680" cy="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Producción eléctrica</a:t>
            </a:r>
            <a:br>
              <a:rPr sz="1000"/>
            </a:br>
            <a:r>
              <a:rPr b="1" lang="es-ES" sz="700" spc="-1" strike="noStrike">
                <a:solidFill>
                  <a:srgbClr val="013c59"/>
                </a:solidFill>
                <a:latin typeface="Arial"/>
              </a:rPr>
              <a:t>(consumo total bruto de energía primaria)</a:t>
            </a:r>
            <a:endParaRPr b="0" lang="en-US" sz="7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82800" y="4129200"/>
            <a:ext cx="2438280" cy="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Disposición de calor</a:t>
            </a:r>
            <a:br>
              <a:rPr sz="1000"/>
            </a:br>
            <a:r>
              <a:rPr b="1" lang="es-ES" sz="700" spc="-1" strike="noStrike">
                <a:solidFill>
                  <a:srgbClr val="013c59"/>
                </a:solidFill>
                <a:latin typeface="Arial"/>
              </a:rPr>
              <a:t>(consumo total bruto de energía primaria)</a:t>
            </a:r>
            <a:endParaRPr b="0" lang="en-US" sz="7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57240" y="4438800"/>
            <a:ext cx="2438280" cy="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Consumo de combustible</a:t>
            </a:r>
            <a:br>
              <a:rPr sz="1000"/>
            </a:br>
            <a:r>
              <a:rPr b="1" lang="es-ES" sz="700" spc="-1" strike="noStrike">
                <a:solidFill>
                  <a:srgbClr val="013c59"/>
                </a:solidFill>
                <a:latin typeface="Arial"/>
              </a:rPr>
              <a:t>(consumo total transporte de energía primaria)</a:t>
            </a:r>
            <a:endParaRPr b="0" lang="en-US" sz="7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33480" y="4956120"/>
            <a:ext cx="744228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Porcentaje de CPE calculado por el métododel grado de rendimiento</a:t>
            </a:r>
            <a:br>
              <a:rPr sz="1000"/>
            </a:b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*)datos provisionales</a:t>
            </a:r>
            <a:br>
              <a:rPr sz="1000"/>
            </a:b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a partir del 2003 nueva valoración de la disposición de calor de EE debida a una mejora de la toma de datos (recogida de datos de la Ley de Estadística Energética (EnStatG)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Fuente: BMU – publicación – Energías renovables en números- desarrollo nacional e internacional, Stand de mayo 2006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1242-3E41-4524-B715-50A544DD6B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</a:t>
            </a:r>
            <a:r>
              <a:rPr b="0" i="1" lang="es-ES" sz="800" spc="-1" strike="noStrike" u="sng">
                <a:solidFill>
                  <a:srgbClr val="bc956e"/>
                </a:solidFill>
                <a:uFillTx/>
                <a:latin typeface="Arial"/>
                <a:hlinkClick r:id="rId2"/>
              </a:rPr>
              <a:t>.</a:t>
            </a:r>
            <a:r>
              <a:rPr b="0" i="1" lang="es-ES" sz="800" spc="-1" strike="noStrike" u="sng">
                <a:solidFill>
                  <a:srgbClr val="bc956e"/>
                </a:solidFill>
                <a:uFillTx/>
                <a:latin typeface="Arial"/>
                <a:hlinkClick r:id="rId3"/>
              </a:rPr>
              <a:t>eu</a:t>
            </a:r>
            <a:r>
              <a:rPr b="1" lang="es-ES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s-ES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de un proyecto piloto, Düsseldorf (Nachhaltiges Wirtschaften en Handwerksbetrieben. Eine Handreichung zur Durchführung eines Qualifizierungs- und Beratungskonzeptes für Betriebsberater /-innen und Dozenten /-innen im Handwerk. Ergebnisse aus einem Modellversuch, Düsseldorf).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s-ES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7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8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BA8E-1C93-4B54-9B5E-9847E94DFA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7T11:52:33Z</dcterms:modified>
  <cp:revision>403</cp:revision>
  <dc:subject>EC21</dc:subject>
  <dc:title>Presentacion S3</dc:title>
</cp:coreProperties>
</file>