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19D52-1A35-4F45-81D3-97EF91D78A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A324A-F096-460E-BB3A-226CB57EFC07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C38F-317D-4D20-8E6D-77C72773B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5110C-06F7-4CA0-A303-C828C21EE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0A37-513A-4ACD-8F7C-E0A6EF9ED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55EE9-CD02-4C3C-8358-AD9B0B612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3BA8-86DE-491C-ADEF-085A581A3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0D19-3634-41C7-BC5C-A83B570F0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8E308-18F7-4C87-A50B-EC77B9F30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0CE8-3DA4-48BA-8A83-B14EE9128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D58D-7D7B-4945-831A-B0B394033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0F2C5-8FF5-4374-9AB4-C6A987782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F4042-47A7-4812-B9CB-06103B96B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B4B4-3482-4A47-9D35-363D24453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3-B1: Técnicas de crea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D4C7-95A1-49E2-8ECF-0B320808D31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B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3-B1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Técnicas de creativi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4D21-DD69-4FDB-85A0-DD21C3EB9F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55800" y="1150920"/>
            <a:ext cx="5622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storming - Objetiv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47640" y="2205000"/>
            <a:ext cx="6877080" cy="288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Disponer de un </a:t>
            </a: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marco formal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 para „pensar de forma creativa“, en el cual se animará a los compañeros de trabajo a producir de forma libre y deshinhibida un gran número de ideas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Recoger ideas innovadoras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, con ellas dar solución al  problema reconocido anteriormente y/o poder utilizar una oportunidad ya reconocida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E83D1-90C9-4E27-8E82-DC401B1ED2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12800" y="1173240"/>
            <a:ext cx="6896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storming – Reglas del jueg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2205000"/>
            <a:ext cx="6912000" cy="28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Ninguna crítica a los cometarios de otra persona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Ningún pensamiento es “demasiado malo“, “demasiado extraño“, que no pueda ser dicho o tratado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Cuanto más pensamientos, principios e ideas, tanto mejor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Se aplica: ”No hay ninguna frontera para la fantasía“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Arial"/>
              </a:rPr>
              <a:t>La cantidad va primero antes de la calidad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B524C-D207-425C-AC9B-93A0FD88A9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28720" y="1357200"/>
            <a:ext cx="6410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writing (6-3-5) - Objetiv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2421000"/>
            <a:ext cx="6985080" cy="1728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13c59"/>
                </a:solidFill>
                <a:latin typeface="Verdana"/>
              </a:rPr>
              <a:t>Un número de ideas, que fueron obtenidas por ejemplo por el “Brainstorming”  para mejorar y/o para profundizar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FDF7-6BAF-4F27-8472-F89BE7C4F6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41320" y="1208160"/>
            <a:ext cx="6502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writing (6-3-5) - Ventaja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47640" y="2205000"/>
            <a:ext cx="6769440" cy="1733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Se realiza en el grupo -&gt; formar el equipo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El requisito de la escritura facilita  una evaluación posterior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Muchas ideas dentro de un plazo corto de tiempo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3D254-B10B-43F1-A25C-FC2B48BC5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57080" y="1368360"/>
            <a:ext cx="802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Brainwriting (6-3-5) - Funcionamient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2421000"/>
            <a:ext cx="6540480" cy="2089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6 participant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Se desarrollan 3 posibles soluciones al problem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En el plazo de 5 minuto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Arial"/>
              </a:rPr>
              <a:t>Después de 5 minutos las soluciones al problema se pasan a la siguiente persona de al lado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F23D-C5C9-4895-9149-0A7C9BAC29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96760" y="1276200"/>
            <a:ext cx="8028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Análisis de necesidades y problema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2205000"/>
            <a:ext cx="6877080" cy="154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Centrándose en las necesidades, los requisitos y los deseos de los cliente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C13C-BF5A-40BF-A206-26A312BD4B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89280" y="1136520"/>
            <a:ext cx="6537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Instrumento: Matriz C-P-P </a:t>
            </a:r>
            <a:br>
              <a:rPr sz="2800"/>
            </a:b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(Cliente-Provecho-Producto)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2205000"/>
            <a:ext cx="7272360" cy="3570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 u="sng">
                <a:solidFill>
                  <a:srgbClr val="013c59"/>
                </a:solidFill>
                <a:uFillTx/>
                <a:latin typeface="Verdana"/>
              </a:rPr>
              <a:t>Cliente</a:t>
            </a:r>
            <a:br>
              <a:rPr sz="2000"/>
            </a:b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¿Qué grupo de clientes deseamos observar?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 u="sng">
                <a:solidFill>
                  <a:srgbClr val="013c59"/>
                </a:solidFill>
                <a:uFillTx/>
                <a:latin typeface="Verdana"/>
              </a:rPr>
              <a:t>Uso</a:t>
            </a:r>
            <a:br>
              <a:rPr sz="2000"/>
            </a:br>
            <a:r>
              <a:rPr b="1" i="1" lang="en-US" sz="2000" spc="-1" strike="noStrike">
                <a:solidFill>
                  <a:srgbClr val="013c59"/>
                </a:solidFill>
                <a:latin typeface="Verdana"/>
                <a:ea typeface="Arial"/>
              </a:rPr>
              <a:t>¿</a:t>
            </a: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Qué necesidades, requisitos y deseos tiene este grupo de clientes (en relación a las tendencias fijadas)?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 u="sng">
                <a:solidFill>
                  <a:srgbClr val="013c59"/>
                </a:solidFill>
                <a:uFillTx/>
                <a:latin typeface="Verdana"/>
              </a:rPr>
              <a:t>Producto</a:t>
            </a:r>
            <a:br>
              <a:rPr sz="2000"/>
            </a:br>
            <a:r>
              <a:rPr b="1" i="1" lang="de-DE" sz="2000" spc="-1" strike="noStrike">
                <a:solidFill>
                  <a:srgbClr val="013c59"/>
                </a:solidFill>
                <a:latin typeface="Verdana"/>
              </a:rPr>
              <a:t> ¿Con qué productos y/o servicios podemos cubrir la oferta de la solución al problema de estos clientes?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33DA-960C-416E-A989-2CD5AEECBA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79440" y="127008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B3 Brainwri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2560" y="2234520"/>
            <a:ext cx="801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Arial"/>
              </a:rPr>
              <a:t>¿</a:t>
            </a: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Qué tres soluciones se le ocurren para el tema propuesto?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Los participantes deberán formar grupos de 6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ada participante recibe una hoja de papel y escribe en el plazo de </a:t>
            </a:r>
            <a:r>
              <a:rPr b="0" lang="es-ES" sz="1800" spc="-1" strike="noStrike" u="sng">
                <a:solidFill>
                  <a:srgbClr val="013c59"/>
                </a:solidFill>
                <a:uFillTx/>
                <a:latin typeface="Arial"/>
              </a:rPr>
              <a:t>5 minutos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s-ES" sz="1800" spc="-1" strike="noStrike" u="sng">
                <a:solidFill>
                  <a:srgbClr val="013c59"/>
                </a:solidFill>
                <a:uFillTx/>
                <a:latin typeface="Arial"/>
              </a:rPr>
              <a:t>3 soluciones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del problema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Después de cinco minutos el papel se pasa al vecino. Este lo puede comentar y desarrollar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Después de una ronda completa, presentará cada uno de los participantes las soluciones del problema en su hoja de papel.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56E0-2ED1-4DE2-8EAF-775FF44F97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79440" y="127008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B4 Matriz C-P-P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30240" y="39668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  <a:ea typeface="Arial"/>
              </a:rPr>
              <a:t>En base a lo trabajado en el ejercicio S3-B3 “Brainwriting", ordena las soluciones al problema, según la estructura de la matriz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6360" y="2286000"/>
          <a:ext cx="7726320" cy="1279440"/>
        </p:xfrm>
        <a:graphic>
          <a:graphicData uri="http://schemas.openxmlformats.org/drawingml/2006/table">
            <a:tbl>
              <a:tblPr/>
              <a:tblGrid>
                <a:gridCol w="2574720"/>
                <a:gridCol w="2575080"/>
                <a:gridCol w="257652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Cliente</a:t>
                      </a: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Provecho</a:t>
                      </a:r>
                      <a:br>
                        <a:rPr sz="1800"/>
                      </a:br>
                      <a:r>
                        <a:rPr b="1" i="1" lang="es-ES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(Problema; necesidad, exigencias, deseos)</a:t>
                      </a: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800" spc="-1" strike="noStrike">
                          <a:solidFill>
                            <a:srgbClr val="013c59"/>
                          </a:solidFill>
                          <a:latin typeface="Times New Roman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B4901-454D-4C3E-A525-8BF4F27249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8C57-9082-43BA-9645-4ACE5384CF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55600" y="1943280"/>
            <a:ext cx="7175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3 - Segmentos de negocio sostenibl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Segmentos de negocio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B- Técnicas de creativ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C- 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404E-71E7-4072-B414-F85808FC0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79F7-BAD6-4D76-AE62-6386F1A2BF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149480" y="2637000"/>
            <a:ext cx="7391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TÉCNICAS DE CREATIVIDAD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25440" y="13669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Componente B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DEFC9-5F13-4233-A2A3-9C6D40FF8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87280" y="2535120"/>
            <a:ext cx="770580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13c59"/>
                </a:solidFill>
                <a:latin typeface="Verdana"/>
              </a:rPr>
              <a:t>El mejor camino para prever el futuro, es el de ingeniarlo.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Alan Kay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C01E7-2468-4B59-86EB-58F5CF4103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47640" y="170028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2840" y="1979640"/>
            <a:ext cx="7488360" cy="3385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Ideas y creatividad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Las ideas surgen sobretodo cuando los seres humanos, en la búsqueda de una nueva solución a un problema, pisan mentalmente ”terreno desconocido“. Para esto es necesario creatividad. La creatividad significa desarrollar nuevas y útiles ideas en soluciones prácticas del problema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093080" y="1125360"/>
            <a:ext cx="1468440" cy="151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5F2F-75E1-461B-AA7C-CCDF7602E1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1268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013c59"/>
                </a:solidFill>
                <a:latin typeface="Verdana"/>
              </a:rPr>
              <a:t>Fuentes de ideas</a:t>
            </a:r>
            <a:endParaRPr b="0" lang="en-US" sz="4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403280" y="214308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Competidor en el mercado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Proveedor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Requisitos sociales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Exigencias legales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Compañeros/as de trabajo,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Client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4" name="Rectangle 3" descr=""/>
          <p:cNvPicPr/>
          <p:nvPr/>
        </p:nvPicPr>
        <p:blipFill>
          <a:blip r:embed="rId1"/>
          <a:stretch/>
        </p:blipFill>
        <p:spPr>
          <a:xfrm>
            <a:off x="7451640" y="1268280"/>
            <a:ext cx="1019160" cy="12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EA8BA-3940-41EE-8AA4-56D67CBC3E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116000" y="11034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Técnicas de creatividad – </a:t>
            </a:r>
            <a:br>
              <a:rPr sz="2800"/>
            </a:b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reglas básica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2060640"/>
            <a:ext cx="7416720" cy="3406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 Busque constantemente nueva información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Piense en alternativas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Cambie su punto de vista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Intente distanciarse del problema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Esté preparado para asumir riesgos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Trabaje de forma interdisciplinar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Fije las fechas y respételas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¡Posponga el juicio de una idea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87280" y="5661000"/>
            <a:ext cx="1229040" cy="7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96D68-771F-4BC0-B59A-A1AF8C1174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68280" y="1077840"/>
            <a:ext cx="67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Técnicas de creatividad – Factores de éxit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62080" y="2077920"/>
            <a:ext cx="7489800" cy="3613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Desarrolle nuevos productos y servicios sobre la base del conocimiento y la competencia de su empresa. Así tendrá generalmente más éxito, que si va por „terreno completamente nuevo“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Cerciórese de que los trabajadores que han sido determinados por Usted para trabajar en el desarrollo de nuevos productos y servicios no cambien constantemente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Empiece el principio del proceso de identificación de la idea con un equipo pequeño de trabajadores. Un grupo más fuerte puede ser creado conforme a la marcha en un proceso posterior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13c59"/>
                </a:solidFill>
                <a:latin typeface="Arial"/>
              </a:rPr>
              <a:t>Piense en incentivos para la recompensa posterior de procesos de identificación de ideas éxitosos, los cuales no sólo tienen que ser remunerados de forma económic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15320" y="6134040"/>
            <a:ext cx="1228680" cy="7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AE25-1918-4726-9D13-360399574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2200" y="1166400"/>
            <a:ext cx="577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13c59"/>
                </a:solidFill>
                <a:latin typeface="Verdana"/>
              </a:rPr>
              <a:t>Técnicas de creatividad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35200" y="2577600"/>
            <a:ext cx="6294240" cy="2700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Brainstorming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Brainwri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Análisis de necesidades y de problemas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800CD-820F-4201-AF43-09C8374A50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09:43:18Z</dcterms:modified>
  <cp:revision>402</cp:revision>
  <dc:subject>EC21</dc:subject>
  <dc:title>Presentacion S3</dc:title>
</cp:coreProperties>
</file>