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FD5F3-41BA-4F30-8264-65C53780F84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ED3F2-8489-4441-A8F7-42D9207A1027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79C33-617F-439B-8327-F98E42046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9A4C-6489-4849-B553-C63F7A531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F2E6C-D5EE-4D52-8FAF-97B34B215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F1AA-82B9-4892-9534-9E6503E400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85DC-C3BB-4DDA-B2D6-12B4AD47BB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BF54-1D0E-4651-93BB-09D404C5D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7CCA2-7CA4-4947-83F3-0011F0937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C0416-C156-4110-BBDF-CEE727F86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033BC-401F-46F3-AB67-05D06C474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06AC2-CEF3-489D-93CB-4F6D2ABEF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41C86-58CC-4E0C-858F-74CD0B479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048A-E258-4580-9F01-7951E7202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S3-C1: Valoración de la comerciabilidad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7940-A9FE-4707-BBAC-4180207F9129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dulo S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C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C1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8795C-355E-4427-A17E-ECA966FB73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B9536-5F4A-4C99-AA5D-1BA4EDA47F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55600" y="1943280"/>
            <a:ext cx="7175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3 - Segmentos de negocio sostenibl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Segmentos de negocio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B- Técnicas de creativ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C- 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C0CF2-A925-4C55-921E-21A038EA4C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2365200"/>
            <a:ext cx="6578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VALORACIÓN DE LA COMERCIABILIDAD DE PRODUCTOS Y SERVICI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134928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Componente C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BD055-656B-4B07-A49C-863AC7DC2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3280" y="1268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Caminos para valorar la comerciabilidad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90920" y="2290680"/>
            <a:ext cx="40384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Lista de cheque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Análisis – AB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Técnica de Portafoli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F4B3-AFBF-4ED5-B644-1A3EC5511B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16000" y="1176120"/>
            <a:ext cx="71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Técnica de Portafoli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01720" y="2333520"/>
            <a:ext cx="661824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Método desarollado por consultores de empresa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Objetivo: Facilitar la eleción entre alternativa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Aportan evidencias y recomendaciones para las estratégias de empresa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39DB-FCC7-4640-BD2B-21A2D9D704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2120" y="47847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Verdana"/>
              </a:rPr>
              <a:t>Esquema general de un portafoli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635200" y="1069920"/>
            <a:ext cx="5846400" cy="4735440"/>
            <a:chOff x="2635200" y="1069920"/>
            <a:chExt cx="5846400" cy="4735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2635200" y="1258560"/>
              <a:ext cx="5256000" cy="454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592440" y="1069920"/>
              <a:ext cx="20188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13c59"/>
                  </a:solidFill>
                  <a:latin typeface="Arial"/>
                </a:rPr>
                <a:t>Variable medioambiental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67080" y="5425920"/>
              <a:ext cx="33145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13c59"/>
                  </a:solidFill>
                  <a:latin typeface="Arial"/>
                </a:rPr>
                <a:t>Variable empresarial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11680" y="5222520"/>
              <a:ext cx="65988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9560" y="2606400"/>
              <a:ext cx="65988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11480" y="5248080"/>
              <a:ext cx="65988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92160" y="4257360"/>
              <a:ext cx="66024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59CE-ECCD-41F0-9A22-F5985C5DAC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650960" y="1052640"/>
            <a:ext cx="6896160" cy="4952880"/>
            <a:chOff x="1650960" y="1052640"/>
            <a:chExt cx="6896160" cy="49528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1836720" y="1052640"/>
              <a:ext cx="6480360" cy="49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3708360" y="3933720"/>
              <a:ext cx="107460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5292720" y="2708280"/>
              <a:ext cx="98748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645000" y="1079640"/>
              <a:ext cx="207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13c59"/>
                  </a:solidFill>
                  <a:latin typeface="Arial"/>
                </a:rPr>
                <a:t>Atractividad del mercad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3520" y="562608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13c59"/>
                  </a:solidFill>
                  <a:latin typeface="Arial"/>
                </a:rPr>
                <a:t>Competitividad relativa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520" y="1308240"/>
              <a:ext cx="14349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Invertir con precaución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87920" y="1486080"/>
              <a:ext cx="2527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Estrategia de inversión y crecimiento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50960" y="3987720"/>
              <a:ext cx="151128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Quitar, eliminar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2160" y="4444920"/>
              <a:ext cx="1434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13c59"/>
                  </a:solidFill>
                  <a:latin typeface="Arial"/>
                </a:rPr>
                <a:t>Parar</a:t>
              </a:r>
              <a:endParaRPr b="0" lang="en-US" sz="16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832120"/>
              <a:ext cx="787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37160" y="539748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1680" y="478800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679840" y="378468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59400" y="542304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45000" y="5410080"/>
              <a:ext cx="7873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27080" y="517212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Verdana"/>
              </a:rPr>
              <a:t>Ejemplo: atractividad del mercado – ventaja competitividad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7D60-F788-444D-9177-DA7AED3084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79440" y="127008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C2  Técnica del Portofoli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04840" y="2827080"/>
            <a:ext cx="341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  <a:ea typeface="Arial"/>
              </a:rPr>
              <a:t>En base a las soluciones propuestas anteriormente, valore según los parámetros dados en el gráfico la posición relativa a cada solución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386240" y="2392200"/>
            <a:ext cx="4363920" cy="3420000"/>
            <a:chOff x="4386240" y="2392200"/>
            <a:chExt cx="4363920" cy="342000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746600" y="2392200"/>
              <a:ext cx="3865680" cy="33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5862600" y="4362480"/>
              <a:ext cx="64152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6808680" y="3524400"/>
              <a:ext cx="5889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824440" y="2411280"/>
              <a:ext cx="12366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13c59"/>
                  </a:solidFill>
                  <a:latin typeface="Arial"/>
                </a:rPr>
                <a:t>Atractividad del mercado</a:t>
              </a:r>
              <a:endParaRPr b="0" lang="en-US" sz="12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86240" y="2565360"/>
              <a:ext cx="11206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Invertir con precaución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85080" y="2689200"/>
              <a:ext cx="150804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Estrategia de inversión y crecimiento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35360" y="4398840"/>
              <a:ext cx="900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Quitar, eliminar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93000" y="4713120"/>
              <a:ext cx="857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13c59"/>
                  </a:solidFill>
                  <a:latin typeface="Arial"/>
                </a:rPr>
                <a:t>Parar</a:t>
              </a:r>
              <a:endParaRPr b="0" lang="en-US" sz="1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41960" y="3608280"/>
              <a:ext cx="4698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54840" y="5381640"/>
              <a:ext cx="4698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alt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27560" y="4946760"/>
              <a:ext cx="468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57720" y="4260960"/>
              <a:ext cx="5605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70560" y="5381640"/>
              <a:ext cx="603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medi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24440" y="5372280"/>
              <a:ext cx="47160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13c59"/>
                  </a:solidFill>
                  <a:latin typeface="Arial"/>
                </a:rPr>
                <a:t>bajo</a:t>
              </a:r>
              <a:endParaRPr b="0" lang="en-US" sz="9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08640" y="5535720"/>
              <a:ext cx="2349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13c59"/>
                  </a:solidFill>
                  <a:latin typeface="Arial"/>
                </a:rPr>
                <a:t>Competitividad relativa</a:t>
              </a:r>
              <a:endParaRPr b="0" lang="en-US" sz="12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F475E-9F60-4942-AA14-910008C211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3861C-5E2E-426F-AC5A-FDE7DBDC5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10:56:13Z</dcterms:modified>
  <cp:revision>403</cp:revision>
  <dc:subject>EC21</dc:subject>
  <dc:title>Presentacion S3</dc:title>
</cp:coreProperties>
</file>