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B9630-25A9-4295-BDC2-9A5A25A6F6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C1567-AA65-4700-8857-D0DD8E3D006F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DDD8-DE2E-43F4-90B6-B9049FF84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C823-3365-4030-9E46-D8F9BD57B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945C-8A8F-4F61-92AF-695836D41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0344-8F50-4A20-A8D5-37B90C1E62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ADF2-ABC5-43D1-AF3E-FF70FEB4AB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F3EFF-C71A-413C-A01C-D6BF1A5FB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7960-A394-47D9-B273-758D12BEB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5C84-7AAD-4AE7-B441-3370C3D7B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94DCB-F86A-4550-ACE3-988F1E755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109B-8D32-43D6-8BAA-3C45FFEAC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4EC0-C516-4D86-9D53-EAAB71199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367EF-967B-40A0-9BC1-E1F5DA0B1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</a:rPr>
              <a:t>S3-C1: Valoración de la comerciabilidad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CC50-0BD6-4B43-B89A-E32B0BD1C601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egmentos de negocio sostenible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odulo S3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mponente C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S3-C1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Valoración de la comerciabil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751040"/>
            <a:ext cx="41148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9F2D-2136-469A-9E7D-822B052FC6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FCD5A-D347-4855-971F-311A05AFC4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155600" y="1943280"/>
            <a:ext cx="71755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ódulo S3 - Segmentos de negocio sostenible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A- Segmentos de negocio sostenibl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B- Técnicas de creativ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C- Valoración de la comerciabil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E1C7-FC38-4274-BD1D-19773179DF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2365200"/>
            <a:ext cx="6578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VALORACIÓN DE LA COMERCIABILIDAD DE PRODUCTOS Y SERVICIO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640" y="134928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Componente C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51244-9E22-4BD3-87D7-B7B9CB3493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03280" y="1268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Caminos para valorar la comerciabilidad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90920" y="2290680"/>
            <a:ext cx="40384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Lista de cheque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Análisis – ABC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Técnica de Portafoli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5771-FE2A-421E-BF90-E3E3719BA1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16000" y="117612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Técnica de Portafoli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01720" y="2333520"/>
            <a:ext cx="66182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Método desarollado por consultores de empresa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Objetivo: Facilitar la eleción entre alternativa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Aportan evidencias y recomendaciones para las estratégias de empresa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393C-E14A-4830-B35B-017FE2F1AC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2120" y="47847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13c59"/>
                </a:solidFill>
                <a:latin typeface="Verdana"/>
              </a:rPr>
              <a:t>Esquema general de un portafolio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635200" y="1069920"/>
            <a:ext cx="5846400" cy="4735440"/>
            <a:chOff x="2635200" y="1069920"/>
            <a:chExt cx="5846400" cy="47354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2635200" y="1258560"/>
              <a:ext cx="5256000" cy="45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592440" y="1069920"/>
              <a:ext cx="20188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13c59"/>
                  </a:solidFill>
                  <a:latin typeface="Arial"/>
                </a:rPr>
                <a:t>Variable medioambiental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67080" y="5425920"/>
              <a:ext cx="3314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13c59"/>
                  </a:solidFill>
                  <a:latin typeface="Arial"/>
                </a:rPr>
                <a:t>Variable empresarial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11680" y="5222520"/>
              <a:ext cx="659880" cy="2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alto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9560" y="2606400"/>
              <a:ext cx="659880" cy="2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alto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11480" y="5248080"/>
              <a:ext cx="659880" cy="2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bajo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2160" y="4257360"/>
              <a:ext cx="660240" cy="2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bajo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C85E-B923-4CC5-AD90-FE497BA5CB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650960" y="1052640"/>
            <a:ext cx="6896160" cy="4952880"/>
            <a:chOff x="1650960" y="1052640"/>
            <a:chExt cx="6896160" cy="49528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1836720" y="1052640"/>
              <a:ext cx="6480360" cy="49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3708360" y="3933720"/>
              <a:ext cx="107460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5292720" y="2708280"/>
              <a:ext cx="9874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645000" y="1079640"/>
              <a:ext cx="2070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13c59"/>
                  </a:solidFill>
                  <a:latin typeface="Arial"/>
                </a:rPr>
                <a:t>Atractividad del mercado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73520" y="5626080"/>
              <a:ext cx="342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13c59"/>
                  </a:solidFill>
                  <a:latin typeface="Arial"/>
                </a:rPr>
                <a:t>Competitividad relativa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76520" y="1308240"/>
              <a:ext cx="14349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Invertir con precaución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87920" y="1486080"/>
              <a:ext cx="25275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Estrategia de inversión y crecimiento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50960" y="3987720"/>
              <a:ext cx="15112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Quitar, eliminar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2160" y="4444920"/>
              <a:ext cx="1434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Parar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832120"/>
              <a:ext cx="787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13c59"/>
                  </a:solidFill>
                  <a:latin typeface="Arial"/>
                </a:rPr>
                <a:t>alto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37160" y="5397480"/>
              <a:ext cx="787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13c59"/>
                  </a:solidFill>
                  <a:latin typeface="Arial"/>
                </a:rPr>
                <a:t>alto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41680" y="4788000"/>
              <a:ext cx="787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13c59"/>
                  </a:solidFill>
                  <a:latin typeface="Arial"/>
                </a:rPr>
                <a:t>bajo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79840" y="3784680"/>
              <a:ext cx="787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13c59"/>
                  </a:solidFill>
                  <a:latin typeface="Arial"/>
                </a:rPr>
                <a:t>medio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59400" y="5423040"/>
              <a:ext cx="787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13c59"/>
                  </a:solidFill>
                  <a:latin typeface="Arial"/>
                </a:rPr>
                <a:t>medio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45000" y="5410080"/>
              <a:ext cx="787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13c59"/>
                  </a:solidFill>
                  <a:latin typeface="Arial"/>
                </a:rPr>
                <a:t>bajo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27080" y="517212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13c59"/>
                </a:solidFill>
                <a:latin typeface="Verdana"/>
              </a:rPr>
              <a:t>Ejemplo: atractividad del mercado – ventaja competitividad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7AE0-C15F-4DAA-BEE7-EC322CB120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79440" y="1270080"/>
            <a:ext cx="8131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3-C2  Técnica del Portofoli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2827080"/>
            <a:ext cx="341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3c59"/>
                </a:solidFill>
                <a:latin typeface="Arial"/>
                <a:ea typeface="Arial"/>
              </a:rPr>
              <a:t>En base a las soluciones propuestas anteriormente, valore según los parámetros dados en el gráfico la posición relativa a cada solución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386240" y="2392200"/>
            <a:ext cx="4363920" cy="3420000"/>
            <a:chOff x="4386240" y="2392200"/>
            <a:chExt cx="4363920" cy="342000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4746600" y="2392200"/>
              <a:ext cx="3865680" cy="33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862600" y="4362480"/>
              <a:ext cx="64152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6808680" y="3524400"/>
              <a:ext cx="58896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824440" y="2411280"/>
              <a:ext cx="12366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13c59"/>
                  </a:solidFill>
                  <a:latin typeface="Arial"/>
                </a:rPr>
                <a:t>Atractividad del mercado</a:t>
              </a:r>
              <a:endParaRPr b="0" lang="en-US" sz="12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86240" y="2565360"/>
              <a:ext cx="11206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13c59"/>
                  </a:solidFill>
                  <a:latin typeface="Arial"/>
                </a:rPr>
                <a:t>Invertir con precaución</a:t>
              </a:r>
              <a:endParaRPr b="0" lang="en-US" sz="1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85080" y="2689200"/>
              <a:ext cx="150804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13c59"/>
                  </a:solidFill>
                  <a:latin typeface="Arial"/>
                </a:rPr>
                <a:t>Estrategia de inversión y crecimiento</a:t>
              </a:r>
              <a:endParaRPr b="0" lang="en-US" sz="1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35360" y="4398840"/>
              <a:ext cx="900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13c59"/>
                  </a:solidFill>
                  <a:latin typeface="Arial"/>
                </a:rPr>
                <a:t>Quitar, eliminar</a:t>
              </a:r>
              <a:endParaRPr b="0" lang="en-US" sz="1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93000" y="4713120"/>
              <a:ext cx="857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13c59"/>
                  </a:solidFill>
                  <a:latin typeface="Arial"/>
                </a:rPr>
                <a:t>Parar</a:t>
              </a:r>
              <a:endParaRPr b="0" lang="en-US" sz="1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1960" y="3608280"/>
              <a:ext cx="46980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13c59"/>
                  </a:solidFill>
                  <a:latin typeface="Arial"/>
                </a:rPr>
                <a:t>alto</a:t>
              </a:r>
              <a:endParaRPr b="0" lang="en-US" sz="9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54840" y="5381640"/>
              <a:ext cx="46980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13c59"/>
                  </a:solidFill>
                  <a:latin typeface="Arial"/>
                </a:rPr>
                <a:t>alto</a:t>
              </a:r>
              <a:endParaRPr b="0" lang="en-US" sz="9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27560" y="4946760"/>
              <a:ext cx="46836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13c59"/>
                  </a:solidFill>
                  <a:latin typeface="Arial"/>
                </a:rPr>
                <a:t>bajo</a:t>
              </a:r>
              <a:endParaRPr b="0" lang="en-US" sz="9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57720" y="4260960"/>
              <a:ext cx="5605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13c59"/>
                  </a:solidFill>
                  <a:latin typeface="Arial"/>
                </a:rPr>
                <a:t>medio</a:t>
              </a:r>
              <a:endParaRPr b="0" lang="en-US" sz="9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70560" y="5381640"/>
              <a:ext cx="60336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13c59"/>
                  </a:solidFill>
                  <a:latin typeface="Arial"/>
                </a:rPr>
                <a:t>medio</a:t>
              </a:r>
              <a:endParaRPr b="0" lang="en-US" sz="9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24440" y="5372280"/>
              <a:ext cx="47160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13c59"/>
                  </a:solidFill>
                  <a:latin typeface="Arial"/>
                </a:rPr>
                <a:t>bajo</a:t>
              </a:r>
              <a:endParaRPr b="0" lang="en-US" sz="9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08640" y="5535720"/>
              <a:ext cx="234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13c59"/>
                  </a:solidFill>
                  <a:latin typeface="Arial"/>
                </a:rPr>
                <a:t>Competitividad relativa</a:t>
              </a:r>
              <a:endParaRPr b="0" lang="en-US" sz="12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CA1B5-1B3D-4178-B39B-6A1664AAA9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s-ES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7B2C-0A2B-4413-BE05-7EB26706D9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8T10:56:13Z</dcterms:modified>
  <cp:revision>403</cp:revision>
  <dc:subject>EC21</dc:subject>
  <dc:title>Presentacion S3</dc:title>
</cp:coreProperties>
</file>