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59171-E68A-4A87-B67B-9C55F57ED6E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13242-09EB-424F-A092-7F06A19E68AA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6880" cy="375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e Abteilung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d Unternehmensführung, Prof. Dr. Manfred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Bruh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Uni Ba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6880" cy="375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e Abteilung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d Unternehmensführung, Prof. Dr. Manfred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Bruh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Uni Ba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CE78-7A78-4489-B69E-3CE3861E8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E6ED8-57BE-45DE-AEB2-805C81208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FDAB-FDCC-4476-AFED-2ABFD6304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99D22-6BB4-49DC-88AD-5BE1B8397D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EB9F-C16F-4F49-9149-DF149D927E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5197-0B7E-493E-B052-42B459EB7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D9954-CC68-4E4F-8856-F576C5A12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17D2-6299-42B3-B66C-EDA6E33F1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95CD-FBD0-4D70-BEA9-97044DE0E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BCFA3-DEB0-40FB-8B58-AA9CE6732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68010-FAE0-4038-9D84-B95EA8C91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5E63-1896-4EC6-831A-46FA8F286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S4-A0-Introducción al concepto de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DD3E-257F-4FE0-83BB-1A476091B5FF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hyperlink" Target="http://www.cth.gva.es/CTL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oncepto de marketing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ódulo S4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mponente 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4-A0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 Introducción al concepto de market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29000" y="172260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E237-31CE-4735-B104-E8B2A17895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AAE70-9EC3-4BB9-8CF5-FB6346224B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8DA8B-4BAB-4DB2-AEA8-129CA96E30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469880" y="1397160"/>
            <a:ext cx="7016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ódulo S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A- Del estado actual al estado previsto- Definir objetivos de market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Componente B-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Instrumentos de mezcla de market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Componente C-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pciones para la supervisión de eficiencia de market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D- Marketing sostenibl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D0676-D1A8-4A28-8810-592A0319C5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2793960"/>
            <a:ext cx="6324840" cy="2552760"/>
          </a:xfrm>
          <a:prstGeom prst="rect">
            <a:avLst/>
          </a:prstGeom>
          <a:solidFill>
            <a:srgbClr val="efe8d1"/>
          </a:solidFill>
          <a:ln w="9360">
            <a:solidFill>
              <a:srgbClr val="fe5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587600" y="1943280"/>
            <a:ext cx="61466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¿Qué es marketing?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Marketing es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lo que las personas hacen diariamente: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- en conversación (entrevistas de trabajo, etc.),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en el trabajo,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en los exámenes,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B7BA-D5B8-48FD-A694-61756FF681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41800" y="1943280"/>
            <a:ext cx="3225960" cy="2730240"/>
          </a:xfrm>
          <a:prstGeom prst="ellipse">
            <a:avLst/>
          </a:prstGeom>
          <a:solidFill>
            <a:srgbClr val="e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90440" y="3073320"/>
            <a:ext cx="46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¿Qué significa marketing?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5127480" y="2492280"/>
            <a:ext cx="3108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comercializar algo”</a:t>
            </a:r>
            <a:br>
              <a:rPr sz="2000"/>
            </a:b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o mejor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vender algo”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336560" y="3435480"/>
            <a:ext cx="419400" cy="0"/>
          </a:xfrm>
          <a:prstGeom prst="line">
            <a:avLst/>
          </a:prstGeom>
          <a:ln w="38160">
            <a:solidFill>
              <a:srgbClr val="fe5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36560" y="3232080"/>
            <a:ext cx="419400" cy="0"/>
          </a:xfrm>
          <a:prstGeom prst="line">
            <a:avLst/>
          </a:prstGeom>
          <a:ln w="38160">
            <a:solidFill>
              <a:srgbClr val="fe5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BE1C-FB94-4156-BA5E-28440EF3AF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650960" y="1316160"/>
            <a:ext cx="61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Entendimiento actual del marketing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257480" y="2082960"/>
            <a:ext cx="685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o filosofía de empresa que incluye la totalidad de la</a:t>
            </a:r>
            <a:r>
              <a:rPr b="1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mpresa, </a:t>
            </a:r>
            <a:br>
              <a:rPr sz="2000"/>
            </a:b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s aplicado conscientemente, sistemáticamente y         consecuentemente</a:t>
            </a:r>
            <a:br>
              <a:rPr sz="2000"/>
            </a:b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rientado completamente al cliente [Bruhn 2007]</a:t>
            </a:r>
            <a:r>
              <a:rPr b="1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8688-E46A-40BB-86C9-A07A70E746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650960" y="1179360"/>
            <a:ext cx="61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Orientación al cliente - ventaja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257480" y="218268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·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los procesos de producción pueden diseñarse de manera óptima, </a:t>
            </a:r>
            <a:br>
              <a:rPr sz="2000"/>
            </a:b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· las lagunas del mercado pueden ser reconocidas y explotadas  </a:t>
            </a:r>
            <a:br>
              <a:rPr sz="2000"/>
            </a:b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· el propio futuro de la empresa puede crearse activamente.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E0912-E3CC-4CA2-A4B3-C0861A55D5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04920" y="1549440"/>
            <a:ext cx="6654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jercicio S4-A2 </a:t>
            </a:r>
            <a:br>
              <a:rPr sz="2400"/>
            </a:br>
            <a:r>
              <a:rPr b="1" lang="es-E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bjetivos de marketing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82680" y="2781360"/>
            <a:ext cx="697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mbrar brevemente los objetivos de marketing con los que trabajan en sus respectivas empresas.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E7726-0B44-4AAF-B261-252CE1AD01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285920"/>
            <a:ext cx="7545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Venta personal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176560"/>
            <a:ext cx="6886800" cy="3002040"/>
          </a:xfrm>
          <a:prstGeom prst="rect">
            <a:avLst/>
          </a:prstGeom>
          <a:solidFill>
            <a:srgbClr val="eae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Objetivos: convencer y aumento de venta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stinatarios: cliente actuales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Contenido: producto/servicio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jemplos: presentaciones de ventas, ferias comerciales y eventos, etc.</a:t>
            </a: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D2CB-A486-4A5A-8624-39C3CBC187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12680" y="1320840"/>
            <a:ext cx="8131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jercicio S4-B4 </a:t>
            </a:r>
            <a:br>
              <a:rPr sz="2400"/>
            </a:b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Juego de rol – conversación de vent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1800" y="2238840"/>
            <a:ext cx="8223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El objetivo de este ejercicio es perfeccionar las habilidades de los participantes sosteniendo una charla de ventas a través de un juego de rol. Para ello, el juego de rol se debe desarrollar por el grupo. Sólo las siguientes funciones son necesarias: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- el cliente y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- el vendedor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Los participantes deciden sobre el producto o servicio que se convertirá en el objeto de la charla de ventas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7C36-6199-49FB-9756-41F394B124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8T23:28:29Z</dcterms:modified>
  <cp:revision>406</cp:revision>
  <dc:subject/>
  <dc:title>Presentacion S4-A0</dc:title>
</cp:coreProperties>
</file>