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98440" y="-3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37800" y="752400"/>
            <a:ext cx="5010120" cy="375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98440" y="9515160"/>
            <a:ext cx="298476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A9F1C-797B-47E7-B65E-C8395C559A0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98800" y="9515520"/>
            <a:ext cx="2984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C0AB8-8348-45C0-A1EA-52D19444E178}" type="slidenum">
              <a:rPr b="0" lang="de-DE" sz="1200" spc="-1" strike="noStrike">
                <a:solidFill>
                  <a:srgbClr val="013c5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38160" y="752400"/>
            <a:ext cx="5008680" cy="375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6880" cy="375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e Abteilung 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Marketing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d Unternehmensführung, Prof. Dr. Manfred 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Bruhn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Uni Ba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6880" cy="375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e Abteilung 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Marketing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und Unternehmensführung, Prof. Dr. Manfred </a:t>
            </a:r>
            <a:r>
              <a:rPr b="1" i="1" lang="es-ES" sz="1200" spc="-1" strike="noStrike">
                <a:solidFill>
                  <a:srgbClr val="000000"/>
                </a:solidFill>
                <a:latin typeface="Arial"/>
              </a:rPr>
              <a:t>Bruhn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Uni Ba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804CB-545F-4A9A-81B0-9BDBA7901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3D5BE-79A3-40CF-89CF-D8387AACB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318C4-BBD7-4B51-982B-E358432E6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8A11C-6128-41E1-9EB3-C8FEAA2BCE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6A3D5-FB5F-45B9-96E4-94089FD612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DCFE5-CE95-4A51-988A-1CDA8B8F0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79A2A-8993-4A78-B4F0-95FD41259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DBA22-5B23-42A3-82FC-399095692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F978F-8DAB-4051-986F-9EEC43841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B95B3-9139-48CB-AC72-25523C7A7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C715A-5726-4741-A26C-33093E754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411F8-1437-4FBC-8BBF-887D16425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808080"/>
                </a:solidFill>
                <a:latin typeface="Arial"/>
              </a:rPr>
              <a:t>S4-A0-Introducción al concepto de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56AE-0EA2-42D2-BB44-857E42FFF701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488880" y="387360"/>
            <a:ext cx="27939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urocrafts21.eu/" TargetMode="External"/><Relationship Id="rId2" Type="http://schemas.openxmlformats.org/officeDocument/2006/relationships/hyperlink" Target="mailto:ana.moreno@gesma.es" TargetMode="External"/><Relationship Id="rId3" Type="http://schemas.openxmlformats.org/officeDocument/2006/relationships/hyperlink" Target="http://www.gesma.es/" TargetMode="External"/><Relationship Id="rId4" Type="http://schemas.openxmlformats.org/officeDocument/2006/relationships/hyperlink" Target="http://www.cth.gva.es/CTL/" TargetMode="External"/><Relationship Id="rId5" Type="http://schemas.openxmlformats.org/officeDocument/2006/relationships/hyperlink" Target="http://www.cth.gva.es/CTL/" TargetMode="External"/><Relationship Id="rId6" Type="http://schemas.openxmlformats.org/officeDocument/2006/relationships/hyperlink" Target="http://www.cth.gva.es/CTL/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2587680"/>
            <a:ext cx="91440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Concepto de marketing</a:t>
            </a:r>
            <a:endParaRPr b="0" lang="en-US" sz="3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Módulo S4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omponente 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4-A0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: Introducción al concepto de marketing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6891480" y="325440"/>
            <a:ext cx="1866600" cy="754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29000" y="1722600"/>
            <a:ext cx="4114800" cy="135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39492-95D2-49BC-B258-8B457B78DE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680" y="1696680"/>
            <a:ext cx="82850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7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8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www.eurocrafts21.eu</a:t>
            </a:r>
            <a:r>
              <a:rPr b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ste proyecto está financiado con el apoyo de la Comisión Europea. Esta publicación refleja los puntos de vista sólo del autor, y la Comisión no es responsable de cualquier uso que se pueda hacer de la información contenida en él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   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l proyecto de Leonardo da Vinci Euro Crafts 21 se lleva a cabo bajo la Administración de plenum - sociedad para el desarrollo sostenible global y la del Instituto Factor de 10 Austria. El objetivo del proyecto es establecer  un valor añadido significativo en la educación profesional en los países asociados participantes (Austria, Finlandia, Alemania, Eslovaquia, España y Hungría).Esto se logrará mediante la transferencia de innovación de un proyecto piloto ya finalizado - con el objetivo del desarrollo y prueba de un concepto general de calificación y el consultoría para la gestión de sostenibilidad en la rama de artesanía de Renania del Norte-Westfalia (Alemania).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Fuente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800" spc="-1" strike="noStrike">
                <a:solidFill>
                  <a:srgbClr val="808080"/>
                </a:solidFill>
                <a:latin typeface="Verdana"/>
                <a:ea typeface="Times New Roman"/>
              </a:rPr>
              <a:t>     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	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Lemken, Thomas; Rohn, Holger en colaboración con Claudia Kaiser, INA Schäfer, Anna Bliesner, Kristin Parlow: Desarrollo sostenible Módulo B1. Westdeutscher Handwerkskammertag (ed.): Gestión sostenible en las empresas de artesanía. Un Manual para la aplicación de un concepto de consultoría y calificación realizados para consultores y profesores en el sector de artesanía. Resultados  </a:t>
            </a:r>
            <a:r>
              <a:rPr b="0" i="1" lang="de-DE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de un proyecto piloto, Düsseldorf (Nachhaltiges Wirtschaften en Handwerksbetrieben. Eine Handreichung zur Durchführung eines Qualifizierungs- und Beratungskonzeptes für Betriebsberater /-innen und Dozenten /-innen im Handwerk. 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  <a:ea typeface="Times New Roman"/>
              </a:rPr>
              <a:t>Ergebnisse aus einem Modellversuch, Düsseldorf).</a:t>
            </a:r>
            <a:r>
              <a:rPr b="0" i="1" lang="en-GB" sz="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  </a:t>
            </a:r>
            <a:r>
              <a:rPr b="1" i="1" lang="en-GB" sz="900" spc="-1" strike="noStrike">
                <a:solidFill>
                  <a:srgbClr val="808080"/>
                </a:solidFill>
                <a:latin typeface="Verdana"/>
                <a:ea typeface="Times New Roman"/>
              </a:rPr>
              <a:t>Contacto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  <a:p>
            <a:pPr marL="258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16040" y="3962520"/>
          <a:ext cx="8031240" cy="2011320"/>
        </p:xfrm>
        <a:graphic>
          <a:graphicData uri="http://schemas.openxmlformats.org/drawingml/2006/table">
            <a:tbl>
              <a:tblPr/>
              <a:tblGrid>
                <a:gridCol w="4016160"/>
                <a:gridCol w="4015080"/>
              </a:tblGrid>
              <a:tr h="2016360"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MA - 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stión Medioambiental y  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Sostenibilidad 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r>
                        <a:rPr b="1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Ana Moreno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de las Murallas 3,10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enia 03700 (Alicante) Españ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el: 00-34-622603462  Fax: 00-34-966430283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2"/>
                        </a:rPr>
                        <a:t>ana.moreno@gesma.es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3"/>
                        </a:rPr>
                        <a:t>www.gesma.es</a:t>
                      </a: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entro de Tecnologías Limpias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Conselleria de Medio Ambiente, Agua, 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Urbanismo y Vivienda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Dirección General para el Cambio Climático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neralitat Valencian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i="1" lang="de-DE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Germán Giner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Ronda Isaac Peral y Caballero, 5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46980 PATERNA (VALENCIA)</a:t>
                      </a:r>
                      <a:br>
                        <a:rPr sz="1000"/>
                      </a:br>
                      <a:r>
                        <a:rPr b="0" i="1" lang="es-ES_tradnl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Tlf: 00-34- 96 136 6949 - Fax: 00-34- 96 131 8495</a:t>
                      </a:r>
                      <a:br>
                        <a:rPr sz="1000"/>
                      </a:b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4"/>
                        </a:rPr>
                        <a:t>http://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5"/>
                        </a:rPr>
                        <a:t>www.cth.gva.es</a:t>
                      </a:r>
                      <a:r>
                        <a:rPr b="0" lang="es-ES_tradnl" sz="1000" spc="-1" strike="noStrike" u="sng">
                          <a:solidFill>
                            <a:srgbClr val="bc956e"/>
                          </a:solidFill>
                          <a:uFillTx/>
                          <a:latin typeface="Arial"/>
                          <a:hlinkClick r:id="rId6"/>
                        </a:rPr>
                        <a:t>/CTL/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53BD3-3A08-4084-AE99-EEAEE5B612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22360" y="2629080"/>
            <a:ext cx="67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13c59"/>
                </a:solidFill>
                <a:latin typeface="Arial"/>
                <a:ea typeface="Arial"/>
              </a:rPr>
              <a:t>¡</a:t>
            </a:r>
            <a:r>
              <a:rPr b="1" i="1" lang="es-ES" sz="2800" spc="-1" strike="noStrike">
                <a:solidFill>
                  <a:srgbClr val="013c59"/>
                </a:solidFill>
                <a:latin typeface="Verdana"/>
              </a:rPr>
              <a:t>Gracias por vuestra atención!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DED2-1841-474B-A407-3E1C4BC557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469880" y="1397160"/>
            <a:ext cx="7016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ódulo S4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A- Del estado actual al estado previsto- Definir objetivos de marketing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Componente B-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Instrumentos de mezcla de marketing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Componente C-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Opciones para la supervisión de eficiencia de marketing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ponente D- Marketing sostenible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67E88-6F38-4290-83DA-BD77636EEB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2793960"/>
            <a:ext cx="6324840" cy="2552760"/>
          </a:xfrm>
          <a:prstGeom prst="rect">
            <a:avLst/>
          </a:prstGeom>
          <a:solidFill>
            <a:srgbClr val="efe8d1"/>
          </a:solidFill>
          <a:ln w="9360">
            <a:solidFill>
              <a:srgbClr val="fe5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587600" y="1943280"/>
            <a:ext cx="61466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</a:rPr>
              <a:t>¿Qué es marketing?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Marketing es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lo que las personas hacen diariamente: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- en conversación (entrevistas de trabajo, etc.),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en el trabajo,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en los exámenes,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729F0-9422-4F7C-9F8D-F1CB88943E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041800" y="1943280"/>
            <a:ext cx="3225960" cy="2730240"/>
          </a:xfrm>
          <a:prstGeom prst="ellipse">
            <a:avLst/>
          </a:prstGeom>
          <a:solidFill>
            <a:srgbClr val="efe8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190440" y="3073320"/>
            <a:ext cx="46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</a:rPr>
              <a:t>¿Qué significa marketing?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5127480" y="2492280"/>
            <a:ext cx="3108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comercializar algo”</a:t>
            </a:r>
            <a:br>
              <a:rPr sz="2000"/>
            </a:b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o mejor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vender algo”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336560" y="3435480"/>
            <a:ext cx="419400" cy="0"/>
          </a:xfrm>
          <a:prstGeom prst="line">
            <a:avLst/>
          </a:prstGeom>
          <a:ln w="38160">
            <a:solidFill>
              <a:srgbClr val="fe5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336560" y="3232080"/>
            <a:ext cx="419400" cy="0"/>
          </a:xfrm>
          <a:prstGeom prst="line">
            <a:avLst/>
          </a:prstGeom>
          <a:ln w="38160">
            <a:solidFill>
              <a:srgbClr val="fe5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3C4CD-F9D6-4844-AE1E-546500D38D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650960" y="1316160"/>
            <a:ext cx="614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</a:rPr>
              <a:t>Entendimiento actual del marketing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257480" y="2082960"/>
            <a:ext cx="685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omo filosofía de empresa que incluye la totalidad de la</a:t>
            </a:r>
            <a:r>
              <a:rPr b="1" lang="es-ES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mpresa, </a:t>
            </a:r>
            <a:br>
              <a:rPr sz="2000"/>
            </a:b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s aplicado conscientemente, sistemáticamente y         consecuentemente</a:t>
            </a:r>
            <a:br>
              <a:rPr sz="2000"/>
            </a:b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orientado completamente al cliente [Bruhn 2007]</a:t>
            </a:r>
            <a:r>
              <a:rPr b="1" lang="es-ES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F1FFA-F767-49AF-B966-C4F03BBE54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1650960" y="1179360"/>
            <a:ext cx="614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</a:rPr>
              <a:t>Orientación al cliente - ventajas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257480" y="2182680"/>
            <a:ext cx="685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·</a:t>
            </a: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 los procesos de producción pueden diseñarse de manera óptima, </a:t>
            </a:r>
            <a:br>
              <a:rPr sz="2000"/>
            </a:b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· las lagunas del mercado pueden ser reconocidas y explotadas  </a:t>
            </a:r>
            <a:br>
              <a:rPr sz="2000"/>
            </a:b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· el propio futuro de la empresa puede crearse activamente.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A85C3-BDA4-4918-ACDF-7EE9B868C5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04920" y="1549440"/>
            <a:ext cx="6654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jercicio S4-A2 </a:t>
            </a:r>
            <a:br>
              <a:rPr sz="2400"/>
            </a:br>
            <a:r>
              <a:rPr b="1" lang="es-ES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Objetivos de marketing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82680" y="2781360"/>
            <a:ext cx="697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mbrar brevemente los objetivos de marketing con los que trabajan en sus respectivas empresas.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FCCB6-B8F4-4F94-8CBB-0809DEFE6C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285920"/>
            <a:ext cx="75452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Venta personal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2176560"/>
            <a:ext cx="6886800" cy="3002040"/>
          </a:xfrm>
          <a:prstGeom prst="rect">
            <a:avLst/>
          </a:prstGeom>
          <a:solidFill>
            <a:srgbClr val="eae7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Objetivos: convencer y aumento de venta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Destinatarios: cliente actuales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Contenido: producto/servicio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13c59"/>
                </a:solidFill>
                <a:latin typeface="Arial"/>
                <a:ea typeface="ＭＳ Ｐゴシック"/>
              </a:rPr>
              <a:t>Ejemplos: presentaciones de ventas, ferias comerciales y eventos, etc.</a:t>
            </a:r>
            <a:r>
              <a:rPr b="0" lang="de-DE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FC4FC-97F5-440A-B47B-736BAFD899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12680" y="1320840"/>
            <a:ext cx="8131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jercicio S4-B4 </a:t>
            </a:r>
            <a:br>
              <a:rPr sz="2400"/>
            </a:b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Juego de rol – conversación de vent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1800" y="2238840"/>
            <a:ext cx="8223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El objetivo de este ejercicio es perfeccionar las habilidades de los participantes sosteniendo una charla de ventas a través de un juego de rol. Para ello, el juego de rol se debe desarrollar por el grupo. Sólo las siguientes funciones son necesarias: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- el cliente y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- el vendedor.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13c59"/>
                </a:solidFill>
                <a:latin typeface="Arial"/>
              </a:rPr>
              <a:t>Los participantes deciden sobre el producto o servicio que se convertirá en el objeto de la charla de ventas.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ylvia Brenzel (plenum): Eurocrafts, Pilot Tes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3BACF-D81C-4260-8E52-5867569B3E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Ana Moreno</dc:creator>
  <dc:description/>
  <dc:language>en-US</dc:language>
  <cp:lastModifiedBy>Ana </cp:lastModifiedBy>
  <dcterms:modified xsi:type="dcterms:W3CDTF">2010-10-08T23:28:29Z</dcterms:modified>
  <cp:revision>406</cp:revision>
  <dc:subject/>
  <dc:title>Presentacion S4-A0</dc:title>
</cp:coreProperties>
</file>