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51DBD-F6A3-4BCA-8EA7-54BDB8E298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8A956-C246-4AD9-90ED-C57A58D77739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EA11-1873-47C1-B5B2-B77BA4C9E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BB8A7-DC1B-4BCC-B0FA-77E15E678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98F3-01BA-466D-83F6-72F8007E4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B6954-2BBB-4DBB-8BA1-B5BE2FF2C9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4782-56D9-4ECC-BE11-5DBCE4BC98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D74A5-306B-4E9B-8912-D380813AF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D979-BFB8-4554-9C44-BAA3BC09C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5063-759B-4800-B491-700DE2518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4F1FA-A0C4-4B9B-87D0-F9A701B5A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1BE0F-007E-4305-A30D-3AC626A84B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7B512-6FB5-4AFE-81C6-CC3CFC2D7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4A7F-5D61-429C-955B-EC9C565BF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08080"/>
                </a:solidFill>
                <a:latin typeface="Arial"/>
              </a:rPr>
              <a:t>S4-A1: Objetivos de mark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C7EC-7832-4E29-B583-4BBD86FAA897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cepto de marketing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ódulo S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4-A1 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Objetivos de marketing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4600" y="166068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E27D-E101-409A-B76B-2F91335D89E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13c59"/>
                </a:solidFill>
                <a:latin typeface="Verdana"/>
              </a:rPr>
              <a:t>Lo que se debe tener en cuenta a la hora de formular los objetivos…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4600" y="2133720"/>
            <a:ext cx="8034120" cy="364464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l especificar con respecto a su contenido (</a:t>
            </a: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¿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que se debe alcanzar?), 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l especificar con respecto a su grado deseado (</a:t>
            </a: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¿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uánto debe ser alcanzado?), 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l especificar con respecto a su horizonte de tiempo (</a:t>
            </a: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¿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uando ha de ser alcanzada la meta?) 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l especificar con respecto a su área de uso (</a:t>
            </a:r>
            <a:r>
              <a:rPr b="1" lang="en-US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¿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para qué gama (campo de negocio/región etc.) se han de aplicar la meta/las metas?).</a:t>
            </a:r>
            <a:r>
              <a:rPr b="1" i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363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7C46-7C49-4D81-BC33-4914B4B526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2F36-C3F2-4D29-93F5-9B96590C7F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C355-101C-4190-961D-AF0899D070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469880" y="1397160"/>
            <a:ext cx="70167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Del estado actual al estado previsto-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Definir objetivos de marketing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Componente B-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nstrumentos de mezcla de marketing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Componente C-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ciones para la supervisión de 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	</a:t>
            </a: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ficiencia de marketing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D- Marketing sostenibl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B63F-DAF1-4CDB-9D6E-B2E469C645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65160" y="2200320"/>
            <a:ext cx="7391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Componente A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OBJETIVOS d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13c59"/>
                </a:solidFill>
                <a:latin typeface="Verdana"/>
              </a:rPr>
              <a:t>MARKETING 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336D-23DD-4648-ADDF-7479994974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1596600"/>
            <a:ext cx="472896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Marketing conceptual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840720" cy="201636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aso 1: ¿Dónde estamos?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Análisis de la situación actua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81360"/>
            <a:ext cx="7490160" cy="118764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Herramienta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Inventario con p. ej. autoevaluación y análisis de fortalezas y potencial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03280" y="1125360"/>
            <a:ext cx="6840720" cy="150840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Paso 2: ¿A dónde queremos llegar?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terminación de los objetivos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4320" y="3386160"/>
            <a:ext cx="7489800" cy="155268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A corto plazo: 1-3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Medio plazo: 4-5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Largo plazo: 6-10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0A20-9332-4FAD-B553-6708BE3F46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Objetivos a corto plazo (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30440" y="2701440"/>
            <a:ext cx="6750000" cy="221004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1-3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Más bien orientados económicament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Ventas, facturación, beneficios, cuota de mercado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9B267-4365-47C6-9148-906FE328DB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05080" y="1327320"/>
            <a:ext cx="704196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Objetivos a corto plazo (I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331640" y="2204640"/>
            <a:ext cx="7304040" cy="179244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»Nosotros queremos aumentar nuestras ventas, facturación, ganancia hasta 200x en un xy por ciento.«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»Nosotros queremos alcanzar con nuestra oferta hasta 200x de cuota de mercado en un xy % por ciento.«</a:t>
            </a:r>
            <a:r>
              <a:rPr b="1" i="1" lang="es-ES" sz="20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2C4B-8657-4A86-90CE-42E230AF31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Objetivos a medio y largo plazo (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421000"/>
            <a:ext cx="6985080" cy="191592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4-5 añ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nfocados a los cliente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Imagen de la empresa, grado de popularidad, satisfacción del cliente, etc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7D5A-F2B3-40BA-9153-9BD29C66E5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490760" y="2455560"/>
            <a:ext cx="7029360" cy="2668680"/>
          </a:xfrm>
          <a:prstGeom prst="rect">
            <a:avLst/>
          </a:prstGeom>
          <a:solidFill>
            <a:srgbClr val="efe8d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84200" indent="-304920">
              <a:lnSpc>
                <a:spcPct val="90000"/>
              </a:lnSpc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”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eamos que los clientes y competidores relacionen nuestra empresa hasta 200x con una imagen respetuosa con el medio ambiente. “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484200" indent="-304920">
              <a:lnSpc>
                <a:spcPct val="90000"/>
              </a:lnSpc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”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eamos aumentar el grado de  popularidad de nuestra empresa hasta 200x por ciento XY “ </a:t>
            </a:r>
            <a:br>
              <a:rPr sz="1800"/>
            </a:br>
            <a:r>
              <a:rPr b="1" lang="de-DE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484200" indent="-304920">
              <a:lnSpc>
                <a:spcPct val="90000"/>
              </a:lnSpc>
              <a:spcBef>
                <a:spcPts val="451"/>
              </a:spcBef>
              <a:buClr>
                <a:srgbClr val="013c59"/>
              </a:buClr>
              <a:buSzPct val="13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” </a:t>
            </a:r>
            <a:r>
              <a:rPr b="1" lang="de-DE" sz="18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eamos aumentar la satisfacción de nuestros clientes hasta 200x por ciento XY“ 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13c59"/>
                </a:solidFill>
                <a:latin typeface="Verdana"/>
              </a:rPr>
              <a:t>Objetivos a medio y largo plazo </a:t>
            </a:r>
            <a:r>
              <a:rPr b="1" i="1" lang="de-DE" sz="2400" spc="-1" strike="noStrike">
                <a:solidFill>
                  <a:srgbClr val="013c59"/>
                </a:solidFill>
                <a:latin typeface="Verdana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1FB9-B043-4939-924D-BF217B99E5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8T23:39:44Z</dcterms:modified>
  <cp:revision>405</cp:revision>
  <dc:subject/>
  <dc:title>Presentacion S4-A1</dc:title>
</cp:coreProperties>
</file>