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0C4D8-D26D-4A22-9F20-445D089C66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F9356-5DBB-49A0-AFE5-4CD5782BF17F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2D75-0288-4889-9863-31CD7B5B6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9E08-9E4A-4FA4-B457-B6D43CE7F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AF51-177F-468F-BD95-B81C23EA3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3D15-168A-4B96-9C01-EAE9866FB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5FE4-83DD-468C-9C88-E28B28998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4FE3-2196-4C8A-9D6C-3BACCADB2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E890-673C-4ABD-854A-A7B538CDC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1435-4EAC-47DE-8CDB-FE27206E7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A134-C174-4868-9EC4-2249FA1C1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63FB-E309-42BE-90CF-322E5C95D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3E30-0CF2-4272-A6A4-CC383A97A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1C2A-0D38-4142-930A-0EDDF19CF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4-A1: Objetivos de mark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4664-C039-44BA-A849-48AD70354A8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cepto de marketing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ódulo S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4-A1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Objetivos de marketing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66068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009B-9E0A-4922-9280-4741B1BDBB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Lo que se debe tener en cuenta a la hora de formular los objetivos…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4600" y="2133720"/>
            <a:ext cx="8034120" cy="36446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contenid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que se debe alcanzar?),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grado desead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uánto debe ser alcanzado?),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horizonte de tiemp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uando ha de ser alcanzada la meta?)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área de us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para qué gama (campo de negocio/región etc.) se han de aplicar la meta/las metas?).</a:t>
            </a: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5F87-96F1-402F-B00E-A0E16A9543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13E9-051A-4893-B7C8-BE8ED55253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78A3-19D5-4106-A25B-71C9F02D1D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469880" y="1397160"/>
            <a:ext cx="70167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Del estado actual al estado previsto-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finir objetivos de marketing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B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nstrumentos de mezcla de marketing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C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ciones para la supervisión de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ficiencia de marketing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D- Marketing sostenibl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F936-495D-4B58-A99B-AE20D35454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65160" y="2200320"/>
            <a:ext cx="7391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Componente 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OBJETIVOS d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MARKETING 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6D9E-6F7B-4258-9751-D3631107A7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1596600"/>
            <a:ext cx="47289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Marketing conceptual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840720" cy="201636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aso 1: ¿Dónde estamos?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Análisis de la situación actua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81360"/>
            <a:ext cx="7490160" cy="11876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Herramienta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Inventario con p. ej. autoevaluación y análisis de fortalezas y potencial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3280" y="1125360"/>
            <a:ext cx="6840720" cy="150840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aso 2: ¿A dónde queremos llegar?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terminación de los objetivos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4320" y="3386160"/>
            <a:ext cx="7489800" cy="155268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A corto plazo: 1-3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Medio plazo: 4-5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Largo plazo: 6-10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0E4A-373F-45C1-A625-03627E501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Objetivos a corto plazo 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30440" y="2701440"/>
            <a:ext cx="6750000" cy="22100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1-3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Más bien orientados económicament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Ventas, facturación, beneficios, cuota de mercado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A71E-E699-4A72-B4C3-7E8AC35588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5080" y="1327320"/>
            <a:ext cx="7041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Objetivos a corto plazo (I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304040" cy="17924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»Nosotros queremos aumentar nuestras ventas, facturación, ganancia hasta 200x en un xy por ciento.«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»Nosotros queremos alcanzar con nuestra oferta hasta 200x de cuota de mercado en un xy % por ciento.«</a:t>
            </a:r>
            <a:r>
              <a:rPr b="1" i="1" lang="es-ES" sz="20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34B0-FFE1-48CF-8F3D-FB94D8CC0E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Objetivos a medio y largo plazo 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421000"/>
            <a:ext cx="6985080" cy="191592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4-5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nfocados a los client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Imagen de la empresa, grado de popularidad, satisfacción del cliente, etc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CA33-B997-4590-98F9-78CCB64B7B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490760" y="2455560"/>
            <a:ext cx="7029360" cy="266868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4200" indent="-304920">
              <a:lnSpc>
                <a:spcPct val="90000"/>
              </a:lnSpc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”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eamos que los clientes y competidores relacionen nuestra empresa hasta 200x con una imagen respetuosa con el medio ambiente. “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484200" indent="-304920">
              <a:lnSpc>
                <a:spcPct val="90000"/>
              </a:lnSpc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”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eamos aumentar el grado de  popularidad de nuestra empresa hasta 200x por ciento XY “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484200" indent="-304920">
              <a:lnSpc>
                <a:spcPct val="90000"/>
              </a:lnSpc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”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eamos aumentar la satisfacción de nuestros clientes hasta 200x por ciento XY“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Objetivos a medio y largo plazo </a:t>
            </a: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8DB2-B8B2-4E5D-93AA-9A078DEEAA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23:39:44Z</dcterms:modified>
  <cp:revision>405</cp:revision>
  <dc:subject/>
  <dc:title>Presentacion S4-A1</dc:title>
</cp:coreProperties>
</file>