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98440" y="-360"/>
            <a:ext cx="298476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37800" y="752400"/>
            <a:ext cx="5010120" cy="375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98440" y="9515160"/>
            <a:ext cx="298476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B6C223-5D56-481F-9FA2-4CBA483EB45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98800" y="9515520"/>
            <a:ext cx="29847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6243F9-2BD8-4DA2-9E87-1C993D4E312C}" type="slidenum">
              <a:rPr b="0" lang="de-DE" sz="1200" spc="-1" strike="noStrike">
                <a:solidFill>
                  <a:srgbClr val="013c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38160" y="752400"/>
            <a:ext cx="5008680" cy="3756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86DA1-D484-4510-A95E-0FA958BC4C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7B6C2-6213-415E-B64F-E8786CF234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6246B-5AA1-4BC8-9D89-0D8916DA35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6C14C-4AFA-48E4-A221-1891DEC4CB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64C51-227B-4D4C-9502-AD08F6778E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0AE12-4392-4B37-BF8A-B112A2D36E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4027D-CCB1-4C16-9056-999828B1D1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2EDCA-6D2A-41E5-A4B3-C22B0D2032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8600" y="689040"/>
            <a:ext cx="637704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0D228-A38F-4A4B-96AD-AE85744988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376BC-4672-42C7-8911-5A015D1667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897BD-3A45-4388-AFBB-BB252F8DA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FED32-0F11-40EB-B089-C9783EB63A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9"/>
          <p:cNvSpPr/>
          <p:nvPr/>
        </p:nvSpPr>
        <p:spPr>
          <a:xfrm>
            <a:off x="-7217640" y="6005520"/>
            <a:ext cx="235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Text Box 44"/>
          <p:cNvSpPr/>
          <p:nvPr/>
        </p:nvSpPr>
        <p:spPr>
          <a:xfrm>
            <a:off x="463680" y="5883120"/>
            <a:ext cx="8218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cc00"/>
                </a:solidFill>
                <a:latin typeface="Arial"/>
              </a:rPr>
              <a:t>-----------------------------------------------------------------------------------------------------------------------------------------------</a:t>
            </a:r>
            <a:endParaRPr b="0" lang="en-US" sz="13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Rectangle 48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234200" y="325440"/>
            <a:ext cx="1523880" cy="6159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507960" y="6244920"/>
            <a:ext cx="572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08080"/>
                </a:solidFill>
                <a:latin typeface="Arial"/>
              </a:rPr>
              <a:t>S4-B1: Herramientas de mezcla de mark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FC54-879C-46AE-B43E-42381628C488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488880" y="387360"/>
            <a:ext cx="279396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urocrafts21.eu/" TargetMode="External"/><Relationship Id="rId2" Type="http://schemas.openxmlformats.org/officeDocument/2006/relationships/hyperlink" Target="mailto:ana.moreno@gesma.es" TargetMode="External"/><Relationship Id="rId3" Type="http://schemas.openxmlformats.org/officeDocument/2006/relationships/hyperlink" Target="http://www.gesma.es/" TargetMode="External"/><Relationship Id="rId4" Type="http://schemas.openxmlformats.org/officeDocument/2006/relationships/hyperlink" Target="http://www.cth.gva.es/CTL/" TargetMode="External"/><Relationship Id="rId5" Type="http://schemas.openxmlformats.org/officeDocument/2006/relationships/hyperlink" Target="http://www.cth.gva.es/CTL/" TargetMode="External"/><Relationship Id="rId6" Type="http://schemas.openxmlformats.org/officeDocument/2006/relationships/hyperlink" Target="http://www.cth.gva.es/CTL/" TargetMode="Externa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2587680"/>
            <a:ext cx="914400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oncepto de marketing</a:t>
            </a: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Modulo S4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omponente B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S4-B1 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Herramientas de mezcla de marketing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www.eurocrafts21.eu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6891480" y="325440"/>
            <a:ext cx="1866600" cy="754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14600" y="1660680"/>
            <a:ext cx="4114800" cy="135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1B0E3-09F3-469A-93CD-A273B57E785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680" y="1696680"/>
            <a:ext cx="82850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8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7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800" spc="-1" strike="noStrike" u="sng">
                <a:solidFill>
                  <a:srgbClr val="bc956e"/>
                </a:solidFill>
                <a:uFillTx/>
                <a:latin typeface="Arial"/>
                <a:hlinkClick r:id="rId1"/>
              </a:rPr>
              <a:t>www.eurocrafts21.eu</a:t>
            </a:r>
            <a:r>
              <a:rPr b="1" lang="en-GB" sz="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ste proyecto está financiado con el apoyo de la Comisión Europea. Esta publicación refleja los puntos de vista sólo del autor, y la Comisión no es responsable de cualquier uso que se pueda hacer de la información contenida en él.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 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   </a:t>
            </a: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l proyecto de Leonardo da Vinci Euro Crafts 21 se lleva a cabo bajo la Administración de plenum - sociedad para el desarrollo sostenible global y la del Instituto Factor de 10 Austria. El objetivo del proyecto es establecer  un valor añadido significativo en la educación profesional en los países asociados participantes (Austria, Finlandia, Alemania, Eslovaquia, España y Hungría).Esto se logrará mediante la transferencia de innovación de un proyecto piloto ya finalizado - con el objetivo del desarrollo y prueba de un concepto general de calificación y el consultoría para la gestión de sostenibilidad en la rama de artesanía de Renania del Norte-Westfalia (Alemania).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808080"/>
                </a:solidFill>
                <a:latin typeface="Verdana"/>
                <a:ea typeface="Times New Roman"/>
              </a:rPr>
              <a:t> </a:t>
            </a:r>
            <a:r>
              <a:rPr b="1" i="1" lang="es-ES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Fuente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800" spc="-1" strike="noStrike">
                <a:solidFill>
                  <a:srgbClr val="808080"/>
                </a:solidFill>
                <a:latin typeface="Verdana"/>
                <a:ea typeface="Times New Roman"/>
              </a:rPr>
              <a:t>     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Lemken, Thomas; Rohn, Holger en colaboración con Claudia Kaiser, INA Schäfer, Anna Bliesner, Kristin Parlow: Desarrollo sostenible Módulo B1. Westdeutscher Handwerkskammertag (ed.): Gestión sostenible en las empresas de artesanía. Un Manual para la aplicación de un concepto de consultoría y calificación realizados para consultores y profesores en el sector de artesanía. Resultados  </a:t>
            </a:r>
            <a:r>
              <a:rPr b="0" i="1" lang="de-DE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de un proyecto piloto, Düsseldorf (Nachhaltiges Wirtschaften en Handwerksbetrieben. Eine Handreichung zur Durchführung eines Qualifizierungs- und Beratungskonzeptes für Betriebsberater /-innen und Dozenten /-innen im Handwerk. 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rgebnisse aus einem Modellversuch, Düsseldorf).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  </a:t>
            </a:r>
            <a:r>
              <a:rPr b="1" i="1" lang="en-GB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Contacto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13c59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16040" y="3962520"/>
          <a:ext cx="8031240" cy="2011320"/>
        </p:xfrm>
        <a:graphic>
          <a:graphicData uri="http://schemas.openxmlformats.org/drawingml/2006/table">
            <a:tbl>
              <a:tblPr/>
              <a:tblGrid>
                <a:gridCol w="4016160"/>
                <a:gridCol w="4015080"/>
              </a:tblGrid>
              <a:tr h="2016360"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sMA - </a:t>
                      </a: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stión Medioambiental y  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Sostenibilidad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i="1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 </a:t>
                      </a:r>
                      <a:r>
                        <a:rPr b="1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Ana Moreno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Ronda de las Murallas 3,10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Denia 03700 (Alicante) España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Tel: 00-34-622603462  Fax: 00-34-966430283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2"/>
                        </a:rPr>
                        <a:t>ana.moreno@gesma.es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3"/>
                        </a:rPr>
                        <a:t>www.gesma.es</a:t>
                      </a: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Centro de Tecnologías Limpias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Conselleria de Medio Ambiente, Agua, 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Urbanismo y Vivienda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Dirección General para el Cambio Climático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neralitat Valenciana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1" i="1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rmán Giner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Ronda Isaac Peral y Caballero, 5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46980 PATERNA (VALENCIA)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Tlf: 00-34- 96 136 6949 - Fax: 00-34- 96 131 8495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4"/>
                        </a:rPr>
                        <a:t>http://</a:t>
                      </a: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5"/>
                        </a:rPr>
                        <a:t>www.cth.gva.es</a:t>
                      </a: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6"/>
                        </a:rPr>
                        <a:t>/CTL/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1DAB8-9EC4-4C4D-AB0E-8B90AE95DC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95360" y="1366920"/>
            <a:ext cx="80359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22360" y="2629080"/>
            <a:ext cx="67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3c59"/>
                </a:solidFill>
                <a:latin typeface="Arial"/>
                <a:ea typeface="Arial"/>
              </a:rPr>
              <a:t>¡</a:t>
            </a:r>
            <a:r>
              <a:rPr b="1" i="1" lang="es-ES" sz="2800" spc="-1" strike="noStrike">
                <a:solidFill>
                  <a:srgbClr val="013c59"/>
                </a:solidFill>
                <a:latin typeface="Verdana"/>
              </a:rPr>
              <a:t>Gracias por vuestra atención!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38977-A874-43E5-B920-610EF0BA31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1587600" y="1943280"/>
            <a:ext cx="6146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Módulo S4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1) Del estado actual al estado previsto- Definir objetivos de marketing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) Instrumentos de mezcla de marketing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3) Opciones para la supervisión de eficiencia de marketing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4BDBE-5359-4C20-86CD-9570A5DD7D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58720" y="2309760"/>
            <a:ext cx="805176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13c59"/>
                </a:solidFill>
                <a:latin typeface="Verdana"/>
              </a:rPr>
              <a:t>Componente B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13c59"/>
                </a:solidFill>
                <a:latin typeface="Verdana"/>
              </a:rPr>
              <a:t>INSTRUMENTOS DEL MARKETING DE MEZCLA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13c59"/>
                </a:solidFill>
                <a:latin typeface="Verdana"/>
              </a:rPr>
              <a:t>(esp. política de comunicación y promoción de ventas)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66CA1-2D2D-4394-AC37-6DF2EBE7FF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17360" y="1133640"/>
            <a:ext cx="77770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13c59"/>
                </a:solidFill>
                <a:latin typeface="Verdana"/>
              </a:rPr>
              <a:t>Instrumentos de política de comunicación/ Promoción de venta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51080" y="2768760"/>
            <a:ext cx="5256360" cy="1515960"/>
          </a:xfrm>
          <a:prstGeom prst="rect">
            <a:avLst/>
          </a:prstGeom>
          <a:solidFill>
            <a:srgbClr val="eae7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1720" indent="-26676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Publicidad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Relaciones públicas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Promoción de ventas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Ventas personales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980640"/>
            <a:ext cx="75452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13c59"/>
                </a:solidFill>
                <a:latin typeface="Verdana"/>
              </a:rPr>
              <a:t>Publicidad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90760" y="2271600"/>
            <a:ext cx="6689520" cy="3092400"/>
          </a:xfrm>
          <a:prstGeom prst="rect">
            <a:avLst/>
          </a:prstGeom>
          <a:solidFill>
            <a:srgbClr val="eae7e2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Objetivo: aumentar las ventas de medio y largo plazo, aumento el grado de popularidad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Destinatarios: clientes actuales y en potencia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Contenido: producto/servicio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Ejemplos: medios impresos, folletos y publicidad de cartel, difusión de radio local, publicidad en la pantalla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8F0F9-AB5F-41B3-8423-2DD46B7E8B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76240" y="1197000"/>
            <a:ext cx="7545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13c59"/>
                </a:solidFill>
                <a:latin typeface="Verdana"/>
              </a:rPr>
              <a:t>Public Relation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6360" y="1916280"/>
            <a:ext cx="6851520" cy="2396880"/>
          </a:xfrm>
          <a:prstGeom prst="rect">
            <a:avLst/>
          </a:prstGeom>
          <a:solidFill>
            <a:srgbClr val="eae7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Objetivo: creación, concretizar y mejorar la imagen de la empresa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Destinatarios: público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Contenido: empresa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Ejemplos: dossier de prensa, charlas y conferencias, publicaciones, seminarios, donaciones para propósitos caritativos, etc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BB3F8-55F1-482D-9AE4-0453052260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52560" y="1349280"/>
            <a:ext cx="75452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13c59"/>
                </a:solidFill>
                <a:latin typeface="Verdana"/>
              </a:rPr>
              <a:t>Promoción de venta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2133720"/>
            <a:ext cx="6851520" cy="2414520"/>
          </a:xfrm>
          <a:prstGeom prst="rect">
            <a:avLst/>
          </a:prstGeom>
          <a:solidFill>
            <a:srgbClr val="eae7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Objetivo: aumento de ventas a corto plazo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Destinatarios: clientes actuales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Contenido: producto/servicio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Ejemplos: anuncio de precio, juegos de premios, extras y regalos de publicidad, acontecimientos, ferias etc.</a:t>
            </a:r>
            <a:r>
              <a:rPr b="0" lang="de-DE" sz="20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C764B-6E1A-4CC5-83A3-4ED2DC437B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14400" y="1285920"/>
            <a:ext cx="75452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13c59"/>
                </a:solidFill>
                <a:latin typeface="Verdana"/>
              </a:rPr>
              <a:t>Venta personal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2176560"/>
            <a:ext cx="6851880" cy="1969920"/>
          </a:xfrm>
          <a:prstGeom prst="rect">
            <a:avLst/>
          </a:prstGeom>
          <a:solidFill>
            <a:srgbClr val="eae7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Objetivos: convencer y aumento de ventas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Destinatarios: cliente actuales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Contenido: producto/servicio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Ejemplos: presentaciones de ventas, ferias comerciales y eventos, etc.</a:t>
            </a:r>
            <a:r>
              <a:rPr b="0" lang="de-DE" sz="20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C55CB-F17B-4AD6-B8ED-5AE2F1946B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12680" y="1320840"/>
            <a:ext cx="8131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Ejercicio S4-B4 </a:t>
            </a:r>
            <a:br>
              <a:rPr sz="2400"/>
            </a:b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Juego de rol – conversación de venta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1800" y="2238840"/>
            <a:ext cx="8223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El objetivo de este ejercicio es perfeccionar las habilidades de los participantes sosteniendo una charla de ventas a través de un juego de rol. Para ello, el juego de rol se debe desarrollar por el grupo. Sólo las siguientes funciones son necesarias: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- el cliente y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- el vendedor.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Los participantes deciden sobre el producto o servicio que se convertirá en el objeto de la charla de ventas.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8381C-C61E-4081-8D48-D86E5D94FC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Ana Moreno</dc:creator>
  <dc:description/>
  <dc:language>en-US</dc:language>
  <cp:lastModifiedBy>Ana </cp:lastModifiedBy>
  <dcterms:modified xsi:type="dcterms:W3CDTF">2010-10-09T23:07:54Z</dcterms:modified>
  <cp:revision>406</cp:revision>
  <dc:subject/>
  <dc:title>Presentacion S4-B1</dc:title>
</cp:coreProperties>
</file>