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B86D6-B101-4C6F-A544-A47CEA609B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DDB7F-DE5F-469B-9399-ABED12F7C486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4019F-0CF7-48A3-897C-5F31D70DE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C4C5F-C8F3-4BAD-ABD3-615148D07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1670-5166-453B-A916-9E31BC964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F89A-55ED-4BCB-BC13-D44E2CEBE9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D7493-0491-473A-9A4F-4BF4C8CD95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9D9F-B46C-4228-81E6-B8408AC96A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71258-25B1-48AF-8B0A-E036EDF64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ED98-F2F0-4F78-B584-F13A93BB1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2CE6D-CEFE-4B70-A5FE-31D878312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87338-A214-47B3-8806-75DFB87D5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8253E-5BD0-482D-A002-D269208F76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618E-55AF-44D2-A6A3-0FFA479FB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Arial"/>
              </a:rPr>
              <a:t>S4-B1: Herramientas de mezcla de mark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A0A7-CF63-441F-BFCE-A1AF8B0AE9A2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hyperlink" Target="http://www.cth.gva.es/CTL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oncepto de marketing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odulo S4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mponente B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808080"/>
                </a:solidFill>
                <a:latin typeface="Arial"/>
              </a:rPr>
              <a:t>S4-B1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Herramientas de mezcla de marketing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166068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E16FD-0025-4B63-96D1-0562408564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s-ES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r>
              <a:rPr b="1" i="1" lang="es-ES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5662-2444-422D-9875-87633B839B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51413-53EF-4F12-B0A8-64CAE5272B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587600" y="1943280"/>
            <a:ext cx="6146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ódulo S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1) Del estado actual al estado previsto- Definir objetivos de market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) Instrumentos de mezcla de market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3) Opciones para la supervisión de eficiencia de market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B38C-A672-4976-BE7F-CBE1CE578B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8720" y="2309760"/>
            <a:ext cx="805176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Verdana"/>
              </a:rPr>
              <a:t>Componente B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Verdana"/>
              </a:rPr>
              <a:t>INSTRUMENTOS DEL MARKETING DE MEZCLA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Verdana"/>
              </a:rPr>
              <a:t>(esp. política de comunicación y promoción de ventas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97AA-1F51-49A7-B282-D730A12906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17360" y="113364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Instrumentos de política de comunicación/ Promoción de venta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51080" y="2768760"/>
            <a:ext cx="5256360" cy="1515960"/>
          </a:xfrm>
          <a:prstGeom prst="rect">
            <a:avLst/>
          </a:prstGeom>
          <a:solidFill>
            <a:srgbClr val="eae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172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Publicidad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Relaciones pública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Promoción de venta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Ventas personale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980640"/>
            <a:ext cx="7545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Publicidad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90760" y="2271600"/>
            <a:ext cx="6689520" cy="3092400"/>
          </a:xfrm>
          <a:prstGeom prst="rect">
            <a:avLst/>
          </a:prstGeom>
          <a:solidFill>
            <a:srgbClr val="eae7e2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Objetivo: aumentar las ventas de medio y largo plazo, aumento el grado de popularidad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stinatarios: clientes actuales y en potencia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Contenido: producto/servicio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jemplos: medios impresos, folletos y publicidad de cartel, difusión de radio local, publicidad en la pantall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0798-C72A-4E6D-A248-8689DCFC16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76240" y="1197000"/>
            <a:ext cx="7545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3c59"/>
                </a:solidFill>
                <a:latin typeface="Verdana"/>
              </a:rPr>
              <a:t>Public Relation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1916280"/>
            <a:ext cx="6851520" cy="2396880"/>
          </a:xfrm>
          <a:prstGeom prst="rect">
            <a:avLst/>
          </a:prstGeom>
          <a:solidFill>
            <a:srgbClr val="eae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Objetivo: creación, concretizar y mejorar la imagen de la empresa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stinatarios: público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Contenido: empresa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jemplos: dossier de prensa, charlas y conferencias, publicaciones, seminarios, donaciones para propósitos caritativos, etc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A3BD0-6EFA-4C29-9779-36CD1FA4CA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52560" y="1349280"/>
            <a:ext cx="7545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Promoción de venta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133720"/>
            <a:ext cx="6851520" cy="2414520"/>
          </a:xfrm>
          <a:prstGeom prst="rect">
            <a:avLst/>
          </a:prstGeom>
          <a:solidFill>
            <a:srgbClr val="eae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Objetivo: aumento de ventas a corto plazo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stinatarios: clientes actuales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Contenido: producto/servicio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jemplos: anuncio de precio, juegos de premios, extras y regalos de publicidad, acontecimientos, ferias etc.</a:t>
            </a: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C13F9-10E9-461E-B55B-628C06BE69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1285920"/>
            <a:ext cx="7545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Venta personal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176560"/>
            <a:ext cx="6851880" cy="1969920"/>
          </a:xfrm>
          <a:prstGeom prst="rect">
            <a:avLst/>
          </a:prstGeom>
          <a:solidFill>
            <a:srgbClr val="eae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Objetivos: convencer y aumento de ventas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stinatarios: cliente actuales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Contenido: producto/servicio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jemplos: presentaciones de ventas, ferias comerciales y eventos, etc.</a:t>
            </a: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14A7-855F-49C6-B36D-1C270E423E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12680" y="1320840"/>
            <a:ext cx="8131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jercicio S4-B4 </a:t>
            </a:r>
            <a:br>
              <a:rPr sz="2400"/>
            </a:b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Juego de rol – conversación de vent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1800" y="2238840"/>
            <a:ext cx="8223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El objetivo de este ejercicio es perfeccionar las habilidades de los participantes sosteniendo una charla de ventas a través de un juego de rol. Para ello, el juego de rol se debe desarrollar por el grupo. Sólo las siguientes funciones son necesarias: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- el cliente y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- el vendedor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Los participantes deciden sobre el producto o servicio que se convertirá en el objeto de la charla de ventas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C637F-85B0-4654-B94A-ADE026D9DA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9T23:07:54Z</dcterms:modified>
  <cp:revision>406</cp:revision>
  <dc:subject/>
  <dc:title>Presentacion S4-B1</dc:title>
</cp:coreProperties>
</file>