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77820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9480" y="736200"/>
            <a:ext cx="49118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2680" cy="4419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3261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778200" y="93261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D279FD5-C77A-4C8C-B40D-0CA9919431D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778200" y="93261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B1C1EEA-408F-40D9-B38F-ABBAD29964C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93261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77820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880920" y="738360"/>
            <a:ext cx="4908600" cy="3681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8480" y="4663800"/>
            <a:ext cx="4891320" cy="26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778200" y="93261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9AC4E6A-E35D-4549-AAF1-F93B3992D59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0" y="93261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7820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880920" y="738360"/>
            <a:ext cx="4908600" cy="3681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888480" y="4663800"/>
            <a:ext cx="4891320" cy="26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778200" y="93261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B3FBF91-8567-4F1E-A3EF-A3D989C4CA8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93261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778200" y="-360"/>
            <a:ext cx="2889360" cy="49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880920" y="738360"/>
            <a:ext cx="4908600" cy="3681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88480" y="4663800"/>
            <a:ext cx="4891320" cy="26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406F5-212D-472D-8226-4A314A3CF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46FAD-3150-4B18-B215-3B7BD5105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3EF8-3C3F-4273-A8C6-D68E30D64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1E75D-9BD5-448A-BDDB-EF34DC09A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08E0-5B10-41F6-82FB-2015C0BCE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58875-8296-4B6A-AF74-4E24C7BFD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59AC-ED2B-4D59-87A1-105F7BB9E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5E210-0FE1-42AF-9353-518960F6E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4D4D-F7D2-49AB-9CF4-E56A66797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26E8-7848-4D8B-AD0A-D37FEA296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C74D6-EC43-4FD6-91A6-9D38ED1A5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B9FCB-1303-4F3A-BA3B-4E7EC3FEB5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10840" y="6179760"/>
            <a:ext cx="728676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66f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353080" y="6205680"/>
            <a:ext cx="539640" cy="20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(</a:t>
            </a:r>
            <a:fld id="{8E6DC0C3-ECE7-42FA-8D39-A470E39A5ABB}" type="slidenum">
              <a:rPr b="0" lang="de-DE" sz="900" spc="-1" strike="noStrike">
                <a:solidFill>
                  <a:srgbClr val="0066ff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66ff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9760" y="1398600"/>
            <a:ext cx="8022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76b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948360" y="196920"/>
            <a:ext cx="1584360" cy="6397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36680" y="257040"/>
            <a:ext cx="2047680" cy="3636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15280" y="2314440"/>
            <a:ext cx="2463480" cy="139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-6476760" y="2865600"/>
            <a:ext cx="193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93640" y="2865600"/>
            <a:ext cx="34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ac4ae"/>
                </a:solidFill>
                <a:latin typeface="Estrangelo Edessa"/>
              </a:rPr>
              <a:t>|||||||||||||||||||||||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308560"/>
            <a:ext cx="9144000" cy="154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13c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755880"/>
            <a:ext cx="61722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36f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136f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68360" y="765000"/>
            <a:ext cx="820728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5136f0"/>
                </a:solidFill>
                <a:latin typeface="Arial"/>
              </a:rPr>
              <a:t>S11 modul – Projektmenedzsment</a:t>
            </a:r>
            <a:endParaRPr b="0" lang="en-US" sz="3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989000"/>
            <a:ext cx="784872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35120" y="3494160"/>
            <a:ext cx="5842080" cy="20224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86280" y="5424480"/>
            <a:ext cx="11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13c59"/>
                </a:solidFill>
                <a:latin typeface="Arial"/>
              </a:rPr>
              <a:t>Eurocrafts 21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11840" y="256536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e5815"/>
                </a:solidFill>
                <a:latin typeface="Arial"/>
              </a:rPr>
              <a:t>S11-A1</a:t>
            </a: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: </a:t>
            </a:r>
            <a:r>
              <a:rPr b="0" lang="hu-HU" sz="1800" spc="-1" strike="noStrike">
                <a:solidFill>
                  <a:srgbClr val="fe5815"/>
                </a:solidFill>
                <a:latin typeface="Arial"/>
              </a:rPr>
              <a:t>A projekt ciklus menedzsment alapjai</a:t>
            </a: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959200" cy="55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B61E1-B579-48DB-BCEB-ABBE3EB7FD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80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5136f0"/>
                </a:solidFill>
                <a:latin typeface="Arial"/>
              </a:rPr>
              <a:t>A projekt</a:t>
            </a: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916280"/>
            <a:ext cx="7704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13c59"/>
                </a:solidFill>
                <a:latin typeface="Arial"/>
              </a:rPr>
              <a:t>Egy adott kiindulási helyzetből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13c59"/>
                </a:solidFill>
                <a:latin typeface="Arial"/>
              </a:rPr>
              <a:t>Adott időtartamon belül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13c59"/>
                </a:solidFill>
                <a:latin typeface="Arial"/>
              </a:rPr>
              <a:t>Adott eszközökkel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13c59"/>
                </a:solidFill>
                <a:latin typeface="Arial"/>
              </a:rPr>
              <a:t>Egy specifikus célt elérni kívánó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013c59"/>
                </a:solidFill>
                <a:latin typeface="Arial"/>
              </a:rPr>
              <a:t>tevékenységsorozat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13c59"/>
                </a:solidFill>
                <a:latin typeface="Arial"/>
              </a:rPr>
              <a:t>Három legfontosabb tényezője: a minőség, a költség és az idő.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132000" y="4508640"/>
            <a:ext cx="2238480" cy="153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84CF7-E144-47AF-B3F3-08F1639486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5136f0"/>
                </a:solidFill>
                <a:latin typeface="Arial"/>
              </a:rPr>
              <a:t>A projektek lépései</a:t>
            </a:r>
            <a:endParaRPr b="0" lang="en-US" sz="20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I. A projekt létrehozás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bc956e"/>
                </a:solidFill>
                <a:latin typeface="Arial"/>
              </a:rPr>
              <a:t>A projekt meghatározása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bc956e"/>
                </a:solidFill>
                <a:latin typeface="Arial"/>
              </a:rPr>
              <a:t>A projekt kidolgozása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bc956e"/>
                </a:solidFill>
                <a:latin typeface="Arial"/>
              </a:rPr>
              <a:t>A projekt előzetes értékelése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bc956e"/>
                </a:solidFill>
                <a:latin typeface="Arial"/>
              </a:rPr>
              <a:t>A projekttel kapcsolatos tárgyalások és döntések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lvl="1" marL="801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II. A projekt megvalósítás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bc956e"/>
                </a:solidFill>
                <a:latin typeface="Arial"/>
              </a:rPr>
              <a:t>A projekt megvalósítása és nyomon követése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III. A projekt értékelése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51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bc956e"/>
                </a:solidFill>
                <a:latin typeface="Arial"/>
              </a:rPr>
              <a:t>A projekt lezárása és értékelése, az eredmények terjesztése</a:t>
            </a:r>
            <a:endParaRPr b="0" lang="en-US" sz="1800" spc="-1" strike="noStrike">
              <a:solidFill>
                <a:srgbClr val="bc956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25025-373F-43ED-BDEB-47AAEE1CFB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39640" y="692280"/>
            <a:ext cx="7774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Projektciklus-menedzsment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31280" y="1735200"/>
            <a:ext cx="838836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0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13c59"/>
                </a:solidFill>
                <a:latin typeface="Verdana"/>
                <a:ea typeface="Times New Roman"/>
              </a:rPr>
              <a:t>a projektcikluson belüli különböző fázisok koherens és hatékony módon történő kezelésének képessége és folyamata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1790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13c59"/>
                </a:solidFill>
                <a:latin typeface="Verdana"/>
              </a:rPr>
              <a:t>Elvek, módszerek és szabályok a program- és projektkészítők számára a támogatások megszerzésének és felhasználásának folyamatában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1790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1790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248000" cy="32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06A7-5838-43BA-AE7D-9B4DF028C3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11280" y="692280"/>
            <a:ext cx="777384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A PCM segít biztosítani, hogy a projektek: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98900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hozzájáruljanak az átfogó célokhoz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kölcsönösen megállapított stratégiára épüljenek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megvalósíthatóak legyenek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13c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az általuk létrejött hasznok, eredmények fenntarthatóak legyenek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294B0-F73D-4880-AFE0-D7A4DE4EB3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9640" y="836640"/>
            <a:ext cx="7774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Ezért a PCM:</a:t>
            </a:r>
            <a:endParaRPr b="0" lang="en-US" sz="2200" spc="-1" strike="noStrike">
              <a:solidFill>
                <a:srgbClr val="5136f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773000"/>
            <a:ext cx="8001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- a Logikai Keret Szemléletet használja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- támogatja a jól strukturált, tájékozott döntéshozás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- megköveteli az érintettek/érdekeltek bevonásá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- hangsúlyt helyez a világos megszövegezésre,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e581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13c59"/>
                </a:solidFill>
                <a:latin typeface="Arial"/>
              </a:rPr>
              <a:t>- középpontba helyez egy projektszándékot (fő projektcélt), a tervezett célcsoport(ok) fenntartható hasznaiban kifejezve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B2FD-A8F5-4213-B06C-09FE76A73C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62520" y="3548160"/>
            <a:ext cx="2209680" cy="1469880"/>
          </a:xfrm>
          <a:custGeom>
            <a:avLst/>
            <a:gdLst/>
            <a:ahLst/>
            <a:rect l="l" t="t" r="r" b="b"/>
            <a:pathLst>
              <a:path w="1392" h="926">
                <a:moveTo>
                  <a:pt x="308" y="287"/>
                </a:moveTo>
                <a:lnTo>
                  <a:pt x="291" y="308"/>
                </a:lnTo>
                <a:lnTo>
                  <a:pt x="276" y="328"/>
                </a:lnTo>
                <a:lnTo>
                  <a:pt x="263" y="350"/>
                </a:lnTo>
                <a:lnTo>
                  <a:pt x="253" y="371"/>
                </a:lnTo>
                <a:lnTo>
                  <a:pt x="245" y="394"/>
                </a:lnTo>
                <a:lnTo>
                  <a:pt x="239" y="417"/>
                </a:lnTo>
                <a:lnTo>
                  <a:pt x="235" y="439"/>
                </a:lnTo>
                <a:lnTo>
                  <a:pt x="234" y="463"/>
                </a:lnTo>
                <a:lnTo>
                  <a:pt x="235" y="480"/>
                </a:lnTo>
                <a:lnTo>
                  <a:pt x="236" y="497"/>
                </a:lnTo>
                <a:lnTo>
                  <a:pt x="239" y="513"/>
                </a:lnTo>
                <a:lnTo>
                  <a:pt x="244" y="529"/>
                </a:lnTo>
                <a:lnTo>
                  <a:pt x="250" y="545"/>
                </a:lnTo>
                <a:lnTo>
                  <a:pt x="256" y="561"/>
                </a:lnTo>
                <a:lnTo>
                  <a:pt x="263" y="577"/>
                </a:lnTo>
                <a:lnTo>
                  <a:pt x="272" y="591"/>
                </a:lnTo>
                <a:lnTo>
                  <a:pt x="293" y="620"/>
                </a:lnTo>
                <a:lnTo>
                  <a:pt x="317" y="647"/>
                </a:lnTo>
                <a:lnTo>
                  <a:pt x="344" y="672"/>
                </a:lnTo>
                <a:lnTo>
                  <a:pt x="375" y="696"/>
                </a:lnTo>
                <a:lnTo>
                  <a:pt x="410" y="717"/>
                </a:lnTo>
                <a:lnTo>
                  <a:pt x="446" y="736"/>
                </a:lnTo>
                <a:lnTo>
                  <a:pt x="486" y="753"/>
                </a:lnTo>
                <a:lnTo>
                  <a:pt x="528" y="766"/>
                </a:lnTo>
                <a:lnTo>
                  <a:pt x="573" y="778"/>
                </a:lnTo>
                <a:lnTo>
                  <a:pt x="618" y="785"/>
                </a:lnTo>
                <a:lnTo>
                  <a:pt x="667" y="791"/>
                </a:lnTo>
                <a:lnTo>
                  <a:pt x="716" y="792"/>
                </a:lnTo>
                <a:lnTo>
                  <a:pt x="765" y="791"/>
                </a:lnTo>
                <a:lnTo>
                  <a:pt x="813" y="785"/>
                </a:lnTo>
                <a:lnTo>
                  <a:pt x="859" y="778"/>
                </a:lnTo>
                <a:lnTo>
                  <a:pt x="904" y="766"/>
                </a:lnTo>
                <a:lnTo>
                  <a:pt x="945" y="753"/>
                </a:lnTo>
                <a:lnTo>
                  <a:pt x="985" y="736"/>
                </a:lnTo>
                <a:lnTo>
                  <a:pt x="1022" y="717"/>
                </a:lnTo>
                <a:lnTo>
                  <a:pt x="1056" y="696"/>
                </a:lnTo>
                <a:lnTo>
                  <a:pt x="1087" y="672"/>
                </a:lnTo>
                <a:lnTo>
                  <a:pt x="1115" y="647"/>
                </a:lnTo>
                <a:lnTo>
                  <a:pt x="1139" y="620"/>
                </a:lnTo>
                <a:lnTo>
                  <a:pt x="1160" y="591"/>
                </a:lnTo>
                <a:lnTo>
                  <a:pt x="1168" y="577"/>
                </a:lnTo>
                <a:lnTo>
                  <a:pt x="1175" y="561"/>
                </a:lnTo>
                <a:lnTo>
                  <a:pt x="1183" y="545"/>
                </a:lnTo>
                <a:lnTo>
                  <a:pt x="1188" y="529"/>
                </a:lnTo>
                <a:lnTo>
                  <a:pt x="1192" y="513"/>
                </a:lnTo>
                <a:lnTo>
                  <a:pt x="1195" y="497"/>
                </a:lnTo>
                <a:lnTo>
                  <a:pt x="1196" y="480"/>
                </a:lnTo>
                <a:lnTo>
                  <a:pt x="1197" y="463"/>
                </a:lnTo>
                <a:lnTo>
                  <a:pt x="1196" y="446"/>
                </a:lnTo>
                <a:lnTo>
                  <a:pt x="1195" y="429"/>
                </a:lnTo>
                <a:lnTo>
                  <a:pt x="1192" y="413"/>
                </a:lnTo>
                <a:lnTo>
                  <a:pt x="1188" y="397"/>
                </a:lnTo>
                <a:lnTo>
                  <a:pt x="1183" y="381"/>
                </a:lnTo>
                <a:lnTo>
                  <a:pt x="1175" y="366"/>
                </a:lnTo>
                <a:lnTo>
                  <a:pt x="1168" y="350"/>
                </a:lnTo>
                <a:lnTo>
                  <a:pt x="1160" y="335"/>
                </a:lnTo>
                <a:lnTo>
                  <a:pt x="1139" y="307"/>
                </a:lnTo>
                <a:lnTo>
                  <a:pt x="1115" y="279"/>
                </a:lnTo>
                <a:lnTo>
                  <a:pt x="1087" y="254"/>
                </a:lnTo>
                <a:lnTo>
                  <a:pt x="1056" y="231"/>
                </a:lnTo>
                <a:lnTo>
                  <a:pt x="1022" y="209"/>
                </a:lnTo>
                <a:lnTo>
                  <a:pt x="985" y="191"/>
                </a:lnTo>
                <a:lnTo>
                  <a:pt x="945" y="174"/>
                </a:lnTo>
                <a:lnTo>
                  <a:pt x="904" y="160"/>
                </a:lnTo>
                <a:lnTo>
                  <a:pt x="859" y="149"/>
                </a:lnTo>
                <a:lnTo>
                  <a:pt x="813" y="141"/>
                </a:lnTo>
                <a:lnTo>
                  <a:pt x="765" y="136"/>
                </a:lnTo>
                <a:lnTo>
                  <a:pt x="716" y="134"/>
                </a:lnTo>
                <a:lnTo>
                  <a:pt x="684" y="135"/>
                </a:lnTo>
                <a:lnTo>
                  <a:pt x="654" y="136"/>
                </a:lnTo>
                <a:lnTo>
                  <a:pt x="624" y="140"/>
                </a:lnTo>
                <a:lnTo>
                  <a:pt x="593" y="144"/>
                </a:lnTo>
                <a:lnTo>
                  <a:pt x="564" y="150"/>
                </a:lnTo>
                <a:lnTo>
                  <a:pt x="535" y="158"/>
                </a:lnTo>
                <a:lnTo>
                  <a:pt x="507" y="166"/>
                </a:lnTo>
                <a:lnTo>
                  <a:pt x="480" y="176"/>
                </a:lnTo>
                <a:lnTo>
                  <a:pt x="385" y="59"/>
                </a:lnTo>
                <a:lnTo>
                  <a:pt x="423" y="46"/>
                </a:lnTo>
                <a:lnTo>
                  <a:pt x="463" y="34"/>
                </a:lnTo>
                <a:lnTo>
                  <a:pt x="504" y="24"/>
                </a:lnTo>
                <a:lnTo>
                  <a:pt x="544" y="15"/>
                </a:lnTo>
                <a:lnTo>
                  <a:pt x="587" y="9"/>
                </a:lnTo>
                <a:lnTo>
                  <a:pt x="629" y="4"/>
                </a:lnTo>
                <a:lnTo>
                  <a:pt x="673" y="1"/>
                </a:lnTo>
                <a:lnTo>
                  <a:pt x="716" y="0"/>
                </a:lnTo>
                <a:lnTo>
                  <a:pt x="750" y="1"/>
                </a:lnTo>
                <a:lnTo>
                  <a:pt x="785" y="2"/>
                </a:lnTo>
                <a:lnTo>
                  <a:pt x="819" y="6"/>
                </a:lnTo>
                <a:lnTo>
                  <a:pt x="852" y="9"/>
                </a:lnTo>
                <a:lnTo>
                  <a:pt x="917" y="21"/>
                </a:lnTo>
                <a:lnTo>
                  <a:pt x="979" y="36"/>
                </a:lnTo>
                <a:lnTo>
                  <a:pt x="1038" y="56"/>
                </a:lnTo>
                <a:lnTo>
                  <a:pt x="1094" y="80"/>
                </a:lnTo>
                <a:lnTo>
                  <a:pt x="1146" y="106"/>
                </a:lnTo>
                <a:lnTo>
                  <a:pt x="1171" y="120"/>
                </a:lnTo>
                <a:lnTo>
                  <a:pt x="1194" y="136"/>
                </a:lnTo>
                <a:lnTo>
                  <a:pt x="1217" y="152"/>
                </a:lnTo>
                <a:lnTo>
                  <a:pt x="1238" y="169"/>
                </a:lnTo>
                <a:lnTo>
                  <a:pt x="1258" y="186"/>
                </a:lnTo>
                <a:lnTo>
                  <a:pt x="1277" y="204"/>
                </a:lnTo>
                <a:lnTo>
                  <a:pt x="1294" y="224"/>
                </a:lnTo>
                <a:lnTo>
                  <a:pt x="1311" y="243"/>
                </a:lnTo>
                <a:lnTo>
                  <a:pt x="1326" y="262"/>
                </a:lnTo>
                <a:lnTo>
                  <a:pt x="1339" y="283"/>
                </a:lnTo>
                <a:lnTo>
                  <a:pt x="1352" y="304"/>
                </a:lnTo>
                <a:lnTo>
                  <a:pt x="1362" y="326"/>
                </a:lnTo>
                <a:lnTo>
                  <a:pt x="1372" y="347"/>
                </a:lnTo>
                <a:lnTo>
                  <a:pt x="1379" y="370"/>
                </a:lnTo>
                <a:lnTo>
                  <a:pt x="1385" y="393"/>
                </a:lnTo>
                <a:lnTo>
                  <a:pt x="1389" y="416"/>
                </a:lnTo>
                <a:lnTo>
                  <a:pt x="1391" y="439"/>
                </a:lnTo>
                <a:lnTo>
                  <a:pt x="1392" y="463"/>
                </a:lnTo>
                <a:lnTo>
                  <a:pt x="1391" y="487"/>
                </a:lnTo>
                <a:lnTo>
                  <a:pt x="1389" y="511"/>
                </a:lnTo>
                <a:lnTo>
                  <a:pt x="1385" y="534"/>
                </a:lnTo>
                <a:lnTo>
                  <a:pt x="1379" y="556"/>
                </a:lnTo>
                <a:lnTo>
                  <a:pt x="1372" y="579"/>
                </a:lnTo>
                <a:lnTo>
                  <a:pt x="1362" y="600"/>
                </a:lnTo>
                <a:lnTo>
                  <a:pt x="1352" y="622"/>
                </a:lnTo>
                <a:lnTo>
                  <a:pt x="1339" y="644"/>
                </a:lnTo>
                <a:lnTo>
                  <a:pt x="1326" y="664"/>
                </a:lnTo>
                <a:lnTo>
                  <a:pt x="1311" y="683"/>
                </a:lnTo>
                <a:lnTo>
                  <a:pt x="1294" y="703"/>
                </a:lnTo>
                <a:lnTo>
                  <a:pt x="1277" y="722"/>
                </a:lnTo>
                <a:lnTo>
                  <a:pt x="1258" y="740"/>
                </a:lnTo>
                <a:lnTo>
                  <a:pt x="1238" y="757"/>
                </a:lnTo>
                <a:lnTo>
                  <a:pt x="1217" y="774"/>
                </a:lnTo>
                <a:lnTo>
                  <a:pt x="1194" y="790"/>
                </a:lnTo>
                <a:lnTo>
                  <a:pt x="1171" y="806"/>
                </a:lnTo>
                <a:lnTo>
                  <a:pt x="1146" y="821"/>
                </a:lnTo>
                <a:lnTo>
                  <a:pt x="1094" y="847"/>
                </a:lnTo>
                <a:lnTo>
                  <a:pt x="1038" y="871"/>
                </a:lnTo>
                <a:lnTo>
                  <a:pt x="979" y="890"/>
                </a:lnTo>
                <a:lnTo>
                  <a:pt x="917" y="906"/>
                </a:lnTo>
                <a:lnTo>
                  <a:pt x="852" y="917"/>
                </a:lnTo>
                <a:lnTo>
                  <a:pt x="819" y="921"/>
                </a:lnTo>
                <a:lnTo>
                  <a:pt x="785" y="924"/>
                </a:lnTo>
                <a:lnTo>
                  <a:pt x="750" y="925"/>
                </a:lnTo>
                <a:lnTo>
                  <a:pt x="716" y="926"/>
                </a:lnTo>
                <a:lnTo>
                  <a:pt x="681" y="925"/>
                </a:lnTo>
                <a:lnTo>
                  <a:pt x="647" y="924"/>
                </a:lnTo>
                <a:lnTo>
                  <a:pt x="612" y="921"/>
                </a:lnTo>
                <a:lnTo>
                  <a:pt x="579" y="917"/>
                </a:lnTo>
                <a:lnTo>
                  <a:pt x="514" y="906"/>
                </a:lnTo>
                <a:lnTo>
                  <a:pt x="452" y="890"/>
                </a:lnTo>
                <a:lnTo>
                  <a:pt x="393" y="871"/>
                </a:lnTo>
                <a:lnTo>
                  <a:pt x="338" y="847"/>
                </a:lnTo>
                <a:lnTo>
                  <a:pt x="285" y="821"/>
                </a:lnTo>
                <a:lnTo>
                  <a:pt x="260" y="806"/>
                </a:lnTo>
                <a:lnTo>
                  <a:pt x="237" y="790"/>
                </a:lnTo>
                <a:lnTo>
                  <a:pt x="214" y="774"/>
                </a:lnTo>
                <a:lnTo>
                  <a:pt x="193" y="757"/>
                </a:lnTo>
                <a:lnTo>
                  <a:pt x="174" y="740"/>
                </a:lnTo>
                <a:lnTo>
                  <a:pt x="155" y="722"/>
                </a:lnTo>
                <a:lnTo>
                  <a:pt x="137" y="703"/>
                </a:lnTo>
                <a:lnTo>
                  <a:pt x="120" y="683"/>
                </a:lnTo>
                <a:lnTo>
                  <a:pt x="106" y="664"/>
                </a:lnTo>
                <a:lnTo>
                  <a:pt x="92" y="644"/>
                </a:lnTo>
                <a:lnTo>
                  <a:pt x="80" y="622"/>
                </a:lnTo>
                <a:lnTo>
                  <a:pt x="69" y="600"/>
                </a:lnTo>
                <a:lnTo>
                  <a:pt x="60" y="579"/>
                </a:lnTo>
                <a:lnTo>
                  <a:pt x="52" y="556"/>
                </a:lnTo>
                <a:lnTo>
                  <a:pt x="46" y="534"/>
                </a:lnTo>
                <a:lnTo>
                  <a:pt x="42" y="511"/>
                </a:lnTo>
                <a:lnTo>
                  <a:pt x="40" y="487"/>
                </a:lnTo>
                <a:lnTo>
                  <a:pt x="39" y="463"/>
                </a:lnTo>
                <a:lnTo>
                  <a:pt x="41" y="430"/>
                </a:lnTo>
                <a:lnTo>
                  <a:pt x="46" y="398"/>
                </a:lnTo>
                <a:lnTo>
                  <a:pt x="54" y="366"/>
                </a:lnTo>
                <a:lnTo>
                  <a:pt x="66" y="335"/>
                </a:lnTo>
                <a:lnTo>
                  <a:pt x="81" y="303"/>
                </a:lnTo>
                <a:lnTo>
                  <a:pt x="98" y="274"/>
                </a:lnTo>
                <a:lnTo>
                  <a:pt x="119" y="244"/>
                </a:lnTo>
                <a:lnTo>
                  <a:pt x="143" y="216"/>
                </a:lnTo>
                <a:lnTo>
                  <a:pt x="0" y="155"/>
                </a:lnTo>
                <a:lnTo>
                  <a:pt x="368" y="98"/>
                </a:lnTo>
                <a:lnTo>
                  <a:pt x="451" y="349"/>
                </a:lnTo>
                <a:lnTo>
                  <a:pt x="308" y="287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68640" y="2943360"/>
            <a:ext cx="4059360" cy="2593800"/>
          </a:xfrm>
          <a:custGeom>
            <a:avLst/>
            <a:gdLst/>
            <a:ahLst/>
            <a:rect l="l" t="t" r="r" b="b"/>
            <a:pathLst>
              <a:path w="2557" h="1634">
                <a:moveTo>
                  <a:pt x="514" y="370"/>
                </a:moveTo>
                <a:lnTo>
                  <a:pt x="483" y="394"/>
                </a:lnTo>
                <a:lnTo>
                  <a:pt x="452" y="417"/>
                </a:lnTo>
                <a:lnTo>
                  <a:pt x="424" y="442"/>
                </a:lnTo>
                <a:lnTo>
                  <a:pt x="398" y="469"/>
                </a:lnTo>
                <a:lnTo>
                  <a:pt x="374" y="495"/>
                </a:lnTo>
                <a:lnTo>
                  <a:pt x="351" y="522"/>
                </a:lnTo>
                <a:lnTo>
                  <a:pt x="331" y="549"/>
                </a:lnTo>
                <a:lnTo>
                  <a:pt x="312" y="577"/>
                </a:lnTo>
                <a:lnTo>
                  <a:pt x="297" y="606"/>
                </a:lnTo>
                <a:lnTo>
                  <a:pt x="282" y="635"/>
                </a:lnTo>
                <a:lnTo>
                  <a:pt x="271" y="665"/>
                </a:lnTo>
                <a:lnTo>
                  <a:pt x="260" y="694"/>
                </a:lnTo>
                <a:lnTo>
                  <a:pt x="253" y="725"/>
                </a:lnTo>
                <a:lnTo>
                  <a:pt x="247" y="756"/>
                </a:lnTo>
                <a:lnTo>
                  <a:pt x="244" y="786"/>
                </a:lnTo>
                <a:lnTo>
                  <a:pt x="243" y="817"/>
                </a:lnTo>
                <a:lnTo>
                  <a:pt x="244" y="851"/>
                </a:lnTo>
                <a:lnTo>
                  <a:pt x="248" y="885"/>
                </a:lnTo>
                <a:lnTo>
                  <a:pt x="254" y="918"/>
                </a:lnTo>
                <a:lnTo>
                  <a:pt x="263" y="951"/>
                </a:lnTo>
                <a:lnTo>
                  <a:pt x="275" y="983"/>
                </a:lnTo>
                <a:lnTo>
                  <a:pt x="290" y="1013"/>
                </a:lnTo>
                <a:lnTo>
                  <a:pt x="305" y="1045"/>
                </a:lnTo>
                <a:lnTo>
                  <a:pt x="324" y="1075"/>
                </a:lnTo>
                <a:lnTo>
                  <a:pt x="345" y="1104"/>
                </a:lnTo>
                <a:lnTo>
                  <a:pt x="368" y="1132"/>
                </a:lnTo>
                <a:lnTo>
                  <a:pt x="393" y="1161"/>
                </a:lnTo>
                <a:lnTo>
                  <a:pt x="419" y="1187"/>
                </a:lnTo>
                <a:lnTo>
                  <a:pt x="448" y="1213"/>
                </a:lnTo>
                <a:lnTo>
                  <a:pt x="480" y="1238"/>
                </a:lnTo>
                <a:lnTo>
                  <a:pt x="512" y="1262"/>
                </a:lnTo>
                <a:lnTo>
                  <a:pt x="546" y="1286"/>
                </a:lnTo>
                <a:lnTo>
                  <a:pt x="582" y="1307"/>
                </a:lnTo>
                <a:lnTo>
                  <a:pt x="620" y="1329"/>
                </a:lnTo>
                <a:lnTo>
                  <a:pt x="658" y="1348"/>
                </a:lnTo>
                <a:lnTo>
                  <a:pt x="699" y="1366"/>
                </a:lnTo>
                <a:lnTo>
                  <a:pt x="742" y="1383"/>
                </a:lnTo>
                <a:lnTo>
                  <a:pt x="785" y="1399"/>
                </a:lnTo>
                <a:lnTo>
                  <a:pt x="830" y="1414"/>
                </a:lnTo>
                <a:lnTo>
                  <a:pt x="875" y="1427"/>
                </a:lnTo>
                <a:lnTo>
                  <a:pt x="922" y="1440"/>
                </a:lnTo>
                <a:lnTo>
                  <a:pt x="971" y="1450"/>
                </a:lnTo>
                <a:lnTo>
                  <a:pt x="1020" y="1459"/>
                </a:lnTo>
                <a:lnTo>
                  <a:pt x="1070" y="1466"/>
                </a:lnTo>
                <a:lnTo>
                  <a:pt x="1121" y="1472"/>
                </a:lnTo>
                <a:lnTo>
                  <a:pt x="1173" y="1476"/>
                </a:lnTo>
                <a:lnTo>
                  <a:pt x="1225" y="1479"/>
                </a:lnTo>
                <a:lnTo>
                  <a:pt x="1279" y="1480"/>
                </a:lnTo>
                <a:lnTo>
                  <a:pt x="1332" y="1479"/>
                </a:lnTo>
                <a:lnTo>
                  <a:pt x="1384" y="1476"/>
                </a:lnTo>
                <a:lnTo>
                  <a:pt x="1436" y="1472"/>
                </a:lnTo>
                <a:lnTo>
                  <a:pt x="1488" y="1466"/>
                </a:lnTo>
                <a:lnTo>
                  <a:pt x="1538" y="1459"/>
                </a:lnTo>
                <a:lnTo>
                  <a:pt x="1587" y="1450"/>
                </a:lnTo>
                <a:lnTo>
                  <a:pt x="1635" y="1440"/>
                </a:lnTo>
                <a:lnTo>
                  <a:pt x="1682" y="1427"/>
                </a:lnTo>
                <a:lnTo>
                  <a:pt x="1728" y="1414"/>
                </a:lnTo>
                <a:lnTo>
                  <a:pt x="1773" y="1399"/>
                </a:lnTo>
                <a:lnTo>
                  <a:pt x="1815" y="1383"/>
                </a:lnTo>
                <a:lnTo>
                  <a:pt x="1858" y="1366"/>
                </a:lnTo>
                <a:lnTo>
                  <a:pt x="1899" y="1348"/>
                </a:lnTo>
                <a:lnTo>
                  <a:pt x="1938" y="1329"/>
                </a:lnTo>
                <a:lnTo>
                  <a:pt x="1975" y="1307"/>
                </a:lnTo>
                <a:lnTo>
                  <a:pt x="2012" y="1286"/>
                </a:lnTo>
                <a:lnTo>
                  <a:pt x="2045" y="1262"/>
                </a:lnTo>
                <a:lnTo>
                  <a:pt x="2079" y="1238"/>
                </a:lnTo>
                <a:lnTo>
                  <a:pt x="2109" y="1213"/>
                </a:lnTo>
                <a:lnTo>
                  <a:pt x="2138" y="1187"/>
                </a:lnTo>
                <a:lnTo>
                  <a:pt x="2164" y="1161"/>
                </a:lnTo>
                <a:lnTo>
                  <a:pt x="2189" y="1132"/>
                </a:lnTo>
                <a:lnTo>
                  <a:pt x="2212" y="1104"/>
                </a:lnTo>
                <a:lnTo>
                  <a:pt x="2233" y="1075"/>
                </a:lnTo>
                <a:lnTo>
                  <a:pt x="2252" y="1045"/>
                </a:lnTo>
                <a:lnTo>
                  <a:pt x="2268" y="1013"/>
                </a:lnTo>
                <a:lnTo>
                  <a:pt x="2282" y="983"/>
                </a:lnTo>
                <a:lnTo>
                  <a:pt x="2294" y="951"/>
                </a:lnTo>
                <a:lnTo>
                  <a:pt x="2303" y="918"/>
                </a:lnTo>
                <a:lnTo>
                  <a:pt x="2310" y="885"/>
                </a:lnTo>
                <a:lnTo>
                  <a:pt x="2314" y="851"/>
                </a:lnTo>
                <a:lnTo>
                  <a:pt x="2315" y="817"/>
                </a:lnTo>
                <a:lnTo>
                  <a:pt x="2314" y="783"/>
                </a:lnTo>
                <a:lnTo>
                  <a:pt x="2310" y="749"/>
                </a:lnTo>
                <a:lnTo>
                  <a:pt x="2303" y="716"/>
                </a:lnTo>
                <a:lnTo>
                  <a:pt x="2294" y="683"/>
                </a:lnTo>
                <a:lnTo>
                  <a:pt x="2282" y="651"/>
                </a:lnTo>
                <a:lnTo>
                  <a:pt x="2268" y="621"/>
                </a:lnTo>
                <a:lnTo>
                  <a:pt x="2252" y="589"/>
                </a:lnTo>
                <a:lnTo>
                  <a:pt x="2233" y="559"/>
                </a:lnTo>
                <a:lnTo>
                  <a:pt x="2212" y="530"/>
                </a:lnTo>
                <a:lnTo>
                  <a:pt x="2189" y="501"/>
                </a:lnTo>
                <a:lnTo>
                  <a:pt x="2164" y="473"/>
                </a:lnTo>
                <a:lnTo>
                  <a:pt x="2138" y="447"/>
                </a:lnTo>
                <a:lnTo>
                  <a:pt x="2109" y="421"/>
                </a:lnTo>
                <a:lnTo>
                  <a:pt x="2079" y="396"/>
                </a:lnTo>
                <a:lnTo>
                  <a:pt x="2045" y="372"/>
                </a:lnTo>
                <a:lnTo>
                  <a:pt x="2012" y="348"/>
                </a:lnTo>
                <a:lnTo>
                  <a:pt x="1975" y="327"/>
                </a:lnTo>
                <a:lnTo>
                  <a:pt x="1938" y="306"/>
                </a:lnTo>
                <a:lnTo>
                  <a:pt x="1899" y="286"/>
                </a:lnTo>
                <a:lnTo>
                  <a:pt x="1858" y="268"/>
                </a:lnTo>
                <a:lnTo>
                  <a:pt x="1815" y="251"/>
                </a:lnTo>
                <a:lnTo>
                  <a:pt x="1773" y="235"/>
                </a:lnTo>
                <a:lnTo>
                  <a:pt x="1728" y="220"/>
                </a:lnTo>
                <a:lnTo>
                  <a:pt x="1682" y="206"/>
                </a:lnTo>
                <a:lnTo>
                  <a:pt x="1635" y="195"/>
                </a:lnTo>
                <a:lnTo>
                  <a:pt x="1587" y="184"/>
                </a:lnTo>
                <a:lnTo>
                  <a:pt x="1538" y="175"/>
                </a:lnTo>
                <a:lnTo>
                  <a:pt x="1488" y="168"/>
                </a:lnTo>
                <a:lnTo>
                  <a:pt x="1436" y="162"/>
                </a:lnTo>
                <a:lnTo>
                  <a:pt x="1384" y="158"/>
                </a:lnTo>
                <a:lnTo>
                  <a:pt x="1332" y="155"/>
                </a:lnTo>
                <a:lnTo>
                  <a:pt x="1279" y="154"/>
                </a:lnTo>
                <a:lnTo>
                  <a:pt x="1220" y="155"/>
                </a:lnTo>
                <a:lnTo>
                  <a:pt x="1162" y="159"/>
                </a:lnTo>
                <a:lnTo>
                  <a:pt x="1104" y="163"/>
                </a:lnTo>
                <a:lnTo>
                  <a:pt x="1047" y="171"/>
                </a:lnTo>
                <a:lnTo>
                  <a:pt x="990" y="180"/>
                </a:lnTo>
                <a:lnTo>
                  <a:pt x="935" y="192"/>
                </a:lnTo>
                <a:lnTo>
                  <a:pt x="880" y="205"/>
                </a:lnTo>
                <a:lnTo>
                  <a:pt x="826" y="221"/>
                </a:lnTo>
                <a:lnTo>
                  <a:pt x="721" y="82"/>
                </a:lnTo>
                <a:lnTo>
                  <a:pt x="787" y="62"/>
                </a:lnTo>
                <a:lnTo>
                  <a:pt x="854" y="46"/>
                </a:lnTo>
                <a:lnTo>
                  <a:pt x="922" y="33"/>
                </a:lnTo>
                <a:lnTo>
                  <a:pt x="992" y="20"/>
                </a:lnTo>
                <a:lnTo>
                  <a:pt x="1063" y="11"/>
                </a:lnTo>
                <a:lnTo>
                  <a:pt x="1134" y="6"/>
                </a:lnTo>
                <a:lnTo>
                  <a:pt x="1207" y="1"/>
                </a:lnTo>
                <a:lnTo>
                  <a:pt x="1279" y="0"/>
                </a:lnTo>
                <a:lnTo>
                  <a:pt x="1344" y="1"/>
                </a:lnTo>
                <a:lnTo>
                  <a:pt x="1409" y="4"/>
                </a:lnTo>
                <a:lnTo>
                  <a:pt x="1473" y="9"/>
                </a:lnTo>
                <a:lnTo>
                  <a:pt x="1537" y="17"/>
                </a:lnTo>
                <a:lnTo>
                  <a:pt x="1598" y="26"/>
                </a:lnTo>
                <a:lnTo>
                  <a:pt x="1659" y="36"/>
                </a:lnTo>
                <a:lnTo>
                  <a:pt x="1718" y="50"/>
                </a:lnTo>
                <a:lnTo>
                  <a:pt x="1776" y="65"/>
                </a:lnTo>
                <a:lnTo>
                  <a:pt x="1833" y="80"/>
                </a:lnTo>
                <a:lnTo>
                  <a:pt x="1888" y="99"/>
                </a:lnTo>
                <a:lnTo>
                  <a:pt x="1942" y="118"/>
                </a:lnTo>
                <a:lnTo>
                  <a:pt x="1993" y="139"/>
                </a:lnTo>
                <a:lnTo>
                  <a:pt x="2043" y="162"/>
                </a:lnTo>
                <a:lnTo>
                  <a:pt x="2092" y="186"/>
                </a:lnTo>
                <a:lnTo>
                  <a:pt x="2138" y="212"/>
                </a:lnTo>
                <a:lnTo>
                  <a:pt x="2183" y="239"/>
                </a:lnTo>
                <a:lnTo>
                  <a:pt x="2225" y="268"/>
                </a:lnTo>
                <a:lnTo>
                  <a:pt x="2266" y="297"/>
                </a:lnTo>
                <a:lnTo>
                  <a:pt x="2303" y="328"/>
                </a:lnTo>
                <a:lnTo>
                  <a:pt x="2339" y="360"/>
                </a:lnTo>
                <a:lnTo>
                  <a:pt x="2372" y="394"/>
                </a:lnTo>
                <a:lnTo>
                  <a:pt x="2402" y="428"/>
                </a:lnTo>
                <a:lnTo>
                  <a:pt x="2431" y="463"/>
                </a:lnTo>
                <a:lnTo>
                  <a:pt x="2457" y="499"/>
                </a:lnTo>
                <a:lnTo>
                  <a:pt x="2480" y="536"/>
                </a:lnTo>
                <a:lnTo>
                  <a:pt x="2500" y="574"/>
                </a:lnTo>
                <a:lnTo>
                  <a:pt x="2516" y="613"/>
                </a:lnTo>
                <a:lnTo>
                  <a:pt x="2531" y="652"/>
                </a:lnTo>
                <a:lnTo>
                  <a:pt x="2542" y="692"/>
                </a:lnTo>
                <a:lnTo>
                  <a:pt x="2551" y="733"/>
                </a:lnTo>
                <a:lnTo>
                  <a:pt x="2555" y="775"/>
                </a:lnTo>
                <a:lnTo>
                  <a:pt x="2557" y="817"/>
                </a:lnTo>
                <a:lnTo>
                  <a:pt x="2555" y="859"/>
                </a:lnTo>
                <a:lnTo>
                  <a:pt x="2551" y="901"/>
                </a:lnTo>
                <a:lnTo>
                  <a:pt x="2542" y="942"/>
                </a:lnTo>
                <a:lnTo>
                  <a:pt x="2531" y="981"/>
                </a:lnTo>
                <a:lnTo>
                  <a:pt x="2516" y="1021"/>
                </a:lnTo>
                <a:lnTo>
                  <a:pt x="2500" y="1060"/>
                </a:lnTo>
                <a:lnTo>
                  <a:pt x="2480" y="1098"/>
                </a:lnTo>
                <a:lnTo>
                  <a:pt x="2457" y="1135"/>
                </a:lnTo>
                <a:lnTo>
                  <a:pt x="2431" y="1171"/>
                </a:lnTo>
                <a:lnTo>
                  <a:pt x="2402" y="1206"/>
                </a:lnTo>
                <a:lnTo>
                  <a:pt x="2372" y="1241"/>
                </a:lnTo>
                <a:lnTo>
                  <a:pt x="2339" y="1274"/>
                </a:lnTo>
                <a:lnTo>
                  <a:pt x="2303" y="1306"/>
                </a:lnTo>
                <a:lnTo>
                  <a:pt x="2266" y="1337"/>
                </a:lnTo>
                <a:lnTo>
                  <a:pt x="2225" y="1366"/>
                </a:lnTo>
                <a:lnTo>
                  <a:pt x="2183" y="1395"/>
                </a:lnTo>
                <a:lnTo>
                  <a:pt x="2138" y="1422"/>
                </a:lnTo>
                <a:lnTo>
                  <a:pt x="2092" y="1448"/>
                </a:lnTo>
                <a:lnTo>
                  <a:pt x="2043" y="1472"/>
                </a:lnTo>
                <a:lnTo>
                  <a:pt x="1993" y="1494"/>
                </a:lnTo>
                <a:lnTo>
                  <a:pt x="1942" y="1516"/>
                </a:lnTo>
                <a:lnTo>
                  <a:pt x="1888" y="1535"/>
                </a:lnTo>
                <a:lnTo>
                  <a:pt x="1833" y="1553"/>
                </a:lnTo>
                <a:lnTo>
                  <a:pt x="1776" y="1570"/>
                </a:lnTo>
                <a:lnTo>
                  <a:pt x="1718" y="1584"/>
                </a:lnTo>
                <a:lnTo>
                  <a:pt x="1659" y="1598"/>
                </a:lnTo>
                <a:lnTo>
                  <a:pt x="1598" y="1608"/>
                </a:lnTo>
                <a:lnTo>
                  <a:pt x="1537" y="1617"/>
                </a:lnTo>
                <a:lnTo>
                  <a:pt x="1473" y="1625"/>
                </a:lnTo>
                <a:lnTo>
                  <a:pt x="1409" y="1629"/>
                </a:lnTo>
                <a:lnTo>
                  <a:pt x="1344" y="1633"/>
                </a:lnTo>
                <a:lnTo>
                  <a:pt x="1279" y="1634"/>
                </a:lnTo>
                <a:lnTo>
                  <a:pt x="1213" y="1633"/>
                </a:lnTo>
                <a:lnTo>
                  <a:pt x="1148" y="1629"/>
                </a:lnTo>
                <a:lnTo>
                  <a:pt x="1084" y="1625"/>
                </a:lnTo>
                <a:lnTo>
                  <a:pt x="1021" y="1617"/>
                </a:lnTo>
                <a:lnTo>
                  <a:pt x="959" y="1608"/>
                </a:lnTo>
                <a:lnTo>
                  <a:pt x="898" y="1598"/>
                </a:lnTo>
                <a:lnTo>
                  <a:pt x="839" y="1584"/>
                </a:lnTo>
                <a:lnTo>
                  <a:pt x="781" y="1570"/>
                </a:lnTo>
                <a:lnTo>
                  <a:pt x="724" y="1553"/>
                </a:lnTo>
                <a:lnTo>
                  <a:pt x="670" y="1535"/>
                </a:lnTo>
                <a:lnTo>
                  <a:pt x="615" y="1516"/>
                </a:lnTo>
                <a:lnTo>
                  <a:pt x="564" y="1494"/>
                </a:lnTo>
                <a:lnTo>
                  <a:pt x="514" y="1472"/>
                </a:lnTo>
                <a:lnTo>
                  <a:pt x="465" y="1448"/>
                </a:lnTo>
                <a:lnTo>
                  <a:pt x="419" y="1422"/>
                </a:lnTo>
                <a:lnTo>
                  <a:pt x="375" y="1395"/>
                </a:lnTo>
                <a:lnTo>
                  <a:pt x="332" y="1366"/>
                </a:lnTo>
                <a:lnTo>
                  <a:pt x="293" y="1337"/>
                </a:lnTo>
                <a:lnTo>
                  <a:pt x="254" y="1306"/>
                </a:lnTo>
                <a:lnTo>
                  <a:pt x="218" y="1274"/>
                </a:lnTo>
                <a:lnTo>
                  <a:pt x="185" y="1241"/>
                </a:lnTo>
                <a:lnTo>
                  <a:pt x="155" y="1206"/>
                </a:lnTo>
                <a:lnTo>
                  <a:pt x="127" y="1171"/>
                </a:lnTo>
                <a:lnTo>
                  <a:pt x="100" y="1135"/>
                </a:lnTo>
                <a:lnTo>
                  <a:pt x="77" y="1098"/>
                </a:lnTo>
                <a:lnTo>
                  <a:pt x="58" y="1060"/>
                </a:lnTo>
                <a:lnTo>
                  <a:pt x="41" y="1021"/>
                </a:lnTo>
                <a:lnTo>
                  <a:pt x="26" y="981"/>
                </a:lnTo>
                <a:lnTo>
                  <a:pt x="15" y="942"/>
                </a:lnTo>
                <a:lnTo>
                  <a:pt x="6" y="901"/>
                </a:lnTo>
                <a:lnTo>
                  <a:pt x="2" y="859"/>
                </a:lnTo>
                <a:lnTo>
                  <a:pt x="0" y="817"/>
                </a:lnTo>
                <a:lnTo>
                  <a:pt x="1" y="778"/>
                </a:lnTo>
                <a:lnTo>
                  <a:pt x="5" y="741"/>
                </a:lnTo>
                <a:lnTo>
                  <a:pt x="13" y="703"/>
                </a:lnTo>
                <a:lnTo>
                  <a:pt x="22" y="666"/>
                </a:lnTo>
                <a:lnTo>
                  <a:pt x="35" y="629"/>
                </a:lnTo>
                <a:lnTo>
                  <a:pt x="49" y="592"/>
                </a:lnTo>
                <a:lnTo>
                  <a:pt x="67" y="557"/>
                </a:lnTo>
                <a:lnTo>
                  <a:pt x="87" y="521"/>
                </a:lnTo>
                <a:lnTo>
                  <a:pt x="110" y="487"/>
                </a:lnTo>
                <a:lnTo>
                  <a:pt x="134" y="453"/>
                </a:lnTo>
                <a:lnTo>
                  <a:pt x="162" y="419"/>
                </a:lnTo>
                <a:lnTo>
                  <a:pt x="192" y="387"/>
                </a:lnTo>
                <a:lnTo>
                  <a:pt x="225" y="355"/>
                </a:lnTo>
                <a:lnTo>
                  <a:pt x="259" y="324"/>
                </a:lnTo>
                <a:lnTo>
                  <a:pt x="296" y="294"/>
                </a:lnTo>
                <a:lnTo>
                  <a:pt x="335" y="265"/>
                </a:lnTo>
                <a:lnTo>
                  <a:pt x="99" y="127"/>
                </a:lnTo>
                <a:lnTo>
                  <a:pt x="722" y="110"/>
                </a:lnTo>
                <a:lnTo>
                  <a:pt x="750" y="508"/>
                </a:lnTo>
                <a:lnTo>
                  <a:pt x="514" y="37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74880" y="2251080"/>
            <a:ext cx="6367320" cy="4064040"/>
          </a:xfrm>
          <a:custGeom>
            <a:avLst/>
            <a:gdLst/>
            <a:ahLst/>
            <a:rect l="l" t="t" r="r" b="b"/>
            <a:pathLst>
              <a:path w="4011" h="2560">
                <a:moveTo>
                  <a:pt x="986" y="414"/>
                </a:moveTo>
                <a:lnTo>
                  <a:pt x="946" y="434"/>
                </a:lnTo>
                <a:lnTo>
                  <a:pt x="908" y="454"/>
                </a:lnTo>
                <a:lnTo>
                  <a:pt x="871" y="474"/>
                </a:lnTo>
                <a:lnTo>
                  <a:pt x="835" y="496"/>
                </a:lnTo>
                <a:lnTo>
                  <a:pt x="799" y="519"/>
                </a:lnTo>
                <a:lnTo>
                  <a:pt x="765" y="541"/>
                </a:lnTo>
                <a:lnTo>
                  <a:pt x="732" y="564"/>
                </a:lnTo>
                <a:lnTo>
                  <a:pt x="700" y="588"/>
                </a:lnTo>
                <a:lnTo>
                  <a:pt x="670" y="612"/>
                </a:lnTo>
                <a:lnTo>
                  <a:pt x="639" y="637"/>
                </a:lnTo>
                <a:lnTo>
                  <a:pt x="611" y="663"/>
                </a:lnTo>
                <a:lnTo>
                  <a:pt x="584" y="688"/>
                </a:lnTo>
                <a:lnTo>
                  <a:pt x="558" y="715"/>
                </a:lnTo>
                <a:lnTo>
                  <a:pt x="533" y="741"/>
                </a:lnTo>
                <a:lnTo>
                  <a:pt x="510" y="768"/>
                </a:lnTo>
                <a:lnTo>
                  <a:pt x="487" y="797"/>
                </a:lnTo>
                <a:lnTo>
                  <a:pt x="466" y="824"/>
                </a:lnTo>
                <a:lnTo>
                  <a:pt x="446" y="852"/>
                </a:lnTo>
                <a:lnTo>
                  <a:pt x="427" y="882"/>
                </a:lnTo>
                <a:lnTo>
                  <a:pt x="411" y="910"/>
                </a:lnTo>
                <a:lnTo>
                  <a:pt x="394" y="940"/>
                </a:lnTo>
                <a:lnTo>
                  <a:pt x="379" y="969"/>
                </a:lnTo>
                <a:lnTo>
                  <a:pt x="366" y="1000"/>
                </a:lnTo>
                <a:lnTo>
                  <a:pt x="354" y="1031"/>
                </a:lnTo>
                <a:lnTo>
                  <a:pt x="344" y="1060"/>
                </a:lnTo>
                <a:lnTo>
                  <a:pt x="334" y="1092"/>
                </a:lnTo>
                <a:lnTo>
                  <a:pt x="326" y="1122"/>
                </a:lnTo>
                <a:lnTo>
                  <a:pt x="320" y="1153"/>
                </a:lnTo>
                <a:lnTo>
                  <a:pt x="315" y="1185"/>
                </a:lnTo>
                <a:lnTo>
                  <a:pt x="311" y="1217"/>
                </a:lnTo>
                <a:lnTo>
                  <a:pt x="309" y="1248"/>
                </a:lnTo>
                <a:lnTo>
                  <a:pt x="308" y="1280"/>
                </a:lnTo>
                <a:lnTo>
                  <a:pt x="309" y="1309"/>
                </a:lnTo>
                <a:lnTo>
                  <a:pt x="310" y="1336"/>
                </a:lnTo>
                <a:lnTo>
                  <a:pt x="314" y="1363"/>
                </a:lnTo>
                <a:lnTo>
                  <a:pt x="317" y="1391"/>
                </a:lnTo>
                <a:lnTo>
                  <a:pt x="322" y="1419"/>
                </a:lnTo>
                <a:lnTo>
                  <a:pt x="328" y="1445"/>
                </a:lnTo>
                <a:lnTo>
                  <a:pt x="343" y="1498"/>
                </a:lnTo>
                <a:lnTo>
                  <a:pt x="362" y="1551"/>
                </a:lnTo>
                <a:lnTo>
                  <a:pt x="385" y="1602"/>
                </a:lnTo>
                <a:lnTo>
                  <a:pt x="412" y="1652"/>
                </a:lnTo>
                <a:lnTo>
                  <a:pt x="442" y="1702"/>
                </a:lnTo>
                <a:lnTo>
                  <a:pt x="475" y="1750"/>
                </a:lnTo>
                <a:lnTo>
                  <a:pt x="513" y="1797"/>
                </a:lnTo>
                <a:lnTo>
                  <a:pt x="554" y="1842"/>
                </a:lnTo>
                <a:lnTo>
                  <a:pt x="599" y="1886"/>
                </a:lnTo>
                <a:lnTo>
                  <a:pt x="646" y="1928"/>
                </a:lnTo>
                <a:lnTo>
                  <a:pt x="696" y="1969"/>
                </a:lnTo>
                <a:lnTo>
                  <a:pt x="749" y="2009"/>
                </a:lnTo>
                <a:lnTo>
                  <a:pt x="805" y="2046"/>
                </a:lnTo>
                <a:lnTo>
                  <a:pt x="865" y="2082"/>
                </a:lnTo>
                <a:lnTo>
                  <a:pt x="927" y="2117"/>
                </a:lnTo>
                <a:lnTo>
                  <a:pt x="990" y="2148"/>
                </a:lnTo>
                <a:lnTo>
                  <a:pt x="1057" y="2179"/>
                </a:lnTo>
                <a:lnTo>
                  <a:pt x="1126" y="2207"/>
                </a:lnTo>
                <a:lnTo>
                  <a:pt x="1197" y="2233"/>
                </a:lnTo>
                <a:lnTo>
                  <a:pt x="1270" y="2257"/>
                </a:lnTo>
                <a:lnTo>
                  <a:pt x="1345" y="2279"/>
                </a:lnTo>
                <a:lnTo>
                  <a:pt x="1422" y="2298"/>
                </a:lnTo>
                <a:lnTo>
                  <a:pt x="1501" y="2315"/>
                </a:lnTo>
                <a:lnTo>
                  <a:pt x="1582" y="2330"/>
                </a:lnTo>
                <a:lnTo>
                  <a:pt x="1664" y="2342"/>
                </a:lnTo>
                <a:lnTo>
                  <a:pt x="1748" y="2351"/>
                </a:lnTo>
                <a:lnTo>
                  <a:pt x="1832" y="2358"/>
                </a:lnTo>
                <a:lnTo>
                  <a:pt x="1918" y="2363"/>
                </a:lnTo>
                <a:lnTo>
                  <a:pt x="2006" y="2364"/>
                </a:lnTo>
                <a:lnTo>
                  <a:pt x="2093" y="2363"/>
                </a:lnTo>
                <a:lnTo>
                  <a:pt x="2179" y="2358"/>
                </a:lnTo>
                <a:lnTo>
                  <a:pt x="2264" y="2351"/>
                </a:lnTo>
                <a:lnTo>
                  <a:pt x="2347" y="2342"/>
                </a:lnTo>
                <a:lnTo>
                  <a:pt x="2430" y="2330"/>
                </a:lnTo>
                <a:lnTo>
                  <a:pt x="2510" y="2315"/>
                </a:lnTo>
                <a:lnTo>
                  <a:pt x="2589" y="2298"/>
                </a:lnTo>
                <a:lnTo>
                  <a:pt x="2666" y="2279"/>
                </a:lnTo>
                <a:lnTo>
                  <a:pt x="2741" y="2257"/>
                </a:lnTo>
                <a:lnTo>
                  <a:pt x="2814" y="2233"/>
                </a:lnTo>
                <a:lnTo>
                  <a:pt x="2885" y="2207"/>
                </a:lnTo>
                <a:lnTo>
                  <a:pt x="2954" y="2179"/>
                </a:lnTo>
                <a:lnTo>
                  <a:pt x="3021" y="2148"/>
                </a:lnTo>
                <a:lnTo>
                  <a:pt x="3085" y="2117"/>
                </a:lnTo>
                <a:lnTo>
                  <a:pt x="3146" y="2082"/>
                </a:lnTo>
                <a:lnTo>
                  <a:pt x="3206" y="2046"/>
                </a:lnTo>
                <a:lnTo>
                  <a:pt x="3262" y="2009"/>
                </a:lnTo>
                <a:lnTo>
                  <a:pt x="3315" y="1969"/>
                </a:lnTo>
                <a:lnTo>
                  <a:pt x="3365" y="1928"/>
                </a:lnTo>
                <a:lnTo>
                  <a:pt x="3412" y="1886"/>
                </a:lnTo>
                <a:lnTo>
                  <a:pt x="3457" y="1842"/>
                </a:lnTo>
                <a:lnTo>
                  <a:pt x="3498" y="1797"/>
                </a:lnTo>
                <a:lnTo>
                  <a:pt x="3536" y="1750"/>
                </a:lnTo>
                <a:lnTo>
                  <a:pt x="3569" y="1702"/>
                </a:lnTo>
                <a:lnTo>
                  <a:pt x="3599" y="1652"/>
                </a:lnTo>
                <a:lnTo>
                  <a:pt x="3627" y="1602"/>
                </a:lnTo>
                <a:lnTo>
                  <a:pt x="3650" y="1551"/>
                </a:lnTo>
                <a:lnTo>
                  <a:pt x="3668" y="1498"/>
                </a:lnTo>
                <a:lnTo>
                  <a:pt x="3683" y="1445"/>
                </a:lnTo>
                <a:lnTo>
                  <a:pt x="3689" y="1419"/>
                </a:lnTo>
                <a:lnTo>
                  <a:pt x="3694" y="1391"/>
                </a:lnTo>
                <a:lnTo>
                  <a:pt x="3698" y="1363"/>
                </a:lnTo>
                <a:lnTo>
                  <a:pt x="3701" y="1336"/>
                </a:lnTo>
                <a:lnTo>
                  <a:pt x="3703" y="1309"/>
                </a:lnTo>
                <a:lnTo>
                  <a:pt x="3703" y="1280"/>
                </a:lnTo>
                <a:lnTo>
                  <a:pt x="3703" y="1252"/>
                </a:lnTo>
                <a:lnTo>
                  <a:pt x="3701" y="1225"/>
                </a:lnTo>
                <a:lnTo>
                  <a:pt x="3698" y="1197"/>
                </a:lnTo>
                <a:lnTo>
                  <a:pt x="3694" y="1169"/>
                </a:lnTo>
                <a:lnTo>
                  <a:pt x="3689" y="1142"/>
                </a:lnTo>
                <a:lnTo>
                  <a:pt x="3683" y="1116"/>
                </a:lnTo>
                <a:lnTo>
                  <a:pt x="3668" y="1062"/>
                </a:lnTo>
                <a:lnTo>
                  <a:pt x="3650" y="1010"/>
                </a:lnTo>
                <a:lnTo>
                  <a:pt x="3627" y="958"/>
                </a:lnTo>
                <a:lnTo>
                  <a:pt x="3599" y="908"/>
                </a:lnTo>
                <a:lnTo>
                  <a:pt x="3569" y="858"/>
                </a:lnTo>
                <a:lnTo>
                  <a:pt x="3536" y="810"/>
                </a:lnTo>
                <a:lnTo>
                  <a:pt x="3498" y="764"/>
                </a:lnTo>
                <a:lnTo>
                  <a:pt x="3457" y="718"/>
                </a:lnTo>
                <a:lnTo>
                  <a:pt x="3412" y="674"/>
                </a:lnTo>
                <a:lnTo>
                  <a:pt x="3365" y="632"/>
                </a:lnTo>
                <a:lnTo>
                  <a:pt x="3315" y="591"/>
                </a:lnTo>
                <a:lnTo>
                  <a:pt x="3262" y="552"/>
                </a:lnTo>
                <a:lnTo>
                  <a:pt x="3206" y="514"/>
                </a:lnTo>
                <a:lnTo>
                  <a:pt x="3146" y="478"/>
                </a:lnTo>
                <a:lnTo>
                  <a:pt x="3085" y="444"/>
                </a:lnTo>
                <a:lnTo>
                  <a:pt x="3021" y="412"/>
                </a:lnTo>
                <a:lnTo>
                  <a:pt x="2954" y="381"/>
                </a:lnTo>
                <a:lnTo>
                  <a:pt x="2885" y="353"/>
                </a:lnTo>
                <a:lnTo>
                  <a:pt x="2814" y="327"/>
                </a:lnTo>
                <a:lnTo>
                  <a:pt x="2741" y="303"/>
                </a:lnTo>
                <a:lnTo>
                  <a:pt x="2666" y="282"/>
                </a:lnTo>
                <a:lnTo>
                  <a:pt x="2589" y="262"/>
                </a:lnTo>
                <a:lnTo>
                  <a:pt x="2510" y="245"/>
                </a:lnTo>
                <a:lnTo>
                  <a:pt x="2430" y="230"/>
                </a:lnTo>
                <a:lnTo>
                  <a:pt x="2347" y="218"/>
                </a:lnTo>
                <a:lnTo>
                  <a:pt x="2264" y="209"/>
                </a:lnTo>
                <a:lnTo>
                  <a:pt x="2179" y="202"/>
                </a:lnTo>
                <a:lnTo>
                  <a:pt x="2093" y="198"/>
                </a:lnTo>
                <a:lnTo>
                  <a:pt x="2006" y="196"/>
                </a:lnTo>
                <a:lnTo>
                  <a:pt x="1941" y="198"/>
                </a:lnTo>
                <a:lnTo>
                  <a:pt x="1876" y="200"/>
                </a:lnTo>
                <a:lnTo>
                  <a:pt x="1812" y="203"/>
                </a:lnTo>
                <a:lnTo>
                  <a:pt x="1749" y="209"/>
                </a:lnTo>
                <a:lnTo>
                  <a:pt x="1685" y="216"/>
                </a:lnTo>
                <a:lnTo>
                  <a:pt x="1621" y="225"/>
                </a:lnTo>
                <a:lnTo>
                  <a:pt x="1559" y="235"/>
                </a:lnTo>
                <a:lnTo>
                  <a:pt x="1497" y="246"/>
                </a:lnTo>
                <a:lnTo>
                  <a:pt x="1404" y="59"/>
                </a:lnTo>
                <a:lnTo>
                  <a:pt x="1477" y="45"/>
                </a:lnTo>
                <a:lnTo>
                  <a:pt x="1551" y="33"/>
                </a:lnTo>
                <a:lnTo>
                  <a:pt x="1626" y="23"/>
                </a:lnTo>
                <a:lnTo>
                  <a:pt x="1702" y="15"/>
                </a:lnTo>
                <a:lnTo>
                  <a:pt x="1777" y="8"/>
                </a:lnTo>
                <a:lnTo>
                  <a:pt x="1853" y="4"/>
                </a:lnTo>
                <a:lnTo>
                  <a:pt x="1929" y="1"/>
                </a:lnTo>
                <a:lnTo>
                  <a:pt x="2006" y="0"/>
                </a:lnTo>
                <a:lnTo>
                  <a:pt x="2109" y="1"/>
                </a:lnTo>
                <a:lnTo>
                  <a:pt x="2210" y="7"/>
                </a:lnTo>
                <a:lnTo>
                  <a:pt x="2311" y="15"/>
                </a:lnTo>
                <a:lnTo>
                  <a:pt x="2410" y="26"/>
                </a:lnTo>
                <a:lnTo>
                  <a:pt x="2507" y="41"/>
                </a:lnTo>
                <a:lnTo>
                  <a:pt x="2602" y="58"/>
                </a:lnTo>
                <a:lnTo>
                  <a:pt x="2695" y="77"/>
                </a:lnTo>
                <a:lnTo>
                  <a:pt x="2786" y="101"/>
                </a:lnTo>
                <a:lnTo>
                  <a:pt x="2875" y="126"/>
                </a:lnTo>
                <a:lnTo>
                  <a:pt x="2961" y="154"/>
                </a:lnTo>
                <a:lnTo>
                  <a:pt x="3045" y="185"/>
                </a:lnTo>
                <a:lnTo>
                  <a:pt x="3126" y="219"/>
                </a:lnTo>
                <a:lnTo>
                  <a:pt x="3206" y="254"/>
                </a:lnTo>
                <a:lnTo>
                  <a:pt x="3281" y="293"/>
                </a:lnTo>
                <a:lnTo>
                  <a:pt x="3354" y="333"/>
                </a:lnTo>
                <a:lnTo>
                  <a:pt x="3424" y="375"/>
                </a:lnTo>
                <a:lnTo>
                  <a:pt x="3490" y="420"/>
                </a:lnTo>
                <a:lnTo>
                  <a:pt x="3552" y="467"/>
                </a:lnTo>
                <a:lnTo>
                  <a:pt x="3612" y="514"/>
                </a:lnTo>
                <a:lnTo>
                  <a:pt x="3668" y="564"/>
                </a:lnTo>
                <a:lnTo>
                  <a:pt x="3721" y="616"/>
                </a:lnTo>
                <a:lnTo>
                  <a:pt x="3769" y="670"/>
                </a:lnTo>
                <a:lnTo>
                  <a:pt x="3814" y="725"/>
                </a:lnTo>
                <a:lnTo>
                  <a:pt x="3833" y="754"/>
                </a:lnTo>
                <a:lnTo>
                  <a:pt x="3853" y="782"/>
                </a:lnTo>
                <a:lnTo>
                  <a:pt x="3872" y="810"/>
                </a:lnTo>
                <a:lnTo>
                  <a:pt x="3889" y="840"/>
                </a:lnTo>
                <a:lnTo>
                  <a:pt x="3905" y="869"/>
                </a:lnTo>
                <a:lnTo>
                  <a:pt x="3921" y="900"/>
                </a:lnTo>
                <a:lnTo>
                  <a:pt x="3935" y="930"/>
                </a:lnTo>
                <a:lnTo>
                  <a:pt x="3948" y="960"/>
                </a:lnTo>
                <a:lnTo>
                  <a:pt x="3960" y="991"/>
                </a:lnTo>
                <a:lnTo>
                  <a:pt x="3970" y="1023"/>
                </a:lnTo>
                <a:lnTo>
                  <a:pt x="3980" y="1053"/>
                </a:lnTo>
                <a:lnTo>
                  <a:pt x="3988" y="1085"/>
                </a:lnTo>
                <a:lnTo>
                  <a:pt x="3995" y="1117"/>
                </a:lnTo>
                <a:lnTo>
                  <a:pt x="4001" y="1150"/>
                </a:lnTo>
                <a:lnTo>
                  <a:pt x="4005" y="1181"/>
                </a:lnTo>
                <a:lnTo>
                  <a:pt x="4009" y="1214"/>
                </a:lnTo>
                <a:lnTo>
                  <a:pt x="4010" y="1247"/>
                </a:lnTo>
                <a:lnTo>
                  <a:pt x="4011" y="1280"/>
                </a:lnTo>
                <a:lnTo>
                  <a:pt x="4010" y="1313"/>
                </a:lnTo>
                <a:lnTo>
                  <a:pt x="4009" y="1346"/>
                </a:lnTo>
                <a:lnTo>
                  <a:pt x="4005" y="1379"/>
                </a:lnTo>
                <a:lnTo>
                  <a:pt x="4001" y="1411"/>
                </a:lnTo>
                <a:lnTo>
                  <a:pt x="3995" y="1444"/>
                </a:lnTo>
                <a:lnTo>
                  <a:pt x="3988" y="1475"/>
                </a:lnTo>
                <a:lnTo>
                  <a:pt x="3980" y="1507"/>
                </a:lnTo>
                <a:lnTo>
                  <a:pt x="3970" y="1538"/>
                </a:lnTo>
                <a:lnTo>
                  <a:pt x="3960" y="1570"/>
                </a:lnTo>
                <a:lnTo>
                  <a:pt x="3948" y="1600"/>
                </a:lnTo>
                <a:lnTo>
                  <a:pt x="3935" y="1631"/>
                </a:lnTo>
                <a:lnTo>
                  <a:pt x="3921" y="1660"/>
                </a:lnTo>
                <a:lnTo>
                  <a:pt x="3905" y="1691"/>
                </a:lnTo>
                <a:lnTo>
                  <a:pt x="3889" y="1720"/>
                </a:lnTo>
                <a:lnTo>
                  <a:pt x="3872" y="1750"/>
                </a:lnTo>
                <a:lnTo>
                  <a:pt x="3853" y="1778"/>
                </a:lnTo>
                <a:lnTo>
                  <a:pt x="3833" y="1807"/>
                </a:lnTo>
                <a:lnTo>
                  <a:pt x="3814" y="1835"/>
                </a:lnTo>
                <a:lnTo>
                  <a:pt x="3769" y="1891"/>
                </a:lnTo>
                <a:lnTo>
                  <a:pt x="3721" y="1944"/>
                </a:lnTo>
                <a:lnTo>
                  <a:pt x="3668" y="1996"/>
                </a:lnTo>
                <a:lnTo>
                  <a:pt x="3612" y="2046"/>
                </a:lnTo>
                <a:lnTo>
                  <a:pt x="3552" y="2095"/>
                </a:lnTo>
                <a:lnTo>
                  <a:pt x="3490" y="2140"/>
                </a:lnTo>
                <a:lnTo>
                  <a:pt x="3424" y="2186"/>
                </a:lnTo>
                <a:lnTo>
                  <a:pt x="3354" y="2228"/>
                </a:lnTo>
                <a:lnTo>
                  <a:pt x="3281" y="2267"/>
                </a:lnTo>
                <a:lnTo>
                  <a:pt x="3206" y="2306"/>
                </a:lnTo>
                <a:lnTo>
                  <a:pt x="3126" y="2341"/>
                </a:lnTo>
                <a:lnTo>
                  <a:pt x="3045" y="2375"/>
                </a:lnTo>
                <a:lnTo>
                  <a:pt x="2961" y="2406"/>
                </a:lnTo>
                <a:lnTo>
                  <a:pt x="2875" y="2434"/>
                </a:lnTo>
                <a:lnTo>
                  <a:pt x="2786" y="2459"/>
                </a:lnTo>
                <a:lnTo>
                  <a:pt x="2695" y="2483"/>
                </a:lnTo>
                <a:lnTo>
                  <a:pt x="2602" y="2502"/>
                </a:lnTo>
                <a:lnTo>
                  <a:pt x="2507" y="2521"/>
                </a:lnTo>
                <a:lnTo>
                  <a:pt x="2410" y="2534"/>
                </a:lnTo>
                <a:lnTo>
                  <a:pt x="2311" y="2545"/>
                </a:lnTo>
                <a:lnTo>
                  <a:pt x="2210" y="2553"/>
                </a:lnTo>
                <a:lnTo>
                  <a:pt x="2109" y="2559"/>
                </a:lnTo>
                <a:lnTo>
                  <a:pt x="2006" y="2560"/>
                </a:lnTo>
                <a:lnTo>
                  <a:pt x="1902" y="2559"/>
                </a:lnTo>
                <a:lnTo>
                  <a:pt x="1801" y="2553"/>
                </a:lnTo>
                <a:lnTo>
                  <a:pt x="1701" y="2545"/>
                </a:lnTo>
                <a:lnTo>
                  <a:pt x="1601" y="2534"/>
                </a:lnTo>
                <a:lnTo>
                  <a:pt x="1504" y="2521"/>
                </a:lnTo>
                <a:lnTo>
                  <a:pt x="1409" y="2502"/>
                </a:lnTo>
                <a:lnTo>
                  <a:pt x="1316" y="2483"/>
                </a:lnTo>
                <a:lnTo>
                  <a:pt x="1225" y="2459"/>
                </a:lnTo>
                <a:lnTo>
                  <a:pt x="1137" y="2434"/>
                </a:lnTo>
                <a:lnTo>
                  <a:pt x="1050" y="2406"/>
                </a:lnTo>
                <a:lnTo>
                  <a:pt x="966" y="2375"/>
                </a:lnTo>
                <a:lnTo>
                  <a:pt x="885" y="2341"/>
                </a:lnTo>
                <a:lnTo>
                  <a:pt x="805" y="2306"/>
                </a:lnTo>
                <a:lnTo>
                  <a:pt x="730" y="2267"/>
                </a:lnTo>
                <a:lnTo>
                  <a:pt x="657" y="2228"/>
                </a:lnTo>
                <a:lnTo>
                  <a:pt x="588" y="2186"/>
                </a:lnTo>
                <a:lnTo>
                  <a:pt x="521" y="2140"/>
                </a:lnTo>
                <a:lnTo>
                  <a:pt x="459" y="2095"/>
                </a:lnTo>
                <a:lnTo>
                  <a:pt x="399" y="2046"/>
                </a:lnTo>
                <a:lnTo>
                  <a:pt x="343" y="1996"/>
                </a:lnTo>
                <a:lnTo>
                  <a:pt x="291" y="1944"/>
                </a:lnTo>
                <a:lnTo>
                  <a:pt x="242" y="1891"/>
                </a:lnTo>
                <a:lnTo>
                  <a:pt x="198" y="1835"/>
                </a:lnTo>
                <a:lnTo>
                  <a:pt x="178" y="1807"/>
                </a:lnTo>
                <a:lnTo>
                  <a:pt x="158" y="1778"/>
                </a:lnTo>
                <a:lnTo>
                  <a:pt x="139" y="1750"/>
                </a:lnTo>
                <a:lnTo>
                  <a:pt x="122" y="1720"/>
                </a:lnTo>
                <a:lnTo>
                  <a:pt x="106" y="1691"/>
                </a:lnTo>
                <a:lnTo>
                  <a:pt x="90" y="1660"/>
                </a:lnTo>
                <a:lnTo>
                  <a:pt x="76" y="1631"/>
                </a:lnTo>
                <a:lnTo>
                  <a:pt x="64" y="1600"/>
                </a:lnTo>
                <a:lnTo>
                  <a:pt x="51" y="1570"/>
                </a:lnTo>
                <a:lnTo>
                  <a:pt x="41" y="1538"/>
                </a:lnTo>
                <a:lnTo>
                  <a:pt x="32" y="1507"/>
                </a:lnTo>
                <a:lnTo>
                  <a:pt x="23" y="1475"/>
                </a:lnTo>
                <a:lnTo>
                  <a:pt x="16" y="1444"/>
                </a:lnTo>
                <a:lnTo>
                  <a:pt x="11" y="1411"/>
                </a:lnTo>
                <a:lnTo>
                  <a:pt x="6" y="1379"/>
                </a:lnTo>
                <a:lnTo>
                  <a:pt x="3" y="1346"/>
                </a:lnTo>
                <a:lnTo>
                  <a:pt x="1" y="1313"/>
                </a:lnTo>
                <a:lnTo>
                  <a:pt x="0" y="1280"/>
                </a:lnTo>
                <a:lnTo>
                  <a:pt x="1" y="1243"/>
                </a:lnTo>
                <a:lnTo>
                  <a:pt x="3" y="1205"/>
                </a:lnTo>
                <a:lnTo>
                  <a:pt x="7" y="1168"/>
                </a:lnTo>
                <a:lnTo>
                  <a:pt x="14" y="1130"/>
                </a:lnTo>
                <a:lnTo>
                  <a:pt x="22" y="1094"/>
                </a:lnTo>
                <a:lnTo>
                  <a:pt x="30" y="1057"/>
                </a:lnTo>
                <a:lnTo>
                  <a:pt x="42" y="1020"/>
                </a:lnTo>
                <a:lnTo>
                  <a:pt x="54" y="984"/>
                </a:lnTo>
                <a:lnTo>
                  <a:pt x="69" y="949"/>
                </a:lnTo>
                <a:lnTo>
                  <a:pt x="85" y="912"/>
                </a:lnTo>
                <a:lnTo>
                  <a:pt x="101" y="877"/>
                </a:lnTo>
                <a:lnTo>
                  <a:pt x="120" y="843"/>
                </a:lnTo>
                <a:lnTo>
                  <a:pt x="141" y="808"/>
                </a:lnTo>
                <a:lnTo>
                  <a:pt x="163" y="775"/>
                </a:lnTo>
                <a:lnTo>
                  <a:pt x="186" y="741"/>
                </a:lnTo>
                <a:lnTo>
                  <a:pt x="211" y="708"/>
                </a:lnTo>
                <a:lnTo>
                  <a:pt x="238" y="675"/>
                </a:lnTo>
                <a:lnTo>
                  <a:pt x="265" y="644"/>
                </a:lnTo>
                <a:lnTo>
                  <a:pt x="295" y="612"/>
                </a:lnTo>
                <a:lnTo>
                  <a:pt x="326" y="580"/>
                </a:lnTo>
                <a:lnTo>
                  <a:pt x="358" y="550"/>
                </a:lnTo>
                <a:lnTo>
                  <a:pt x="392" y="520"/>
                </a:lnTo>
                <a:lnTo>
                  <a:pt x="426" y="490"/>
                </a:lnTo>
                <a:lnTo>
                  <a:pt x="463" y="462"/>
                </a:lnTo>
                <a:lnTo>
                  <a:pt x="500" y="434"/>
                </a:lnTo>
                <a:lnTo>
                  <a:pt x="539" y="406"/>
                </a:lnTo>
                <a:lnTo>
                  <a:pt x="580" y="379"/>
                </a:lnTo>
                <a:lnTo>
                  <a:pt x="622" y="353"/>
                </a:lnTo>
                <a:lnTo>
                  <a:pt x="664" y="328"/>
                </a:lnTo>
                <a:lnTo>
                  <a:pt x="708" y="303"/>
                </a:lnTo>
                <a:lnTo>
                  <a:pt x="753" y="279"/>
                </a:lnTo>
                <a:lnTo>
                  <a:pt x="800" y="257"/>
                </a:lnTo>
                <a:lnTo>
                  <a:pt x="499" y="1"/>
                </a:lnTo>
                <a:lnTo>
                  <a:pt x="1418" y="84"/>
                </a:lnTo>
                <a:lnTo>
                  <a:pt x="1287" y="670"/>
                </a:lnTo>
                <a:lnTo>
                  <a:pt x="986" y="41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40120" y="3462480"/>
            <a:ext cx="636840" cy="431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12120" y="3544920"/>
            <a:ext cx="52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Probléma-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14280" y="3683160"/>
            <a:ext cx="52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felismerés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35720" y="3720960"/>
            <a:ext cx="876240" cy="43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40200" y="3803760"/>
            <a:ext cx="49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Stratégia-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9200" y="3943440"/>
            <a:ext cx="866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alkotás, tervezés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35720" y="4325760"/>
            <a:ext cx="796680" cy="34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30120" y="4365720"/>
            <a:ext cx="43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78280" y="4505400"/>
            <a:ext cx="546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idolgozás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40120" y="4672080"/>
            <a:ext cx="716040" cy="43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10680" y="4686480"/>
            <a:ext cx="61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Végrehajtás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48120" y="4964040"/>
            <a:ext cx="53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65680" y="4152960"/>
            <a:ext cx="636480" cy="43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8560" y="4237200"/>
            <a:ext cx="48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Értékelés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9760" y="4375080"/>
            <a:ext cx="544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Arial"/>
              </a:rPr>
              <a:t>Korrekciók</a:t>
            </a:r>
            <a:endParaRPr b="0" lang="en-US" sz="9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81360" y="2855880"/>
            <a:ext cx="874800" cy="519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240" y="293364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Probléma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7920" y="312408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felismerés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54680" y="3201840"/>
            <a:ext cx="1193760" cy="43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35840" y="323676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Stratégia-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08680" y="342756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alkotás, tervezés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11960" y="2511360"/>
            <a:ext cx="1592280" cy="60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800" y="258300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tratégia-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4960" y="2824200"/>
            <a:ext cx="1526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lkotás, tervezés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4759200"/>
            <a:ext cx="1035000" cy="346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11600" y="4749840"/>
            <a:ext cx="631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45000" y="494028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kidolgozás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49920" y="5191200"/>
            <a:ext cx="1592280" cy="60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65360" y="526248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rogram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06320" y="5504040"/>
            <a:ext cx="96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idolgozás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81360" y="5191200"/>
            <a:ext cx="1035360" cy="60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0600" y="5216400"/>
            <a:ext cx="87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Végrehajtás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58120" y="559908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02160" y="5883120"/>
            <a:ext cx="1193760" cy="517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02960" y="5919840"/>
            <a:ext cx="108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égrehajtás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65240" y="6172200"/>
            <a:ext cx="94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09880" y="4067280"/>
            <a:ext cx="795240" cy="60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04560" y="41878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Értékelés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63880" y="437832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Arial"/>
              </a:rPr>
              <a:t>Korrekciók</a:t>
            </a:r>
            <a:endParaRPr b="0" lang="en-US" sz="13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36560" y="3981600"/>
            <a:ext cx="1035360" cy="777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65800" y="413856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Értékelés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15040" y="4379760"/>
            <a:ext cx="96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orrekciók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1160" y="2077920"/>
            <a:ext cx="1354320" cy="60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98000" y="2166840"/>
            <a:ext cx="88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Probléma-</a:t>
            </a:r>
            <a:endParaRPr b="0" lang="en-US" sz="15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01960" y="2390760"/>
            <a:ext cx="87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felismerés</a:t>
            </a:r>
            <a:endParaRPr b="0" lang="en-US" sz="15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17600" y="522360"/>
            <a:ext cx="16718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9440" y="1219320"/>
            <a:ext cx="1395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Szakpolitika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65680" y="1300320"/>
            <a:ext cx="16700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14360" y="1706400"/>
            <a:ext cx="83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Projekt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1360" y="954000"/>
            <a:ext cx="167184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9520" y="1523880"/>
            <a:ext cx="100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Verdana"/>
              </a:rPr>
              <a:t>Program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21160" y="2057400"/>
            <a:ext cx="144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68960" y="3782880"/>
            <a:ext cx="104760" cy="111240"/>
          </a:xfrm>
          <a:custGeom>
            <a:avLst/>
            <a:gdLst/>
            <a:ahLst/>
            <a:rect l="l" t="t" r="r" b="b"/>
            <a:pathLst>
              <a:path w="66" h="70">
                <a:moveTo>
                  <a:pt x="0" y="0"/>
                </a:moveTo>
                <a:lnTo>
                  <a:pt x="33" y="70"/>
                </a:lnTo>
                <a:lnTo>
                  <a:pt x="6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87600" y="1905120"/>
            <a:ext cx="180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33600" y="369576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0" y="0"/>
                </a:moveTo>
                <a:lnTo>
                  <a:pt x="34" y="71"/>
                </a:lnTo>
                <a:lnTo>
                  <a:pt x="6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14640" y="1600200"/>
            <a:ext cx="1440" cy="209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60640" y="369576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0" y="0"/>
                </a:moveTo>
                <a:lnTo>
                  <a:pt x="34" y="71"/>
                </a:lnTo>
                <a:lnTo>
                  <a:pt x="6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2960" y="64929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620640"/>
            <a:ext cx="777384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5136f0"/>
                </a:solidFill>
                <a:latin typeface="Arial"/>
              </a:rPr>
              <a:t>A C</a:t>
            </a:r>
            <a:r>
              <a:rPr b="0" lang="en-GB" sz="2200" spc="-1" strike="noStrike">
                <a:solidFill>
                  <a:srgbClr val="5136f0"/>
                </a:solidFill>
                <a:latin typeface="Arial"/>
              </a:rPr>
              <a:t>IKLUS-ELMÉLE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EF6F-94DA-42E3-AB59-A3525690EA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4:29:03Z</dcterms:created>
  <dc:creator>Christopher Manstein</dc:creator>
  <dc:description/>
  <dc:language>en-US</dc:language>
  <cp:lastModifiedBy>zsuzsa</cp:lastModifiedBy>
  <dcterms:modified xsi:type="dcterms:W3CDTF">2010-10-11T12:34:00Z</dcterms:modified>
  <cp:revision>804</cp:revision>
  <dc:subject/>
  <dc:title>Euro Crafts 21</dc:title>
</cp:coreProperties>
</file>