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ECD6-930F-4DB3-ACA7-C4FDCDC80D7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2080" cy="4113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3399"/>
                </a:solidFill>
                <a:latin typeface="Arial"/>
              </a:rPr>
              <a:t>A mátrix (logframe) nem más, mint a projekt Inputok Tevékenységek Eredmények, célok és Hatások közötti logikai kapcsolatrendszer rendszerezett és egyértelmű vizuális megjeleníté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Garamond"/>
              </a:rPr>
              <a:t>Összevontan tartalmazza a projekt céljait, a hozzárendelt mutatókat, a megvalósítás kockázatát, a szükséges erőforrásokat és a lehetséges eredményeket.azaz </a:t>
            </a:r>
            <a:r>
              <a:rPr b="0" lang="hu-HU" sz="1600" spc="-1" strike="noStrike">
                <a:solidFill>
                  <a:srgbClr val="808080"/>
                </a:solidFill>
                <a:latin typeface="Garamond"/>
              </a:rPr>
              <a:t>a teljes program egy oldal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4C49-A824-42A1-9DC2-9C182ECFB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5B18-6D38-4799-B4CA-AB820EA77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5F16-7BA6-4499-9EC2-1C414EE84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0C72-6639-4062-9B3B-CFBE44134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D7F0D-5C97-4B39-A62C-608C25819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1C51-AAC7-41EB-A344-7E70195DF8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9DA7-0930-45B4-B17F-F90E8ACA0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A4CD-4237-4C8F-B65B-9E82B2221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77177-8534-4F01-B5E5-3A59923DE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327A-9E96-4E4A-A05E-4FDDEC98A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9F48-472F-4456-A819-C0D5017D4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3DBC-0850-43E0-82CC-7E5991FB34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4FA2CF60-0967-48CF-99CC-4E708EB9AF14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8207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14560" y="2565360"/>
            <a:ext cx="51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5136f0"/>
                </a:solidFill>
                <a:latin typeface="Arial"/>
              </a:rPr>
              <a:t>S11-B1 A projektek tervezése, Logikai Keretmátrix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51600" y="928800"/>
            <a:ext cx="562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5136f0"/>
                </a:solidFill>
                <a:latin typeface="Arial"/>
              </a:rPr>
              <a:t>S11 modul – Projektmenedzsment</a:t>
            </a:r>
            <a:endParaRPr b="0" lang="en-US" sz="2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Indikátorok - </a:t>
            </a: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Definíció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2320" y="2196720"/>
            <a:ext cx="762336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524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13c59"/>
                </a:solidFill>
                <a:latin typeface="Arial"/>
              </a:rPr>
              <a:t>Mutató, amely a komplex valóságról szóló információt leegyszerűsített formában közli</a:t>
            </a:r>
            <a:endParaRPr b="0" lang="en-US" sz="21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24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013c59"/>
                </a:solidFill>
                <a:latin typeface="Arial"/>
              </a:rPr>
              <a:t>A projekt monitoring kontextusában: a teljesítménymérés, a célok elérése mérésének eszköze</a:t>
            </a:r>
            <a:endParaRPr b="0" lang="en-US" sz="21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68468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36f0"/>
                </a:solidFill>
                <a:latin typeface="Arial"/>
              </a:rPr>
              <a:t>Indikátorok - horizontális logika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994120"/>
            <a:ext cx="80010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200" spc="-1" strike="noStrike">
                <a:solidFill>
                  <a:srgbClr val="ff0000"/>
                </a:solidFill>
                <a:latin typeface="Tahoma"/>
              </a:rPr>
              <a:t>A jó indikátorok – a SMART kritériumok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pecif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Konkré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M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sur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Mérhető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chievable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lérhető, rendelkezésre áll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ealistic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Reális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550"/>
              </a:spcBef>
              <a:spcAft>
                <a:spcPts val="1100"/>
              </a:spcAft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ime-based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Időhöz kötött</a:t>
            </a:r>
            <a:r>
              <a:rPr b="0" lang="hu-HU" sz="2200" spc="-1" strike="noStrike">
                <a:solidFill>
                  <a:srgbClr val="013c59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CÉ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1851120"/>
            <a:ext cx="1905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DIKÁTO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19920" y="1851120"/>
            <a:ext cx="19047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FORMÁCIÓ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FORRÁ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20797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PCM - LKM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41018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e5815"/>
                </a:solidFill>
                <a:uFillTx/>
                <a:latin typeface="Verdana"/>
              </a:rPr>
              <a:t>PCM: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15"/>
                </a:solidFill>
                <a:latin typeface="Verdana"/>
              </a:rPr>
              <a:t>A projekt különböző fázisaiban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5815"/>
                </a:solidFill>
                <a:latin typeface="Verdana"/>
              </a:rPr>
              <a:t>Jól meghatározott vezetői </a:t>
            </a:r>
            <a:r>
              <a:rPr b="0" i="1" lang="en-US" sz="1800" spc="-1" strike="noStrike" u="sng">
                <a:solidFill>
                  <a:srgbClr val="fe5815"/>
                </a:solidFill>
                <a:uFillTx/>
                <a:latin typeface="Verdana"/>
              </a:rPr>
              <a:t>tevékenységek</a:t>
            </a:r>
            <a:r>
              <a:rPr b="0" lang="en-US" sz="1800" spc="-1" strike="noStrike">
                <a:solidFill>
                  <a:srgbClr val="fe5815"/>
                </a:solidFill>
                <a:latin typeface="Verdana"/>
              </a:rPr>
              <a:t> é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e5815"/>
                </a:solidFill>
                <a:uFillTx/>
                <a:latin typeface="Verdana"/>
              </a:rPr>
              <a:t>Döntéshozatal</a:t>
            </a:r>
            <a:r>
              <a:rPr b="0" lang="en-US" sz="24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3280" y="1699920"/>
            <a:ext cx="4316400" cy="26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LKM: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Program - projekt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tervezési, vezetői, értékelési metodika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451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A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részvéte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lt,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átláthatóság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ot és </a:t>
            </a:r>
            <a:r>
              <a:rPr b="0" i="1" lang="en-US" sz="1800" spc="-1" strike="noStrike" u="sng">
                <a:solidFill>
                  <a:srgbClr val="800000"/>
                </a:solidFill>
                <a:uFillTx/>
                <a:latin typeface="Verdana"/>
              </a:rPr>
              <a:t>célorientáltság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ot javító eszközök használat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711680"/>
            <a:ext cx="3889440" cy="1008720"/>
          </a:xfrm>
          <a:prstGeom prst="rect">
            <a:avLst/>
          </a:prstGeom>
          <a:noFill/>
          <a:ln w="50760">
            <a:solidFill>
              <a:srgbClr val="fe5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Döntéshozatal és megvalósítási folyamat előre meghatározott módon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4711680"/>
            <a:ext cx="4176720" cy="1008720"/>
          </a:xfrm>
          <a:prstGeom prst="rect">
            <a:avLst/>
          </a:prstGeom>
          <a:noFill/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3c59"/>
                </a:solidFill>
                <a:latin typeface="Times New Roman"/>
              </a:rPr>
              <a:t>Proje</a:t>
            </a: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k</a:t>
            </a:r>
            <a:r>
              <a:rPr b="0" lang="en-GB" sz="2000" spc="-1" strike="noStrike">
                <a:solidFill>
                  <a:srgbClr val="013c59"/>
                </a:solidFill>
                <a:latin typeface="Times New Roman"/>
              </a:rPr>
              <a:t>t</a:t>
            </a:r>
            <a:r>
              <a:rPr b="0" lang="hu-HU" sz="2000" spc="-1" strike="noStrike">
                <a:solidFill>
                  <a:srgbClr val="013c59"/>
                </a:solidFill>
                <a:latin typeface="Times New Roman"/>
              </a:rPr>
              <a:t>menedzsment metodika és eszközö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A logikai keretterv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2043000"/>
            <a:ext cx="7772400" cy="3824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648320" y="342900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13c59"/>
                </a:solidFill>
                <a:latin typeface="Tahoma"/>
              </a:rPr>
              <a:t>A logframe módszer több, mint maga a mátrix!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projekt</a:t>
            </a:r>
            <a:r>
              <a:rPr b="1" lang="en-US" sz="2000" spc="-1" strike="noStrike">
                <a:solidFill>
                  <a:srgbClr val="013c59"/>
                </a:solidFill>
                <a:latin typeface="Palatino Linotype"/>
              </a:rPr>
              <a:t> készítés</a:t>
            </a:r>
            <a:r>
              <a:rPr b="1" lang="en-US" sz="20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szakaszai LKM módszertan szerint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00000" y="1628640"/>
            <a:ext cx="3356280" cy="721080"/>
          </a:xfrm>
          <a:prstGeom prst="rect">
            <a:avLst/>
          </a:prstGeom>
          <a:gradFill rotWithShape="0">
            <a:gsLst>
              <a:gs pos="0">
                <a:srgbClr val="b4f400"/>
              </a:gs>
              <a:gs pos="50000">
                <a:srgbClr val="ffcccc"/>
              </a:gs>
              <a:gs pos="100000">
                <a:srgbClr val="b4f400"/>
              </a:gs>
            </a:gsLst>
            <a:lin ang="10800000"/>
          </a:gradFill>
          <a:ln w="9360">
            <a:solidFill>
              <a:srgbClr val="013c59"/>
            </a:solidFill>
            <a:miter/>
          </a:ln>
        </p:spPr>
        <p:txBody>
          <a:bodyPr anchor="t">
            <a:normAutofit/>
          </a:bodyPr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3c59"/>
                </a:solidFill>
                <a:latin typeface="Arial"/>
              </a:rPr>
              <a:t>ELEMZŐ SZAKASZ</a:t>
            </a: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1700280"/>
            <a:ext cx="4419720" cy="99036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4f400"/>
              </a:gs>
              <a:gs pos="50000">
                <a:srgbClr val="ffcc99"/>
              </a:gs>
              <a:gs pos="100000">
                <a:srgbClr val="b4f400"/>
              </a:gs>
            </a:gsLst>
            <a:lin ang="10800000"/>
          </a:gra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3c59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TERVEZ</a:t>
            </a:r>
            <a:r>
              <a:rPr b="1" lang="en-US" sz="24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1" lang="en-US" sz="2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SZAKASZ</a:t>
            </a:r>
            <a:r>
              <a:rPr b="0" lang="en-US" sz="2400" spc="-1" strike="noStrike">
                <a:solidFill>
                  <a:srgbClr val="013c59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411280"/>
            <a:ext cx="3313080" cy="44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Stakeholder elemzés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Problémaelemzés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 potenciális érdekeltek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be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zonosítása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.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F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őbb problémáik, korlátaik és lehetőségeik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elemzése,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ok–okozati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összefüggések feltárása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célok elemzése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célok megfogalmazása a feltárt problémák alapján;  eszköz –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végc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él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összefüggések feltárása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Stratégiaelemzés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 célok eléréséhez szükséges stratégiák számbavétele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,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f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célok meghatározása (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átfogó célok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és projekt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</a:rPr>
              <a:t> </a:t>
            </a:r>
            <a:r>
              <a:rPr b="0" lang="hu-HU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cél)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2781360"/>
            <a:ext cx="37335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Logikai keret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 projekt szerkezetének meghatározása, belső logikájának tesztelése, a célok kialakítása mérhető feltételek alapján, az eszközök és költségek megállapítása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Tevékenységütemezés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– az egyes tevékenységek sorrendjének és függ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ségének megállapítása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,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az átfutási idő b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ecslése,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a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mérföldk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övek meghatározása, felelősségi körök kijelölés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13c59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3c59"/>
                </a:solidFill>
                <a:latin typeface="Palatino Linotype"/>
              </a:rPr>
              <a:t>Erőf</a:t>
            </a: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orrás</a:t>
            </a:r>
            <a:r>
              <a:rPr b="1" lang="en-US" sz="1600" spc="-1" strike="noStrike">
                <a:solidFill>
                  <a:srgbClr val="013c59"/>
                </a:solidFill>
                <a:latin typeface="Palatino Linotype"/>
              </a:rPr>
              <a:t> </a:t>
            </a:r>
            <a:r>
              <a:rPr b="1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ütemezés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: a tevékenység ütemezés alapján az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erőforrás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ok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ütemezés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e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és a költségvetés 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</a:rPr>
              <a:t>elkészítése</a:t>
            </a:r>
            <a:r>
              <a:rPr b="0" lang="en-US" sz="16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7200">
            <a:off x="127440" y="2975760"/>
            <a:ext cx="10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Illesztés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/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e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lemzés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153200">
            <a:off x="-139680" y="425304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Következte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-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tés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ek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190400">
            <a:off x="-297000" y="564516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legmegfelel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ő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bb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opció kiválasztása</a:t>
            </a:r>
            <a:r>
              <a:rPr b="0" lang="en-US" sz="1400" spc="-1" strike="noStrike">
                <a:solidFill>
                  <a:srgbClr val="013c59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557160" y="3219480"/>
            <a:ext cx="197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A projekt logik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a meghatározása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6207800">
            <a:off x="3744720" y="53366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Részletes mű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  <a:ea typeface="Times New Roman"/>
              </a:rPr>
              <a:t>ködés</a:t>
            </a:r>
            <a:r>
              <a:rPr b="1" lang="en-US" sz="1400" spc="-1" strike="noStrike">
                <a:solidFill>
                  <a:srgbClr val="013c59"/>
                </a:solidFill>
                <a:latin typeface="Palatino Linotype"/>
              </a:rPr>
              <a:t>i terv 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6400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A beavatkozás logikája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0600" y="5410080"/>
            <a:ext cx="2667240" cy="106704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Program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tevékenysége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38360" y="5383080"/>
            <a:ext cx="16254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0600" y="4097160"/>
            <a:ext cx="2667240" cy="82584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Eredménye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0320" y="2792520"/>
            <a:ext cx="2647800" cy="819000"/>
          </a:xfrm>
          <a:prstGeom prst="rect">
            <a:avLst/>
          </a:prstGeom>
          <a:noFill/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13c59"/>
                </a:solidFill>
                <a:latin typeface="Verdana"/>
              </a:rPr>
              <a:t>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1700280"/>
            <a:ext cx="2628720" cy="7808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3c59"/>
                </a:solidFill>
                <a:latin typeface="Verdana"/>
              </a:rPr>
              <a:t>Hatás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1700280"/>
            <a:ext cx="1728720" cy="80496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Átfogó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061040" y="4659480"/>
            <a:ext cx="191880" cy="6120"/>
            <a:chOff x="7061040" y="4659480"/>
            <a:chExt cx="191880" cy="6120"/>
          </a:xfrm>
        </p:grpSpPr>
        <p:sp>
          <p:nvSpPr>
            <p:cNvPr id="125" name=""/>
            <p:cNvSpPr/>
            <p:nvPr/>
          </p:nvSpPr>
          <p:spPr>
            <a:xfrm>
              <a:off x="7061040" y="4659480"/>
              <a:ext cx="36360" cy="612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3" y="2"/>
                  </a:lnTo>
                  <a:lnTo>
                    <a:pt x="2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13240" y="4659480"/>
              <a:ext cx="3960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8680" y="4659480"/>
              <a:ext cx="39960" cy="6120"/>
            </a:xfrm>
            <a:custGeom>
              <a:avLst/>
              <a:gdLst/>
              <a:ahLst/>
              <a:rect l="l" t="t" r="r" b="b"/>
              <a:pathLst>
                <a:path w="25" h="4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3"/>
                  </a:lnTo>
                  <a:lnTo>
                    <a:pt x="25" y="2"/>
                  </a:lnTo>
                  <a:lnTo>
                    <a:pt x="2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24480" y="4659480"/>
              <a:ext cx="28440" cy="61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3" y="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795320" y="5749920"/>
            <a:ext cx="37656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177" y="0"/>
                </a:moveTo>
                <a:lnTo>
                  <a:pt x="177" y="49"/>
                </a:lnTo>
                <a:lnTo>
                  <a:pt x="0" y="49"/>
                </a:lnTo>
                <a:lnTo>
                  <a:pt x="0" y="146"/>
                </a:lnTo>
                <a:lnTo>
                  <a:pt x="177" y="146"/>
                </a:lnTo>
                <a:lnTo>
                  <a:pt x="177" y="195"/>
                </a:lnTo>
                <a:lnTo>
                  <a:pt x="237" y="97"/>
                </a:lnTo>
                <a:lnTo>
                  <a:pt x="177" y="0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36840" y="501156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36840" y="3700440"/>
            <a:ext cx="376200" cy="308160"/>
          </a:xfrm>
          <a:custGeom>
            <a:avLst/>
            <a:gdLst/>
            <a:ahLst/>
            <a:rect l="l" t="t" r="r" b="b"/>
            <a:pathLst>
              <a:path w="237" h="194">
                <a:moveTo>
                  <a:pt x="0" y="48"/>
                </a:moveTo>
                <a:lnTo>
                  <a:pt x="60" y="48"/>
                </a:lnTo>
                <a:lnTo>
                  <a:pt x="60" y="194"/>
                </a:lnTo>
                <a:lnTo>
                  <a:pt x="177" y="194"/>
                </a:lnTo>
                <a:lnTo>
                  <a:pt x="177" y="48"/>
                </a:lnTo>
                <a:lnTo>
                  <a:pt x="237" y="48"/>
                </a:lnTo>
                <a:lnTo>
                  <a:pt x="118" y="0"/>
                </a:lnTo>
                <a:lnTo>
                  <a:pt x="0" y="48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2492280"/>
            <a:ext cx="376200" cy="309600"/>
          </a:xfrm>
          <a:custGeom>
            <a:avLst/>
            <a:gdLst/>
            <a:ahLst/>
            <a:rect l="l" t="t" r="r" b="b"/>
            <a:pathLst>
              <a:path w="237" h="195">
                <a:moveTo>
                  <a:pt x="0" y="49"/>
                </a:moveTo>
                <a:lnTo>
                  <a:pt x="60" y="49"/>
                </a:lnTo>
                <a:lnTo>
                  <a:pt x="60" y="195"/>
                </a:lnTo>
                <a:lnTo>
                  <a:pt x="177" y="195"/>
                </a:lnTo>
                <a:lnTo>
                  <a:pt x="177" y="49"/>
                </a:lnTo>
                <a:lnTo>
                  <a:pt x="237" y="49"/>
                </a:lnTo>
                <a:lnTo>
                  <a:pt x="118" y="0"/>
                </a:lnTo>
                <a:lnTo>
                  <a:pt x="0" y="49"/>
                </a:lnTo>
                <a:close/>
              </a:path>
            </a:pathLst>
          </a:custGeom>
          <a:solidFill>
            <a:srgbClr val="ccccff"/>
          </a:solidFill>
          <a:ln w="38160">
            <a:solidFill>
              <a:srgbClr val="fe58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3200" y="2838600"/>
            <a:ext cx="188280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3c59"/>
                </a:solidFill>
                <a:latin typeface="Verdana"/>
              </a:rPr>
              <a:t>Specifikus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53200" y="4172040"/>
            <a:ext cx="17287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13c59"/>
                </a:solidFill>
                <a:latin typeface="Verdana"/>
              </a:rPr>
              <a:t>Operatív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15080" y="17524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15080" y="31240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15080" y="4495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e58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51640" y="1773360"/>
            <a:ext cx="1295640" cy="0"/>
          </a:xfrm>
          <a:prstGeom prst="line">
            <a:avLst/>
          </a:prstGeom>
          <a:ln w="38160">
            <a:solidFill>
              <a:srgbClr val="013c5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39" name=""/>
          <p:cNvCxnSpPr/>
          <p:nvPr/>
        </p:nvCxnSpPr>
        <p:spPr>
          <a:xfrm>
            <a:off x="8675280" y="1773000"/>
            <a:ext cx="1080" cy="3169080"/>
          </a:xfrm>
          <a:prstGeom prst="straightConnector1">
            <a:avLst/>
          </a:prstGeom>
          <a:ln w="38160">
            <a:solidFill>
              <a:srgbClr val="013c59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7338960" y="2838600"/>
            <a:ext cx="1728720" cy="80460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Program célok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141" name=""/>
          <p:cNvCxnSpPr/>
          <p:nvPr/>
        </p:nvCxnSpPr>
        <p:spPr>
          <a:xfrm flipH="1">
            <a:off x="7524000" y="4941360"/>
            <a:ext cx="1143720" cy="108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>
            <a:off x="7105680" y="3428640"/>
            <a:ext cx="2160" cy="133416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cxnSp>
        <p:nvCxnSpPr>
          <p:cNvPr id="143" name=""/>
          <p:cNvCxnSpPr/>
          <p:nvPr/>
        </p:nvCxnSpPr>
        <p:spPr>
          <a:xfrm flipV="1">
            <a:off x="7124760" y="1751760"/>
            <a:ext cx="2160" cy="1334520"/>
          </a:xfrm>
          <a:prstGeom prst="bentConnector3">
            <a:avLst>
              <a:gd name="adj1" fmla="val 8300000"/>
            </a:avLst>
          </a:prstGeom>
          <a:ln w="28440">
            <a:solidFill>
              <a:srgbClr val="013c59"/>
            </a:solidFill>
            <a:prstDash val="dashDot"/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38160" y="5562720"/>
            <a:ext cx="17524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3c59"/>
                </a:solidFill>
                <a:latin typeface="Verdana"/>
              </a:rPr>
              <a:t>Inputok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A logframe mátrix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68520" y="2354400"/>
            <a:ext cx="171324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47824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TÁGABB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CÉLOK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(IMPACTS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4152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KÖZVETLEN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CÉLO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(OUTCOMES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20516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EREDMÉNYEK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(OUTPUTS)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068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TEVÉKENYSÉGEK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Garamond"/>
              </a:rPr>
              <a:t>(INPUTS</a:t>
            </a: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0036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INTERVENCIÓS LOG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036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036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0036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0036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036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OBJEKTÍVEN MÉRHETŐ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TELJESÍTÉS-INDIKÁTORO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036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036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0036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0036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ESZKÖZÖ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0072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Garamond"/>
              </a:rPr>
              <a:t>AZ INFORMÁCIÓ FORRÁSA AZ INDIKÁTOROKHOZ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72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0072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0072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0072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KÖLTSÉGE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51840" y="161280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FELTÉTELEZÉSE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51840" y="247824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51840" y="334332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51840" y="420696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51840" y="5070600"/>
            <a:ext cx="1712880" cy="720720"/>
          </a:xfrm>
          <a:prstGeom prst="rect">
            <a:avLst/>
          </a:prstGeom>
          <a:noFill/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51840" y="5934240"/>
            <a:ext cx="1712880" cy="720720"/>
          </a:xfrm>
          <a:prstGeom prst="rect">
            <a:avLst/>
          </a:prstGeom>
          <a:solidFill>
            <a:srgbClr val="cff5fd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Garamond"/>
              </a:rPr>
              <a:t>ELŐFELTÉTELEK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A feltételezések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Értelmezése: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a projekt sikere szempontjából fontos külső tényező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668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24480" y="2703600"/>
            <a:ext cx="182880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0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24480" y="3313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4075200"/>
            <a:ext cx="18288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483696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5599080"/>
            <a:ext cx="18288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61000" y="285588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Projekt leírás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2703600"/>
            <a:ext cx="202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Objektíven igazolható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eredményességi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mutató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68840" y="2779560"/>
            <a:ext cx="163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Ellenőrzés forrásai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és eszközei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13200" y="285588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Feltételezés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4920" y="3541680"/>
            <a:ext cx="16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ÁTFOGÓ CÉLO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overall objectives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09800" y="4227480"/>
            <a:ext cx="148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PROJEKT CÉLJA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project purpose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42480" y="4913280"/>
            <a:ext cx="163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VÁRT EREDMÉNY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Expected results 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v. output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1280" y="5675400"/>
            <a:ext cx="140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TEVÉKENYSÉG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3399"/>
                </a:solidFill>
                <a:latin typeface="Tahoma"/>
              </a:rPr>
              <a:t>(Activities)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6356520"/>
            <a:ext cx="18288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13c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67480" y="646740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ELŐFELTÉTELEK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590560" y="605592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2590560" y="521784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590560" y="445572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590560" y="3693600"/>
            <a:ext cx="373356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5979960"/>
            <a:ext cx="380988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5218200"/>
            <a:ext cx="3810240" cy="1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4456080"/>
            <a:ext cx="3810240" cy="1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Feltételek elemzés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77240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FELTÉTELEZÉSEK (PÉLDA)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40" y="1700280"/>
            <a:ext cx="3587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A régió foglalkoztatottsági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helyzete javu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3120" y="2819520"/>
            <a:ext cx="32925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Kevesebb munkanélküli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térségi lako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6240" y="3933720"/>
            <a:ext cx="3020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Több munkalehetőség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5181480"/>
            <a:ext cx="35053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Oktatás- képzés, ösztönző rendszer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267240" y="2819520"/>
            <a:ext cx="167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Betelepülő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vállalkozó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11080" y="3975120"/>
            <a:ext cx="1517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Elegendő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munkaerő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01640" y="4965840"/>
            <a:ext cx="2774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Megfelelően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képzett települési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38720" y="5907240"/>
            <a:ext cx="24559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13c5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13c59"/>
                </a:solidFill>
                <a:latin typeface="Garamond"/>
              </a:rPr>
              <a:t>Kevés munkahely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cxnSp>
        <p:nvCxnSpPr>
          <p:cNvPr id="222" name=""/>
          <p:cNvCxnSpPr/>
          <p:nvPr/>
        </p:nvCxnSpPr>
        <p:spPr>
          <a:xfrm flipH="1" flipV="1">
            <a:off x="3962160" y="5485680"/>
            <a:ext cx="2319840" cy="56124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H="1" flipV="1">
            <a:off x="3492000" y="2060280"/>
            <a:ext cx="2874240" cy="106416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224" name=""/>
          <p:cNvCxnSpPr/>
          <p:nvPr/>
        </p:nvCxnSpPr>
        <p:spPr>
          <a:xfrm flipH="1" flipV="1">
            <a:off x="3276360" y="3123360"/>
            <a:ext cx="3048480" cy="104220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0" idx="1"/>
            <a:endCxn id="216" idx="3"/>
          </p:cNvCxnSpPr>
          <p:nvPr/>
        </p:nvCxnSpPr>
        <p:spPr>
          <a:xfrm flipH="1" flipV="1">
            <a:off x="3152520" y="4136400"/>
            <a:ext cx="3172320" cy="1184760"/>
          </a:xfrm>
          <a:prstGeom prst="straightConnector1">
            <a:avLst/>
          </a:prstGeom>
          <a:ln w="38160">
            <a:solidFill>
              <a:srgbClr val="013c59"/>
            </a:solidFill>
            <a:miter/>
            <a:tailEnd len="med" type="triangle" w="med"/>
          </a:ln>
        </p:spPr>
      </p:cxnSp>
      <p:grpSp>
        <p:nvGrpSpPr>
          <p:cNvPr id="226" name=""/>
          <p:cNvGrpSpPr/>
          <p:nvPr/>
        </p:nvGrpSpPr>
        <p:grpSpPr>
          <a:xfrm>
            <a:off x="3962160" y="5029200"/>
            <a:ext cx="2384640" cy="642600"/>
            <a:chOff x="3962160" y="5029200"/>
            <a:chExt cx="2384640" cy="642600"/>
          </a:xfrm>
        </p:grpSpPr>
        <p:cxnSp>
          <p:nvCxnSpPr>
            <p:cNvPr id="227" name=""/>
            <p:cNvCxnSpPr>
              <a:stCxn id="217" idx="3"/>
              <a:endCxn id="228" idx="1"/>
            </p:cNvCxnSpPr>
            <p:nvPr/>
          </p:nvCxnSpPr>
          <p:spPr>
            <a:xfrm>
              <a:off x="3962160" y="5340240"/>
              <a:ext cx="632520" cy="1512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</a:ln>
          </p:spPr>
        </p:cxnSp>
        <p:cxnSp>
          <p:nvCxnSpPr>
            <p:cNvPr id="229" name=""/>
            <p:cNvCxnSpPr>
              <a:stCxn id="228" idx="3"/>
              <a:endCxn id="220" idx="1"/>
            </p:cNvCxnSpPr>
            <p:nvPr/>
          </p:nvCxnSpPr>
          <p:spPr>
            <a:xfrm flipV="1">
              <a:off x="5055840" y="5350680"/>
              <a:ext cx="1291320" cy="39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</p:cxnSp>
        <p:sp>
          <p:nvSpPr>
            <p:cNvPr id="228" name=""/>
            <p:cNvSpPr/>
            <p:nvPr/>
          </p:nvSpPr>
          <p:spPr>
            <a:xfrm>
              <a:off x="4603680" y="5029200"/>
              <a:ext cx="442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3c5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600" spc="-1" strike="noStrike">
                  <a:solidFill>
                    <a:srgbClr val="013c59"/>
                  </a:solidFill>
                  <a:latin typeface="Trebuchet MS"/>
                </a:rPr>
                <a:t>+</a:t>
              </a:r>
              <a:endParaRPr b="0" lang="en-US" sz="3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429000" y="3886200"/>
            <a:ext cx="2906640" cy="642600"/>
            <a:chOff x="3429000" y="3886200"/>
            <a:chExt cx="2906640" cy="642600"/>
          </a:xfrm>
        </p:grpSpPr>
        <p:cxnSp>
          <p:nvCxnSpPr>
            <p:cNvPr id="231" name=""/>
            <p:cNvCxnSpPr>
              <a:stCxn id="216" idx="3"/>
              <a:endCxn id="232" idx="1"/>
            </p:cNvCxnSpPr>
            <p:nvPr/>
          </p:nvCxnSpPr>
          <p:spPr>
            <a:xfrm>
              <a:off x="3429000" y="4197240"/>
              <a:ext cx="1154880" cy="147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</a:ln>
          </p:spPr>
        </p:cxnSp>
        <p:cxnSp>
          <p:nvCxnSpPr>
            <p:cNvPr id="233" name=""/>
            <p:cNvCxnSpPr>
              <a:stCxn id="232" idx="3"/>
              <a:endCxn id="219" idx="1"/>
            </p:cNvCxnSpPr>
            <p:nvPr/>
          </p:nvCxnSpPr>
          <p:spPr>
            <a:xfrm flipV="1">
              <a:off x="5044680" y="4207680"/>
              <a:ext cx="1291320" cy="39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</p:cxnSp>
        <p:sp>
          <p:nvSpPr>
            <p:cNvPr id="232" name=""/>
            <p:cNvSpPr/>
            <p:nvPr/>
          </p:nvSpPr>
          <p:spPr>
            <a:xfrm>
              <a:off x="4592520" y="3886200"/>
              <a:ext cx="442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3c5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600" spc="-1" strike="noStrike">
                  <a:solidFill>
                    <a:srgbClr val="013c59"/>
                  </a:solidFill>
                  <a:latin typeface="Trebuchet MS"/>
                </a:rPr>
                <a:t>+</a:t>
              </a:r>
              <a:endParaRPr b="0" lang="en-US" sz="3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352680" y="2819520"/>
            <a:ext cx="2995200" cy="642600"/>
            <a:chOff x="3352680" y="2819520"/>
            <a:chExt cx="2995200" cy="642600"/>
          </a:xfrm>
        </p:grpSpPr>
        <p:cxnSp>
          <p:nvCxnSpPr>
            <p:cNvPr id="235" name=""/>
            <p:cNvCxnSpPr>
              <a:stCxn id="215" idx="3"/>
              <a:endCxn id="236" idx="1"/>
            </p:cNvCxnSpPr>
            <p:nvPr/>
          </p:nvCxnSpPr>
          <p:spPr>
            <a:xfrm>
              <a:off x="3352680" y="3130560"/>
              <a:ext cx="1343520" cy="1512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</a:ln>
          </p:spPr>
        </p:cxnSp>
        <p:cxnSp>
          <p:nvCxnSpPr>
            <p:cNvPr id="237" name=""/>
            <p:cNvCxnSpPr>
              <a:stCxn id="236" idx="3"/>
              <a:endCxn id="218" idx="1"/>
            </p:cNvCxnSpPr>
            <p:nvPr/>
          </p:nvCxnSpPr>
          <p:spPr>
            <a:xfrm flipV="1">
              <a:off x="5134680" y="3141000"/>
              <a:ext cx="1213560" cy="3960"/>
            </a:xfrm>
            <a:prstGeom prst="straightConnector1">
              <a:avLst/>
            </a:prstGeom>
            <a:ln w="38160">
              <a:solidFill>
                <a:srgbClr val="013c59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4704840" y="2819520"/>
              <a:ext cx="4428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13c5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3600" spc="-1" strike="noStrike">
                  <a:solidFill>
                    <a:srgbClr val="013c59"/>
                  </a:solidFill>
                  <a:latin typeface="Trebuchet MS"/>
                </a:rPr>
                <a:t>+</a:t>
              </a:r>
              <a:endParaRPr b="0" lang="en-US" sz="3600" spc="-1" strike="noStrike">
                <a:solidFill>
                  <a:srgbClr val="013c5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8000"/>
                            </p:stCondLst>
                            <p:childTnLst>
                              <p:par>
                                <p:cTn id="105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" nodeType="afterEffect" fill="hold" presetClass="entr" presetID="1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2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3T12:55:52Z</dcterms:created>
  <dc:creator>zsuzsa</dc:creator>
  <dc:description/>
  <dc:language>en-US</dc:language>
  <cp:lastModifiedBy>Dr. Tráser Ferenc</cp:lastModifiedBy>
  <dcterms:modified xsi:type="dcterms:W3CDTF">2010-10-11T18:46:56Z</dcterms:modified>
  <cp:revision>5</cp:revision>
  <dc:subject/>
  <dc:title>1. dia</dc:title>
</cp:coreProperties>
</file>