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856A-E1C3-4144-91C9-8CE5E362769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2080" cy="411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3399"/>
                </a:solidFill>
                <a:latin typeface="Arial"/>
              </a:rPr>
              <a:t>A mátrix (logframe) nem más, mint a projekt Inputok Tevékenységek Eredmények, célok és Hatások közötti logikai kapcsolatrendszer rendszerezett és egyértelmű vizuális megjelen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Garamond"/>
              </a:rPr>
              <a:t>Összevontan tartalmazza a projekt céljait, a hozzárendelt mutatókat, a megvalósítás kockázatát, a szükséges erőforrásokat és a lehetséges eredményeket.azaz </a:t>
            </a:r>
            <a:r>
              <a:rPr b="0" lang="hu-HU" sz="1600" spc="-1" strike="noStrike">
                <a:solidFill>
                  <a:srgbClr val="808080"/>
                </a:solidFill>
                <a:latin typeface="Garamond"/>
              </a:rPr>
              <a:t>a teljes program egy oldal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F716-B8F1-4EF2-8E55-B829F6DB6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503A-78EA-44F4-B0C3-E910FC8D9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0E5D-45CA-4A87-BCC8-ABD512B7D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0DE7E-B4D6-408B-9232-5C7438E9A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6E88-03D8-4DAB-9CCF-26716A697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99A9-D881-4912-9FE1-9D055465F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33EB-786A-4CE8-B15A-BBBD08512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7AD9-FD31-485F-90CA-3588D451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F151-A0F1-44F8-B007-FA7AA268E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D9E5-1CDF-4424-928D-899E31AE0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D137-2451-4022-923B-019E10AB8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BC03-44DE-47FE-837B-274A98121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06112A72-EA7F-4D84-B281-6EBDBA70A5D5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14560" y="2565360"/>
            <a:ext cx="51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S11-B1 A projektek tervezése, Logikai Keretmátrix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51600" y="92880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dikátorok - 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Definíció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2320" y="2196720"/>
            <a:ext cx="7623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524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13c59"/>
                </a:solidFill>
                <a:latin typeface="Arial"/>
              </a:rPr>
              <a:t>Mutató, amely a komplex valóságról szóló információt leegyszerűsített formában közli</a:t>
            </a:r>
            <a:endParaRPr b="0" lang="en-US" sz="21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24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13c59"/>
                </a:solidFill>
                <a:latin typeface="Arial"/>
              </a:rPr>
              <a:t>A projekt monitoring kontextusában: a teljesítménymérés, a célok elérése mérésének eszköze</a:t>
            </a:r>
            <a:endParaRPr b="0" lang="en-US" sz="21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68468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36f0"/>
                </a:solidFill>
                <a:latin typeface="Arial"/>
              </a:rPr>
              <a:t>Indikátorok - horizontális logika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994120"/>
            <a:ext cx="8001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200" spc="-1" strike="noStrike">
                <a:solidFill>
                  <a:srgbClr val="ff0000"/>
                </a:solidFill>
                <a:latin typeface="Tahoma"/>
              </a:rPr>
              <a:t>A jó indikátorok – a SMART kritériumok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pecif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Konkré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sur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Mérhető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chiev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lérhető, rendelkezésre áll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list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Reális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me-based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dőhöz kötöt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É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DIKÁT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1851120"/>
            <a:ext cx="1904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FORMÁCIÓ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FORR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PCM - LKM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101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5815"/>
                </a:solidFill>
                <a:uFillTx/>
                <a:latin typeface="Verdana"/>
              </a:rPr>
              <a:t>PC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A projekt különböző fázisaiban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Jól meghatározott vezetői </a:t>
            </a:r>
            <a:r>
              <a:rPr b="0" i="1" lang="en-US" sz="1800" spc="-1" strike="noStrike" u="sng">
                <a:solidFill>
                  <a:srgbClr val="fe5815"/>
                </a:solidFill>
                <a:uFillTx/>
                <a:latin typeface="Verdana"/>
              </a:rPr>
              <a:t>tevékenységek</a:t>
            </a: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 é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e5815"/>
                </a:solidFill>
                <a:uFillTx/>
                <a:latin typeface="Verdana"/>
              </a:rPr>
              <a:t>Döntéshozatal</a:t>
            </a:r>
            <a:r>
              <a:rPr b="0" lang="en-US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LKM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Program - projekt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tervezési, vezetői, értékelési metodika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részvéte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t,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átláthatóság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ot és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célorientáltság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ot javító eszközök használa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711680"/>
            <a:ext cx="3889440" cy="1008720"/>
          </a:xfrm>
          <a:prstGeom prst="rect">
            <a:avLst/>
          </a:prstGeom>
          <a:noFill/>
          <a:ln w="507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Döntéshozatal és megvalósítási folyamat előre meghatározott mód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4711680"/>
            <a:ext cx="4176720" cy="100872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Times New Roman"/>
              </a:rPr>
              <a:t>Proje</a:t>
            </a: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13c59"/>
                </a:solidFill>
                <a:latin typeface="Times New Roman"/>
              </a:rPr>
              <a:t>t</a:t>
            </a: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menedzsment metodika és eszközö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A logikai keretterv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043000"/>
            <a:ext cx="7772400" cy="38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483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Tahoma"/>
              </a:rPr>
              <a:t>A logframe módszer több, mint maga a mátrix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projekt</a:t>
            </a:r>
            <a:r>
              <a:rPr b="1" lang="en-US" sz="2000" spc="-1" strike="noStrike">
                <a:solidFill>
                  <a:srgbClr val="013c59"/>
                </a:solidFill>
                <a:latin typeface="Palatino Linotype"/>
              </a:rPr>
              <a:t> készítés</a:t>
            </a:r>
            <a:r>
              <a:rPr b="1" lang="en-US" sz="20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szakaszai LKM módszertan szerint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00000" y="1628640"/>
            <a:ext cx="3356280" cy="721080"/>
          </a:xfrm>
          <a:prstGeom prst="rect">
            <a:avLst/>
          </a:prstGeom>
          <a:gradFill rotWithShape="0">
            <a:gsLst>
              <a:gs pos="0">
                <a:srgbClr val="b4f400"/>
              </a:gs>
              <a:gs pos="50000">
                <a:srgbClr val="ffcccc"/>
              </a:gs>
              <a:gs pos="100000">
                <a:srgbClr val="b4f400"/>
              </a:gs>
            </a:gsLst>
            <a:lin ang="10800000"/>
          </a:gradFill>
          <a:ln w="9360">
            <a:solidFill>
              <a:srgbClr val="013c59"/>
            </a:solidFill>
            <a:miter/>
          </a:ln>
        </p:spPr>
        <p:txBody>
          <a:bodyPr anchor="t">
            <a:normAutofit/>
          </a:bodyPr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c59"/>
                </a:solidFill>
                <a:latin typeface="Arial"/>
              </a:rPr>
              <a:t>ELEMZŐ SZAKASZ</a:t>
            </a: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1700280"/>
            <a:ext cx="4419720" cy="990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4f400"/>
              </a:gs>
              <a:gs pos="50000">
                <a:srgbClr val="ffcc99"/>
              </a:gs>
              <a:gs pos="100000">
                <a:srgbClr val="b4f400"/>
              </a:gs>
            </a:gsLst>
            <a:lin ang="10800000"/>
          </a:gra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3c5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ERVEZ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SZAKASZ</a:t>
            </a:r>
            <a:r>
              <a:rPr b="0" lang="en-US" sz="2400" spc="-1" strike="noStrike">
                <a:solidFill>
                  <a:srgbClr val="013c59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411280"/>
            <a:ext cx="331308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takeholder elemzé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Problémaelemzés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potenciális érdekeltek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b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zonosítása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.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F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őbb problémáik, korlátaik és lehetőségeik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elemzése,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k–okozati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összefüggések feltárása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célok elemzés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célok megfogalmazása a feltárt problémák alapján;  eszköz –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végc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él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összefüggések feltárás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tratégiaelemzés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célok eléréséhez szükséges stratégiák számbavétel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,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f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célok meghatározása (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átfogó célok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és projekt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cél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781360"/>
            <a:ext cx="37335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Logikai keret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projekt szerkezetének meghatározása, belső logikájának tesztelése, a célok kialakítása mérhető feltételek alapján, az eszközök és költségek megállapítása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evékenység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z egyes tevékenységek sorrendjének és függ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égének megállapítása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,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az átfutási idő b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ecslése,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a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mérföldk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övek meghatározása, felelősségi körök kijelölés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</a:rPr>
              <a:t>Erőf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rrás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: a tevékenység ütemezés alapján az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rőforrás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ok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és a költségvetés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lkészítése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7200">
            <a:off x="127440" y="297576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Illeszt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e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lemzé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153200">
            <a:off x="-139680" y="42530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Következte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-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ek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190400">
            <a:off x="-297000" y="56451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legmegfelel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bb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pció kiválasztása</a:t>
            </a:r>
            <a:r>
              <a:rPr b="0" lang="en-US" sz="1400" spc="-1" strike="noStrike">
                <a:solidFill>
                  <a:srgbClr val="013c59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557160" y="3219480"/>
            <a:ext cx="197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projekt logik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a meghatározása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7800">
            <a:off x="3744720" y="53366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Részletes mű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köd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i terv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A beavatkozás logikáj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0600" y="5410080"/>
            <a:ext cx="2667240" cy="10670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tevékenysége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8360" y="5383080"/>
            <a:ext cx="162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0600" y="4097160"/>
            <a:ext cx="2667240" cy="82584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Eredménye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0320" y="2792520"/>
            <a:ext cx="2647800" cy="81900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1700280"/>
            <a:ext cx="2628720" cy="78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3c59"/>
                </a:solidFill>
                <a:latin typeface="Verdana"/>
              </a:rPr>
              <a:t>Hatás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1700280"/>
            <a:ext cx="1728720" cy="8049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Átfogó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061040" y="4659480"/>
            <a:ext cx="191880" cy="6120"/>
            <a:chOff x="7061040" y="4659480"/>
            <a:chExt cx="191880" cy="6120"/>
          </a:xfrm>
        </p:grpSpPr>
        <p:sp>
          <p:nvSpPr>
            <p:cNvPr id="125" name=""/>
            <p:cNvSpPr/>
            <p:nvPr/>
          </p:nvSpPr>
          <p:spPr>
            <a:xfrm>
              <a:off x="7061040" y="465948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13240" y="4659480"/>
              <a:ext cx="3960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8680" y="4659480"/>
              <a:ext cx="3996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480" y="465948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95320" y="5749920"/>
            <a:ext cx="37656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177" y="0"/>
                </a:moveTo>
                <a:lnTo>
                  <a:pt x="177" y="49"/>
                </a:lnTo>
                <a:lnTo>
                  <a:pt x="0" y="49"/>
                </a:lnTo>
                <a:lnTo>
                  <a:pt x="0" y="146"/>
                </a:lnTo>
                <a:lnTo>
                  <a:pt x="177" y="146"/>
                </a:lnTo>
                <a:lnTo>
                  <a:pt x="177" y="195"/>
                </a:lnTo>
                <a:lnTo>
                  <a:pt x="237" y="97"/>
                </a:lnTo>
                <a:lnTo>
                  <a:pt x="177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36840" y="501156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36840" y="3700440"/>
            <a:ext cx="376200" cy="308160"/>
          </a:xfrm>
          <a:custGeom>
            <a:avLst/>
            <a:gdLst/>
            <a:ahLst/>
            <a:rect l="l" t="t" r="r" b="b"/>
            <a:pathLst>
              <a:path w="237" h="194">
                <a:moveTo>
                  <a:pt x="0" y="48"/>
                </a:moveTo>
                <a:lnTo>
                  <a:pt x="60" y="48"/>
                </a:lnTo>
                <a:lnTo>
                  <a:pt x="60" y="194"/>
                </a:lnTo>
                <a:lnTo>
                  <a:pt x="177" y="194"/>
                </a:lnTo>
                <a:lnTo>
                  <a:pt x="177" y="48"/>
                </a:lnTo>
                <a:lnTo>
                  <a:pt x="237" y="48"/>
                </a:lnTo>
                <a:lnTo>
                  <a:pt x="11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249228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3200" y="2838600"/>
            <a:ext cx="188280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Specifikus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53200" y="4172040"/>
            <a:ext cx="1728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Operatív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15080" y="1752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15080" y="31240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15080" y="4495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1773360"/>
            <a:ext cx="1295640" cy="0"/>
          </a:xfrm>
          <a:prstGeom prst="line">
            <a:avLst/>
          </a:prstGeom>
          <a:ln w="38160">
            <a:solidFill>
              <a:srgbClr val="013c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8675280" y="1773000"/>
            <a:ext cx="1080" cy="3169080"/>
          </a:xfrm>
          <a:prstGeom prst="straightConnector1">
            <a:avLst/>
          </a:prstGeom>
          <a:ln w="38160">
            <a:solidFill>
              <a:srgbClr val="013c5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7338960" y="2838600"/>
            <a:ext cx="1728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41" name=""/>
          <p:cNvCxnSpPr/>
          <p:nvPr/>
        </p:nvCxnSpPr>
        <p:spPr>
          <a:xfrm flipH="1">
            <a:off x="7524000" y="4941360"/>
            <a:ext cx="1143720" cy="108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>
            <a:off x="7105680" y="3428640"/>
            <a:ext cx="2160" cy="133416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>
            <a:off x="7124760" y="1751760"/>
            <a:ext cx="2160" cy="133452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8160" y="55627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3c59"/>
                </a:solidFill>
                <a:latin typeface="Verdana"/>
              </a:rPr>
              <a:t>Inputok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logframe mátrix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68520" y="2354400"/>
            <a:ext cx="1713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47824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TÁGABB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CÉLO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IMPACTS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4152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KÖZVETLEN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CÉL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(OUTCOM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20516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EREDMÉNYE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OUTPUTS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68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TEVÉKENYSÉGE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INPUTS</a:t>
            </a: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0036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INTERVENCIÓS LOG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036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36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0036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036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036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OBJEKTÍVEN MÉRHETŐ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TELJESÍTÉS-INDIKÁTOR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036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036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0036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0036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ESZKÖZÖ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0072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AZ INFORMÁCIÓ FORRÁSA AZ INDIKÁTOROKHOZ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72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072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0072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KÖLTSÉG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5184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FELTÉTELEZÉS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5184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184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5184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5184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51840" y="593424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ELŐFELTÉTEL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A feltételezések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Értelmezése: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projekt sikere szempontjából fontos külső tényező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1000" y="285588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Projekt leírá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2703600"/>
            <a:ext cx="202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Objektíven igazolható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eredményességi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mutató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8840" y="2779560"/>
            <a:ext cx="163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Ellenőrzés forrásai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és eszközei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13200" y="28558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eltételezés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4920" y="3541680"/>
            <a:ext cx="16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ÁTFOGÓ CÉL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overall objectiv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9800" y="4227480"/>
            <a:ext cx="1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PROJEKT CÉLJA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project purpose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2480" y="4913280"/>
            <a:ext cx="163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VÁRT EREDMÉNY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Expected results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v. output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1280" y="567540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TEVÉKENYSÉG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Activiti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635652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67480" y="64674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ELŐFELTÉTEL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90560" y="605592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590560" y="521784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590560" y="445572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0560" y="369360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5979960"/>
            <a:ext cx="380988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18200"/>
            <a:ext cx="38102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4456080"/>
            <a:ext cx="381024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Feltételek elemzés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FELTÉTELEZÉSEK (PÉLDA)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40" y="1700280"/>
            <a:ext cx="3587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A régió foglalkoztatottság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helyzete javu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3120" y="2819520"/>
            <a:ext cx="3292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evesebb munkanélkül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térségi lak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6240" y="3933720"/>
            <a:ext cx="3020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Több munkalehetősé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181480"/>
            <a:ext cx="350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Oktatás- képzés, ösztönző rendsze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67240" y="2819520"/>
            <a:ext cx="167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Betelepülő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vállalkozó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1080" y="3975120"/>
            <a:ext cx="1517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Elegendő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munkaerő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01640" y="4965840"/>
            <a:ext cx="2774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Megfelelően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épzett települési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38720" y="5907240"/>
            <a:ext cx="2455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evés munkahel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 flipV="1">
            <a:off x="3962160" y="5485680"/>
            <a:ext cx="2319840" cy="56124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 flipV="1">
            <a:off x="3492000" y="2060280"/>
            <a:ext cx="2874240" cy="106416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>
            <a:off x="3276360" y="3123360"/>
            <a:ext cx="3048480" cy="104220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0" idx="1"/>
            <a:endCxn id="216" idx="3"/>
          </p:cNvCxnSpPr>
          <p:nvPr/>
        </p:nvCxnSpPr>
        <p:spPr>
          <a:xfrm flipH="1" flipV="1">
            <a:off x="3152520" y="4136400"/>
            <a:ext cx="3172320" cy="118476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grpSp>
        <p:nvGrpSpPr>
          <p:cNvPr id="226" name=""/>
          <p:cNvGrpSpPr/>
          <p:nvPr/>
        </p:nvGrpSpPr>
        <p:grpSpPr>
          <a:xfrm>
            <a:off x="3962160" y="5029200"/>
            <a:ext cx="2384640" cy="642600"/>
            <a:chOff x="3962160" y="5029200"/>
            <a:chExt cx="2384640" cy="642600"/>
          </a:xfrm>
        </p:grpSpPr>
        <p:cxnSp>
          <p:nvCxnSpPr>
            <p:cNvPr id="227" name=""/>
            <p:cNvCxnSpPr>
              <a:stCxn id="217" idx="3"/>
              <a:endCxn id="228" idx="1"/>
            </p:cNvCxnSpPr>
            <p:nvPr/>
          </p:nvCxnSpPr>
          <p:spPr>
            <a:xfrm>
              <a:off x="3962160" y="5340240"/>
              <a:ext cx="632520" cy="1512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29" name=""/>
            <p:cNvCxnSpPr>
              <a:stCxn id="228" idx="3"/>
              <a:endCxn id="220" idx="1"/>
            </p:cNvCxnSpPr>
            <p:nvPr/>
          </p:nvCxnSpPr>
          <p:spPr>
            <a:xfrm flipV="1">
              <a:off x="5055840" y="5350680"/>
              <a:ext cx="129132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4603680" y="502920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429000" y="3886200"/>
            <a:ext cx="2906640" cy="642600"/>
            <a:chOff x="3429000" y="3886200"/>
            <a:chExt cx="2906640" cy="642600"/>
          </a:xfrm>
        </p:grpSpPr>
        <p:cxnSp>
          <p:nvCxnSpPr>
            <p:cNvPr id="231" name=""/>
            <p:cNvCxnSpPr>
              <a:stCxn id="216" idx="3"/>
              <a:endCxn id="232" idx="1"/>
            </p:cNvCxnSpPr>
            <p:nvPr/>
          </p:nvCxnSpPr>
          <p:spPr>
            <a:xfrm>
              <a:off x="3429000" y="4197240"/>
              <a:ext cx="1154880" cy="147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33" name=""/>
            <p:cNvCxnSpPr>
              <a:stCxn id="232" idx="3"/>
              <a:endCxn id="219" idx="1"/>
            </p:cNvCxnSpPr>
            <p:nvPr/>
          </p:nvCxnSpPr>
          <p:spPr>
            <a:xfrm flipV="1">
              <a:off x="5044680" y="4207680"/>
              <a:ext cx="129132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4592520" y="388620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52680" y="2819520"/>
            <a:ext cx="2995200" cy="642600"/>
            <a:chOff x="3352680" y="2819520"/>
            <a:chExt cx="2995200" cy="642600"/>
          </a:xfrm>
        </p:grpSpPr>
        <p:cxnSp>
          <p:nvCxnSpPr>
            <p:cNvPr id="235" name=""/>
            <p:cNvCxnSpPr>
              <a:stCxn id="215" idx="3"/>
              <a:endCxn id="236" idx="1"/>
            </p:cNvCxnSpPr>
            <p:nvPr/>
          </p:nvCxnSpPr>
          <p:spPr>
            <a:xfrm>
              <a:off x="3352680" y="3130560"/>
              <a:ext cx="1343520" cy="1512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37" name=""/>
            <p:cNvCxnSpPr>
              <a:stCxn id="236" idx="3"/>
              <a:endCxn id="218" idx="1"/>
            </p:cNvCxnSpPr>
            <p:nvPr/>
          </p:nvCxnSpPr>
          <p:spPr>
            <a:xfrm flipV="1">
              <a:off x="5134680" y="3141000"/>
              <a:ext cx="121356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704840" y="281952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5:52Z</dcterms:created>
  <dc:creator>zsuzsa</dc:creator>
  <dc:description/>
  <dc:language>en-US</dc:language>
  <cp:lastModifiedBy>Dr. Tráser Ferenc</cp:lastModifiedBy>
  <dcterms:modified xsi:type="dcterms:W3CDTF">2010-10-11T18:46:56Z</dcterms:modified>
  <cp:revision>5</cp:revision>
  <dc:subject/>
  <dc:title>1. dia</dc:title>
</cp:coreProperties>
</file>