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6DAD-E3CC-41F5-879F-7D241E94A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65A39-E054-41AA-A595-AD607605E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126C6-0F35-495F-B6FE-EA04896ED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585AD-C882-452B-9956-A83243C169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D3592-BFB7-4742-AF91-4FF1BF157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7E826-6DF3-4DDA-B515-8A63FE446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36090-E9D7-42CC-BB77-C3B7ECDF8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F2DF3-8B9B-4FC7-B859-111D18515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D7B0F-77B7-4F08-94F3-7CB4BCE77A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2CA11-8AFD-449C-9550-39D0CAA29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060D2-91D2-493E-8527-97FBB908E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02A20-D67F-4323-B306-BA1A1F1BD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D6E0EBF7-486C-4B3B-94E7-5EBA7738F49F}" type="slidenum">
              <a:rPr b="0" lang="de-DE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765000"/>
            <a:ext cx="820728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136f0"/>
                </a:solidFill>
                <a:latin typeface="Arial"/>
              </a:rPr>
              <a:t>S11 modul – Projektmenedzsment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5120" y="3494160"/>
            <a:ext cx="5842080" cy="2022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86280" y="5424480"/>
            <a:ext cx="11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13c59"/>
                </a:solidFill>
                <a:latin typeface="Arial"/>
              </a:rPr>
              <a:t>Eurocrafts 21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5600" y="2565360"/>
            <a:ext cx="36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e5815"/>
                </a:solidFill>
                <a:latin typeface="Arial"/>
              </a:rPr>
              <a:t>S11-C1</a:t>
            </a: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: </a:t>
            </a:r>
            <a:r>
              <a:rPr b="0" lang="hu-HU" sz="1800" spc="-1" strike="noStrike">
                <a:solidFill>
                  <a:srgbClr val="fe5815"/>
                </a:solidFill>
                <a:latin typeface="Arial"/>
              </a:rPr>
              <a:t>A projektek megvalósítás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592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A projektek megvalósításának főbb szakaszai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20244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136f0"/>
                </a:solidFill>
                <a:latin typeface="Arial"/>
              </a:rPr>
              <a:t>A tevékenységek sorrendje</a:t>
            </a:r>
            <a:endParaRPr b="0" lang="en-US" sz="20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A célok áttekintése, a feladatterv és a költségvetés elkészítése és elfogadás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Projektindító áttekintés, a projektterv és a feltételek áttekintése, módosítási javaslatok megfogalmazás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Projektirányítási és monitoring rendszerek felállítása, a logikai keretmátrixba foglaltak felhasználásával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A tevékenységek végrehajtása, az outputok létrehozása és a projektcél megvalósítás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A feladattervhez és költségvetési tervhez viszonyított előrehaladási adatok rögzítés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A projekt tevékenységeinek, eredményeinek vizsgálata a szakpolitikát formáló és végrehajtó intézmények eljárásai szempontjából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A feladatterv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-46440" bIns="-4644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87280" y="2708280"/>
            <a:ext cx="8856720" cy="2995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-46440" bIns="-4644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5136f0"/>
                </a:solidFill>
                <a:latin typeface="Arial"/>
                <a:ea typeface="Times New Roman"/>
              </a:rPr>
              <a:t>Ellenőrzés, monitoring és értékelés jellemzőinek összefoglalása</a:t>
            </a:r>
            <a:endParaRPr b="0" lang="en-US" sz="2000" spc="-1" strike="noStrike">
              <a:solidFill>
                <a:srgbClr val="5136f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95360" y="2001960"/>
          <a:ext cx="8035920" cy="3857400"/>
        </p:xfrm>
        <a:graphic>
          <a:graphicData uri="http://schemas.openxmlformats.org/drawingml/2006/table">
            <a:tbl>
              <a:tblPr/>
              <a:tblGrid>
                <a:gridCol w="1575360"/>
                <a:gridCol w="2284200"/>
                <a:gridCol w="2167560"/>
                <a:gridCol w="2008800"/>
              </a:tblGrid>
              <a:tr h="520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Times New Roman"/>
                        </a:rPr>
                        <a:t>Tevékenység</a:t>
                      </a:r>
                      <a:r>
                        <a:rPr b="1" lang="hu-HU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1368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Ellenőrzés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1368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Times New Roman"/>
                        </a:rPr>
                        <a:t>Monitoring</a:t>
                      </a:r>
                      <a:r>
                        <a:rPr b="1" lang="hu-HU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1368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Times New Roman"/>
                        </a:rPr>
                        <a:t>Értékelés</a:t>
                      </a:r>
                      <a:r>
                        <a:rPr b="1" lang="hu-HU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13680">
                      <a:solidFill>
                        <a:srgbClr val="013c59"/>
                      </a:solidFill>
                    </a:lnR>
                    <a:lnT w="1368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</a:tr>
              <a:tr h="129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Cél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A szabályoknak, előírásoknak való megfelelés vizsgálat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A kitűzött célokhoz viszonyított megvalósulás vizsgálat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A tevékenység hatásának vizsgálata a megoldani kívánt társadalmi-gazdasági probléma viszonylatában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1368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Időbeliség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Folyamatos, a projektvégrehajtás során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Folyamatos, a projektvégrehajtás során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Pontszerű, előzetes és utólagos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1368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A tevékenység végzője szerint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Külső vagy belső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Times New Roman"/>
                        </a:rPr>
                        <a:t>Belső</a:t>
                      </a: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Times New Roman"/>
                        </a:rPr>
                        <a:t>Külső</a:t>
                      </a: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1368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A tevékenység végzője szerint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1368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Operatív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1368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Operatív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1368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Elemző-tudományos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1368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13680">
                      <a:solidFill>
                        <a:srgbClr val="013c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9:25:06Z</dcterms:created>
  <dc:creator>Dr. Tráser Ferenc</dc:creator>
  <dc:description/>
  <dc:language>en-US</dc:language>
  <cp:lastModifiedBy>Dr. Tráser Ferenc</cp:lastModifiedBy>
  <dcterms:modified xsi:type="dcterms:W3CDTF">2010-10-11T19:26:45Z</dcterms:modified>
  <cp:revision>1</cp:revision>
  <dc:subject/>
  <dc:title>1. dia</dc:title>
</cp:coreProperties>
</file>