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10234613" cy="14662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8D9BC-E4E8-49AC-BBEA-D96B42992C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C5903-06F6-4E85-9C2C-08E42EA607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25ED8-380B-47B2-8C55-94A8515E91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28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29560" y="200160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28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29560" y="4016880"/>
            <a:ext cx="25873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A3BBF-90CD-4B52-A108-1084EF0D7D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95FE6-438E-4622-BDA0-74E25BECDC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82E75-B07B-45CF-A810-095173FC3F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E572E-15D5-40A0-9B4C-1D7E2C62D4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D74A6-BCEF-4A31-BCF1-C26C680494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98600" y="689040"/>
            <a:ext cx="637704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12127-DFA1-41DD-A11F-832490E40C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F2397-DB42-4ACF-B753-3B1EA3FCA5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13400" y="401688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2A3A5-5C4F-400A-A8AF-528CEB037D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13400" y="2001600"/>
            <a:ext cx="39214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4016880"/>
            <a:ext cx="80359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AC686-D47F-4D02-94D3-49738B15CD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9"/>
          <p:cNvSpPr/>
          <p:nvPr/>
        </p:nvSpPr>
        <p:spPr>
          <a:xfrm>
            <a:off x="-7217640" y="6005520"/>
            <a:ext cx="235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dac4ae"/>
                </a:solidFill>
                <a:latin typeface="Estrangelo Edessa"/>
              </a:rPr>
              <a:t>|||||||||||||||||||||||||||||||||||||||||||||||||||||||||||||||||||||||||||||||||||||||||||||||||||||||||||||||||||||||||||||||||||||||||||||||||||||||||||||||||||||||||||||||||||||||||||||||||||||||||||||||||||||||||||||||||||||||||||||||||||||||||||||||||||||||||||||||||||||||</a:t>
            </a:r>
            <a:endParaRPr b="0" lang="en-US" sz="12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1" name="Text Box 44"/>
          <p:cNvSpPr/>
          <p:nvPr/>
        </p:nvSpPr>
        <p:spPr>
          <a:xfrm>
            <a:off x="463680" y="5883120"/>
            <a:ext cx="8218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99cc00"/>
                </a:solidFill>
                <a:latin typeface="Arial"/>
              </a:rPr>
              <a:t>-----------------------------------------------------------------------------------------------------------------------------------------------</a:t>
            </a:r>
            <a:endParaRPr b="0" lang="en-US" sz="13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2" name="Rectangle 48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8600" y="689040"/>
            <a:ext cx="63770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3c59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5360" y="2001600"/>
            <a:ext cx="803592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1" marL="801720" indent="-26676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2" marL="1252440" indent="-271440"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3" marL="1660680" indent="-228600">
              <a:spcBef>
                <a:spcPts val="499"/>
              </a:spcBef>
              <a:buClr>
                <a:srgbClr val="bc95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4" marL="2068560" indent="-228600">
              <a:spcBef>
                <a:spcPts val="499"/>
              </a:spcBef>
              <a:buClr>
                <a:srgbClr val="bc95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5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  <a:p>
            <a:pPr lvl="6" marL="2068560" indent="-228600">
              <a:spcBef>
                <a:spcPts val="499"/>
              </a:spcBef>
              <a:buClr>
                <a:srgbClr val="013c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3c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3c59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234200" y="325440"/>
            <a:ext cx="1523880" cy="6159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90680" y="411120"/>
            <a:ext cx="2757240" cy="4888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07960" y="6244920"/>
            <a:ext cx="5727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&lt;footer&gt;</a:t>
            </a: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S4-A1: PowerPoint-Presentation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“Marketing goals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38E6-C0A0-40C1-AC2E-C47C0A2516CC}" type="slidenum">
              <a:rPr b="0" lang="de-AT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7"/>
          <p:cNvSpPr/>
          <p:nvPr/>
        </p:nvSpPr>
        <p:spPr>
          <a:xfrm>
            <a:off x="1116000" y="3500280"/>
            <a:ext cx="7391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8080"/>
                </a:solidFill>
                <a:latin typeface="Arial"/>
              </a:rPr>
              <a:t>Market</a:t>
            </a:r>
            <a:r>
              <a:rPr b="1" lang="hu-HU" sz="3600" spc="-1" strike="noStrike">
                <a:solidFill>
                  <a:srgbClr val="808080"/>
                </a:solidFill>
                <a:latin typeface="Arial"/>
              </a:rPr>
              <a:t>ing célok</a:t>
            </a:r>
            <a:endParaRPr b="0" lang="en-US" sz="36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S</a:t>
            </a:r>
            <a:r>
              <a:rPr b="0" lang="hu-HU" sz="1800" spc="-1" strike="noStrike">
                <a:solidFill>
                  <a:srgbClr val="80808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808080"/>
                </a:solidFill>
                <a:latin typeface="Verdana"/>
              </a:rPr>
              <a:t>-A1</a:t>
            </a:r>
            <a:r>
              <a:rPr b="0" lang="hu-HU" sz="1800" spc="-1" strike="noStrike">
                <a:solidFill>
                  <a:srgbClr val="808080"/>
                </a:solidFill>
                <a:latin typeface="Times New Roman"/>
              </a:rPr>
              <a:t> Modul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www.eurocrafts21.eu</a:t>
            </a:r>
            <a:endParaRPr b="0" lang="en-US" sz="1800" spc="-1" strike="noStrike">
              <a:solidFill>
                <a:srgbClr val="013c59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25985" t="25469" r="24397" b="51808"/>
          <a:stretch/>
        </p:blipFill>
        <p:spPr>
          <a:xfrm>
            <a:off x="2690640" y="2017800"/>
            <a:ext cx="4113360" cy="135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45DE8-7EBD-4F15-9140-64EFE534C6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95360" y="1366920"/>
            <a:ext cx="803592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80808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Ingo Rauhut: Module S4 Marketing Concept. Westdeutscher Handwerkskammertag (Ed.): Sustainable Management in crafts enterprises. A manual for the implementation of a qualification and consulting concept made for consultants and teachers in the crafts sector. Results from a pilot project, Düsseldorf (Nachhaltiges Wirtschaften in Handwerksbetrieben. Eine Handreichung zur Durchführung eines Qualifizierungs- und Beratungskonzeptes für Betriebsberater/-innen und Dozenten/-innen im Handwerk. Ergebnisse aus einem Modellversuch, Düsseldorf).</a:t>
            </a: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0000" y="1267920"/>
            <a:ext cx="77774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Programszerű</a:t>
            </a:r>
            <a:r>
              <a:rPr b="1" lang="hu-HU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m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rketing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32000" y="2565360"/>
            <a:ext cx="6680160" cy="171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1</a:t>
            </a:r>
            <a:r>
              <a:rPr b="1" lang="hu-HU" sz="2400" spc="-1" strike="noStrike">
                <a:solidFill>
                  <a:srgbClr val="808080"/>
                </a:solidFill>
                <a:latin typeface="Times New Roman"/>
              </a:rPr>
              <a:t>. lépés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hu-HU" sz="2400" spc="-1" strike="noStrike">
                <a:solidFill>
                  <a:srgbClr val="808080"/>
                </a:solidFill>
                <a:latin typeface="Times New Roman"/>
              </a:rPr>
              <a:t>Hol tartunk most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?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Times New Roman"/>
              </a:rPr>
              <a:t>A jelenlegi helyzet elemzése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1187280" y="4581360"/>
            <a:ext cx="74901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M</a:t>
            </a:r>
            <a:r>
              <a:rPr b="1" lang="hu-HU" sz="2400" spc="-1" strike="noStrike">
                <a:solidFill>
                  <a:srgbClr val="808080"/>
                </a:solidFill>
                <a:latin typeface="Times New Roman"/>
              </a:rPr>
              <a:t>ódszer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0" lang="hu-HU" sz="2400" spc="-1" strike="noStrike">
                <a:solidFill>
                  <a:srgbClr val="808080"/>
                </a:solidFill>
                <a:latin typeface="Times New Roman"/>
              </a:rPr>
              <a:t>Felmérés az önértékelésen és a gyengeségek valamint erősségek elemzésén keresztül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8"/>
          <p:cNvSpPr/>
          <p:nvPr/>
        </p:nvSpPr>
        <p:spPr>
          <a:xfrm>
            <a:off x="1403280" y="1341360"/>
            <a:ext cx="6840720" cy="20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2</a:t>
            </a:r>
            <a:r>
              <a:rPr b="1" lang="hu-HU" sz="2800" spc="-1" strike="noStrike">
                <a:solidFill>
                  <a:srgbClr val="808080"/>
                </a:solidFill>
                <a:latin typeface="Times New Roman"/>
              </a:rPr>
              <a:t>. lépés</a:t>
            </a:r>
            <a:r>
              <a:rPr b="1" lang="en-GB" sz="2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</a:t>
            </a:r>
            <a:r>
              <a:rPr b="1" lang="hu-HU" sz="2800" spc="-1" strike="noStrike">
                <a:solidFill>
                  <a:srgbClr val="808080"/>
                </a:solidFill>
                <a:latin typeface="Times New Roman"/>
              </a:rPr>
              <a:t>Hová akarunk továbblépni</a:t>
            </a:r>
            <a:r>
              <a:rPr b="1" lang="en-GB" sz="28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?</a:t>
            </a:r>
            <a:endParaRPr b="0" lang="en-US" sz="28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3c5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808080"/>
                </a:solidFill>
                <a:latin typeface="Times New Roman"/>
              </a:rPr>
              <a:t>A marketing célok meghatározása</a:t>
            </a:r>
            <a:endParaRPr b="0" lang="en-US" sz="28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1185840" y="3500280"/>
            <a:ext cx="7489800" cy="157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Times New Roman"/>
              </a:rPr>
              <a:t>Rövid távú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1-3 </a:t>
            </a:r>
            <a:r>
              <a:rPr b="1" lang="hu-HU" sz="2400" spc="-1" strike="noStrike">
                <a:solidFill>
                  <a:srgbClr val="808080"/>
                </a:solidFill>
                <a:latin typeface="Times New Roman"/>
              </a:rPr>
              <a:t>év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Times New Roman"/>
              </a:rPr>
              <a:t>Közép távú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4-5 </a:t>
            </a:r>
            <a:r>
              <a:rPr b="1" lang="hu-HU" sz="2400" spc="-1" strike="noStrike">
                <a:solidFill>
                  <a:srgbClr val="808080"/>
                </a:solidFill>
                <a:latin typeface="Times New Roman"/>
              </a:rPr>
              <a:t>év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Times New Roman"/>
              </a:rPr>
              <a:t>Hosszú távú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: 6-10 </a:t>
            </a:r>
            <a:r>
              <a:rPr b="1" lang="hu-HU" sz="2400" spc="-1" strike="noStrike">
                <a:solidFill>
                  <a:srgbClr val="808080"/>
                </a:solidFill>
                <a:latin typeface="Times New Roman"/>
              </a:rPr>
              <a:t>év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1640" y="1989000"/>
            <a:ext cx="7041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Times New Roman"/>
              </a:rPr>
              <a:t>Rövid távú célok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(I)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19280" y="2708280"/>
            <a:ext cx="67500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1-3 </a:t>
            </a:r>
            <a:r>
              <a:rPr b="1" lang="hu-HU" sz="2400" spc="-1" strike="noStrike">
                <a:solidFill>
                  <a:srgbClr val="808080"/>
                </a:solidFill>
                <a:latin typeface="Times New Roman"/>
              </a:rPr>
              <a:t>év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Times New Roman"/>
              </a:rPr>
              <a:t>erőteljesebb gazdasági orientáció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Times New Roman"/>
              </a:rPr>
              <a:t>eladás, forgalom, profit, market share 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9"/>
          <p:cNvSpPr/>
          <p:nvPr/>
        </p:nvSpPr>
        <p:spPr>
          <a:xfrm>
            <a:off x="1403280" y="1916280"/>
            <a:ext cx="70423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Times New Roman"/>
              </a:rPr>
              <a:t>Rövid távú célok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(II)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331640" y="2708280"/>
            <a:ext cx="7127640" cy="32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»Az a célunk, hogy az eladásainkat, a forgalmunkat és a profitunkat xy százalékkal növeljük 20xx-re.«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Arial"/>
              </a:rPr>
              <a:t>»A termékválasztékunkkal xy piaci részesedést kívánunk elérni 20xx-re.«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/>
          <p:cNvSpPr/>
          <p:nvPr/>
        </p:nvSpPr>
        <p:spPr>
          <a:xfrm>
            <a:off x="1476360" y="1557360"/>
            <a:ext cx="7042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Közép és hosszú távú célok </a:t>
            </a: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(I)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1619280" y="2421000"/>
            <a:ext cx="6985080" cy="33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4-5 </a:t>
            </a: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év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Főként a vásárlókat célozzák meg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A vállalat imázsa, a márkajegy elismerése, ügyfél elégedettség, stb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.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490760" y="2455560"/>
            <a:ext cx="7029360" cy="325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63600" indent="-184320">
              <a:lnSpc>
                <a:spcPct val="80000"/>
              </a:lnSpc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Times New Roman"/>
              </a:rPr>
              <a:t>»Szeretnénk, ha az ügyfeleink 20xx-re rólunk a környezetbarát imázst alakítanák ki.«</a:t>
            </a:r>
            <a:r>
              <a:rPr b="1" lang="hu-HU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bc956e"/>
              </a:solidFill>
              <a:latin typeface="Arial"/>
            </a:endParaRPr>
          </a:p>
          <a:p>
            <a:pPr lvl="1" marL="36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c956e"/>
              </a:solidFill>
              <a:latin typeface="Arial"/>
            </a:endParaRPr>
          </a:p>
          <a:p>
            <a:pPr lvl="1" marL="363600" indent="-184320">
              <a:lnSpc>
                <a:spcPct val="80000"/>
              </a:lnSpc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Times New Roman"/>
              </a:rPr>
              <a:t>»Az a célunk, hogy 20xx-re a vállalkozásunk márkaismertsége xy százalékkal növekedjen.«</a:t>
            </a:r>
            <a:r>
              <a:rPr b="1" lang="hu-HU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bc956e"/>
              </a:solidFill>
              <a:latin typeface="Arial"/>
            </a:endParaRPr>
          </a:p>
          <a:p>
            <a:pPr lvl="1" marL="363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c956e"/>
              </a:solidFill>
              <a:latin typeface="Arial"/>
            </a:endParaRPr>
          </a:p>
          <a:p>
            <a:pPr lvl="1" marL="363600" indent="-184320">
              <a:lnSpc>
                <a:spcPct val="80000"/>
              </a:lnSpc>
              <a:spcBef>
                <a:spcPts val="499"/>
              </a:spcBef>
              <a:buClr>
                <a:srgbClr val="636363"/>
              </a:buClr>
              <a:buSzPct val="130000"/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8080"/>
                </a:solidFill>
                <a:latin typeface="Arial"/>
                <a:ea typeface="Times New Roman"/>
              </a:rPr>
              <a:t>»Az ügyfelek elégedettségét 20xx-re xy százalékkal kívánjuk javítani.«</a:t>
            </a:r>
            <a:r>
              <a:rPr b="1" lang="hu-HU" sz="2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bc956e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1332000" y="1628640"/>
            <a:ext cx="7041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Közép és hosszú távú célok </a:t>
            </a:r>
            <a:r>
              <a:rPr b="1" lang="de-DE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(II)</a:t>
            </a:r>
            <a:endParaRPr b="0" lang="en-US" sz="2400" spc="-1" strike="noStrike">
              <a:solidFill>
                <a:srgbClr val="013c5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A célok kialakításakor figyelembe kell venni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…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31640" y="2133360"/>
            <a:ext cx="7507080" cy="36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Pontosság a tartalom tekintetében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</a:t>
            </a: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(Mit kell elérni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?) 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A célérték világos meghatározása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(</a:t>
            </a: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Mennyit kell elérnünk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?)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Az időkeret pontos kijelölése 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(</a:t>
            </a: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Mikorra kell a kitűzött célt elérni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?) 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A megcélzott terület kiterjedtségét</a:t>
            </a:r>
            <a:r>
              <a:rPr b="1" lang="en-GB" sz="24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  (</a:t>
            </a:r>
            <a:r>
              <a:rPr b="1" lang="hu-HU" sz="2400" spc="-1" strike="noStrike">
                <a:solidFill>
                  <a:srgbClr val="808080"/>
                </a:solidFill>
                <a:latin typeface="Arial"/>
              </a:rPr>
              <a:t>Mely területek – üzleti szegmensek/régiók – vonatkozásában kell elérni az eredményeket?)</a:t>
            </a:r>
            <a:endParaRPr b="0" lang="en-US" sz="24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95360" y="1303200"/>
            <a:ext cx="80359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808080"/>
                </a:solidFill>
                <a:latin typeface="Arial"/>
              </a:rPr>
              <a:t>www.eurocrafts21.eu </a:t>
            </a:r>
            <a:endParaRPr b="0" lang="en-US" sz="10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80808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13c59"/>
                </a:solidFill>
                <a:latin typeface="Arial"/>
              </a:rPr>
              <a:t>Az Európai Bizottság támogatást nyújtott ennek a projektnek a költségeihez.</a:t>
            </a:r>
            <a:r>
              <a:rPr b="1" i="1" lang="hu-HU" sz="16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1" i="1" lang="en-GB" sz="1600" spc="-1" strike="noStrike">
                <a:solidFill>
                  <a:srgbClr val="013c59"/>
                </a:solidFill>
                <a:latin typeface="Arial"/>
              </a:rPr>
              <a:t>Ez a</a:t>
            </a:r>
            <a:r>
              <a:rPr b="1" i="1" lang="hu-HU" sz="1600" spc="-1" strike="noStrike">
                <a:solidFill>
                  <a:srgbClr val="013c59"/>
                </a:solidFill>
                <a:latin typeface="Arial"/>
              </a:rPr>
              <a:t>z előadás</a:t>
            </a:r>
            <a:r>
              <a:rPr b="1" i="1" lang="en-GB" sz="1600" spc="-1" strike="noStrike">
                <a:solidFill>
                  <a:srgbClr val="013c59"/>
                </a:solidFill>
                <a:latin typeface="Arial"/>
              </a:rPr>
              <a:t> a szerzõ nézeteit</a:t>
            </a:r>
            <a:r>
              <a:rPr b="1" i="1" lang="hu-HU" sz="16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1" i="1" lang="en-GB" sz="1600" spc="-1" strike="noStrike">
                <a:solidFill>
                  <a:srgbClr val="013c59"/>
                </a:solidFill>
                <a:latin typeface="Arial"/>
              </a:rPr>
              <a:t>tükrözi, és az Európai Bizottság</a:t>
            </a:r>
            <a:r>
              <a:rPr b="1" i="1" lang="hu-HU" sz="1600" spc="-1" strike="noStrike">
                <a:solidFill>
                  <a:srgbClr val="013c59"/>
                </a:solidFill>
                <a:latin typeface="Arial"/>
              </a:rPr>
              <a:t> </a:t>
            </a:r>
            <a:r>
              <a:rPr b="1" i="1" lang="en-GB" sz="1600" spc="-1" strike="noStrike">
                <a:solidFill>
                  <a:srgbClr val="013c59"/>
                </a:solidFill>
                <a:latin typeface="Arial"/>
              </a:rPr>
              <a:t>nem tehetõ felelõssé az abban foglaltak bárminemû felhasználásért.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013c59"/>
                </a:solidFill>
                <a:latin typeface="Arial"/>
              </a:rPr>
              <a:t>Az EuroCrafts21 Leonardo da Vinci projekt a Plenum – Egyesület a Holisztikus Fenntartható Fejlődésért és a Faktor 10 Intézet (Ausztria) koordinálja.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013c59"/>
                </a:solidFill>
                <a:latin typeface="Arial"/>
              </a:rPr>
              <a:t>A projekt célkitűzése az, hogy jelentős hozzáadott értéket teremtsen a szakképzésben Ausztriában és a partnerországokban egyaránt (Finnország, Németország, Szlovákia, Spanyolország és Magyarország). 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013c59"/>
                </a:solidFill>
                <a:latin typeface="Arial"/>
              </a:rPr>
              <a:t>Ennek elérését egy korábban kidolgozott kísérleti projekttermék innováció transzfere szolgálja. Ez a projekttermék egy átfogó képzési és tanácsadási koncepció a fenntarthatósági menedzsment témakörében, amelyet a németországi Észak-Rajna-Wesztfáliában működő kézműipari szektor vállalkozásai számára kifejlesztettek ki.</a:t>
            </a: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3c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5:48:45Z</dcterms:created>
  <dc:creator>Ingo Rauhut</dc:creator>
  <dc:description/>
  <dc:language>en-US</dc:language>
  <cp:lastModifiedBy>Dr. Tráser Ferenc</cp:lastModifiedBy>
  <cp:lastPrinted>2005-02-10T15:49:31Z</cp:lastPrinted>
  <dcterms:modified xsi:type="dcterms:W3CDTF">2010-10-07T16:24:42Z</dcterms:modified>
  <cp:revision>93</cp:revision>
  <dc:subject/>
  <dc:title>Kein Folientitel</dc:title>
</cp:coreProperties>
</file>