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F69A-C5E8-4672-A4B2-7970BACC2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83FE-827D-4362-9966-76F310CDF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D3070-727B-4B58-B994-6B2F3784D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64D2-AC23-45C6-B74D-976ADB7CE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DE41-117E-4E40-A8ED-C23B9779E1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159B-D7AB-4081-A98F-BB27D2109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64985-11FA-4CB2-A648-5CBF97D8B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1CD5-B7DA-4BEA-B3F7-5E2690310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9DF9-449C-4DB9-946D-02B2BE5A4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E530-E74D-496E-89DF-A00452B8A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C785-A5EE-4C7D-8FF4-AAA9016EA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CB29-CE30-454C-8074-E7E309B9D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2448-59DF-4D6F-BA43-31649D08CDD1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Market</a:t>
            </a:r>
            <a:r>
              <a:rPr b="1" lang="hu-HU" sz="3600" spc="-1" strike="noStrike">
                <a:solidFill>
                  <a:srgbClr val="808080"/>
                </a:solidFill>
                <a:latin typeface="Arial"/>
              </a:rPr>
              <a:t>ing célok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S</a:t>
            </a:r>
            <a:r>
              <a:rPr b="0" lang="hu-HU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-A1</a:t>
            </a:r>
            <a:r>
              <a:rPr b="0" lang="hu-HU" sz="1800" spc="-1" strike="noStrike">
                <a:solidFill>
                  <a:srgbClr val="808080"/>
                </a:solidFill>
                <a:latin typeface="Times New Roman"/>
              </a:rPr>
              <a:t> Modul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E7CD-7FF9-46F5-A34B-A2BAEEDCB5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Ingo Rauhut: Module S4 Marketing Concept. Westdeutscher Handwerkskammertag (Ed.): Sustainable Management in crafts enterprises. A manual for the implementation of a qualification and consulting concept made for consultants and teachers in the crafts sector. Results from a pilot project, Düsseldorf (Nachhaltiges Wirtschaften in Handwerksbetrieben. Eine Handreichung zur Durchführung eines Qualifizierungs- und Beratungskonzeptes für Betriebsberater/-innen und Dozenten/-innen im Handwerk. Ergebnisse aus einem Modellversuch, Düsseldorf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777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rogramszerű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rke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680160" cy="17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. lépés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Hol tartunk mos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A jelenlegi helyzet elemzés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187280" y="4581360"/>
            <a:ext cx="7490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ódszer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Felmérés az önértékelésen és a gyengeségek valamint erősségek elemzésén keresztül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403280" y="1341360"/>
            <a:ext cx="6840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</a:t>
            </a:r>
            <a:r>
              <a:rPr b="1" lang="hu-HU" sz="2800" spc="-1" strike="noStrike">
                <a:solidFill>
                  <a:srgbClr val="808080"/>
                </a:solidFill>
                <a:latin typeface="Times New Roman"/>
              </a:rPr>
              <a:t>. lépés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800" spc="-1" strike="noStrike">
                <a:solidFill>
                  <a:srgbClr val="808080"/>
                </a:solidFill>
                <a:latin typeface="Times New Roman"/>
              </a:rPr>
              <a:t>Hová akarunk továbblépni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8080"/>
                </a:solidFill>
                <a:latin typeface="Times New Roman"/>
              </a:rPr>
              <a:t>A marketing célok meghatározása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185840" y="3500280"/>
            <a:ext cx="74898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Rövid távú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1-3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Közép távú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4-5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Hosszú távú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6-10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1640" y="1989000"/>
            <a:ext cx="7041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Rövid távú célo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2708280"/>
            <a:ext cx="6750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-3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erőteljesebb gazdasági orientáció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eladás, forgalom, profit, market share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1403280" y="1916280"/>
            <a:ext cx="7042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Rövid távú célo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31640" y="2708280"/>
            <a:ext cx="7127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»Az a célunk, hogy az eladásainkat, a forgalmunkat és a profitunkat xy százalékkal növeljük 20xx-re.«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Arial"/>
              </a:rPr>
              <a:t>»A termékválasztékunkkal xy piaci részesedést kívánunk elérni 20xx-re.«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476360" y="1557360"/>
            <a:ext cx="704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Közép és hosszú távú célok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619280" y="2421000"/>
            <a:ext cx="69850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4-5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Főként a vásárlókat célozzák meg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 vállalat imázsa, a márkajegy elismerése, ügyfél elégedettség, stb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90760" y="2455560"/>
            <a:ext cx="7029360" cy="32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-184320">
              <a:lnSpc>
                <a:spcPct val="80000"/>
              </a:lnSpc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»Szeretnénk, ha az ügyfeleink 20xx-re rólunk a környezetbarát imázst alakítanák ki.«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-184320">
              <a:lnSpc>
                <a:spcPct val="80000"/>
              </a:lnSpc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»Az a célunk, hogy 20xx-re a vállalkozásunk márkaismertsége xy százalékkal növekedjen.«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-184320">
              <a:lnSpc>
                <a:spcPct val="80000"/>
              </a:lnSpc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»Az ügyfelek elégedettségét 20xx-re xy százalékkal kívánjuk javítani.«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332000" y="1628640"/>
            <a:ext cx="704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Közép és hosszú távú célok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 célok kialakításakor figyelembe kell venn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…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507080" cy="36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Pontosság a tartalom tekintetében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(Mit kell elérn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 célérték világos meghatározás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nnyit kell elérnün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z időkeret pontos kijelölése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ikorra kell a kitűzött célt elérn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 megcélzott terület kiterjedtségé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 (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ly területek – üzleti szegmensek/régiók – vonatkozásában kell elérni az eredményeket?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Az Európai Bizottság támogatást nyújtott ennek a projektnek a költségeihez.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Ez a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z előadás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 a szerzõ nézeteit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tükrözi, és az Európai Bizottság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nem tehetõ felelõssé az abban foglaltak bárminemû felhasználásért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z EuroCrafts21 Leonardo da Vinci projekt a Plenum – Egyesület a Holisztikus Fenntartható Fejlődésért és a Faktor 10 Intézet (Ausztria) koordinálja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 projekt célkitűzése az, hogy jelentős hozzáadott értéket teremtsen a szakképzésben Ausztriában és a partnerországokban egyaránt (Finnország, Németország, Szlovákia, Spanyolország és Magyarország)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Ennek elérését egy korábban kidolgozott kísérleti projekttermék innováció transzfere szolgálja. Ez a projekttermék egy átfogó képzési és tanácsadási koncepció a fenntarthatósági menedzsment témakörében, amelyet a németországi Észak-Rajna-Wesztfáliában működő kézműipari szektor vállalkozásai számára kifejlesztettek ki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Dr. Tráser Ferenc</cp:lastModifiedBy>
  <cp:lastPrinted>2005-02-10T15:49:31Z</cp:lastPrinted>
  <dcterms:modified xsi:type="dcterms:W3CDTF">2010-10-07T16:24:42Z</dcterms:modified>
  <cp:revision>93</cp:revision>
  <dc:subject/>
  <dc:title>Kein Folientitel</dc:title>
</cp:coreProperties>
</file>