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9E5CE-79D2-4206-B47E-F27D001AB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B76E8-FE4F-4535-B682-F95EE0082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0B62-BFA5-483F-A885-A642EC2D7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C7B4-BF4C-4658-A1B8-CE4F64E55A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C8476-CD1B-4BFE-9DF4-A445982C98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88C7D-B09E-4C6F-B3D4-7E4EA7AB8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C2F08-718E-436F-9DD3-40D3713F9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3FB1-144B-4DCB-9FE3-18F10DE42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BA1A-D6F0-4A37-AB59-334C5A98E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00A3-652E-4BB0-BED2-45473C6B7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1E1A-1A9B-40BD-A36E-01870AA3C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253DD-864B-4395-9110-88791D281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B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»Marketing-Mix Tools«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B2EA-91AA-4926-BBEA-6BB0353BFFCA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826920" y="3284640"/>
            <a:ext cx="777744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MARKETING-MIX </a:t>
            </a:r>
            <a:r>
              <a:rPr b="1" lang="hu-HU" sz="3600" spc="-1" strike="noStrike">
                <a:solidFill>
                  <a:srgbClr val="808080"/>
                </a:solidFill>
                <a:latin typeface="Arial"/>
              </a:rPr>
              <a:t>ESZKÖZÖK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808080"/>
                </a:solidFill>
                <a:latin typeface="Arial"/>
              </a:rPr>
              <a:t>Kommunikációs politika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808080"/>
                </a:solidFill>
                <a:latin typeface="Arial"/>
              </a:rPr>
              <a:t>és eladásösztönzés</a:t>
            </a:r>
            <a:r>
              <a:rPr b="0" lang="de-DE" sz="18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70" t="25469" r="24397" b="51808"/>
          <a:stretch/>
        </p:blipFill>
        <p:spPr>
          <a:xfrm>
            <a:off x="2617920" y="2141640"/>
            <a:ext cx="411480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17A9-60F0-4FB1-B1F4-8622EFE8F7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808080"/>
                </a:solidFill>
                <a:latin typeface="Arial"/>
              </a:rPr>
              <a:t>Kommunikációs politikai/eladásösztönzési eszközök</a:t>
            </a:r>
            <a:br>
              <a:rPr sz="2200"/>
            </a:br>
            <a:r>
              <a:rPr b="1" lang="en-GB" sz="22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Tools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2340000" y="2781360"/>
            <a:ext cx="525636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Reklám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P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Eladásösztönzés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Személyes eladás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B885-2658-4B58-B65D-4693F4E523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7272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Reklám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90760" y="2271600"/>
            <a:ext cx="668952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Célkitűzés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az eladások közép és hosszú távú ösztönzése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a márka ismertségének növelése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Célcsoport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meglévő és potenciális fogyasztó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Tartalom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termék/szolgáltatás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Példá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nyomtatott média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sportmez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/banner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és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pos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z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ter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es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hirdetés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helyi rádióspoto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filmspotok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E909A-BA1E-4744-BF83-BE82023F42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914400" y="1341360"/>
            <a:ext cx="7545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P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Célkitűzés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a vállalati imázs megalapozása, konkretizálása és fejlesztése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Célcsoport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a nagyközönség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Tartalom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a vállalat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Példá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sajtódosszié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beszédek és előadáso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kiadványo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s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zemináriumo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jótékonysági adományok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</a:rPr>
              <a:t>stb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 </a:t>
            </a:r>
            <a:endParaRPr b="0" lang="en-US" sz="20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AE36F-AA43-420E-8C39-A765F4AAFB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914400" y="1341360"/>
            <a:ext cx="7545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Eladásösztönzés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447920" y="2133720"/>
            <a:ext cx="6851520" cy="318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Célkitűzés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z eladások rövid távú növelése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Célcsopor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eglévő fogyasztók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Tartalom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termék/szolgáltatás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Példá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díja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tombolá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próbb jutalmak és ajándéktárgya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eseménye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házon belüli kiárúsítások, stb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90F48-F747-4CDA-92C0-34E5F40ADC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826920" y="1484280"/>
            <a:ext cx="7545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Személyes eladás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523880" y="2176560"/>
            <a:ext cx="685188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Célkitűzés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eggyőzés és az eladás növelése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Célcsopor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eglévő vásárlók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Tartalom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termék/szolgáltatás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Példá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árubemutató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,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 kereskedelmi vásárok és események,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stb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4F752-2760-4059-BB87-56AFB1BDCA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808080"/>
                </a:solidFill>
                <a:latin typeface="Arial"/>
              </a:rPr>
              <a:t>www.eurocrafts21.eu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Az Európai Bizottság támogatást nyújtott ennek a projektnek a költségeihez.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Ez a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z előadás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 a szerzõ nézeteit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tükrözi, és az Európai Bizottság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nem tehetõ felelõssé az abban foglaltak bárminemû felhasználásért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Az EuroCrafts21 Leonardo da Vinci projekt a Plenum – Egyesület a Holisztikus Fenntartható Fejlődésért és a Faktor 10 Intézet (Ausztria) koordinálja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A projekt célkitűzése az, hogy jelentős hozzáadott értéket teremtsen a szakképzésben Ausztriában és a partnerországokban egyaránt (Finnország, Németország, Szlovákia, Spanyolország és Magyarország)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Ennek elérését egy korábban kidolgozott kísérleti projekttermék innováció transzfere szolgálja. Ez a projekttermék egy átfogó képzési és tanácsadási koncepció a fenntarthatósági menedzsment témakörében, amelyet a németországi Észak-Rajna-Wesztfáliában működő kézműipari szektor vállalkozásai számára kifejlesztettek ki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EC61D-41F3-4B83-9B74-34D8B85B4B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808080"/>
                </a:solidFill>
                <a:latin typeface="Arial"/>
              </a:rPr>
              <a:t>Forrás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13c59"/>
                </a:solidFill>
                <a:latin typeface="Arial"/>
              </a:rPr>
              <a:t>Ingo Rauhut: S4 Modul: Marketing koncepció. </a:t>
            </a: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Westdeutscher Handwerkskammertag (Ed.): A fenntartható fejlődés a kézműiparban. Segédanyag a kézműiparhoz kötődő tanácsadók és trénerek számára készült képzési és tanácsadási koncepció megvalósításához. Ez egy kísérleti projektmunka eredménye: Düsseldorf (Westdeutscher Handwerkskammertag (Hrsg.): CD-ROM: Nachhaltiges Wirtschaften in Handwerksbetrieben. Eine Handreichung zur Durchführung eines Qualifizierungs- und Beratungskonzeptes für Betriebsberater/-innen und Dozenten/-innen im Handwerk. Ergebnisse aus einem Modellversuch, Düsseldorf)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13c59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013c59"/>
                </a:solidFill>
                <a:latin typeface="Arial"/>
              </a:rPr>
              <a:t>www.eurocrafts21.eu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6195-C2D0-45EE-9178-22321CBA86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Dr. Tráser Ferenc</cp:lastModifiedBy>
  <cp:lastPrinted>2005-02-10T15:49:31Z</cp:lastPrinted>
  <dcterms:modified xsi:type="dcterms:W3CDTF">2010-10-07T16:25:21Z</dcterms:modified>
  <cp:revision>86</cp:revision>
  <dc:subject/>
  <dc:title>Kein Folientitel</dc:title>
</cp:coreProperties>
</file>