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EFD0-DEF7-4F81-AA90-8C310CEFD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8149-0BD6-4581-B784-92785047A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2121-05A5-45AB-9D83-EAE7F11D6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8E1E-A549-48B8-8FE1-F99AECBB35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52FD-3025-490F-8011-54EF44BAF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CB7B-9481-4734-8337-2CA9FB96E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5538-0B55-473B-82E1-2A7128284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23D2-6724-4667-99A2-5EADA0AA8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4FB1-8607-46B8-9141-463469722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191E-0E01-4EFA-B236-DBBE218F5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6327B-1373-4290-8B91-981BFF47E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4386-9C22-4AE2-BCC3-5F66C9DBE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B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»Marketing-Mix Tools«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1135-EAE6-4DF2-ADFE-43C4E8B7A425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826920" y="3284640"/>
            <a:ext cx="777744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MARKETING-MIX </a:t>
            </a:r>
            <a:r>
              <a:rPr b="1" lang="hu-HU" sz="3600" spc="-1" strike="noStrike">
                <a:solidFill>
                  <a:srgbClr val="808080"/>
                </a:solidFill>
                <a:latin typeface="Arial"/>
              </a:rPr>
              <a:t>ESZKÖZÖK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808080"/>
                </a:solidFill>
                <a:latin typeface="Arial"/>
              </a:rPr>
              <a:t>Kommunikációs politika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808080"/>
                </a:solidFill>
                <a:latin typeface="Arial"/>
              </a:rPr>
              <a:t>és eladásösztönzés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70" t="25469" r="24397" b="51808"/>
          <a:stretch/>
        </p:blipFill>
        <p:spPr>
          <a:xfrm>
            <a:off x="2617920" y="214164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2838-8976-4975-B3D3-9D3955BF7D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8080"/>
                </a:solidFill>
                <a:latin typeface="Arial"/>
              </a:rPr>
              <a:t>Kommunikációs politikai/eladásösztönzési eszközök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Tools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340000" y="2781360"/>
            <a:ext cx="525636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Reklám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P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Eladásösztönzé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Személyes eladá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EABD-FA58-441C-BA67-E4AC4573D8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272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Reklám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90760" y="2271600"/>
            <a:ext cx="66895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Célkitűzés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az eladások közép és hosszú távú ösztönzés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a márka ismertségének növelés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Célcsoport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meglévő és potenciális fogyasztó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Tartalom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termék/szolgáltatá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Példá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nyomtatott média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sportmez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banner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és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pos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z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ter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es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hirdetés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helyi rádióspoto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filmspoto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9F2F-D462-447E-813C-89B1694AA5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914400" y="1341360"/>
            <a:ext cx="7545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P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Célkitűzés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a vállalati imázs megalapozása, konkretizálása és fejlesztése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Célcsoport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a nagyközönség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Tartalom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a vállalat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Példá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sajtódosszié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beszédek és előadáso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kiadványo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s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zemináriumo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jótékonysági adományo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stb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2A61-802E-422D-B7CE-A5390033DF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914400" y="1341360"/>
            <a:ext cx="7545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Eladásösztönzé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447920" y="2133720"/>
            <a:ext cx="6851520" cy="318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Célkitűzés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z eladások rövid távú növelése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Célcsopor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eglévő fogyasztók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Tartalom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termék/szolgáltatá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Példá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díja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tombolá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próbb jutalmak és ajándéktárgya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eseménye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házon belüli kiárúsítások, stb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39BB-0E4E-4B3D-9E5F-383F6ACBE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826920" y="1484280"/>
            <a:ext cx="7545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Személyes eladá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523880" y="2176560"/>
            <a:ext cx="685188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Célkitűzés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eggyőzés és az eladás növelése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Célcsopor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eglévő vásárlók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Tartalom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termék/szolgáltatá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Példá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árubemutató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 kereskedelmi vásárok és események,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stb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22E6-32D6-4F03-A373-89A19EE540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Az Európai Bizottság támogatást nyújtott ennek a projektnek a költségeihez.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Ez a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z előadás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 a szerzõ nézeteit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tükrözi, és az Európai Bizottság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nem tehetõ felelõssé az abban foglaltak bárminemû felhasználásért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z EuroCrafts21 Leonardo da Vinci projekt a Plenum – Egyesület a Holisztikus Fenntartható Fejlődésért és a Faktor 10 Intézet (Ausztria) koordinálja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 projekt célkitűzése az, hogy jelentős hozzáadott értéket teremtsen a szakképzésben Ausztriában és a partnerországokban egyaránt (Finnország, Németország, Szlovákia, Spanyolország és Magyarország)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Ennek elérését egy korábban kidolgozott kísérleti projekttermék innováció transzfere szolgálja. Ez a projekttermék egy átfogó képzési és tanácsadási koncepció a fenntarthatósági menedzsment témakörében, amelyet a németországi Észak-Rajna-Wesztfáliában működő kézműipari szektor vállalkozásai számára kifejlesztettek ki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A8CC-EECD-4A59-8AE6-2165F40BCF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808080"/>
                </a:solidFill>
                <a:latin typeface="Arial"/>
              </a:rPr>
              <a:t>Forrá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13c59"/>
                </a:solidFill>
                <a:latin typeface="Arial"/>
              </a:rPr>
              <a:t>Ingo Rauhut: S4 Modul: Marketing koncepció. </a:t>
            </a: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Westdeutscher Handwerkskammertag (Ed.): A fenntartható fejlődés a kézműiparban. Segédanyag a kézműiparhoz kötődő tanácsadók és trénerek számára készült képzési és tanácsadási koncepció megvalósításához. Ez egy kísérleti projektmunka eredménye: Düsseldorf (Westdeutscher Handwerkskammertag (Hrsg.): CD-ROM: Nachhaltiges Wirtschaften in Handwerksbetrieben. Eine Handreichung zur Durchführung eines Qualifizierungs- und Beratungskonzeptes für Betriebsberater/-innen und Dozenten/-innen im Handwerk. Ergebnisse aus einem Modellversuch, Düsseldorf)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13c59"/>
                </a:solidFill>
                <a:latin typeface="Arial"/>
              </a:rPr>
              <a:t>www.eurocrafts21.eu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171C5-5BCB-4500-94A4-1E5595DA8A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Dr. Tráser Ferenc</cp:lastModifiedBy>
  <cp:lastPrinted>2005-02-10T15:49:31Z</cp:lastPrinted>
  <dcterms:modified xsi:type="dcterms:W3CDTF">2010-10-07T16:25:21Z</dcterms:modified>
  <cp:revision>86</cp:revision>
  <dc:subject/>
  <dc:title>Kein Folientitel</dc:title>
</cp:coreProperties>
</file>